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17CB-8199-4A89-9A51-284DBA911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655C-9416-46C8-85D5-3D09583A7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3731-0DEA-4C1B-A816-0DA744738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F7E2-1757-4E5D-BA31-647F91BB9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62333-8767-4D19-8140-B036F8220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B24AB-79CC-4C75-B2C4-7CE7FE454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FD33A-9E81-4D07-AF6A-80663EEB0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DA016-47FE-4CF4-9221-DF5D9C093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498D3-7D06-43E3-A95D-3861EE368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20927-8C8A-447A-A0BF-128A6CF4B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4B480-C166-43FF-B34F-3C231A46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0795-772B-4822-9AF5-4342DFF7E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63836-BEE5-4B4D-A650-FEFDBF7D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3F979-FDF7-4B48-9138-9D52499C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DA8C1-1EAD-43F8-B6F2-42CA9CFC8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E9DD8-0BA4-45B2-B363-EDFC4EBC1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D54F5-4731-4FE9-9A69-4D856E5E6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E9E7-4B82-4B11-89C1-9B5C0A4AE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FED9-537A-483B-805C-C8138A8DA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79B2-2EA0-4960-B815-850E85735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AFE1-7BDE-4015-B4D7-1296B1549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1DBD-2734-4822-BF9A-3D70CFD6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976E-D21C-46E9-9FE7-9CA7C84C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CF4B-3666-4D56-A528-61AA797E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5002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7709D-A5AA-4C2F-8856-D04A7BF3EE9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8B480-29BA-49C8-8E1E-C5BBBF6942D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a5002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thumb/c/cc/Bosnia_and_Herzegovina_stub.svg/609px-Bosnia_and_Herzegovina_stub.svg.pn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0.tqn.com/d/goeasteurope/1/7/M/K/-/-/bosniaherzegovinamap.gif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vulkan-gora.ru/_ph/2/2/746277594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universal-tours.ru/file/img/36316_b.jpg" TargetMode="External"/><Relationship Id="rId4" Type="http://schemas.openxmlformats.org/officeDocument/2006/relationships/image" Target="../media/image4.jpeg"/><Relationship Id="rId5" Type="http://schemas.openxmlformats.org/officeDocument/2006/relationships/slide" Target="slide2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f/f8/BH_municipality_location.gif" TargetMode="External"/><Relationship Id="rId2" Type="http://schemas.openxmlformats.org/officeDocument/2006/relationships/image" Target="../media/image7.pn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330033"/>
                </a:solidFill>
                <a:latin typeface="Times New Roman"/>
              </a:rPr>
              <a:t>Босния </a:t>
            </a:r>
            <a:br>
              <a:rPr sz="6600"/>
            </a:br>
            <a:r>
              <a:rPr b="0" i="1" lang="en-US" sz="6600" spc="-1" strike="noStrike">
                <a:solidFill>
                  <a:srgbClr val="330033"/>
                </a:solidFill>
                <a:latin typeface="Times New Roman"/>
              </a:rPr>
              <a:t>и Герцеговина</a:t>
            </a:r>
            <a:endParaRPr b="0" lang="en-US" sz="6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333760" y="3962160"/>
            <a:ext cx="3352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полнители: Никулина Татья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копьева Лар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3 груп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Картинка 8 из 260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3733920"/>
            <a:ext cx="266724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Высшее образован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572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5002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ускники средней школы для получения высшего образования по результатам вступительных экзаменов могут поступить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один из четырех университетов (Сараевский, в Баня-Луке, Мостаре или Тузле)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одну из академий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в том числе педагогические в Зенице и Бихаче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ли в открытый в начале 2000-х годов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пециальный педагогический колледж в Биелин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5002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окончании вуза выпускник получает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иплом о высшем образовании 1-й степен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2–3-летнее обучение),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-й степени о профессиональном образовании в области разных наук и искусст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4–5-летний курс обучения),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-й степен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магистра с подготовкой исследовательского проекта),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-й степен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доктора с защитой диссертаци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5002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итателей детских садов готовят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вухлетние педагогические академии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роме того, эти академии готовят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чителей базовой и средней общеобразовательной школы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еподавателей специальных средних школ выпускают университет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5002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раевский университет основан в 1949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5002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альные университеты были открыты в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970-е го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5002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Боснии и Герцеговине в 1966 была создана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кадемия наук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Функционируют несколько научно-исследовательских институтов, в том числ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сточный институт и Балканский институ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5486400" y="2514600"/>
            <a:ext cx="3352680" cy="2623320"/>
            <a:chOff x="5486400" y="2514600"/>
            <a:chExt cx="3352680" cy="2623320"/>
          </a:xfrm>
        </p:grpSpPr>
        <p:pic>
          <p:nvPicPr>
            <p:cNvPr id="173" name="" descr=""/>
            <p:cNvPicPr/>
            <p:nvPr/>
          </p:nvPicPr>
          <p:blipFill>
            <a:blip r:embed="rId1"/>
            <a:stretch/>
          </p:blipFill>
          <p:spPr>
            <a:xfrm>
              <a:off x="5486400" y="2514600"/>
              <a:ext cx="3333600" cy="222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5486400" y="4800600"/>
              <a:ext cx="335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араевский университ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>
            <a:hlinkClick r:id="rId2" action="ppaction://hlinksldjump"/>
          </p:cNvPr>
          <p:cNvSpPr/>
          <p:nvPr/>
        </p:nvSpPr>
        <p:spPr>
          <a:xfrm>
            <a:off x="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Культур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44956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ЕДСТВА МАССОВ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ФОРМ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иболее крупные издания – ежеднев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тренняя газет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Освобождение»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жедневная вечерняя газет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Вечерне новине»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осударственное радио и телевидение Боснии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ерцеговины ведет вещание 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тырех радиоканалах и двух телеканал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800600" y="1676520"/>
            <a:ext cx="3809880" cy="26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НЕМАТОГРА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амый известный режиссер –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мир Кустуриц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ногие фильмы, получили награды на мировых фестивалях, таких как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ерлинский кинофестиваль, Каннский кинофестиваль, Оскар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иболее известный фильм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Грбавица»,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режиссер и сценарист которог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смила Жбанич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52480" y="4724280"/>
            <a:ext cx="571500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иболее важным международным спортивным событием в истории Боснии и Герцеговины было проведение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4 зимних Олимпийских игр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состоявшихся в Сараево, с 8 по 19 февраля 1984 года. В Олимпиаде участвовал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127 спортсменов-мужчин и 283 спортсменок-женщин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Олимпиаде было много спотсменов из Боснии и Герцегови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rId1" action="ppaction://hlinksldjump"/>
          </p:cNvPr>
          <p:cNvSpPr/>
          <p:nvPr/>
        </p:nvSpPr>
        <p:spPr>
          <a:xfrm>
            <a:off x="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2000"/>
                            </p:stCondLst>
                            <p:childTnLst>
                              <p:par>
                                <p:cTn id="5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300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Литератур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4343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нние книги в Боснии и Герцеговине были написаны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лаголицей и кириллице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представляют собой произведения религиозного содержания. Кроме церковной литературы сохранилось множество записей и фрагментов отдельных документов. Боснийские мусульмане творили на арабском, турецком, персидском и хорватском языках. Среди литераторов выделяется представитель раннего сербского романтизма, уроженец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араева Сима Милутинович (Сарайлия, 1791–1847),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роведший бóльшую часть жизни в Серб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конце 19 в. были открыты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циональный музей в Сараево, библиотеки, создавались научные общества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то же время число грамотных в Боснии едва превышало десятую часть всего населения. Австро-венгерское правительство решило изменить ситуацию и после 1908 ввело обязательное всеобщее образова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вестными писателями 20 в., выходцами из Боснии, были уроженец Травник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во Андрич (1892–1975),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лауреат Нобелевской премии 1961, и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хмед Меша Селимович (род. в 1910 в Тузле)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09480" y="1523880"/>
            <a:ext cx="1828800" cy="2866680"/>
            <a:chOff x="609480" y="1523880"/>
            <a:chExt cx="1828800" cy="2866680"/>
          </a:xfrm>
        </p:grpSpPr>
        <p:pic>
          <p:nvPicPr>
            <p:cNvPr id="184" name="" descr=""/>
            <p:cNvPicPr/>
            <p:nvPr/>
          </p:nvPicPr>
          <p:blipFill>
            <a:blip r:embed="rId1"/>
            <a:stretch/>
          </p:blipFill>
          <p:spPr>
            <a:xfrm>
              <a:off x="609480" y="1523880"/>
              <a:ext cx="1765440" cy="22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609480" y="3809880"/>
              <a:ext cx="1828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Иво Андрич (1892–1975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362320" y="5791320"/>
            <a:ext cx="2133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590920" y="3124080"/>
            <a:ext cx="1752480" cy="3247920"/>
            <a:chOff x="2590920" y="3124080"/>
            <a:chExt cx="1752480" cy="3247920"/>
          </a:xfrm>
        </p:grpSpPr>
        <p:pic>
          <p:nvPicPr>
            <p:cNvPr id="188" name="" descr=""/>
            <p:cNvPicPr/>
            <p:nvPr/>
          </p:nvPicPr>
          <p:blipFill>
            <a:blip r:embed="rId2"/>
            <a:stretch/>
          </p:blipFill>
          <p:spPr>
            <a:xfrm flipH="1">
              <a:off x="2743200" y="3124080"/>
              <a:ext cx="1434960" cy="25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2590920" y="5791320"/>
              <a:ext cx="17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ехмед Меша Селимови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000"/>
                            </p:stCondLst>
                            <p:childTnLst>
                              <p:par>
                                <p:cTn id="6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3000"/>
                            </p:stCondLst>
                            <p:childTnLst>
                              <p:par>
                                <p:cTn id="6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4000"/>
                            </p:stCondLst>
                            <p:childTnLst>
                              <p:par>
                                <p:cTn id="6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Содержани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a50021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a50021"/>
                </a:solidFill>
                <a:uFillTx/>
                <a:latin typeface="Arial"/>
                <a:hlinkClick r:id="rId1" action="ppaction://hlinksldjump"/>
              </a:rPr>
              <a:t>Географическое по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a50021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a50021"/>
                </a:solidFill>
                <a:uFillTx/>
                <a:latin typeface="Arial"/>
                <a:hlinkClick r:id="rId2" action="ppaction://hlinksldjump"/>
              </a:rPr>
              <a:t>При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a50021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a50021"/>
                </a:solidFill>
                <a:uFillTx/>
                <a:latin typeface="Arial"/>
                <a:hlinkClick r:id="rId3" action="ppaction://hlinksldjump"/>
              </a:rPr>
              <a:t>Государственный ст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a50021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a50021"/>
                </a:solidFill>
                <a:uFillTx/>
                <a:latin typeface="Arial"/>
                <a:hlinkClick r:id="rId4" action="ppaction://hlinksldjump"/>
              </a:rPr>
              <a:t>Административный ст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a50021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a50021"/>
                </a:solidFill>
                <a:uFillTx/>
                <a:latin typeface="Arial"/>
                <a:hlinkClick r:id="rId5" action="ppaction://hlinksldjump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a50021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ном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a50021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a50021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шее обра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a50021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ль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a50021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500"/>
                            </p:stCondLst>
                            <p:childTnLst>
                              <p:par>
                                <p:cTn id="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000"/>
                            </p:stCondLst>
                            <p:childTnLst>
                              <p:par>
                                <p:cTn id="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500"/>
                            </p:stCondLst>
                            <p:childTnLst>
                              <p:par>
                                <p:cTn id="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50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500"/>
                            </p:stCondLst>
                            <p:childTnLst>
                              <p:par>
                                <p:cTn id="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Географическое положение Боснии и Герцеговины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3" name="" descr="Картинка 22 из 24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1600200"/>
            <a:ext cx="4345200" cy="46483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990720" y="297180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западе и севере граничит с Хорвати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94440" y="2779560"/>
            <a:ext cx="192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востоке 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Серби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52480" y="6216480"/>
            <a:ext cx="555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меет небольшой выход к Адриатическому мор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34320" y="460836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юго-востоке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Черногори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7527800">
            <a:off x="1676160" y="2133000"/>
            <a:ext cx="304920" cy="1067040"/>
          </a:xfrm>
          <a:prstGeom prst="downArrow">
            <a:avLst>
              <a:gd name="adj1" fmla="val 50000"/>
              <a:gd name="adj2" fmla="val 87485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4581800">
            <a:off x="1676160" y="5409720"/>
            <a:ext cx="304560" cy="106704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3520200">
            <a:off x="7467120" y="1828440"/>
            <a:ext cx="304920" cy="1066680"/>
          </a:xfrm>
          <a:prstGeom prst="downArrow">
            <a:avLst>
              <a:gd name="adj1" fmla="val 50000"/>
              <a:gd name="adj2" fmla="val 87456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868600">
            <a:off x="7391160" y="5028840"/>
            <a:ext cx="304920" cy="1067040"/>
          </a:xfrm>
          <a:prstGeom prst="downArrow">
            <a:avLst>
              <a:gd name="adj1" fmla="val 50000"/>
              <a:gd name="adj2" fmla="val 87485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" action="ppaction://hlinkshowjump?jump=previousslide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4" dur="2000" fill="hold"/>
                                        <p:tgtEl>
                                          <p:spTgt spid="1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5" dur="2000" fill="hold"/>
                                        <p:tgtEl>
                                          <p:spTgt spid="1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6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7000"/>
                            </p:stCondLst>
                            <p:childTnLst>
                              <p:par>
                                <p:cTn id="1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7" dur="2000" fill="hold"/>
                                        <p:tgtEl>
                                          <p:spTgt spid="1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рирода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419360" y="1523520"/>
            <a:ext cx="4267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чти всю территорию Боснии и Герцегови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нимают средневысокие горы, относящие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 горной системе Динарских Альп,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нарское нагорье. Лишь на севере стран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доль реки Савы, тянется узкая поло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изменносте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вер страны представляет собой обла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звышенных равнин, плато и низменносте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тянувшихся вдоль Савы и Дрины. Южне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андшафт повышается, переходя в отрог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нарских Альп, занимающих всю ю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падную и центральную часть стра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сшая точка страны - гора Маглик (2386 м) 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ерцеговине, на границе с Черногори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ишь на самом побережье Адриат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андшафт снова понижается, образуя 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йоне Неума узкую прибрежную равнин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олее половины страны, особенно е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верные регионы, покрыта густы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мешанными и вечнозелеными лесам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тавшаяся часть практически попол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елена между сельскохозяйственны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йонами и горными лугами и пустош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33520" y="1523880"/>
            <a:ext cx="3886200" cy="2425680"/>
            <a:chOff x="533520" y="1523880"/>
            <a:chExt cx="3886200" cy="2425680"/>
          </a:xfrm>
        </p:grpSpPr>
        <p:pic>
          <p:nvPicPr>
            <p:cNvPr id="116" name="" descr="Картинка 3 из 255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09480" y="1523880"/>
              <a:ext cx="381024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533520" y="358128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инарское нагорь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609480" y="3886200"/>
            <a:ext cx="3733920" cy="2971800"/>
            <a:chOff x="609480" y="3886200"/>
            <a:chExt cx="3733920" cy="2971800"/>
          </a:xfrm>
        </p:grpSpPr>
        <p:pic>
          <p:nvPicPr>
            <p:cNvPr id="119" name="" descr="Картинка 19 из 1452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609480" y="4267080"/>
              <a:ext cx="3733920" cy="25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3050640" y="3886200"/>
              <a:ext cx="129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Река Сав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>
            <a:hlinkClick r:id="rId5" action="ppaction://hlinksldjump"/>
          </p:cNvPr>
          <p:cNvSpPr/>
          <p:nvPr/>
        </p:nvSpPr>
        <p:spPr>
          <a:xfrm>
            <a:off x="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4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4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4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4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4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14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000"/>
                            </p:stCondLst>
                            <p:childTnLst>
                              <p:par>
                                <p:cTn id="2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Государственный строй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ллективный глава государства — Президиум Боснии и Герцеговины. Срок полномочий президиума — 4 го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ший законодательный орган — Парламентская Скупщина Боснии и Герцеговины. Состоит из двух палат: Палаты народов и Палаты представите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шим органом исполнительной власти является — Совет министров, который состоит из 10 министерств: иностранных дел, безопасности, обороны, финансов, внешней торговли и экономических связей, транспорта и связи, по гражданским делам, по правам человека и делам беженцев, юсти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rId1" action="ppaction://hlinksldjump"/>
          </p:cNvPr>
          <p:cNvSpPr/>
          <p:nvPr/>
        </p:nvSpPr>
        <p:spPr>
          <a:xfrm>
            <a:off x="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5029200" y="1600200"/>
            <a:ext cx="3581280" cy="2089800"/>
            <a:chOff x="5029200" y="1600200"/>
            <a:chExt cx="3581280" cy="2089800"/>
          </a:xfrm>
        </p:grpSpPr>
        <p:pic>
          <p:nvPicPr>
            <p:cNvPr id="126" name="" descr=""/>
            <p:cNvPicPr/>
            <p:nvPr/>
          </p:nvPicPr>
          <p:blipFill>
            <a:blip r:embed="rId2"/>
            <a:stretch/>
          </p:blipFill>
          <p:spPr>
            <a:xfrm>
              <a:off x="5029200" y="1600200"/>
              <a:ext cx="3552840" cy="177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5029200" y="3352680"/>
              <a:ext cx="358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Флаг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Боснии и Герцеговин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5257800" y="3886200"/>
            <a:ext cx="3200400" cy="2851920"/>
            <a:chOff x="5257800" y="3886200"/>
            <a:chExt cx="3200400" cy="2851920"/>
          </a:xfrm>
        </p:grpSpPr>
        <p:pic>
          <p:nvPicPr>
            <p:cNvPr id="129" name="" descr=""/>
            <p:cNvPicPr/>
            <p:nvPr/>
          </p:nvPicPr>
          <p:blipFill>
            <a:blip r:embed="rId3"/>
            <a:stretch/>
          </p:blipFill>
          <p:spPr>
            <a:xfrm>
              <a:off x="5791320" y="3886200"/>
              <a:ext cx="213984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5257800" y="6400800"/>
              <a:ext cx="320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Герб Боснии и Герцеговин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0"/>
                            </p:stCondLst>
                            <p:childTnLst>
                              <p:par>
                                <p:cTn id="2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Административное делен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724280" y="2057040"/>
            <a:ext cx="4267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федеративное государство в центральной части Балканского полуострова. Состоит из автономных административных единиц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едерации Босн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Герцеговины, Республики Сербской и округа Брчк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Файл:BH municipality location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2057400"/>
            <a:ext cx="3886200" cy="36892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0" y="4876920"/>
            <a:ext cx="16002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едерация Боснии и Герцегов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62320" y="57913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спублика Серб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19520" y="15238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руг Брч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8048400">
            <a:off x="685080" y="4343040"/>
            <a:ext cx="838440" cy="228600"/>
          </a:xfrm>
          <a:prstGeom prst="leftArrow">
            <a:avLst>
              <a:gd name="adj1" fmla="val 50000"/>
              <a:gd name="adj2" fmla="val 9169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19132800">
            <a:off x="3733920" y="2057400"/>
            <a:ext cx="838080" cy="228600"/>
          </a:xfrm>
          <a:prstGeom prst="leftArrow">
            <a:avLst>
              <a:gd name="adj1" fmla="val 50000"/>
              <a:gd name="adj2" fmla="val 91654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2743800">
            <a:off x="3809520" y="5562360"/>
            <a:ext cx="838080" cy="228600"/>
          </a:xfrm>
          <a:prstGeom prst="leftArrow">
            <a:avLst>
              <a:gd name="adj1" fmla="val 50000"/>
              <a:gd name="adj2" fmla="val 91654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rId3" action="ppaction://hlinksldjump"/>
          </p:cNvPr>
          <p:cNvSpPr/>
          <p:nvPr/>
        </p:nvSpPr>
        <p:spPr>
          <a:xfrm>
            <a:off x="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3" dur="2000" fill="hold"/>
                                        <p:tgtEl>
                                          <p:spTgt spid="13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6000"/>
                            </p:stCondLst>
                            <p:childTnLst>
                              <p:par>
                                <p:cTn id="3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8000"/>
                            </p:stCondLst>
                            <p:childTnLst>
                              <p:par>
                                <p:cTn id="33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5" dur="2000" fill="hold"/>
                                        <p:tgtEl>
                                          <p:spTgt spid="1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7" dur="2000" fill="hold"/>
                                        <p:tgtEl>
                                          <p:spTgt spid="13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Населен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657240" y="1676520"/>
            <a:ext cx="5334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5002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 территории Боснии и Герцеговины проживает около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,8 млн. челов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5002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ождаемость оценивается в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,86 на 1000 человек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смертность –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,99 на 10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прирост населения за 2001 –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,38%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5002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жидаемая продолжительность жизни в среднем по стране –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1,49 год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для мужчин – 68,78, для женщин – 74,38 год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5002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 состоянию на 1991 в стране проживало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4%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боснийцев-мусульман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1%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сербов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7%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хорватов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,5%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югославов 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,5%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других национальност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5002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результате военных действий 1992–1995 более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 млн. жителе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Боснии и Герцеговины были вынуждены сменить место жительства, многие из них остались за рубежом; к 2000 число уехавших из страны достигало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00 тыс. челов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5002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фициальными языками с начала 1990-х годов являются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боснийский, сербски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письменность на кириллице) 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хорватский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с латинской письменностью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5002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толица Боснии и Герцеговины –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араево с населением 434 тыс. челове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5002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Бане-Лук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оживают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79,2 тыс. челов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5002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Зениц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4,9 тыс. челов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457200" y="1905120"/>
            <a:ext cx="3200400" cy="3781800"/>
            <a:chOff x="457200" y="1905120"/>
            <a:chExt cx="3200400" cy="378180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457200" y="1905120"/>
              <a:ext cx="3200400" cy="24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533520" y="4495680"/>
              <a:ext cx="3047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араево – столица Боснии и Герцеговины с населением 434 тысячи челове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>
            <a:hlinkClick r:id="rId2" action="ppaction://hlinksldjump"/>
          </p:cNvPr>
          <p:cNvSpPr/>
          <p:nvPr/>
        </p:nvSpPr>
        <p:spPr>
          <a:xfrm>
            <a:off x="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4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4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Экономи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5002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 1960-м года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а Боснию и Герцеговину приходилось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99 %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обычи железной руды и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00 %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оизводства кокса,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0 %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обычи угля и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0 %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ыплавки стали всей Югославии. Страна  занимала первое место в Югославии по лесопромышленному производству и играла заметную роль в химической отрасли. В ней было сосредоточен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/5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х гидроэнергетических ресурсов СФРЮ. Общеюгославское значение имел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изводство таба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5002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сния и Герцеговина занимала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-е место в СФРЮ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 производств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ллюлозы.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лось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ашиностроитение, пищевая и лёгкая промышленность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ажнейшие промышленные узлы -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раево—Зениц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( добыча угля, чёрная металлургия и машиностроение);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узла—Банович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добыча угля и соли, химическая промышленность и машиностроение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5002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олинах рек Савы и Дрины имелись больши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севы кукуруз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а такж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шеницы, ячменя и овса.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тране было развито виноградар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5002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 многих районах Боснии и Герцеговины основным источником существования населения оставалось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животноводств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которое преимущественно было представлено повсеместным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ведением овец и коз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В северных районах и по долинам рек разводился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рупный рогаты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кот. В районах посева кукурузы было развит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виновод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5002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спад СФРЮ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последующая гражданская война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апрель 1992 — ноябрь 1995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анесли тяжелый урон экономике Боснии и Герцеговины. Около 80 % предприятий были повреждены или разрушены резко сократился импорт нефти. Экономика была почти полностью разруше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5002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ровень безработиц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стране достиг максимума со времён Второй мировой войны. На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85 %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ократилось промышленное производство, общий материальный ущерб составил, по различным сведениям,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 20 до 80 миллиардов доллар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5002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труктуре ВВП в 1996 году преобладала сфера услуг, которая составляла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8 %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оля промышленности —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3 %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ельского хозяйства —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9 %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Уровень инфляции в 2000 составил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8 %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5002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епенно в стране восстанавливаются предприятия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бывающей, металлургической, нефтеперерабатывающе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трасли, растёт производство в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кстильной промышленности, комплектующих для автомобилей, авиационной промышленности и бытовых приборов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5002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ельском хозяйстве используется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/2 территории, 50 %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з которых обрабатывается, остальны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0 %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были заняты под горными пастбищами и лугами. Основными сельскохозяйственными культурами остаются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абак, кукуруза, пшеница и сахарная свекла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а севере располагается главный район выращивания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рукт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В животноводстве преобладает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ведение овец и коз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на севере страны —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рупного рогатого скот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Страна славится своим коневодством за счёт особых небольших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оснийских коне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которые отличаются выносливостью и прекрасно подходят для использования в горной мест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Образован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62120" y="1676520"/>
            <a:ext cx="8153280" cy="838080"/>
            <a:chOff x="762120" y="1676520"/>
            <a:chExt cx="8153280" cy="838080"/>
          </a:xfrm>
        </p:grpSpPr>
        <p:sp>
          <p:nvSpPr>
            <p:cNvPr id="152" name=""/>
            <p:cNvSpPr/>
            <p:nvPr/>
          </p:nvSpPr>
          <p:spPr>
            <a:xfrm>
              <a:off x="762120" y="167652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ДОШКОЛЬНЫЕ УЧРЕЖДЕНИЯ: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Детский сад для детей от 3 до 7 л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648320" y="22096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685800" y="2666880"/>
            <a:ext cx="8458200" cy="978120"/>
            <a:chOff x="685800" y="2666880"/>
            <a:chExt cx="8458200" cy="978120"/>
          </a:xfrm>
        </p:grpSpPr>
        <p:grpSp>
          <p:nvGrpSpPr>
            <p:cNvPr id="155" name=""/>
            <p:cNvGrpSpPr/>
            <p:nvPr/>
          </p:nvGrpSpPr>
          <p:grpSpPr>
            <a:xfrm>
              <a:off x="685800" y="2666880"/>
              <a:ext cx="8458200" cy="532440"/>
              <a:chOff x="685800" y="2666880"/>
              <a:chExt cx="8458200" cy="532440"/>
            </a:xfrm>
          </p:grpSpPr>
          <p:sp>
            <p:nvSpPr>
              <p:cNvPr id="156" name=""/>
              <p:cNvSpPr/>
              <p:nvPr/>
            </p:nvSpPr>
            <p:spPr>
              <a:xfrm>
                <a:off x="685800" y="2666880"/>
                <a:ext cx="8458200" cy="53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ОБЯЗАТЕЛЬНОЕ 8-ЛЕТНЕЕ ОБРАЗОВАНИЕ: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Базовая обязательная школа: 2 ступени            для детей от 7 до 11 ле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971800" y="304812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2971800" y="3124080"/>
              <a:ext cx="3808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429000" y="3276720"/>
              <a:ext cx="320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для детей от 11 до 15 л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609480" y="426708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-ЛЕТНЯ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щая средняя школа (гимназия ) для детей от 15 до 19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895120" y="3733920"/>
            <a:ext cx="3124800" cy="304560"/>
            <a:chOff x="2895120" y="3733920"/>
            <a:chExt cx="3124800" cy="304560"/>
          </a:xfrm>
        </p:grpSpPr>
        <p:sp>
          <p:nvSpPr>
            <p:cNvPr id="162" name=""/>
            <p:cNvSpPr/>
            <p:nvPr/>
          </p:nvSpPr>
          <p:spPr>
            <a:xfrm flipH="1">
              <a:off x="2895120" y="3733920"/>
              <a:ext cx="129564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724280" y="3733920"/>
              <a:ext cx="129564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4495680" y="4267080"/>
            <a:ext cx="403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-ЛЕТНЯ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ециальная средняя школа (педагогическая, художественная, музыкальная, религиозная,техн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438280" y="60199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УЗ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университет, академ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2362320" y="5181480"/>
            <a:ext cx="3657600" cy="762120"/>
            <a:chOff x="2362320" y="5181480"/>
            <a:chExt cx="3657600" cy="762120"/>
          </a:xfrm>
        </p:grpSpPr>
        <p:sp>
          <p:nvSpPr>
            <p:cNvPr id="167" name=""/>
            <p:cNvSpPr/>
            <p:nvPr/>
          </p:nvSpPr>
          <p:spPr>
            <a:xfrm flipH="1">
              <a:off x="4648320" y="5486400"/>
              <a:ext cx="1371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62320" y="5181480"/>
              <a:ext cx="121896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>
            <a:hlinkClick r:id="rId1" action="ppaction://hlinksldjump"/>
          </p:cNvPr>
          <p:cNvSpPr/>
          <p:nvPr/>
        </p:nvSpPr>
        <p:spPr>
          <a:xfrm>
            <a:off x="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000"/>
                            </p:stCondLst>
                            <p:childTnLst>
                              <p:par>
                                <p:cTn id="4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3000"/>
                            </p:stCondLst>
                            <p:childTnLst>
                              <p:par>
                                <p:cTn id="4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горь</cp:lastModifiedBy>
  <dcterms:modified xsi:type="dcterms:W3CDTF">2010-12-20T17:21:20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606000000000001024140</vt:lpwstr>
  </property>
  <property fmtid="{D5CDD505-2E9C-101B-9397-08002B2CF9AE}" pid="3" name="Version">
    <vt:r8>1</vt:r8>
  </property>
</Properties>
</file>