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574-6196-4072-846F-46427B02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B32-95C4-4AE7-B8E1-FE111986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85D-3BCB-4EF7-874C-4755053E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A28-33CD-4B5B-95A4-BBFE5576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7532-109D-47F1-8C97-5A4343CA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274B-4A90-4515-9804-FADD5D64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8D24-72D8-4EFD-8F21-97D6006D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A673-511C-46CD-A496-729FE217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ECBB-88E7-4006-A0D9-7833D65C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E07F-2FF8-4039-B51B-EB9A98A5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7F09-5CE1-44C9-ACD8-36DAC40D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885-1031-4391-A090-587436BB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4ADE-9A83-4B03-8689-D6979EAA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2B37-9C43-4C8B-80B1-5E4DEC5A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D9B9-4F2B-42DC-8B98-3CDC22F2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AECE-EF2D-4B60-9F58-5CCC6AF1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15E3-27B3-4C56-AE86-41DB92C8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B7A-2116-4351-AAA6-0580C68B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E31-52A7-4EF8-898C-825C15BA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906-E8E0-4B19-B238-CEDE453A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D09-CFC5-4F6A-895D-50259E2F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B6D1-A0A7-4533-851B-D320FFCA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661-505C-41DE-B5AE-3E968A4C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C58-76A4-418A-9B70-94927AE2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5002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5731-6CD6-4773-9436-7456191E72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AC1A-573E-4751-8D97-65E1A26ACD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5002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c/Bosnia_and_Herzegovina_stub.svg/609px-Bosnia_and_Herzegovina_stub.svg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0.tqn.com/d/goeasteurope/1/7/M/K/-/-/bosniaherzegovinamap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ulkan-gora.ru/_ph/2/2/746277594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universal-tours.ru/file/img/36316_b.jpg" TargetMode="External"/><Relationship Id="rId4" Type="http://schemas.openxmlformats.org/officeDocument/2006/relationships/image" Target="../media/image4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8/BH_municipality_location.gif" TargetMode="External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330033"/>
                </a:solidFill>
                <a:latin typeface="Times New Roman"/>
              </a:rPr>
              <a:t>Босния </a:t>
            </a:r>
            <a:br>
              <a:rPr sz="6600"/>
            </a:br>
            <a:r>
              <a:rPr b="0" i="1" lang="en-US" sz="6600" spc="-1" strike="noStrike">
                <a:solidFill>
                  <a:srgbClr val="330033"/>
                </a:solidFill>
                <a:latin typeface="Times New Roman"/>
              </a:rPr>
              <a:t>и Герцеговина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3760" y="396216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нители: Никулина Тат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копьева Ла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3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8 из 260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733920"/>
            <a:ext cx="2667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сшее образо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редней школы для получения высшего образования по результатам вступительных экзаменов могут поступит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один из четырех университетов (Сараевский, в Баня-Луке, Мостаре или Тузле)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одну из академи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 том числе педагогические в Зенице и Бихаче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в открытый в начале 2000-х годо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й педагогический колледж в Биели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кончании вуза выпускник получа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плом о высшем образовании 1-й степе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2–3-летнее обучение)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й степени о профессиональном образовании в области разных наук и искусст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4–5-летний курс обучения)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й степе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магистра с подготовкой исследовательского проекта)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й степе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доктора с защитой диссертаци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ей детских садов готовя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вухлетние педагогические академи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роме того, эти академии готовя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ей базовой и средней общеобразовательной школ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подавателей специальных средних школ выпускают университ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раевский университет основан в 1949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университеты были открыты 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70-е г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снии и Герцеговине в 1966 была создан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адемия наук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ункционируют несколько научно-исследовательских институтов, в том чис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точный институт и Балканский инстит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486400" y="2514600"/>
            <a:ext cx="3352680" cy="2623320"/>
            <a:chOff x="5486400" y="2514600"/>
            <a:chExt cx="3352680" cy="262332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5486400" y="2514600"/>
              <a:ext cx="3333600" cy="22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486400" y="480060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араевский университ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уль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СТВА МАСС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крупные издания – ежеднев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азет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Освобождение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дневная вечерняя газ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Вечерне новине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сударственное радио и телевидение Боснии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рцеговины ведет вещание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тырех радиоканалах и двух телеканал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1676520"/>
            <a:ext cx="3809880" cy="26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ЕМАТО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ый известный режиссер 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мир Кустури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ие фильмы, получили награды на мировых фестивалях, таких ка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рлинский кинофестиваль, Каннский кинофестиваль, Оска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известный филь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Грбавица»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ежиссер и сценарист которог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смила Жбани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724280"/>
            <a:ext cx="5715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важным международным спортивным событием в истории Боснии и Герцеговины было проведени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зимних Олимпийских иг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состоявшихся в Сараево, с 8 по 19 февраля 1984 года. В Олимпиаде участвова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127 спортсменов-мужчин и 283 спортсменок-женщин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Олимпиаде было много спотсменов из Боснии и Герцегов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ние книги в Боснии и Герцеговине были написаны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голицей и кириллиц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представляют собой произведения религиозного содержания. Кроме церковной литературы сохранилось множество записей и фрагментов отдельных документов. Боснийские мусульмане творили на арабском, турецком, персидском и хорватском языках. Среди литераторов выделяется представитель раннего сербского романтизма, уроженец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раева Сима Милутинович (Сарайлия, 1791–1847)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ведший бóльшую часть жизни в Серб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онце 19 в. были открыты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циональный музей в Сараево, библиотеки, создавались научные общества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то же время число грамотных в Боснии едва превышало десятую часть всего населения. Австро-венгерское правительство решило изменить ситуацию и после 1908 ввело обязательное всеобщее образ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вестными писателями 20 в., выходцами из Боснии, были уроженец Травни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во Андрич (1892–1975)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ауреат Нобелевской премии 1961, 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хмед Меша Селимович (род. в 1910 в Тузле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09480" y="1523880"/>
            <a:ext cx="1828800" cy="2866680"/>
            <a:chOff x="609480" y="1523880"/>
            <a:chExt cx="1828800" cy="286668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609480" y="1523880"/>
              <a:ext cx="1765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09480" y="3809880"/>
              <a:ext cx="182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во Андрич (1892–1975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62320" y="5791320"/>
            <a:ext cx="2133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590920" y="3124080"/>
            <a:ext cx="1752480" cy="3247920"/>
            <a:chOff x="2590920" y="3124080"/>
            <a:chExt cx="1752480" cy="324792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 flipH="1">
              <a:off x="2743200" y="3124080"/>
              <a:ext cx="143496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590920" y="5791320"/>
              <a:ext cx="17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хмед Меша Селимови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000"/>
                            </p:stCondLst>
                            <p:childTnLst>
                              <p:par>
                                <p:cTn id="6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одерж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  <a:hlinkClick r:id="rId1" action="ppaction://hlinksldjump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  <a:hlinkClick r:id="rId2" action="ppaction://hlinksldjump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  <a:hlinkClick r:id="rId3" action="ppaction://hlinksldjump"/>
              </a:rPr>
              <a:t>Государственный ст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  <a:hlinkClick r:id="rId4" action="ppaction://hlinksldjump"/>
              </a:rPr>
              <a:t>Административный ст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Arial"/>
                <a:hlinkClick r:id="rId5" action="ppaction://hlinksldjump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шее 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Географическое положение Боснии и Герцеговин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3" name="" descr="Картинка 22 из 2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600200"/>
            <a:ext cx="4345200" cy="464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0720" y="29718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западе и севере граничит с Хорват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94440" y="2779560"/>
            <a:ext cx="19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востоке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Серб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6216480"/>
            <a:ext cx="55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т небольшой выход к Адриатическому мор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46083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юго-восток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Черногор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7527800">
            <a:off x="1676160" y="2133000"/>
            <a:ext cx="304920" cy="1067040"/>
          </a:xfrm>
          <a:prstGeom prst="downArrow">
            <a:avLst>
              <a:gd name="adj1" fmla="val 50000"/>
              <a:gd name="adj2" fmla="val 8748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4581800">
            <a:off x="1676160" y="540972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3520200">
            <a:off x="7467120" y="1828440"/>
            <a:ext cx="304920" cy="1066680"/>
          </a:xfrm>
          <a:prstGeom prst="downArrow">
            <a:avLst>
              <a:gd name="adj1" fmla="val 50000"/>
              <a:gd name="adj2" fmla="val 8745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868600">
            <a:off x="7391160" y="5028840"/>
            <a:ext cx="304920" cy="1067040"/>
          </a:xfrm>
          <a:prstGeom prst="downArrow">
            <a:avLst>
              <a:gd name="adj1" fmla="val 50000"/>
              <a:gd name="adj2" fmla="val 8748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360" y="152352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ти всю территорию Боснии и Герцегов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имают средневысокие горы, относящие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горной системе Динарских Альп,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нарское нагорье. Лишь на севере стран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доль реки Савы, тянется узкая пол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зменнос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вер страны представляет собой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вышенных равнин, плато и низменност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янувшихся вдоль Савы и Дрины. Юж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ндшафт повышается, переходя в отро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нарских Альп, занимающих всю ю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адную и центральную часть стра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ая точка страны - гора Маглик (2386 м)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рцеговине, на границе с Черногор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шь на самом побережье Адри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ндшафт снова понижается, образуя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йоне Неума узкую прибрежную равн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ее половины страны, особенно е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верные регионы, покрыта густ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мешанными и вечнозелеными лесам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авшаяся часть практически попол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елена между сельскохозяйств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йонами и горными лугами и пустош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3520" y="1523880"/>
            <a:ext cx="3886200" cy="2425680"/>
            <a:chOff x="533520" y="1523880"/>
            <a:chExt cx="3886200" cy="2425680"/>
          </a:xfrm>
        </p:grpSpPr>
        <p:pic>
          <p:nvPicPr>
            <p:cNvPr id="116" name="" descr="Картинка 3 из 255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09480" y="1523880"/>
              <a:ext cx="38102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33520" y="35812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инарское нагорь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09480" y="3886200"/>
            <a:ext cx="3733920" cy="2971800"/>
            <a:chOff x="609480" y="3886200"/>
            <a:chExt cx="3733920" cy="2971800"/>
          </a:xfrm>
        </p:grpSpPr>
        <p:pic>
          <p:nvPicPr>
            <p:cNvPr id="119" name="" descr="Картинка 19 из 1452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09480" y="4267080"/>
              <a:ext cx="37339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50640" y="3886200"/>
              <a:ext cx="12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ка Са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осударственный стро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лективный глава государства — Президиум Боснии и Герцеговины. Срок полномочий президиума — 4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ий законодательный орган — Парламентская Скупщина Боснии и Герцеговины. Состоит из двух палат: Палаты народов и Палаты представ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им органом исполнительной власти является — Совет министров, который состоит из 10 министерств: иностранных дел, безопасности, обороны, финансов, внешней торговли и экономических связей, транспорта и связи, по гражданским делам, по правам человека и делам беженцев, юст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029200" y="1600200"/>
            <a:ext cx="3581280" cy="2089800"/>
            <a:chOff x="5029200" y="1600200"/>
            <a:chExt cx="3581280" cy="208980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5029200" y="1600200"/>
              <a:ext cx="355284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029200" y="3352680"/>
              <a:ext cx="358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Флаг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оснии и Герцегови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257800" y="3886200"/>
            <a:ext cx="3200400" cy="2851920"/>
            <a:chOff x="5257800" y="3886200"/>
            <a:chExt cx="3200400" cy="285192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5791320" y="3886200"/>
              <a:ext cx="21398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257800" y="640080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ерб Боснии и Герцегови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дминистративное де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едеративное государство в центральной части Балканского полуострова. Состоит из автономных административных единиц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ции Бос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ерцеговины, Республики Сербской и округа Брч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Файл:BH municipality loca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057400"/>
            <a:ext cx="3886200" cy="3689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4876920"/>
            <a:ext cx="1600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дерация Боснии и Герцегов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5791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спублика Серб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г Брч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8048400">
            <a:off x="685080" y="4343040"/>
            <a:ext cx="838440" cy="228600"/>
          </a:xfrm>
          <a:prstGeom prst="leftArrow">
            <a:avLst>
              <a:gd name="adj1" fmla="val 50000"/>
              <a:gd name="adj2" fmla="val 9169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9132800">
            <a:off x="3733920" y="2057400"/>
            <a:ext cx="838080" cy="228600"/>
          </a:xfrm>
          <a:prstGeom prst="leftArrow">
            <a:avLst>
              <a:gd name="adj1" fmla="val 50000"/>
              <a:gd name="adj2" fmla="val 9165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743800">
            <a:off x="3809520" y="5562360"/>
            <a:ext cx="838080" cy="228600"/>
          </a:xfrm>
          <a:prstGeom prst="leftArrow">
            <a:avLst>
              <a:gd name="adj1" fmla="val 50000"/>
              <a:gd name="adj2" fmla="val 9165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3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5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Насе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территории Боснии и Герцеговины проживает окол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,8 млн.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ождаемость оценивается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,86 на 1000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смертность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,99 на 1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прирост населения за 2001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8%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жидаемая продолжительность жизни в среднем по стране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1,49 г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для мужчин – 68,78, для женщин – 74,38 год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состоянию на 1991 в стране проживал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боснийцев-мусульман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сербов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хорватов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,5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югославов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5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других националь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езультате военных действий 1992–1995 боле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млн. жителе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Боснии и Герцеговины были вынуждены сменить место жительства, многие из них остались за рубежом; к 2000 число уехавших из страны достигал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тыс.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фициальными языками с начала 1990-х годов являются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оснийский, сербск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письменность на кириллице)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хорватски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с латинской письменностью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олица Боснии и Герцеговины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араево с населением 434 тыс. челов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ане-Лу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живают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9,2 тыс.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ени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4,9 тыс.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57200" y="1905120"/>
            <a:ext cx="3200400" cy="3781800"/>
            <a:chOff x="457200" y="1905120"/>
            <a:chExt cx="3200400" cy="37818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457200" y="1905120"/>
              <a:ext cx="3200400" cy="24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33520" y="4495680"/>
              <a:ext cx="3047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араево – столица Боснии и Герцеговины с населением 434 тысячи 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номи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1960-м года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Боснию и Герцеговину приходилос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9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бычи железной руды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0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изводства кокса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0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бычи угля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0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плавки стали всей Югославии. Страна  занимала первое место в Югославии по лесопромышленному производству и играла заметную роль в химической отрасли. В ней было сосредоточен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/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гидроэнергетических ресурсов СФРЮ. Общеюгославское значение име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зводство таба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сния и Герцеговина занимал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е место в СФР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производств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люлозы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лос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шиностроитение, пищевая и лёгкая промышленность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ажнейшие промышленные узлы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раево—Зен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( добыча угля, чёрная металлургия и машиностроение);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узла—Банови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добыча угля и соли, химическая промышленность и машиностро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олинах рек Савы и Дрины имелись больши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евы кукуруз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шеницы, ячменя и овса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е было развито винограда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многих районах Боснии и Герцеговины основным источником существования населения оставалос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животноводст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ое преимущественно было представлено повсеместны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едением овец и ко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северных районах и по долинам рек разводил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упный рогат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кот. В районах посева кукурузы было разви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иновод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пад СФР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последующая гражданская войн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апрель 1992 — ноябрь 1995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несли тяжелый урон экономике Боснии и Герцеговины. Около 80 % предприятий были повреждены или разрушены резко сократился импорт нефти. Экономика была почти полностью разруш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вень безработи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стране достиг максимума со времён Второй мировой войны. Н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5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кратилось промышленное производство, общий материальный ущерб составил, по различным сведениям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 20 до 80 миллиардов доллар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ВВП в 1996 году преобладала сфера услуг, которая составлял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8 %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ля промышленности —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3 %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ельского хозяйства —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 %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ровень инфляции в 2000 состави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 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епенно в стране восстанавливаются предприяти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бывающей, металлургической, нефтеперерабатывающ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расли, растёт производство 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кстильной промышленности, комплектующих для автомобилей, авиационной промышленности и бытовых приборо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ельском хозяйстве использу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/2 территории, 50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которых обрабатывается, остальн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0 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ыли заняты под горными пастбищами и лугами. Основными сельскохозяйственными культурами остаю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ак, кукуруза, пшеница и сахарная свекл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севере располагается главный район выращивани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рук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животноводстве преоблада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едение овец и ко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 севере страны —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упного рогатого ско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Страна славится своим коневодством за счёт особых небольши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снийских кон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е отличаются выносливостью и прекрасно подходят для использования в горной мес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бразо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62120" y="1676520"/>
            <a:ext cx="8153280" cy="838080"/>
            <a:chOff x="762120" y="1676520"/>
            <a:chExt cx="8153280" cy="838080"/>
          </a:xfrm>
        </p:grpSpPr>
        <p:sp>
          <p:nvSpPr>
            <p:cNvPr id="152" name=""/>
            <p:cNvSpPr/>
            <p:nvPr/>
          </p:nvSpPr>
          <p:spPr>
            <a:xfrm>
              <a:off x="762120" y="167652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ШКОЛЬНЫЕ УЧРЕЖДЕНИЯ: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етский сад для детей от 3 до 7 л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22096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5800" y="2666880"/>
            <a:ext cx="8458200" cy="978120"/>
            <a:chOff x="685800" y="2666880"/>
            <a:chExt cx="8458200" cy="978120"/>
          </a:xfrm>
        </p:grpSpPr>
        <p:grpSp>
          <p:nvGrpSpPr>
            <p:cNvPr id="155" name=""/>
            <p:cNvGrpSpPr/>
            <p:nvPr/>
          </p:nvGrpSpPr>
          <p:grpSpPr>
            <a:xfrm>
              <a:off x="685800" y="2666880"/>
              <a:ext cx="8458200" cy="532440"/>
              <a:chOff x="685800" y="2666880"/>
              <a:chExt cx="8458200" cy="532440"/>
            </a:xfrm>
          </p:grpSpPr>
          <p:sp>
            <p:nvSpPr>
              <p:cNvPr id="156" name=""/>
              <p:cNvSpPr/>
              <p:nvPr/>
            </p:nvSpPr>
            <p:spPr>
              <a:xfrm>
                <a:off x="685800" y="2666880"/>
                <a:ext cx="845820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ОБЯЗАТЕЛЬНОЕ 8-ЛЕТНЕЕ ОБРАЗОВАНИЕ: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Базовая обязательная школа: 2 ступени            для детей от 7 до 11 ле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971800" y="30481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971800" y="312408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9000" y="327672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ля детей от 11 до 15 л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9480" y="42670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ЛЕТНЯ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щая средняя школа (гимназия ) для детей от 15 до 19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895120" y="3733920"/>
            <a:ext cx="3124800" cy="304560"/>
            <a:chOff x="2895120" y="3733920"/>
            <a:chExt cx="3124800" cy="304560"/>
          </a:xfrm>
        </p:grpSpPr>
        <p:sp>
          <p:nvSpPr>
            <p:cNvPr id="162" name=""/>
            <p:cNvSpPr/>
            <p:nvPr/>
          </p:nvSpPr>
          <p:spPr>
            <a:xfrm flipH="1">
              <a:off x="2895120" y="3733920"/>
              <a:ext cx="12956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4280" y="3733920"/>
              <a:ext cx="12956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495680" y="426708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-ЛЕТНЯ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альная средняя школа (педагогическая, художественная, музыкальная, религиозная,техн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6019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УЗ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университет, академ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362320" y="5181480"/>
            <a:ext cx="3657600" cy="762120"/>
            <a:chOff x="2362320" y="5181480"/>
            <a:chExt cx="3657600" cy="762120"/>
          </a:xfrm>
        </p:grpSpPr>
        <p:sp>
          <p:nvSpPr>
            <p:cNvPr id="167" name=""/>
            <p:cNvSpPr/>
            <p:nvPr/>
          </p:nvSpPr>
          <p:spPr>
            <a:xfrm flipH="1">
              <a:off x="4648320" y="5486400"/>
              <a:ext cx="1371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2320" y="5181480"/>
              <a:ext cx="12189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0-12-20T17:21:2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6000000000001024140</vt:lpwstr>
  </property>
  <property fmtid="{D5CDD505-2E9C-101B-9397-08002B2CF9AE}" pid="3" name="Version">
    <vt:r8>1</vt:r8>
  </property>
</Properties>
</file>