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40A-CA85-4FCB-8043-9CF02EFB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EE3-8F06-4234-B5A4-C8774303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6D9-64AC-436F-AF16-14797768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F2C-D6E8-43E5-A37C-8D073D6D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7EC5-0146-43E7-A02F-2F555E79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CF02-14D3-4913-9471-CFE2E40D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F5F6-614D-4F44-8BA0-1BD43470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D1B-DDBF-481C-9A00-96780CE5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367A-3325-4500-AF4B-4663E61C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9566-DC35-4EA2-8285-49FDAEB7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981D-AF8D-445F-BCD6-DD413EF2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D59-35E5-411F-863C-A931448B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1653-3264-4BFF-930F-92239BA9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4998-A522-4F12-934A-5FA44E4E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EACB-9A9E-492A-BE65-662C8233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8847-3BE7-4652-8BC9-97D12D7D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C2DA-5E84-4673-B019-0FAB34D2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47D-FE04-49C5-84F8-082BB563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32D-FE8B-469B-A9AD-E2C8F4F6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5F7-BFBD-40D8-AF23-FC7A3CDB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145-0450-454C-8E00-455F1ECA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D1A-F249-4689-B668-E052DF41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232-DC3B-44D2-BCD9-B044235D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D6D-72BC-4ED5-BF37-D2E3DAC9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4625-55C1-4E80-9FC6-927884CCA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4EA9-5172-4D06-A737-42C9C8965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42920" y="1052640"/>
            <a:ext cx="698508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ФРИ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76500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фрике проживает около 600 млн человек. На материке живут представители европеоидной (Северная Африка берберы и арабы), экваториальной (основное население) и монголоидной (Южная Африка, бушмены и готтентоты) рас. Население распределено неравномерно. Наиболее заселены Средиземноморское побережье и берега Гвинейского зали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609300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Побережье Африки с севера омывается теплым Средиземным морем.</a:t>
            </a:r>
            <a:br>
              <a:rPr sz="1600"/>
            </a:b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Могучий Нил несет свои воды из глубины материка.</a:t>
            </a:r>
            <a:br>
              <a:rPr sz="1600"/>
            </a:b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Какое государство расположено по берегам Нила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47040" cy="58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16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Выжженная солнцем пустыня, сплошная стена ярко-зеленого тропического леса, громадные приземистые жители саванны — баобабы. С запада этот экзотический континент омывается Атлантическим океаном, с севера — Средиземным морем, с северо-востока — Красным морем, с востока — Индийским океаном.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3456000" cy="2306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2060640"/>
            <a:ext cx="2971800" cy="4448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908000" y="4181400"/>
            <a:ext cx="404676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1380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692280"/>
            <a:ext cx="777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ологическое строение и релье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снове материка - древняя платформа, с сильно разрушенными складчатыми образованиями. На Юге и Востоке кристаллическое основание выходит на поверхность. Здесь расположена зона глубинных разломов земной коры (поднятия (горсты) - Эфиопское нагорье и Восточно-Африканское плоскогорье, Драконовы горы; опускания (грабены) - котловины озер Ньяса, Танганьика). Вулканы Камерун, Килиманджаро. К платформе примыкают подвижные складчатые зоны: на Севере - Атлас, на Юге - Капские горы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ристаллическим щитам востока и юга приурочены месторождения руд черных, цветных и драгоценных металлов и алмазов. На Севере и 3ападе - запасы каменного угля, бокситов, фосфоритов, нефти, г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692280"/>
            <a:ext cx="835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ические з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ие t не ниже 8 °С. Количество осадков максимально в бассейне реки Конго (до 3000 мм), минимально в Сахаре (менее 300 мм)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ваториальный пояс - постоянно влажный и жаркий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а субэкваториальных пояса - жаркие с сезонной сменой воздушных масс: летний экваториальный муссон приносит обильные осадки, зимний - сухую жаркую погоду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а тропических пояса характерны сухой погодой в течение года. Суточные амплитуды t больше годовых, летом 40 °С, зимой 18 °С. На Юге осадков больш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доль западного побережья умеренные воздушные массы и холодное Бенгальское течение сформировали относительно прохладные районы (летом 20 °С, зимой 15 °С) с осадками в виде рос и туманов (Намиб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76500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ера и ре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Африки характерно сравнительно небольшое количество рек, их неравномерное распределение, наличие обширных районов внутреннего стока, пороги и водопады. Реки имеют преимущественно дождевое питание и режим стока соответствует режиму осадков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инство крупных рек принадлежит бассейну Атлантического океана (Нил, Конго, Нигер, Сенегал)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бассейну Индийского океана относятся Замбези, Лимпоп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54936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родные 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фрике преобладают вечнозеленые экваториальные леса, гилей. Почвы ферраллитные. В верхнем ярусе - фикусы и пальмы, в нижних - бананы и древовидные папоротники, эбеновое дерево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вотный мир наземного яруса сравнительно небогат (из копытных - окапи, карликовый бегемот, гориллы), в кронах - масса птиц (турако, птицы-носороги, нектарницы), обезьян (мартышки, колобусы, шимпанзе). Всюду - беспозвоночные, лягушки, змеи (питоны, мамбы), в реках - крокодил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ванны и редколесья. Занимают около 40% материка. Почвы - от красных ферраллитных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красно-бурых. Из древесных растений - баобаб, зонтичные акации, мимозы, пальмы, древовидные молоча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ны травянистые растения (бобовые, луковичные, высокорослые злаки - слоновая трава)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илие крупных копытных (жирафы, буйволы, антилопы, газели, зебры, носороги, слоны) и хищных (львы, гиены, гепарды, шакалы). Обычны обезьяны (павианы), из птиц - страусы, ткачики, венценосные журавли, птица-секретарь, марабу, стервятники. Многочисленны ящерицы и змеи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692280"/>
            <a:ext cx="82803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ыни и полупустыни занимают огромные площади. Сильно различаются пустыни юга и севера континента (см. также Сахара, Намиб, Калахари). В Сахаре распространены каменистые пустыни - гаммады, глинистые и песчаные. Почвы пустынные тропические. Растительность скудная, преобладают солянки, злаки, различные колючие формы. В оазисах - финиковая пальма, олеандр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вотный мир северных пустынь схож с пустынями Азии - тушканчики, песчанки, лисицы-фенеки, шакалы, гиены. Множество змей (эфа, гюрза, кобра) и ящериц, беспозвоночных. Для пустынь юга характерно большее количество эндемиков, большое разнообразие черепах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бтропические жестколистные леса. Характерны для Атласа и Капских гор. Почвы коричневые. Лавр и разные виды дубов, часто встречается пиния. В Капских горах много красиво цветущих эндемиков, разводимых в качестве домашних растений. Большая часть субтропиков освоена под плантации цитрусовых и виноград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йоны высотной поясности. Характерна для Атласа, Драконовых и Капских гор, Восточно - Африканского плоскогорья. Эфиопского и других нагор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27:49Z</dcterms:created>
  <dc:creator>eMachines</dc:creator>
  <dc:description/>
  <dc:language>en-US</dc:language>
  <cp:lastModifiedBy>eMachines</cp:lastModifiedBy>
  <dcterms:modified xsi:type="dcterms:W3CDTF">2011-09-23T12:28:21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50000000000010250300207f7000400038000</vt:lpwstr>
  </property>
</Properties>
</file>