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0A0-EE51-4E29-89EB-E9289ED5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83F-BFDF-42F4-8889-A606E888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859-3DB2-4C56-8ECD-EDEDF04C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26B-585B-4A25-8FDF-02C08AB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D5BB-B121-4923-9472-00516F17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D9A-4D69-45DD-86A5-F7D0449F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7445-A554-409C-8F8E-6F5991A8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E4A-32F2-4091-A41B-2ACA1F9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ED97-7BD5-4409-9382-01F7500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905-2912-42CE-949B-8BF415D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7624-F7B8-44C5-850E-C0421A6F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994-2DE8-4098-8908-267D312F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2531-7B36-47A4-9724-C033393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E7A4-B6BF-479C-B712-684A3138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7CE-B5EC-4BD0-8BCA-597C5BA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2D7-E1E6-4FF7-BFBA-21EBC617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A652-8D97-4DDC-B998-304E73BC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669-DA59-4738-B833-FB7F360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01E-6FB4-40C1-98F8-1F8E53C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C7E-199A-47F4-92E8-1836BA1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6E4-B608-4301-A731-8758B769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EDC-C151-4A35-BC49-8E0447BA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899-8FBE-4B59-A033-9F7410D8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B49-299A-4986-8FBE-9B1AD3C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2161-1222-4142-A88D-E349B8443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D9BD-6B7A-4EAC-A730-E85750D8F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1052640"/>
            <a:ext cx="698508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Ф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76500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фрике проживает около 600 млн человек. На материке живут представители европеоидной (Северная Африка берберы и арабы), экваториальной (основное население) и монголоидной (Южная Африка, бушмены и готтентоты) рас. Население распределено неравномерно. Наиболее заселены Средиземноморское побережье и берега Гвинейского за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09300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Побережье Африки с севера омывается теплым Средиземным морем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Могучий Нил несет свои воды из глубины материка.</a:t>
            </a:r>
            <a:br>
              <a:rPr sz="16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Какое государство расположено по берегам Нила?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47040" cy="58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16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Выжженная солнцем пустыня, сплошная стена ярко-зеленого тропического леса, громадные приземистые жители саванны — баобабы. С запада этот экзотический континент омывается Атлантическим океаном, с севера — Средиземным морем, с северо-востока — Красным морем, с востока — Индийским океаном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971800" cy="444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908000" y="4181400"/>
            <a:ext cx="404676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692280"/>
            <a:ext cx="777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логическое строение и релье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снове материка - древняя платформа, с сильно разрушенными складчатыми образованиями. На Юге и Востоке кристаллическое основание выходит на поверхность. Здесь расположена зона глубинных разломов земной коры (поднятия (горсты) - Эфиопское нагорье и Восточно-Африканское плоскогорье, Драконовы горы; опускания (грабены) - котловины озер Ньяса, Танганьика). Вулканы Камерун, Килиманджаро. К платформе примыкают подвижные складчатые зоны: на Севере - Атлас, на Юге - Капские гор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ристаллическим щитам востока и юга приурочены месторождения руд черных, цветных и драгоценных металлов и алмазов. На Севере и 3ападе - запасы каменного угля, бокситов, фосфоритов, нефти, г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69228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ические з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ие t не ниже 8 °С. Количество осадков максимально в бассейне реки Конго (до 3000 мм), минимально в Сахаре (менее 300 мм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ваториальный пояс - постоянно влажный и жарки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субэкваториальных пояса - жаркие с сезонной сменой воздушных масс: летний экваториальный муссон приносит обильные осадки, зимний - сухую жаркую погод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 тропических пояса характерны сухой погодой в течение года. Суточные амплитуды t больше годовых, летом 40 °С, зимой 18 °С. На Юге осадков больш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доль западного побережья умеренные воздушные массы и холодное Бенгальское течение сформировали относительно прохладные районы (летом 20 °С, зимой 15 °С) с осадками в виде рос и туманов (Намиб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765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ера и ре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Африки характерно сравнительно небольшое количество рек, их неравномерное распределение, наличие обширных районов внутреннего стока, пороги и водопады. Реки имеют преимущественно дождевое питание и режим стока соответствует режиму осадков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крупных рек принадлежит бассейну Атлантического океана (Нил, Конго, Нигер, Сенегал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бассейну Индийского океана относятся Замбези, Лимпоп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54936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ые 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фрике преобладают вечнозеленые экваториальные леса, гилей. Почвы ферраллитные. В верхнем ярусе - фикусы и пальмы, в нижних - бананы и древовидные папоротники, эбеновое дерев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наземного яруса сравнительно небогат (из копытных - окапи, карликовый бегемот, гориллы), в кронах - масса птиц (турако, птицы-носороги, нектарницы), обезьян (мартышки, колобусы, шимпанзе). Всюду - беспозвоночные, лягушки, змеи (питоны, мамбы), в реках - крокодил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ванны и редколесья. Занимают около 40% материка. Почвы - от красных ферраллитных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красно-бурых. Из древесных растений - баобаб, зонтичные акации, мимозы, пальмы, древовидные молоча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ны травянистые растения (бобовые, луковичные, высокорослые злаки - слоновая трава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илие крупных копытных (жирафы, буйволы, антилопы, газели, зебры, носороги, слоны) и хищных (львы, гиены, гепарды, шакалы). Обычны обезьяны (павианы), из птиц - страусы, ткачики, венценосные журавли, птица-секретарь, марабу, стервятники. Многочисленны ящерицы и зме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692280"/>
            <a:ext cx="82803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ыни и полупустыни занимают огромные площади. Сильно различаются пустыни юга и севера континента (см. также Сахара, Намиб, Калахари). В Сахаре распространены каменистые пустыни - гаммады, глинистые и песчаные. Почвы пустынные тропические. Растительность скудная, преобладают солянки, злаки, различные колючие формы. В оазисах - финиковая пальма, олеандр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ивотный мир северных пустынь схож с пустынями Азии - тушканчики, песчанки, лисицы-фенеки, шакалы, гиены. Множество змей (эфа, гюрза, кобра) и ящериц, беспозвоночных. Для пустынь юга характерно большее количество эндемиков, большое разнообразие черепа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бтропические жестколистные леса. Характерны для Атласа и Капских гор. Почвы коричневые. Лавр и разные виды дубов, часто встречается пиния. В Капских горах много красиво цветущих эндемиков, разводимых в качестве домашних растений. Большая часть субтропиков освоена под плантации цитрусовых и виногра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йоны высотной поясности. Характерна для Атласа, Драконовых и Капских гор, Восточно - Африканского плоскогорья. Эфиопского и других нагор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27:49Z</dcterms:created>
  <dc:creator>eMachines</dc:creator>
  <dc:description/>
  <dc:language>en-US</dc:language>
  <cp:lastModifiedBy>eMachines</cp:lastModifiedBy>
  <dcterms:modified xsi:type="dcterms:W3CDTF">2011-09-23T12:28:21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50000000000010250300207f7000400038000</vt:lpwstr>
  </property>
</Properties>
</file>