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D4B-C4A4-49A1-A096-AE64B98D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ECC-9E2F-430D-A258-54B4618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B28-A9C5-4F27-98F6-4604FDA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34A-BF3F-47FB-A413-327C1189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13FD-6B81-4AC5-9C66-30B5612A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7B2-FCA5-4F5C-8E85-B3EA00B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1C4-2A2C-4348-88A2-2B6DA9BF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02E-3308-4B95-B23E-2C50780E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3A8-5B8C-4A37-8B2E-5E4F9D40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F95-3788-4D5D-B091-896CC89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1C07-B809-4E75-8D61-02CDC6E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3A7-B4F7-4FE9-A31F-440C66D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0FB0-FB79-43AA-968F-C0EC8FC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A41-C9BE-437D-BC2A-2B685BF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7EB3-777D-4C4B-8AD3-2D5551B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68D9-4438-4BD9-A4E2-A259CF3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E02-3ACD-477E-AFA5-6D1FCDB5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519-4B7A-4EE2-A364-20383580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2FF-7214-4151-9FD8-989E69D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BE3-79B5-4FF1-B261-839C5CFC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8B8-A1DF-4E7E-92B6-8EABD284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C02-15F0-444E-941B-61814F8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5FF-9D64-43CB-B21B-DE2B75B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E23-096F-485A-8F89-9DF490F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F1CA-2999-48F2-9C17-6F2F468A7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E3A9-8DDD-4128-A6CE-5CFA5C07D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1052640"/>
            <a:ext cx="698508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Ф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76500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фрике проживает около 600 млн человек. На материке живут представители европеоидной (Северная Африка берберы и арабы), экваториальной (основное население) и монголоидной (Южная Африка, бушмены и готтентоты) рас. Население распределено неравномерно. Наиболее заселены Средиземноморское побережье и берега Гвинейского за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09300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Побережье Африки с севера омывается теплым Средиземным морем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Могучий Нил несет свои воды из глубины материка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Какое государство расположено по берегам Нила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47040" cy="58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16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Выжженная солнцем пустыня, сплошная стена ярко-зеленого тропического леса, громадные приземистые жители саванны — баобабы. С запада этот экзотический континент омывается Атлантическим океаном, с севера — Средиземным морем, с северо-востока — Красным морем, с востока — Индийским океаном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971800" cy="444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08000" y="4181400"/>
            <a:ext cx="404676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92280"/>
            <a:ext cx="777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логическое строение и релье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снове материка - древняя платформа, с сильно разрушенными складчатыми образованиями. На Юге и Востоке кристаллическое основание выходит на поверхность. Здесь расположена зона глубинных разломов земной коры (поднятия (горсты) - Эфиопское нагорье и Восточно-Африканское плоскогорье, Драконовы горы; опускания (грабены) - котловины озер Ньяса, Танганьика). Вулканы Камерун, Килиманджаро. К платформе примыкают подвижные складчатые зоны: на Севере - Атлас, на Юге - Капские гор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ристаллическим щитам востока и юга приурочены месторождения руд черных, цветных и драгоценных металлов и алмазов. На Севере и 3ападе - запасы каменного угля, бокситов, фосфоритов, нефти, г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69228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ические з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ие t не ниже 8 °С. Количество осадков максимально в бассейне реки Конго (до 3000 мм), минимально в Сахаре (менее 300 мм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ваториальный пояс - постоянно влажный и жарки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субэкваториальных пояса - жаркие с сезонной сменой воздушных масс: летний экваториальный муссон приносит обильные осадки, зимний - сухую жаркую погод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тропических пояса характерны сухой погодой в течение года. Суточные амплитуды t больше годовых, летом 40 °С, зимой 18 °С. На Юге осадков больш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доль западного побережья умеренные воздушные массы и холодное Бенгальское течение сформировали относительно прохладные районы (летом 20 °С, зимой 15 °С) с осадками в виде рос и туманов (Намиб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765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ера и 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Африки характерно сравнительно небольшое количество рек, их неравномерное распределение, наличие обширных районов внутреннего стока, пороги и водопады. Реки имеют преимущественно дождевое питание и режим стока соответствует режиму осадков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крупных рек принадлежит бассейну Атлантического океана (Нил, Конго, Нигер, Сенегал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бассейну Индийского океана относятся Замбези, Лимпоп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54936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фрике преобладают вечнозеленые экваториальные леса, гилей. Почвы ферраллитные. В верхнем ярусе - фикусы и пальмы, в нижних - бананы и древовидные папоротники, эбеновое дерев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наземного яруса сравнительно небогат (из копытных - окапи, карликовый бегемот, гориллы), в кронах - масса птиц (турако, птицы-носороги, нектарницы), обезьян (мартышки, колобусы, шимпанзе). Всюду - беспозвоночные, лягушки, змеи (питоны, мамбы), в реках - крокодил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анны и редколесья. Занимают около 40% материка. Почвы - от красных ферраллитны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красно-бурых. Из древесных растений - баобаб, зонтичные акации, мимозы, пальмы, древовидные молоча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ны травянистые растения (бобовые, луковичные, высокорослые злаки - слоновая трава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илие крупных копытных (жирафы, буйволы, антилопы, газели, зебры, носороги, слоны) и хищных (львы, гиены, гепарды, шакалы). Обычны обезьяны (павианы), из птиц - страусы, ткачики, венценосные журавли, птица-секретарь, марабу, стервятники. Многочисленны ящерицы и зме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92280"/>
            <a:ext cx="8280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ыни и полупустыни занимают огромные площади. Сильно различаются пустыни юга и севера континента (см. также Сахара, Намиб, Калахари). В Сахаре распространены каменистые пустыни - гаммады, глинистые и песчаные. Почвы пустынные тропические. Растительность скудная, преобладают солянки, злаки, различные колючие формы. В оазисах - финиковая пальма, олеандр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северных пустынь схож с пустынями Азии - тушканчики, песчанки, лисицы-фенеки, шакалы, гиены. Множество змей (эфа, гюрза, кобра) и ящериц, беспозвоночных. Для пустынь юга характерно большее количество эндемиков, большое разнообразие черепа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тропические жестколистные леса. Характерны для Атласа и Капских гор. Почвы коричневые. Лавр и разные виды дубов, часто встречается пиния. В Капских горах много красиво цветущих эндемиков, разводимых в качестве домашних растений. Большая часть субтропиков освоена под плантации цитрусовых и виногра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ы высотной поясности. Характерна для Атласа, Драконовых и Капских гор, Восточно - Африканского плоскогорья. Эфиопского и других наго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27:49Z</dcterms:created>
  <dc:creator>eMachines</dc:creator>
  <dc:description/>
  <dc:language>en-US</dc:language>
  <cp:lastModifiedBy>eMachines</cp:lastModifiedBy>
  <dcterms:modified xsi:type="dcterms:W3CDTF">2011-09-23T12:28:21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50000000000010250300207f7000400038000</vt:lpwstr>
  </property>
</Properties>
</file>