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26.jpeg" ContentType="image/jpeg"/>
  <Override PartName="/ppt/media/image1.png" ContentType="image/png"/>
  <Override PartName="/ppt/media/image22.jpeg" ContentType="image/jpeg"/>
  <Override PartName="/ppt/media/image17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029AD-C0AE-45E7-AFAA-CC8B44EE982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DD2BB-CFAD-4516-8EEC-CEBA5F99DBD4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02DC1-4037-4FEA-914F-51E1FE8B5BA2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94A5E-EF65-49DB-9EEF-1AD38FA02463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65017-8F9A-413B-870E-0E09B2261D7B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C0D66-602F-4297-B9D9-D9CB7A6DA728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26780-EFB9-401B-8158-06561712DC19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C60EA-3F91-4C94-863E-F0B04218C738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84144-DB0E-4044-A169-DCD2927E0BB7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BEFAB-BFA7-4085-9577-09F2CB1F4D8F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565C2-E13E-4C8B-A85F-DAC4C248AEB2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24D87-9B5C-4B2F-9BAA-5BD9C525690A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5EB8E-44EE-4436-BB7F-CCC6517F19C6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09F1B-D72D-480D-B11E-91EE22015B17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B19AC-E6FF-4061-B323-343B5874AE90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CE178-6453-45F9-BDD2-EF0A9E527CFF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CAC80-15A3-43F0-8E9C-1C28A347CB14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433F0-0958-4659-B39B-E54156EAB8EF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1C9DB-7773-4D42-92D4-C41A93D0FC2D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DC4E0-BAA8-463E-A474-9F30C9B4B7E0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71398-1041-4C4D-A2B1-1AD323D0069E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55E9A-A876-4DF1-87D1-98423361A5D9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AA8DB-29EF-4066-A206-E81C62AC00CE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BF004-5828-43B2-BEDF-504A4274380D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C194E-B34B-4827-B086-0F8D053C4041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11750-62BC-41EE-AADD-782BD472DF24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885C-3F88-4A53-A7C3-8BFB12438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0436-EA20-46CA-9E2E-B773FAE11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E830-B35E-4CC6-B989-D029D1AA7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3330-B8F2-4E6F-BF7B-0FF431881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692AE-C226-4CDF-9AE1-DAACEDF8E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31DE7-DD99-4EC1-8133-3F82ABEDE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8A7D4-0C5D-4C2D-92CA-620ADC688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2E96B-A8FD-4332-B666-6C8DDB604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66F9A-18CA-40A8-ACDC-5E22D094F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1752B-6B76-417E-81ED-44F072221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D98A2-5487-4D19-89B1-03AA72AD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689D-F81F-4783-BD8C-48B9C997D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B8962-0707-41E1-8898-3050055E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122CF-DDC7-4748-A6B6-5A26852E7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1C71B-2D79-465C-9DA4-DB9B4A64B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CEC9E-F3D1-4F5F-BB70-236191106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626C2-032A-4451-BB92-E7C905600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3D90-FA97-424A-9FF9-5FCA4E420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8527-3BE7-4BD5-B3F5-6FFBF5612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BDF0-CCBF-4AE9-AB91-988340F58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F73C-B466-4159-8A0B-68F83FD6A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DF4A-3C95-4EF0-AB59-60A910F1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6135-0366-4BBD-9C34-B6679A141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9531-B3F4-43ED-A074-1A7BE652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Freeform 4"/>
            <p:cNvSpPr/>
            <p:nvPr/>
          </p:nvSpPr>
          <p:spPr>
            <a:xfrm>
              <a:off x="1171440" y="785880"/>
              <a:ext cx="506520" cy="5065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152280" y="785880"/>
              <a:ext cx="506520" cy="506520"/>
            </a:xfrm>
            <a:prstGeom prst="pie">
              <a:avLst/>
            </a:pr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241200" y="374760"/>
                <a:ext cx="654120" cy="1226880"/>
              </a:xfrm>
              <a:prstGeom prst="pie">
                <a:avLst/>
              </a:pr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241200" y="374760"/>
                <a:ext cx="1306440" cy="122040"/>
              </a:xfrm>
              <a:prstGeom prst="pie">
                <a:avLst/>
              </a:pr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prstGeom prst="pie">
                <a:avLst/>
              </a:pr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F5EBF-136D-47D9-891C-17D83E192E4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026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2" name="Group 1027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Freeform 1028"/>
            <p:cNvSpPr/>
            <p:nvPr/>
          </p:nvSpPr>
          <p:spPr>
            <a:xfrm>
              <a:off x="2133720" y="1643040"/>
              <a:ext cx="1617480" cy="1440000"/>
            </a:xfrm>
            <a:prstGeom prst="pie">
              <a:avLst/>
            </a:pr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" name="Freeform 1029"/>
            <p:cNvSpPr/>
            <p:nvPr/>
          </p:nvSpPr>
          <p:spPr>
            <a:xfrm>
              <a:off x="5394240" y="1643040"/>
              <a:ext cx="1617840" cy="14400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5" name="Group 1030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AutoShape 1031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" name="Freeform 1032"/>
              <p:cNvSpPr/>
              <p:nvPr/>
            </p:nvSpPr>
            <p:spPr>
              <a:xfrm>
                <a:off x="2494080" y="473040"/>
                <a:ext cx="2089080" cy="3490920"/>
              </a:xfrm>
              <a:prstGeom prst="pie">
                <a:avLst/>
              </a:pr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Freeform 1033"/>
              <p:cNvSpPr/>
              <p:nvPr/>
            </p:nvSpPr>
            <p:spPr>
              <a:xfrm>
                <a:off x="2494080" y="473040"/>
                <a:ext cx="4178160" cy="344520"/>
              </a:xfrm>
              <a:prstGeom prst="pie">
                <a:avLst/>
              </a:pr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Freeform 1034"/>
              <p:cNvSpPr/>
              <p:nvPr/>
            </p:nvSpPr>
            <p:spPr>
              <a:xfrm>
                <a:off x="4581360" y="473040"/>
                <a:ext cx="2090880" cy="3490920"/>
              </a:xfrm>
              <a:prstGeom prst="pie">
                <a:avLst/>
              </a:pr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0" name="Rectangle 1035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BB267-7696-428C-8B07-5B47FA20441F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9"/>
          <p:cNvSpPr/>
          <p:nvPr/>
        </p:nvSpPr>
        <p:spPr>
          <a:xfrm>
            <a:off x="179280" y="1857240"/>
            <a:ext cx="828036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aeaea"/>
                </a:solidFill>
                <a:latin typeface="Times New Roman"/>
              </a:rPr>
              <a:t>Интерьер в классическом стиле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611280" y="476280"/>
            <a:ext cx="8243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Факультет архитектуры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201600" y="1428840"/>
            <a:ext cx="640080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Тема лекции: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12" name="Group 12"/>
          <p:cNvGrpSpPr/>
          <p:nvPr/>
        </p:nvGrpSpPr>
        <p:grpSpPr>
          <a:xfrm>
            <a:off x="179280" y="4221000"/>
            <a:ext cx="6423120" cy="1871640"/>
            <a:chOff x="179280" y="4221000"/>
            <a:chExt cx="6423120" cy="1871640"/>
          </a:xfrm>
        </p:grpSpPr>
        <p:sp>
          <p:nvSpPr>
            <p:cNvPr id="113" name="Rectangle 13"/>
            <p:cNvSpPr/>
            <p:nvPr/>
          </p:nvSpPr>
          <p:spPr>
            <a:xfrm>
              <a:off x="201600" y="4221000"/>
              <a:ext cx="640080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eaeaea"/>
                  </a:solidFill>
                  <a:latin typeface="Times New Roman"/>
                </a:rPr>
                <a:t>Дисциплина: «Архитектурный интерьер»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" name="Rectangle 14"/>
            <p:cNvSpPr/>
            <p:nvPr/>
          </p:nvSpPr>
          <p:spPr>
            <a:xfrm>
              <a:off x="179280" y="4968720"/>
              <a:ext cx="3456000" cy="11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eaeaea"/>
                  </a:solidFill>
                  <a:latin typeface="Times New Roman"/>
                </a:rPr>
                <a:t>Объем – 1 кредит1 (1/0/0)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eaeaea"/>
                  </a:solidFill>
                  <a:latin typeface="Times New Roman"/>
                </a:rPr>
                <a:t>Семестр 9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eaeaea"/>
                  </a:solidFill>
                  <a:latin typeface="Times New Roman"/>
                </a:rPr>
                <a:t>Занятие № </a:t>
              </a:r>
              <a:r>
                <a:rPr b="0" lang="en-US" sz="1800" spc="-1" strike="noStrike">
                  <a:solidFill>
                    <a:srgbClr val="eaeaea"/>
                  </a:solidFill>
                  <a:latin typeface="Times New Roman"/>
                </a:rPr>
                <a:t>1</a:t>
              </a:r>
              <a:r>
                <a:rPr b="0" lang="ru-RU" sz="1800" spc="-1" strike="noStrike">
                  <a:solidFill>
                    <a:srgbClr val="eaeaea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eaeaea"/>
                  </a:solidFill>
                  <a:latin typeface="Times New Roman"/>
                </a:rPr>
                <a:t>Преподаватель: ассоц. проф. Балыкбаев Б.Т.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pic>
        <p:nvPicPr>
          <p:cNvPr id="115" name="Рисунок 9" descr="http://designinfoline.ru/img/chateau-chenonceau.jpg"/>
          <p:cNvPicPr/>
          <p:nvPr/>
        </p:nvPicPr>
        <p:blipFill>
          <a:blip r:embed="rId1"/>
          <a:stretch/>
        </p:blipFill>
        <p:spPr>
          <a:xfrm>
            <a:off x="4286160" y="3657600"/>
            <a:ext cx="48578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3" presetSubtype="16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Главной заботой художников и архитекторов Возрождения были пропорции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, то есть соотношение между размерами частей композиции. Они придавали большое значение математическим вычислениям пропорций, симметрии и асимметрии. В эту эпоху возникло </a:t>
            </a: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правило «золотого сечения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», сформулированное Леонардо да Винчи. 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Именно тогда возникли такие понятия, как </a:t>
            </a: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"план", "макет", "проект", "чертеж."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 А это, как уже понятно, стало первым шагом к выделению и обособлению профессии архитектор, а затем и дизайнер.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324000" y="5634000"/>
            <a:ext cx="83023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Рисунок 3" descr="Галерея в стиле Ренессанс"/>
          <p:cNvPicPr/>
          <p:nvPr/>
        </p:nvPicPr>
        <p:blipFill>
          <a:blip r:embed="rId1"/>
          <a:stretch/>
        </p:blipFill>
        <p:spPr>
          <a:xfrm>
            <a:off x="1857240" y="1500120"/>
            <a:ext cx="6929640" cy="535788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4"/>
          <p:cNvSpPr/>
          <p:nvPr/>
        </p:nvSpPr>
        <p:spPr>
          <a:xfrm>
            <a:off x="1785960" y="7920"/>
            <a:ext cx="73580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Verdana"/>
                <a:ea typeface="Times New Roman"/>
              </a:rPr>
              <a:t>Представляете, какое это было время и какие могучие духом были люди!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Verdana"/>
                <a:ea typeface="Times New Roman"/>
              </a:rPr>
              <a:t>Может быть, воссоздав для себя частичку их интерьеров</a:t>
            </a:r>
            <a:r>
              <a:rPr b="0" lang="ru-RU" sz="1600" spc="-1" strike="noStrike">
                <a:solidFill>
                  <a:srgbClr val="ffffcc"/>
                </a:solidFill>
                <a:latin typeface="Verdana"/>
                <a:ea typeface="Times New Roman"/>
              </a:rPr>
              <a:t>, мы сможем проникнуться величием их души и совершить хотя бы маленькую часть из того, что смогли совершить эти люди в своей жизни?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28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Барокко - жемчужина неправильной формы.</a:t>
            </a:r>
            <a:br>
              <a:rPr sz="2000"/>
            </a:br>
            <a:r>
              <a:rPr b="1" lang="ru-RU" sz="2000" spc="-1" strike="noStrike">
                <a:solidFill>
                  <a:srgbClr val="ffffcc"/>
                </a:solidFill>
                <a:latin typeface="Times New Roman"/>
              </a:rPr>
              <a:t>У каждого человека должны быть Дом и Жилище, которые могли бы служить театром его гостеприимства, Местом для услаждения его самого, Источником удобства в его частной жизни, лучшим и значительнейшим из того, что унаследуют его дети, в общем, Дом - это своего рода отдельное княжество...</a:t>
            </a:r>
            <a:br>
              <a:rPr sz="2000"/>
            </a:br>
            <a:r>
              <a:rPr b="1" lang="ru-RU" sz="2000" spc="-1" strike="noStrike">
                <a:solidFill>
                  <a:srgbClr val="ffffcc"/>
                </a:solidFill>
                <a:latin typeface="Times New Roman"/>
              </a:rPr>
              <a:t>Сэр Генри Уоттон." Основы архитектуры", 1624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0" y="5857920"/>
            <a:ext cx="83026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4" name="Picture 10" descr="Версальский дворец"/>
          <p:cNvPicPr/>
          <p:nvPr/>
        </p:nvPicPr>
        <p:blipFill>
          <a:blip r:embed="rId1"/>
          <a:stretch/>
        </p:blipFill>
        <p:spPr>
          <a:xfrm>
            <a:off x="4572000" y="3214800"/>
            <a:ext cx="4286160" cy="364320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4" descr="Замок Линдерхофф"/>
          <p:cNvPicPr/>
          <p:nvPr/>
        </p:nvPicPr>
        <p:blipFill>
          <a:blip r:embed="rId2"/>
          <a:stretch/>
        </p:blipFill>
        <p:spPr>
          <a:xfrm>
            <a:off x="0" y="3214800"/>
            <a:ext cx="435780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5"/>
          <p:cNvSpPr/>
          <p:nvPr/>
        </p:nvSpPr>
        <p:spPr>
          <a:xfrm>
            <a:off x="-71280" y="5759280"/>
            <a:ext cx="89643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5000760" y="2071800"/>
            <a:ext cx="181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928880" y="428760"/>
            <a:ext cx="6929280" cy="600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Вы никак не сможете обойти своим вниманием этот стиль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, если хоть немного слышали о классических интерьерах. Изучая интерьеры дворцов, мы почти наверняка видим элементы этого стиля. Пытаясь воссоздать классику в своем доме, мы волей или неволей должны обратиться к барокко. Потому что именно в эту эпоху зародились не только особые декоративные приемы, но и почти все основные функции современных интерьеров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4"/>
          <p:cNvSpPr/>
          <p:nvPr/>
        </p:nvSpPr>
        <p:spPr>
          <a:xfrm>
            <a:off x="1214280" y="1080"/>
            <a:ext cx="792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Verdana"/>
                <a:ea typeface="Times New Roman"/>
              </a:rPr>
              <a:t>Рококо - комфорт, любезность, приличие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0" name="Рисунок 4" descr="http://designinfoline.ru/img/003%20%CF%F0%E8%E5%EC%ED%E0%FF%20%F1%20%E1%FB%F7%E8%EC%20%E3%EB%E0%E7%EE%EC%20%C2%E5%F0%F1%E0%EB%FC.jpg"/>
          <p:cNvPicPr/>
          <p:nvPr/>
        </p:nvPicPr>
        <p:blipFill>
          <a:blip r:embed="rId1"/>
          <a:stretch/>
        </p:blipFill>
        <p:spPr>
          <a:xfrm>
            <a:off x="5857920" y="500040"/>
            <a:ext cx="3286080" cy="635796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057400" y="714240"/>
            <a:ext cx="3300480" cy="578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Стиль, который является логическим продолжением Барокко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и воплощает собой вершину декораторской мысли. И при всей своей непередаваемой красоте этот стиль не может существовать в отрыве от своего времени. В отрыве от умонастроений аристократии того времени.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тротуары и ряд новых морских павильонов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3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856880" y="0"/>
            <a:ext cx="7286760" cy="13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(Нео)классицизм.</a:t>
            </a:r>
            <a:br>
              <a:rPr sz="2800"/>
            </a:br>
            <a:r>
              <a:rPr b="0" i="1" lang="ru-RU" sz="2800" spc="-1" strike="noStrike">
                <a:solidFill>
                  <a:srgbClr val="ffffcc"/>
                </a:solidFill>
                <a:latin typeface="Times New Roman"/>
              </a:rPr>
              <a:t>Если у них нет хлеба - пусть едят пирожные!</a:t>
            </a:r>
            <a:br>
              <a:rPr sz="2800"/>
            </a:br>
            <a:r>
              <a:rPr b="0" i="1" lang="ru-RU" sz="2800" spc="-1" strike="noStrike">
                <a:solidFill>
                  <a:srgbClr val="ffffcc"/>
                </a:solidFill>
                <a:latin typeface="Times New Roman"/>
              </a:rPr>
              <a:t>Мария Антуанетта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5327640" y="1484280"/>
            <a:ext cx="381636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179280" y="6237360"/>
            <a:ext cx="896472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5" name="Рисунок 5" descr="http://designinfoline.ru/img/empire.jpg"/>
          <p:cNvPicPr/>
          <p:nvPr/>
        </p:nvPicPr>
        <p:blipFill>
          <a:blip r:embed="rId1"/>
          <a:stretch/>
        </p:blipFill>
        <p:spPr>
          <a:xfrm>
            <a:off x="2428920" y="1643040"/>
            <a:ext cx="6405480" cy="46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3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650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Последний большой стиль в череде классических интерьеров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. После него основная масса людей утратили способность видеть красоту в идеальных пропорциях, в гармонии колонн и арок, в сложном декоре стен. Интерьеры стали все больше и больше упрощаться, что естественно сказалось на упрощении нравов и умов...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Классицизм (неоклассицизм) - это эпоха разрушения монархии и время свершения первой революции во Франции, а также создания новой империи Наполеона I.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В России это эпоха началась в царствование Екатерины Великой - потрясающей русской царицы, немки по происхождению, которая превратила Россию в великое и богатое государство, а Санкт-Петербург в мировую столицу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-71280" y="5084640"/>
            <a:ext cx="8964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Rectangle 9"/>
          <p:cNvSpPr/>
          <p:nvPr/>
        </p:nvSpPr>
        <p:spPr>
          <a:xfrm>
            <a:off x="0" y="-105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Rectangle 10"/>
          <p:cNvSpPr/>
          <p:nvPr/>
        </p:nvSpPr>
        <p:spPr>
          <a:xfrm>
            <a:off x="250920" y="1400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Rectangle 11"/>
          <p:cNvSpPr/>
          <p:nvPr/>
        </p:nvSpPr>
        <p:spPr>
          <a:xfrm>
            <a:off x="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3"/>
          <p:cNvSpPr/>
          <p:nvPr/>
        </p:nvSpPr>
        <p:spPr>
          <a:xfrm>
            <a:off x="-108000" y="4968720"/>
            <a:ext cx="8964720" cy="17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2771640" y="3213000"/>
            <a:ext cx="261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5559480" y="2513160"/>
            <a:ext cx="182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Text Box 21"/>
          <p:cNvSpPr/>
          <p:nvPr/>
        </p:nvSpPr>
        <p:spPr>
          <a:xfrm>
            <a:off x="1908000" y="5033880"/>
            <a:ext cx="110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Text Box 25"/>
          <p:cNvSpPr/>
          <p:nvPr/>
        </p:nvSpPr>
        <p:spPr>
          <a:xfrm>
            <a:off x="1908000" y="4818240"/>
            <a:ext cx="95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Text Box 27"/>
          <p:cNvSpPr/>
          <p:nvPr/>
        </p:nvSpPr>
        <p:spPr>
          <a:xfrm>
            <a:off x="4500720" y="5013360"/>
            <a:ext cx="115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Text Box 29"/>
          <p:cNvSpPr/>
          <p:nvPr/>
        </p:nvSpPr>
        <p:spPr>
          <a:xfrm>
            <a:off x="6711840" y="4365720"/>
            <a:ext cx="189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8" name="Picture 12" descr="F:\Documents and Settings\Baijan\Мои документы\Мои рисунки\502.jpg"/>
          <p:cNvPicPr/>
          <p:nvPr/>
        </p:nvPicPr>
        <p:blipFill>
          <a:blip r:embed="rId1"/>
          <a:stretch/>
        </p:blipFill>
        <p:spPr>
          <a:xfrm>
            <a:off x="1523880" y="1200240"/>
            <a:ext cx="609624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F:\Documents and Settings\Baijan\Мои документы\Мои рисунки\1_2001_ok1_3.jpg"/>
          <p:cNvPicPr/>
          <p:nvPr/>
        </p:nvPicPr>
        <p:blipFill>
          <a:blip r:embed="rId1"/>
          <a:stretch/>
        </p:blipFill>
        <p:spPr>
          <a:xfrm>
            <a:off x="1785960" y="0"/>
            <a:ext cx="4286160" cy="36003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F:\Documents and Settings\Baijan\Мои документы\Мои рисунки\1_2001_ok3_3.jpg"/>
          <p:cNvPicPr/>
          <p:nvPr/>
        </p:nvPicPr>
        <p:blipFill>
          <a:blip r:embed="rId2"/>
          <a:stretch/>
        </p:blipFill>
        <p:spPr>
          <a:xfrm>
            <a:off x="6429240" y="0"/>
            <a:ext cx="2481480" cy="3571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F:\Documents and Settings\Baijan\Мои документы\Мои рисунки\1_2001_ok5_3.gif"/>
          <p:cNvPicPr/>
          <p:nvPr/>
        </p:nvPicPr>
        <p:blipFill>
          <a:blip r:embed="rId3"/>
          <a:stretch/>
        </p:blipFill>
        <p:spPr>
          <a:xfrm>
            <a:off x="2214720" y="3886200"/>
            <a:ext cx="3333600" cy="29718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F:\Documents and Settings\Baijan\Мои документы\Мои рисунки\1_2001_ok_2_3.jpg"/>
          <p:cNvPicPr/>
          <p:nvPr/>
        </p:nvPicPr>
        <p:blipFill>
          <a:blip r:embed="rId4"/>
          <a:stretch/>
        </p:blipFill>
        <p:spPr>
          <a:xfrm>
            <a:off x="6286680" y="3524400"/>
            <a:ext cx="260028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F:\Documents and Settings\Baijan\Мои документы\Мои рисунки\448px-Statue_Domus_Aurea.jpg"/>
          <p:cNvPicPr/>
          <p:nvPr/>
        </p:nvPicPr>
        <p:blipFill>
          <a:blip r:embed="rId1"/>
          <a:stretch/>
        </p:blipFill>
        <p:spPr>
          <a:xfrm>
            <a:off x="2438280" y="0"/>
            <a:ext cx="5348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11280" y="135684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О духе классического жилья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1714320" y="2142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Вопросы: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611280" y="2565360"/>
            <a:ext cx="777240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571680" y="2714760"/>
            <a:ext cx="7929360" cy="19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Почему классические интерьеры нельзя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сделать быстро и плохо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611280" y="2071800"/>
            <a:ext cx="817560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О связи прошлого с будущим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3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" nodeType="after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8000"/>
                            </p:stCondLst>
                            <p:childTnLst>
                              <p:par>
                                <p:cTn id="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1000"/>
                            </p:stCondLst>
                            <p:childTnLst>
                              <p:par>
                                <p:cTn id="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1604880" y="318960"/>
            <a:ext cx="4105440" cy="223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5" name="Picture 5" descr="F:\Documents and Settings\Baijan\Мои документы\Мои рисунки\499.jpg"/>
          <p:cNvPicPr/>
          <p:nvPr/>
        </p:nvPicPr>
        <p:blipFill>
          <a:blip r:embed="rId1"/>
          <a:stretch/>
        </p:blipFill>
        <p:spPr>
          <a:xfrm>
            <a:off x="1523880" y="1200240"/>
            <a:ext cx="683424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F:\Documents and Settings\Baijan\Мои документы\Мои рисунки\646px-Catacombs_S__Sebastiano_Rome3.jpg"/>
          <p:cNvPicPr/>
          <p:nvPr/>
        </p:nvPicPr>
        <p:blipFill>
          <a:blip r:embed="rId1"/>
          <a:stretch/>
        </p:blipFill>
        <p:spPr>
          <a:xfrm>
            <a:off x="2143080" y="428760"/>
            <a:ext cx="6153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-357120" y="2571840"/>
            <a:ext cx="6372000" cy="29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8" name="Picture 5" descr="F:\Documents and Settings\Baijan\Мои документы\Мои рисунки\85476.jpg"/>
          <p:cNvPicPr/>
          <p:nvPr/>
        </p:nvPicPr>
        <p:blipFill>
          <a:blip r:embed="rId1"/>
          <a:stretch/>
        </p:blipFill>
        <p:spPr>
          <a:xfrm>
            <a:off x="1857240" y="1357200"/>
            <a:ext cx="6929640" cy="50007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1856880" y="0"/>
            <a:ext cx="7286760" cy="13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1. Вокзал в Вашингтоне, Д.Бернхейм, П.Андерсон, 1907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68000" y="1988640"/>
            <a:ext cx="8302680" cy="230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2987640" y="187200"/>
            <a:ext cx="59990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2" name="Picture 6" descr="F:\Documents and Settings\Baijan\Мои документы\Мои рисунки\85477.jpg"/>
          <p:cNvPicPr/>
          <p:nvPr/>
        </p:nvPicPr>
        <p:blipFill>
          <a:blip r:embed="rId1"/>
          <a:stretch/>
        </p:blipFill>
        <p:spPr>
          <a:xfrm>
            <a:off x="2000160" y="1785960"/>
            <a:ext cx="6357960" cy="447660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1856880" y="0"/>
            <a:ext cx="7286760" cy="13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2. Вокзал в Чикаго, Е.Грехем, П.Андерсон, Р.Пробст, Х.Уайт, 1913-15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4"/>
          <p:cNvSpPr/>
          <p:nvPr/>
        </p:nvSpPr>
        <p:spPr>
          <a:xfrm>
            <a:off x="2987640" y="187200"/>
            <a:ext cx="59990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5" name="Picture 5" descr="F:\Documents and Settings\Baijan\Мои документы\Мои рисунки\85479.jpg"/>
          <p:cNvPicPr/>
          <p:nvPr/>
        </p:nvPicPr>
        <p:blipFill>
          <a:blip r:embed="rId1"/>
          <a:stretch/>
        </p:blipFill>
        <p:spPr>
          <a:xfrm>
            <a:off x="2500200" y="1000080"/>
            <a:ext cx="5643720" cy="58579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856880" y="0"/>
            <a:ext cx="7286760" cy="13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Вокзал в Милане, У.Стаккини, 1912-31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3"/>
          <p:cNvSpPr/>
          <p:nvPr/>
        </p:nvSpPr>
        <p:spPr>
          <a:xfrm>
            <a:off x="2987640" y="187200"/>
            <a:ext cx="59990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8" name="Picture 5" descr="F:\Documents and Settings\Baijan\Мои документы\Мои рисунки\n2.jpg"/>
          <p:cNvPicPr/>
          <p:nvPr/>
        </p:nvPicPr>
        <p:blipFill>
          <a:blip r:embed="rId1"/>
          <a:stretch/>
        </p:blipFill>
        <p:spPr>
          <a:xfrm>
            <a:off x="1428840" y="357120"/>
            <a:ext cx="6858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590040" y="1356840"/>
            <a:ext cx="8302680" cy="53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214200" y="2857680"/>
            <a:ext cx="83026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264960" y="4005360"/>
            <a:ext cx="8302680" cy="16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02" name="Picture 7" descr="F:\Documents and Settings\Baijan\Мои документы\Мои рисунки\Wilpert_060.jpg"/>
          <p:cNvPicPr/>
          <p:nvPr/>
        </p:nvPicPr>
        <p:blipFill>
          <a:blip r:embed="rId1"/>
          <a:stretch/>
        </p:blipFill>
        <p:spPr>
          <a:xfrm>
            <a:off x="1857240" y="357120"/>
            <a:ext cx="3000600" cy="24130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F:\Documents and Settings\Baijan\Мои документы\Мои рисунки\n8.jpg"/>
          <p:cNvPicPr/>
          <p:nvPr/>
        </p:nvPicPr>
        <p:blipFill>
          <a:blip r:embed="rId2"/>
          <a:stretch/>
        </p:blipFill>
        <p:spPr>
          <a:xfrm>
            <a:off x="1928880" y="2857680"/>
            <a:ext cx="6500880" cy="37861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F:\Documents and Settings\Baijan\Мои документы\Мои рисунки\Wilpert_101.jpg"/>
          <p:cNvPicPr/>
          <p:nvPr/>
        </p:nvPicPr>
        <p:blipFill>
          <a:blip r:embed="rId3"/>
          <a:stretch/>
        </p:blipFill>
        <p:spPr>
          <a:xfrm>
            <a:off x="5429160" y="428760"/>
            <a:ext cx="30006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468360" y="1285920"/>
            <a:ext cx="83026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Мы начнем с азов</a:t>
            </a: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, с античного стиля,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затем перейдем</a:t>
            </a: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 к ренессансу,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после этого изучим самый помпезный вариант классики</a:t>
            </a: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 - стиль барокко,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затем</a:t>
            </a: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 роккоко,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ампир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и наконец</a:t>
            </a: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 классицизм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У каждого из этих классических стилей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своя особая судьба, свои потрясающие личности и великолепные образцы искусства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Прямоугольник 4"/>
          <p:cNvSpPr/>
          <p:nvPr/>
        </p:nvSpPr>
        <p:spPr>
          <a:xfrm>
            <a:off x="1785960" y="428760"/>
            <a:ext cx="392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Тезисы лекции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6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10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684360" y="1213920"/>
            <a:ext cx="8302320" cy="53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Только вещи, созданные в особом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умиротворенном состоянии, с вложением в них души художника, могут прослужить столетия. И становятся классикой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Вещь, интерьер или картина, написанные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или созданные быстро и на продажу, никогда не станут классическими произведениями. Потому что во-первых не тронут ничьей души,а во-вторых мистическим образом долго не сохранятся. Разрушаться временем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И только классика от времени становится все лучше и лучше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1714680" y="215280"/>
            <a:ext cx="742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Verdana"/>
                <a:ea typeface="Times New Roman"/>
              </a:rPr>
              <a:t>АНТИЧНЫЙ СТИЛЬ В ИНТЕРЬЕРЕ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856880" y="357120"/>
            <a:ext cx="728676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Классика, а именно античный стиль - это и самый легкий, и в тоже время самый сложный из множества существующих на данный момент стилей. Ведь нужно не просто воссоздать некоторый набор отдельных элементов интерьера, а привнести в современность ДУХ и даже частично Образ Жизни людей того времени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Text Box 14"/>
          <p:cNvSpPr/>
          <p:nvPr/>
        </p:nvSpPr>
        <p:spPr>
          <a:xfrm>
            <a:off x="6588000" y="2081160"/>
            <a:ext cx="187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Text Box 18"/>
          <p:cNvSpPr/>
          <p:nvPr/>
        </p:nvSpPr>
        <p:spPr>
          <a:xfrm>
            <a:off x="5148360" y="2565360"/>
            <a:ext cx="290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Text Box 19"/>
          <p:cNvSpPr/>
          <p:nvPr/>
        </p:nvSpPr>
        <p:spPr>
          <a:xfrm>
            <a:off x="5076720" y="2513160"/>
            <a:ext cx="280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9" name="Рисунок 8" descr="http://designinfoline.ru/img/antic.jpg"/>
          <p:cNvPicPr/>
          <p:nvPr/>
        </p:nvPicPr>
        <p:blipFill>
          <a:blip r:embed="rId1"/>
          <a:stretch/>
        </p:blipFill>
        <p:spPr>
          <a:xfrm>
            <a:off x="2000160" y="2786040"/>
            <a:ext cx="685800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04760" y="0"/>
            <a:ext cx="7086600" cy="328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Начало расцвета великой античной цивилизации приходится на V век до н.э. И только представьте себе, что все население Афинского полиса - главного центра античной культуры - не превышало 200-300 тысяч человек! </a:t>
            </a: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В современных масштабах это даже не население одного большого города!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    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419640" y="2637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Text Box 17"/>
          <p:cNvSpPr/>
          <p:nvPr/>
        </p:nvSpPr>
        <p:spPr>
          <a:xfrm>
            <a:off x="3059280" y="1916280"/>
            <a:ext cx="144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Text Box 18"/>
          <p:cNvSpPr/>
          <p:nvPr/>
        </p:nvSpPr>
        <p:spPr>
          <a:xfrm>
            <a:off x="2195640" y="1916280"/>
            <a:ext cx="266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Text Box 19"/>
          <p:cNvSpPr/>
          <p:nvPr/>
        </p:nvSpPr>
        <p:spPr>
          <a:xfrm>
            <a:off x="1979640" y="2513160"/>
            <a:ext cx="287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6" name="AKROPOL.AVI" descr=""/>
          <p:cNvPicPr/>
          <p:nvPr/>
        </p:nvPicPr>
        <p:blipFill>
          <a:blip r:embed="rId1"/>
          <a:stretch/>
        </p:blipFill>
        <p:spPr>
          <a:xfrm>
            <a:off x="4500720" y="3408480"/>
            <a:ext cx="457992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50867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84360" y="187200"/>
            <a:ext cx="830232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i="1" lang="en-US" sz="1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8" name="Рисунок 6" descr="http://designinfoline.ru/img/antkollage_01.jpg"/>
          <p:cNvPicPr/>
          <p:nvPr/>
        </p:nvPicPr>
        <p:blipFill>
          <a:blip r:embed="rId1"/>
          <a:stretch/>
        </p:blipFill>
        <p:spPr>
          <a:xfrm>
            <a:off x="1500120" y="1500120"/>
            <a:ext cx="764388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785880" y="214200"/>
            <a:ext cx="821520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500040" y="5143680"/>
            <a:ext cx="83026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571680" y="3286080"/>
            <a:ext cx="83023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1785960" y="222120"/>
            <a:ext cx="7358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Verdana"/>
                <a:ea typeface="Times New Roman"/>
              </a:rPr>
              <a:t>Стиль Ренессанс: из прошлого в настоящее</a:t>
            </a:r>
            <a:r>
              <a:rPr b="1" lang="ru-RU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Полюбить можно лишь то, что знаешь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Леонардо да Винчи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3" name="Рисунок 10" descr="Каминный зал эпохи Возрождение"/>
          <p:cNvPicPr/>
          <p:nvPr/>
        </p:nvPicPr>
        <p:blipFill>
          <a:blip r:embed="rId1"/>
          <a:stretch/>
        </p:blipFill>
        <p:spPr>
          <a:xfrm>
            <a:off x="2714760" y="2071800"/>
            <a:ext cx="592920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13840" y="285840"/>
            <a:ext cx="8929800" cy="657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imes New Roman"/>
              </a:rPr>
              <a:t>РЕНЕССАНС - один из самых значимых</a:t>
            </a: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 периодов в жизни и искусстве, во многом определивший основные черты нашей современной цивилизации.</a:t>
            </a:r>
            <a:br>
              <a:rPr sz="2000"/>
            </a:br>
            <a:r>
              <a:rPr b="1" lang="ru-RU" sz="2000" spc="-1" strike="noStrike">
                <a:solidFill>
                  <a:srgbClr val="ffffcc"/>
                </a:solidFill>
                <a:latin typeface="Times New Roman"/>
              </a:rPr>
              <a:t>Исторически этот стиль пришел на смену</a:t>
            </a: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 готическому стилю в Европу XV-XVI веков Он, как продолжение античного стиля, зародился в Италии, а затем проник и в другие страны Европы. </a:t>
            </a: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В это время произошло ослабление власти и значения папского Рима и одновременное возобновление интереса к античной культуре. Расцвет науки и искусства того времени не мог не отразиться на жизни в целом, и на архитектуре в том числе. Если в средневековье для поднятия престижа знать устраивала многочисленные приемы и турниры, то в эпоху Возрождения престижно становится строить библиотеки, общественные здания, академии. </a:t>
            </a:r>
            <a:br>
              <a:rPr sz="2000"/>
            </a:br>
            <a:r>
              <a:rPr b="1" lang="ru-RU" sz="2000" spc="-1" strike="noStrike">
                <a:solidFill>
                  <a:srgbClr val="ffffcc"/>
                </a:solidFill>
                <a:latin typeface="Times New Roman"/>
              </a:rPr>
              <a:t>Это такой интересный и важный период жизни</a:t>
            </a: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 всей нашей планеты, когда произошел довольно резкий скачек в развитии науки, искусства, техники, технологии и, конечно, архитектуры. </a:t>
            </a:r>
            <a:br>
              <a:rPr sz="2000"/>
            </a:br>
            <a:r>
              <a:rPr b="1" lang="ru-RU" sz="2000" spc="-1" strike="noStrike">
                <a:solidFill>
                  <a:srgbClr val="ffffcc"/>
                </a:solidFill>
                <a:latin typeface="Times New Roman"/>
              </a:rPr>
              <a:t>В это время почти одновременно появились такие имена</a:t>
            </a: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, как</a:t>
            </a:r>
            <a:r>
              <a:rPr b="1" lang="ru-RU" sz="2000" spc="-1" strike="noStrike">
                <a:solidFill>
                  <a:srgbClr val="ffffcc"/>
                </a:solidFill>
                <a:latin typeface="Times New Roman"/>
              </a:rPr>
              <a:t> Леонардо да Винчи, Микелланджело, Рафаэль</a:t>
            </a: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 и др. Это были не люди, а глыбы, таланты, талантища. Причем они не владели каким либо узкоспециализированным видом искусства. Напротив, они создавали свои шедевры в разных областях, начиная с продумывания идеи, создания чертежей и макетов, и заканчивая руководством стройкой, подбором отделочных материалов и окончательной росписью (если речь шла о здании).</a:t>
            </a:r>
            <a:br>
              <a:rPr sz="1800"/>
            </a:b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395280" y="5634000"/>
            <a:ext cx="83026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5796000" y="3665520"/>
            <a:ext cx="230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2340000" y="6184800"/>
            <a:ext cx="261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9T16:44:43Z</dcterms:created>
  <dc:creator> Balykbayev</dc:creator>
  <dc:description/>
  <dc:language>en-US</dc:language>
  <cp:lastModifiedBy>nebom zav</cp:lastModifiedBy>
  <dcterms:modified xsi:type="dcterms:W3CDTF">2015-02-27T14:05:02Z</dcterms:modified>
  <cp:revision>105</cp:revision>
  <dc:subject/>
  <dc:title>Слайд 1</dc:title>
</cp:coreProperties>
</file>