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37FF-34DD-4FC0-8573-B48C14532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E2B-82FE-4950-AEC1-6AB09DFF87A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CC05-BBEC-43F8-8EED-947A7C27F64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DB8-A5E4-4E7C-BA26-B5D56B7FEB5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EBAB-106C-4015-8BF6-FE36BA520BC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7FDB-512E-4D45-BE14-0742E26903A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FCD-0220-458C-A928-471D2CE9AF3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F181-B03E-4981-A56F-DDF39BB0797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7EE-3EB6-49F2-9CB7-A27972BC843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9525-D228-4680-9949-D00922DDFE9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DB3-A1C3-4594-B822-CD9D6436475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C6F6-689E-478A-BBC5-D9CCAFDA920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4021-D766-4563-B2B0-9BAADCF779E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B0D4-D2C8-4377-98A9-446507CC0BB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220-8C24-4878-8DE9-2CCEA200BAA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0728-1D95-4DC7-A3B5-C4486577EE5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41B-6513-4DF2-9CF9-55F87FB50D6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3896-F81A-456F-B0F7-B47E5FD2E17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E62-0129-45B5-B6D6-651C97605BD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024-08A7-4B4F-A0F4-76DD97335B1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0CC3-E284-485A-ACA8-1C08A89C60D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498-C73A-4ABE-B293-4BF39C32BFC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427E-5517-47ED-9308-73C5E0ED2AF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FB7-0470-4B4F-AAD4-3C37398D27E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F43-8351-4FDA-8A64-27CBAC99F7A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6B8-E194-4C9B-849E-65E92EB1EB0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C4F-3420-4E7F-99BF-5D439B83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C68-6A1C-4586-8265-5EDF130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977-0BF3-4C7C-880E-D101414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7C1-C96F-4461-871C-7C6EFF52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882B-4DBA-4589-AA19-E098FBA1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E7FD-A666-4070-94D7-F484BCC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575-2FCD-46BA-86E1-C6BDAA1D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9473-8744-40C3-AB7B-4922949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B522-7A2E-4674-8B71-A96425B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49F-5508-4012-A1C0-2DF8E6F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D05F-C5BF-436B-91C4-27034A8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BFF-2383-46F5-89B0-D9BEE3A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A80-7ABD-4B71-9275-0379B27D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B63-1C08-4C6C-8F78-DD805F50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6F4-D599-4B33-9EEA-84A99CC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1B23-1B03-4D67-BB40-7E0B67EB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2AF-8901-465C-A0FB-9CAE28E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F68-7F3D-48BD-892D-DCCA1C39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E9E-7D5E-4DC5-94CB-D7121C2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DD7-CBDB-4F6B-BEAF-5288D9AD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AD0-D37C-48F7-A52B-0B60159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A0C-DD38-415A-A861-86C59F6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C0E-F409-41BA-A6B6-79494AA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541-9B58-49F2-95E6-9354C71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505-564F-4353-B87A-A624EE12D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28DF-400A-414C-9394-C84E4A807B2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179280" y="1857240"/>
            <a:ext cx="82803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Интерьер в классическом стил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1280" y="476280"/>
            <a:ext cx="82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акультет архитектур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01600" y="1428840"/>
            <a:ext cx="6400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ема лекции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179280" y="4221000"/>
            <a:ext cx="6423120" cy="1871640"/>
            <a:chOff x="179280" y="4221000"/>
            <a:chExt cx="6423120" cy="1871640"/>
          </a:xfrm>
        </p:grpSpPr>
        <p:sp>
          <p:nvSpPr>
            <p:cNvPr id="113" name="Rectangle 13"/>
            <p:cNvSpPr/>
            <p:nvPr/>
          </p:nvSpPr>
          <p:spPr>
            <a:xfrm>
              <a:off x="201600" y="4221000"/>
              <a:ext cx="6400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Дисциплина: «Архитектурный интерьер»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179280" y="4968720"/>
              <a:ext cx="34560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Объем – 1 кредит1 (1/0/0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Семестр 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Занятие № </a:t>
              </a:r>
              <a:r>
                <a:rPr b="0" lang="en-US" sz="18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Преподаватель: ассоц. проф. Балыкбаев Б.Т.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5" name="Рисунок 9" descr="http://designinfoline.ru/img/chateau-chenonceau.jpg"/>
          <p:cNvPicPr/>
          <p:nvPr/>
        </p:nvPicPr>
        <p:blipFill>
          <a:blip r:embed="rId1"/>
          <a:stretch/>
        </p:blipFill>
        <p:spPr>
          <a:xfrm>
            <a:off x="4286160" y="3657600"/>
            <a:ext cx="4857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лавной заботой художников и архитекторов Возрождения были пропорци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, то есть соотношение между размерами частей композиции. Они придавали большое значение математическим вычислениям пропорций, симметрии и асимметрии. В эту эпоху возникло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авило «золотого сечен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», сформулированное Леонардо да Винч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менно тогда возникли такие понятия, как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"план", "макет", "проект", "чертеж."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А это, как уже понятно, стало первым шагом к выделению и обособлению профессии архитектор, а затем и дизайнер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5634000"/>
            <a:ext cx="8302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Галерея в стиле Ренессанс"/>
          <p:cNvPicPr/>
          <p:nvPr/>
        </p:nvPicPr>
        <p:blipFill>
          <a:blip r:embed="rId1"/>
          <a:stretch/>
        </p:blipFill>
        <p:spPr>
          <a:xfrm>
            <a:off x="1857240" y="1500120"/>
            <a:ext cx="6929640" cy="5357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785960" y="7920"/>
            <a:ext cx="7358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Представляете, какое это было время и какие могучие духом были люди!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Может быть, воссоздав для себя частичку их интерьеров</a:t>
            </a:r>
            <a:r>
              <a:rPr b="0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, мы сможем проникнуться величием их души и совершить хотя бы маленькую часть из того, что смогли совершить эти люди в своей жизн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рокко - жемчужина неправильной формы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каждого человека должны быть Дом и Жилище, которые могли бы служить театром его гостеприимства, Местом для услаждения его самого, Источником удобства в его частной жизни, лучшим и значительнейшим из того, что унаследуют его дети, в общем, Дом - это своего рода отдельное княжество..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эр Генри Уоттон." Основы архитектуры", 162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5857920"/>
            <a:ext cx="8302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10" descr="Версальский дворец"/>
          <p:cNvPicPr/>
          <p:nvPr/>
        </p:nvPicPr>
        <p:blipFill>
          <a:blip r:embed="rId1"/>
          <a:stretch/>
        </p:blipFill>
        <p:spPr>
          <a:xfrm>
            <a:off x="4572000" y="3214800"/>
            <a:ext cx="428616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Замок Линдерхофф"/>
          <p:cNvPicPr/>
          <p:nvPr/>
        </p:nvPicPr>
        <p:blipFill>
          <a:blip r:embed="rId2"/>
          <a:stretch/>
        </p:blipFill>
        <p:spPr>
          <a:xfrm>
            <a:off x="0" y="321480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-71280" y="5759280"/>
            <a:ext cx="8964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00760" y="2071800"/>
            <a:ext cx="181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28880" y="428760"/>
            <a:ext cx="6929280" cy="60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ы никак не сможете обойти своим вниманием этот стил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если хоть немного слышали о классических интерьерах. Изучая интерьеры дворцов, мы почти наверняка видим элементы этого стиля. Пытаясь воссоздать классику в своем доме, мы волей или неволей должны обратиться к барокко. Потому что именно в эту эпоху зародились не только особые декоративные приемы, но и почти все основные функции современных интерьер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214280" y="1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Рококо - комфорт, любезность, прилич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Рисунок 4" descr="http://designinfoline.ru/img/003%20%CF%F0%E8%E5%EC%ED%E0%FF%20%F1%20%E1%FB%F7%E8%EC%20%E3%EB%E0%E7%EE%EC%20%C2%E5%F0%F1%E0%EB%FC.jpg"/>
          <p:cNvPicPr/>
          <p:nvPr/>
        </p:nvPicPr>
        <p:blipFill>
          <a:blip r:embed="rId1"/>
          <a:stretch/>
        </p:blipFill>
        <p:spPr>
          <a:xfrm>
            <a:off x="5857920" y="500040"/>
            <a:ext cx="3286080" cy="6357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714240"/>
            <a:ext cx="3300480" cy="578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иль, который является логическим продолжением Барокк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воплощает собой вершину декораторской мысли. И при всей своей непередаваемой красоте этот стиль не может существовать в отрыве от своего времени. В отрыве от умонастроений аристократии того времени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ротуары и ряд новых морских павильо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(Нео)классицизм.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Если у них нет хлеба - пусть едят пирожные!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Мария Антуанетта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27640" y="1484280"/>
            <a:ext cx="381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6237360"/>
            <a:ext cx="89647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Рисунок 5" descr="http://designinfoline.ru/img/empire.jpg"/>
          <p:cNvPicPr/>
          <p:nvPr/>
        </p:nvPicPr>
        <p:blipFill>
          <a:blip r:embed="rId1"/>
          <a:stretch/>
        </p:blipFill>
        <p:spPr>
          <a:xfrm>
            <a:off x="2428920" y="1643040"/>
            <a:ext cx="6405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65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ледний большой стиль в череде классических интерьеров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После него основная масса людей утратили способность видеть красоту в идеальных пропорциях, в гармонии колонн и арок, в сложном декоре стен. Интерьеры стали все больше и больше упрощаться, что естественно сказалось на упрощении нравов и умов..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цизм (неоклассицизм) - это эпоха разрушения монархии и время свершения первой революции во Франции, а также создания новой империи Наполеона I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В России это эпоха началась в царствование Екатерины Великой - потрясающей русской царицы, немки по происхождению, которая превратила Россию в великое и богатое государство, а Санкт-Петербург в мировую столиц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-71280" y="5084640"/>
            <a:ext cx="89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-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140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-108000" y="4968720"/>
            <a:ext cx="896472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771640" y="3213000"/>
            <a:ext cx="261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559480" y="251316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908000" y="503388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908000" y="481824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500720" y="5013360"/>
            <a:ext cx="11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6711840" y="4365720"/>
            <a:ext cx="18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2" descr="F:\Documents and Settings\Baijan\Мои документы\Мои рисунки\502.jpg"/>
          <p:cNvPicPr/>
          <p:nvPr/>
        </p:nvPicPr>
        <p:blipFill>
          <a:blip r:embed="rId1"/>
          <a:stretch/>
        </p:blipFill>
        <p:spPr>
          <a:xfrm>
            <a:off x="1523880" y="1200240"/>
            <a:ext cx="6096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:\Documents and Settings\Baijan\Мои документы\Мои рисунки\1_2001_ok1_3.jpg"/>
          <p:cNvPicPr/>
          <p:nvPr/>
        </p:nvPicPr>
        <p:blipFill>
          <a:blip r:embed="rId1"/>
          <a:stretch/>
        </p:blipFill>
        <p:spPr>
          <a:xfrm>
            <a:off x="1785960" y="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:\Documents and Settings\Baijan\Мои документы\Мои рисунки\1_2001_ok3_3.jpg"/>
          <p:cNvPicPr/>
          <p:nvPr/>
        </p:nvPicPr>
        <p:blipFill>
          <a:blip r:embed="rId2"/>
          <a:stretch/>
        </p:blipFill>
        <p:spPr>
          <a:xfrm>
            <a:off x="6429240" y="0"/>
            <a:ext cx="2481480" cy="357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:\Documents and Settings\Baijan\Мои документы\Мои рисунки\1_2001_ok5_3.gif"/>
          <p:cNvPicPr/>
          <p:nvPr/>
        </p:nvPicPr>
        <p:blipFill>
          <a:blip r:embed="rId3"/>
          <a:stretch/>
        </p:blipFill>
        <p:spPr>
          <a:xfrm>
            <a:off x="2214720" y="3886200"/>
            <a:ext cx="333360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F:\Documents and Settings\Baijan\Мои документы\Мои рисунки\1_2001_ok_2_3.jpg"/>
          <p:cNvPicPr/>
          <p:nvPr/>
        </p:nvPicPr>
        <p:blipFill>
          <a:blip r:embed="rId4"/>
          <a:stretch/>
        </p:blipFill>
        <p:spPr>
          <a:xfrm>
            <a:off x="6286680" y="3524400"/>
            <a:ext cx="2600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:\Documents and Settings\Baijan\Мои документы\Мои рисунки\448px-Statue_Domus_Aurea.jpg"/>
          <p:cNvPicPr/>
          <p:nvPr/>
        </p:nvPicPr>
        <p:blipFill>
          <a:blip r:embed="rId1"/>
          <a:stretch/>
        </p:blipFill>
        <p:spPr>
          <a:xfrm>
            <a:off x="2438280" y="0"/>
            <a:ext cx="53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1356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духе классического жиль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14320" y="214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2565360"/>
            <a:ext cx="7772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71680" y="2714760"/>
            <a:ext cx="79293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чему классические интерьеры нельз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сделать быстро и плох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11280" y="2071800"/>
            <a:ext cx="817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связи прошлого с будущи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604880" y="318960"/>
            <a:ext cx="4105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F:\Documents and Settings\Baijan\Мои документы\Мои рисунки\499.jpg"/>
          <p:cNvPicPr/>
          <p:nvPr/>
        </p:nvPicPr>
        <p:blipFill>
          <a:blip r:embed="rId1"/>
          <a:stretch/>
        </p:blipFill>
        <p:spPr>
          <a:xfrm>
            <a:off x="1523880" y="1200240"/>
            <a:ext cx="68342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F:\Documents and Settings\Baijan\Мои документы\Мои рисунки\646px-Catacombs_S__Sebastiano_Rome3.jpg"/>
          <p:cNvPicPr/>
          <p:nvPr/>
        </p:nvPicPr>
        <p:blipFill>
          <a:blip r:embed="rId1"/>
          <a:stretch/>
        </p:blipFill>
        <p:spPr>
          <a:xfrm>
            <a:off x="2143080" y="428760"/>
            <a:ext cx="615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57120" y="2571840"/>
            <a:ext cx="6372000" cy="29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5" descr="F:\Documents and Settings\Baijan\Мои документы\Мои рисунки\85476.jpg"/>
          <p:cNvPicPr/>
          <p:nvPr/>
        </p:nvPicPr>
        <p:blipFill>
          <a:blip r:embed="rId1"/>
          <a:stretch/>
        </p:blipFill>
        <p:spPr>
          <a:xfrm>
            <a:off x="1857240" y="1357200"/>
            <a:ext cx="6929640" cy="5000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. Вокзал в Вашингтоне, Д.Бернхейм, П.Андерсон, 1907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30268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6" descr="F:\Documents and Settings\Baijan\Мои документы\Мои рисунки\85477.jpg"/>
          <p:cNvPicPr/>
          <p:nvPr/>
        </p:nvPicPr>
        <p:blipFill>
          <a:blip r:embed="rId1"/>
          <a:stretch/>
        </p:blipFill>
        <p:spPr>
          <a:xfrm>
            <a:off x="2000160" y="1785960"/>
            <a:ext cx="6357960" cy="4476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2. Вокзал в Чикаго, Е.Грехем, П.Андерсон, Р.Пробст, Х.Уайт, 1913-1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5" descr="F:\Documents and Settings\Baijan\Мои документы\Мои рисунки\85479.jpg"/>
          <p:cNvPicPr/>
          <p:nvPr/>
        </p:nvPicPr>
        <p:blipFill>
          <a:blip r:embed="rId1"/>
          <a:stretch/>
        </p:blipFill>
        <p:spPr>
          <a:xfrm>
            <a:off x="2500200" y="1000080"/>
            <a:ext cx="5643720" cy="5857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кзал в Милане, У.Стаккини, 1912-31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5" descr="F:\Documents and Settings\Baijan\Мои документы\Мои рисунки\n2.jpg"/>
          <p:cNvPicPr/>
          <p:nvPr/>
        </p:nvPicPr>
        <p:blipFill>
          <a:blip r:embed="rId1"/>
          <a:stretch/>
        </p:blipFill>
        <p:spPr>
          <a:xfrm>
            <a:off x="1428840" y="35712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356840"/>
            <a:ext cx="830268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14200" y="285768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64960" y="4005360"/>
            <a:ext cx="83026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7" descr="F:\Documents and Settings\Baijan\Мои документы\Мои рисунки\Wilpert_060.jpg"/>
          <p:cNvPicPr/>
          <p:nvPr/>
        </p:nvPicPr>
        <p:blipFill>
          <a:blip r:embed="rId1"/>
          <a:stretch/>
        </p:blipFill>
        <p:spPr>
          <a:xfrm>
            <a:off x="1857240" y="357120"/>
            <a:ext cx="3000600" cy="241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F:\Documents and Settings\Baijan\Мои документы\Мои рисунки\n8.jpg"/>
          <p:cNvPicPr/>
          <p:nvPr/>
        </p:nvPicPr>
        <p:blipFill>
          <a:blip r:embed="rId2"/>
          <a:stretch/>
        </p:blipFill>
        <p:spPr>
          <a:xfrm>
            <a:off x="1928880" y="2857680"/>
            <a:ext cx="6500880" cy="3786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F:\Documents and Settings\Baijan\Мои документы\Мои рисунки\Wilpert_101.jpg"/>
          <p:cNvPicPr/>
          <p:nvPr/>
        </p:nvPicPr>
        <p:blipFill>
          <a:blip r:embed="rId3"/>
          <a:stretch/>
        </p:blipFill>
        <p:spPr>
          <a:xfrm>
            <a:off x="5429160" y="42876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68360" y="1285920"/>
            <a:ext cx="830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 начнем с азов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, с античного стиля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 перейд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 ренессансу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этого изучим самый помпезный вариант классики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- стиль барок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рокко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ампир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 наконец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лассициз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У каждого из этих классических стиле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своя особая судьба, свои потрясающие личности и великолепные образцы искусств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785960" y="42876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зисы лекции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213920"/>
            <a:ext cx="830232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лько вещи, созданные в особом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умиротворенном состоянии, с вложением в них души художника, могут прослужить столетия. И становятся классико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щь, интерьер или картина, написан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или созданные быстро и на продажу, никогда не станут классическими произведениями. Потому что во-первых не тронут ничьей души,а во-вторых мистическим образом долго не сохранятся. Разрушаться времене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 только классика от времени становится все лучше и лучш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14680" y="2152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АНТИЧНЫЙ СТИЛЬ В ИНТЕРЬЕР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6880" y="357120"/>
            <a:ext cx="7286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ка, а именно античный стиль - это и самый легкий, и в тоже время самый сложный из множества существующих на данный момент стилей. Ведь нужно не просто воссоздать некоторый набор отдельных элементов интерьера, а привнести в современность ДУХ и даже частично Образ Жизни людей того времен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588000" y="20811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148360" y="2565360"/>
            <a:ext cx="29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5076720" y="251316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Рисунок 8" descr="http://designinfoline.ru/img/antic.jpg"/>
          <p:cNvPicPr/>
          <p:nvPr/>
        </p:nvPicPr>
        <p:blipFill>
          <a:blip r:embed="rId1"/>
          <a:stretch/>
        </p:blipFill>
        <p:spPr>
          <a:xfrm>
            <a:off x="2000160" y="2786040"/>
            <a:ext cx="6858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708660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чало расцвета великой античной цивилизации приходится на V век до н.э. И только представьте себе, что все население Афинского полиса - главного центра античной культуры - не превышало 200-300 тысяч человек!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современных масштабах это даже не население одного большого город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41964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059280" y="1916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195640" y="191628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979640" y="25131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AKROPOL.AVI" descr=""/>
          <p:cNvPicPr/>
          <p:nvPr/>
        </p:nvPicPr>
        <p:blipFill>
          <a:blip r:embed="rId1"/>
          <a:stretch/>
        </p:blipFill>
        <p:spPr>
          <a:xfrm>
            <a:off x="4500720" y="3408480"/>
            <a:ext cx="4579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867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360" y="187200"/>
            <a:ext cx="83023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Рисунок 6" descr="http://designinfoline.ru/img/antkollage_01.jpg"/>
          <p:cNvPicPr/>
          <p:nvPr/>
        </p:nvPicPr>
        <p:blipFill>
          <a:blip r:embed="rId1"/>
          <a:stretch/>
        </p:blipFill>
        <p:spPr>
          <a:xfrm>
            <a:off x="1500120" y="150012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85880" y="21420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0040" y="5143680"/>
            <a:ext cx="8302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71680" y="3286080"/>
            <a:ext cx="8302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85960" y="22212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imes New Roman"/>
              </a:rPr>
              <a:t>Стиль Ренессанс: из прошлого в настоящее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любить можно лишь то, что знаеш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еонардо да Винч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Рисунок 10" descr="Каминный зал эпохи Возрождение"/>
          <p:cNvPicPr/>
          <p:nvPr/>
        </p:nvPicPr>
        <p:blipFill>
          <a:blip r:embed="rId1"/>
          <a:stretch/>
        </p:blipFill>
        <p:spPr>
          <a:xfrm>
            <a:off x="2714760" y="2071800"/>
            <a:ext cx="5929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ЕНЕССАНС - один из самых значимых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периодов в жизни и искусстве, во многом определивший основные черты нашей современной цивилизации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Исторически этот стиль пришел на смену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готическому стилю в Европу XV-XVI веков Он, как продолжение античного стиля, зародился в Италии, а затем проник и в другие страны Европы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это время произошло ослабление власти и значения папского Рима и одновременное возобновление интереса к античной культуре. Расцвет науки и искусства того времени не мог не отразиться на жизни в целом, и на архитектуре в том числе. Если в средневековье для поднятия престижа знать устраивала многочисленные приемы и турниры, то в эпоху Возрождения престижно становится строить библиотеки, общественные здания, академии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Это такой интересный и важный период жизни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всей нашей планеты, когда произошел довольно резкий скачек в развитии науки, искусства, техники, технологии и, конечно, архитектуры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это время почти одновременно появились такие имен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, как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Леонардо да Винчи, Микелланджело, Рафаэль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и др. Это были не люди, а глыбы, таланты, талантища. Причем они не владели каким либо узкоспециализированным видом искусства. Напротив, они создавали свои шедевры в разных областях, начиная с продумывания идеи, создания чертежей и макетов, и заканчивая руководством стройкой, подбором отделочных материалов и окончательной росписью (если речь шла о здании).</a:t>
            </a:r>
            <a:br>
              <a:rPr sz="18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95280" y="5634000"/>
            <a:ext cx="8302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796000" y="36655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340000" y="6184800"/>
            <a:ext cx="26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44:43Z</dcterms:created>
  <dc:creator> Balykbayev</dc:creator>
  <dc:description/>
  <dc:language>en-US</dc:language>
  <cp:lastModifiedBy>nebom zav</cp:lastModifiedBy>
  <dcterms:modified xsi:type="dcterms:W3CDTF">2015-02-27T14:05:02Z</dcterms:modified>
  <cp:revision>105</cp:revision>
  <dc:subject/>
  <dc:title>Слайд 1</dc:title>
</cp:coreProperties>
</file>