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DC7B-E085-401E-A7D8-7043F49F41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00DD-135F-4B99-B708-C5910C8F1C3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9379-5746-4942-A5ED-F1B4E73351D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2385-0893-47D9-86EF-BA05F807960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2947-33A6-4512-AB06-CE5C93E3BC4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DC5B-9C8E-4792-B241-ED8105466E5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6644-278A-4B5E-B085-936B56C92F8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BD68-BD08-42B3-94C5-880B0754D7C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5EFE-9F05-49A5-AF81-A3ABA65B66A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E5C9-5C63-4AB4-A1E2-89D5B834E62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7C53-AAD0-4D93-A283-47C922935A3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1B53-8D5A-4F1A-9166-EDA301CFE1F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3EE6-2E7A-42A6-BD87-C562BEE3CDE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367D-BA2A-43CB-9EF1-212B38EFEF0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3419-640B-429D-A51B-5F2DD2E547D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1ECF-0CFD-4BA9-82E4-9CF2453F122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E746-F036-42F5-919E-74D141DE177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182C-26A5-47DF-8CE1-0B7CB15AEC4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09BB-E5DA-47F6-AE36-37E7F40B482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7E51-0D83-4D96-A1FF-89F164DABC4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7428-9542-4986-9840-BA3ED1B520F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C5BE-5E8F-4940-BA84-D6F27B4896B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7AE4-AD57-4C5C-B30C-E4AFD909D22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FC4F-1D48-4EC0-9E3B-33778D0661C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2956-B962-4A23-B97B-870F230F0DA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2884-888C-4428-B3FE-2C5D09C0ACB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D8D-413B-44F8-AFCD-4D6CAC61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3FE-8BE8-4984-8CA7-61546BAC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620-6D15-4BD2-A3B1-23168508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DD3-9E9D-4E06-B5A8-5EE7B8C4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CB84-E7FD-4315-A4BD-7042F9DF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B090-44BE-4815-BB00-96DE6230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CD59-8470-43D4-9EA7-50266D1A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724D-7C16-4048-95E3-FF5B608E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1455-084F-4A4C-8053-47A2D57D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0B2B-0436-4BEA-981F-1641D7F1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FF60-711C-4ECB-8522-38B0C750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9FE-6394-43F8-B476-2F71D9BB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3C62-D1A2-43EC-839D-AE82C87C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2961-B0B5-4EE5-B3D7-01DEE083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1696-3840-4EEC-9BF9-7B07D8DB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9064-2C3D-4A55-83DD-84A983E4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542E-FC4B-4D1F-AE4C-B4D517BE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FAF-404F-470F-BC22-4C5F57A0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EBC-4462-4A80-BD1A-BD708F6D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D13-7AAB-4AA5-B379-80217E3A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6EB-B252-498E-A5F6-F1CEB764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E49-9FA1-4EDF-93CF-3F1D07F8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E76-132E-492A-BBF2-A161C3F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4AF-066A-4415-9F6E-AC2DD587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47BF-4758-4719-BA70-793B58FF7E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027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1028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1029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1030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1031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1032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1033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34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35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E6F3-1962-422F-A220-8CB4B3724B6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179280" y="1857240"/>
            <a:ext cx="82803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</a:rPr>
              <a:t>Интерьер в классическом стиле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11280" y="476280"/>
            <a:ext cx="824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Факультет архитектур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201600" y="1428840"/>
            <a:ext cx="6400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Тема лекции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179280" y="4221000"/>
            <a:ext cx="6423120" cy="1871640"/>
            <a:chOff x="179280" y="4221000"/>
            <a:chExt cx="6423120" cy="1871640"/>
          </a:xfrm>
        </p:grpSpPr>
        <p:sp>
          <p:nvSpPr>
            <p:cNvPr id="113" name="Rectangle 13"/>
            <p:cNvSpPr/>
            <p:nvPr/>
          </p:nvSpPr>
          <p:spPr>
            <a:xfrm>
              <a:off x="201600" y="4221000"/>
              <a:ext cx="64008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Дисциплина: «Архитектурный интерьер»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179280" y="4968720"/>
              <a:ext cx="345600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Объем – 1 кредит1 (1/0/0)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Семестр 9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Занятие № </a:t>
              </a:r>
              <a:r>
                <a:rPr b="0" lang="en-US" sz="1800" spc="-1" strike="noStrike">
                  <a:solidFill>
                    <a:srgbClr val="eaeaea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Times New Roman"/>
                </a:rPr>
                <a:t>Преподаватель: ассоц. проф. Балыкбаев Б.Т.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15" name="Рисунок 9" descr="http://designinfoline.ru/img/chateau-chenonceau.jpg"/>
          <p:cNvPicPr/>
          <p:nvPr/>
        </p:nvPicPr>
        <p:blipFill>
          <a:blip r:embed="rId1"/>
          <a:stretch/>
        </p:blipFill>
        <p:spPr>
          <a:xfrm>
            <a:off x="4286160" y="3657600"/>
            <a:ext cx="4857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Главной заботой художников и архитекторов Возрождения были пропорции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, то есть соотношение между размерами частей композиции. Они придавали большое значение математическим вычислениям пропорций, симметрии и асимметрии. В эту эпоху возникло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авило «золотого сечения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», сформулированное Леонардо да Винчи.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менно тогда возникли такие понятия, как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"план", "макет", "проект", "чертеж."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А это, как уже понятно, стало первым шагом к выделению и обособлению профессии архитектор, а затем и дизайнер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24000" y="5634000"/>
            <a:ext cx="8302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Галерея в стиле Ренессанс"/>
          <p:cNvPicPr/>
          <p:nvPr/>
        </p:nvPicPr>
        <p:blipFill>
          <a:blip r:embed="rId1"/>
          <a:stretch/>
        </p:blipFill>
        <p:spPr>
          <a:xfrm>
            <a:off x="1857240" y="1500120"/>
            <a:ext cx="6929640" cy="5357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1785960" y="7920"/>
            <a:ext cx="7358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  <a:ea typeface="Times New Roman"/>
              </a:rPr>
              <a:t>Представляете, какое это было время и какие могучие духом были люди!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  <a:ea typeface="Times New Roman"/>
              </a:rPr>
              <a:t>Может быть, воссоздав для себя частичку их интерьеров</a:t>
            </a:r>
            <a:r>
              <a:rPr b="0" lang="ru-RU" sz="1600" spc="-1" strike="noStrike">
                <a:solidFill>
                  <a:srgbClr val="ffffcc"/>
                </a:solidFill>
                <a:latin typeface="Verdana"/>
                <a:ea typeface="Times New Roman"/>
              </a:rPr>
              <a:t>, мы сможем проникнуться величием их души и совершить хотя бы маленькую часть из того, что смогли совершить эти люди в своей жизни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28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арокко - жемчужина неправильной формы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У каждого человека должны быть Дом и Жилище, которые могли бы служить театром его гостеприимства, Местом для услаждения его самого, Источником удобства в его частной жизни, лучшим и значительнейшим из того, что унаследуют его дети, в общем, Дом - это своего рода отдельное княжество..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эр Генри Уоттон." Основы архитектуры", 162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5857920"/>
            <a:ext cx="8302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Picture 10" descr="Версальский дворец"/>
          <p:cNvPicPr/>
          <p:nvPr/>
        </p:nvPicPr>
        <p:blipFill>
          <a:blip r:embed="rId1"/>
          <a:stretch/>
        </p:blipFill>
        <p:spPr>
          <a:xfrm>
            <a:off x="4572000" y="3214800"/>
            <a:ext cx="4286160" cy="3643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Замок Линдерхофф"/>
          <p:cNvPicPr/>
          <p:nvPr/>
        </p:nvPicPr>
        <p:blipFill>
          <a:blip r:embed="rId2"/>
          <a:stretch/>
        </p:blipFill>
        <p:spPr>
          <a:xfrm>
            <a:off x="0" y="3214800"/>
            <a:ext cx="4357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-71280" y="5759280"/>
            <a:ext cx="8964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000760" y="2071800"/>
            <a:ext cx="181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28880" y="428760"/>
            <a:ext cx="6929280" cy="60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ы никак не сможете обойти своим вниманием этот стиль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если хоть немного слышали о классических интерьерах. Изучая интерьеры дворцов, мы почти наверняка видим элементы этого стиля. Пытаясь воссоздать классику в своем доме, мы волей или неволей должны обратиться к барокко. Потому что именно в эту эпоху зародились не только особые декоративные приемы, но и почти все основные функции современных интерьер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214280" y="10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  <a:ea typeface="Times New Roman"/>
              </a:rPr>
              <a:t>Рококо - комфорт, любезность, прилич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Рисунок 4" descr="http://designinfoline.ru/img/003%20%CF%F0%E8%E5%EC%ED%E0%FF%20%F1%20%E1%FB%F7%E8%EC%20%E3%EB%E0%E7%EE%EC%20%C2%E5%F0%F1%E0%EB%FC.jpg"/>
          <p:cNvPicPr/>
          <p:nvPr/>
        </p:nvPicPr>
        <p:blipFill>
          <a:blip r:embed="rId1"/>
          <a:stretch/>
        </p:blipFill>
        <p:spPr>
          <a:xfrm>
            <a:off x="5857920" y="500040"/>
            <a:ext cx="3286080" cy="63579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400" y="714240"/>
            <a:ext cx="3300480" cy="578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тиль, который является логическим продолжением Барокко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и воплощает собой вершину декораторской мысли. И при всей своей непередаваемой красоте этот стиль не может существовать в отрыве от своего времени. В отрыве от умонастроений аристократии того времени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тротуары и ряд новых морских павильоно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(Нео)классицизм.</a:t>
            </a:r>
            <a:br>
              <a:rPr sz="2800"/>
            </a:b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Если у них нет хлеба - пусть едят пирожные!</a:t>
            </a:r>
            <a:br>
              <a:rPr sz="2800"/>
            </a:b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Мария Антуанетта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327640" y="1484280"/>
            <a:ext cx="3816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79280" y="6237360"/>
            <a:ext cx="89647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Рисунок 5" descr="http://designinfoline.ru/img/empire.jpg"/>
          <p:cNvPicPr/>
          <p:nvPr/>
        </p:nvPicPr>
        <p:blipFill>
          <a:blip r:embed="rId1"/>
          <a:stretch/>
        </p:blipFill>
        <p:spPr>
          <a:xfrm>
            <a:off x="2428920" y="1643040"/>
            <a:ext cx="64054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650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следний большой стиль в череде классических интерьеров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. После него основная масса людей утратили способность видеть красоту в идеальных пропорциях, в гармонии колонн и арок, в сложном декоре стен. Интерьеры стали все больше и больше упрощаться, что естественно сказалось на упрощении нравов и умов..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лассицизм (неоклассицизм) - это эпоха разрушения монархии и время свершения первой революции во Франции, а также создания новой империи Наполеона I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В России это эпоха началась в царствование Екатерины Великой - потрясающей русской царицы, немки по происхождению, которая превратила Россию в великое и богатое государство, а Санкт-Петербург в мировую столицу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-71280" y="5084640"/>
            <a:ext cx="89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0" y="-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50920" y="140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-108000" y="4968720"/>
            <a:ext cx="896472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771640" y="3213000"/>
            <a:ext cx="261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559480" y="2513160"/>
            <a:ext cx="18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1908000" y="5033880"/>
            <a:ext cx="11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1908000" y="4818240"/>
            <a:ext cx="9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4500720" y="5013360"/>
            <a:ext cx="11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6711840" y="4365720"/>
            <a:ext cx="189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12" descr="F:\Documents and Settings\Baijan\Мои документы\Мои рисунки\502.jpg"/>
          <p:cNvPicPr/>
          <p:nvPr/>
        </p:nvPicPr>
        <p:blipFill>
          <a:blip r:embed="rId1"/>
          <a:stretch/>
        </p:blipFill>
        <p:spPr>
          <a:xfrm>
            <a:off x="1523880" y="1200240"/>
            <a:ext cx="60962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F:\Documents and Settings\Baijan\Мои документы\Мои рисунки\1_2001_ok1_3.jpg"/>
          <p:cNvPicPr/>
          <p:nvPr/>
        </p:nvPicPr>
        <p:blipFill>
          <a:blip r:embed="rId1"/>
          <a:stretch/>
        </p:blipFill>
        <p:spPr>
          <a:xfrm>
            <a:off x="1785960" y="0"/>
            <a:ext cx="4286160" cy="3600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F:\Documents and Settings\Baijan\Мои документы\Мои рисунки\1_2001_ok3_3.jpg"/>
          <p:cNvPicPr/>
          <p:nvPr/>
        </p:nvPicPr>
        <p:blipFill>
          <a:blip r:embed="rId2"/>
          <a:stretch/>
        </p:blipFill>
        <p:spPr>
          <a:xfrm>
            <a:off x="6429240" y="0"/>
            <a:ext cx="2481480" cy="357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F:\Documents and Settings\Baijan\Мои документы\Мои рисунки\1_2001_ok5_3.gif"/>
          <p:cNvPicPr/>
          <p:nvPr/>
        </p:nvPicPr>
        <p:blipFill>
          <a:blip r:embed="rId3"/>
          <a:stretch/>
        </p:blipFill>
        <p:spPr>
          <a:xfrm>
            <a:off x="2214720" y="3886200"/>
            <a:ext cx="3333600" cy="2971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F:\Documents and Settings\Baijan\Мои документы\Мои рисунки\1_2001_ok_2_3.jpg"/>
          <p:cNvPicPr/>
          <p:nvPr/>
        </p:nvPicPr>
        <p:blipFill>
          <a:blip r:embed="rId4"/>
          <a:stretch/>
        </p:blipFill>
        <p:spPr>
          <a:xfrm>
            <a:off x="6286680" y="3524400"/>
            <a:ext cx="2600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F:\Documents and Settings\Baijan\Мои документы\Мои рисунки\448px-Statue_Domus_Aurea.jpg"/>
          <p:cNvPicPr/>
          <p:nvPr/>
        </p:nvPicPr>
        <p:blipFill>
          <a:blip r:embed="rId1"/>
          <a:stretch/>
        </p:blipFill>
        <p:spPr>
          <a:xfrm>
            <a:off x="2438280" y="0"/>
            <a:ext cx="53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1280" y="1356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О духе классического жилья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714320" y="214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опросы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2565360"/>
            <a:ext cx="77724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71680" y="2714760"/>
            <a:ext cx="792936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очему классические интерьеры нельзя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сделать быстро и плох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11280" y="2071800"/>
            <a:ext cx="8175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О связи прошлого с будущи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604880" y="318960"/>
            <a:ext cx="410544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5" descr="F:\Documents and Settings\Baijan\Мои документы\Мои рисунки\499.jpg"/>
          <p:cNvPicPr/>
          <p:nvPr/>
        </p:nvPicPr>
        <p:blipFill>
          <a:blip r:embed="rId1"/>
          <a:stretch/>
        </p:blipFill>
        <p:spPr>
          <a:xfrm>
            <a:off x="1523880" y="1200240"/>
            <a:ext cx="68342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F:\Documents and Settings\Baijan\Мои документы\Мои рисунки\646px-Catacombs_S__Sebastiano_Rome3.jpg"/>
          <p:cNvPicPr/>
          <p:nvPr/>
        </p:nvPicPr>
        <p:blipFill>
          <a:blip r:embed="rId1"/>
          <a:stretch/>
        </p:blipFill>
        <p:spPr>
          <a:xfrm>
            <a:off x="2143080" y="428760"/>
            <a:ext cx="615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57120" y="2571840"/>
            <a:ext cx="6372000" cy="29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Picture 5" descr="F:\Documents and Settings\Baijan\Мои документы\Мои рисунки\85476.jpg"/>
          <p:cNvPicPr/>
          <p:nvPr/>
        </p:nvPicPr>
        <p:blipFill>
          <a:blip r:embed="rId1"/>
          <a:stretch/>
        </p:blipFill>
        <p:spPr>
          <a:xfrm>
            <a:off x="1857240" y="1357200"/>
            <a:ext cx="6929640" cy="5000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856880" y="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1. Вокзал в Вашингтоне, Д.Бернхейм, П.Андерсон, 1907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30268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987640" y="187200"/>
            <a:ext cx="5999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Picture 6" descr="F:\Documents and Settings\Baijan\Мои документы\Мои рисунки\85477.jpg"/>
          <p:cNvPicPr/>
          <p:nvPr/>
        </p:nvPicPr>
        <p:blipFill>
          <a:blip r:embed="rId1"/>
          <a:stretch/>
        </p:blipFill>
        <p:spPr>
          <a:xfrm>
            <a:off x="2000160" y="1785960"/>
            <a:ext cx="6357960" cy="44766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856880" y="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2. Вокзал в Чикаго, Е.Грехем, П.Андерсон, Р.Пробст, Х.Уайт, 1913-15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2987640" y="187200"/>
            <a:ext cx="5999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Picture 5" descr="F:\Documents and Settings\Baijan\Мои документы\Мои рисунки\85479.jpg"/>
          <p:cNvPicPr/>
          <p:nvPr/>
        </p:nvPicPr>
        <p:blipFill>
          <a:blip r:embed="rId1"/>
          <a:stretch/>
        </p:blipFill>
        <p:spPr>
          <a:xfrm>
            <a:off x="2500200" y="1000080"/>
            <a:ext cx="5643720" cy="5857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56880" y="0"/>
            <a:ext cx="7286760" cy="13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окзал в Милане, У.Стаккини, 1912-31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987640" y="187200"/>
            <a:ext cx="5999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Picture 5" descr="F:\Documents and Settings\Baijan\Мои документы\Мои рисунки\n2.jpg"/>
          <p:cNvPicPr/>
          <p:nvPr/>
        </p:nvPicPr>
        <p:blipFill>
          <a:blip r:embed="rId1"/>
          <a:stretch/>
        </p:blipFill>
        <p:spPr>
          <a:xfrm>
            <a:off x="1428840" y="35712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90040" y="1356840"/>
            <a:ext cx="8302680" cy="53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14200" y="2857680"/>
            <a:ext cx="830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64960" y="4005360"/>
            <a:ext cx="830268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7" descr="F:\Documents and Settings\Baijan\Мои документы\Мои рисунки\Wilpert_060.jpg"/>
          <p:cNvPicPr/>
          <p:nvPr/>
        </p:nvPicPr>
        <p:blipFill>
          <a:blip r:embed="rId1"/>
          <a:stretch/>
        </p:blipFill>
        <p:spPr>
          <a:xfrm>
            <a:off x="1857240" y="357120"/>
            <a:ext cx="3000600" cy="2413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F:\Documents and Settings\Baijan\Мои документы\Мои рисунки\n8.jpg"/>
          <p:cNvPicPr/>
          <p:nvPr/>
        </p:nvPicPr>
        <p:blipFill>
          <a:blip r:embed="rId2"/>
          <a:stretch/>
        </p:blipFill>
        <p:spPr>
          <a:xfrm>
            <a:off x="1928880" y="2857680"/>
            <a:ext cx="6500880" cy="3786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F:\Documents and Settings\Baijan\Мои документы\Мои рисунки\Wilpert_101.jpg"/>
          <p:cNvPicPr/>
          <p:nvPr/>
        </p:nvPicPr>
        <p:blipFill>
          <a:blip r:embed="rId3"/>
          <a:stretch/>
        </p:blipFill>
        <p:spPr>
          <a:xfrm>
            <a:off x="5429160" y="428760"/>
            <a:ext cx="3000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68360" y="1285920"/>
            <a:ext cx="8302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ы начнем с азов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, с античного стиля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тем перейдем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к ренессансу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этого изучим самый помпезный вариант классики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- стиль барокко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тем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роккоко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ампир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 наконец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классициз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У каждого из этих классических стиле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своя особая судьба, свои потрясающие личности и великолепные образцы искусств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785960" y="42876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езисы лекции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360" y="1213920"/>
            <a:ext cx="8302320" cy="53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лько вещи, созданные в особом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умиротворенном состоянии, с вложением в них души художника, могут прослужить столетия. И становятся классико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ещь, интерьер или картина, написанные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или созданные быстро и на продажу, никогда не станут классическими произведениями. Потому что во-первых не тронут ничьей души,а во-вторых мистическим образом долго не сохранятся. Разрушаться времене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И только классика от времени становится все лучше и лучш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14680" y="21528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  <a:ea typeface="Times New Roman"/>
              </a:rPr>
              <a:t>АНТИЧНЫЙ СТИЛЬ В ИНТЕРЬЕР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56880" y="357120"/>
            <a:ext cx="7286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лассика, а именно античный стиль - это и самый легкий, и в тоже время самый сложный из множества существующих на данный момент стилей. Ведь нужно не просто воссоздать некоторый набор отдельных элементов интерьера, а привнести в современность ДУХ и даже частично Образ Жизни людей того времен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588000" y="208116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5148360" y="2565360"/>
            <a:ext cx="290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5076720" y="251316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Рисунок 8" descr="http://designinfoline.ru/img/antic.jpg"/>
          <p:cNvPicPr/>
          <p:nvPr/>
        </p:nvPicPr>
        <p:blipFill>
          <a:blip r:embed="rId1"/>
          <a:stretch/>
        </p:blipFill>
        <p:spPr>
          <a:xfrm>
            <a:off x="2000160" y="2786040"/>
            <a:ext cx="6858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7086600" cy="32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ачало расцвета великой античной цивилизации приходится на V век до н.э. И только представьте себе, что все население Афинского полиса - главного центра античной культуры - не превышало 200-300 тысяч человек!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 современных масштабах это даже не население одного большого города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419640" y="263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059280" y="1916280"/>
            <a:ext cx="14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2195640" y="1916280"/>
            <a:ext cx="26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1979640" y="25131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AKROPOL.AVI" descr=""/>
          <p:cNvPicPr/>
          <p:nvPr/>
        </p:nvPicPr>
        <p:blipFill>
          <a:blip r:embed="rId1"/>
          <a:stretch/>
        </p:blipFill>
        <p:spPr>
          <a:xfrm>
            <a:off x="4500720" y="3408480"/>
            <a:ext cx="45799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50867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360" y="187200"/>
            <a:ext cx="83023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Рисунок 6" descr="http://designinfoline.ru/img/antkollage_01.jpg"/>
          <p:cNvPicPr/>
          <p:nvPr/>
        </p:nvPicPr>
        <p:blipFill>
          <a:blip r:embed="rId1"/>
          <a:stretch/>
        </p:blipFill>
        <p:spPr>
          <a:xfrm>
            <a:off x="1500120" y="1500120"/>
            <a:ext cx="7643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785880" y="214200"/>
            <a:ext cx="82152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00040" y="5143680"/>
            <a:ext cx="83026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571680" y="3286080"/>
            <a:ext cx="8302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85960" y="22212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  <a:ea typeface="Times New Roman"/>
              </a:rPr>
              <a:t>Стиль Ренессанс: из прошлого в настоящее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любить можно лишь то, что знаешь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еонардо да Винч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Рисунок 10" descr="Каминный зал эпохи Возрождение"/>
          <p:cNvPicPr/>
          <p:nvPr/>
        </p:nvPicPr>
        <p:blipFill>
          <a:blip r:embed="rId1"/>
          <a:stretch/>
        </p:blipFill>
        <p:spPr>
          <a:xfrm>
            <a:off x="2714760" y="2071800"/>
            <a:ext cx="5929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РЕНЕССАНС - один из самых значимых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периодов в жизни и искусстве, во многом определивший основные черты нашей современной цивилизации.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Исторически этот стиль пришел на смену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готическому стилю в Европу XV-XVI веков Он, как продолжение античного стиля, зародился в Италии, а затем проник и в другие страны Европы.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 это время произошло ослабление власти и значения папского Рима и одновременное возобновление интереса к античной культуре. Расцвет науки и искусства того времени не мог не отразиться на жизни в целом, и на архитектуре в том числе. Если в средневековье для поднятия престижа знать устраивала многочисленные приемы и турниры, то в эпоху Возрождения престижно становится строить библиотеки, общественные здания, академии.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Это такой интересный и важный период жизни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всей нашей планеты, когда произошел довольно резкий скачек в развитии науки, искусства, техники, технологии и, конечно, архитектуры.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это время почти одновременно появились такие имена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, как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 Леонардо да Винчи, Микелланджело, Рафаэль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и др. Это были не люди, а глыбы, таланты, талантища. Причем они не владели каким либо узкоспециализированным видом искусства. Напротив, они создавали свои шедевры в разных областях, начиная с продумывания идеи, создания чертежей и макетов, и заканчивая руководством стройкой, подбором отделочных материалов и окончательной росписью (если речь шла о здании).</a:t>
            </a:r>
            <a:br>
              <a:rPr sz="1800"/>
            </a:b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95280" y="5634000"/>
            <a:ext cx="8302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796000" y="366552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340000" y="6184800"/>
            <a:ext cx="26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6:44:43Z</dcterms:created>
  <dc:creator> Balykbayev</dc:creator>
  <dc:description/>
  <dc:language>en-US</dc:language>
  <cp:lastModifiedBy>nebom zav</cp:lastModifiedBy>
  <dcterms:modified xsi:type="dcterms:W3CDTF">2015-02-27T14:05:02Z</dcterms:modified>
  <cp:revision>105</cp:revision>
  <dc:subject/>
  <dc:title>Слайд 1</dc:title>
</cp:coreProperties>
</file>