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0FCF-631A-44D8-9D3D-989F47C84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E779-2CC7-4356-8247-72F1A7FFD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8E83-B5FE-43D4-9283-52977F8A4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BB9-04D7-4914-AD03-51DB79925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2F14-B5EC-4A8E-9299-330204FFB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D15-88C0-45B8-B12C-1A2A2A72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941-B3AA-41D8-BBC9-F568465E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B92-3307-422F-AC7C-511B7CCF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817-401D-47E3-9B60-54D9A7B0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E4A8-7F36-44AA-B4C2-24FE8329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6495-6F32-45E4-9EF9-8BC370D3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274A-B51E-48E0-82A1-30ED4F18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8F15-2C50-4720-BD70-B7434CC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D36C-626C-4799-AA92-0ECB2753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7089-BAF6-4707-95AA-80053D8D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B802-7171-42B2-A157-2917DA11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3D4-CF97-4007-A797-04D4EAC7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3B9F-70B5-4BF3-A503-9ED71409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2064-E804-4D72-8473-1E712A3C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0881-EBEA-4EE4-80CE-8EE88680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81A3-8407-442C-9638-EA60A7F3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FFA8-1280-4315-97CB-733DAAF1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43AC-DF20-4126-8B89-F81F8086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4130-1884-44D9-9B31-EB21C787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8799-36A3-4F8B-B939-72CB56AF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2DAD-79C5-44D9-B5B7-89855E45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1A49-6A8E-4445-8F56-6FCBABF3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408-CA8F-492F-80E0-8DA9D43C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D9070-E0CB-4532-A6EE-9772D441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2CE9-C69E-468A-9C92-A060230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0D4AE-7794-4F01-BE92-A6EBE275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868B-1E68-42C2-B9BD-4B7E20F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90CD-4664-4A11-8800-3501DF54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90CB-BC86-44F4-A5C5-0874D5FF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9EF1-8C24-4ABD-957B-8F6F6E55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77C5B-4FFE-4EB9-AAA3-0C4E997A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1319-36AA-43C1-B411-819A537C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3E98-4EAA-4383-BA68-DAF499F5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124-93B6-45FB-9225-AC3093B1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820E-4769-45DF-BAF4-E5043EDC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AE50-9D45-45AF-9FAE-519793F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668F-80E8-4F3E-8B95-C1D4186B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9236-1CCF-4ED2-87BE-647818F7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BA65-94A5-43DA-9E42-BCDE60B6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56E69-698B-4930-96AD-9C38928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F1BE-B468-4C51-A07A-E873AA5C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998B-D0EC-44E0-BF19-22680BBE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03BC-95E5-4316-AB0C-86458B38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4E81-87EF-480C-875F-265526F4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3F2-04C7-4676-9836-CD43E364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AE71F-6757-4A2F-9717-D0154DA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61271-4741-4381-AD57-6D74E43F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0E1F-23E5-411A-9A3A-FE4CF893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0642A-74AB-4D6F-8407-2E48EF3E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0BF5-D3EF-4074-AD58-20412671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2965F-5ED5-43C0-93CD-35F40F25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2D5E-14FE-44AF-8590-B3C2CC6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921C4-3294-4632-8654-31E8105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269E7-6A07-4759-85B2-AE048909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A226B-1DDE-417F-A751-7F10C824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AB5-1261-4C9C-BEB1-AEBC6270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17F3F-E0E5-4578-A619-75050C79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3DA8F-A88F-4FFA-A84F-4BB8E9A0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C1539-4F77-4643-9C58-94DC9BBF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ABB1E-0C8B-4E59-9D5D-92D60DD5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14DF5-7F42-4DE6-AAD0-E703B98E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6CA59-8B4D-480E-A56B-A6DA762D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B07BC-553F-4EE5-A7AA-EA5E8709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61C42-92DB-4430-BBB6-C9A230B3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9CD2-01C5-4F5B-B680-05300F2A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10B68-3E44-4453-ADCE-282C569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EF7-5775-41F6-BF17-DD9E7F68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05A82-B2C1-4151-99EE-15BF1C70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EF3D-DE37-4BA2-856D-4593142D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B31D-5194-44FD-B3B0-7E0A0921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B30-6DD1-4E80-961A-B8274272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10B-F76A-41E2-9E19-6868CCF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07F6-8233-4657-B822-1701BA1BEA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39AA-C8A5-450E-B5B1-7004FAC153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1DE1-E772-418B-B961-F1475FFC68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6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7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8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D5EE-E24F-464A-BE61-1CE434F026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4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2697-5222-4D2E-A16F-113CD01E0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2C57-971D-4C7C-9810-8FFECAE4EC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зрастная психолог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ыркова С. 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895480" y="5867280"/>
            <a:ext cx="6032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Ф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акторы психического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Биологический фактор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ет прежде всего наследственность: наследуются темперамент и задатки способностей. Биологический фактор включает в себя особенности протекания внутриутробного развития и сам процесс рожд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Ф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акторы психического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редовой фактор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лияет на психическое развитие опосредованно. Выделяют природную среду и среду социальну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А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третий фактор психического разви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7f0000"/>
                </a:solidFill>
                <a:latin typeface="Times New Roman"/>
                <a:ea typeface="Calibri"/>
              </a:rPr>
              <a:t>Каждый психологический возраст характеризуется показа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ые находятся между собой в сложных отношениях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1) социальная ситуация разви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2) ведущая деятельнос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3) основные новообразов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лькони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циальная ситуация развития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Это система отношений, в которую ребенок вступает в обществе, то, как он ориентируется в системе общественных отношений, в какие области общественной 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жизни он входи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. С. Выготски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440" y="1218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a27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723"/>
                </a:solidFill>
                <a:latin typeface="Georgia"/>
              </a:rPr>
              <a:t>две единицы анализа социальной ситуации развития —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Georgia"/>
              </a:rPr>
              <a:t>деятельность и переживание</a:t>
            </a:r>
            <a:r>
              <a:rPr b="1" lang="ru-RU" sz="2400" spc="-1" strike="noStrike">
                <a:solidFill>
                  <a:srgbClr val="2a2723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723"/>
                </a:solidFill>
                <a:latin typeface="Georgia"/>
              </a:rPr>
              <a:t>Легко наблюдать внешнюю активность ребенка, его деятельность. Но существует и внутренний план, план переживаний. Одну и ту же ситуацию в семье по-разному будут переживать разные дети, даже близнецы. В результате на развитии одного конфликт между родителями скажется слабо, а у другого вызовет невроз и прочие отличия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. Б. Элькони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62120" y="12193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000"/>
                </a:solidFill>
                <a:latin typeface="Times New Roman"/>
                <a:ea typeface="Calibri"/>
              </a:rPr>
              <a:t>Ведущая деятельность </a:t>
            </a:r>
            <a:r>
              <a:rPr b="1" lang="ru-RU" sz="2400" spc="-1" strike="noStrike">
                <a:solidFill>
                  <a:srgbClr val="7f0000"/>
                </a:solidFill>
                <a:latin typeface="Times New Roman"/>
                <a:ea typeface="Calibri"/>
              </a:rPr>
              <a:t>- это главная деятельность по её значению для психического развити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внутри неё возникают другие, новые виды деятельности (в игровой - элементы учебной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в ведущей деятельности формируются или перестраиваются психические процесс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 ведущей деятельности завися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аемые в данный период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личности ребё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новные новообразов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212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психические и социальные изменения , возникающие на данной ступени развития и определяющие 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сознание ребенка , его отношение к среде , внутреннюю и внешнюю жизнь , ход развития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в данный период 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обобщенный результат этих изменений , всего психического развития ребенка в соответствующий период , который 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становится исходным для формирования психических процессов и 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личности ребенка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следующего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возраста (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Выготский Л . С , 1984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Comic Sans MS"/>
              </a:rPr>
              <a:t>А. В. Петровски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каждого возрастного периода выделяет три фазы вхождения в </a:t>
            </a:r>
            <a:r>
              <a:rPr b="0" lang="ru-RU" sz="3200" spc="-1" strike="noStrike" u="sng">
                <a:solidFill>
                  <a:srgbClr val="005426"/>
                </a:solidFill>
                <a:uFillTx/>
                <a:latin typeface="Comic Sans MS"/>
              </a:rPr>
              <a:t>референтную общ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000"/>
                </a:solidFill>
                <a:latin typeface="Comic Sans MS"/>
              </a:rPr>
              <a:t>адаптац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000"/>
                </a:solidFill>
                <a:latin typeface="Comic Sans MS"/>
              </a:rPr>
              <a:t>индивидуализация (автономи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000"/>
                </a:solidFill>
                <a:latin typeface="Comic Sans MS"/>
              </a:rPr>
              <a:t>интеграц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торых происходят развитие и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стройка структуры лич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0000"/>
                </a:solidFill>
                <a:latin typeface="Comic Sans MS"/>
              </a:rPr>
              <a:t>Э.Эрикс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144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На каждой стадии развития психики ребёнок приобретает определённое личностное новообразование, которое фиксируется в структуре личности и сохраняется в последующие периоды жизни. В каждом личностном качестве заключено глубинное отношение к миру и самому себе. Это отношение может быть и позитивным, и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негативны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апы развития психики по Эриксо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Орально-сенсорная. Соответствует оральной стадии классического психоанализа. Возраст: первый год жизни. Задача этапа: базисное доверие против базисного недоверия. Ценные качества, приобретаемые на этом этапе: энергия и надеж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пень доверия младенца к миру зависит от заботы, проявляемой к нему. Нормальное развитие происходит, когда его потребности быстро удовлетворяются, он не испытывает долгого недомогания, его баюкают и ласкают, с ним играют и разговаривают. Поведение матери уверенно и предсказуемо. В таком случае вырабатывается доверие к миру, в который он пришел. Если он не получает должного ухода – вырабатывается недоверие, боязливость и подозритель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5426"/>
                </a:solidFill>
                <a:latin typeface="Comic Sans MS"/>
              </a:rPr>
              <a:t>Возра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чественно специфическая ступень онтогенетического развития человека. Каждый возраст в человеческой жизни имеет определенны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орматив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ри помощи которых можно оценить адекватность развития индивида и которые касаются психофизического, интеллектуального, эмоционального и личностного развития. Эти нормативы обозначаются также как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задачи возрастного разви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Мышечно-анальная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падает с анальной стадией фрейдизма. Возраст – второй-третий годы жизни. Задача этапа: автономия против стыда и сомнения. Ценные качества, приобретаемые на этом этапе: самоконтроль и сила во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этом этапе на первый план выходит развитие самостоятельности на основе моторных и психических способностей. Ребенок осваивает различные движения. Если родители предоставляют ребенку делать самому то, что он может, у него вырабатывается ощущение, что он владеет своими мышцами, своими побуждениями, самим собой и, в значительной мере, средой. Появляется самостоятельность. Исход этой стадии зависит от соотношения сотрудничества и своеволия, свободы самовыражения и ее подавления. Из чувства самоконтроля, как свободы распоряжаться собой без утраты самоуважения, берет начало прочное чувство доброжелательности, готовности 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ю и гордости своими достижениями, чувст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ственного достоинства. Из ощущения утра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боды распоряжаться собой и ощущения чужог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контроля происходит устойчивая склонность к сомнению и стыд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Локомоторно-генитальная. Стадия инфантильной генита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282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ет фаллической стадии психоанализа. Возраст – дошкольный, 4–5 лет. Задача этапа: инициатива (предприимчивость) против чувства вины. Ценные качества, приобретаемые на этом этапе: направление и целеустремлен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ачалу этой стадии ребенок уже приобрел множество физических навыков, начинает сам придумывать себе занятия, а не просто отвечать на действия и подражать им. Проявляет изобретательность в речи, способность фантазиро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того, как реагируют взрослые на затеи ребенка, во многом зависит перевес качеств в характере. Дети, которым предоставлена инициатива в выборе деятельности (бегать, бороться, возиться, кататься на велосипеде, санках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ьках), вырабатыва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имчивость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епляет е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ность родителей отвечать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теллектуаль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имчивость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мешать фантазировать и затевать иг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Локомоторно-генитальная. Стадия инфантильной генита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Прямоугольник 3"/>
          <p:cNvSpPr/>
          <p:nvPr/>
        </p:nvSpPr>
        <p:spPr>
          <a:xfrm>
            <a:off x="762120" y="612720"/>
            <a:ext cx="7696080" cy="58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этой стадии происходит самое важное по последствиям разделение между потенциальным триумфом человека и потенциальным тотальным разрушением. Именно здесь ребенок навсегда становится разделившимся внутри себя: на детский набор, сохраняющий изобилие потенциалов роста, и родительский набор, поддерживающий и усиливающий самоконтроль, самоуправление и самонаказание. Развивается чувство морально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ственн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. Латентная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ует латентной фазе классического психоанализа. Возраст – 6—11 лет. Задача этапа: трудолюбие (умелость) против чувства неполноценности. Ценные качества, приобретаемые на этом этапе: систематичность и компетент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ь и ревность находятся на этой стадии в скрытом состоянии, о чем и говорит ее название – латентная. Ребенок проявляет способность к дедукции, организованным играм, регламентированным занятиям.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нтерес к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ому, как устроены вещи, как их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способить, освоить. В эти годы он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поминает Робинзона Крузо и часто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нтересуется его жизнь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. Латентная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детей поощряют мастерить, строить шалаши и авиамодели, варить, готовить и рукодельничать, когда им разрешают довести начатое дело до конца, хвалят за результаты, тогда у ребенка вырабатывается умелость, способности к техническому творчеств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родители видят в трудовой деятельности ребенка одно «баловство» и «пачкотню», это способствует выработке у него чувства неполноценности. Опасность этой стадии – чувство неадекватности и неполноцен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. Подростковый возраст и ранняя юност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5228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ческий психоанализ отмечает на этой стадии проблему «любви и ревности» к собственным родителям. Успешное решение зависит от того, найдет ли человек предмет любви в собственном поколении. Это продолжение латентной стадии по Фрейду. Возраст – 12–18 лет. Задача этапа: идентичность против смешения ролей. Ценные качества, приобретаемые на этом этапе: </a:t>
            </a:r>
            <a:r>
              <a:rPr b="1" lang="ru-RU" sz="2000" spc="-1" strike="noStrike">
                <a:solidFill>
                  <a:srgbClr val="005426"/>
                </a:solidFill>
                <a:latin typeface="Arial"/>
              </a:rPr>
              <a:t>посвящение и вер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е затруднение на этой стадии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путанность идентификации, неспособность опознать свое «Я»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росток созревает физиологически и психически, у него развиваются новые взгляды на вещи, новый подход к жизни, интерес к мыслям других людей, к тому, что они сами о себе думаю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ияние родителей на этой стадии – косвенное. Если подросток благодаря родителя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же вырабо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верие, самостоятельность, предприимчивость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лость, 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шансы на идентификацию, т. е. на осознание собственной индивидуальности, значительно увеличиваю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6. Ранняя взросл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7621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итальная стадия по Фрейду. Возраст: период ухаживания и ранние годы семейной жизни, от конца юности до начала среднего возраста. Здесь и далее Эриксон уже не называет возрастные границы. Задача этапа: близость против изоляции. Ценные качества, приобретаемые на этом этапе: аффилиация и любов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ачалу этой стадии человек уже опознал свое «Я» и включился в трудовую деятель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му важна близость – не только физическая, но и способность заботиться о другом человеке, делиться с ним всем существенным без боязни потерять при этом себя. Новоиспеченный взрослый готов проявлять нравственную силу и в интимных, и в товарищеских взаимоотношениях, оставаясь верным, даже 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ребуются значительные жертвы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ромиссы. Проявления этой стадии – 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язательно сексуальное влечение, но и дружб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между однополчанам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образец близости в широком смысл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пасность стадии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нняя взросл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99072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гание контактов, которые обязывают к близости. Избегание опыта близости из-за страха утратить Эго приводит к чувству изоляции и последующему самопоглощению. Если ни в браке, ни в дружбе он не достигает близости, его ожидает одиночество, ему не с кем разделить свою жизнь и не о ком заботитьс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асность этой стадии состоит в том, что и интимные, и соперничающие, и враждебные отношения человек испытывает к одним и тем же людям. Остальные ему безразличны. И, только научившись отличать схватку соперников от сексуального объятия, человек осваивает этическое чувство – отличительный признак взрослого человека. Только теперь проявляется истинная генитальность. Ее нельзя считать чисто сексуальной задачей. Э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дин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ов подбора партнер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трудничества и сопернич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7. Взрослость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у и последующую стадию классический психоанализ не рассматривае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Возраст: зрелый. Задача этапа: генеративность против стагнации. Ценные качества, приобретаемые на этом этапе: производство и забо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 времени наступления этой стадии человек уже прочно связал себя с определенным родом занятий, а его дети уже стали подрост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ля этого этапа развития характерна общечеловечность – способность интересоваться судьбами людей за пределами семейного круга, задумываться над жизнью грядущих поколений, формами будущего общества и устройством будущего мира. Для этого не обязательно иметь собственных детей, важно активно заботиться о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лодежи и о том, чтобы в будущем людям легч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илось и работало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асность стадии взросл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, у кого чувство сопричастности человечеству не выработалось, сосредоточиваются на самих себе, и их главной заботой становится удовлетворение своих потребностей, собственный комфорт, самопоглощен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енеративность, центральный момент этой стадии, – это заинтересованность в устройстве жизни и наставлении нового поколения, хотя существуют отдельные лица, которые из-за жизненных неудач или особой одаренности в других областях не направляют этот интерес на свое потомство. Генеративность включает в себя продуктивность и креативность, но эти понятия не могут его заменить. Генеративность – самая важная стадия как психосексуального, так и психосоциального развит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5426"/>
                </a:solidFill>
                <a:latin typeface="Comic Sans MS"/>
              </a:rPr>
              <a:t>Возрастная психолог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изучает общие законы психического развития человека, этапы и психические особенности каждого возраста, а также индивидуальные возрастные особ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. Зрелос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раст: пенсионный. Задача этапа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остность против отчаян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нные качества, приобретаемые на этом этапе: самоотречение и мудрость. Основная работа в жизни закончилась, настало время размышлений и забав с внуками. Ощущение цельности, осмысленности жизни возникает у того, кто, оглядываясь на прожитое, ощущает удовлетворение. Тот, кому прожитая жизнь представляется цепью упущенных возможностей и досадных промахов, осознает, что начинать все сначала уже поздно и упущенного не вернуть. Такого человека охватывает отчаяние при мысли о том, как могла бы сложиться, но не сложилась его жизнь. Отсутствие или утрата накопленной целостности выражается в страхе смерти: она не воспринимается как естественное и неизбежное завершение жизненного цикла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чая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ж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нание того, что осталось мало времен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опытаться начать новую жизнь и испыт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ые пути к целост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ериоды развития ребенка по Л.С. Выготско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80880" y="1219320"/>
          <a:ext cx="8077320" cy="5638680"/>
        </p:xfrm>
        <a:graphic>
          <a:graphicData uri="http://schemas.openxmlformats.org/drawingml/2006/table">
            <a:tbl>
              <a:tblPr/>
              <a:tblGrid>
                <a:gridCol w="2127240"/>
                <a:gridCol w="2587680"/>
                <a:gridCol w="3362400"/>
              </a:tblGrid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табильный 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тический пери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–2 ме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новорожд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мес. – 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ладенчески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1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–3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ннее де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3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–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школьное де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–13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Школьны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13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–1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убертатны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1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Rectangle 4"/>
          <p:cNvSpPr/>
          <p:nvPr/>
        </p:nvSpPr>
        <p:spPr>
          <a:xfrm>
            <a:off x="1521000" y="282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42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Кратковременная зрительная фиксация и прослеживание; слуховое сосредоточение; прекращение или изменение характера плача как реакция на голос взросло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Слежение за движущейся в горизонтальной плоскости игрушкой; слуховое сосредоточ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Плавно следит за игрушкой во всех направлениях; поворот головы и глаз к источнику звука; направляет руку к объект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2193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Тянется к игрушке; рассматривает свои руки; локализует звук в пространств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Переводит взгляд с предмета на предмет; тянется к игрушке и захватывает ее, чаще двумя руками, тянет руку и игрушку в рот; адекватная реакция на интонацию, на голос матери беспокоится или оживляе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 Зрительный контроль движений рук; захватывает игрушку с любой стороны; держит в каждой руке по предмету; поворачивается на  звук, если внимание его не отвлечено игрушкой, взрослым (активное внимание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620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533600" y="0"/>
            <a:ext cx="68482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. Захват игрушки сопровождается генерализованными активными движениями; перекладывает предмет из руки в руку; похлопывает рукой по игрушке; узнает голоса близк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Отталкивание предмета, кидание, стучит предметом о предмет, манипулирует двумя-тремя предметами; различает лица людей, знает свое и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9. Отвечает действием на словесные инструкции; ищет спрятанную игрушку; берет мелкие предметы двумя пальц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0. Подражательные движения рук — «ладушки», «до свидания»; вкладывает пальцы в отверстие под контролем зрения; показывает части тела другого человека; захватывает игрушки пальц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критерии возрастной классификаци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яются прежде всего конкретно-историческими, социально-экономическим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условиями воспитания и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которые соотносятся с разными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видами дея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33520" y="12193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. Выбрасывает игрушки из кровати, вкладывает пальцы в отверстия на ощупь; подражательные движения — перелистывание страниц, запуск машинки; показывает части своего те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Вкладывание одного предмета в другой; открывает коробку, ящик; узнавание картинок; пользуется ложкой и расческой по назначен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же к 3—4 месяцам зрительные и слуховые способности младенцев почти не отличаются от таковых у взрослых люд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гативные результаты 1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5960" y="10663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арактерные изменения повед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 стороны ребенк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сокращенность и ослабленность сигналов, меньшая отзывчивость на социальное поведение матери, сниженная инициативность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 стороны матер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меньшая чувствительность к сигналам ребенка, доминирование, дефицит вовлеченности в общение, эмоциональная отстраненность) с высокой вероятностью могут привести к нарушениям взаимодействия в системе «мать — младенец», отклонениям в формировании взаимной привязанности, риску отставания в развит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0000"/>
                </a:solidFill>
                <a:latin typeface="Comic Sans MS"/>
              </a:rPr>
              <a:t>Каждый психологический возраст характеризуе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3200" spc="-1" strike="noStrike">
                <a:solidFill>
                  <a:srgbClr val="005426"/>
                </a:solidFill>
                <a:latin typeface="Comic Sans MS"/>
              </a:rPr>
              <a:t>социальной ситуацией развития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своеобразие взаимосвязи внешней среды и внутреннего мира ребёнк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3200" spc="-1" strike="noStrike">
                <a:solidFill>
                  <a:srgbClr val="005426"/>
                </a:solidFill>
                <a:latin typeface="Comic Sans MS"/>
              </a:rPr>
              <a:t>возрастными новообразованиями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результаты развития и одновременно предпосылки дальнейшего развития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426"/>
                </a:solidFill>
                <a:latin typeface="Comic Sans MS"/>
              </a:rPr>
              <a:t>Возникшие в данный период новообразования изменяют социальную ситуацию развития, ребёнок начинает требовать другой системы отношений со взрослыми, по-иному смотрит на ми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2 типа возрастных периодов, сменяющих друг др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стабильное (развитие совершается внутри социальной ситуации медленно, эволюционно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критическое (развитие совершается бурно и стремительн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изисы сочетают в себе разрушительные и созидательны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нденции - это норм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тогенез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ериодизация (по Л.С. Выготскому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947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включает в себя следующие стадии развития психик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новорожден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младенчество (2мес - 1год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1 год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раннее детство (1-3 год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3 л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дошкольный возраст (3-7 л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7 л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школьный возраст (8-12л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13 л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пубертатный возраст (14-17л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17 л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оакторы развития псих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8" name="Объект 4" descr=""/>
          <p:cNvPicPr/>
          <p:nvPr/>
        </p:nvPicPr>
        <p:blipFill>
          <a:blip r:embed="rId1"/>
          <a:stretch/>
        </p:blipFill>
        <p:spPr>
          <a:xfrm>
            <a:off x="689040" y="1828800"/>
            <a:ext cx="7692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4:46:37Z</dcterms:created>
  <dc:creator>Олег Смирнов</dc:creator>
  <dc:description/>
  <dc:language>en-US</dc:language>
  <cp:lastModifiedBy>Светлана Ныркова</cp:lastModifiedBy>
  <dcterms:modified xsi:type="dcterms:W3CDTF">2016-02-17T09:58:04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