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B48D-9E7A-40EC-B14F-CD0C23FF3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BD3F-D04F-4698-8BC0-803B4212B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C9A7-D100-4F45-B26A-82EE3500B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2472-584D-4D6A-91A0-2E5BFF7F6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A5D-413D-4ACB-AF64-F0C998AAD6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AB6-D3E7-46BF-BBD5-A918F8A7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90D-0BA0-41A3-B55D-45B3CBA7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C5D-B339-47F1-860E-25C40A6D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87B-5783-40EC-863E-DA23C521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647A-71A4-45AF-BE1E-AB4990D5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33E1-5E80-406E-B25A-FDCEEF3D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C06B-471F-4975-ADEC-49C93175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72CB-7B57-4981-8D45-D224D00F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4350-5A36-40D0-A06B-8DD9DA86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159D-3ED0-46A7-8064-1645531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A64A-01F4-4127-A078-ADA6FA7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40E-5EC3-45B8-B2F7-EC1E0EC4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9FEF-D717-4FCE-AB54-EBB1D803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BF75-8774-4A42-AA14-CA484A14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A1F6-F3C6-4C51-BB73-14A1C5F9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F017-8DAB-430D-BAC1-800E7CB5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1F4C-A27B-4518-8279-78ACB63E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271B-936B-4742-9965-A7392CDF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8044-4820-4488-ACBC-55BDB29E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06E2-7D42-42DE-B30A-5D30EF2D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A7F4-7EB0-4019-92D6-00C252AD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3EA9-2524-4772-BB8D-F39F5977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FFF-58AE-40E7-BBEB-903AB600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DFDEC-43BA-422F-A7D4-34E52AD6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DF9F-9776-4ECB-9BBF-BFEBCCE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484D-58DE-49F0-95D9-58761707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BEBD-FD05-4D39-B7E4-7D559991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D35C-4262-49DC-B91A-760BCF80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2C15-F47E-4F6E-9BD8-B369B15F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F65A-C6D0-43A1-B2F6-F1A00EA1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3FEA-9A39-4063-9FD9-70DB1C1D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1E0BE-68D7-4B9E-8FD0-32282861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CFE1-154C-445A-9BD9-7206D8BD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7FE-7785-4232-9C60-A9D439B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E78B9-46A2-4436-9419-A8F0C67B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A23B0-17FA-4239-BF43-03452371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922A-A85E-4141-815B-644BA77A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5316-6E7C-4FA8-9D56-0BC2B242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71A5-B602-41BE-AE2D-B91D20CB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FACAC-730C-4E93-90E5-D50EE1C9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9542-5ABE-4AFE-8F52-974856EF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4C8ED-0682-4A40-A0B0-FF9665A6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C8C1-1C8B-4CA0-A65B-4C9C41B0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FB779-C127-4D38-ACAC-C18D223B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D98-2AB9-4042-8F09-210A0341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F6BE9-BDB4-4FC3-9567-25C05892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0169A-DE59-4DC9-827B-9FACD291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9D7E9-5FB4-4F40-8F88-DD8DD0AE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760D-3E7D-46F6-A322-37CF8F52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FD16-08B9-4EEF-A07D-8850CA07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BD427-2BCB-48F0-A2EF-61AB538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DEB79-3885-4CF8-BD25-ACCB030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F1B8-676F-47B4-881D-B052B9EF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E1874-86E4-4052-97EB-9D68BA9C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58C41-1DF8-43F1-9F80-81C91030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151-A61F-4479-AE74-764DD64D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EBA8A-0568-4ACA-9592-7D75C060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6C346-FA19-46E6-9DD6-41D04DFD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1BD6C-E19F-4E4B-AA87-BACCA57A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8437F-BE39-4F5D-95BE-460DAD36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C96C7-FF23-4C0D-A5F2-B7FA64A5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54314-2834-4B20-A393-D151C5AB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20A63-DC7F-4AA5-813E-95CF965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A1824-DBEE-4574-B7C9-96C41352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FD7DE-7250-4539-AF82-0FABF67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73AB9-271E-4AE0-81F7-F81B962A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FF8-5735-402F-9331-F61397AA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02892-4A37-46F6-B905-BEA04473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11BAB-5D4F-48E1-97C3-134051BC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98E4-A119-4AD2-95C3-0758A0BD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90D-EBFA-4661-ADC1-D9807C4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064-7352-45BA-AC16-3E5C7713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28BA-F9D1-40AC-932E-AB9FA3AFA2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55ED-5E2D-4D28-87BA-A8A7604025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C465-D493-4932-8B76-B27A5574DD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1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1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2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6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2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7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7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8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BD37-504F-4E52-8540-A242AF86B3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4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D4DD-CC13-4938-B240-D27E7ED9E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8054-52C1-4E8D-9A38-60C24D457E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зрастная психолог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ыркова С. 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895480" y="5867280"/>
            <a:ext cx="6032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Ф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акторы психического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Биологический фактор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ет прежде всего наследственность: наследуются темперамент и задатки способностей. Биологический фактор включает в себя особенности протекания внутриутробного развития и сам процесс рожд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Ф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акторы психического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Средовой фактор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лияет на психическое развитие опосредованно. Выделяют природную среду и среду социальну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А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третий фактор психического разви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7f0000"/>
                </a:solidFill>
                <a:latin typeface="Times New Roman"/>
                <a:ea typeface="Calibri"/>
              </a:rPr>
              <a:t>Каждый психологический возраст характеризуется показа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ые находятся между собой в сложных отношениях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1) социальная ситуация разви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2) ведущая деятельность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3) основные новообразов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лькони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циальная ситуация развития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Это система отношений, в которую ребенок вступает в обществе, то, как он ориентируется в системе общественных отношений, в какие области общественной 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Comic Sans MS"/>
              </a:rPr>
              <a:t>жизни он входи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. С. Выготски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440" y="1218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a27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723"/>
                </a:solidFill>
                <a:latin typeface="Georgia"/>
              </a:rPr>
              <a:t>две единицы анализа социальной ситуации развития —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Georgia"/>
              </a:rPr>
              <a:t>деятельность и переживание</a:t>
            </a:r>
            <a:r>
              <a:rPr b="1" lang="ru-RU" sz="2400" spc="-1" strike="noStrike">
                <a:solidFill>
                  <a:srgbClr val="2a2723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2723"/>
                </a:solidFill>
                <a:latin typeface="Georgia"/>
              </a:rPr>
              <a:t>Легко наблюдать внешнюю активность ребенка, его деятельность. Но существует и внутренний план, план переживаний. Одну и ту же ситуацию в семье по-разному будут переживать разные дети, даже близнецы. В результате на развитии одного конфликт между родителями скажется слабо, а у другого вызовет невроз и прочие отличия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. Б. Элькони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62120" y="12193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000"/>
                </a:solidFill>
                <a:latin typeface="Times New Roman"/>
                <a:ea typeface="Calibri"/>
              </a:rPr>
              <a:t>Ведущая деятельность </a:t>
            </a:r>
            <a:r>
              <a:rPr b="1" lang="ru-RU" sz="2400" spc="-1" strike="noStrike">
                <a:solidFill>
                  <a:srgbClr val="7f0000"/>
                </a:solidFill>
                <a:latin typeface="Times New Roman"/>
                <a:ea typeface="Calibri"/>
              </a:rPr>
              <a:t>- это главная деятельность по её значению для психического развити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внутри неё возникают другие, новые виды деятельности (в игровой - элементы учебной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в ведущей деятельности формируются или перестраиваются психические процесс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 ведущей деятельности завися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людаемые в данный период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личности ребё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сновные новообразов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212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психические и социальные изменения , возникающие на данной ступени развития и определяющие 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сознание ребенка , его отношение к среде , внутреннюю и внешнюю жизнь , ход развития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в данный период 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обобщенный результат этих изменений , всего психического развития ребенка в соответствующий период , который 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становится исходным для формирования психических процессов и 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7f0000"/>
                </a:solidFill>
                <a:latin typeface="Comic Sans MS"/>
              </a:rPr>
              <a:t>личности ребенка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следующего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возраста (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Выготский Л . С , 1984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Comic Sans MS"/>
              </a:rPr>
              <a:t>А. В. Петровски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каждого возрастного периода выделяет три фазы вхождения в </a:t>
            </a:r>
            <a:r>
              <a:rPr b="0" lang="ru-RU" sz="3200" spc="-1" strike="noStrike" u="sng">
                <a:solidFill>
                  <a:srgbClr val="005426"/>
                </a:solidFill>
                <a:uFillTx/>
                <a:latin typeface="Comic Sans MS"/>
              </a:rPr>
              <a:t>референтную общност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000"/>
                </a:solidFill>
                <a:latin typeface="Comic Sans MS"/>
              </a:rPr>
              <a:t>адаптац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000"/>
                </a:solidFill>
                <a:latin typeface="Comic Sans MS"/>
              </a:rPr>
              <a:t>индивидуализация (автономи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7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000"/>
                </a:solidFill>
                <a:latin typeface="Comic Sans MS"/>
              </a:rPr>
              <a:t>интеграц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торых происходят развитие и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стройка структуры лич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f0000"/>
                </a:solidFill>
                <a:latin typeface="Comic Sans MS"/>
              </a:rPr>
              <a:t>Э.Эриксо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144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На каждой стадии развития психики ребёнок приобретает определённое личностное новообразование, которое фиксируется в структуре личности и сохраняется в последующие периоды жизни. В каждом личностном качестве заключено глубинное отношение к миру и самому себе. Это отношение может быть и позитивным, и 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негативны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апы развития психики по Эриксо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Орально-сенсорная. Соответствует оральной стадии классического психоанализа. Возраст: первый год жизни. Задача этапа: базисное доверие против базисного недоверия. Ценные качества, приобретаемые на этом этапе: энергия и надежд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пень доверия младенца к миру зависит от заботы, проявляемой к нему. Нормальное развитие происходит, когда его потребности быстро удовлетворяются, он не испытывает долгого недомогания, его баюкают и ласкают, с ним играют и разговаривают. Поведение матери уверенно и предсказуемо. В таком случае вырабатывается доверие к миру, в который он пришел. Если он не получает должного ухода – вырабатывается недоверие, боязливость и подозритель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5426"/>
                </a:solidFill>
                <a:latin typeface="Comic Sans MS"/>
              </a:rPr>
              <a:t>Возра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чественно специфическая ступень онтогенетического развития человека. Каждый возраст в человеческой жизни имеет определенны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орматив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ри помощи которых можно оценить адекватность развития индивида и которые касаются психофизического, интеллектуального, эмоционального и личностного развития. Эти нормативы обозначаются также как </a:t>
            </a:r>
            <a:r>
              <a:rPr b="1" lang="ru-RU" sz="2400" spc="-1" strike="noStrike">
                <a:solidFill>
                  <a:srgbClr val="005426"/>
                </a:solidFill>
                <a:latin typeface="Comic Sans MS"/>
              </a:rPr>
              <a:t>задачи возрастного разви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Мышечно-анальная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091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падает с анальной стадией фрейдизма. Возраст – второй-третий годы жизни. Задача этапа: автономия против стыда и сомнения. Ценные качества, приобретаемые на этом этапе: самоконтроль и сила во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этом этапе на первый план выходит развитие самостоятельности на основе моторных и психических способностей. Ребенок осваивает различные движения. Если родители предоставляют ребенку делать самому то, что он может, у него вырабатывается ощущение, что он владеет своими мышцами, своими побуждениями, самим собой и, в значительной мере, средой. Появляется самостоятельность. Исход этой стадии зависит от соотношения сотрудничества и своеволия, свободы самовыражения и ее подавления. Из чувства самоконтроля, как свободы распоряжаться собой без утраты самоуважения, берет начало прочное чувство доброжелательности, готовности 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ю и гордости своими достижениями, чувст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ственного достоинства. Из ощущения утра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боды распоряжаться собой и ощущения чужог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контроля происходит устойчивая склонность к сомнению и стыд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Локомоторно-генитальная. Стадия инфантильной генита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282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ет фаллической стадии психоанализа. Возраст – дошкольный, 4–5 лет. Задача этапа: инициатива (предприимчивость) против чувства вины. Ценные качества, приобретаемые на этом этапе: направление и целеустремлен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ачалу этой стадии ребенок уже приобрел множество физических навыков, начинает сам придумывать себе занятия, а не просто отвечать на действия и подражать им. Проявляет изобретательность в речи, способность фантазиро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того, как реагируют взрослые на затеи ребенка, во многом зависит перевес качеств в характере. Дети, которым предоставлена инициатива в выборе деятельности (бегать, бороться, возиться, кататься на велосипеде, санках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ьках), вырабатыва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имчивость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репляет е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ность родителей отвечать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теллектуаль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имчивость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мешать фантазировать и затевать иг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Локомоторно-генитальная. Стадия инфантильной генита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Прямоугольник 3"/>
          <p:cNvSpPr/>
          <p:nvPr/>
        </p:nvSpPr>
        <p:spPr>
          <a:xfrm>
            <a:off x="762120" y="612720"/>
            <a:ext cx="7696080" cy="58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этой стадии происходит самое важное по последствиям разделение между потенциальным триумфом человека и потенциальным тотальным разрушением. Именно здесь ребенок навсегда становится разделившимся внутри себя: на детский набор, сохраняющий изобилие потенциалов роста, и родительский набор, поддерживающий и усиливающий самоконтроль, самоуправление и самонаказание. Развивается чувство моральной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ственн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. Латентная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ует латентной фазе классического психоанализа. Возраст – 6—11 лет. Задача этапа: трудолюбие (умелость) против чувства неполноценности. Ценные качества, приобретаемые на этом этапе: систематичность и компетент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ь и ревность находятся на этой стадии в скрытом состоянии, о чем и говорит ее название – латентная. Ребенок проявляет способность к дедукции, организованным играм, регламентированным занятиям.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нтерес к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ому, как устроены вещи, как их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способить, освоить. В эти годы он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поминает Робинзона Крузо и часто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нтересуется его жизнь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. Латентная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детей поощряют мастерить, строить шалаши и авиамодели, варить, готовить и рукодельничать, когда им разрешают довести начатое дело до конца, хвалят за результаты, тогда у ребенка вырабатывается умелость, способности к техническому творчеств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родители видят в трудовой деятельности ребенка одно «баловство» и «пачкотню», это способствует выработке у него чувства неполноценности. Опасность этой стадии – чувство неадекватности и неполноцен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. Подростковый возраст и ранняя юность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5228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ческий психоанализ отмечает на этой стадии проблему «любви и ревности» к собственным родителям. Успешное решение зависит от того, найдет ли человек предмет любви в собственном поколении. Это продолжение латентной стадии по Фрейду. Возраст – 12–18 лет. Задача этапа: идентичность против смешения ролей. Ценные качества, приобретаемые на этом этапе: </a:t>
            </a:r>
            <a:r>
              <a:rPr b="1" lang="ru-RU" sz="2000" spc="-1" strike="noStrike">
                <a:solidFill>
                  <a:srgbClr val="005426"/>
                </a:solidFill>
                <a:latin typeface="Arial"/>
              </a:rPr>
              <a:t>посвящение и вер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е затруднение на этой стадии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путанность идентификации, неспособность опознать свое «Я»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росток созревает физиологически и психически, у него развиваются новые взгляды на вещи, новый подход к жизни, интерес к мыслям других людей, к тому, что они сами о себе думаю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ияние родителей на этой стадии – косвенное. Если подросток благодаря родителя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же вырабо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верие, самостоятельность, предприимчивость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лость, 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шансы на идентификацию, т. е. на осознание собственной индивидуальности, значительно увеличиваю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6. Ранняя взросл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7621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итальная стадия по Фрейду. Возраст: период ухаживания и ранние годы семейной жизни, от конца юности до начала среднего возраста. Здесь и далее Эриксон уже не называет возрастные границы. Задача этапа: близость против изоляции. Ценные качества, приобретаемые на этом этапе: аффилиация и любов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началу этой стадии человек уже опознал свое «Я» и включился в трудовую деятель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му важна близость – не только физическая, но и способность заботиться о другом человеке, делиться с ним всем существенным без боязни потерять при этом себя. Новоиспеченный взрослый готов проявлять нравственную силу и в интимных, и в товарищеских взаимоотношениях, оставаясь верным, даже 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ребуются значительные жертвы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ромиссы. Проявления этой стадии – 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язательно сексуальное влечение, но и дружб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между однополчанам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образец близости в широком смысл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пасность стадии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анняя взросл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99072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бегание контактов, которые обязывают к близости. Избегание опыта близости из-за страха утратить Эго приводит к чувству изоляции и последующему самопоглощению. Если ни в браке, ни в дружбе он не достигает близости, его ожидает одиночество, ему не с кем разделить свою жизнь и не о ком заботитьс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асность этой стадии состоит в том, что и интимные, и соперничающие, и враждебные отношения человек испытывает к одним и тем же людям. Остальные ему безразличны. И, только научившись отличать схватку соперников от сексуального объятия, человек осваивает этическое чувство – отличительный признак взрослого человека. Только теперь проявляется истинная генитальность. Ее нельзя считать чисто сексуальной задачей. Э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дин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ов подбора партнер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трудничества и соперниче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7. Взрослость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у и последующую стадию классический психоанализ не рассматривает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Возраст: зрелый. Задача этапа: генеративность против стагнации. Ценные качества, приобретаемые на этом этапе: производство и забо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 времени наступления этой стадии человек уже прочно связал себя с определенным родом занятий, а его дети уже стали подрост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ля этого этапа развития характерна общечеловечность – способность интересоваться судьбами людей за пределами семейного круга, задумываться над жизнью грядущих поколений, формами будущего общества и устройством будущего мира. Для этого не обязательно иметь собственных детей, важно активно заботиться о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олодежи и о том, чтобы в будущем людям легч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жилось и работалос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асность стадии взросл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, у кого чувство сопричастности человечеству не выработалось, сосредоточиваются на самих себе, и их главной заботой становится удовлетворение своих потребностей, собственный комфорт, самопоглощен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енеративность, центральный момент этой стадии, – это заинтересованность в устройстве жизни и наставлении нового поколения, хотя существуют отдельные лица, которые из-за жизненных неудач или особой одаренности в других областях не направляют этот интерес на свое потомство. Генеративность включает в себя продуктивность и креативность, но эти понятия не могут его заменить. Генеративность – самая важная стадия как психосексуального, так и психосоциального развит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5426"/>
                </a:solidFill>
                <a:latin typeface="Comic Sans MS"/>
              </a:rPr>
              <a:t>Возрастная психолог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изучает общие законы психического развития человека, этапы и психические особенности каждого возраста, а также индивидуальные возрастные особен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. Зрелос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раст: пенсионный. Задача этапа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остность против отчаян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нные качества, приобретаемые на этом этапе: самоотречение и мудрость. Основная работа в жизни закончилась, настало время размышлений и забав с внуками. Ощущение цельности, осмысленности жизни возникает у того, кто, оглядываясь на прожитое, ощущает удовлетворение. Тот, кому прожитая жизнь представляется цепью упущенных возможностей и досадных промахов, осознает, что начинать все сначала уже поздно и упущенного не вернуть. Такого человека охватывает отчаяние при мысли о том, как могла бы сложиться, но не сложилась его жизнь. Отсутствие или утрата накопленной целостности выражается в страхе смерти: она не воспринимается как естественное и неизбежное завершение жизненного цикла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чая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ж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нание того, что осталось мало времен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опытаться начать новую жизнь и испыт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ые пути к целост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ериоды развития ребенка по Л.С. Выготско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80880" y="1219320"/>
          <a:ext cx="8077320" cy="5638680"/>
        </p:xfrm>
        <a:graphic>
          <a:graphicData uri="http://schemas.openxmlformats.org/drawingml/2006/table">
            <a:tbl>
              <a:tblPr/>
              <a:tblGrid>
                <a:gridCol w="2127240"/>
                <a:gridCol w="2587680"/>
                <a:gridCol w="3362400"/>
              </a:tblGrid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табильный период разви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тический пери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–2 ме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новорожд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 мес. – 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ладенчески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1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–3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ннее де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3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–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школьное де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–13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Школьны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13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–1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убертатный во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ризис 1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44280" marR="442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Rectangle 4"/>
          <p:cNvSpPr/>
          <p:nvPr/>
        </p:nvSpPr>
        <p:spPr>
          <a:xfrm>
            <a:off x="1521000" y="282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42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Кратковременная зрительная фиксация и прослеживание; слуховое сосредоточение; прекращение или изменение характера плача как реакция на голос взросло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Слежение за движущейся в горизонтальной плоскости игрушкой; слуховое сосредоточ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Плавно следит за игрушкой во всех направлениях; поворот головы и глаз к источнику звука; направляет руку к объект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85800" y="12193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Тянется к игрушке; рассматривает свои руки; локализует звук в пространств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 Переводит взгляд с предмета на предмет; тянется к игрушке и захватывает ее, чаще двумя руками, тянет руку и игрушку в рот; адекватная реакция на интонацию, на голос матери беспокоится или оживляе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 Зрительный контроль движений рук; захватывает игрушку с любой стороны; держит в каждой руке по предмету; поворачивается на  звук, если внимание его не отвлечено игрушкой, взрослым (активное внимание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620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533600" y="0"/>
            <a:ext cx="68482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. Захват игрушки сопровождается генерализованными активными движениями; перекладывает предмет из руки в руку; похлопывает рукой по игрушке; узнает голоса близк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Отталкивание предмета, кидание, стучит предметом о предмет, манипулирует двумя-тремя предметами; различает лица людей, знает свое и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9. Отвечает действием на словесные инструкции; ищет спрятанную игрушку; берет мелкие предметы двумя пальц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0. Подражательные движения рук — «ладушки», «до свидания»; вкладывает пальцы в отверстие под контролем зрения; показывает части тела другого человека; захватывает игрушки пальц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критерии возрастной классификаци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яются прежде всего конкретно-историческими, социально-экономическим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условиями воспитания и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которые соотносятся с разными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видами дея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сенсорных и моторных функций на первом году жизни (по месяц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33520" y="12193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. Выбрасывает игрушки из кровати, вкладывает пальцы в отверстия на ощупь; подражательные движения — перелистывание страниц, запуск машинки; показывает части своего те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Вкладывание одного предмета в другой; открывает коробку, ящик; узнавание картинок; пользуется ложкой и расческой по назначен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же к 3—4 месяцам зрительные и слуховые способности младенцев почти не отличаются от таковых у взрослых люд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гативные результаты 1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5960" y="10663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арактерные изменения повед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 стороны ребенк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сокращенность и ослабленность сигналов, меньшая отзывчивость на социальное поведение матери, сниженная инициативность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о стороны матер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меньшая чувствительность к сигналам ребенка, доминирование, дефицит вовлеченности в общение, эмоциональная отстраненность) с высокой вероятностью могут привести к нарушениям взаимодействия в системе «мать — младенец», отклонениям в формировании взаимной привязанности, риску отставания в развит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0000"/>
                </a:solidFill>
                <a:latin typeface="Comic Sans MS"/>
              </a:rPr>
              <a:t>Каждый психологический возраст характеризуе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3200" spc="-1" strike="noStrike">
                <a:solidFill>
                  <a:srgbClr val="005426"/>
                </a:solidFill>
                <a:latin typeface="Comic Sans MS"/>
              </a:rPr>
              <a:t>социальной ситуацией развития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своеобразие взаимосвязи внешней среды и внутреннего мира ребёнк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3200" spc="-1" strike="noStrike">
                <a:solidFill>
                  <a:srgbClr val="005426"/>
                </a:solidFill>
                <a:latin typeface="Comic Sans MS"/>
              </a:rPr>
              <a:t>возрастными новообразованиями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результаты развития и одновременно предпосылки дальнейшего развития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54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426"/>
                </a:solidFill>
                <a:latin typeface="Comic Sans MS"/>
              </a:rPr>
              <a:t>Возникшие в данный период новообразования изменяют социальную ситуацию развития, ребёнок начинает требовать другой системы отношений со взрослыми, по-иному смотрит на ми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2 типа возрастных периодов, сменяющих друг др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стабильное (развитие совершается внутри социальной ситуации медленно, эволюционно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критическое (развитие совершается бурно и стремительно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изисы сочетают в себе разрушительные и созидательные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нденции - это норм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тогенез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ериодизация (по Л.С. Выготскому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947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включает в себя следующие стадии развития психик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новорожден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младенчество (2мес - 1год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1 год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раннее детство (1-3 год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3 л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дошкольный возраст (3-7 л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7 л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школьный возраст (8-12л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13 л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пубертатный возраст (14-17лет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- кризис 17 л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947160"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оакторы развития псих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8" name="Объект 4" descr=""/>
          <p:cNvPicPr/>
          <p:nvPr/>
        </p:nvPicPr>
        <p:blipFill>
          <a:blip r:embed="rId1"/>
          <a:stretch/>
        </p:blipFill>
        <p:spPr>
          <a:xfrm>
            <a:off x="689040" y="1828800"/>
            <a:ext cx="7692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4:46:37Z</dcterms:created>
  <dc:creator>Олег Смирнов</dc:creator>
  <dc:description/>
  <dc:language>en-US</dc:language>
  <cp:lastModifiedBy>Светлана Ныркова</cp:lastModifiedBy>
  <dcterms:modified xsi:type="dcterms:W3CDTF">2016-02-17T09:58:04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