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30F-479B-4751-8D23-3975A0488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799-EDBA-46F0-AD04-8840972B6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5FFC-263E-4C29-B5E6-3258AFA0B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819-300F-410A-BE1D-1839ACC7C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1A25-95AA-426E-975D-5A1A1A025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2B8-07A7-4001-89C1-9B0464F6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0A2-2298-49A8-9663-94548B8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F51-284D-40FF-A04E-5B4308DC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DAB-2C8A-47F8-876C-1F39A3AB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1017-1095-434D-9D87-7A82B31F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8343-E7EA-40E2-95F8-5D2C1A0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0EB8-E002-4AA1-8B1A-493286B2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BED-E4C9-45BE-A371-0D007FB7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107C-E384-48B1-9D8D-18FC437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C6C-D18A-4CDD-9026-5B484CC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7A1-DEDA-4D5C-A924-4235D2F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5AB-1DB5-44AC-87C2-5B562C8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FC6-AA14-48A1-8DF1-7C1695B1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B0D-A28A-4824-9CCB-718CF91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1EA2-E02A-4E42-9795-027987D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3B50-2AEB-4297-9AD4-BEA9C04A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1788-ED44-46FA-AB52-F2480B33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57D6-9A89-4929-BF01-7B8CA9C4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17DA-36BA-4B01-A3F9-905D746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4933-C98A-4CF3-A64D-697C748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2114-A3C0-473C-9B6A-E3425DBC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6E6E-5139-4969-8453-57949B0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42A-B2A8-4DF0-965F-D57F895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C128-AF68-4619-BB86-6625667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B037-6B98-487A-96F6-2ACA40FB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D982-DA79-43B1-81D4-D2BD596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1409-0463-43F2-8019-AA59D1A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6656-EEB4-4FBD-899F-452A155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9A8A-1D0F-459B-A2F2-E8DA81A2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C1E6-299F-4393-859A-3A6C9FFE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66FD-236D-446A-94F0-12EE6B63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03D6-F06E-4ADE-AF2C-14484AB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50D4-F6AC-4AD4-9D25-857F32C6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444-7C99-4170-AF29-877AD5E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4852-39C1-4A39-BC5B-B014417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8AE0-75BC-4C61-83C0-07D3AD0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00A6-B355-4D18-B65B-57F8FE7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2CEF-B3F0-457F-8DC3-F386433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E358-DC02-467B-B94D-DE52A52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C890-D467-4352-A21C-CD72FE11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23FE-14CE-4855-AA45-85AD880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7617-6B3A-4EB7-BF78-9B97A233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814A-649E-4FD6-A7D5-835680A5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4B51-EE2D-4B71-B0DA-5DD4DC9A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49B-411D-4F07-BF1F-A10A3E6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1630F-80CC-49A9-9A53-BFB4E88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3626-7223-4E35-8D99-9C850A4A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9842-117B-4828-80B2-79CF3EF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57F7-7B47-4E8E-A8E4-F7D4E0B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1879-449A-481F-B36D-186CC170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F754-39B2-43E4-9196-0EA24A7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B8FDB-79D1-49A7-A383-0AE7308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2D9B1-C940-4097-997F-F56AB18E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122D-AC4B-4980-B1CD-422ACB3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0BAF-8811-4CC6-A6DE-7D251BED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90-5AC1-499F-A396-C36CD9A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F7DE-D5E3-4345-A738-5EFE86BD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71F9-FD87-4559-A53B-83D5BD72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1974-0E42-4FA5-B9FC-314B1839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09F8-9C2F-4324-8A85-EF1931B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0A47-8ADF-4364-8F36-B699A57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868D-00B5-4A57-BF7B-C24D01F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4804-48E2-4E0B-8BAE-E838FE2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443B-FB99-4B42-A6DC-E8C707B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5006-60E4-424A-A678-82A38F0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5FEEA-0660-4D20-811B-4120E87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1CB-A2FA-4FB3-B2BD-1E8DDE6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C923-13A7-4981-96C3-564D4AC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F920-A434-4AA8-9F9D-79701C5D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3865-826D-44ED-A9DF-9438E09D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C00-CF66-4786-8682-85A1534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A07-FB5C-42CD-95FB-5257449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8D4-11F8-4A05-BA2B-2319C69084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B9BC-D28F-4634-AC6C-A88CC8E1A9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625-F165-485E-8523-20AF4A1C18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1A6-988D-49F6-91D6-BE9B2B254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A37-313A-4879-BF69-7ADCA8F61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6D2-1709-4BD6-9919-1469ADBD9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ыркова С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895480" y="5867280"/>
            <a:ext cx="6032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Биологический факто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ет прежде всего наследственность: наследуются темперамент и задатки способностей. Биологический фактор включает в себя особенности протекания внутриутробного развития и сам процесс р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редовой фактор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лияет на психическое развитие опосредованно. Выделяют природную среду и среду социальну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третий фактор психического разви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7f0000"/>
                </a:solidFill>
                <a:latin typeface="Times New Roman"/>
                <a:ea typeface="Calibri"/>
              </a:rPr>
              <a:t>Каждый психологический возраст характеризуется показа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е находятся между собой в сложных отношениях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1) социальная ситуация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2) ведущая деятельно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3) основные новообразов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лькон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циальная ситуация развития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Это система отношений, в которую ребенок вступает в обществе, то, как он ориентируется в системе общественных отношений, в какие области общественной 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жизни он входи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. С. Выгот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440" y="1218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a27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две единицы анализа социальной ситуации развития —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Georgia"/>
              </a:rPr>
              <a:t>деятельность и переживание</a:t>
            </a: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Легко наблюдать внешнюю активность ребенка, его деятельность. Но существует и внутренний план, план переживаний. Одну и ту же ситуацию в семье по-разному будут переживать разные дети, даже близнецы. В результате на развитии одного конфликт между родителями скажется слабо, а у другого вызовет невроз и прочие отличия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Б. Элькони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6212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000"/>
                </a:solidFill>
                <a:latin typeface="Times New Roman"/>
                <a:ea typeface="Calibri"/>
              </a:rPr>
              <a:t>Ведущая деятельность </a:t>
            </a:r>
            <a:r>
              <a:rPr b="1" lang="ru-RU" sz="2400" spc="-1" strike="noStrike">
                <a:solidFill>
                  <a:srgbClr val="7f0000"/>
                </a:solidFill>
                <a:latin typeface="Times New Roman"/>
                <a:ea typeface="Calibri"/>
              </a:rPr>
              <a:t>- это главная деятельность по её значению для психического развит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нутри неё возникают другие, новые виды деятельности (в игровой - элементы учебной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 ведущей деятельности формируются или перестраиваются психические процесс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ведущей деятельности завися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мые в данный период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личности ребё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ные новообраз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психические и социальные изменения , возникающие на данной ступени развития и определяющие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ознание ребенка , его отношение к среде , внутреннюю и внешнюю жизнь , ход развития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 данный период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обобщенный результат этих изменений , всего психического развития ребенка в соответствующий период , который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тановится исходным для формирования психических процессов и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личности ребенка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следующего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озраста (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ыготский Л . С , 198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omic Sans MS"/>
              </a:rPr>
              <a:t>А. В. Петров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каждого возрастного периода выделяет три фазы вхождения в </a:t>
            </a:r>
            <a:r>
              <a:rPr b="0" lang="ru-RU" sz="3200" spc="-1" strike="noStrike" u="sng">
                <a:solidFill>
                  <a:srgbClr val="005426"/>
                </a:solidFill>
                <a:uFillTx/>
                <a:latin typeface="Comic Sans MS"/>
              </a:rPr>
              <a:t>референтную общ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адаптац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дивидуализация (автоном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тегра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ых происходят развитие 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стройка структуры лич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000"/>
                </a:solidFill>
                <a:latin typeface="Comic Sans MS"/>
              </a:rPr>
              <a:t>Э.Эрикс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144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а каждой стадии развития психики ребёнок приобретает определённое личностное новообразование, которое фиксируется в структуре личности и сохраняется в последующие периоды жизни. В каждом личностном качестве заключено глубинное отношение к миру и самому себе. Это отношение может быть и позитивным, и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егативны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апы развития психики по Эриксо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рально-сенсорная. Соответствует оральной стадии классического психоанализа. Возраст: первый год жизни. Задача этапа: базисное доверие против базисного недоверия. Ценные качества, приобретаемые на этом этапе: энергия и надеж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доверия младенца к миру зависит от заботы, проявляемой к нему. Нормальное развитие происходит, когда его потребности быстро удовлетворяются, он не испытывает долгого недомогания, его баюкают и ласкают, с ним играют и разговаривают. Поведение матери уверенно и предсказуемо. В таком случае вырабатывается доверие к миру, в который он пришел. Если он не получает должного ухода – вырабатывается недоверие, боязливость и подозри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чественно специфическая ступень онтогенетического развития человека. Каждый возраст в человеческой жизни имеет определенны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рматив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ри помощи которых можно оценить адекватность развития индивида и которые касаются психофизического, интеллектуального, эмоционального и личностного развития. Эти нормативы обозначаются также как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задачи возрастного разви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Мышечно-аналь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падает с анальной стадией фрейдизма. Возраст – второй-третий годы жизни. Задача этапа: автономия против стыда и сомнения. Ценные качества, приобретаемые на этом этапе: самоконтроль и сила во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м этапе на первый план выходит развитие самостоятельности на основе моторных и психических способностей. Ребенок осваивает различные движения. Если родители предоставляют ребенку делать самому то, что он может, у него вырабатывается ощущение, что он владеет своими мышцами, своими побуждениями, самим собой и, в значительной мере, средой. Появляется самостоятельность. Исход этой стадии зависит от соотношения сотрудничества и своеволия, свободы самовыражения и ее подавления. Из чувства самоконтроля, как свободы распоряжаться собой без утраты самоуважения, берет начало прочное чувство доброжелательности, готовности 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ю и гордости своими достижениями, чув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ого достоинства. Из ощущения утра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боды распоряжаться собой и ощущения чужог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контроля происходит устойчивая склонность к сомнению и стыд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2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ет фаллической стадии психоанализа. Возраст – дошкольный, 4–5 лет. Задача этапа: инициатива (предприимчивость) против чувства вины. Ценные качества, приобретаемые на этом этапе: направление и целеустремл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ребенок уже приобрел множество физических навыков, начинает сам придумывать себе занятия, а не просто отвечать на действия и подражать им. Проявляет изобретательность в речи, способность фантазиро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того, как реагируют взрослые на затеи ребенка, во многом зависит перевес качеств в характере. Дети, которым предоставлена инициатива в выборе деятельности (бегать, бороться, возиться, кататься на велосипеде, санка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ьках), вырабатыва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епляет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родителей отвечать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теллектуа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ешать фантазировать и затевать иг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Прямоугольник 3"/>
          <p:cNvSpPr/>
          <p:nvPr/>
        </p:nvSpPr>
        <p:spPr>
          <a:xfrm>
            <a:off x="762120" y="612720"/>
            <a:ext cx="769608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этой стадии происходит самое важное по последствиям разделение между потенциальным триумфом человека и потенциальным тотальным разрушением. Именно здесь ребенок навсегда становится разделившимся внутри себя: на детский набор, сохраняющий изобилие потенциалов роста, и родительский набор, поддерживающий и усиливающий самоконтроль, самоуправление и самонаказание. Развивается чувство моральн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ует латентной фазе классического психоанализа. Возраст – 6—11 лет. Задача этапа: трудолюбие (умелость) против чувства неполноценности. Ценные качества, приобретаемые на этом этапе: систематичность и компетент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и ревность находятся на этой стадии в скрытом состоянии, о чем и говорит ее название – латентная. Ребенок проявляет способность к дедукции, организованным играм, регламентированным занятиям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 к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му, как устроены вещи, как их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способить, освоить. В эти годы он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оминает Робинзона Крузо и част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уется его жизн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детей поощряют мастерить, строить шалаши и авиамодели, варить, готовить и рукодельничать, когда им разрешают довести начатое дело до конца, хвалят за результаты, тогда у ребенка вырабатывается умелость, способности к техническому творчеств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родители видят в трудовой деятельности ребенка одно «баловство» и «пачкотню», это способствует выработке у него чувства неполноценности. Опасность этой стадии – чувство неадекватности и неполноцен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Подростковый возраст и ранняя юнос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5228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ческий психоанализ отмечает на этой стадии проблему «любви и ревности» к собственным родителям. Успешное решение зависит от того, найдет ли человек предмет любви в собственном поколении. Это продолжение латентной стадии по Фрейду. Возраст – 12–18 лет. Задача этапа: идентичность против смешения ролей. Ценные качества, приобретаемые на этом этапе: </a:t>
            </a:r>
            <a:r>
              <a:rPr b="1" lang="ru-RU" sz="2000" spc="-1" strike="noStrike">
                <a:solidFill>
                  <a:srgbClr val="005426"/>
                </a:solidFill>
                <a:latin typeface="Arial"/>
              </a:rPr>
              <a:t>посвящение и вер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затруднение на этой стади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утанность идентификации, неспособность опознать свое «Я»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ок созревает физиологически и психически, у него развиваются новые взгляды на вещи, новый подход к жизни, интерес к мыслям других людей, к тому, что они сами о себе думаю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родителей на этой стадии – косвенное. Если подросток благодаря родителя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же вырабо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ие, самостоятельность, предприимчивость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лость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шансы на идентификацию, т. е. на осознание собственной индивидуальности, значительно увеличиваю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6. Ранняя взросл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7621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итальная стадия по Фрейду. Возраст: период ухаживания и ранние годы семейной жизни, от конца юности до начала среднего возраста. Здесь и далее Эриксон уже не называет возрастные границы. Задача этапа: близость против изоляции. Ценные качества, приобретаемые на этом этапе: аффилиация и любов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человек уже опознал свое «Я» и включился в трудовую дея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у важна близость – не только физическая, но и способность заботиться о другом человеке, делиться с ним всем существенным без боязни потерять при этом себя. Новоиспеченный взрослый готов проявлять нравственную силу и в интимных, и в товарищеских взаимоотношениях, оставаясь верным, даже 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ребуются значительные жертвы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ромиссы. Проявления этой стадии –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тельно сексуальное влечение, но и дружб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между однополчана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разец близости в широком смысл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нняя взросл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гание контактов, которые обязывают к близости. Избегание опыта близости из-за страха утратить Эго приводит к чувству изоляции и последующему самопоглощению. Если ни в браке, ни в дружбе он не достигает близости, его ожидает одиночество, ему не с кем разделить свою жизнь и не о ком заботить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асность этой стадии состоит в том, что и интимные, и соперничающие, и враждебные отношения человек испытывает к одним и тем же людям. Остальные ему безразличны. И, только научившись отличать схватку соперников от сексуального объятия, человек осваивает этическое чувство – отличительный признак взрослого человека. Только теперь проявляется истинная генитальность. Ее нельзя считать чисто сексуальной задачей. Э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ов подбора партнер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рудничества и сопернич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7. Взрослос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у и последующую стадию классический психоанализ не рассматривае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Возраст: зрелый. Задача этапа: генеративность против стагнации. Ценные качества, приобретаемые на этом этапе: производство и забо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 времени наступления этой стадии человек уже прочно связал себя с определенным родом занятий, а его дети уже стали подрост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 этого этапа развития характерна общечеловечность – способность интересоваться судьбами людей за пределами семейного круга, задумываться над жизнью грядущих поколений, формами будущего общества и устройством будущего мира. Для этого не обязательно иметь собственных детей, важно активно заботиться о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лодежи и о том, чтобы в будущем людям легч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лось и работало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 взрос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, у кого чувство сопричастности человечеству не выработалось, сосредоточиваются на самих себе, и их главной заботой становится удовлетворение своих потребностей, собственный комфорт, самопоглощ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енеративность, центральный момент этой стадии, – это заинтересованность в устройстве жизни и наставлении нового поколения, хотя существуют отдельные лица, которые из-за жизненных неудач или особой одаренности в других областях не направляют этот интерес на свое потомство. Генеративность включает в себя продуктивность и креативность, но эти понятия не могут его заменить. Генеративность – самая важная стадия как психосексуального, так и психосоциального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зучает общие законы психического развития человека, этапы и психические особенности каждого возраста, а также индивидуальные возрастные особ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. Зрело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раст: пенсионный. Задача этап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остность против отчая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нные качества, приобретаемые на этом этапе: самоотречение и мудрость. Основная работа в жизни закончилась, настало время размышлений и забав с внуками. Ощущение цельности, осмысленности жизни возникает у того, кто, оглядываясь на прожитое, ощущает удовлетворение. Тот, кому прожитая жизнь представляется цепью упущенных возможностей и досадных промахов, осознает, что начинать все сначала уже поздно и упущенного не вернуть. Такого человека охватывает отчаяние при мысли о том, как могла бы сложиться, но не сложилась его жизнь. Отсутствие или утрата накопленной целостности выражается в страхе смерти: она не воспринимается как естественное и неизбежное завершение жизненного цикла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чая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ж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нание того, что осталось мало времен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опытаться начать новую жизнь и испыт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ые пути к целост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иоды развития ребенка по Л.С. Выготско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1219320"/>
          <a:ext cx="8077320" cy="5638680"/>
        </p:xfrm>
        <a:graphic>
          <a:graphicData uri="http://schemas.openxmlformats.org/drawingml/2006/table">
            <a:tbl>
              <a:tblPr/>
              <a:tblGrid>
                <a:gridCol w="2127240"/>
                <a:gridCol w="2587680"/>
                <a:gridCol w="3362400"/>
              </a:tblGrid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табильный 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тический 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–2 ме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новорожд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мес. – 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ладенчески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–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нне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–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школьно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–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коль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–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убертат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4"/>
          <p:cNvSpPr/>
          <p:nvPr/>
        </p:nvSpPr>
        <p:spPr>
          <a:xfrm>
            <a:off x="1521000" y="282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Кратковременная зрительная фиксация и прослеживание; слуховое сосредоточение; прекращение или изменение характера плача как реакция на голос взросл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Слежение за движущейся в горизонтальной плоскости игрушкой; слуховое сосредото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Плавно следит за игрушкой во всех направлениях; поворот головы и глаз к источнику звука; направляет руку к объек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Тянется к игрушке; рассматривает свои руки; локализует звук в пространств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Переводит взгляд с предмета на предмет; тянется к игрушке и захватывает ее, чаще двумя руками, тянет руку и игрушку в рот; адекватная реакция на интонацию, на голос матери беспокоится или оживля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Зрительный контроль движений рук; захватывает игрушку с любой стороны; держит в каждой руке по предмету; поворачивается на  звук, если внимание его не отвлечено игрушкой, взрослым (активное вним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620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533600" y="0"/>
            <a:ext cx="68482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Захват игрушки сопровождается генерализованными активными движениями; перекладывает предмет из руки в руку; похлопывает рукой по игрушке; узнает голоса близк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Отталкивание предмета, кидание, стучит предметом о предмет, манипулирует двумя-тремя предметами; различает лица людей, знает свое и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. Отвечает действием на словесные инструкции; ищет спрятанную игрушку; берет мелкие предметы двумя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. Подражательные движения рук — «ладушки», «до свидания»; вкладывает пальцы в отверстие под контролем зрения; показывает части тела другого человека; захватывает игрушки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критерии возрастной классификаци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яются прежде всего конкретно-историческими, социально-экономически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словиями воспитания 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которые соотносятся с разными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видами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52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. Выбрасывает игрушки из кровати, вкладывает пальцы в отверстия на ощупь; подражательные движения — перелистывание страниц, запуск машинки; показывает части своего те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Вкладывание одного предмета в другой; открывает коробку, ящик; узнавание картинок; пользуется ложкой и расческой по назнач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же к 3—4 месяцам зрительные и слуховые способности младенцев почти не отличаются от таковых у взрослых люд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гативные результаты 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5960" y="10663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актерные изменения по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ребенк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сокращенность и ослабленность сигналов, меньшая отзывчивость на социальное поведение матери, сниженная инициативность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матер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меньшая чувствительность к сигналам ребенка, доминирование, дефицит вовлеченности в общение, эмоциональная отстраненность) с высокой вероятностью могут привести к нарушениям взаимодействия в системе «мать — младенец», отклонениям в формировании взаимной привязанности, риску отставания в развит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Каждый психологический возраст характеризуе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социальной ситуацией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своеобразие взаимосвязи внешней среды и внутреннего мира ребёнк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возрастными новообразованиям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результаты развития и одновременно предпосылки дальнейшего развити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426"/>
                </a:solidFill>
                <a:latin typeface="Comic Sans MS"/>
              </a:rPr>
              <a:t>Возникшие в данный период новообразования изменяют социальную ситуацию развития, ребёнок начинает требовать другой системы отношений со взрослыми, по-иному смотрит на ми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2 типа возрастных периодов, сменяющих друг д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стабильное (развитие совершается внутри социальной ситуации медленно, эволюционно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критическое (развитие совершается бурно и стремитель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зисы сочетают в себе разрушительные и созидательны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нденции - это норм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тогене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ериодизация (по Л.С. Выготскому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947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ключает в себя следующие стадии развития психи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новорожден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младенчество (2мес - 1год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 го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раннее детство (1-3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дошкольный возраст (3-7 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7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школьный возраст (8-12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пубертатный возраст (14-17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7 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оакторы развития псих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" name="Объект 4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692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4:46:37Z</dcterms:created>
  <dc:creator>Олег Смирнов</dc:creator>
  <dc:description/>
  <dc:language>en-US</dc:language>
  <cp:lastModifiedBy>Светлана Ныркова</cp:lastModifiedBy>
  <dcterms:modified xsi:type="dcterms:W3CDTF">2016-02-17T09:58:0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