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EF2-C4DC-4E43-99A3-FFB8D50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382-682B-4B14-8BE3-1A281387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C3C-BE11-41CD-997E-46365EE1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A17-CAC7-445D-AB24-2E7BC6D9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AC0E-B766-4459-9649-B2318E68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7121-BD7A-4DC1-929C-66A63EC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D867-AC66-414A-9A22-5356DCEB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013D-B6B3-457F-BB59-584F7DA4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E742-2DC8-4ED0-92A7-D2380D7A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EBD6-FA72-4B3F-A782-E4450951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998C-C339-41C9-973F-158172D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DD8-772E-4D4D-8024-C4773616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4745-72FF-4FBE-87D1-D671D250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678-D189-45BE-9B2C-300DE8E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4DCE-E070-41E5-8A0F-98FAC3FB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31C-DBF8-454C-8139-85EC378D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C00-FB8D-46D2-A727-BCEF59A0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642-0A28-4364-A83E-53BA761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545-353A-4A75-A975-202C6466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333-EC17-4F44-A495-70B0DB5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FEE-E559-4B51-ADB1-4D4F5FC7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8AB-92C9-4015-A485-A50CC88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C7A-7162-4F41-80D2-70A5AB4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BDE-C6C3-4780-8E7E-0B13B9F4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D2AD-53CF-4C10-AF38-C965A8302E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FF6-D358-409D-8F98-BA475642B91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#ym_playback=linkmap&amp;ym_cid=26448765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Тема: Воспитание личности в коллективе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857760" y="6458040"/>
            <a:ext cx="152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знаки коллектив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0000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сознательный характер объединения люд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2) единство общих и личных целей членов коллекти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З) относительная устойчивость и длительность функционирова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4) четкая организационная структура внешних и внутренних связей и взаимоотноше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5) наличие органов самоуправл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б) общепринятые нормы поведения и общие ценностные ориент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7) интеллектуально-моральная атмосфера и благоприятный климат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8) защищенность каждого члена коллектива и чувство эмоционального комфор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9) сплоченность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10) коллективная деятельность, результат которой достигается усилиями каждого члена групп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11) межличностные отношения, которые определяются через отношение к общему де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2. Диалектика коллективного и индивидуального в воспитании личн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943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«Индивидуальность необходим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 возможности сохранять нетронуто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220px-Johann_F_Herbart"/>
          <p:cNvPicPr/>
          <p:nvPr/>
        </p:nvPicPr>
        <p:blipFill>
          <a:blip r:embed="rId1"/>
          <a:stretch/>
        </p:blipFill>
        <p:spPr>
          <a:xfrm>
            <a:off x="5943600" y="1676520"/>
            <a:ext cx="281160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019920" y="58341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И Ф. Герба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Факторы, влияющие на положение ученика в коллективе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ндивидуальный социальный опы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Личностные качества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члена коллектива, психологические особ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нешние 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420000"/>
                </a:solidFill>
                <a:latin typeface="Times New Roman"/>
              </a:rPr>
              <a:t>физическая сила, ловкость, красота, «престижные» знакомства, обладание значимыми в глазах детского сообщества веща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80880" y="685800"/>
            <a:ext cx="8382240" cy="106884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Модели взаимодействия личности и колл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2514600" cy="1330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Личность </a:t>
            </a: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подчиняется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коллектив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124080" y="2590920"/>
            <a:ext cx="2590920" cy="281916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Гармонизация отношений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1900" spc="-1" strike="noStrike">
                <a:solidFill>
                  <a:srgbClr val="420000"/>
                </a:solidFill>
                <a:latin typeface="Times New Roman"/>
              </a:rPr>
              <a:t>единство общественных и личностных стремлений и ценностей, добровольный конформизм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095880" y="2590920"/>
            <a:ext cx="2590920" cy="2743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Личность </a:t>
            </a:r>
            <a:r>
              <a:rPr b="1" i="1" lang="ru-RU" sz="2400" spc="-1" strike="noStrike">
                <a:solidFill>
                  <a:srgbClr val="420000"/>
                </a:solidFill>
                <a:latin typeface="Times New Roman"/>
              </a:rPr>
              <a:t>подчиняет себе 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1900" spc="-1" strike="noStrike">
                <a:solidFill>
                  <a:srgbClr val="420000"/>
                </a:solidFill>
                <a:latin typeface="Times New Roman"/>
              </a:rPr>
              <a:t>нонконформизм, неформальное лидерство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28600" y="4038480"/>
            <a:ext cx="1523880" cy="99072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ринимает ценности, следует 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80880" y="5181480"/>
            <a:ext cx="2133720" cy="83844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ринимает на словах, под давл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76520" y="6172200"/>
            <a:ext cx="1523880" cy="457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Бунт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12952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4956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72388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1066680" y="3886200"/>
            <a:ext cx="0" cy="15228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057400" y="3886200"/>
            <a:ext cx="0" cy="129528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743200" y="3886200"/>
            <a:ext cx="0" cy="228600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тношение личности к коллектив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активно-положи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пассивно-положи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активно-отрица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пассивно-отрица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Отношение взрослых к личности воспитанник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адекватное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с завышенной оцен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с заниженной оцен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негат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безразличное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i"/>
          <p:cNvPicPr/>
          <p:nvPr/>
        </p:nvPicPr>
        <p:blipFill>
          <a:blip r:embed="rId1"/>
          <a:stretch/>
        </p:blipFill>
        <p:spPr>
          <a:xfrm>
            <a:off x="7467480" y="10666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3716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Условия эффективности воспитательного воздействия коллектива на отдельную личность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коллектив — субъект воспита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регулярное изменение характера деятельности коллектива, ее разнообраз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широкий диапазон социальных р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создание временных коллективов, перевод неблагополучных членов коллектива туда, где они могут получить более высокий стат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3. Типы и структура детских коллектив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3124080" cy="685800"/>
          </a:xfrm>
          <a:prstGeom prst="rect">
            <a:avLst/>
          </a:prstGeom>
          <a:noFill/>
          <a:ln w="76320">
            <a:solidFill>
              <a:srgbClr val="42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о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800600" y="3429000"/>
            <a:ext cx="3276720" cy="1219320"/>
          </a:xfrm>
          <a:prstGeom prst="rect">
            <a:avLst/>
          </a:prstGeom>
          <a:noFill/>
          <a:ln w="5724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тори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(состоит из первичны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8600" y="3429000"/>
            <a:ext cx="3276720" cy="1981080"/>
          </a:xfrm>
          <a:prstGeom prst="rect">
            <a:avLst/>
          </a:prstGeom>
          <a:noFill/>
          <a:ln w="5724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вичный </a:t>
            </a: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(непосредственный межличностный контакт его членов)(клас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980720" y="2666880"/>
            <a:ext cx="2210040" cy="76212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4191120" y="2666880"/>
            <a:ext cx="2286000" cy="76212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о содержанию деятельности: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учеб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трудов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науч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общественно-полити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художественно-твор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клуб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портивные и д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j0410719"/>
          <p:cNvPicPr/>
          <p:nvPr/>
        </p:nvPicPr>
        <p:blipFill>
          <a:blip r:embed="rId1"/>
          <a:stretch/>
        </p:blipFill>
        <p:spPr>
          <a:xfrm>
            <a:off x="6934320" y="4648320"/>
            <a:ext cx="761760" cy="71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36666666"/>
          <p:cNvPicPr/>
          <p:nvPr/>
        </p:nvPicPr>
        <p:blipFill>
          <a:blip r:embed="rId2"/>
          <a:stretch/>
        </p:blipFill>
        <p:spPr>
          <a:xfrm>
            <a:off x="3200400" y="3276720"/>
            <a:ext cx="74772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80976"/>
          <p:cNvPicPr/>
          <p:nvPr/>
        </p:nvPicPr>
        <p:blipFill>
          <a:blip r:embed="rId3"/>
          <a:stretch/>
        </p:blipFill>
        <p:spPr>
          <a:xfrm>
            <a:off x="3276720" y="1905120"/>
            <a:ext cx="914400" cy="625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0404325"/>
          <p:cNvPicPr/>
          <p:nvPr/>
        </p:nvPicPr>
        <p:blipFill>
          <a:blip r:embed="rId4"/>
          <a:stretch/>
        </p:blipFill>
        <p:spPr>
          <a:xfrm>
            <a:off x="4343400" y="2590920"/>
            <a:ext cx="525600" cy="768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2"/>
          <p:cNvPicPr/>
          <p:nvPr/>
        </p:nvPicPr>
        <p:blipFill>
          <a:blip r:embed="rId5"/>
          <a:stretch/>
        </p:blipFill>
        <p:spPr>
          <a:xfrm>
            <a:off x="4952880" y="5867280"/>
            <a:ext cx="595440" cy="63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4"/>
          <p:cNvPicPr/>
          <p:nvPr/>
        </p:nvPicPr>
        <p:blipFill>
          <a:blip r:embed="rId6"/>
          <a:stretch/>
        </p:blipFill>
        <p:spPr>
          <a:xfrm>
            <a:off x="7696080" y="3809880"/>
            <a:ext cx="1095480" cy="825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6"/>
          <p:cNvPicPr/>
          <p:nvPr/>
        </p:nvPicPr>
        <p:blipFill>
          <a:blip r:embed="rId7"/>
          <a:stretch/>
        </p:blipFill>
        <p:spPr>
          <a:xfrm>
            <a:off x="3200400" y="5029200"/>
            <a:ext cx="11620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о заданной функции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оизводстве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оспитательные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детский и педагогический коллективы учебно-воспитательных учреждений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лан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ущность понятия колл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Диалектика коллективного и индивидуального в воспитании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ипы и структура детских коллектив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Функции коллекти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о социально фиксированному положению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формальные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 (юридически фиксированный статус, социально заданная деятельность)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неформальные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добровольные объединения по интересам, симпатиям и др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о длительности функционирования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стоянные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класс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ременные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коллектив летнего оздоровительного лагеря, бригады и т. п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итуативные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сводные отряды для выполнения определенной задачи, группы творческого дела в КТД и др.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4. Функции коллекти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Регулятив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носитель и пропагандист определенных мировоззренческих, нравственных и социальных устан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Организацион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основная форма организации детской жизне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онсолидацион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объединяющ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) — форма объединения, сплочения, кооп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Стимулирующ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побуждение личности к нравственно ценной деятельности и торможение негативных намерений и поступ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Воспитатель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целенаправленное воздействие на каждую личность членами коллектива и воспитателем и формирующее взаимо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5320" y="762120"/>
            <a:ext cx="53337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И.Г.Песталоцци (1746—1827)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12724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95288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i"/>
          <p:cNvPicPr/>
          <p:nvPr/>
        </p:nvPicPr>
        <p:blipFill>
          <a:blip r:embed="rId1"/>
          <a:stretch/>
        </p:blipFill>
        <p:spPr>
          <a:xfrm>
            <a:off x="457200" y="1828800"/>
            <a:ext cx="163368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"/>
          <p:cNvPicPr/>
          <p:nvPr/>
        </p:nvPicPr>
        <p:blipFill>
          <a:blip r:embed="rId2"/>
          <a:stretch/>
        </p:blipFill>
        <p:spPr>
          <a:xfrm>
            <a:off x="2590920" y="1828800"/>
            <a:ext cx="191124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"/>
          <p:cNvPicPr/>
          <p:nvPr/>
        </p:nvPicPr>
        <p:blipFill>
          <a:blip r:embed="rId3"/>
          <a:stretch/>
        </p:blipFill>
        <p:spPr>
          <a:xfrm>
            <a:off x="4876920" y="182880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4"/>
          <p:cNvPicPr/>
          <p:nvPr/>
        </p:nvPicPr>
        <p:blipFill>
          <a:blip r:embed="rId4"/>
          <a:stretch/>
        </p:blipFill>
        <p:spPr>
          <a:xfrm>
            <a:off x="6746760" y="1905120"/>
            <a:ext cx="16621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4495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Каптерев П.Ф.      Пирогов Н.И.             Ушинский К.Д.   Лазурский А.Ф.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33520" y="5105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«Детская масса», «детская общность», «корпоративный дух школ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Шацкий Станислав Теофилови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2"/>
          <p:cNvPicPr/>
          <p:nvPr/>
        </p:nvPicPr>
        <p:blipFill>
          <a:blip r:embed="rId1"/>
          <a:stretch/>
        </p:blipFill>
        <p:spPr>
          <a:xfrm>
            <a:off x="457200" y="1828800"/>
            <a:ext cx="268920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4"/>
          <p:cNvPicPr/>
          <p:nvPr/>
        </p:nvPicPr>
        <p:blipFill>
          <a:blip r:embed="rId2"/>
          <a:stretch/>
        </p:blipFill>
        <p:spPr>
          <a:xfrm>
            <a:off x="5410080" y="4038480"/>
            <a:ext cx="2006640" cy="167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"/>
          <p:cNvPicPr/>
          <p:nvPr/>
        </p:nvPicPr>
        <p:blipFill>
          <a:blip r:embed="rId3"/>
          <a:stretch/>
        </p:blipFill>
        <p:spPr>
          <a:xfrm>
            <a:off x="3962520" y="1752480"/>
            <a:ext cx="3409920" cy="2341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45720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(1878-193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048120" y="5867280"/>
            <a:ext cx="579096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ервая опытная станция по народному образов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919-193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каренко Антон Семенови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7"/>
          <p:cNvPicPr/>
          <p:nvPr/>
        </p:nvPicPr>
        <p:blipFill>
          <a:blip r:embed="rId1"/>
          <a:stretch/>
        </p:blipFill>
        <p:spPr>
          <a:xfrm>
            <a:off x="3352680" y="1905120"/>
            <a:ext cx="2459160" cy="281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8"/>
          <p:cNvPicPr/>
          <p:nvPr/>
        </p:nvPicPr>
        <p:blipFill>
          <a:blip r:embed="rId2"/>
          <a:stretch/>
        </p:blipFill>
        <p:spPr>
          <a:xfrm>
            <a:off x="6019920" y="1905120"/>
            <a:ext cx="2357280" cy="281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"/>
          <p:cNvPicPr/>
          <p:nvPr/>
        </p:nvPicPr>
        <p:blipFill>
          <a:blip r:embed="rId3"/>
          <a:stretch/>
        </p:blipFill>
        <p:spPr>
          <a:xfrm>
            <a:off x="380880" y="1905120"/>
            <a:ext cx="281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0000"/>
                </a:solidFill>
                <a:latin typeface="Times New Roman"/>
              </a:rPr>
              <a:t>Что дает коллектив личности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Удовлетворяет потребности личности в общении и самоутвержден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является сферой ее жизнедеятельности (человек постоянно находится в каких-то объединениях, вступая в разнообразное взаимодействие и взаимоотношения с другими людь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богатый эмоциональный опы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оведенческий опыт, социальная ценность которого очень значима в последующей жизни челове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через общение и взаимодействие создает условия для познания себя, своих достоинств и пробл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дает возможность проявить свою индивидуальность, самовырази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10040611398-photob"/>
          <p:cNvPicPr/>
          <p:nvPr/>
        </p:nvPicPr>
        <p:blipFill>
          <a:blip r:embed="rId1"/>
          <a:stretch/>
        </p:blipFill>
        <p:spPr>
          <a:xfrm>
            <a:off x="7543800" y="533520"/>
            <a:ext cx="12938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400" spc="-1" strike="noStrike">
                <a:solidFill>
                  <a:srgbClr val="420000"/>
                </a:solidFill>
                <a:latin typeface="Times New Roman"/>
              </a:rPr>
              <a:t>«Коллектив» (от лат. соllective — собирательный) - социальная общность людей, объединенных на основе общественно значимых целей, общих ценностных ориентации, совместной деятельности и общ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Детский коллектив — детская группа, в которой создается система высоконравственных эстетически  воспитывающих общественных отношений, деятельности и общения, способствующая формированию личности  и развитию индивидуальности каждого его чл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4-16T09:59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