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jpeg" ContentType="image/jpeg"/>
  <Override PartName="/ppt/media/image14.jpeg" ContentType="image/jpeg"/>
  <Override PartName="/ppt/media/image16.wmf" ContentType="image/x-wmf"/>
  <Override PartName="/ppt/media/image2.png" ContentType="image/png"/>
  <Override PartName="/ppt/media/image4.jpeg" ContentType="image/jpe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2FA-5D4F-421B-916C-52834983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1C1-AC09-4F19-98B6-1790B2EF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B0B-C3A4-4621-BCCC-FB3FB665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7BA-6FA0-4EC6-B357-92AEEE47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0F20-ADA1-4360-B174-F794CC98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1359-0F05-457C-9ED7-4D4815D7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1BDB-3501-4383-87E0-AD3653E8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D1F5-C709-4C5B-B4AF-83883B2E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CCCD-723D-41F9-A9A7-4922B436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FC3F-08C0-4711-99B0-0B9A99F5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B5C2-085F-434E-A6E6-EE3035F4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6C4-1FDD-4FB6-B856-89826A2E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2DBC-6BB0-4877-AB4C-D87818D7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3439-6E57-48FB-A1B9-72075463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4F59-D706-4A9C-B242-EF4FAB1E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F509-148F-46FC-997C-46B7BF67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5627-11D3-4C62-868E-E1145E44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8A5-C632-4D36-AE96-F7D3DB2D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02D-BFE6-4AAD-9AA5-25E5C62B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E14-FA1F-43B2-8C2C-0D68A0E5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892-5714-4D3D-8E66-4849A440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867-3441-4D9F-8048-F5201794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D52-7CCB-4B15-BC12-BC809A1B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B1B7-52C6-4B7B-8D74-F1459B54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CF42-EF23-452D-86FA-B002078A31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F473-765C-4998-A483-D7E4FEF25FB8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#ym_playback=linkmap&amp;ym_cid=26448765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0000"/>
                </a:solidFill>
                <a:latin typeface="Times New Roman"/>
              </a:rPr>
              <a:t>Тема: Воспитание личности в коллективе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857760" y="6458040"/>
            <a:ext cx="152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Бесплатные презента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prezentacija.biz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знаки коллектив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0000"/>
                </a:solidFill>
                <a:latin typeface="Times New Roman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сознательный характер объединения люде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2) единство общих и личных целей членов коллектив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З) относительная устойчивость и длительность функционирова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4) четкая организационная структура внешних и внутренних связей и взаимоотношени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5) наличие органов самоуправл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б) общепринятые нормы поведения и общие ценностные ориентаци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7) интеллектуально-моральная атмосфера и благоприятный климат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8) защищенность каждого члена коллектива и чувство эмоционального комфорт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9) сплоченность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10) коллективная деятельность, результат которой достигается усилиями каждого члена групп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11) межличностные отношения, которые определяются через отношение к общему делу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2. Диалектика коллективного и индивидуального в воспитании личност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5943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«Индивидуальность необходим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по возможности сохранять нетронутой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220px-Johann_F_Herbart"/>
          <p:cNvPicPr/>
          <p:nvPr/>
        </p:nvPicPr>
        <p:blipFill>
          <a:blip r:embed="rId1"/>
          <a:stretch/>
        </p:blipFill>
        <p:spPr>
          <a:xfrm>
            <a:off x="5943600" y="1676520"/>
            <a:ext cx="2811600" cy="3809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6019920" y="583416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И Ф. Герба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Факторы, влияющие на положение ученика в коллективе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Индивидуальный социальный опы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Личностные качества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члена коллектива, психологические особ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Внешние характеристи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420000"/>
                </a:solidFill>
                <a:latin typeface="Times New Roman"/>
              </a:rPr>
              <a:t>физическая сила, ловкость, красота, «престижные» знакомства, обладание значимыми в глазах детского сообщества веща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380880" y="685800"/>
            <a:ext cx="8382240" cy="106884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Модели взаимодействия личности и коллект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520" y="2590560"/>
            <a:ext cx="2514600" cy="133020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txBody>
          <a:bodyPr anchor="t">
            <a:normAutofit/>
          </a:bodyPr>
          <a:p>
            <a:pPr marL="92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Личность </a:t>
            </a:r>
            <a:r>
              <a:rPr b="1" i="1" lang="ru-RU" sz="2800" spc="-1" strike="noStrike">
                <a:solidFill>
                  <a:srgbClr val="420000"/>
                </a:solidFill>
                <a:latin typeface="Times New Roman"/>
              </a:rPr>
              <a:t>подчиняется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 коллектив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124080" y="2590920"/>
            <a:ext cx="2590920" cy="281916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0000"/>
                </a:solidFill>
                <a:latin typeface="Times New Roman"/>
              </a:rPr>
              <a:t>Гармонизация отношений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20000"/>
                </a:solidFill>
                <a:latin typeface="Times New Roman"/>
              </a:rPr>
              <a:t>(</a:t>
            </a:r>
            <a:r>
              <a:rPr b="0" i="1" lang="ru-RU" sz="1900" spc="-1" strike="noStrike">
                <a:solidFill>
                  <a:srgbClr val="420000"/>
                </a:solidFill>
                <a:latin typeface="Times New Roman"/>
              </a:rPr>
              <a:t>единство общественных и личностных стремлений и ценностей, добровольный конформизм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095880" y="2590920"/>
            <a:ext cx="2590920" cy="274320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Личность </a:t>
            </a:r>
            <a:r>
              <a:rPr b="1" i="1" lang="ru-RU" sz="2400" spc="-1" strike="noStrike">
                <a:solidFill>
                  <a:srgbClr val="420000"/>
                </a:solidFill>
                <a:latin typeface="Times New Roman"/>
              </a:rPr>
              <a:t>подчиняет себе </a:t>
            </a: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коллекти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420000"/>
                </a:solidFill>
                <a:latin typeface="Times New Roman"/>
              </a:rPr>
              <a:t>(</a:t>
            </a:r>
            <a:r>
              <a:rPr b="0" i="1" lang="ru-RU" sz="1900" spc="-1" strike="noStrike">
                <a:solidFill>
                  <a:srgbClr val="420000"/>
                </a:solidFill>
                <a:latin typeface="Times New Roman"/>
              </a:rPr>
              <a:t>нонконформизм, неформальное лидерство)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28600" y="4038480"/>
            <a:ext cx="1523880" cy="99072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136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Times New Roman"/>
              </a:rPr>
              <a:t>Принимает ценности, следует и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380880" y="5181480"/>
            <a:ext cx="2133720" cy="83844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136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Times New Roman"/>
              </a:rPr>
              <a:t>Принимает на словах, под давлени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1676520" y="6172200"/>
            <a:ext cx="1523880" cy="45720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136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Times New Roman"/>
              </a:rPr>
              <a:t>Бунт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1295280" y="1752480"/>
            <a:ext cx="0" cy="83844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495680" y="1752480"/>
            <a:ext cx="0" cy="83844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7238880" y="1752480"/>
            <a:ext cx="0" cy="83844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1066680" y="3886200"/>
            <a:ext cx="0" cy="15228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057400" y="3886200"/>
            <a:ext cx="0" cy="129528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2743200" y="3886200"/>
            <a:ext cx="0" cy="228600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Отношение личности к коллективу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активно-положитель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пассивно-положитель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активно-отрицатель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пассивно-отрицатель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Отношение взрослых к личности воспитанника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адекватное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с завышенной оцен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с заниженной оцен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негатив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безразличное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i"/>
          <p:cNvPicPr/>
          <p:nvPr/>
        </p:nvPicPr>
        <p:blipFill>
          <a:blip r:embed="rId1"/>
          <a:stretch/>
        </p:blipFill>
        <p:spPr>
          <a:xfrm>
            <a:off x="7467480" y="1066680"/>
            <a:ext cx="12765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137160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Условия эффективности воспитательного воздействия коллектива на отдельную личность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коллектив — субъект воспита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регулярное изменение характера деятельности коллектива, ее разнообраз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широкий диапазон социальных рол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создание временных коллективов, перевод неблагополучных членов коллектива туда, где они могут получить более высокий стату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3. Типы и структура детских коллективов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19520" y="1904760"/>
            <a:ext cx="3124080" cy="685800"/>
          </a:xfrm>
          <a:prstGeom prst="rect">
            <a:avLst/>
          </a:prstGeom>
          <a:noFill/>
          <a:ln w="76320">
            <a:solidFill>
              <a:srgbClr val="42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о 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800600" y="3429000"/>
            <a:ext cx="3276720" cy="1219320"/>
          </a:xfrm>
          <a:prstGeom prst="rect">
            <a:avLst/>
          </a:prstGeom>
          <a:noFill/>
          <a:ln w="5724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Вторич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(состоит из первичны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28600" y="3429000"/>
            <a:ext cx="3276720" cy="1981080"/>
          </a:xfrm>
          <a:prstGeom prst="rect">
            <a:avLst/>
          </a:prstGeom>
          <a:noFill/>
          <a:ln w="5724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ервичный </a:t>
            </a: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(непосредственный межличностный контакт его членов)(клас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980720" y="2666880"/>
            <a:ext cx="2210040" cy="76212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4191120" y="2666880"/>
            <a:ext cx="2286000" cy="76212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о содержанию деятельности: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учеб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трудов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науч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общественно-политическ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художественно-творческ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клуб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портивные и д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j0410719"/>
          <p:cNvPicPr/>
          <p:nvPr/>
        </p:nvPicPr>
        <p:blipFill>
          <a:blip r:embed="rId1"/>
          <a:stretch/>
        </p:blipFill>
        <p:spPr>
          <a:xfrm>
            <a:off x="6934320" y="4648320"/>
            <a:ext cx="761760" cy="715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436666666"/>
          <p:cNvPicPr/>
          <p:nvPr/>
        </p:nvPicPr>
        <p:blipFill>
          <a:blip r:embed="rId2"/>
          <a:stretch/>
        </p:blipFill>
        <p:spPr>
          <a:xfrm>
            <a:off x="3200400" y="3276720"/>
            <a:ext cx="747720" cy="628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80976"/>
          <p:cNvPicPr/>
          <p:nvPr/>
        </p:nvPicPr>
        <p:blipFill>
          <a:blip r:embed="rId3"/>
          <a:stretch/>
        </p:blipFill>
        <p:spPr>
          <a:xfrm>
            <a:off x="3276720" y="1905120"/>
            <a:ext cx="914400" cy="625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j0404325"/>
          <p:cNvPicPr/>
          <p:nvPr/>
        </p:nvPicPr>
        <p:blipFill>
          <a:blip r:embed="rId4"/>
          <a:stretch/>
        </p:blipFill>
        <p:spPr>
          <a:xfrm>
            <a:off x="4343400" y="2590920"/>
            <a:ext cx="525600" cy="768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2"/>
          <p:cNvPicPr/>
          <p:nvPr/>
        </p:nvPicPr>
        <p:blipFill>
          <a:blip r:embed="rId5"/>
          <a:stretch/>
        </p:blipFill>
        <p:spPr>
          <a:xfrm>
            <a:off x="4952880" y="5867280"/>
            <a:ext cx="595440" cy="63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4"/>
          <p:cNvPicPr/>
          <p:nvPr/>
        </p:nvPicPr>
        <p:blipFill>
          <a:blip r:embed="rId6"/>
          <a:stretch/>
        </p:blipFill>
        <p:spPr>
          <a:xfrm>
            <a:off x="7696080" y="3809880"/>
            <a:ext cx="1095480" cy="825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6"/>
          <p:cNvPicPr/>
          <p:nvPr/>
        </p:nvPicPr>
        <p:blipFill>
          <a:blip r:embed="rId7"/>
          <a:stretch/>
        </p:blipFill>
        <p:spPr>
          <a:xfrm>
            <a:off x="3200400" y="5029200"/>
            <a:ext cx="11620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о заданной функции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производстве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воспитательные</a:t>
            </a: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(детский и педагогический коллективы учебно-воспитательных учреждений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лан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Сущность понятия коллект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Диалектика коллективного и индивидуального в воспитании лич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Типы и структура детских коллектив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Функции коллекти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По социально фиксированному положению: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формальные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 (юридически фиксированный статус, социально заданная деятельность)</a:t>
            </a: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неформальные</a:t>
            </a: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(добровольные объединения по интересам, симпатиям и др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По длительности функционирования: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постоянные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(класс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временные 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(коллектив летнего оздоровительного лагеря, бригады и т. п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ситуативные 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(сводные отряды для выполнения определенной задачи, группы творческого дела в КТД и др.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4. Функции коллекти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Регулятивн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— носитель и пропагандист определенных мировоззренческих, нравственных и социальных установ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Организационн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— основная форма организации детской жизне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Консолидационн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объединяющ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) — форма объединения, сплочения, коопе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Стимулирующ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— побуждение личности к нравственно ценной деятельности и торможение негативных намерений и поступ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Воспитательн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— целенаправленное воздействие на каждую личность членами коллектива и воспитателем и формирующее взаимоде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05320" y="762120"/>
            <a:ext cx="53337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И.Г.Песталоцци (1746—1827)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2127240" cy="274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952880" cy="35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i"/>
          <p:cNvPicPr/>
          <p:nvPr/>
        </p:nvPicPr>
        <p:blipFill>
          <a:blip r:embed="rId1"/>
          <a:stretch/>
        </p:blipFill>
        <p:spPr>
          <a:xfrm>
            <a:off x="457200" y="1828800"/>
            <a:ext cx="163368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"/>
          <p:cNvPicPr/>
          <p:nvPr/>
        </p:nvPicPr>
        <p:blipFill>
          <a:blip r:embed="rId2"/>
          <a:stretch/>
        </p:blipFill>
        <p:spPr>
          <a:xfrm>
            <a:off x="2590920" y="1828800"/>
            <a:ext cx="1911240" cy="2133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3"/>
          <p:cNvPicPr/>
          <p:nvPr/>
        </p:nvPicPr>
        <p:blipFill>
          <a:blip r:embed="rId3"/>
          <a:stretch/>
        </p:blipFill>
        <p:spPr>
          <a:xfrm>
            <a:off x="4876920" y="1828800"/>
            <a:ext cx="142236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4"/>
          <p:cNvPicPr/>
          <p:nvPr/>
        </p:nvPicPr>
        <p:blipFill>
          <a:blip r:embed="rId4"/>
          <a:stretch/>
        </p:blipFill>
        <p:spPr>
          <a:xfrm>
            <a:off x="6746760" y="1905120"/>
            <a:ext cx="16621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4495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Каптерев П.Ф.      Пирогов Н.И.             Ушинский К.Д.   Лазурский А.Ф.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33520" y="5105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«Детская масса», «детская общность», «корпоративный дух школы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Шацкий Станислав Теофилович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2"/>
          <p:cNvPicPr/>
          <p:nvPr/>
        </p:nvPicPr>
        <p:blipFill>
          <a:blip r:embed="rId1"/>
          <a:stretch/>
        </p:blipFill>
        <p:spPr>
          <a:xfrm>
            <a:off x="457200" y="1828800"/>
            <a:ext cx="2689200" cy="3505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4"/>
          <p:cNvPicPr/>
          <p:nvPr/>
        </p:nvPicPr>
        <p:blipFill>
          <a:blip r:embed="rId2"/>
          <a:stretch/>
        </p:blipFill>
        <p:spPr>
          <a:xfrm>
            <a:off x="5410080" y="4038480"/>
            <a:ext cx="2006640" cy="1677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i"/>
          <p:cNvPicPr/>
          <p:nvPr/>
        </p:nvPicPr>
        <p:blipFill>
          <a:blip r:embed="rId3"/>
          <a:stretch/>
        </p:blipFill>
        <p:spPr>
          <a:xfrm>
            <a:off x="3962520" y="1752480"/>
            <a:ext cx="3409920" cy="23418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457200" y="5562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(1878-193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048120" y="5867280"/>
            <a:ext cx="579096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Times New Roman"/>
              </a:rPr>
              <a:t>Первая опытная станция по народному образова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919-193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акаренко Антон Семенович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7"/>
          <p:cNvPicPr/>
          <p:nvPr/>
        </p:nvPicPr>
        <p:blipFill>
          <a:blip r:embed="rId1"/>
          <a:stretch/>
        </p:blipFill>
        <p:spPr>
          <a:xfrm>
            <a:off x="3352680" y="1905120"/>
            <a:ext cx="2459160" cy="281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8"/>
          <p:cNvPicPr/>
          <p:nvPr/>
        </p:nvPicPr>
        <p:blipFill>
          <a:blip r:embed="rId2"/>
          <a:stretch/>
        </p:blipFill>
        <p:spPr>
          <a:xfrm>
            <a:off x="6019920" y="1905120"/>
            <a:ext cx="2357280" cy="2819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5"/>
          <p:cNvPicPr/>
          <p:nvPr/>
        </p:nvPicPr>
        <p:blipFill>
          <a:blip r:embed="rId3"/>
          <a:stretch/>
        </p:blipFill>
        <p:spPr>
          <a:xfrm>
            <a:off x="380880" y="1905120"/>
            <a:ext cx="281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20000"/>
                </a:solidFill>
                <a:latin typeface="Times New Roman"/>
              </a:rPr>
              <a:t>Что дает коллектив личности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Удовлетворяет потребности личности в общении и самоутвержден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является сферой ее жизнедеятельности (человек постоянно находится в каких-то объединениях, вступая в разнообразное взаимодействие и взаимоотношения с другими людьм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богатый эмоциональный опы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поведенческий опыт, социальная ценность которого очень значима в последующей жизни челове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через общение и взаимодействие создает условия для познания себя, своих достоинств и пробле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дает возможность проявить свою индивидуальность, самовыразить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10040611398-photob"/>
          <p:cNvPicPr/>
          <p:nvPr/>
        </p:nvPicPr>
        <p:blipFill>
          <a:blip r:embed="rId1"/>
          <a:stretch/>
        </p:blipFill>
        <p:spPr>
          <a:xfrm>
            <a:off x="7543800" y="533520"/>
            <a:ext cx="129384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400" spc="-1" strike="noStrike">
                <a:solidFill>
                  <a:srgbClr val="420000"/>
                </a:solidFill>
                <a:latin typeface="Times New Roman"/>
              </a:rPr>
              <a:t>«Коллектив» (от лат. соllective — собирательный) - социальная общность людей, объединенных на основе общественно значимых целей, общих ценностных ориентации, совместной деятельности и общения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Детский коллектив — детская группа, в которой создается система высоконравственных эстетически  воспитывающих общественных отношений, деятельности и общения, способствующая формированию личности  и развитию индивидуальности каждого его чле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bom zav</cp:lastModifiedBy>
  <dcterms:modified xsi:type="dcterms:W3CDTF">2015-04-16T09:59:1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