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jpeg" ContentType="image/jpeg"/>
  <Override PartName="/ppt/media/image14.jpeg" ContentType="image/jpeg"/>
  <Override PartName="/ppt/media/image16.wmf" ContentType="image/x-wmf"/>
  <Override PartName="/ppt/media/image2.png" ContentType="image/png"/>
  <Override PartName="/ppt/media/image4.jpeg" ContentType="image/jpe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2AA-0872-4C70-BA93-E132FF5E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401-98C3-4411-B2E5-5DA3F170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495-8710-4085-98C6-939D6B81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8A9-B581-4EBC-90D1-85E72D3C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AE2D-FA87-4F3C-924D-10E45A80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B506-CCA8-401B-AAD0-4C5EDC87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081A-7500-4762-BF08-C1CE8598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1512-D6D7-49A9-A021-8CE0DD99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E3CB-0F74-4032-86F3-E0209750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0232-8A7A-4E53-96E8-8D572814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A495-18BE-42DB-9908-8D366F10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275-B0C6-4BAE-AC0A-B574B975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2BF2-204B-4369-8A18-F22B5488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BE2E-27D9-4362-9F2C-3C3CA7A6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A4BD-231A-47BE-B561-261593D5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7624-726C-4EBE-9298-E9200AEA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2941-0989-4DCA-93EB-BB36B552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F42-2FEE-4B3F-BAE4-F0851758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271-8843-403D-ACA3-DFBFB168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3B2-9737-43C4-91BD-9B3B1371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2FE-0229-4665-AC79-691F7552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846-98CF-4D41-98EC-C4845CF3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295-3800-4648-9937-D594E125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301-2C67-464E-81A1-9A815817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5BB1-9A9D-4833-A316-D0016D0774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CBB9-56E9-48FE-9438-D5F1608E8891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ja.biz/#ym_playback=linkmap&amp;ym_cid=26448765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0000"/>
                </a:solidFill>
                <a:latin typeface="Times New Roman"/>
              </a:rPr>
              <a:t>Тема: Воспитание личности в коллективе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857760" y="6458040"/>
            <a:ext cx="152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Бесплатные презента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prezentacija.biz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знаки коллектив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20000"/>
                </a:solidFill>
                <a:latin typeface="Times New Roman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сознательный характер объединения люде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2) единство общих и личных целей членов коллектив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З) относительная устойчивость и длительность функционирова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4) четкая организационная структура внешних и внутренних связей и взаимоотношени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5) наличие органов самоуправл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б) общепринятые нормы поведения и общие ценностные ориентаци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7) интеллектуально-моральная атмосфера и благоприятный климат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8) защищенность каждого члена коллектива и чувство эмоционального комфорт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9) сплоченность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10) коллективная деятельность, результат которой достигается усилиями каждого члена групп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Times New Roman"/>
              </a:rPr>
              <a:t>11) межличностные отношения, которые определяются через отношение к общему делу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2. Диалектика коллективного и индивидуального в воспитании личност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5943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«Индивидуальность необходим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по возможности сохранять нетронутой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220px-Johann_F_Herbart"/>
          <p:cNvPicPr/>
          <p:nvPr/>
        </p:nvPicPr>
        <p:blipFill>
          <a:blip r:embed="rId1"/>
          <a:stretch/>
        </p:blipFill>
        <p:spPr>
          <a:xfrm>
            <a:off x="5943600" y="1676520"/>
            <a:ext cx="2811600" cy="3809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6019920" y="583416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И Ф. Герба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Факторы, влияющие на положение ученика в коллективе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Индивидуальный социальный опы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Личностные качества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члена коллектива, психологические особ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Внешние характеристи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420000"/>
                </a:solidFill>
                <a:latin typeface="Times New Roman"/>
              </a:rPr>
              <a:t>физическая сила, ловкость, красота, «престижные» знакомства, обладание значимыми в глазах детского сообщества веща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380880" y="685800"/>
            <a:ext cx="8382240" cy="106884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Модели взаимодействия личности и коллект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520" y="2590560"/>
            <a:ext cx="2514600" cy="133020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txBody>
          <a:bodyPr anchor="t">
            <a:normAutofit/>
          </a:bodyPr>
          <a:p>
            <a:pPr marL="92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Личность </a:t>
            </a:r>
            <a:r>
              <a:rPr b="1" i="1" lang="ru-RU" sz="2800" spc="-1" strike="noStrike">
                <a:solidFill>
                  <a:srgbClr val="420000"/>
                </a:solidFill>
                <a:latin typeface="Times New Roman"/>
              </a:rPr>
              <a:t>подчиняется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 коллектив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124080" y="2590920"/>
            <a:ext cx="2590920" cy="281916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0000"/>
                </a:solidFill>
                <a:latin typeface="Times New Roman"/>
              </a:rPr>
              <a:t>Гармонизация отношений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20000"/>
                </a:solidFill>
                <a:latin typeface="Times New Roman"/>
              </a:rPr>
              <a:t>(</a:t>
            </a:r>
            <a:r>
              <a:rPr b="0" i="1" lang="ru-RU" sz="1900" spc="-1" strike="noStrike">
                <a:solidFill>
                  <a:srgbClr val="420000"/>
                </a:solidFill>
                <a:latin typeface="Times New Roman"/>
              </a:rPr>
              <a:t>единство общественных и личностных стремлений и ценностей, добровольный конформизм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095880" y="2590920"/>
            <a:ext cx="2590920" cy="274320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Личность </a:t>
            </a:r>
            <a:r>
              <a:rPr b="1" i="1" lang="ru-RU" sz="2400" spc="-1" strike="noStrike">
                <a:solidFill>
                  <a:srgbClr val="420000"/>
                </a:solidFill>
                <a:latin typeface="Times New Roman"/>
              </a:rPr>
              <a:t>подчиняет себе </a:t>
            </a: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коллекти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420000"/>
                </a:solidFill>
                <a:latin typeface="Times New Roman"/>
              </a:rPr>
              <a:t>(</a:t>
            </a:r>
            <a:r>
              <a:rPr b="0" i="1" lang="ru-RU" sz="1900" spc="-1" strike="noStrike">
                <a:solidFill>
                  <a:srgbClr val="420000"/>
                </a:solidFill>
                <a:latin typeface="Times New Roman"/>
              </a:rPr>
              <a:t>нонконформизм, неформальное лидерство)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228600" y="4038480"/>
            <a:ext cx="1523880" cy="99072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136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Times New Roman"/>
              </a:rPr>
              <a:t>Принимает ценности, следует и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380880" y="5181480"/>
            <a:ext cx="2133720" cy="83844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136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Times New Roman"/>
              </a:rPr>
              <a:t>Принимает на словах, под давлени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1676520" y="6172200"/>
            <a:ext cx="1523880" cy="45720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  <a:effectLst>
            <a:outerShdw dist="153753" dir="2700000" blurRad="0" rotWithShape="0">
              <a:srgbClr val="2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136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Times New Roman"/>
              </a:rPr>
              <a:t>Бунт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1295280" y="1752480"/>
            <a:ext cx="0" cy="83844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495680" y="1752480"/>
            <a:ext cx="0" cy="83844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7238880" y="1752480"/>
            <a:ext cx="0" cy="83844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1066680" y="3886200"/>
            <a:ext cx="0" cy="15228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057400" y="3886200"/>
            <a:ext cx="0" cy="129528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2743200" y="3886200"/>
            <a:ext cx="0" cy="228600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Отношение личности к коллективу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активно-положитель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пассивно-положитель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активно-отрицатель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пассивно-отрицатель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Отношение взрослых к личности воспитанника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адекватное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с завышенной оцен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с заниженной оцен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негатив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безразличное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i"/>
          <p:cNvPicPr/>
          <p:nvPr/>
        </p:nvPicPr>
        <p:blipFill>
          <a:blip r:embed="rId1"/>
          <a:stretch/>
        </p:blipFill>
        <p:spPr>
          <a:xfrm>
            <a:off x="7467480" y="1066680"/>
            <a:ext cx="12765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1371600"/>
          </a:xfrm>
          <a:prstGeom prst="rect">
            <a:avLst/>
          </a:prstGeom>
          <a:noFill/>
          <a:ln w="9360">
            <a:solidFill>
              <a:srgbClr val="42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Условия эффективности воспитательного воздействия коллектива на отдельную личность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коллектив — субъект воспита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регулярное изменение характера деятельности коллектива, ее разнообраз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широкий диапазон социальных рол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создание временных коллективов, перевод неблагополучных членов коллектива туда, где они могут получить более высокий стату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3. Типы и структура детских коллективов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19520" y="1904760"/>
            <a:ext cx="3124080" cy="685800"/>
          </a:xfrm>
          <a:prstGeom prst="rect">
            <a:avLst/>
          </a:prstGeom>
          <a:noFill/>
          <a:ln w="76320">
            <a:solidFill>
              <a:srgbClr val="42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о 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800600" y="3429000"/>
            <a:ext cx="3276720" cy="1219320"/>
          </a:xfrm>
          <a:prstGeom prst="rect">
            <a:avLst/>
          </a:prstGeom>
          <a:noFill/>
          <a:ln w="5724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Вторич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(состоит из первичны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28600" y="3429000"/>
            <a:ext cx="3276720" cy="1981080"/>
          </a:xfrm>
          <a:prstGeom prst="rect">
            <a:avLst/>
          </a:prstGeom>
          <a:noFill/>
          <a:ln w="5724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ервичный </a:t>
            </a: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(непосредственный межличностный контакт его членов)(клас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980720" y="2666880"/>
            <a:ext cx="2210040" cy="76212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4191120" y="2666880"/>
            <a:ext cx="2286000" cy="762120"/>
          </a:xfrm>
          <a:prstGeom prst="line">
            <a:avLst/>
          </a:prstGeom>
          <a:ln w="38160">
            <a:solidFill>
              <a:srgbClr val="4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о содержанию деятельности: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учеб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трудов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науч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общественно-политическ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художественно-творческ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клуб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портивные и д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j0410719"/>
          <p:cNvPicPr/>
          <p:nvPr/>
        </p:nvPicPr>
        <p:blipFill>
          <a:blip r:embed="rId1"/>
          <a:stretch/>
        </p:blipFill>
        <p:spPr>
          <a:xfrm>
            <a:off x="6934320" y="4648320"/>
            <a:ext cx="761760" cy="715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436666666"/>
          <p:cNvPicPr/>
          <p:nvPr/>
        </p:nvPicPr>
        <p:blipFill>
          <a:blip r:embed="rId2"/>
          <a:stretch/>
        </p:blipFill>
        <p:spPr>
          <a:xfrm>
            <a:off x="3200400" y="3276720"/>
            <a:ext cx="747720" cy="628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80976"/>
          <p:cNvPicPr/>
          <p:nvPr/>
        </p:nvPicPr>
        <p:blipFill>
          <a:blip r:embed="rId3"/>
          <a:stretch/>
        </p:blipFill>
        <p:spPr>
          <a:xfrm>
            <a:off x="3276720" y="1905120"/>
            <a:ext cx="914400" cy="625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j0404325"/>
          <p:cNvPicPr/>
          <p:nvPr/>
        </p:nvPicPr>
        <p:blipFill>
          <a:blip r:embed="rId4"/>
          <a:stretch/>
        </p:blipFill>
        <p:spPr>
          <a:xfrm>
            <a:off x="4343400" y="2590920"/>
            <a:ext cx="525600" cy="768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2"/>
          <p:cNvPicPr/>
          <p:nvPr/>
        </p:nvPicPr>
        <p:blipFill>
          <a:blip r:embed="rId5"/>
          <a:stretch/>
        </p:blipFill>
        <p:spPr>
          <a:xfrm>
            <a:off x="4952880" y="5867280"/>
            <a:ext cx="595440" cy="63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4"/>
          <p:cNvPicPr/>
          <p:nvPr/>
        </p:nvPicPr>
        <p:blipFill>
          <a:blip r:embed="rId6"/>
          <a:stretch/>
        </p:blipFill>
        <p:spPr>
          <a:xfrm>
            <a:off x="7696080" y="3809880"/>
            <a:ext cx="1095480" cy="825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6"/>
          <p:cNvPicPr/>
          <p:nvPr/>
        </p:nvPicPr>
        <p:blipFill>
          <a:blip r:embed="rId7"/>
          <a:stretch/>
        </p:blipFill>
        <p:spPr>
          <a:xfrm>
            <a:off x="3200400" y="5029200"/>
            <a:ext cx="11620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о заданной функции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производстве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воспитательные</a:t>
            </a: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(детский и педагогический коллективы учебно-воспитательных учреждений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лан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Сущность понятия коллект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Диалектика коллективного и индивидуального в воспитании лич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Типы и структура детских коллектив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Функции коллекти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По социально фиксированному положению: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формальные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 (юридически фиксированный статус, социально заданная деятельность)</a:t>
            </a: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неформальные</a:t>
            </a:r>
            <a:r>
              <a:rPr b="0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(добровольные объединения по интересам, симпатиям и др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По длительности функционирования: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постоянные</a:t>
            </a: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(класс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временные 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(коллектив летнего оздоровительного лагеря, бригады и т. п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ситуативные </a:t>
            </a:r>
            <a:r>
              <a:rPr b="0" i="1" lang="ru-RU" sz="3600" spc="-1" strike="noStrike">
                <a:solidFill>
                  <a:srgbClr val="420000"/>
                </a:solidFill>
                <a:latin typeface="Times New Roman"/>
              </a:rPr>
              <a:t>(сводные отряды для выполнения определенной задачи, группы творческого дела в КТД и др.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4. Функции коллекти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Регулятивн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— носитель и пропагандист определенных мировоззренческих, нравственных и социальных установ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Организационн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— основная форма организации детской жизне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Консолидационн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объединяющ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) — форма объединения, сплочения, коопе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Стимулирующ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— побуждение личности к нравственно ценной деятельности и торможение негативных намерений и поступ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Воспитательная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— целенаправленное воздействие на каждую личность членами коллектива и воспитателем и формирующее взаимоде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05320" y="762120"/>
            <a:ext cx="53337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И.Г.Песталоцци (1746—1827)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2127240" cy="274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952880" cy="35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i"/>
          <p:cNvPicPr/>
          <p:nvPr/>
        </p:nvPicPr>
        <p:blipFill>
          <a:blip r:embed="rId1"/>
          <a:stretch/>
        </p:blipFill>
        <p:spPr>
          <a:xfrm>
            <a:off x="457200" y="1828800"/>
            <a:ext cx="163368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"/>
          <p:cNvPicPr/>
          <p:nvPr/>
        </p:nvPicPr>
        <p:blipFill>
          <a:blip r:embed="rId2"/>
          <a:stretch/>
        </p:blipFill>
        <p:spPr>
          <a:xfrm>
            <a:off x="2590920" y="1828800"/>
            <a:ext cx="1911240" cy="2133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3"/>
          <p:cNvPicPr/>
          <p:nvPr/>
        </p:nvPicPr>
        <p:blipFill>
          <a:blip r:embed="rId3"/>
          <a:stretch/>
        </p:blipFill>
        <p:spPr>
          <a:xfrm>
            <a:off x="4876920" y="1828800"/>
            <a:ext cx="142236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4"/>
          <p:cNvPicPr/>
          <p:nvPr/>
        </p:nvPicPr>
        <p:blipFill>
          <a:blip r:embed="rId4"/>
          <a:stretch/>
        </p:blipFill>
        <p:spPr>
          <a:xfrm>
            <a:off x="6746760" y="1905120"/>
            <a:ext cx="16621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4495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Каптерев П.Ф.      Пирогов Н.И.             Ушинский К.Д.   Лазурский А.Ф.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33520" y="5105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«Детская масса», «детская общность», «корпоративный дух школы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Шацкий Станислав Теофилович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2"/>
          <p:cNvPicPr/>
          <p:nvPr/>
        </p:nvPicPr>
        <p:blipFill>
          <a:blip r:embed="rId1"/>
          <a:stretch/>
        </p:blipFill>
        <p:spPr>
          <a:xfrm>
            <a:off x="457200" y="1828800"/>
            <a:ext cx="2689200" cy="3505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4"/>
          <p:cNvPicPr/>
          <p:nvPr/>
        </p:nvPicPr>
        <p:blipFill>
          <a:blip r:embed="rId2"/>
          <a:stretch/>
        </p:blipFill>
        <p:spPr>
          <a:xfrm>
            <a:off x="5410080" y="4038480"/>
            <a:ext cx="2006640" cy="1677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i"/>
          <p:cNvPicPr/>
          <p:nvPr/>
        </p:nvPicPr>
        <p:blipFill>
          <a:blip r:embed="rId3"/>
          <a:stretch/>
        </p:blipFill>
        <p:spPr>
          <a:xfrm>
            <a:off x="3962520" y="1752480"/>
            <a:ext cx="3409920" cy="23418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457200" y="5562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(1878-193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048120" y="5867280"/>
            <a:ext cx="579096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Times New Roman"/>
              </a:rPr>
              <a:t>Первая опытная станция по народному образова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919-193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акаренко Антон Семенович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7"/>
          <p:cNvPicPr/>
          <p:nvPr/>
        </p:nvPicPr>
        <p:blipFill>
          <a:blip r:embed="rId1"/>
          <a:stretch/>
        </p:blipFill>
        <p:spPr>
          <a:xfrm>
            <a:off x="3352680" y="1905120"/>
            <a:ext cx="2459160" cy="281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8"/>
          <p:cNvPicPr/>
          <p:nvPr/>
        </p:nvPicPr>
        <p:blipFill>
          <a:blip r:embed="rId2"/>
          <a:stretch/>
        </p:blipFill>
        <p:spPr>
          <a:xfrm>
            <a:off x="6019920" y="1905120"/>
            <a:ext cx="2357280" cy="2819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5"/>
          <p:cNvPicPr/>
          <p:nvPr/>
        </p:nvPicPr>
        <p:blipFill>
          <a:blip r:embed="rId3"/>
          <a:stretch/>
        </p:blipFill>
        <p:spPr>
          <a:xfrm>
            <a:off x="380880" y="1905120"/>
            <a:ext cx="281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20000"/>
                </a:solidFill>
                <a:latin typeface="Times New Roman"/>
              </a:rPr>
              <a:t>Что дает коллектив личности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Удовлетворяет потребности личности в общении и самоутвержден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является сферой ее жизнедеятельности (человек постоянно находится в каких-то объединениях, вступая в разнообразное взаимодействие и взаимоотношения с другими людьм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богатый эмоциональный опы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поведенческий опыт, социальная ценность которого очень значима в последующей жизни челове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через общение и взаимодействие создает условия для познания себя, своих достоинств и пробле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дает возможность проявить свою индивидуальность, самовыразить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10040611398-photob"/>
          <p:cNvPicPr/>
          <p:nvPr/>
        </p:nvPicPr>
        <p:blipFill>
          <a:blip r:embed="rId1"/>
          <a:stretch/>
        </p:blipFill>
        <p:spPr>
          <a:xfrm>
            <a:off x="7543800" y="533520"/>
            <a:ext cx="129384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400" spc="-1" strike="noStrike">
                <a:solidFill>
                  <a:srgbClr val="420000"/>
                </a:solidFill>
                <a:latin typeface="Times New Roman"/>
              </a:rPr>
              <a:t>«Коллектив» (от лат. соllective — собирательный) - социальная общность людей, объединенных на основе общественно значимых целей, общих ценностных ориентации, совместной деятельности и общения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Детский коллектив — детская группа, в которой создается система высоконравственных эстетически  воспитывающих общественных отношений, деятельности и общения, способствующая формированию личности  и развитию индивидуальности каждого его чле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bom zav</cp:lastModifiedBy>
  <dcterms:modified xsi:type="dcterms:W3CDTF">2015-04-16T09:59:1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