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5ABE-1E84-4E8A-8AAD-93A0DECB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723C-F878-4DD5-A8F2-2F29780D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8D39-A241-4C49-ADD2-B8DAB3DD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F163-0974-49F9-9989-91603E16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133E-B6EB-4925-94EC-3C500B0A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B662-1FBD-480F-AFA1-0180CC9E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AD3D-E7A4-4BDE-9580-320D99B9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0D51-60D2-4BD5-94FA-83D1D7EB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FC35-E18D-4220-B7F9-248DE58C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F587-F243-44F4-B0D5-E37F3231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9AE8-B695-4AB2-B8F2-2F029256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E7B1-656A-46D2-82A2-64D1B3A5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E817-2EA9-47B5-A804-0E63B0DC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4C39-AFCA-44A2-A794-870BC19B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D398-4605-4285-ABC6-933387D6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7FF1-9A80-452B-8F72-E54DE2A6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766C-746E-4094-80DA-4A78E4EB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9C051-F3DC-4BA5-9A29-BDB9F73B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877165-0FCC-4549-BAF5-08C90BC3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12E01-6408-4EA4-9BBE-3D41D6A9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E7686-D1B8-400A-A177-D508897F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E9427-D878-46FB-B151-6E2738B0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4BA-36E7-49C6-A0D6-363DEF4D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DA9D5-4985-4B4A-BE5E-3D07254E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EEE69-23EC-47C2-92F1-1A73EB85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086D7-D116-4560-B881-274EA505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837F4-4F20-4CBA-AF26-4FA8CA7B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404B8-37D3-4D97-A06E-62512CC9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6BA2B-380A-4010-AB9C-9A4BD4BB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5F936-77A5-41BB-B92D-1857189E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DBECB-BAF4-42AC-8955-7D53F1BE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09EF8-ED68-4E08-9FF1-45CACBE5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37E33-9EFE-4129-B9BD-0386B9B8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3C4C-E59F-4883-9E8E-81D424F1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483C3-E0A5-4401-A279-D21D30FD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595BB-82D5-4998-BBF6-FB4791AB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099BD-DB40-41C9-80A2-B9933661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9065C-5EA0-4E8C-BF49-D61CB9C4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26F1C-8072-4B5B-9BE0-3DFBC6F9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EA5AD-178F-497D-901A-D40877BD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7F3E8-4F11-4C4B-8507-D6184827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97443-5304-4E00-ADD5-1195BC58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02857-DC7B-4AFD-B03B-B9F1AA05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8C7-44AA-4A44-A223-F9A62083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8FB-87B3-4C31-98C2-7FE5C8EA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3DC-914C-4DF3-A298-1A33143A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B520-0E02-4A34-853A-B25E41A7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FB8-3B9B-46DE-8BB0-FB304FF9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0DC2-D430-4C4A-8C31-637B6444C71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E766-2D0A-4285-AC63-E1A2B86EE51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D43E-73F7-4284-B6F6-8B16AC4D1D0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834F-AA37-4BBD-B90C-34C1B3BC112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1424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Воля как характеристика сознания. Состояния сознания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500200" y="485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Работу выполнил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Гапонова Дарья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студентка 1 курса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Сервис и индустрия туризм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655992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7afbd"/>
                </a:solidFill>
                <a:uFillTx/>
                <a:latin typeface="Arial"/>
                <a:hlinkClick r:id="rId1"/>
              </a:rPr>
              <a:t>http://prezentacija.biz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57120" y="998640"/>
            <a:ext cx="832968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Намерение по своей сути является внутренней подготовкой отсроченного действия и представляет собой зафиксированную решением направленность на осуществление цели. Однако одного намерения недостаточно. Как и в любом другом волевом действии, при существовании намерения можно выделить этап планирования путей достижения поставленной цели. План может быть детализирован в разной степени. Для одних людей характерно стремление все предусмотреть, спланировать каждый шаг. В то же время другие довольствуются лишь общей схемой. При этом спланированное действие не реализуется сразу. Для его реализации необходимо сознательное волевое усилие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Под волевым усилием понимается особое состояние внутреннего напряжения, или активности, которое вызывает мобилизацию внутренних ресурсов человека, необходимую для выполнения задуманного действия. Поэтому волевые усилия всегда связаны со значительной тратой энерги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85840" y="714240"/>
            <a:ext cx="5214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т заключительный этап волевого действия может получить двоякое выражение: в одних случаях он проявляется во внешнем действии, в других случаях, наоборот, он заключается в воздержании от какого-либо внешнего действия (такое проявление принято называть внутренним волевым действием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2" descr="C:\Users\пк\Desktop\p8EG_epqMrI.jpg"/>
          <p:cNvPicPr/>
          <p:nvPr/>
        </p:nvPicPr>
        <p:blipFill>
          <a:blip r:embed="rId1"/>
          <a:stretch/>
        </p:blipFill>
        <p:spPr>
          <a:xfrm>
            <a:off x="5643720" y="1928880"/>
            <a:ext cx="33051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           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остояния сознания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2071800"/>
            <a:ext cx="8929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радиционно психология признает два состояния сознания, присущих всем людям: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)  сон, рассматриваемый как период отдых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) состояние бодрствования, или активное состояние сознания, которому соответствует активация всего организма, которая позволяет ему улавливать, анализировать сигналы внешнего мира, отправлять некоторые из них в память или же реагировать на них адекватным или неадекватным поведением в зависимости от предшествующего опыта и навык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-360" y="785880"/>
            <a:ext cx="89298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аким образом, бодрствование - это то состояние, в котором мы можем приспосабливаться к внешнему миру. То, как мы осознаем внешний мир и одновременно свой внутренний мир, меняется на протяжении дня в зависимости от нашего состояния - от того, напряжены мы или нет, возбуждены или находимся в полудреме. Таким образом, обработка информации меняется очень существенно в зависимости от уровня бодрствования. Согласно закону Йеркса - Додсона - Хебба, поведение человека будет тем эффективнее, чем ближе будет его уровень бодрствования-активации к некоторому оптимуму - он не должен быть ни слишком низким, ни слишком высоким. При более низких уровнях готовность человека к действию уменьшается, и он вскоре засыпает, а при более высоких он будет больше взволнован из-за чересчур сильной мотивации или же сильного расстройства чувств, и его поведение может даже полностью дезорганизоватьс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61149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Список литературы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14200" y="2000160"/>
            <a:ext cx="850104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. Кордеулл М. Психология. Словарь-справочник, М.: Фаир-Пресс, 2000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. Крылов А. А. Психология: учебник, 2-е изд., Проспект, 2005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3. Маклаков А. Г. Общая психология, Спб.: Питер, 2001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4. Немов Р. С. Общие основы психологии, М.: Гуманитарный, 2003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571680" y="13572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вестно, что воля играет важную роль в жизни человека. Она участвует в формировании его личностных качеств с самых малых лет, как только ребёнок овладевает сознательной речью и учится регулировать своё поведение, поэтому немаловажно раскрыть тему, касающуюся воли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-360" y="1285920"/>
            <a:ext cx="5000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я является одним из регуляционных процессов, то есть тех процессов, которые отвечают в основном за регуляцию поведения, но что касается стимуляции, или побуждения, то оно связано с понятиями мотива и мотиваци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2" descr="C:\Users\пк\Desktop\x_1dadec72.jpg"/>
          <p:cNvPicPr/>
          <p:nvPr/>
        </p:nvPicPr>
        <p:blipFill>
          <a:blip r:embed="rId1"/>
          <a:stretch/>
        </p:blipFill>
        <p:spPr>
          <a:xfrm>
            <a:off x="5011560" y="1857240"/>
            <a:ext cx="413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14200" y="642960"/>
            <a:ext cx="5500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наше время существует множество ситуаций, провоцирующих увеличение стрессовых факторов. Нестабильность, постоянное (вынужденное) приспосабливание к новой действительности, всё это ведёт к напряжённости и конфликтам. Для этого люди должны использовать защитные механизмы, то есть формы защитного поведения. На основе анализа Зигмунда Фрейда мы раскроем данный вопрос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2" descr="C:\Users\пк\Desktop\freud_2.jpg"/>
          <p:cNvPicPr/>
          <p:nvPr/>
        </p:nvPicPr>
        <p:blipFill>
          <a:blip r:embed="rId1"/>
          <a:stretch/>
        </p:blipFill>
        <p:spPr>
          <a:xfrm>
            <a:off x="5715000" y="1571760"/>
            <a:ext cx="3209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42920" y="571680"/>
            <a:ext cx="87868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Воля как характеристика сознания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Главной чертой человека как субъекта, отличающей его от остальных живых существ, является сознание. Сознание - это высшая форма психического развития, присущая только человеку. Оно определяет возможность познания объективной реальности, формирования целенаправленного поведения и, как следствие, преобразования окружающего мир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оизвольная деятельность человека осуществляется под контролем сознания и требует определённых усилий, направленных на достижение сознательно поставленной цели. Например, больной человек, который с трудом берёт в руку стакан с водой, подносит его ко рту, наклоняет его, делает движение ртом, т. е. выполняет целый ряд действий, объединенных одной целью - утолить жажду. Все отдельные действия, благодаря усилиям сознания, направленным на регуляцию поведения, сливаются в одно целое, и человек пьёт воду. Эти усилия часто называют волевой регуляцией, или волей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0" y="1285560"/>
            <a:ext cx="87868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оля - это сознательное регулирование человеком своего поведения и деятельности, выраженное в умении преодолевать внутренние и внешние трудности при совершении целенаправленных действий и поступков. Главная функция воли заключается в сознательной регуляции активности в затрудненных условиях жизнедеятельности. В основе этой регуляции лежит взаимодействие процессов возбуждения и торможения нервной системы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85840" y="9997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ледует заметить, что не всякое действие, направленное на преодоление препятствия, является волевым. Например, человек, убегающий от собаки, может преодолеть очень сложные препятствия и даже залезть на высокое дерево, но эти действия не являются волевыми, поскольку они вызваны, прежде всего, внешними причинами, а не внутренними установками человека. Таким образом, важнейшей особенностью волевых действий, направленных на преодоление препятствий, является сознание значения поставленной цели, за которую надо бороться, сознание необходимости достичь ее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труктура волевого действия. Мотивация.</a:t>
            </a:r>
            <a:br>
              <a:rPr sz="36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13840" y="1142640"/>
            <a:ext cx="85726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олевое действие начинается с осознания цели действия и связанного с ним мотива. Мотив - это сформированное осознание своего поступка. Тогда мотивация - это процесс формирования и обоснования намерения что-то сделать или не сделать. При ясном осознании цели и мотива стремление к цели принято называть желанием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3840" y="2714400"/>
            <a:ext cx="40388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о не всякое стремление к цели носит достаточно осознанный характер. В зависимости от степени осознанности потребностей их разделяют на влечения и желания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Если желание осознанно, то влечение всегда смутно, неясно: человек осознает, что ему чего-то хочется, чего-то не хватает или ему что-то нужно, но что именно, он не понимает. Обычно люди переживают влечение как специфическое тягостное состояние в виде тоски или неопределённост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3" descr="C:\Users\пк\Desktop\x_ebbfa76b.jpg"/>
          <p:cNvPicPr/>
          <p:nvPr/>
        </p:nvPicPr>
        <p:blipFill>
          <a:blip r:embed="rId1"/>
          <a:stretch/>
        </p:blipFill>
        <p:spPr>
          <a:xfrm>
            <a:off x="4214880" y="3214800"/>
            <a:ext cx="47624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357360" y="1000080"/>
            <a:ext cx="55004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сполнительный этап волевого действия имеет сложную структуру. Прежде всего, исполнение принятого решения связано с тем или иным временем, т. е. с определенным сроком. Если исполнение решения откладывается на длительный срок, то в этом случае принято говорить о намерении исполнить принятое решение. Обычно мы говорим о намерении, когда сталкиваемся со сложными видами деятельности: например, поступить в вуз, получить определенную специальность. Простейшие волевые действия, такие как утолить жажду или голод, изменить направление своего движения, чтобы не столкнуться с идущим навстречу человеком, исполняются, как правило, сразу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C:\Users\пк\Desktop\image.jpg"/>
          <p:cNvPicPr/>
          <p:nvPr/>
        </p:nvPicPr>
        <p:blipFill>
          <a:blip r:embed="rId1"/>
          <a:stretch/>
        </p:blipFill>
        <p:spPr>
          <a:xfrm>
            <a:off x="428760" y="1428840"/>
            <a:ext cx="304308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6:52:36Z</dcterms:created>
  <dc:creator>пк</dc:creator>
  <dc:description/>
  <dc:language>en-US</dc:language>
  <cp:lastModifiedBy>nebom zav</cp:lastModifiedBy>
  <dcterms:modified xsi:type="dcterms:W3CDTF">2015-02-05T13:22:19Z</dcterms:modified>
  <cp:revision>23</cp:revision>
  <dc:subject/>
  <dc:title>Воля как характеристика сознания. Состояния сознания.</dc:title>
</cp:coreProperties>
</file>