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D57-35F2-4058-B6E2-0BBAFE37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1DE-CCED-4669-8CB7-5F68A9C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571-98EC-4092-B3F9-3536BF62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1A1-DED1-4E57-987A-EFC6FEB9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A2B8-5CEE-44A6-8B8B-C693E94E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0161-E44C-4FD9-8BF3-798E70F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79DD-7F0F-4A9D-8E3D-B9B35BA0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8A3F-031E-44A6-99E7-533D3136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D92-9AB8-47EA-A2E0-E081A47D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4D3B-4D77-4695-84CE-ABD25AA2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8652-81D7-4B5D-B969-645BCAA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9A4-7AC4-4617-846A-ABAC671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87E2-9D26-468A-A6D1-0AED495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98D8-37F2-49BB-B086-8108045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2DD-45E8-4A06-A762-CAA5C7AE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36D-521D-4FAA-B194-6218FBC6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A717-09E9-4F40-AD37-45E5236B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D77DC-4422-4880-9D31-AE91C3B0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4F147-88F4-4AB4-861A-A19C46E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BB17D-EC39-49AE-9844-EE2F1A0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134D9-123E-4FF9-85D3-AF3035F8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EE4AC-5B09-4D90-9A7D-AD1678C8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289-65AA-4D91-A0A7-2BD631F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6C467-1280-4E8C-B7DB-9D2DF320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2EE72-37CA-4B54-97DB-397FB5C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79143-C150-4B5D-8710-558976F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5AD44-67A8-44E1-9BC4-8FDCF3A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73C2F-1C3C-4D93-9883-8572CB9B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C1C9E-D273-42E8-8829-9E79C640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F3D6C-A75B-49E0-B0E2-E1FA7946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9EA2-7B17-4DC5-945E-924DF87D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09CC-4833-4BCD-B678-AFC4F668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55B59-0557-463C-98D2-21B6EBEB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F27-072C-4BF8-A422-6484440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440F-B7FF-4143-9322-43F053C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E1EE-B146-4EEE-AA46-F84644E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BE52-7181-455D-B940-8D7F2A5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E7CF-F6BF-4831-8991-A39F46C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092E-9E13-4474-BE72-ED2C97D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5D43-8E47-4B63-AE86-8E4DC02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44D9-9B81-48C4-B89A-AA9E4788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2F8F-7138-4DCF-B0E4-06570700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4C82-DD2D-4FD7-A39C-55479023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164-B350-46F7-A229-5951D01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521-95FC-44AB-910E-80925A3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4C5-C1B6-4B35-98A5-7B4EBD8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5EF-45C4-4370-B36C-D976517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3E5-30A3-4817-BD95-F60445A2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E09-03D9-4A33-9E0D-310A3EB0DE5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DDB-B149-4735-AB17-5DFCF8C74A0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32D-5740-45EC-8921-26E785DB54D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38B5-9C5F-4272-93E1-B9DEBE0362C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Воля как характеристика сознания. Состояния сознани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020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апонова Дарья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студентка 1 курс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Сервис и индустрия туриз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57120" y="998640"/>
            <a:ext cx="832968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мерение по своей сути является внутренней подготовкой отсроченного действия и представляет собой зафиксированную решением направленность на осуществление цели. Однако одного намерения недостаточно. Как и в любом другом волевом действии, при существовании намерения можно выделить этап планирования путей достижения поставленной цели. План может быть детализирован в разной степени. Для одних людей характерно стремление все предусмотреть, спланировать каждый шаг. В то же время другие довольствуются лишь общей схемой. При этом спланированное действие не реализуется сразу. Для его реализации необходимо сознательное волевое усилие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Под волевым усилием понимается особое состояние внутреннего напряжения, или активности, которое вызывает мобилизацию внутренних ресурсов человека, необходимую для выполнения задуманного действия. Поэтому волевые усилия всегда связаны со значительной тратой энерг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85840" y="714240"/>
            <a:ext cx="5214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т заключительный этап волевого действия может получить двоякое выражение: в одних случаях он проявляется во внешнем действии, в других случаях, наоборот, он заключается в воздержании от какого-либо внешнего действия (такое проявление принято называть внутренним волевым действием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C:\Users\пк\Desktop\p8EG_epqMrI.jpg"/>
          <p:cNvPicPr/>
          <p:nvPr/>
        </p:nvPicPr>
        <p:blipFill>
          <a:blip r:embed="rId1"/>
          <a:stretch/>
        </p:blipFill>
        <p:spPr>
          <a:xfrm>
            <a:off x="5643720" y="192888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   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стояния сознания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2071800"/>
            <a:ext cx="8929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адиционно психология признает два состояния сознания, присущих всем людям: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 сон, рассматриваемый как период отдых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состояние бодрствования, или активное состояние сознания, которому соответствует активация всего организма, которая позволяет ему улавливать, анализировать сигналы внешнего мира, отправлять некоторые из них в память или же реагировать на них адекватным или неадекватным поведением в зависимости от предшествующего опыта и навы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360" y="785880"/>
            <a:ext cx="89298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м образом, бодрствование - это то состояние, в котором мы можем приспосабливаться к внешнему миру. То, как мы осознаем внешний мир и одновременно свой внутренний мир, меняется на протяжении дня в зависимости от нашего состояния - от того, напряжены мы или нет, возбуждены или находимся в полудреме. Таким образом, обработка информации меняется очень существенно в зависимости от уровня бодрствования. Согласно закону Йеркса - Додсона - Хебба, поведение человека будет тем эффективнее, чем ближе будет его уровень бодрствования-активации к некоторому оптимуму - он не должен быть ни слишком низким, ни слишком высоким. При более низких уровнях готовность человека к действию уменьшается, и он вскоре засыпает, а при более высоких он будет больше взволнован из-за чересчур сильной мотивации или же сильного расстройства чувств, и его поведение может даже полностью дезорганизовать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611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писок литературы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2000160"/>
            <a:ext cx="8501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Кордеулл М. Психология. Словарь-справочник, М.: Фаир-Пресс, 2000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Крылов А. А. Психология: учебник, 2-е изд., Проспект, 200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Маклаков А. Г. Общая психология, Спб.: Питер, 2001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 Немов Р. С. Общие основы психологии, М.: Гуманитарный, 200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1357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вестно, что воля играет важную роль в жизни человека. Она участвует в формировании его личностных качеств с самых малых лет, как только ребёнок овладевает сознательной речью и учится регулировать своё поведение, поэтому немаловажно раскрыть тему, касающуюся воли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-360" y="1285920"/>
            <a:ext cx="5000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я является одним из регуляционных процессов, то есть тех процессов, которые отвечают в основном за регуляцию поведения, но что касается стимуляции, или побуждения, то оно связано с понятиями мотива и мотива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Users\пк\Desktop\x_1dadec72.jpg"/>
          <p:cNvPicPr/>
          <p:nvPr/>
        </p:nvPicPr>
        <p:blipFill>
          <a:blip r:embed="rId1"/>
          <a:stretch/>
        </p:blipFill>
        <p:spPr>
          <a:xfrm>
            <a:off x="5011560" y="1857240"/>
            <a:ext cx="413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4200" y="64296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наше время существует множество ситуаций, провоцирующих увеличение стрессовых факторов. Нестабильность, постоянное (вынужденное) приспосабливание к новой действительности, всё это ведёт к напряжённости и конфликтам. Для этого люди должны использовать защитные механизмы, то есть формы защитного поведения. На основе анализа Зигмунда Фрейда мы раскроем данный вопрос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2" descr="C:\Users\пк\Desktop\freud_2.jpg"/>
          <p:cNvPicPr/>
          <p:nvPr/>
        </p:nvPicPr>
        <p:blipFill>
          <a:blip r:embed="rId1"/>
          <a:stretch/>
        </p:blipFill>
        <p:spPr>
          <a:xfrm>
            <a:off x="5715000" y="1571760"/>
            <a:ext cx="320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2920" y="571680"/>
            <a:ext cx="8786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оля как характеристика сознан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Главной чертой человека как субъекта, отличающей его от остальных живых существ, является сознание. Сознание - это высшая форма психического развития, присущая только человеку. Оно определяет возможность познания объективной реальности, формирования целенаправленного поведения и, как следствие, преобразования окружающего мир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оизвольная деятельность человека осуществляется под контролем сознания и требует определённых усилий, направленных на достижение сознательно поставленной цели. Например, больной человек, который с трудом берёт в руку стакан с водой, подносит его ко рту, наклоняет его, делает движение ртом, т. е. выполняет целый ряд действий, объединенных одной целью - утолить жажду. Все отдельные действия, благодаря усилиям сознания, направленным на регуляцию поведения, сливаются в одно целое, и человек пьёт воду. Эти усилия часто называют волевой регуляцией, или воле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1285560"/>
            <a:ext cx="87868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ля - это сознательное регулирование человеком своего поведения и деятельности, выраженное в умении преодолевать внутренние и внешние трудности при совершении целенаправленных действий и поступков. Главная функция воли заключается в сознательной регуляции активности в затрудненных условиях жизнедеятельности. В основе этой регуляции лежит взаимодействие процессов возбуждения и торможения нервной систем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едует заметить, что не всякое действие, направленное на преодоление препятствия, является волевым. Например, человек, убегающий от собаки, может преодолеть очень сложные препятствия и даже залезть на высокое дерево, но эти действия не являются волевыми, поскольку они вызваны, прежде всего, внешними причинами, а не внутренними установками человека. Таким образом, важнейшей особенностью волевых действий, направленных на преодоление препятствий, является сознание значения поставленной цели, за которую надо бороться, сознание необходимости достичь ее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труктура волевого действия. Мотивация.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3840" y="1142640"/>
            <a:ext cx="85726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олевое действие начинается с осознания цели действия и связанного с ним мотива. Мотив - это сформированное осознание своего поступка. Тогда мотивация - это процесс формирования и обоснования намерения что-то сделать или не сделать. При ясном осознании цели и мотива стремление к цели принято называть желание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3840" y="2714400"/>
            <a:ext cx="4038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о не всякое стремление к цели носит достаточно осознанный характер. В зависимости от степени осознанности потребностей их разделяют на влечения и желания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Если желание осознанно, то влечение всегда смутно, неясно: человек осознает, что ему чего-то хочется, чего-то не хватает или ему что-то нужно, но что именно, он не понимает. Обычно люди переживают влечение как специфическое тягостное состояние в виде тоски или неопределённост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C:\Users\пк\Desktop\x_ebbfa76b.jpg"/>
          <p:cNvPicPr/>
          <p:nvPr/>
        </p:nvPicPr>
        <p:blipFill>
          <a:blip r:embed="rId1"/>
          <a:stretch/>
        </p:blipFill>
        <p:spPr>
          <a:xfrm>
            <a:off x="4214880" y="3214800"/>
            <a:ext cx="4762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357360" y="1000080"/>
            <a:ext cx="5500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сполнительный этап волевого действия имеет сложную структуру. Прежде всего, исполнение принятого решения связано с тем или иным временем, т. е. с определенным сроком. Если исполнение решения откладывается на длительный срок, то в этом случае принято говорить о намерении исполнить принятое решение. Обычно мы говорим о намерении, когда сталкиваемся со сложными видами деятельности: например, поступить в вуз, получить определенную специальность. Простейшие волевые действия, такие как утолить жажду или голод, изменить направление своего движения, чтобы не столкнуться с идущим навстречу человеком, исполняются, как правило, сраз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Users\пк\Desktop\image.jpg"/>
          <p:cNvPicPr/>
          <p:nvPr/>
        </p:nvPicPr>
        <p:blipFill>
          <a:blip r:embed="rId1"/>
          <a:stretch/>
        </p:blipFill>
        <p:spPr>
          <a:xfrm>
            <a:off x="428760" y="1428840"/>
            <a:ext cx="3043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6:52:36Z</dcterms:created>
  <dc:creator>пк</dc:creator>
  <dc:description/>
  <dc:language>en-US</dc:language>
  <cp:lastModifiedBy>nebom zav</cp:lastModifiedBy>
  <dcterms:modified xsi:type="dcterms:W3CDTF">2015-02-05T13:22:19Z</dcterms:modified>
  <cp:revision>23</cp:revision>
  <dc:subject/>
  <dc:title>Воля как характеристика сознания. Состояния сознания.</dc:title>
</cp:coreProperties>
</file>