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0F5-A68E-4D22-AE02-02D7E046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D76-4440-40DF-A07C-BD6649E6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53B-C627-48D1-8DEE-A5F8E023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ABD-7339-466A-B0E6-9D93EEA5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D3A7-6CDD-439E-B552-5441EE85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7FB8-00E1-421C-9C23-7CB897C5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CD25-6E99-4B07-9B84-2B0B8CA3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F9BA-536C-4CB2-833B-67D120EA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B2CA-A584-448B-AC09-060A94FC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D0EB-214D-450B-93C3-9064FFFE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B428-B397-4846-8F9F-139A205C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D01-BD0D-4B13-974E-67630216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C322-6229-4108-8700-6DACF99B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73D5-FFF4-4FA4-AFD8-3FF18598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5793-0F90-42FB-AEB7-94CD98B9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951F-760E-4A37-BB0E-18763873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CC73-7A56-4F7F-9EFC-5CE9B776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B6366-B819-4925-895C-B87E12A5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D1B25-F78E-4195-BFF7-4F4731DF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195CC-7DE9-4C76-8102-DCEED7B9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391E0-DAC1-461A-A711-D4B596D7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79A13-83CD-4D27-8435-AD6CF808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DF6-C2A5-4E8A-8BA0-5696E239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314F9-94A7-4D9C-BEED-62379419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9F48A-335F-416F-8D2D-BEF14D74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0B669-84B9-4860-B774-945C4B3F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CE730-331E-4F62-8AD5-F0AE5AFD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EDB73-F954-4B94-9BFF-28B1A4F2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071C4-2A3B-48EB-8236-669B2C07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52B66-4B17-4A63-BEC4-00F17450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72DEF-BC96-45D2-ADBF-52A016F3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694E1-0147-4E0B-B81C-69EC5E66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A541D-6F36-4273-ABF4-FE3E24A3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3A9-992A-4F0F-974F-11C82DB4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E4FB3-1A49-4DDF-8A8C-9D8F2C2A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596CF-C4BD-41FA-BAD9-EFC181C3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8432B-B683-4632-93B1-7C905831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06238-7F66-489D-B30A-D6A42718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78A2C-E993-43D5-93A1-13814C0C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089E6-AED9-4EAB-AB7D-AC34EE2C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7503D-B1DC-4BDF-84D2-28840063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B7ABE-6C4A-4A5E-90A6-2483DFE3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1379A-3011-4F56-A577-811E9541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E61-6B38-42C3-9EBB-4ACDF9DC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313-549C-4CCB-B19B-77D560AA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523-CF79-4892-B17B-B476DC84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DEF-BBDC-4B75-B759-D344BD96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32EE-C860-4E8D-9749-227E0DBA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E345-13E4-4B6A-9C01-F026DBB2684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AF36-86D9-4F6F-8B5C-D625EA195F4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74A3-9DA3-4CA4-B445-5EEC16CD400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D61C-8450-4F5D-9861-1F41BE9FB4F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424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Воля как характеристика сознания. Состояния сознания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50020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Работу выполнил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Гапонова Дарья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студентка 1 курса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Сервис и индустрия туризм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655992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afbd"/>
                </a:solidFill>
                <a:uFillTx/>
                <a:latin typeface="Arial"/>
                <a:hlinkClick r:id="rId1"/>
              </a:rPr>
              <a:t>http://prezentacija.bi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57120" y="998640"/>
            <a:ext cx="832968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Намерение по своей сути является внутренней подготовкой отсроченного действия и представляет собой зафиксированную решением направленность на осуществление цели. Однако одного намерения недостаточно. Как и в любом другом волевом действии, при существовании намерения можно выделить этап планирования путей достижения поставленной цели. План может быть детализирован в разной степени. Для одних людей характерно стремление все предусмотреть, спланировать каждый шаг. В то же время другие довольствуются лишь общей схемой. При этом спланированное действие не реализуется сразу. Для его реализации необходимо сознательное волевое усилие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Под волевым усилием понимается особое состояние внутреннего напряжения, или активности, которое вызывает мобилизацию внутренних ресурсов человека, необходимую для выполнения задуманного действия. Поэтому волевые усилия всегда связаны со значительной тратой энерги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85840" y="714240"/>
            <a:ext cx="5214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т заключительный этап волевого действия может получить двоякое выражение: в одних случаях он проявляется во внешнем действии, в других случаях, наоборот, он заключается в воздержании от какого-либо внешнего действия (такое проявление принято называть внутренним волевым действием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2" descr="C:\Users\пк\Desktop\p8EG_epqMrI.jpg"/>
          <p:cNvPicPr/>
          <p:nvPr/>
        </p:nvPicPr>
        <p:blipFill>
          <a:blip r:embed="rId1"/>
          <a:stretch/>
        </p:blipFill>
        <p:spPr>
          <a:xfrm>
            <a:off x="5643720" y="1928880"/>
            <a:ext cx="33051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           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остояния сознания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2071800"/>
            <a:ext cx="8929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адиционно психология признает два состояния сознания, присущих всем людям: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 сон, рассматриваемый как период отдых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состояние бодрствования, или активное состояние сознания, которому соответствует активация всего организма, которая позволяет ему улавливать, анализировать сигналы внешнего мира, отправлять некоторые из них в память или же реагировать на них адекватным или неадекватным поведением в зависимости от предшествующего опыта и навы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-360" y="785880"/>
            <a:ext cx="89298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аким образом, бодрствование - это то состояние, в котором мы можем приспосабливаться к внешнему миру. То, как мы осознаем внешний мир и одновременно свой внутренний мир, меняется на протяжении дня в зависимости от нашего состояния - от того, напряжены мы или нет, возбуждены или находимся в полудреме. Таким образом, обработка информации меняется очень существенно в зависимости от уровня бодрствования. Согласно закону Йеркса - Додсона - Хебба, поведение человека будет тем эффективнее, чем ближе будет его уровень бодрствования-активации к некоторому оптимуму - он не должен быть ни слишком низким, ни слишком высоким. При более низких уровнях готовность человека к действию уменьшается, и он вскоре засыпает, а при более высоких он будет больше взволнован из-за чересчур сильной мотивации или же сильного расстройства чувств, и его поведение может даже полностью дезорганизоватьс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611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писок литературы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14200" y="2000160"/>
            <a:ext cx="85010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 Кордеулл М. Психология. Словарь-справочник, М.: Фаир-Пресс, 2000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 Крылов А. А. Психология: учебник, 2-е изд., Проспект, 2005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. Маклаков А. Г. Общая психология, Спб.: Питер, 2001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4. Немов Р. С. Общие основы психологии, М.: Гуманитарный, 2003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71680" y="13572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вестно, что воля играет важную роль в жизни человека. Она участвует в формировании его личностных качеств с самых малых лет, как только ребёнок овладевает сознательной речью и учится регулировать своё поведение, поэтому немаловажно раскрыть тему, касающуюся воли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-360" y="1285920"/>
            <a:ext cx="5000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я является одним из регуляционных процессов, то есть тех процессов, которые отвечают в основном за регуляцию поведения, но что касается стимуляции, или побуждения, то оно связано с понятиями мотива и мотиваци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2" descr="C:\Users\пк\Desktop\x_1dadec72.jpg"/>
          <p:cNvPicPr/>
          <p:nvPr/>
        </p:nvPicPr>
        <p:blipFill>
          <a:blip r:embed="rId1"/>
          <a:stretch/>
        </p:blipFill>
        <p:spPr>
          <a:xfrm>
            <a:off x="5011560" y="1857240"/>
            <a:ext cx="413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14200" y="642960"/>
            <a:ext cx="5500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наше время существует множество ситуаций, провоцирующих увеличение стрессовых факторов. Нестабильность, постоянное (вынужденное) приспосабливание к новой действительности, всё это ведёт к напряжённости и конфликтам. Для этого люди должны использовать защитные механизмы, то есть формы защитного поведения. На основе анализа Зигмунда Фрейда мы раскроем данный вопрос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2" descr="C:\Users\пк\Desktop\freud_2.jpg"/>
          <p:cNvPicPr/>
          <p:nvPr/>
        </p:nvPicPr>
        <p:blipFill>
          <a:blip r:embed="rId1"/>
          <a:stretch/>
        </p:blipFill>
        <p:spPr>
          <a:xfrm>
            <a:off x="5715000" y="1571760"/>
            <a:ext cx="320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42920" y="571680"/>
            <a:ext cx="87868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оля как характеристика сознания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Главной чертой человека как субъекта, отличающей его от остальных живых существ, является сознание. Сознание - это высшая форма психического развития, присущая только человеку. Оно определяет возможность познания объективной реальности, формирования целенаправленного поведения и, как следствие, преобразования окружающего мир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оизвольная деятельность человека осуществляется под контролем сознания и требует определённых усилий, направленных на достижение сознательно поставленной цели. Например, больной человек, который с трудом берёт в руку стакан с водой, подносит его ко рту, наклоняет его, делает движение ртом, т. е. выполняет целый ряд действий, объединенных одной целью - утолить жажду. Все отдельные действия, благодаря усилиям сознания, направленным на регуляцию поведения, сливаются в одно целое, и человек пьёт воду. Эти усилия часто называют волевой регуляцией, или волей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0" y="1285560"/>
            <a:ext cx="87868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оля - это сознательное регулирование человеком своего поведения и деятельности, выраженное в умении преодолевать внутренние и внешние трудности при совершении целенаправленных действий и поступков. Главная функция воли заключается в сознательной регуляции активности в затрудненных условиях жизнедеятельности. В основе этой регуляции лежит взаимодействие процессов возбуждения и торможения нервной системы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85840" y="9997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ледует заметить, что не всякое действие, направленное на преодоление препятствия, является волевым. Например, человек, убегающий от собаки, может преодолеть очень сложные препятствия и даже залезть на высокое дерево, но эти действия не являются волевыми, поскольку они вызваны, прежде всего, внешними причинами, а не внутренними установками человека. Таким образом, важнейшей особенностью волевых действий, направленных на преодоление препятствий, является сознание значения поставленной цели, за которую надо бороться, сознание необходимости достичь ее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труктура волевого действия. Мотивация.</a:t>
            </a:r>
            <a:br>
              <a:rPr sz="36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13840" y="1142640"/>
            <a:ext cx="85726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олевое действие начинается с осознания цели действия и связанного с ним мотива. Мотив - это сформированное осознание своего поступка. Тогда мотивация - это процесс формирования и обоснования намерения что-то сделать или не сделать. При ясном осознании цели и мотива стремление к цели принято называть желанием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3840" y="2714400"/>
            <a:ext cx="40388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о не всякое стремление к цели носит достаточно осознанный характер. В зависимости от степени осознанности потребностей их разделяют на влечения и желания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Если желание осознанно, то влечение всегда смутно, неясно: человек осознает, что ему чего-то хочется, чего-то не хватает или ему что-то нужно, но что именно, он не понимает. Обычно люди переживают влечение как специфическое тягостное состояние в виде тоски или неопределённост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3" descr="C:\Users\пк\Desktop\x_ebbfa76b.jpg"/>
          <p:cNvPicPr/>
          <p:nvPr/>
        </p:nvPicPr>
        <p:blipFill>
          <a:blip r:embed="rId1"/>
          <a:stretch/>
        </p:blipFill>
        <p:spPr>
          <a:xfrm>
            <a:off x="4214880" y="3214800"/>
            <a:ext cx="4762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357360" y="1000080"/>
            <a:ext cx="55004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сполнительный этап волевого действия имеет сложную структуру. Прежде всего, исполнение принятого решения связано с тем или иным временем, т. е. с определенным сроком. Если исполнение решения откладывается на длительный срок, то в этом случае принято говорить о намерении исполнить принятое решение. Обычно мы говорим о намерении, когда сталкиваемся со сложными видами деятельности: например, поступить в вуз, получить определенную специальность. Простейшие волевые действия, такие как утолить жажду или голод, изменить направление своего движения, чтобы не столкнуться с идущим навстречу человеком, исполняются, как правило, сразу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C:\Users\пк\Desktop\image.jpg"/>
          <p:cNvPicPr/>
          <p:nvPr/>
        </p:nvPicPr>
        <p:blipFill>
          <a:blip r:embed="rId1"/>
          <a:stretch/>
        </p:blipFill>
        <p:spPr>
          <a:xfrm>
            <a:off x="428760" y="1428840"/>
            <a:ext cx="30430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6:52:36Z</dcterms:created>
  <dc:creator>пк</dc:creator>
  <dc:description/>
  <dc:language>en-US</dc:language>
  <cp:lastModifiedBy>nebom zav</cp:lastModifiedBy>
  <dcterms:modified xsi:type="dcterms:W3CDTF">2015-02-05T13:22:19Z</dcterms:modified>
  <cp:revision>23</cp:revision>
  <dc:subject/>
  <dc:title>Воля как характеристика сознания. Состояния сознания.</dc:title>
</cp:coreProperties>
</file>