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9DB-B623-4C89-8CE9-4822F86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293-5CE5-40A5-B4B2-B3E21BCE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1D2-9FE0-4FA7-9624-06D5C79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1FC-DD0E-4C1A-87DE-EA33684C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1E7-BCA8-44E8-8C8C-5CDEF9F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A2A-06AC-4A35-B721-16C4A414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AB5-9E9C-461A-A789-B84102B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D99-48D1-4240-BA25-60CDD1F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98D-8808-4021-8CC7-1CA2F8D8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55A-397C-4776-B92A-EA10F67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5EA-C8B4-4B92-A5D0-9E65381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3B1-2EC9-4847-86A7-6E5A58B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552F-C0DC-498F-AA68-836D23552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Arial"/>
              </a:rPr>
              <a:t>Евразия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54446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b0a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к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78" name="Picture 4" descr="C:\Documents and Settings\Admin\Рабочий стол\картинки Евразия\белые медведиi.jpeg"/>
          <p:cNvPicPr/>
          <p:nvPr/>
        </p:nvPicPr>
        <p:blipFill>
          <a:blip r:embed="rId1"/>
          <a:stretch/>
        </p:blipFill>
        <p:spPr>
          <a:xfrm>
            <a:off x="0" y="1643040"/>
            <a:ext cx="4986360" cy="335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3280" y="3286080"/>
            <a:ext cx="4251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лярное сия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Admin\Рабочий стол\картинки Евразия\полярные сиянияi.jpeg"/>
          <p:cNvPicPr/>
          <p:nvPr/>
        </p:nvPicPr>
        <p:blipFill>
          <a:blip r:embed="rId1"/>
          <a:stretch/>
        </p:blipFill>
        <p:spPr>
          <a:xfrm>
            <a:off x="1071720" y="1666800"/>
            <a:ext cx="7215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редиземномо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90010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4" name="Picture 4" descr="C:\Documents and Settings\Admin\Рабочий стол\картинки Евразия\пробковый дубi.jpeg"/>
          <p:cNvPicPr/>
          <p:nvPr/>
        </p:nvPicPr>
        <p:blipFill>
          <a:blip r:embed="rId1"/>
          <a:stretch/>
        </p:blipFill>
        <p:spPr>
          <a:xfrm>
            <a:off x="0" y="2143080"/>
            <a:ext cx="4373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57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устыня Кара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88" name="Picture 4" descr="C:\Documents and Settings\Admin\Рабочий стол\картинки Евразия\каракумi.jpeg"/>
          <p:cNvPicPr/>
          <p:nvPr/>
        </p:nvPicPr>
        <p:blipFill>
          <a:blip r:embed="rId1"/>
          <a:stretch/>
        </p:blipFill>
        <p:spPr>
          <a:xfrm>
            <a:off x="1143000" y="1643040"/>
            <a:ext cx="7572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ссурийская 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1" name="Picture 4" descr="C:\Documents and Settings\Admin\Рабочий стол\картинки Евразия\тайгаi.jpeg"/>
          <p:cNvPicPr/>
          <p:nvPr/>
        </p:nvPicPr>
        <p:blipFill>
          <a:blip r:embed="rId1"/>
          <a:stretch/>
        </p:blipFill>
        <p:spPr>
          <a:xfrm>
            <a:off x="857160" y="1500120"/>
            <a:ext cx="73630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нгровые заросли 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картинки Евразия\мангровый лесi.jpeg"/>
          <p:cNvPicPr/>
          <p:nvPr/>
        </p:nvPicPr>
        <p:blipFill>
          <a:blip r:embed="rId1"/>
          <a:stretch/>
        </p:blipFill>
        <p:spPr>
          <a:xfrm>
            <a:off x="928800" y="1476360"/>
            <a:ext cx="771516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жунгли Индокит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97" name="Picture 4" descr="C:\Documents and Settings\Admin\Рабочий стол\картинки Евразия\джунглиi.jpeg"/>
          <p:cNvPicPr/>
          <p:nvPr/>
        </p:nvPicPr>
        <p:blipFill>
          <a:blip r:embed="rId1"/>
          <a:stretch/>
        </p:blipFill>
        <p:spPr>
          <a:xfrm>
            <a:off x="285840" y="1550880"/>
            <a:ext cx="4572000" cy="30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071960" y="2962440"/>
            <a:ext cx="50720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еографическое положение Евр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явить особенности географического положения Евразии, влияние ГП на природу мат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положение материка относительно экватора, тропиков, полярных кругов, нулевого мериди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ять крайние точки, их координаты, положение материка относительно морей и океанов, других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ивать ГП двух материков и объяснять 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одить примеры географических следствий ГП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малаи –самая высокие горы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верест -8848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" descr="C:\Documents and Settings\Admin\Рабочий стол\картинки Евразия\iэверест.jpeg"/>
          <p:cNvPicPr/>
          <p:nvPr/>
        </p:nvPicPr>
        <p:blipFill>
          <a:blip r:embed="rId1"/>
          <a:stretch/>
        </p:blipFill>
        <p:spPr>
          <a:xfrm>
            <a:off x="200160" y="2786040"/>
            <a:ext cx="4228920" cy="366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картинки Евразия\Гималаиi.jpeg"/>
          <p:cNvPicPr/>
          <p:nvPr/>
        </p:nvPicPr>
        <p:blipFill>
          <a:blip r:embed="rId2"/>
          <a:stretch/>
        </p:blipFill>
        <p:spPr>
          <a:xfrm>
            <a:off x="5000760" y="2714760"/>
            <a:ext cx="4143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горитм проверк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ьте свои знания по образ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-а, 2 –б, 3 – а, 4  - а, 5 – в, 6 -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цените сво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ять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ыре правильных ответов – оценк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ньше четырех правильных ответов – вам следует вернуться еще раз к изучаем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ше мнение, достигли ли вы цели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пользуя словосочет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«я поня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теперь я мог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я приобр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еня удиви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Arial"/>
              </a:rPr>
              <a:t>мне захотелось»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зите свое отношение к уро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заголовок, в который выносится ключевое слово, понятие, тема синквейна, выраженное в форме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два прилага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три глаг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фраза, несущая определенный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 стро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резюме, вывод, одно слово, существи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вершить оформление контурной карты, знать ка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авийский полуостров – самый большо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Рабочий стол\картинки Евразия\аравийский картаi.jpeg"/>
          <p:cNvPicPr/>
          <p:nvPr/>
        </p:nvPicPr>
        <p:blipFill>
          <a:blip r:embed="rId1"/>
          <a:stretch/>
        </p:blipFill>
        <p:spPr>
          <a:xfrm>
            <a:off x="0" y="3168720"/>
            <a:ext cx="4214880" cy="368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Admin\Рабочий стол\картинки Евразия\iмекка.jpeg"/>
          <p:cNvPicPr/>
          <p:nvPr/>
        </p:nvPicPr>
        <p:blipFill>
          <a:blip r:embed="rId2"/>
          <a:stretch/>
        </p:blipFill>
        <p:spPr>
          <a:xfrm>
            <a:off x="4857840" y="1714680"/>
            <a:ext cx="4062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ртвое море – самое соленое на Земле (до 400гр.соли на 1лит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Рабочий стол\картинки Евразия\карта мертi.jpeg"/>
          <p:cNvPicPr/>
          <p:nvPr/>
        </p:nvPicPr>
        <p:blipFill>
          <a:blip r:embed="rId1"/>
          <a:stretch/>
        </p:blipFill>
        <p:spPr>
          <a:xfrm>
            <a:off x="500040" y="2357280"/>
            <a:ext cx="3782880" cy="359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Рабочий стол\картинки Евразия\мертвое мореi.jpeg"/>
          <p:cNvPicPr/>
          <p:nvPr/>
        </p:nvPicPr>
        <p:blipFill>
          <a:blip r:embed="rId2"/>
          <a:stretch/>
        </p:blipFill>
        <p:spPr>
          <a:xfrm>
            <a:off x="4786200" y="4427640"/>
            <a:ext cx="4143600" cy="221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Рабочий стол\картинки Евразия\соль и скалыi.jpeg"/>
          <p:cNvPicPr/>
          <p:nvPr/>
        </p:nvPicPr>
        <p:blipFill>
          <a:blip r:embed="rId3"/>
          <a:stretch/>
        </p:blipFill>
        <p:spPr>
          <a:xfrm>
            <a:off x="4857840" y="2000160"/>
            <a:ext cx="4071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айкал – самое глубокое озеро Земли (1637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Рабочий стол\картинки Евразия\байкал картаi.jpeg"/>
          <p:cNvPicPr/>
          <p:nvPr/>
        </p:nvPicPr>
        <p:blipFill>
          <a:blip r:embed="rId1"/>
          <a:stretch/>
        </p:blipFill>
        <p:spPr>
          <a:xfrm>
            <a:off x="500040" y="2071800"/>
            <a:ext cx="3357720" cy="449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Admin\Рабочий стол\картинки Евразия\байкалi.jpeg"/>
          <p:cNvPicPr/>
          <p:nvPr/>
        </p:nvPicPr>
        <p:blipFill>
          <a:blip r:embed="rId2"/>
          <a:stretch/>
        </p:blipFill>
        <p:spPr>
          <a:xfrm>
            <a:off x="4592520" y="1785960"/>
            <a:ext cx="3980160" cy="217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Рабочий стол\картинки Евразия\байкал1i.jpeg"/>
          <p:cNvPicPr/>
          <p:nvPr/>
        </p:nvPicPr>
        <p:blipFill>
          <a:blip r:embed="rId3"/>
          <a:stretch/>
        </p:blipFill>
        <p:spPr>
          <a:xfrm>
            <a:off x="4500720" y="4357800"/>
            <a:ext cx="41432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гне- фьорд –самый длинный фьорд в мире (220к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картинки Евразия\согнеi.jpeg"/>
          <p:cNvPicPr/>
          <p:nvPr/>
        </p:nvPicPr>
        <p:blipFill>
          <a:blip r:embed="rId1"/>
          <a:stretch/>
        </p:blipFill>
        <p:spPr>
          <a:xfrm>
            <a:off x="714240" y="2571840"/>
            <a:ext cx="3811680" cy="350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картинки Евразия\фьордыi.jpeg"/>
          <p:cNvPicPr/>
          <p:nvPr/>
        </p:nvPicPr>
        <p:blipFill>
          <a:blip r:embed="rId2"/>
          <a:stretch/>
        </p:blipFill>
        <p:spPr>
          <a:xfrm>
            <a:off x="4857840" y="1785960"/>
            <a:ext cx="42829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Рабочий стол\картинки Евразия\фьорды 1i.jpeg"/>
          <p:cNvPicPr/>
          <p:nvPr/>
        </p:nvPicPr>
        <p:blipFill>
          <a:blip r:embed="rId3"/>
          <a:stretch/>
        </p:blipFill>
        <p:spPr>
          <a:xfrm>
            <a:off x="4929120" y="4286160"/>
            <a:ext cx="4214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ррапунджи – самое влажное место Земли (12000м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картинки Евразия\черрапунi.jpeg"/>
          <p:cNvPicPr/>
          <p:nvPr/>
        </p:nvPicPr>
        <p:blipFill>
          <a:blip r:embed="rId1"/>
          <a:stretch/>
        </p:blipFill>
        <p:spPr>
          <a:xfrm>
            <a:off x="0" y="2428920"/>
            <a:ext cx="4572000" cy="385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Рабочий стол\картинки Евразия\черi.jpeg"/>
          <p:cNvPicPr/>
          <p:nvPr/>
        </p:nvPicPr>
        <p:blipFill>
          <a:blip r:embed="rId2"/>
          <a:stretch/>
        </p:blipFill>
        <p:spPr>
          <a:xfrm>
            <a:off x="4929120" y="2071800"/>
            <a:ext cx="4214880" cy="25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Admin\Рабочий стол\картинки Евразия\живые мостыi.jpeg"/>
          <p:cNvPicPr/>
          <p:nvPr/>
        </p:nvPicPr>
        <p:blipFill>
          <a:blip r:embed="rId3"/>
          <a:stretch/>
        </p:blipFill>
        <p:spPr>
          <a:xfrm>
            <a:off x="4857840" y="47149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спийское море – самое большое озеро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картинки Евразия\каспийское море картаi.jpeg"/>
          <p:cNvPicPr/>
          <p:nvPr/>
        </p:nvPicPr>
        <p:blipFill>
          <a:blip r:embed="rId1"/>
          <a:stretch/>
        </p:blipFill>
        <p:spPr>
          <a:xfrm>
            <a:off x="857160" y="1785960"/>
            <a:ext cx="3470400" cy="393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Рабочий стол\картинки Евразия\касп.i.jpeg"/>
          <p:cNvPicPr/>
          <p:nvPr/>
        </p:nvPicPr>
        <p:blipFill>
          <a:blip r:embed="rId2"/>
          <a:stretch/>
        </p:blipFill>
        <p:spPr>
          <a:xfrm>
            <a:off x="4714920" y="1857240"/>
            <a:ext cx="385776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азнообразие природы Евразии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4008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1:21:22Z</dcterms:created>
  <dc:creator>Admin</dc:creator>
  <dc:description/>
  <dc:language>en-US</dc:language>
  <cp:lastModifiedBy>uchitel</cp:lastModifiedBy>
  <dcterms:modified xsi:type="dcterms:W3CDTF">2016-10-20T08:05:34Z</dcterms:modified>
  <cp:revision>29</cp:revision>
  <dc:subject/>
  <dc:title>Слайд 1</dc:title>
</cp:coreProperties>
</file>