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2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98B-4814-4D98-B2F1-D8F55B47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13C-68F7-4019-95E5-347D5221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99E-EA6E-4DCE-B082-FAC4DAB8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999-5B31-4895-B73C-E24A2EF4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320-7B2A-42A4-81DB-6B77C6B1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E37-F382-4293-847F-2BFF37C0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67E-FCE0-468E-814A-6573B395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FDC-2BDA-43FD-AAA1-3294ED23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737-FDA1-4692-B330-7A775270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482-C443-430E-85CA-0099EE3E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E94-E386-4EF5-A2A8-0DDB6CD8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3C5-5780-422E-85AB-1D370E7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D89C-5630-40C3-A25C-C13D21641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Arial"/>
              </a:rPr>
              <a:t>Евразия</a:t>
            </a:r>
            <a:br>
              <a:rPr sz="54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b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рк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78" name="Picture 4" descr="C:\Documents and Settings\Admin\Рабочий стол\картинки Евразия\белые медведиi.jpeg"/>
          <p:cNvPicPr/>
          <p:nvPr/>
        </p:nvPicPr>
        <p:blipFill>
          <a:blip r:embed="rId1"/>
          <a:stretch/>
        </p:blipFill>
        <p:spPr>
          <a:xfrm>
            <a:off x="0" y="1643040"/>
            <a:ext cx="4986360" cy="335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43280" y="3286080"/>
            <a:ext cx="42516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олярное сия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Admin\Рабочий стол\картинки Евразия\полярные сиянияi.jpeg"/>
          <p:cNvPicPr/>
          <p:nvPr/>
        </p:nvPicPr>
        <p:blipFill>
          <a:blip r:embed="rId1"/>
          <a:stretch/>
        </p:blipFill>
        <p:spPr>
          <a:xfrm>
            <a:off x="1071720" y="1666800"/>
            <a:ext cx="72151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редиземном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90010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84" name="Picture 4" descr="C:\Documents and Settings\Admin\Рабочий стол\картинки Евразия\пробковый дубi.jpeg"/>
          <p:cNvPicPr/>
          <p:nvPr/>
        </p:nvPicPr>
        <p:blipFill>
          <a:blip r:embed="rId1"/>
          <a:stretch/>
        </p:blipFill>
        <p:spPr>
          <a:xfrm>
            <a:off x="0" y="2143080"/>
            <a:ext cx="437364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714920" y="2786040"/>
            <a:ext cx="4057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устыня Кара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88" name="Picture 4" descr="C:\Documents and Settings\Admin\Рабочий стол\картинки Евразия\каракумi.jpeg"/>
          <p:cNvPicPr/>
          <p:nvPr/>
        </p:nvPicPr>
        <p:blipFill>
          <a:blip r:embed="rId1"/>
          <a:stretch/>
        </p:blipFill>
        <p:spPr>
          <a:xfrm>
            <a:off x="1143000" y="1643040"/>
            <a:ext cx="7572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Уссурийская тай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91" name="Picture 4" descr="C:\Documents and Settings\Admin\Рабочий стол\картинки Евразия\тайгаi.jpeg"/>
          <p:cNvPicPr/>
          <p:nvPr/>
        </p:nvPicPr>
        <p:blipFill>
          <a:blip r:embed="rId1"/>
          <a:stretch/>
        </p:blipFill>
        <p:spPr>
          <a:xfrm>
            <a:off x="857160" y="1500120"/>
            <a:ext cx="73630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ангровые заросли Ки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94" name="Picture 4" descr="C:\Documents and Settings\Admin\Рабочий стол\картинки Евразия\мангровый лесi.jpeg"/>
          <p:cNvPicPr/>
          <p:nvPr/>
        </p:nvPicPr>
        <p:blipFill>
          <a:blip r:embed="rId1"/>
          <a:stretch/>
        </p:blipFill>
        <p:spPr>
          <a:xfrm>
            <a:off x="928800" y="1476360"/>
            <a:ext cx="771516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жунгли Индоки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97" name="Picture 4" descr="C:\Documents and Settings\Admin\Рабочий стол\картинки Евразия\джунглиi.jpeg"/>
          <p:cNvPicPr/>
          <p:nvPr/>
        </p:nvPicPr>
        <p:blipFill>
          <a:blip r:embed="rId1"/>
          <a:stretch/>
        </p:blipFill>
        <p:spPr>
          <a:xfrm>
            <a:off x="285840" y="1550880"/>
            <a:ext cx="4572000" cy="30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4071960" y="2962440"/>
            <a:ext cx="50720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еографическое положение Евр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явить особенности географического положения Евразии, влияние ГП на природу мат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ять положение материка относительно экватора, тропиков, полярных кругов, нулевого мериди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ять крайние точки, их координаты, положение материка относительно морей и океанов, других мат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авнивать ГП двух материков и объяснять 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водить примеры географических следствий ГП мат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ималаи –самая высокие горы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верест -8848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C:\Documents and Settings\Admin\Рабочий стол\картинки Евразия\iэверест.jpeg"/>
          <p:cNvPicPr/>
          <p:nvPr/>
        </p:nvPicPr>
        <p:blipFill>
          <a:blip r:embed="rId1"/>
          <a:stretch/>
        </p:blipFill>
        <p:spPr>
          <a:xfrm>
            <a:off x="200160" y="2786040"/>
            <a:ext cx="4228920" cy="366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\Рабочий стол\картинки Евразия\Гималаиi.jpeg"/>
          <p:cNvPicPr/>
          <p:nvPr/>
        </p:nvPicPr>
        <p:blipFill>
          <a:blip r:embed="rId2"/>
          <a:stretch/>
        </p:blipFill>
        <p:spPr>
          <a:xfrm>
            <a:off x="5000760" y="2714760"/>
            <a:ext cx="4143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лгоритм проверк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ьте свои знания по образ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1-а, 2 –б, 3 – а, 4  - а, 5 – в, 6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ите сво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ять правильных ответов – оценка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тыре правильных ответов – оценка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ньше четырех правильных ответов – вам следует вернуться еще раз к изучаем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ше мнение, достигли ли вы цели ур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уя словосочет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«я поня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теперь я мог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я приобре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меня удивил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мне захотелось»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разите свое отношение к уро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заголовок, в который выносится ключевое слово, понятие, тема синквейна, выраженное в форме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два прилага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три глаг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4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фраза, несущая определенный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5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резюме, вывод, одно слово, существи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вершить оформление контурной карты, знать ка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равийский полуостров – самый большо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Рабочий стол\картинки Евразия\аравийский картаi.jpeg"/>
          <p:cNvPicPr/>
          <p:nvPr/>
        </p:nvPicPr>
        <p:blipFill>
          <a:blip r:embed="rId1"/>
          <a:stretch/>
        </p:blipFill>
        <p:spPr>
          <a:xfrm>
            <a:off x="0" y="3168720"/>
            <a:ext cx="4214880" cy="368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\Рабочий стол\картинки Евразия\iмекка.jpeg"/>
          <p:cNvPicPr/>
          <p:nvPr/>
        </p:nvPicPr>
        <p:blipFill>
          <a:blip r:embed="rId2"/>
          <a:stretch/>
        </p:blipFill>
        <p:spPr>
          <a:xfrm>
            <a:off x="4857840" y="1714680"/>
            <a:ext cx="4062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ртвое море – самое соленое на Земле (до 400гр.соли на 1лит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\Рабочий стол\картинки Евразия\карта мертi.jpeg"/>
          <p:cNvPicPr/>
          <p:nvPr/>
        </p:nvPicPr>
        <p:blipFill>
          <a:blip r:embed="rId1"/>
          <a:stretch/>
        </p:blipFill>
        <p:spPr>
          <a:xfrm>
            <a:off x="500040" y="2357280"/>
            <a:ext cx="3782880" cy="359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Admin\Рабочий стол\картинки Евразия\мертвое мореi.jpeg"/>
          <p:cNvPicPr/>
          <p:nvPr/>
        </p:nvPicPr>
        <p:blipFill>
          <a:blip r:embed="rId2"/>
          <a:stretch/>
        </p:blipFill>
        <p:spPr>
          <a:xfrm>
            <a:off x="4786200" y="4427640"/>
            <a:ext cx="4143600" cy="221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Admin\Рабочий стол\картинки Евразия\соль и скалыi.jpeg"/>
          <p:cNvPicPr/>
          <p:nvPr/>
        </p:nvPicPr>
        <p:blipFill>
          <a:blip r:embed="rId3"/>
          <a:stretch/>
        </p:blipFill>
        <p:spPr>
          <a:xfrm>
            <a:off x="4857840" y="2000160"/>
            <a:ext cx="4071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айкал – самое глубокое озеро Земли (1637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Рабочий стол\картинки Евразия\байкал картаi.jpeg"/>
          <p:cNvPicPr/>
          <p:nvPr/>
        </p:nvPicPr>
        <p:blipFill>
          <a:blip r:embed="rId1"/>
          <a:stretch/>
        </p:blipFill>
        <p:spPr>
          <a:xfrm>
            <a:off x="500040" y="2071800"/>
            <a:ext cx="3357720" cy="449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dmin\Рабочий стол\картинки Евразия\байкалi.jpeg"/>
          <p:cNvPicPr/>
          <p:nvPr/>
        </p:nvPicPr>
        <p:blipFill>
          <a:blip r:embed="rId2"/>
          <a:stretch/>
        </p:blipFill>
        <p:spPr>
          <a:xfrm>
            <a:off x="4592520" y="1785960"/>
            <a:ext cx="3980160" cy="217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Admin\Рабочий стол\картинки Евразия\байкал1i.jpeg"/>
          <p:cNvPicPr/>
          <p:nvPr/>
        </p:nvPicPr>
        <p:blipFill>
          <a:blip r:embed="rId3"/>
          <a:stretch/>
        </p:blipFill>
        <p:spPr>
          <a:xfrm>
            <a:off x="4500720" y="4357800"/>
            <a:ext cx="41432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гне- фьорд –самый длинный фьорд в мире (220к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картинки Евразия\согнеi.jpeg"/>
          <p:cNvPicPr/>
          <p:nvPr/>
        </p:nvPicPr>
        <p:blipFill>
          <a:blip r:embed="rId1"/>
          <a:stretch/>
        </p:blipFill>
        <p:spPr>
          <a:xfrm>
            <a:off x="714240" y="2571840"/>
            <a:ext cx="3811680" cy="35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Admin\Рабочий стол\картинки Евразия\фьордыi.jpeg"/>
          <p:cNvPicPr/>
          <p:nvPr/>
        </p:nvPicPr>
        <p:blipFill>
          <a:blip r:embed="rId2"/>
          <a:stretch/>
        </p:blipFill>
        <p:spPr>
          <a:xfrm>
            <a:off x="4857840" y="1785960"/>
            <a:ext cx="42829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Admin\Рабочий стол\картинки Евразия\фьорды 1i.jpeg"/>
          <p:cNvPicPr/>
          <p:nvPr/>
        </p:nvPicPr>
        <p:blipFill>
          <a:blip r:embed="rId3"/>
          <a:stretch/>
        </p:blipFill>
        <p:spPr>
          <a:xfrm>
            <a:off x="4929120" y="4286160"/>
            <a:ext cx="4214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еррапунджи – самое влажное место Земли (12000м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Admin\Рабочий стол\картинки Евразия\черрапунi.jpeg"/>
          <p:cNvPicPr/>
          <p:nvPr/>
        </p:nvPicPr>
        <p:blipFill>
          <a:blip r:embed="rId1"/>
          <a:stretch/>
        </p:blipFill>
        <p:spPr>
          <a:xfrm>
            <a:off x="0" y="2428920"/>
            <a:ext cx="4572000" cy="385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Рабочий стол\картинки Евразия\черi.jpeg"/>
          <p:cNvPicPr/>
          <p:nvPr/>
        </p:nvPicPr>
        <p:blipFill>
          <a:blip r:embed="rId2"/>
          <a:stretch/>
        </p:blipFill>
        <p:spPr>
          <a:xfrm>
            <a:off x="4929120" y="2071800"/>
            <a:ext cx="4214880" cy="25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Admin\Рабочий стол\картинки Евразия\живые мостыi.jpeg"/>
          <p:cNvPicPr/>
          <p:nvPr/>
        </p:nvPicPr>
        <p:blipFill>
          <a:blip r:embed="rId3"/>
          <a:stretch/>
        </p:blipFill>
        <p:spPr>
          <a:xfrm>
            <a:off x="4857840" y="47149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спийское море – самое большое озеро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Admin\Рабочий стол\картинки Евразия\каспийское море картаi.jpeg"/>
          <p:cNvPicPr/>
          <p:nvPr/>
        </p:nvPicPr>
        <p:blipFill>
          <a:blip r:embed="rId1"/>
          <a:stretch/>
        </p:blipFill>
        <p:spPr>
          <a:xfrm>
            <a:off x="857160" y="1785960"/>
            <a:ext cx="3470400" cy="393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Admin\Рабочий стол\картинки Евразия\касп.i.jpeg"/>
          <p:cNvPicPr/>
          <p:nvPr/>
        </p:nvPicPr>
        <p:blipFill>
          <a:blip r:embed="rId2"/>
          <a:stretch/>
        </p:blipFill>
        <p:spPr>
          <a:xfrm>
            <a:off x="4714920" y="1857240"/>
            <a:ext cx="385776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Разнообразие природы Евразии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4008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1:21:22Z</dcterms:created>
  <dc:creator>Admin</dc:creator>
  <dc:description/>
  <dc:language>en-US</dc:language>
  <cp:lastModifiedBy>uchitel</cp:lastModifiedBy>
  <dcterms:modified xsi:type="dcterms:W3CDTF">2016-10-20T08:05:34Z</dcterms:modified>
  <cp:revision>29</cp:revision>
  <dc:subject/>
  <dc:title>Слайд 1</dc:title>
</cp:coreProperties>
</file>