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2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6BF-474C-4A07-B300-5AE270E9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519-43C3-48F2-A3B3-3459C04B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D4D-A256-4372-99CE-3A089083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375-4C3A-4B94-918F-1C789C9E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FAB-FF29-43FB-A35E-EEAA26F9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379-061F-4519-B980-D22E033D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6A8-B104-487E-A477-1F8CD392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E9D-D569-4525-A543-F4DE73E8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D31-D120-481C-A158-FCF47624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824-17E7-4AC8-B648-A17E3EA0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E0F-CF01-42F3-BDBF-7EA60149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207-6BF5-40EE-BC07-17235161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0091-69B7-4329-91F9-5C934BAC6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Arial"/>
              </a:rPr>
              <a:t>Евразия</a:t>
            </a:r>
            <a:br>
              <a:rPr sz="54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b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рк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78" name="Picture 4" descr="C:\Documents and Settings\Admin\Рабочий стол\картинки Евразия\белые медведиi.jpeg"/>
          <p:cNvPicPr/>
          <p:nvPr/>
        </p:nvPicPr>
        <p:blipFill>
          <a:blip r:embed="rId1"/>
          <a:stretch/>
        </p:blipFill>
        <p:spPr>
          <a:xfrm>
            <a:off x="0" y="1643040"/>
            <a:ext cx="4986360" cy="3357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643280" y="3286080"/>
            <a:ext cx="42516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олярное сия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Admin\Рабочий стол\картинки Евразия\полярные сиянияi.jpeg"/>
          <p:cNvPicPr/>
          <p:nvPr/>
        </p:nvPicPr>
        <p:blipFill>
          <a:blip r:embed="rId1"/>
          <a:stretch/>
        </p:blipFill>
        <p:spPr>
          <a:xfrm>
            <a:off x="1071720" y="1666800"/>
            <a:ext cx="72151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редиземном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90010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84" name="Picture 4" descr="C:\Documents and Settings\Admin\Рабочий стол\картинки Евразия\пробковый дубi.jpeg"/>
          <p:cNvPicPr/>
          <p:nvPr/>
        </p:nvPicPr>
        <p:blipFill>
          <a:blip r:embed="rId1"/>
          <a:stretch/>
        </p:blipFill>
        <p:spPr>
          <a:xfrm>
            <a:off x="0" y="2143080"/>
            <a:ext cx="437364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714920" y="2786040"/>
            <a:ext cx="4057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устыня Кара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88" name="Picture 4" descr="C:\Documents and Settings\Admin\Рабочий стол\картинки Евразия\каракумi.jpeg"/>
          <p:cNvPicPr/>
          <p:nvPr/>
        </p:nvPicPr>
        <p:blipFill>
          <a:blip r:embed="rId1"/>
          <a:stretch/>
        </p:blipFill>
        <p:spPr>
          <a:xfrm>
            <a:off x="1143000" y="1643040"/>
            <a:ext cx="7572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Уссурийская тай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91" name="Picture 4" descr="C:\Documents and Settings\Admin\Рабочий стол\картинки Евразия\тайгаi.jpeg"/>
          <p:cNvPicPr/>
          <p:nvPr/>
        </p:nvPicPr>
        <p:blipFill>
          <a:blip r:embed="rId1"/>
          <a:stretch/>
        </p:blipFill>
        <p:spPr>
          <a:xfrm>
            <a:off x="857160" y="1500120"/>
            <a:ext cx="73630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ангровые заросли Ки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94" name="Picture 4" descr="C:\Documents and Settings\Admin\Рабочий стол\картинки Евразия\мангровый лесi.jpeg"/>
          <p:cNvPicPr/>
          <p:nvPr/>
        </p:nvPicPr>
        <p:blipFill>
          <a:blip r:embed="rId1"/>
          <a:stretch/>
        </p:blipFill>
        <p:spPr>
          <a:xfrm>
            <a:off x="928800" y="1476360"/>
            <a:ext cx="771516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Джунгли Индоки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97" name="Picture 4" descr="C:\Documents and Settings\Admin\Рабочий стол\картинки Евразия\джунглиi.jpeg"/>
          <p:cNvPicPr/>
          <p:nvPr/>
        </p:nvPicPr>
        <p:blipFill>
          <a:blip r:embed="rId1"/>
          <a:stretch/>
        </p:blipFill>
        <p:spPr>
          <a:xfrm>
            <a:off x="285840" y="1550880"/>
            <a:ext cx="4572000" cy="309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4071960" y="2962440"/>
            <a:ext cx="50720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еографическое положение Евр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явить особенности географического положения Евразии, влияние ГП на природу мат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ять положение материка относительно экватора, тропиков, полярных кругов, нулевого мериди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ять крайние точки, их координаты, положение материка относительно морей и океанов, других матер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авнивать ГП двух материков и объяснять раз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водить примеры географических следствий ГП мат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ималаи –самая высокие горы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верест -8848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" descr="C:\Documents and Settings\Admin\Рабочий стол\картинки Евразия\iэверест.jpeg"/>
          <p:cNvPicPr/>
          <p:nvPr/>
        </p:nvPicPr>
        <p:blipFill>
          <a:blip r:embed="rId1"/>
          <a:stretch/>
        </p:blipFill>
        <p:spPr>
          <a:xfrm>
            <a:off x="200160" y="2786040"/>
            <a:ext cx="4228920" cy="366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Admin\Рабочий стол\картинки Евразия\Гималаиi.jpeg"/>
          <p:cNvPicPr/>
          <p:nvPr/>
        </p:nvPicPr>
        <p:blipFill>
          <a:blip r:embed="rId2"/>
          <a:stretch/>
        </p:blipFill>
        <p:spPr>
          <a:xfrm>
            <a:off x="5000760" y="2714760"/>
            <a:ext cx="4143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лгоритм проверк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ьте свои знания по образ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1-а, 2 –б, 3 – а, 4  - а, 5 – в, 6 -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ите сво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ять правильных ответов – оценка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тыре правильных ответов – оценка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ньше четырех правильных ответов – вам следует вернуться еще раз к изучаем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аше мнение, достигли ли вы цели уро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пользуя словосочет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«я поня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теперь я мог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я приобре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меня удивил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мне захотелось»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разите свое отношение к уро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заголовок, в который выносится ключевое слово, понятие, тема синквейна, выраженное в форме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два прилага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3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три глаг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4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фраза, несущая определенный смы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5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резюме, вывод, одно слово, существитель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вершить оформление контурной карты, знать кар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равийский полуостров – самый большо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Рабочий стол\картинки Евразия\аравийский картаi.jpeg"/>
          <p:cNvPicPr/>
          <p:nvPr/>
        </p:nvPicPr>
        <p:blipFill>
          <a:blip r:embed="rId1"/>
          <a:stretch/>
        </p:blipFill>
        <p:spPr>
          <a:xfrm>
            <a:off x="0" y="3168720"/>
            <a:ext cx="4214880" cy="368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Admin\Рабочий стол\картинки Евразия\iмекка.jpeg"/>
          <p:cNvPicPr/>
          <p:nvPr/>
        </p:nvPicPr>
        <p:blipFill>
          <a:blip r:embed="rId2"/>
          <a:stretch/>
        </p:blipFill>
        <p:spPr>
          <a:xfrm>
            <a:off x="4857840" y="1714680"/>
            <a:ext cx="4062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ртвое море – самое соленое на Земле (до 400гр.соли на 1лит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\Рабочий стол\картинки Евразия\карта мертi.jpeg"/>
          <p:cNvPicPr/>
          <p:nvPr/>
        </p:nvPicPr>
        <p:blipFill>
          <a:blip r:embed="rId1"/>
          <a:stretch/>
        </p:blipFill>
        <p:spPr>
          <a:xfrm>
            <a:off x="500040" y="2357280"/>
            <a:ext cx="3782880" cy="359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Admin\Рабочий стол\картинки Евразия\мертвое мореi.jpeg"/>
          <p:cNvPicPr/>
          <p:nvPr/>
        </p:nvPicPr>
        <p:blipFill>
          <a:blip r:embed="rId2"/>
          <a:stretch/>
        </p:blipFill>
        <p:spPr>
          <a:xfrm>
            <a:off x="4786200" y="4427640"/>
            <a:ext cx="4143600" cy="221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Admin\Рабочий стол\картинки Евразия\соль и скалыi.jpeg"/>
          <p:cNvPicPr/>
          <p:nvPr/>
        </p:nvPicPr>
        <p:blipFill>
          <a:blip r:embed="rId3"/>
          <a:stretch/>
        </p:blipFill>
        <p:spPr>
          <a:xfrm>
            <a:off x="4857840" y="2000160"/>
            <a:ext cx="4071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айкал – самое глубокое озеро Земли (1637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Admin\Рабочий стол\картинки Евразия\байкал картаi.jpeg"/>
          <p:cNvPicPr/>
          <p:nvPr/>
        </p:nvPicPr>
        <p:blipFill>
          <a:blip r:embed="rId1"/>
          <a:stretch/>
        </p:blipFill>
        <p:spPr>
          <a:xfrm>
            <a:off x="500040" y="2071800"/>
            <a:ext cx="3357720" cy="449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Admin\Рабочий стол\картинки Евразия\байкалi.jpeg"/>
          <p:cNvPicPr/>
          <p:nvPr/>
        </p:nvPicPr>
        <p:blipFill>
          <a:blip r:embed="rId2"/>
          <a:stretch/>
        </p:blipFill>
        <p:spPr>
          <a:xfrm>
            <a:off x="4592520" y="1785960"/>
            <a:ext cx="3980160" cy="217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Admin\Рабочий стол\картинки Евразия\байкал1i.jpeg"/>
          <p:cNvPicPr/>
          <p:nvPr/>
        </p:nvPicPr>
        <p:blipFill>
          <a:blip r:embed="rId3"/>
          <a:stretch/>
        </p:blipFill>
        <p:spPr>
          <a:xfrm>
            <a:off x="4500720" y="4357800"/>
            <a:ext cx="41432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гне- фьорд –самый длинный фьорд в мире (220км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\Рабочий стол\картинки Евразия\согнеi.jpeg"/>
          <p:cNvPicPr/>
          <p:nvPr/>
        </p:nvPicPr>
        <p:blipFill>
          <a:blip r:embed="rId1"/>
          <a:stretch/>
        </p:blipFill>
        <p:spPr>
          <a:xfrm>
            <a:off x="714240" y="2571840"/>
            <a:ext cx="3811680" cy="35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Admin\Рабочий стол\картинки Евразия\фьордыi.jpeg"/>
          <p:cNvPicPr/>
          <p:nvPr/>
        </p:nvPicPr>
        <p:blipFill>
          <a:blip r:embed="rId2"/>
          <a:stretch/>
        </p:blipFill>
        <p:spPr>
          <a:xfrm>
            <a:off x="4857840" y="1785960"/>
            <a:ext cx="428292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Admin\Рабочий стол\картинки Евразия\фьорды 1i.jpeg"/>
          <p:cNvPicPr/>
          <p:nvPr/>
        </p:nvPicPr>
        <p:blipFill>
          <a:blip r:embed="rId3"/>
          <a:stretch/>
        </p:blipFill>
        <p:spPr>
          <a:xfrm>
            <a:off x="4929120" y="4286160"/>
            <a:ext cx="4214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еррапунджи – самое влажное место Земли (12000м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Admin\Рабочий стол\картинки Евразия\черрапунi.jpeg"/>
          <p:cNvPicPr/>
          <p:nvPr/>
        </p:nvPicPr>
        <p:blipFill>
          <a:blip r:embed="rId1"/>
          <a:stretch/>
        </p:blipFill>
        <p:spPr>
          <a:xfrm>
            <a:off x="0" y="2428920"/>
            <a:ext cx="4572000" cy="385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dmin\Рабочий стол\картинки Евразия\черi.jpeg"/>
          <p:cNvPicPr/>
          <p:nvPr/>
        </p:nvPicPr>
        <p:blipFill>
          <a:blip r:embed="rId2"/>
          <a:stretch/>
        </p:blipFill>
        <p:spPr>
          <a:xfrm>
            <a:off x="4929120" y="2071800"/>
            <a:ext cx="4214880" cy="25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Admin\Рабочий стол\картинки Евразия\живые мостыi.jpeg"/>
          <p:cNvPicPr/>
          <p:nvPr/>
        </p:nvPicPr>
        <p:blipFill>
          <a:blip r:embed="rId3"/>
          <a:stretch/>
        </p:blipFill>
        <p:spPr>
          <a:xfrm>
            <a:off x="4857840" y="47149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спийское море – самое большое озеро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Admin\Рабочий стол\картинки Евразия\каспийское море картаi.jpeg"/>
          <p:cNvPicPr/>
          <p:nvPr/>
        </p:nvPicPr>
        <p:blipFill>
          <a:blip r:embed="rId1"/>
          <a:stretch/>
        </p:blipFill>
        <p:spPr>
          <a:xfrm>
            <a:off x="857160" y="1785960"/>
            <a:ext cx="3470400" cy="3936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Admin\Рабочий стол\картинки Евразия\касп.i.jpeg"/>
          <p:cNvPicPr/>
          <p:nvPr/>
        </p:nvPicPr>
        <p:blipFill>
          <a:blip r:embed="rId2"/>
          <a:stretch/>
        </p:blipFill>
        <p:spPr>
          <a:xfrm>
            <a:off x="4714920" y="1857240"/>
            <a:ext cx="385776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Разнообразие природы Евразии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4008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1:21:22Z</dcterms:created>
  <dc:creator>Admin</dc:creator>
  <dc:description/>
  <dc:language>en-US</dc:language>
  <cp:lastModifiedBy>uchitel</cp:lastModifiedBy>
  <dcterms:modified xsi:type="dcterms:W3CDTF">2016-10-20T08:05:34Z</dcterms:modified>
  <cp:revision>29</cp:revision>
  <dc:subject/>
  <dc:title>Слайд 1</dc:title>
</cp:coreProperties>
</file>