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8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25.png" ContentType="image/png"/>
  <Override PartName="/ppt/media/image65.wmf" ContentType="image/x-wmf"/>
  <Override PartName="/ppt/media/image33.png" ContentType="image/png"/>
  <Override PartName="/ppt/media/image3.png" ContentType="image/png"/>
  <Override PartName="/ppt/media/image15.png" ContentType="image/png"/>
  <Override PartName="/ppt/media/image29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20.png" ContentType="image/png"/>
  <Override PartName="/ppt/media/image40.png" ContentType="image/png"/>
  <Override PartName="/ppt/media/image11.jpeg" ContentType="image/jpeg"/>
  <Override PartName="/ppt/media/image64.wmf" ContentType="image/x-wmf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67.png" ContentType="image/png"/>
  <Override PartName="/ppt/media/image30.png" ContentType="image/png"/>
  <Override PartName="/ppt/media/image66.wmf" ContentType="image/x-wmf"/>
  <Override PartName="/ppt/media/image26.png" ContentType="image/png"/>
  <Override PartName="/ppt/media/image63.png" ContentType="image/png"/>
  <Override PartName="/ppt/media/image27.png" ContentType="image/png"/>
  <Override PartName="/ppt/media/image60.png" ContentType="image/png"/>
  <Override PartName="/ppt/media/image23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6.png" ContentType="image/png"/>
  <Override PartName="/ppt/media/image50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34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E073-6DED-404F-B3CD-C7F74E8F92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345F-AD1D-4C5A-B75F-BE5C0765CE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000F-F41D-4E89-91E1-C99DED02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D15-9CB0-4F2B-8DF3-6FABDBCF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F1C7-86C5-4557-94AC-0B48939F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6113-8FE2-4526-AB1B-39AE5EEB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A7A6-5805-491F-A573-1A63F802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DA51-26A3-45F9-9A7D-AB3D27F2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6AF7-1FF5-496A-962D-A9A95E7E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198E-4756-463E-8EB7-9BDEFA70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8707-CE79-49F0-BCA4-01CCFC99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4244-3BAA-4367-9247-DF78C137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822F-B17B-4DA6-A919-7AC4789B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E4F-29CF-4845-A763-6584851E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54E7-C2F4-4955-B8AF-C5CFA6C2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8570-35F7-4CCD-8DAB-15991376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2BC2-C719-4666-B3FD-E6C02561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A9BD-124C-4ECE-AC54-7CECFAA8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A65A-EFE4-4005-8C2B-FF7D1CC8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C3C24-B548-4800-8750-3070C300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2C37C-9AEE-47EF-AB58-381D8B3C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020CA-2B0E-4F83-BDC7-D2595C23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8CCF1-83F6-4D99-A2F6-1EA5B02C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26CF-CF96-422D-9D2B-6089E1AA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2A0-0995-42C2-BC58-936ACEE5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97B57-9B40-491A-893E-A4E2D34A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D5C7B-C00D-4C39-84B9-28F3563E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5D0EB-871B-4067-93D3-6712EB7E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3D543-B79D-457B-8455-9030E2C5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86DFF-C10D-4381-A277-E4EC5ADE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059FE-BAF6-4EF8-A9A5-815D1254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8EB42-9C7F-43D0-8DD2-7E83CCC4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77181-4F5B-403C-9E61-41252865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32FE2-1B31-4AFD-9589-87874C10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460CF-BFF3-44F9-BE43-E36095A3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3E0-4843-41F1-BEA5-342C8B98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4692C-E9BD-4FE4-9C2B-C161F84D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3C295-57C0-454D-B2E9-3D3BFAD6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17F11-61E9-4C0B-A7FC-4D39C4EA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894C3-48F1-419E-B05A-790C5A10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44E74-8077-4EC6-86D3-71777474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36479-061B-4085-9796-02659D6E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510C2-1413-457A-8A9C-E2CEB0F6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6FEE3-5201-4844-B643-A3235960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48D4E-D310-4BA5-BA7C-74E26746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EA45D-6FC3-4DD8-BA42-14AF7808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608-B992-455F-B659-38A9D16A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BD9A8-CA19-4423-8AC6-2C3CF49A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82701-24DD-4509-B3E2-8ACBFAB5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46599-F643-4819-A6F8-CE6D3E2A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7D153-334C-4180-99B2-CA2BA42E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02A57-8FF4-4CCA-A3E1-81D46C43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279BD-B880-49A0-9880-752E5462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0EB0A-0D0D-49E9-8540-70265F77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BD042-A04B-4207-AE8D-51D41888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B30BC-18CA-48BD-BAFA-ECFDD94D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39C71-CE5F-43A5-BBBB-C37B9578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632-78B9-4096-A1EB-D61DC26C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0C5E0-BD8F-4DB3-808A-6CCC4565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51211-419D-4AED-9598-471E0AA4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45EF0-BE3E-487B-A82D-66D0B1DC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40599-AF25-4AC6-82A8-F4F0FEAD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A9127-9ADE-4F7D-A765-8D4A04C4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6313A-C388-45F2-AD2E-18AFADC2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09D22-CA0E-45DA-9800-39618669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889C5-E8C5-45D8-B6CC-17A90D26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6ED21-8049-48DD-9BBA-CE086AD3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85259-0379-4784-B474-7680BD36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3BF-AA82-4313-B96B-9494FA61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AEE59-1F43-4541-B4A0-6AC04E48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13CDF-2753-40DD-9988-1B03C668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5FF50-DA58-444D-9CB8-77DF36D6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F21-F8F7-426E-B18C-20ED0227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BAD-9543-44A3-ADA6-EBBE9CE6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ECBE-E767-445E-98E7-51C9E99E8CCC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9BDB-22C7-43E8-BCFD-E9960D228586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9596-1674-43D6-ACBD-86AE4A0DA1A7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9808-AD66-4A94-A5A1-087F34C8DB6F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FD57-33E8-48E2-9591-D1F318B8B209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E927-47FF-48FC-8473-B4694EF46417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hyperlink" Target="http://www.fipi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" Target="slide5.xm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" Target="slide14.xml"/><Relationship Id="rId4" Type="http://schemas.openxmlformats.org/officeDocument/2006/relationships/image" Target="../media/image26.png"/><Relationship Id="rId5" Type="http://schemas.openxmlformats.org/officeDocument/2006/relationships/slide" Target="slide12.xml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371520" y="324000"/>
            <a:ext cx="7327800" cy="12920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Aharoni"/>
              </a:rPr>
              <a:t>Синоптическая карта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Aharon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d75b7e"/>
              </a:solidFill>
              <a:latin typeface="Trebuchet MS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2071800" cy="1785960"/>
          </a:xfrm>
          <a:prstGeom prst="rect">
            <a:avLst/>
          </a:prstGeom>
          <a:ln w="0">
            <a:noFill/>
          </a:ln>
        </p:spPr>
      </p:pic>
      <p:pic>
        <p:nvPicPr>
          <p:cNvPr id="329" name="Содержимое 3" descr=""/>
          <p:cNvPicPr/>
          <p:nvPr/>
        </p:nvPicPr>
        <p:blipFill>
          <a:blip r:embed="rId2"/>
          <a:stretch/>
        </p:blipFill>
        <p:spPr>
          <a:xfrm>
            <a:off x="1127160" y="5602320"/>
            <a:ext cx="8040600" cy="12556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3"/>
          <a:stretch/>
        </p:blipFill>
        <p:spPr>
          <a:xfrm>
            <a:off x="3214800" y="142920"/>
            <a:ext cx="2214360" cy="1785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4"/>
          <a:stretch/>
        </p:blipFill>
        <p:spPr>
          <a:xfrm>
            <a:off x="6357960" y="14292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5"/>
          <a:stretch/>
        </p:blipFill>
        <p:spPr>
          <a:xfrm>
            <a:off x="928800" y="3643200"/>
            <a:ext cx="2000160" cy="1785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"/>
          <p:cNvPicPr/>
          <p:nvPr/>
        </p:nvPicPr>
        <p:blipFill>
          <a:blip r:embed="rId6"/>
          <a:stretch/>
        </p:blipFill>
        <p:spPr>
          <a:xfrm>
            <a:off x="5072040" y="3571920"/>
            <a:ext cx="2000160" cy="1795320"/>
          </a:xfrm>
          <a:prstGeom prst="rect">
            <a:avLst/>
          </a:prstGeom>
          <a:ln w="0">
            <a:noFill/>
          </a:ln>
        </p:spPr>
      </p:pic>
      <p:grpSp>
        <p:nvGrpSpPr>
          <p:cNvPr id="334" name="Группа 8"/>
          <p:cNvGrpSpPr/>
          <p:nvPr/>
        </p:nvGrpSpPr>
        <p:grpSpPr>
          <a:xfrm>
            <a:off x="500040" y="2071800"/>
            <a:ext cx="8140680" cy="1441440"/>
            <a:chOff x="500040" y="2071800"/>
            <a:chExt cx="8140680" cy="1441440"/>
          </a:xfrm>
        </p:grpSpPr>
        <p:sp>
          <p:nvSpPr>
            <p:cNvPr id="335" name="Скругленный прямоугольник 9"/>
            <p:cNvSpPr/>
            <p:nvPr/>
          </p:nvSpPr>
          <p:spPr>
            <a:xfrm>
              <a:off x="500040" y="2071800"/>
              <a:ext cx="8140680" cy="144144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Скругленный прямоугольник 4"/>
            <p:cNvSpPr/>
            <p:nvPr/>
          </p:nvSpPr>
          <p:spPr>
            <a:xfrm>
              <a:off x="569880" y="2141640"/>
              <a:ext cx="8001000" cy="13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rebuchet MS"/>
                </a:rPr>
                <a:t>Антициклон имеет самое высокое давление в центре вихря . Отсюда воздух растекается к окраинам , несколько отклоняясь по часовой стрелке . Характер погоды (малооблачной или засушливой – в теплый период, ясной , морозной – в холодный)сохраняется в течение всего времени пребывания антициклона, так как растекающиеся из центра антициклона воздушные массы имеют одинаковые свойства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хема 8" descr=""/>
          <p:cNvPicPr/>
          <p:nvPr/>
        </p:nvPicPr>
        <p:blipFill>
          <a:blip r:embed="rId1"/>
          <a:stretch/>
        </p:blipFill>
        <p:spPr>
          <a:xfrm>
            <a:off x="480960" y="4986360"/>
            <a:ext cx="8229600" cy="1073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7273800" cy="352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85840" y="500040"/>
          <a:ext cx="8858160" cy="5680080"/>
        </p:xfrm>
        <a:graphic>
          <a:graphicData uri="http://schemas.openxmlformats.org/drawingml/2006/table">
            <a:tbl>
              <a:tblPr/>
              <a:tblGrid>
                <a:gridCol w="2727360"/>
                <a:gridCol w="3416040"/>
                <a:gridCol w="271476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Цикл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Антицикл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Атмосферное давл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изко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соко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 Движение воздух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 периферии к центр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 центра к перифер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Явл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хлаждение воздуха с поднятием , образование и выпадение осадков вследствие конденс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гревание и иссушение воздух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 Разме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-3 тыс.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-3 тыс.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. Скорость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-40 км/час в основном с запада на вост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лоподвиж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Районы формир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еверная Атлантика , Баренцево море , Охотское мор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сточная Сибир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 Пог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асмурная, ветреная , с осадк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лооблачная , летом –теплая, зимой –морозна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341" name="Прямоугольник 4"/>
          <p:cNvSpPr/>
          <p:nvPr/>
        </p:nvSpPr>
        <p:spPr>
          <a:xfrm>
            <a:off x="357120" y="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1f34"/>
                </a:solidFill>
                <a:latin typeface="Arial"/>
              </a:rPr>
              <a:t>Сравнительная характе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Группа 7"/>
          <p:cNvGrpSpPr/>
          <p:nvPr/>
        </p:nvGrpSpPr>
        <p:grpSpPr>
          <a:xfrm>
            <a:off x="6653160" y="6429240"/>
            <a:ext cx="1806480" cy="285840"/>
            <a:chOff x="6653160" y="6429240"/>
            <a:chExt cx="1806480" cy="285840"/>
          </a:xfrm>
        </p:grpSpPr>
        <p:sp>
          <p:nvSpPr>
            <p:cNvPr id="343" name="Скругленный прямоугольник 8"/>
            <p:cNvSpPr/>
            <p:nvPr/>
          </p:nvSpPr>
          <p:spPr>
            <a:xfrm>
              <a:off x="6653160" y="6429240"/>
              <a:ext cx="1806480" cy="28584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Скругленный прямоугольник 4"/>
            <p:cNvSpPr/>
            <p:nvPr/>
          </p:nvSpPr>
          <p:spPr>
            <a:xfrm>
              <a:off x="6653160" y="6443280"/>
              <a:ext cx="17877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9600" rIns="129600" tIns="127800" bIns="127800" anchor="ctr">
              <a:noAutofit/>
            </a:bodyPr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511280"/>
                  <a:tab algn="l" pos="3022560"/>
                  <a:tab algn="l" pos="4533840"/>
                  <a:tab algn="l" pos="6045120"/>
                  <a:tab algn="l" pos="7556400"/>
                  <a:tab algn="l" pos="9067680"/>
                  <a:tab algn="l" pos="105789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3000240" y="857160"/>
            <a:ext cx="6143760" cy="500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3000240" y="1500120"/>
            <a:ext cx="6143760" cy="6429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3"/>
          <a:stretch/>
        </p:blipFill>
        <p:spPr>
          <a:xfrm>
            <a:off x="3000240" y="2214720"/>
            <a:ext cx="6143760" cy="1071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"/>
          <p:cNvPicPr/>
          <p:nvPr/>
        </p:nvPicPr>
        <p:blipFill>
          <a:blip r:embed="rId4"/>
          <a:stretch/>
        </p:blipFill>
        <p:spPr>
          <a:xfrm>
            <a:off x="3000240" y="3214800"/>
            <a:ext cx="6143760" cy="500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5"/>
          <a:stretch/>
        </p:blipFill>
        <p:spPr>
          <a:xfrm>
            <a:off x="3000240" y="3786120"/>
            <a:ext cx="6143760" cy="500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6"/>
          <a:stretch/>
        </p:blipFill>
        <p:spPr>
          <a:xfrm>
            <a:off x="3000240" y="4429080"/>
            <a:ext cx="6143760" cy="857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"/>
          <p:cNvPicPr/>
          <p:nvPr/>
        </p:nvPicPr>
        <p:blipFill>
          <a:blip r:embed="rId7"/>
          <a:stretch/>
        </p:blipFill>
        <p:spPr>
          <a:xfrm>
            <a:off x="3000240" y="5286240"/>
            <a:ext cx="6143760" cy="9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Схема 21" descr=""/>
          <p:cNvPicPr/>
          <p:nvPr/>
        </p:nvPicPr>
        <p:blipFill>
          <a:blip r:embed="rId1"/>
          <a:stretch/>
        </p:blipFill>
        <p:spPr>
          <a:xfrm>
            <a:off x="444600" y="5357880"/>
            <a:ext cx="8265960" cy="1500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571680" y="500040"/>
            <a:ext cx="1928520" cy="1422360"/>
          </a:xfrm>
          <a:prstGeom prst="rect">
            <a:avLst/>
          </a:prstGeom>
          <a:ln w="0">
            <a:noFill/>
          </a:ln>
        </p:spPr>
      </p:pic>
      <p:pic>
        <p:nvPicPr>
          <p:cNvPr id="354" name="Содержимое 4" descr=""/>
          <p:cNvPicPr/>
          <p:nvPr/>
        </p:nvPicPr>
        <p:blipFill>
          <a:blip r:embed="rId3"/>
          <a:stretch/>
        </p:blipFill>
        <p:spPr>
          <a:xfrm>
            <a:off x="6175440" y="4413240"/>
            <a:ext cx="2597040" cy="701640"/>
          </a:xfrm>
          <a:prstGeom prst="rect">
            <a:avLst/>
          </a:prstGeom>
          <a:ln w="0">
            <a:noFill/>
          </a:ln>
        </p:spPr>
      </p:pic>
      <p:grpSp>
        <p:nvGrpSpPr>
          <p:cNvPr id="355" name="Группа 4"/>
          <p:cNvGrpSpPr/>
          <p:nvPr/>
        </p:nvGrpSpPr>
        <p:grpSpPr>
          <a:xfrm>
            <a:off x="571680" y="2000160"/>
            <a:ext cx="1928520" cy="642960"/>
            <a:chOff x="571680" y="2000160"/>
            <a:chExt cx="1928520" cy="642960"/>
          </a:xfrm>
        </p:grpSpPr>
        <p:sp>
          <p:nvSpPr>
            <p:cNvPr id="356" name="Скругленный прямоугольник 5"/>
            <p:cNvSpPr/>
            <p:nvPr/>
          </p:nvSpPr>
          <p:spPr>
            <a:xfrm>
              <a:off x="571680" y="2000160"/>
              <a:ext cx="1928520" cy="64296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Скругленный прямоугольник 4"/>
            <p:cNvSpPr/>
            <p:nvPr/>
          </p:nvSpPr>
          <p:spPr>
            <a:xfrm>
              <a:off x="617400" y="2031840"/>
              <a:ext cx="1836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rebuchet MS"/>
                </a:rPr>
                <a:t>Давление воздух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Picture 2" descr=""/>
          <p:cNvPicPr/>
          <p:nvPr/>
        </p:nvPicPr>
        <p:blipFill>
          <a:blip r:embed="rId4"/>
          <a:stretch/>
        </p:blipFill>
        <p:spPr>
          <a:xfrm>
            <a:off x="3357720" y="571680"/>
            <a:ext cx="2163600" cy="1428480"/>
          </a:xfrm>
          <a:prstGeom prst="rect">
            <a:avLst/>
          </a:prstGeom>
          <a:ln w="0">
            <a:noFill/>
          </a:ln>
        </p:spPr>
      </p:pic>
      <p:pic>
        <p:nvPicPr>
          <p:cNvPr id="359" name="Содержимое 5" descr=""/>
          <p:cNvPicPr/>
          <p:nvPr/>
        </p:nvPicPr>
        <p:blipFill>
          <a:blip r:embed="rId5"/>
          <a:stretch/>
        </p:blipFill>
        <p:spPr>
          <a:xfrm>
            <a:off x="3322800" y="1994040"/>
            <a:ext cx="2273040" cy="779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6"/>
          <a:stretch/>
        </p:blipFill>
        <p:spPr>
          <a:xfrm>
            <a:off x="6143760" y="571680"/>
            <a:ext cx="214308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61" name="Группа 10"/>
          <p:cNvGrpSpPr/>
          <p:nvPr/>
        </p:nvGrpSpPr>
        <p:grpSpPr>
          <a:xfrm>
            <a:off x="5857920" y="2000160"/>
            <a:ext cx="2568600" cy="785880"/>
            <a:chOff x="5857920" y="2000160"/>
            <a:chExt cx="2568600" cy="785880"/>
          </a:xfrm>
        </p:grpSpPr>
        <p:sp>
          <p:nvSpPr>
            <p:cNvPr id="362" name="Скругленный прямоугольник 11"/>
            <p:cNvSpPr/>
            <p:nvPr/>
          </p:nvSpPr>
          <p:spPr>
            <a:xfrm>
              <a:off x="5857920" y="2000160"/>
              <a:ext cx="2568600" cy="78588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Скругленный прямоугольник 4"/>
            <p:cNvSpPr/>
            <p:nvPr/>
          </p:nvSpPr>
          <p:spPr>
            <a:xfrm>
              <a:off x="5900760" y="2037960"/>
              <a:ext cx="248292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rebuchet MS"/>
                </a:rPr>
                <a:t>Воздушные массы и направления их движ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Picture 2" descr=""/>
          <p:cNvPicPr/>
          <p:nvPr/>
        </p:nvPicPr>
        <p:blipFill>
          <a:blip r:embed="rId7"/>
          <a:stretch/>
        </p:blipFill>
        <p:spPr>
          <a:xfrm>
            <a:off x="6072120" y="2857680"/>
            <a:ext cx="2374920" cy="1547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"/>
          <p:cNvPicPr/>
          <p:nvPr/>
        </p:nvPicPr>
        <p:blipFill>
          <a:blip r:embed="rId8"/>
          <a:stretch/>
        </p:blipFill>
        <p:spPr>
          <a:xfrm>
            <a:off x="3357720" y="2928960"/>
            <a:ext cx="2357280" cy="1500120"/>
          </a:xfrm>
          <a:prstGeom prst="rect">
            <a:avLst/>
          </a:prstGeom>
          <a:ln w="0">
            <a:noFill/>
          </a:ln>
        </p:spPr>
      </p:pic>
      <p:pic>
        <p:nvPicPr>
          <p:cNvPr id="366" name="Содержимое 8" descr=""/>
          <p:cNvPicPr/>
          <p:nvPr/>
        </p:nvPicPr>
        <p:blipFill>
          <a:blip r:embed="rId9"/>
          <a:stretch/>
        </p:blipFill>
        <p:spPr>
          <a:xfrm>
            <a:off x="3681360" y="4498920"/>
            <a:ext cx="1914480" cy="7858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10"/>
          <a:stretch/>
        </p:blipFill>
        <p:spPr>
          <a:xfrm>
            <a:off x="642960" y="2857680"/>
            <a:ext cx="2211480" cy="1500120"/>
          </a:xfrm>
          <a:prstGeom prst="rect">
            <a:avLst/>
          </a:prstGeom>
          <a:ln w="0">
            <a:noFill/>
          </a:ln>
        </p:spPr>
      </p:pic>
      <p:grpSp>
        <p:nvGrpSpPr>
          <p:cNvPr id="368" name="Группа 18"/>
          <p:cNvGrpSpPr/>
          <p:nvPr/>
        </p:nvGrpSpPr>
        <p:grpSpPr>
          <a:xfrm>
            <a:off x="928800" y="4357800"/>
            <a:ext cx="1749240" cy="714240"/>
            <a:chOff x="928800" y="4357800"/>
            <a:chExt cx="1749240" cy="714240"/>
          </a:xfrm>
        </p:grpSpPr>
        <p:sp>
          <p:nvSpPr>
            <p:cNvPr id="369" name="Скругленный прямоугольник 19"/>
            <p:cNvSpPr/>
            <p:nvPr/>
          </p:nvSpPr>
          <p:spPr>
            <a:xfrm>
              <a:off x="966600" y="4395600"/>
              <a:ext cx="1711440" cy="67644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Скругленный прямоугольник 4"/>
            <p:cNvSpPr/>
            <p:nvPr/>
          </p:nvSpPr>
          <p:spPr>
            <a:xfrm>
              <a:off x="928800" y="4357800"/>
              <a:ext cx="1644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Trebuchet MS"/>
                </a:rPr>
                <a:t>Циклоны и антициклон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487440" y="152280"/>
            <a:ext cx="7156440" cy="1390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3772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3333ff"/>
                </a:solidFill>
                <a:latin typeface="Trebuchet MS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3" name="Picture 12" descr="surfacepressurechart"/>
          <p:cNvPicPr/>
          <p:nvPr/>
        </p:nvPicPr>
        <p:blipFill>
          <a:blip r:embed="rId2"/>
          <a:stretch/>
        </p:blipFill>
        <p:spPr>
          <a:xfrm>
            <a:off x="1371600" y="1295280"/>
            <a:ext cx="6248520" cy="496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0" y="0"/>
            <a:ext cx="446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Синоптическая карта – основа для предсказания погоды. Для этой цели сопоставляют карты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  <a:ea typeface="Aharon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haroni"/>
              </a:rPr>
              <a:t>Составленные на несколько сроков, и устанавливают изменения в положении фронтов, смещении циклонов и антициклонов, определяют вероятное направление их развития в ближайше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5" descr="s024[1]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4"/>
          <p:cNvSpPr/>
          <p:nvPr/>
        </p:nvSpPr>
        <p:spPr>
          <a:xfrm>
            <a:off x="0" y="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бота с синоптической картой начинается с анализа погоды, нанесенной на нее в закодированном виде. Знакомим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 «легендой» кар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f"/>
          <p:cNvPicPr/>
          <p:nvPr/>
        </p:nvPicPr>
        <p:blipFill>
          <a:blip r:embed="rId1"/>
          <a:stretch/>
        </p:blipFill>
        <p:spPr>
          <a:xfrm>
            <a:off x="1403280" y="1936800"/>
            <a:ext cx="6408720" cy="492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454880" cy="1401480"/>
          </a:xfrm>
          <a:prstGeom prst="rect">
            <a:avLst/>
          </a:prstGeom>
          <a:ln w="0">
            <a:noFill/>
          </a:ln>
        </p:spPr>
      </p:pic>
      <p:pic>
        <p:nvPicPr>
          <p:cNvPr id="379" name="Объект 3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2087640" cy="173844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4" descr=""/>
          <p:cNvPicPr/>
          <p:nvPr/>
        </p:nvPicPr>
        <p:blipFill>
          <a:blip r:embed="rId3"/>
          <a:stretch/>
        </p:blipFill>
        <p:spPr>
          <a:xfrm>
            <a:off x="5580000" y="4797360"/>
            <a:ext cx="2016360" cy="179856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5" descr=""/>
          <p:cNvPicPr/>
          <p:nvPr/>
        </p:nvPicPr>
        <p:blipFill>
          <a:blip r:embed="rId4"/>
          <a:stretch/>
        </p:blipFill>
        <p:spPr>
          <a:xfrm>
            <a:off x="2700360" y="2847960"/>
            <a:ext cx="2585880" cy="194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1653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Баринова И.И. «География России:  природа» М: «Дрофа»;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Атлас  « География России 8 класс» издательство «Аст-пресс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О.А.Антушева География России.Природа.8 класс: поурочные планы по учебнику И.И.Бариновой Волгоград: Учитель, 200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 </a:t>
            </a:r>
            <a:r>
              <a:rPr b="0" lang="ru-RU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www.fipi.ru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материалы ОГЭ по географ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хема 12" descr=""/>
          <p:cNvPicPr/>
          <p:nvPr/>
        </p:nvPicPr>
        <p:blipFill>
          <a:blip r:embed="rId1"/>
          <a:stretch/>
        </p:blipFill>
        <p:spPr>
          <a:xfrm>
            <a:off x="777960" y="5565600"/>
            <a:ext cx="7210440" cy="1090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2771640" y="3068640"/>
            <a:ext cx="3095640" cy="2097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3"/>
          <a:stretch/>
        </p:blipFill>
        <p:spPr>
          <a:xfrm>
            <a:off x="214200" y="2857680"/>
            <a:ext cx="428760" cy="3071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0360" y="35712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203640" y="428760"/>
            <a:ext cx="2406600" cy="2286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8"/>
          <a:stretch/>
        </p:blipFill>
        <p:spPr>
          <a:xfrm>
            <a:off x="5796000" y="412920"/>
            <a:ext cx="2201760" cy="220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Схема 10" descr=""/>
          <p:cNvPicPr/>
          <p:nvPr/>
        </p:nvPicPr>
        <p:blipFill>
          <a:blip r:embed="rId1"/>
          <a:stretch/>
        </p:blipFill>
        <p:spPr>
          <a:xfrm>
            <a:off x="1463760" y="4979880"/>
            <a:ext cx="7246800" cy="10670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1285920" y="642960"/>
            <a:ext cx="3537000" cy="1285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3"/>
          <a:stretch/>
        </p:blipFill>
        <p:spPr>
          <a:xfrm>
            <a:off x="5143680" y="714240"/>
            <a:ext cx="3522600" cy="1143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4"/>
          <a:stretch/>
        </p:blipFill>
        <p:spPr>
          <a:xfrm>
            <a:off x="1571760" y="2714760"/>
            <a:ext cx="2930400" cy="113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5"/>
          <a:stretch/>
        </p:blipFill>
        <p:spPr>
          <a:xfrm>
            <a:off x="5500800" y="2714760"/>
            <a:ext cx="3044880" cy="1285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6"/>
          <a:stretch/>
        </p:blipFill>
        <p:spPr>
          <a:xfrm>
            <a:off x="1143000" y="571680"/>
            <a:ext cx="7643880" cy="4357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7"/>
          <a:stretch/>
        </p:blipFill>
        <p:spPr>
          <a:xfrm>
            <a:off x="677880" y="1677960"/>
            <a:ext cx="428760" cy="307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Схема 10" descr=""/>
          <p:cNvPicPr/>
          <p:nvPr/>
        </p:nvPicPr>
        <p:blipFill>
          <a:blip r:embed="rId1"/>
          <a:stretch/>
        </p:blipFill>
        <p:spPr>
          <a:xfrm>
            <a:off x="506520" y="5626080"/>
            <a:ext cx="8180280" cy="1255680"/>
          </a:xfrm>
          <a:prstGeom prst="rect">
            <a:avLst/>
          </a:prstGeom>
          <a:ln w="0">
            <a:noFill/>
          </a:ln>
        </p:spPr>
      </p:pic>
      <p:pic>
        <p:nvPicPr>
          <p:cNvPr id="287" name="Содержимое 2" descr=""/>
          <p:cNvPicPr/>
          <p:nvPr/>
        </p:nvPicPr>
        <p:blipFill>
          <a:blip r:embed="rId2"/>
          <a:stretch/>
        </p:blipFill>
        <p:spPr>
          <a:xfrm>
            <a:off x="108000" y="446040"/>
            <a:ext cx="7993080" cy="1554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3"/>
          <a:stretch/>
        </p:blipFill>
        <p:spPr>
          <a:xfrm>
            <a:off x="1357200" y="2000160"/>
            <a:ext cx="2673360" cy="2044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"/>
          <p:cNvPicPr/>
          <p:nvPr/>
        </p:nvPicPr>
        <p:blipFill>
          <a:blip r:embed="rId4"/>
          <a:stretch/>
        </p:blipFill>
        <p:spPr>
          <a:xfrm>
            <a:off x="5929200" y="1928880"/>
            <a:ext cx="2857680" cy="2063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5"/>
          <a:stretch/>
        </p:blipFill>
        <p:spPr>
          <a:xfrm>
            <a:off x="3571920" y="3786120"/>
            <a:ext cx="2743200" cy="1936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Схема 9" descr=""/>
          <p:cNvPicPr/>
          <p:nvPr/>
        </p:nvPicPr>
        <p:blipFill>
          <a:blip r:embed="rId1"/>
          <a:stretch/>
        </p:blipFill>
        <p:spPr>
          <a:xfrm>
            <a:off x="5151600" y="2494080"/>
            <a:ext cx="3516120" cy="1157040"/>
          </a:xfrm>
          <a:prstGeom prst="rect">
            <a:avLst/>
          </a:prstGeom>
          <a:ln w="0">
            <a:noFill/>
          </a:ln>
        </p:spPr>
      </p:pic>
      <p:pic>
        <p:nvPicPr>
          <p:cNvPr id="292" name="Содержимое 4" descr=""/>
          <p:cNvPicPr/>
          <p:nvPr/>
        </p:nvPicPr>
        <p:blipFill>
          <a:blip r:embed="rId2"/>
          <a:stretch/>
        </p:blipFill>
        <p:spPr>
          <a:xfrm>
            <a:off x="506520" y="512640"/>
            <a:ext cx="8180280" cy="1438560"/>
          </a:xfrm>
          <a:prstGeom prst="rect">
            <a:avLst/>
          </a:prstGeom>
          <a:ln w="0">
            <a:noFill/>
          </a:ln>
        </p:spPr>
      </p:pic>
      <p:sp>
        <p:nvSpPr>
          <p:cNvPr id="293" name="Стрелка вправо 5"/>
          <p:cNvSpPr/>
          <p:nvPr/>
        </p:nvSpPr>
        <p:spPr>
          <a:xfrm rot="7611600">
            <a:off x="2405880" y="1950840"/>
            <a:ext cx="1050840" cy="485640"/>
          </a:xfrm>
          <a:prstGeom prst="rightArrow">
            <a:avLst>
              <a:gd name="adj1" fmla="val 53972"/>
              <a:gd name="adj2" fmla="val 50008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трелка вправо 6"/>
          <p:cNvSpPr/>
          <p:nvPr/>
        </p:nvSpPr>
        <p:spPr>
          <a:xfrm rot="3001200">
            <a:off x="5869080" y="2001600"/>
            <a:ext cx="978120" cy="486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2960" y="3857760"/>
            <a:ext cx="3786120" cy="2357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857840" y="3857760"/>
            <a:ext cx="3786120" cy="2357280"/>
          </a:xfrm>
          <a:prstGeom prst="rect">
            <a:avLst/>
          </a:prstGeom>
          <a:ln w="0">
            <a:noFill/>
          </a:ln>
        </p:spPr>
      </p:pic>
      <p:pic>
        <p:nvPicPr>
          <p:cNvPr id="297" name="Схема 10" descr=""/>
          <p:cNvPicPr/>
          <p:nvPr/>
        </p:nvPicPr>
        <p:blipFill>
          <a:blip r:embed="rId7"/>
          <a:stretch/>
        </p:blipFill>
        <p:spPr>
          <a:xfrm>
            <a:off x="669960" y="2633760"/>
            <a:ext cx="3713040" cy="102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80280" cy="14274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499680" y="1857240"/>
            <a:ext cx="4057560" cy="11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74396"/>
                </a:solidFill>
                <a:latin typeface="Trebuchet MS"/>
              </a:rPr>
              <a:t>Арктический фрон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785840" y="1785960"/>
            <a:ext cx="39322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74396"/>
                </a:solidFill>
                <a:latin typeface="Trebuchet MS"/>
              </a:rPr>
              <a:t>Полярный фрон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Стрелка вниз 6"/>
          <p:cNvSpPr/>
          <p:nvPr/>
        </p:nvSpPr>
        <p:spPr>
          <a:xfrm>
            <a:off x="1857240" y="2571840"/>
            <a:ext cx="7146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трелка вниз 7"/>
          <p:cNvSpPr/>
          <p:nvPr/>
        </p:nvSpPr>
        <p:spPr>
          <a:xfrm>
            <a:off x="6286680" y="2428920"/>
            <a:ext cx="6426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8"/>
          <p:cNvSpPr/>
          <p:nvPr/>
        </p:nvSpPr>
        <p:spPr>
          <a:xfrm>
            <a:off x="785880" y="300024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74396"/>
                </a:solidFill>
                <a:latin typeface="Arial"/>
              </a:rPr>
              <a:t>Взаимодействуют арктические и умеренные воздушные мас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9"/>
          <p:cNvSpPr/>
          <p:nvPr/>
        </p:nvSpPr>
        <p:spPr>
          <a:xfrm>
            <a:off x="5214960" y="285768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74396"/>
                </a:solidFill>
                <a:latin typeface="Arial"/>
              </a:rPr>
              <a:t>Взаимодействуют умеренные и тропические воздушные мас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0"/>
          <p:cNvSpPr/>
          <p:nvPr/>
        </p:nvSpPr>
        <p:spPr>
          <a:xfrm>
            <a:off x="428760" y="4572000"/>
            <a:ext cx="76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a2e4e"/>
                </a:solidFill>
                <a:latin typeface="Arial"/>
              </a:rPr>
              <a:t>Где образуются арктический и полярный фронты над территорией Росс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a2e4e"/>
                </a:solidFill>
                <a:latin typeface="Arial"/>
              </a:rPr>
              <a:t>Как изменяется их положение летом и зим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етом эти фронты смещаются к северу , а зимой  – к югу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Схема 5" descr=""/>
          <p:cNvPicPr/>
          <p:nvPr/>
        </p:nvPicPr>
        <p:blipFill>
          <a:blip r:embed="rId1"/>
          <a:stretch/>
        </p:blipFill>
        <p:spPr>
          <a:xfrm>
            <a:off x="457200" y="4986360"/>
            <a:ext cx="8296200" cy="1054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1403280" y="333360"/>
            <a:ext cx="5689800" cy="477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d75b7e"/>
              </a:solidFill>
              <a:latin typeface="Trebuchet MS"/>
            </a:endParaRPr>
          </a:p>
        </p:txBody>
      </p:sp>
      <p:pic>
        <p:nvPicPr>
          <p:cNvPr id="309" name="Содержимое 7" descr=""/>
          <p:cNvPicPr/>
          <p:nvPr/>
        </p:nvPicPr>
        <p:blipFill>
          <a:blip r:embed="rId1"/>
          <a:stretch/>
        </p:blipFill>
        <p:spPr>
          <a:xfrm>
            <a:off x="438120" y="1609560"/>
            <a:ext cx="7261200" cy="4846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558720" y="404640"/>
            <a:ext cx="2435400" cy="1825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3"/>
          <a:stretch/>
        </p:blipFill>
        <p:spPr>
          <a:xfrm>
            <a:off x="3398760" y="404640"/>
            <a:ext cx="2036880" cy="1810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"/>
          <p:cNvPicPr/>
          <p:nvPr/>
        </p:nvPicPr>
        <p:blipFill>
          <a:blip r:embed="rId4"/>
          <a:stretch/>
        </p:blipFill>
        <p:spPr>
          <a:xfrm>
            <a:off x="5796000" y="404640"/>
            <a:ext cx="2093760" cy="1743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5"/>
          <a:stretch/>
        </p:blipFill>
        <p:spPr>
          <a:xfrm>
            <a:off x="2994120" y="3441600"/>
            <a:ext cx="2357280" cy="2009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6"/>
          <a:stretch/>
        </p:blipFill>
        <p:spPr>
          <a:xfrm>
            <a:off x="5643720" y="3429000"/>
            <a:ext cx="2500200" cy="2155680"/>
          </a:xfrm>
          <a:prstGeom prst="rect">
            <a:avLst/>
          </a:prstGeom>
          <a:ln w="0">
            <a:noFill/>
          </a:ln>
        </p:spPr>
      </p:pic>
      <p:grpSp>
        <p:nvGrpSpPr>
          <p:cNvPr id="315" name="Группа 16"/>
          <p:cNvGrpSpPr/>
          <p:nvPr/>
        </p:nvGrpSpPr>
        <p:grpSpPr>
          <a:xfrm>
            <a:off x="3357720" y="2428920"/>
            <a:ext cx="5570280" cy="982440"/>
            <a:chOff x="3357720" y="2428920"/>
            <a:chExt cx="5570280" cy="982440"/>
          </a:xfrm>
        </p:grpSpPr>
        <p:sp>
          <p:nvSpPr>
            <p:cNvPr id="316" name="Скругленный прямоугольник 17"/>
            <p:cNvSpPr/>
            <p:nvPr/>
          </p:nvSpPr>
          <p:spPr>
            <a:xfrm>
              <a:off x="3357720" y="2428920"/>
              <a:ext cx="5570280" cy="98244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Скругленный прямоугольник 4"/>
            <p:cNvSpPr/>
            <p:nvPr/>
          </p:nvSpPr>
          <p:spPr>
            <a:xfrm>
              <a:off x="3398760" y="2476440"/>
              <a:ext cx="548784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rebuchet MS"/>
                </a:rPr>
                <a:t>Циклоны - это вихри с низким давлением в центре . К окраинам давление увеличивается , поэтому в циклоне воздух движется в направлении к центру,  несколько отклоняясь против часовой стрелки 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Группа 19"/>
          <p:cNvGrpSpPr/>
          <p:nvPr/>
        </p:nvGrpSpPr>
        <p:grpSpPr>
          <a:xfrm>
            <a:off x="500040" y="5572080"/>
            <a:ext cx="8072640" cy="934920"/>
            <a:chOff x="500040" y="5572080"/>
            <a:chExt cx="8072640" cy="934920"/>
          </a:xfrm>
        </p:grpSpPr>
        <p:sp>
          <p:nvSpPr>
            <p:cNvPr id="319" name="Скругленный прямоугольник 20"/>
            <p:cNvSpPr/>
            <p:nvPr/>
          </p:nvSpPr>
          <p:spPr>
            <a:xfrm>
              <a:off x="500040" y="5572080"/>
              <a:ext cx="8072640" cy="934920"/>
            </a:xfrm>
            <a:prstGeom prst="roundRect">
              <a:avLst>
                <a:gd name="adj" fmla="val 16667"/>
              </a:avLst>
            </a:prstGeom>
            <a:solidFill>
              <a:srgbClr val="b83d68"/>
            </a:solidFill>
            <a:ln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Скругленный прямоугольник 4"/>
            <p:cNvSpPr/>
            <p:nvPr/>
          </p:nvSpPr>
          <p:spPr>
            <a:xfrm>
              <a:off x="558720" y="5617800"/>
              <a:ext cx="7955280" cy="8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Trebuchet MS"/>
                </a:rPr>
                <a:t>При подъеме воздух охлаждается , происходит конденсация влаги , возникают облака,  и выпадают осадки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Схема 9" descr=""/>
          <p:cNvPicPr/>
          <p:nvPr/>
        </p:nvPicPr>
        <p:blipFill>
          <a:blip r:embed="rId1"/>
          <a:stretch/>
        </p:blipFill>
        <p:spPr>
          <a:xfrm>
            <a:off x="487440" y="5479920"/>
            <a:ext cx="8223120" cy="1401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527040" y="1496880"/>
            <a:ext cx="7375680" cy="3578400"/>
          </a:xfrm>
          <a:prstGeom prst="rect">
            <a:avLst/>
          </a:prstGeom>
          <a:ln w="0">
            <a:noFill/>
          </a:ln>
        </p:spPr>
      </p:pic>
      <p:sp>
        <p:nvSpPr>
          <p:cNvPr id="323" name="Стрелка вправо 4"/>
          <p:cNvSpPr/>
          <p:nvPr/>
        </p:nvSpPr>
        <p:spPr>
          <a:xfrm>
            <a:off x="2571840" y="2714760"/>
            <a:ext cx="714240" cy="57132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трелка вправо 5"/>
          <p:cNvSpPr/>
          <p:nvPr/>
        </p:nvSpPr>
        <p:spPr>
          <a:xfrm>
            <a:off x="2214720" y="3643200"/>
            <a:ext cx="785520" cy="64296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трелка вправо 6"/>
          <p:cNvSpPr/>
          <p:nvPr/>
        </p:nvSpPr>
        <p:spPr>
          <a:xfrm>
            <a:off x="3429000" y="3286080"/>
            <a:ext cx="785880" cy="5716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Схема 8" descr=""/>
          <p:cNvPicPr/>
          <p:nvPr/>
        </p:nvPicPr>
        <p:blipFill>
          <a:blip r:embed="rId3"/>
          <a:stretch/>
        </p:blipFill>
        <p:spPr>
          <a:xfrm>
            <a:off x="1828800" y="426960"/>
            <a:ext cx="4979880" cy="78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4:21:44Z</dcterms:created>
  <dc:creator>ТАНЯ</dc:creator>
  <dc:description/>
  <dc:language>en-US</dc:language>
  <cp:lastModifiedBy>Учитель</cp:lastModifiedBy>
  <dcterms:modified xsi:type="dcterms:W3CDTF">2015-11-26T15:09:48Z</dcterms:modified>
  <cp:revision>133</cp:revision>
  <dc:subject/>
  <dc:title>Слайд 1</dc:title>
</cp:coreProperties>
</file>