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25.png" ContentType="image/png"/>
  <Override PartName="/ppt/media/image65.wmf" ContentType="image/x-wmf"/>
  <Override PartName="/ppt/media/image33.png" ContentType="image/png"/>
  <Override PartName="/ppt/media/image3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40.png" ContentType="image/png"/>
  <Override PartName="/ppt/media/image11.jpeg" ContentType="image/jpeg"/>
  <Override PartName="/ppt/media/image64.wmf" ContentType="image/x-wmf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26.png" ContentType="image/png"/>
  <Override PartName="/ppt/media/image63.png" ContentType="image/png"/>
  <Override PartName="/ppt/media/image27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6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E2F1-C768-4168-BDDB-F89B1DB457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BBFE-4B63-46F3-B651-8AFD96E942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261-5FD6-4132-8680-4812647E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983-1009-4577-A0BF-36EF3A3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838-E61C-4ED5-8F24-9B6B7208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6D7-7E83-412D-8388-2A234EEA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FCC8-68B2-4849-BBF8-46A9EE40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3C09-EA1D-4FC7-987F-113382C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4DF7-E2E4-4D8A-A8D4-550361CA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75B6-996D-4A90-AD62-D3658A2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BA6-1BC2-4C25-8DDC-553B71EC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C9E-8C60-4F16-BCF5-6918922B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A7B4-180B-479B-85E6-C0881AA4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AD2-AC0A-4A5B-B662-1F61EEFB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6D2D-E6D5-4062-B8B6-50AF1FF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3E4C-3DF3-4B57-A750-0365278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84BB-274C-4602-A644-ECB7533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963B-DCDE-419D-B49D-33CB3E3F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DCE1-BC24-4673-A486-0F2C1D13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5CDB-3A15-4057-856D-66E6E1C7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CD0D-AADB-485E-8707-7234F139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E058-29D1-4BEE-9ED9-2C5A58CE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62ED-326E-4979-ACC2-C9D8EAFA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6817-64FB-4CB2-BF03-A224E682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302-6C14-423E-9F73-FD6384D7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5DA3-BB99-4C67-A6F8-1AA52488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75F4-6D62-4309-AFEC-A4D45F8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9B0A-C359-4571-91A5-2DA304B4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F5C4-A933-4985-A3F7-A129A4B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13B6-AB75-4676-B22A-6716A80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53E5-9276-41EE-B277-C2C03B28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0314-B59E-4E14-A61F-F7679955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87513-D48A-4026-ABFB-68AFCDF4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6FAF-3BF8-4B8D-8F1B-961A4AF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D801-77DC-4996-BAD6-B1BBE57A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270-E0CC-480B-807C-6B25E5E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D3D6-C199-49E3-B1FB-A5BEC78A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2646-A997-4C33-B977-E2900DFE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561E-67AD-4D17-B728-22C9F84C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5D4E-F13C-44ED-9370-81FEAC5A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4DEF-902B-45E0-9184-4E13709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6B17-039B-40EF-B20E-0B48247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E749-2EE6-49AF-A2E3-3B28B5B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8833-EF80-49F7-9ABD-1844BC38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AB79-29FE-4E37-BE80-A889F952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60A5-D420-444F-9C07-CCAB54C2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2B5-E857-4E4F-A53C-E495061B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61CD-8471-40BA-B125-56C91AEB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7D94-C4EE-4B75-8D50-6F64C93D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1239-8C87-4046-BCD4-7B0E502C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C830-9E88-4297-B55D-4BD46B4D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26B0-14F5-45FC-92B8-FEB86CB1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E645-DDA6-463E-83C2-C8FF221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C2DC-B499-4243-A3DB-205FE8E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2249-9438-46B8-B540-71E2A2D5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88078-F604-471D-84F7-95806DCE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2CF48-CB8D-46AA-8B12-7700B560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609-BA39-41FB-9790-4FD2412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B1D59-7E60-4352-8B36-AB65E58E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C11F-47CA-4953-943D-F0E3BB70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5805B-AF33-438C-8651-B9F5FABC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2A54C-E6BA-4B98-AE5D-C7C6B58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63CDD-89E3-423C-8047-67752F4B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6E04-AC27-4C6E-8FC6-0785A8FD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9F37-17C0-4469-A5B2-9E187E31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3C1C-E8C3-44B0-B72F-2A414B83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CB3A-5842-48D0-89C1-10F5131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0C924-EB09-47E9-AB5C-D388129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BAD-CF12-4785-9955-828C99B8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DD758-0A20-4FF5-A2FC-39CC8B6C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7A4E-14DF-4065-8339-B8F2858C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C5EDA-E42C-4ACE-9001-C0EDCE7F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367-5DD4-44B7-BB85-3B95EC5B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EF3-2D74-49B5-AB7E-51B8B96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0CD4-5FDC-4A9E-B74D-4C878BAE64D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EDE-FE00-47DC-B440-B80BC50193AC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158-0065-4DBC-A23E-45170E64B3C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D98-0988-411D-B6E8-D54843374C72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E73E-378A-486B-97E2-512C29546AD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703-B1FE-4BF1-8A1B-8D628C3898C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hyperlink" Target="http://www.fipi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5.xm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" Target="slide14.xml"/><Relationship Id="rId4" Type="http://schemas.openxmlformats.org/officeDocument/2006/relationships/image" Target="../media/image26.png"/><Relationship Id="rId5" Type="http://schemas.openxmlformats.org/officeDocument/2006/relationships/slide" Target="slide12.xm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327800" cy="1292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Синоптическая карта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1127160" y="5602320"/>
            <a:ext cx="8040600" cy="1255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3"/>
          <a:stretch/>
        </p:blipFill>
        <p:spPr>
          <a:xfrm>
            <a:off x="3214800" y="142920"/>
            <a:ext cx="2214360" cy="1785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4"/>
          <a:stretch/>
        </p:blipFill>
        <p:spPr>
          <a:xfrm>
            <a:off x="6357960" y="1429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2000160" cy="1785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6"/>
          <a:stretch/>
        </p:blipFill>
        <p:spPr>
          <a:xfrm>
            <a:off x="5072040" y="3571920"/>
            <a:ext cx="2000160" cy="179532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8"/>
          <p:cNvGrpSpPr/>
          <p:nvPr/>
        </p:nvGrpSpPr>
        <p:grpSpPr>
          <a:xfrm>
            <a:off x="500040" y="2071800"/>
            <a:ext cx="8140680" cy="1441440"/>
            <a:chOff x="500040" y="2071800"/>
            <a:chExt cx="8140680" cy="1441440"/>
          </a:xfrm>
        </p:grpSpPr>
        <p:sp>
          <p:nvSpPr>
            <p:cNvPr id="335" name="Скругленный прямоугольник 9"/>
            <p:cNvSpPr/>
            <p:nvPr/>
          </p:nvSpPr>
          <p:spPr>
            <a:xfrm>
              <a:off x="500040" y="2071800"/>
              <a:ext cx="8140680" cy="1441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Скругленный прямоугольник 4"/>
            <p:cNvSpPr/>
            <p:nvPr/>
          </p:nvSpPr>
          <p:spPr>
            <a:xfrm>
              <a:off x="569880" y="2141640"/>
              <a:ext cx="800100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Антициклон имеет самое высокое давление в центре вихря . Отсюда воздух растекается к окраинам , несколько отклоняясь по часовой стрелке . Характер погоды (малооблачной или засушливой – в теплый период, ясной , морозной – в холодный)сохраняется в течение всего времени пребывания антициклона, так как растекающиеся из центра антициклона воздушные массы имеют одинаковые свойств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8" descr=""/>
          <p:cNvPicPr/>
          <p:nvPr/>
        </p:nvPicPr>
        <p:blipFill>
          <a:blip r:embed="rId1"/>
          <a:stretch/>
        </p:blipFill>
        <p:spPr>
          <a:xfrm>
            <a:off x="480960" y="4986360"/>
            <a:ext cx="8229600" cy="1073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273800" cy="35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85840" y="500040"/>
          <a:ext cx="8858160" cy="5680080"/>
        </p:xfrm>
        <a:graphic>
          <a:graphicData uri="http://schemas.openxmlformats.org/drawingml/2006/table">
            <a:tbl>
              <a:tblPr/>
              <a:tblGrid>
                <a:gridCol w="2727360"/>
                <a:gridCol w="3416040"/>
                <a:gridCol w="271476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ик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нтицик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Атмосферное дав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изк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сок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Движение воздух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периферии к цент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центра к перифер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Я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хлаждение воздуха с поднятием , образование и выпадение осадков вследствие конден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гревание и иссушение воздух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Разме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-3 тыс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-3 тыс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Скорость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 км/час в основном с запада на вос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оподвиж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Районы форм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верная Атлантика , Баренцево море , Охотское мо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точная Сиби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 По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смурная, ветреная , с осад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ооблачная , летом –теплая, зимой –морозн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341" name="Прямоугольник 4"/>
          <p:cNvSpPr/>
          <p:nvPr/>
        </p:nvSpPr>
        <p:spPr>
          <a:xfrm>
            <a:off x="357120" y="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Arial"/>
              </a:rPr>
              <a:t>Сравнительная характе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Группа 7"/>
          <p:cNvGrpSpPr/>
          <p:nvPr/>
        </p:nvGrpSpPr>
        <p:grpSpPr>
          <a:xfrm>
            <a:off x="6653160" y="6429240"/>
            <a:ext cx="1806480" cy="285840"/>
            <a:chOff x="6653160" y="6429240"/>
            <a:chExt cx="1806480" cy="285840"/>
          </a:xfrm>
        </p:grpSpPr>
        <p:sp>
          <p:nvSpPr>
            <p:cNvPr id="343" name="Скругленный прямоугольник 8"/>
            <p:cNvSpPr/>
            <p:nvPr/>
          </p:nvSpPr>
          <p:spPr>
            <a:xfrm>
              <a:off x="6653160" y="6429240"/>
              <a:ext cx="1806480" cy="2858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Скругленный прямоугольник 4"/>
            <p:cNvSpPr/>
            <p:nvPr/>
          </p:nvSpPr>
          <p:spPr>
            <a:xfrm>
              <a:off x="6653160" y="6443280"/>
              <a:ext cx="17877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7800" bIns="12780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000240" y="85716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3000240" y="1500120"/>
            <a:ext cx="6143760" cy="642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3000240" y="2214720"/>
            <a:ext cx="6143760" cy="1071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4"/>
          <a:stretch/>
        </p:blipFill>
        <p:spPr>
          <a:xfrm>
            <a:off x="3000240" y="321480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5"/>
          <a:stretch/>
        </p:blipFill>
        <p:spPr>
          <a:xfrm>
            <a:off x="3000240" y="378612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6"/>
          <a:stretch/>
        </p:blipFill>
        <p:spPr>
          <a:xfrm>
            <a:off x="3000240" y="4429080"/>
            <a:ext cx="6143760" cy="857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7"/>
          <a:stretch/>
        </p:blipFill>
        <p:spPr>
          <a:xfrm>
            <a:off x="3000240" y="5286240"/>
            <a:ext cx="61437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Схема 21" descr=""/>
          <p:cNvPicPr/>
          <p:nvPr/>
        </p:nvPicPr>
        <p:blipFill>
          <a:blip r:embed="rId1"/>
          <a:stretch/>
        </p:blipFill>
        <p:spPr>
          <a:xfrm>
            <a:off x="444600" y="5357880"/>
            <a:ext cx="826596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1928520" cy="1422360"/>
          </a:xfrm>
          <a:prstGeom prst="rect">
            <a:avLst/>
          </a:prstGeom>
          <a:ln w="0">
            <a:noFill/>
          </a:ln>
        </p:spPr>
      </p:pic>
      <p:pic>
        <p:nvPicPr>
          <p:cNvPr id="354" name="Содержимое 4" descr=""/>
          <p:cNvPicPr/>
          <p:nvPr/>
        </p:nvPicPr>
        <p:blipFill>
          <a:blip r:embed="rId3"/>
          <a:stretch/>
        </p:blipFill>
        <p:spPr>
          <a:xfrm>
            <a:off x="6175440" y="4413240"/>
            <a:ext cx="2597040" cy="701640"/>
          </a:xfrm>
          <a:prstGeom prst="rect">
            <a:avLst/>
          </a:prstGeom>
          <a:ln w="0">
            <a:noFill/>
          </a:ln>
        </p:spPr>
      </p:pic>
      <p:grpSp>
        <p:nvGrpSpPr>
          <p:cNvPr id="355" name="Группа 4"/>
          <p:cNvGrpSpPr/>
          <p:nvPr/>
        </p:nvGrpSpPr>
        <p:grpSpPr>
          <a:xfrm>
            <a:off x="571680" y="2000160"/>
            <a:ext cx="1928520" cy="642960"/>
            <a:chOff x="571680" y="2000160"/>
            <a:chExt cx="1928520" cy="642960"/>
          </a:xfrm>
        </p:grpSpPr>
        <p:sp>
          <p:nvSpPr>
            <p:cNvPr id="356" name="Скругленный прямоугольник 5"/>
            <p:cNvSpPr/>
            <p:nvPr/>
          </p:nvSpPr>
          <p:spPr>
            <a:xfrm>
              <a:off x="571680" y="2000160"/>
              <a:ext cx="1928520" cy="64296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Скругленный прямоугольник 4"/>
            <p:cNvSpPr/>
            <p:nvPr/>
          </p:nvSpPr>
          <p:spPr>
            <a:xfrm>
              <a:off x="617400" y="2031840"/>
              <a:ext cx="1836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Давление воздух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2" descr=""/>
          <p:cNvPicPr/>
          <p:nvPr/>
        </p:nvPicPr>
        <p:blipFill>
          <a:blip r:embed="rId4"/>
          <a:stretch/>
        </p:blipFill>
        <p:spPr>
          <a:xfrm>
            <a:off x="3357720" y="571680"/>
            <a:ext cx="2163600" cy="1428480"/>
          </a:xfrm>
          <a:prstGeom prst="rect">
            <a:avLst/>
          </a:prstGeom>
          <a:ln w="0">
            <a:noFill/>
          </a:ln>
        </p:spPr>
      </p:pic>
      <p:pic>
        <p:nvPicPr>
          <p:cNvPr id="359" name="Содержимое 5" descr=""/>
          <p:cNvPicPr/>
          <p:nvPr/>
        </p:nvPicPr>
        <p:blipFill>
          <a:blip r:embed="rId5"/>
          <a:stretch/>
        </p:blipFill>
        <p:spPr>
          <a:xfrm>
            <a:off x="3322800" y="1994040"/>
            <a:ext cx="2273040" cy="779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6"/>
          <a:stretch/>
        </p:blipFill>
        <p:spPr>
          <a:xfrm>
            <a:off x="6143760" y="571680"/>
            <a:ext cx="214308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61" name="Группа 10"/>
          <p:cNvGrpSpPr/>
          <p:nvPr/>
        </p:nvGrpSpPr>
        <p:grpSpPr>
          <a:xfrm>
            <a:off x="5857920" y="2000160"/>
            <a:ext cx="2568600" cy="785880"/>
            <a:chOff x="5857920" y="2000160"/>
            <a:chExt cx="2568600" cy="785880"/>
          </a:xfrm>
        </p:grpSpPr>
        <p:sp>
          <p:nvSpPr>
            <p:cNvPr id="362" name="Скругленный прямоугольник 11"/>
            <p:cNvSpPr/>
            <p:nvPr/>
          </p:nvSpPr>
          <p:spPr>
            <a:xfrm>
              <a:off x="5857920" y="2000160"/>
              <a:ext cx="2568600" cy="78588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Скругленный прямоугольник 4"/>
            <p:cNvSpPr/>
            <p:nvPr/>
          </p:nvSpPr>
          <p:spPr>
            <a:xfrm>
              <a:off x="5900760" y="2037960"/>
              <a:ext cx="24829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rebuchet MS"/>
                </a:rPr>
                <a:t>Воздушные массы и направления их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Picture 2" descr=""/>
          <p:cNvPicPr/>
          <p:nvPr/>
        </p:nvPicPr>
        <p:blipFill>
          <a:blip r:embed="rId7"/>
          <a:stretch/>
        </p:blipFill>
        <p:spPr>
          <a:xfrm>
            <a:off x="6072120" y="2857680"/>
            <a:ext cx="237492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8"/>
          <a:stretch/>
        </p:blipFill>
        <p:spPr>
          <a:xfrm>
            <a:off x="3357720" y="2928960"/>
            <a:ext cx="2357280" cy="150012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8" descr=""/>
          <p:cNvPicPr/>
          <p:nvPr/>
        </p:nvPicPr>
        <p:blipFill>
          <a:blip r:embed="rId9"/>
          <a:stretch/>
        </p:blipFill>
        <p:spPr>
          <a:xfrm>
            <a:off x="3681360" y="4498920"/>
            <a:ext cx="1914480" cy="785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10"/>
          <a:stretch/>
        </p:blipFill>
        <p:spPr>
          <a:xfrm>
            <a:off x="642960" y="2857680"/>
            <a:ext cx="221148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68" name="Группа 18"/>
          <p:cNvGrpSpPr/>
          <p:nvPr/>
        </p:nvGrpSpPr>
        <p:grpSpPr>
          <a:xfrm>
            <a:off x="928800" y="4357800"/>
            <a:ext cx="1749240" cy="714240"/>
            <a:chOff x="928800" y="4357800"/>
            <a:chExt cx="1749240" cy="714240"/>
          </a:xfrm>
        </p:grpSpPr>
        <p:sp>
          <p:nvSpPr>
            <p:cNvPr id="369" name="Скругленный прямоугольник 19"/>
            <p:cNvSpPr/>
            <p:nvPr/>
          </p:nvSpPr>
          <p:spPr>
            <a:xfrm>
              <a:off x="966600" y="4395600"/>
              <a:ext cx="1711440" cy="676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Скругленный прямоугольник 4"/>
            <p:cNvSpPr/>
            <p:nvPr/>
          </p:nvSpPr>
          <p:spPr>
            <a:xfrm>
              <a:off x="928800" y="4357800"/>
              <a:ext cx="164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rebuchet MS"/>
                </a:rPr>
                <a:t>Циклоны и антициклон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152280"/>
            <a:ext cx="715644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3772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12" descr="surfacepressurechart"/>
          <p:cNvPicPr/>
          <p:nvPr/>
        </p:nvPicPr>
        <p:blipFill>
          <a:blip r:embed="rId2"/>
          <a:stretch/>
        </p:blipFill>
        <p:spPr>
          <a:xfrm>
            <a:off x="1371600" y="1295280"/>
            <a:ext cx="6248520" cy="49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0" y="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Синоптическая карта – основа для предсказания погоды. Для этой цели сопоставляют карты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Aharon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Составленные на несколько сроков, и устанавливают изменения в положении фронтов, смещении циклонов и антициклонов, определяют вероятное направление их развития в ближайш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s024[1]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бота с синоптической картой начинается с анализа погоды, нанесенной на нее в закодированном виде. Знакоми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 «легендой» ка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f"/>
          <p:cNvPicPr/>
          <p:nvPr/>
        </p:nvPicPr>
        <p:blipFill>
          <a:blip r:embed="rId1"/>
          <a:stretch/>
        </p:blipFill>
        <p:spPr>
          <a:xfrm>
            <a:off x="1403280" y="1936800"/>
            <a:ext cx="6408720" cy="492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401480"/>
          </a:xfrm>
          <a:prstGeom prst="rect">
            <a:avLst/>
          </a:prstGeom>
          <a:ln w="0">
            <a:noFill/>
          </a:ln>
        </p:spPr>
      </p:pic>
      <p:pic>
        <p:nvPicPr>
          <p:cNvPr id="379" name="Объект 3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087640" cy="17384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"/>
          <p:cNvPicPr/>
          <p:nvPr/>
        </p:nvPicPr>
        <p:blipFill>
          <a:blip r:embed="rId3"/>
          <a:stretch/>
        </p:blipFill>
        <p:spPr>
          <a:xfrm>
            <a:off x="5580000" y="4797360"/>
            <a:ext cx="2016360" cy="17985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5" descr=""/>
          <p:cNvPicPr/>
          <p:nvPr/>
        </p:nvPicPr>
        <p:blipFill>
          <a:blip r:embed="rId4"/>
          <a:stretch/>
        </p:blipFill>
        <p:spPr>
          <a:xfrm>
            <a:off x="2700360" y="2847960"/>
            <a:ext cx="2585880" cy="194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Баринова И.И. «География России:  природа» М: «Дрофа»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Атлас  « География России 8 класс» издательство «Аст-пресс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О.А.Антушева География России.Природа.8 класс: поурочные планы по учебнику И.И.Бариновой Волгоград: Учитель, 200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fipi.ru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материалы ОГЭ по географ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хема 12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7210440" cy="1090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3095640" cy="2097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428760" cy="3071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360" y="3571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3640" y="428760"/>
            <a:ext cx="240660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8"/>
          <a:stretch/>
        </p:blipFill>
        <p:spPr>
          <a:xfrm>
            <a:off x="5796000" y="412920"/>
            <a:ext cx="2201760" cy="220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хема 10" descr=""/>
          <p:cNvPicPr/>
          <p:nvPr/>
        </p:nvPicPr>
        <p:blipFill>
          <a:blip r:embed="rId1"/>
          <a:stretch/>
        </p:blipFill>
        <p:spPr>
          <a:xfrm>
            <a:off x="1463760" y="4979880"/>
            <a:ext cx="7246800" cy="1067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285920" y="642960"/>
            <a:ext cx="3537000" cy="1285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3"/>
          <a:stretch/>
        </p:blipFill>
        <p:spPr>
          <a:xfrm>
            <a:off x="5143680" y="714240"/>
            <a:ext cx="3522600" cy="1143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4"/>
          <a:stretch/>
        </p:blipFill>
        <p:spPr>
          <a:xfrm>
            <a:off x="1571760" y="2714760"/>
            <a:ext cx="2930400" cy="113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5"/>
          <a:stretch/>
        </p:blipFill>
        <p:spPr>
          <a:xfrm>
            <a:off x="5500800" y="2714760"/>
            <a:ext cx="304488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6"/>
          <a:stretch/>
        </p:blipFill>
        <p:spPr>
          <a:xfrm>
            <a:off x="1143000" y="571680"/>
            <a:ext cx="7643880" cy="4357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7"/>
          <a:stretch/>
        </p:blipFill>
        <p:spPr>
          <a:xfrm>
            <a:off x="677880" y="1677960"/>
            <a:ext cx="428760" cy="307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Схема 10" descr=""/>
          <p:cNvPicPr/>
          <p:nvPr/>
        </p:nvPicPr>
        <p:blipFill>
          <a:blip r:embed="rId1"/>
          <a:stretch/>
        </p:blipFill>
        <p:spPr>
          <a:xfrm>
            <a:off x="506520" y="5626080"/>
            <a:ext cx="8180280" cy="125568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2" descr=""/>
          <p:cNvPicPr/>
          <p:nvPr/>
        </p:nvPicPr>
        <p:blipFill>
          <a:blip r:embed="rId2"/>
          <a:stretch/>
        </p:blipFill>
        <p:spPr>
          <a:xfrm>
            <a:off x="108000" y="446040"/>
            <a:ext cx="7993080" cy="1554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1357200" y="2000160"/>
            <a:ext cx="2673360" cy="2044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4"/>
          <a:stretch/>
        </p:blipFill>
        <p:spPr>
          <a:xfrm>
            <a:off x="5929200" y="1928880"/>
            <a:ext cx="2857680" cy="2063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5"/>
          <a:stretch/>
        </p:blipFill>
        <p:spPr>
          <a:xfrm>
            <a:off x="3571920" y="3786120"/>
            <a:ext cx="2743200" cy="1936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Схема 9" descr=""/>
          <p:cNvPicPr/>
          <p:nvPr/>
        </p:nvPicPr>
        <p:blipFill>
          <a:blip r:embed="rId1"/>
          <a:stretch/>
        </p:blipFill>
        <p:spPr>
          <a:xfrm>
            <a:off x="5151600" y="2494080"/>
            <a:ext cx="3516120" cy="1157040"/>
          </a:xfrm>
          <a:prstGeom prst="rect">
            <a:avLst/>
          </a:prstGeom>
          <a:ln w="0">
            <a:noFill/>
          </a:ln>
        </p:spPr>
      </p:pic>
      <p:pic>
        <p:nvPicPr>
          <p:cNvPr id="292" name="Содержимое 4" descr=""/>
          <p:cNvPicPr/>
          <p:nvPr/>
        </p:nvPicPr>
        <p:blipFill>
          <a:blip r:embed="rId2"/>
          <a:stretch/>
        </p:blipFill>
        <p:spPr>
          <a:xfrm>
            <a:off x="506520" y="512640"/>
            <a:ext cx="8180280" cy="1438560"/>
          </a:xfrm>
          <a:prstGeom prst="rect">
            <a:avLst/>
          </a:prstGeom>
          <a:ln w="0">
            <a:noFill/>
          </a:ln>
        </p:spPr>
      </p:pic>
      <p:sp>
        <p:nvSpPr>
          <p:cNvPr id="293" name="Стрелка вправо 5"/>
          <p:cNvSpPr/>
          <p:nvPr/>
        </p:nvSpPr>
        <p:spPr>
          <a:xfrm rot="7611600">
            <a:off x="2405880" y="1950840"/>
            <a:ext cx="1050840" cy="485640"/>
          </a:xfrm>
          <a:prstGeom prst="rightArrow">
            <a:avLst>
              <a:gd name="adj1" fmla="val 53972"/>
              <a:gd name="adj2" fmla="val 5000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трелка вправо 6"/>
          <p:cNvSpPr/>
          <p:nvPr/>
        </p:nvSpPr>
        <p:spPr>
          <a:xfrm rot="3001200">
            <a:off x="5869080" y="20016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3857760"/>
            <a:ext cx="3786120" cy="2357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57840" y="3857760"/>
            <a:ext cx="3786120" cy="2357280"/>
          </a:xfrm>
          <a:prstGeom prst="rect">
            <a:avLst/>
          </a:prstGeom>
          <a:ln w="0">
            <a:noFill/>
          </a:ln>
        </p:spPr>
      </p:pic>
      <p:pic>
        <p:nvPicPr>
          <p:cNvPr id="297" name="Схема 10" descr=""/>
          <p:cNvPicPr/>
          <p:nvPr/>
        </p:nvPicPr>
        <p:blipFill>
          <a:blip r:embed="rId7"/>
          <a:stretch/>
        </p:blipFill>
        <p:spPr>
          <a:xfrm>
            <a:off x="669960" y="2633760"/>
            <a:ext cx="3713040" cy="102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80280" cy="1427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99680" y="1857240"/>
            <a:ext cx="405756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396"/>
                </a:solidFill>
                <a:latin typeface="Trebuchet MS"/>
              </a:rPr>
              <a:t>Арктический фрон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785840" y="1785960"/>
            <a:ext cx="39322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396"/>
                </a:solidFill>
                <a:latin typeface="Trebuchet MS"/>
              </a:rPr>
              <a:t>Полярный фрон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Стрелка вниз 6"/>
          <p:cNvSpPr/>
          <p:nvPr/>
        </p:nvSpPr>
        <p:spPr>
          <a:xfrm>
            <a:off x="1857240" y="2571840"/>
            <a:ext cx="714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низ 7"/>
          <p:cNvSpPr/>
          <p:nvPr/>
        </p:nvSpPr>
        <p:spPr>
          <a:xfrm>
            <a:off x="6286680" y="2428920"/>
            <a:ext cx="642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8"/>
          <p:cNvSpPr/>
          <p:nvPr/>
        </p:nvSpPr>
        <p:spPr>
          <a:xfrm>
            <a:off x="785880" y="30002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74396"/>
                </a:solidFill>
                <a:latin typeface="Arial"/>
              </a:rPr>
              <a:t>Взаимодействуют арктические и умеренные воздушные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5214960" y="285768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74396"/>
                </a:solidFill>
                <a:latin typeface="Arial"/>
              </a:rPr>
              <a:t>Взаимодействуют умеренные и тропические воздушные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428760" y="4572000"/>
            <a:ext cx="76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a2e4e"/>
                </a:solidFill>
                <a:latin typeface="Arial"/>
              </a:rPr>
              <a:t>Где образуются арктический и полярный фронты над территорией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a2e4e"/>
                </a:solidFill>
                <a:latin typeface="Arial"/>
              </a:rPr>
              <a:t>Как изменяется их положение летом и зи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том эти фронты смещаются к северу , а зимой  – к югу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Схема 5" descr=""/>
          <p:cNvPicPr/>
          <p:nvPr/>
        </p:nvPicPr>
        <p:blipFill>
          <a:blip r:embed="rId1"/>
          <a:stretch/>
        </p:blipFill>
        <p:spPr>
          <a:xfrm>
            <a:off x="457200" y="4986360"/>
            <a:ext cx="8296200" cy="105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5689800" cy="47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309" name="Содержимое 7" descr=""/>
          <p:cNvPicPr/>
          <p:nvPr/>
        </p:nvPicPr>
        <p:blipFill>
          <a:blip r:embed="rId1"/>
          <a:stretch/>
        </p:blipFill>
        <p:spPr>
          <a:xfrm>
            <a:off x="438120" y="1609560"/>
            <a:ext cx="7261200" cy="4846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558720" y="404640"/>
            <a:ext cx="2435400" cy="182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3398760" y="404640"/>
            <a:ext cx="2036880" cy="1810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4"/>
          <a:stretch/>
        </p:blipFill>
        <p:spPr>
          <a:xfrm>
            <a:off x="5796000" y="404640"/>
            <a:ext cx="2093760" cy="1743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5"/>
          <a:stretch/>
        </p:blipFill>
        <p:spPr>
          <a:xfrm>
            <a:off x="2994120" y="3441600"/>
            <a:ext cx="2357280" cy="200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6"/>
          <a:stretch/>
        </p:blipFill>
        <p:spPr>
          <a:xfrm>
            <a:off x="5643720" y="3429000"/>
            <a:ext cx="2500200" cy="2155680"/>
          </a:xfrm>
          <a:prstGeom prst="rect">
            <a:avLst/>
          </a:prstGeom>
          <a:ln w="0">
            <a:noFill/>
          </a:ln>
        </p:spPr>
      </p:pic>
      <p:grpSp>
        <p:nvGrpSpPr>
          <p:cNvPr id="315" name="Группа 16"/>
          <p:cNvGrpSpPr/>
          <p:nvPr/>
        </p:nvGrpSpPr>
        <p:grpSpPr>
          <a:xfrm>
            <a:off x="3357720" y="2428920"/>
            <a:ext cx="5570280" cy="982440"/>
            <a:chOff x="3357720" y="2428920"/>
            <a:chExt cx="5570280" cy="982440"/>
          </a:xfrm>
        </p:grpSpPr>
        <p:sp>
          <p:nvSpPr>
            <p:cNvPr id="316" name="Скругленный прямоугольник 17"/>
            <p:cNvSpPr/>
            <p:nvPr/>
          </p:nvSpPr>
          <p:spPr>
            <a:xfrm>
              <a:off x="3357720" y="2428920"/>
              <a:ext cx="5570280" cy="982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кругленный прямоугольник 4"/>
            <p:cNvSpPr/>
            <p:nvPr/>
          </p:nvSpPr>
          <p:spPr>
            <a:xfrm>
              <a:off x="3398760" y="2476440"/>
              <a:ext cx="548784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Циклоны - это вихри с низким давлением в центре . К окраинам давление увеличивается , поэтому в циклоне воздух движется в направлении к центру,  несколько отклоняясь против часовой стрелки 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19"/>
          <p:cNvGrpSpPr/>
          <p:nvPr/>
        </p:nvGrpSpPr>
        <p:grpSpPr>
          <a:xfrm>
            <a:off x="500040" y="5572080"/>
            <a:ext cx="8072640" cy="934920"/>
            <a:chOff x="500040" y="5572080"/>
            <a:chExt cx="8072640" cy="934920"/>
          </a:xfrm>
        </p:grpSpPr>
        <p:sp>
          <p:nvSpPr>
            <p:cNvPr id="319" name="Скругленный прямоугольник 20"/>
            <p:cNvSpPr/>
            <p:nvPr/>
          </p:nvSpPr>
          <p:spPr>
            <a:xfrm>
              <a:off x="500040" y="5572080"/>
              <a:ext cx="8072640" cy="93492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Скругленный прямоугольник 4"/>
            <p:cNvSpPr/>
            <p:nvPr/>
          </p:nvSpPr>
          <p:spPr>
            <a:xfrm>
              <a:off x="558720" y="5617800"/>
              <a:ext cx="7955280" cy="8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rebuchet MS"/>
                </a:rPr>
                <a:t>При подъеме воздух охлаждается , происходит конденсация влаги , возникают облака,  и выпадают осадки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хема 9" descr=""/>
          <p:cNvPicPr/>
          <p:nvPr/>
        </p:nvPicPr>
        <p:blipFill>
          <a:blip r:embed="rId1"/>
          <a:stretch/>
        </p:blipFill>
        <p:spPr>
          <a:xfrm>
            <a:off x="487440" y="5479920"/>
            <a:ext cx="8223120" cy="140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527040" y="1496880"/>
            <a:ext cx="7375680" cy="3578400"/>
          </a:xfrm>
          <a:prstGeom prst="rect">
            <a:avLst/>
          </a:prstGeom>
          <a:ln w="0">
            <a:noFill/>
          </a:ln>
        </p:spPr>
      </p:pic>
      <p:sp>
        <p:nvSpPr>
          <p:cNvPr id="323" name="Стрелка вправо 4"/>
          <p:cNvSpPr/>
          <p:nvPr/>
        </p:nvSpPr>
        <p:spPr>
          <a:xfrm>
            <a:off x="2571840" y="2714760"/>
            <a:ext cx="714240" cy="5713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право 5"/>
          <p:cNvSpPr/>
          <p:nvPr/>
        </p:nvSpPr>
        <p:spPr>
          <a:xfrm>
            <a:off x="2214720" y="3643200"/>
            <a:ext cx="785520" cy="64296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трелка вправо 6"/>
          <p:cNvSpPr/>
          <p:nvPr/>
        </p:nvSpPr>
        <p:spPr>
          <a:xfrm>
            <a:off x="3429000" y="328608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Схема 8" descr=""/>
          <p:cNvPicPr/>
          <p:nvPr/>
        </p:nvPicPr>
        <p:blipFill>
          <a:blip r:embed="rId3"/>
          <a:stretch/>
        </p:blipFill>
        <p:spPr>
          <a:xfrm>
            <a:off x="1828800" y="426960"/>
            <a:ext cx="4979880" cy="78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4:21:44Z</dcterms:created>
  <dc:creator>ТАНЯ</dc:creator>
  <dc:description/>
  <dc:language>en-US</dc:language>
  <cp:lastModifiedBy>Учитель</cp:lastModifiedBy>
  <dcterms:modified xsi:type="dcterms:W3CDTF">2015-11-26T15:09:48Z</dcterms:modified>
  <cp:revision>133</cp:revision>
  <dc:subject/>
  <dc:title>Слайд 1</dc:title>
</cp:coreProperties>
</file>