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9D6-2942-43EB-8219-A4AB3B79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360-1461-4886-BFC0-C67B203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F45-8AE1-46A4-8513-38F84A89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FDE-5322-4C3C-9D60-67542413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BC2-3428-4E63-8ACF-B64FD36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EE0-DC15-41D5-BB9F-41FF7BB2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252-D30A-4EB1-8F37-975E48D7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134-793C-4AFB-B022-5B218384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B6F-9D48-4816-9C50-ED4E0D47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144-D475-4424-86D6-43E15DF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1C6-2EC2-4C4A-BAE4-26A6523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395-8971-43F6-9680-79EA049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15B-9F97-467A-9657-6C21FA825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0" y="1413000"/>
            <a:ext cx="91440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тяная промышленность – «беда или благо» Сахалинской облас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C:\Users\Елена-ПК\Desktop\р с\диплом мой\OIL3.JPG"/>
          <p:cNvPicPr/>
          <p:nvPr/>
        </p:nvPicPr>
        <p:blipFill>
          <a:blip r:embed="rId1"/>
          <a:stretch/>
        </p:blipFill>
        <p:spPr>
          <a:xfrm>
            <a:off x="0" y="0"/>
            <a:ext cx="363708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9" descr="C:\Users\Елена-ПК\Desktop\диплом мой\sakhalin2.jpg"/>
          <p:cNvPicPr/>
          <p:nvPr/>
        </p:nvPicPr>
        <p:blipFill>
          <a:blip r:embed="rId2"/>
          <a:stretch/>
        </p:blipFill>
        <p:spPr>
          <a:xfrm>
            <a:off x="4354560" y="0"/>
            <a:ext cx="478944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938760" y="6149880"/>
            <a:ext cx="32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ахалин-2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49dd599596b92f40ca6800cf9c977b51_x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738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2000" y="62737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халин-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C:\Users\Елена-ПК\Desktop\р с\диплом мой\OIL3.JPG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08360" y="549360"/>
            <a:ext cx="51228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ерально-сырьевой потенциал Сахалинской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Users\Елена-ПК\Downloads\geosakh.jpg"/>
          <p:cNvPicPr/>
          <p:nvPr/>
        </p:nvPicPr>
        <p:blipFill>
          <a:blip r:embed="rId1"/>
          <a:srcRect l="0" t="0" r="31703" b="14303"/>
          <a:stretch/>
        </p:blipFill>
        <p:spPr>
          <a:xfrm>
            <a:off x="395280" y="0"/>
            <a:ext cx="306072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356000" y="1341360"/>
            <a:ext cx="45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целостного представления о социально-экономической составляющей географической картины своего реги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mapnav5"/>
          <p:cNvPicPr/>
          <p:nvPr/>
        </p:nvPicPr>
        <p:blipFill>
          <a:blip r:embed="rId1"/>
          <a:stretch/>
        </p:blipFill>
        <p:spPr>
          <a:xfrm>
            <a:off x="468360" y="1407960"/>
            <a:ext cx="38876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itum-ufa.ru/img/map/kamchatka.gif"/>
          <p:cNvPicPr/>
          <p:nvPr/>
        </p:nvPicPr>
        <p:blipFill>
          <a:blip r:embed="rId1"/>
          <a:stretch/>
        </p:blipFill>
        <p:spPr>
          <a:xfrm rot="20667000">
            <a:off x="1174680" y="-533520"/>
            <a:ext cx="5977080" cy="785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720" y="189000"/>
            <a:ext cx="4680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ЪЕКТ ИССЛЕДОВАНИЯ -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фтяная отрасль Сахалинской област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www.bitum-ufa.ru/img/map/tablitca.jpg"/>
          <p:cNvPicPr/>
          <p:nvPr/>
        </p:nvPicPr>
        <p:blipFill>
          <a:blip r:embed="rId2"/>
          <a:stretch/>
        </p:blipFill>
        <p:spPr>
          <a:xfrm>
            <a:off x="179280" y="4281480"/>
            <a:ext cx="3348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обенности исторического развития нефтяной промышленности Сахалин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SC_2696"/>
          <p:cNvPicPr/>
          <p:nvPr/>
        </p:nvPicPr>
        <p:blipFill>
          <a:blip r:embed="rId1"/>
          <a:stretch/>
        </p:blipFill>
        <p:spPr>
          <a:xfrm>
            <a:off x="250920" y="1844640"/>
            <a:ext cx="3878280" cy="36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pec_18022008184842"/>
          <p:cNvPicPr/>
          <p:nvPr/>
        </p:nvPicPr>
        <p:blipFill>
          <a:blip r:embed="rId2"/>
          <a:stretch/>
        </p:blipFill>
        <p:spPr>
          <a:xfrm>
            <a:off x="4390920" y="318600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собенности исторического развития нефтяной промышленност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ахалинской об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уровня добычи нефти в конце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94 по 2000 г.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826920" y="1916280"/>
          <a:ext cx="7632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632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уровня добычи нефти с 2004 по 2012 г.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539640" y="1484280"/>
          <a:ext cx="784872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84872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C:\Users\Елена-ПК\Desktop\р с\диплом мой\OIL3.JPG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nlarged_sakhalin1scheme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938760" y="6149880"/>
            <a:ext cx="32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ахалин-1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3:32:31Z</dcterms:created>
  <dc:creator>Елена-ПК</dc:creator>
  <dc:description/>
  <dc:language>en-US</dc:language>
  <cp:lastModifiedBy>Елена-ПК</cp:lastModifiedBy>
  <dcterms:modified xsi:type="dcterms:W3CDTF">2015-01-09T00:30:33Z</dcterms:modified>
  <cp:revision>32</cp:revision>
  <dc:subject/>
  <dc:title>«Нефтяная промышленность Сахалинской области как объект изучения в школьном курсе».</dc:title>
</cp:coreProperties>
</file>