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12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AF3-B2E2-4362-BB61-85A69B1B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2CF-3509-43D0-8127-46CB46A9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34E5-E3FF-44F0-B65B-998393F7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4FE-DBBB-4F6A-862F-78CF5767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EE4-376C-4285-8A56-9556D109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B752-96F2-4FC8-B633-2232E581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A92-2E6C-4852-BB0F-4EF53283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CB9-2895-41F3-B89D-E5F49185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34FD-1D10-4894-83F5-1F23BC65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F3E-0B31-4985-9D85-149CC244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539B-4F4F-4008-9E60-843A1948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70BD-B461-4D07-A9B8-7E678483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0573-9651-4A93-A3E4-A534F283CD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7"/>
          <p:cNvSpPr/>
          <p:nvPr/>
        </p:nvSpPr>
        <p:spPr>
          <a:xfrm>
            <a:off x="0" y="1413000"/>
            <a:ext cx="91440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фтяная промышленность – «беда или благо» Сахалинской област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C:\Users\Елена-ПК\Desktop\р с\диплом мой\OIL3.JPG"/>
          <p:cNvPicPr/>
          <p:nvPr/>
        </p:nvPicPr>
        <p:blipFill>
          <a:blip r:embed="rId1"/>
          <a:stretch/>
        </p:blipFill>
        <p:spPr>
          <a:xfrm>
            <a:off x="0" y="0"/>
            <a:ext cx="363708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9" descr="C:\Users\Елена-ПК\Desktop\диплом мой\sakhalin2.jpg"/>
          <p:cNvPicPr/>
          <p:nvPr/>
        </p:nvPicPr>
        <p:blipFill>
          <a:blip r:embed="rId2"/>
          <a:stretch/>
        </p:blipFill>
        <p:spPr>
          <a:xfrm>
            <a:off x="4354560" y="0"/>
            <a:ext cx="4789440" cy="687060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938760" y="6149880"/>
            <a:ext cx="323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ахалин-2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49dd599596b92f40ca6800cf9c977b51_x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7384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6012000" y="627372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ахалин-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1" descr="C:\Users\Елена-ПК\Desktop\р с\диплом мой\OIL3.JPG"/>
          <p:cNvPicPr/>
          <p:nvPr/>
        </p:nvPicPr>
        <p:blipFill>
          <a:blip r:embed="rId2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08360" y="549360"/>
            <a:ext cx="512280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ерально-сырьевой потенциал Сахалинской обл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:\Users\Елена-ПК\Downloads\geosakh.jpg"/>
          <p:cNvPicPr/>
          <p:nvPr/>
        </p:nvPicPr>
        <p:blipFill>
          <a:blip r:embed="rId1"/>
          <a:srcRect l="0" t="0" r="31703" b="14303"/>
          <a:stretch/>
        </p:blipFill>
        <p:spPr>
          <a:xfrm>
            <a:off x="395280" y="0"/>
            <a:ext cx="306072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4356000" y="1341360"/>
            <a:ext cx="453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целостного представления о социально-экономической составляющей географической картины своего регио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mapnav5"/>
          <p:cNvPicPr/>
          <p:nvPr/>
        </p:nvPicPr>
        <p:blipFill>
          <a:blip r:embed="rId1"/>
          <a:stretch/>
        </p:blipFill>
        <p:spPr>
          <a:xfrm>
            <a:off x="468360" y="1407960"/>
            <a:ext cx="388764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bitum-ufa.ru/img/map/kamchatka.gif"/>
          <p:cNvPicPr/>
          <p:nvPr/>
        </p:nvPicPr>
        <p:blipFill>
          <a:blip r:embed="rId1"/>
          <a:stretch/>
        </p:blipFill>
        <p:spPr>
          <a:xfrm rot="20667000">
            <a:off x="1174680" y="-533520"/>
            <a:ext cx="5977080" cy="7850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720" y="189000"/>
            <a:ext cx="46800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ЪЕКТ ИССЛЕДОВАНИЯ -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фтяная отрасль Сахалинской области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://www.bitum-ufa.ru/img/map/tablitca.jpg"/>
          <p:cNvPicPr/>
          <p:nvPr/>
        </p:nvPicPr>
        <p:blipFill>
          <a:blip r:embed="rId2"/>
          <a:stretch/>
        </p:blipFill>
        <p:spPr>
          <a:xfrm>
            <a:off x="179280" y="4281480"/>
            <a:ext cx="33480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собенности исторического развития нефтяной промышленности Сахалин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SC_2696"/>
          <p:cNvPicPr/>
          <p:nvPr/>
        </p:nvPicPr>
        <p:blipFill>
          <a:blip r:embed="rId1"/>
          <a:stretch/>
        </p:blipFill>
        <p:spPr>
          <a:xfrm>
            <a:off x="250920" y="1844640"/>
            <a:ext cx="3878280" cy="367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spec_18022008184842"/>
          <p:cNvPicPr/>
          <p:nvPr/>
        </p:nvPicPr>
        <p:blipFill>
          <a:blip r:embed="rId2"/>
          <a:stretch/>
        </p:blipFill>
        <p:spPr>
          <a:xfrm>
            <a:off x="4390920" y="3186000"/>
            <a:ext cx="47530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собенности исторического развития нефтяной промышленности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ахалинской обл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"/>
          <p:cNvGraphicFramePr/>
          <p:nvPr/>
        </p:nvGraphicFramePr>
        <p:xfrm>
          <a:off x="0" y="1700280"/>
          <a:ext cx="914400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91440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3"/>
          <p:cNvSpPr/>
          <p:nvPr/>
        </p:nvSpPr>
        <p:spPr>
          <a:xfrm>
            <a:off x="0" y="36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уровня добычи нефти в конце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994 по 2000 г.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1"/>
          <p:cNvGraphicFramePr/>
          <p:nvPr/>
        </p:nvGraphicFramePr>
        <p:xfrm>
          <a:off x="826920" y="1916280"/>
          <a:ext cx="763272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16280"/>
                    <a:ext cx="76327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3"/>
          <p:cNvSpPr/>
          <p:nvPr/>
        </p:nvSpPr>
        <p:spPr>
          <a:xfrm>
            <a:off x="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 уровня добычи нефти с 2004 по 2012 г.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1"/>
          <p:cNvGraphicFramePr/>
          <p:nvPr/>
        </p:nvGraphicFramePr>
        <p:xfrm>
          <a:off x="539640" y="1484280"/>
          <a:ext cx="784872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784872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3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C:\Users\Елена-ПК\Desktop\р с\диплом мой\OIL3.JPG"/>
          <p:cNvPicPr/>
          <p:nvPr/>
        </p:nvPicPr>
        <p:blipFill>
          <a:blip r:embed="rId1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enlarged_sakhalin1scheme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938760" y="6149880"/>
            <a:ext cx="323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ахалин-1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3:32:31Z</dcterms:created>
  <dc:creator>Елена-ПК</dc:creator>
  <dc:description/>
  <dc:language>en-US</dc:language>
  <cp:lastModifiedBy>Елена-ПК</cp:lastModifiedBy>
  <dcterms:modified xsi:type="dcterms:W3CDTF">2015-01-09T00:30:33Z</dcterms:modified>
  <cp:revision>32</cp:revision>
  <dc:subject/>
  <dc:title>«Нефтяная промышленность Сахалинской области как объект изучения в школьном курсе».</dc:title>
</cp:coreProperties>
</file>