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DE4-ABCF-4702-8B37-6A689094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B4F-62AE-407B-92C2-BC187FE4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7A1-97A5-45C0-9EF4-BEFA4326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645-5C8A-4D8F-AE44-FD966F0E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AAB-4A6A-43C0-AB35-6E7FD19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651-6E1A-4E26-AC54-BF6C95B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FB2-6FFF-4A66-9EED-4E9B2ABC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4E7-9ED8-41D8-BE68-51CB5829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761-C1DC-49B1-AE01-7773DB36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7F1-DAF0-4C7A-8C54-8397EC0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9E1-55AD-43B5-9061-02717D79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A32-A37F-412F-916A-2CF8BDC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805D-46B3-4896-906F-7DD888510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0" y="1413000"/>
            <a:ext cx="91440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тяная промышленность – «беда или благо» Сахалинской област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C:\Users\Елена-ПК\Desktop\р с\диплом мой\OIL3.JPG"/>
          <p:cNvPicPr/>
          <p:nvPr/>
        </p:nvPicPr>
        <p:blipFill>
          <a:blip r:embed="rId1"/>
          <a:stretch/>
        </p:blipFill>
        <p:spPr>
          <a:xfrm>
            <a:off x="0" y="0"/>
            <a:ext cx="36370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9" descr="C:\Users\Елена-ПК\Desktop\диплом мой\sakhalin2.jpg"/>
          <p:cNvPicPr/>
          <p:nvPr/>
        </p:nvPicPr>
        <p:blipFill>
          <a:blip r:embed="rId2"/>
          <a:stretch/>
        </p:blipFill>
        <p:spPr>
          <a:xfrm>
            <a:off x="4354560" y="0"/>
            <a:ext cx="478944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938760" y="6149880"/>
            <a:ext cx="32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ахалин-2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49dd599596b92f40ca6800cf9c977b51_x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73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6012000" y="62737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халин-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C:\Users\Елена-ПК\Desktop\р с\диплом мой\OIL3.JPG"/>
          <p:cNvPicPr/>
          <p:nvPr/>
        </p:nvPicPr>
        <p:blipFill>
          <a:blip r:embed="rId2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08360" y="549360"/>
            <a:ext cx="51228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рально-сырьевой потенциал Сахалин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Елена-ПК\Downloads\geosakh.jpg"/>
          <p:cNvPicPr/>
          <p:nvPr/>
        </p:nvPicPr>
        <p:blipFill>
          <a:blip r:embed="rId1"/>
          <a:srcRect l="0" t="0" r="31703" b="14303"/>
          <a:stretch/>
        </p:blipFill>
        <p:spPr>
          <a:xfrm>
            <a:off x="395280" y="0"/>
            <a:ext cx="30607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356000" y="1341360"/>
            <a:ext cx="45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целостного представления о социально-экономической составляющей географической картины своего реги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mapnav5"/>
          <p:cNvPicPr/>
          <p:nvPr/>
        </p:nvPicPr>
        <p:blipFill>
          <a:blip r:embed="rId1"/>
          <a:stretch/>
        </p:blipFill>
        <p:spPr>
          <a:xfrm>
            <a:off x="468360" y="1407960"/>
            <a:ext cx="388764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itum-ufa.ru/img/map/kamchatka.gif"/>
          <p:cNvPicPr/>
          <p:nvPr/>
        </p:nvPicPr>
        <p:blipFill>
          <a:blip r:embed="rId1"/>
          <a:stretch/>
        </p:blipFill>
        <p:spPr>
          <a:xfrm rot="20667000">
            <a:off x="1174680" y="-533520"/>
            <a:ext cx="5977080" cy="7850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720" y="189000"/>
            <a:ext cx="4680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ЪЕКТ ИССЛЕДОВАНИЯ -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фтяная отрасль Сахалинской област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www.bitum-ufa.ru/img/map/tablitca.jpg"/>
          <p:cNvPicPr/>
          <p:nvPr/>
        </p:nvPicPr>
        <p:blipFill>
          <a:blip r:embed="rId2"/>
          <a:stretch/>
        </p:blipFill>
        <p:spPr>
          <a:xfrm>
            <a:off x="179280" y="4281480"/>
            <a:ext cx="3348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обенности исторического развития нефтяной промышленности Сахалин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SC_2696"/>
          <p:cNvPicPr/>
          <p:nvPr/>
        </p:nvPicPr>
        <p:blipFill>
          <a:blip r:embed="rId1"/>
          <a:stretch/>
        </p:blipFill>
        <p:spPr>
          <a:xfrm>
            <a:off x="250920" y="1844640"/>
            <a:ext cx="387828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pec_18022008184842"/>
          <p:cNvPicPr/>
          <p:nvPr/>
        </p:nvPicPr>
        <p:blipFill>
          <a:blip r:embed="rId2"/>
          <a:stretch/>
        </p:blipFill>
        <p:spPr>
          <a:xfrm>
            <a:off x="4390920" y="318600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собенности исторического развития нефтяной промышленност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ахалин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0" y="36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уровня добычи нефти в конц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94 по 2000 г.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826920" y="1916280"/>
          <a:ext cx="7632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632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уровня добычи нефти с 2004 по 2012 г.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539640" y="1484280"/>
          <a:ext cx="784872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84872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C:\Users\Елена-ПК\Desktop\р с\диплом мой\OIL3.JPG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nlarged_sakhalin1scheme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938760" y="6149880"/>
            <a:ext cx="32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ахалин-1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3:32:31Z</dcterms:created>
  <dc:creator>Елена-ПК</dc:creator>
  <dc:description/>
  <dc:language>en-US</dc:language>
  <cp:lastModifiedBy>Елена-ПК</cp:lastModifiedBy>
  <dcterms:modified xsi:type="dcterms:W3CDTF">2015-01-09T00:30:33Z</dcterms:modified>
  <cp:revision>32</cp:revision>
  <dc:subject/>
  <dc:title>«Нефтяная промышленность Сахалинской области как объект изучения в школьном курсе».</dc:title>
</cp:coreProperties>
</file>