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FAC4-96A9-4270-AF47-9D9C9CE35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35B7-E9D3-4A80-9570-2861541463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04D-97CE-4BC2-9C14-01C5D8D7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9D6-B394-42ED-8151-B805B3A6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1B2-F92F-45E3-9206-6C96B24B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A051-2967-4985-A651-AEE2191F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5E8-DE1C-4097-B833-6BA1AA1E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5BD-72AE-452A-964A-A3C07CCB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101-4674-4664-91DA-F683DB0F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374-6669-42AA-8511-E8DEB6F9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F85-4B9E-42D0-AD9B-95396CAE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392-2658-45C9-A834-0D25142C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2D6-76C8-48F9-B1F0-9BFF075D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8A1-ACDE-4A39-96B0-ECC99FC0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BD74-4D1E-40B5-A8B3-9212E6D9A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116000" y="5084640"/>
            <a:ext cx="727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щай свободная стих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последний раз передо м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 катишь волны голуб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блещешь гордою красой…. /А.С. Пушкин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483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чего зависит  высота  ветровой вол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24000" y="256536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олжитель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ени действия ве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24000" y="342900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ла ве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24000" y="4294080"/>
            <a:ext cx="2232000" cy="647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убина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492360" y="3357720"/>
            <a:ext cx="158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та вол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>
            <a:off x="2556000" y="2852640"/>
            <a:ext cx="863640" cy="86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2556000" y="3789360"/>
            <a:ext cx="863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V="1">
            <a:off x="2556000" y="3860280"/>
            <a:ext cx="86364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p22_1_2"/>
          <p:cNvPicPr/>
          <p:nvPr/>
        </p:nvPicPr>
        <p:blipFill>
          <a:blip r:embed="rId1"/>
          <a:stretch/>
        </p:blipFill>
        <p:spPr>
          <a:xfrm>
            <a:off x="5364000" y="1268280"/>
            <a:ext cx="363564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189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2627280" y="5157720"/>
            <a:ext cx="3816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.Т. Мальцев. Морской берег. 19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468360" y="551664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ОМНИ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042920" y="6021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тровые волны вызываются ветром. Высота волны зависит от силы ветра, глубины моря, времени действия в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11280" y="189000"/>
            <a:ext cx="87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79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009999"/>
                </a:solidFill>
                <a:latin typeface="Tahoma"/>
              </a:rPr>
              <a:t>Цунами (в переводе с японского —длинная волна) — это длинные волны, порождаемые мощным воздействием на всю толщу воды в океане или другом водоё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Администратор\Рабочий стол\741fee12364e.jpg"/>
          <p:cNvPicPr/>
          <p:nvPr/>
        </p:nvPicPr>
        <p:blipFill>
          <a:blip r:embed="rId1"/>
          <a:stretch/>
        </p:blipFill>
        <p:spPr>
          <a:xfrm>
            <a:off x="1476360" y="2133720"/>
            <a:ext cx="61200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4508640"/>
            <a:ext cx="864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79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9999"/>
                </a:solidFill>
                <a:latin typeface="Tahoma"/>
              </a:rPr>
              <a:t>1). Подводное землетрясение (около 85 % всех цунами). При землетрясении под водой образуется вертикальная подвижка дна: часть дна опускается, а часть приподнимается. Поверхность воды приходит в колебательное движение по вертикали, стремясь вернуться к исходному уровню, — среднему уровню моря, — и порождает серию вол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23"/>
          <p:cNvPicPr/>
          <p:nvPr/>
        </p:nvPicPr>
        <p:blipFill>
          <a:blip r:embed="rId1"/>
          <a:stretch/>
        </p:blipFill>
        <p:spPr>
          <a:xfrm>
            <a:off x="1692360" y="1413000"/>
            <a:ext cx="6048360" cy="3024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1692360" y="26028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Причины возникновения Цун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340000" y="189000"/>
            <a:ext cx="5040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2). Вулканические извер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(около 5 % всех цун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Крупные подводные извер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обладают таким же эффек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что и землетрясения. При си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вулканических взрывах образу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Tahoma"/>
              </a:rPr>
              <a:t>не только волны от взрыва, но вода также заполняет полости от    извергнутого материала, в результате чего  возникает длинная вол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21"/>
          <p:cNvPicPr/>
          <p:nvPr/>
        </p:nvPicPr>
        <p:blipFill>
          <a:blip r:embed="rId1"/>
          <a:stretch/>
        </p:blipFill>
        <p:spPr>
          <a:xfrm>
            <a:off x="1692360" y="4221000"/>
            <a:ext cx="54720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09080" cy="652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214280" y="1214280"/>
            <a:ext cx="6572520" cy="492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0" y="947880"/>
            <a:ext cx="9144000" cy="59101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85840" y="214200"/>
            <a:ext cx="850104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Arial"/>
              </a:rPr>
              <a:t>Последствия цунам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:\Documents and Settings\Администратор\Рабочий стол\20723_11498.jpg"/>
          <p:cNvPicPr/>
          <p:nvPr/>
        </p:nvPicPr>
        <p:blipFill>
          <a:blip r:embed="rId3"/>
          <a:stretch/>
        </p:blipFill>
        <p:spPr>
          <a:xfrm>
            <a:off x="1571760" y="1357200"/>
            <a:ext cx="642924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1071720" y="214200"/>
            <a:ext cx="68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случилось с командой капитана Врунгел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1785960" y="114300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3059280" y="33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ливы и отл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Documents and Settings\Администратор\Рабочий стол\Bay_of_Fundy_High_Tide.jpg"/>
          <p:cNvPicPr/>
          <p:nvPr/>
        </p:nvPicPr>
        <p:blipFill>
          <a:blip r:embed="rId1"/>
          <a:stretch/>
        </p:blipFill>
        <p:spPr>
          <a:xfrm>
            <a:off x="785880" y="1000080"/>
            <a:ext cx="3857400" cy="5251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Documents and Settings\Администратор\Рабочий стол\bay_of_fundy_low_tide.jpg"/>
          <p:cNvPicPr/>
          <p:nvPr/>
        </p:nvPicPr>
        <p:blipFill>
          <a:blip r:embed="rId2"/>
          <a:stretch/>
        </p:blipFill>
        <p:spPr>
          <a:xfrm>
            <a:off x="5072040" y="1000080"/>
            <a:ext cx="3784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356520" cy="435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Documents and Settings\Администратор\Рабочий стол\03010102.jpg"/>
          <p:cNvPicPr/>
          <p:nvPr/>
        </p:nvPicPr>
        <p:blipFill>
          <a:blip r:embed="rId2"/>
          <a:stretch/>
        </p:blipFill>
        <p:spPr>
          <a:xfrm>
            <a:off x="3429000" y="2786040"/>
            <a:ext cx="5715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6931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14240" y="3642840"/>
            <a:ext cx="7772400" cy="297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haroni"/>
              </a:rPr>
              <a:t>Движение воды в океан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ы вол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Organization Chart 8"/>
          <p:cNvGrpSpPr/>
          <p:nvPr/>
        </p:nvGrpSpPr>
        <p:grpSpPr>
          <a:xfrm>
            <a:off x="457200" y="1125360"/>
            <a:ext cx="8228880" cy="4999320"/>
            <a:chOff x="457200" y="1125360"/>
            <a:chExt cx="8228880" cy="499932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511240" y="2184120"/>
              <a:ext cx="1000440" cy="2880720"/>
            </a:xfrm>
            <a:prstGeom prst="bentConnector3">
              <a:avLst>
                <a:gd name="adj1" fmla="val 114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71280" y="3124440"/>
              <a:ext cx="3240" cy="1000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631240" y="2184480"/>
              <a:ext cx="1000440" cy="2880720"/>
            </a:xfrm>
            <a:prstGeom prst="bentConnector3">
              <a:avLst>
                <a:gd name="adj1" fmla="val 114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337200" y="1125360"/>
              <a:ext cx="2468520" cy="199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вол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57200" y="4124880"/>
              <a:ext cx="2468520" cy="199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етров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337200" y="4124880"/>
              <a:ext cx="2468520" cy="199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Цунам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217560" y="4124880"/>
              <a:ext cx="2468520" cy="1999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ливы и отлив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AutoShape 19">
            <a:hlinkClick r:id="rId1" action="ppaction://hlinksldjump"/>
          </p:cNvPr>
          <p:cNvSpPr/>
          <p:nvPr/>
        </p:nvSpPr>
        <p:spPr>
          <a:xfrm>
            <a:off x="8604360" y="6381720"/>
            <a:ext cx="468360" cy="40500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4976" h="21600">
                <a:moveTo>
                  <a:pt x="0" y="0"/>
                </a:moveTo>
                <a:lnTo>
                  <a:pt x="24976" y="0"/>
                </a:lnTo>
                <a:lnTo>
                  <a:pt x="24976" y="21600"/>
                </a:lnTo>
                <a:lnTo>
                  <a:pt x="0" y="21600"/>
                </a:lnTo>
                <a:close/>
              </a:path>
              <a:path fill="lightenLess" w="24976" h="21600">
                <a:moveTo>
                  <a:pt x="0" y="0"/>
                </a:moveTo>
                <a:lnTo>
                  <a:pt x="24976" y="0"/>
                </a:lnTo>
                <a:lnTo>
                  <a:pt x="23576" y="1400"/>
                </a:lnTo>
                <a:lnTo>
                  <a:pt x="1400" y="1400"/>
                </a:lnTo>
                <a:close/>
              </a:path>
              <a:path fill="darken" w="24976" h="21600">
                <a:moveTo>
                  <a:pt x="24976" y="0"/>
                </a:moveTo>
                <a:lnTo>
                  <a:pt x="24976" y="21600"/>
                </a:lnTo>
                <a:lnTo>
                  <a:pt x="23576" y="20200"/>
                </a:lnTo>
                <a:lnTo>
                  <a:pt x="23576" y="1400"/>
                </a:lnTo>
                <a:close/>
              </a:path>
              <a:path fill="darkenLess" w="24976" h="21600">
                <a:moveTo>
                  <a:pt x="24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6" y="20200"/>
                </a:lnTo>
                <a:close/>
              </a:path>
              <a:path fill="lighten" w="24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76" h="21600">
                <a:moveTo>
                  <a:pt x="5482" y="10800"/>
                </a:moveTo>
                <a:lnTo>
                  <a:pt x="19495" y="3794"/>
                </a:lnTo>
                <a:lnTo>
                  <a:pt x="194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755640" y="1341360"/>
            <a:ext cx="7561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граф 37 Задание 6 уст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>
            <a:hlinkClick r:id="rId1" action="ppaction://hlinksldjump"/>
          </p:cNvPr>
          <p:cNvSpPr/>
          <p:nvPr/>
        </p:nvSpPr>
        <p:spPr>
          <a:xfrm>
            <a:off x="8604360" y="645336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332000" y="26028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03280" y="907920"/>
          <a:ext cx="6096240" cy="53658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у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ивы и отли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овые вол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Образуются под влиянием лунного притя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Периодически повторя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Образуются в результате подводных землетряс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бладают большой разрушительной сил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бразуются под влиянием ве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Равнобедренный треугольник 53"/>
          <p:cNvSpPr/>
          <p:nvPr/>
        </p:nvSpPr>
        <p:spPr>
          <a:xfrm>
            <a:off x="4929120" y="1785960"/>
            <a:ext cx="571680" cy="571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Равнобедренный треугольник 54"/>
          <p:cNvSpPr/>
          <p:nvPr/>
        </p:nvSpPr>
        <p:spPr>
          <a:xfrm>
            <a:off x="4929120" y="2571840"/>
            <a:ext cx="571680" cy="571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Равнобедренный треугольник 55"/>
          <p:cNvSpPr/>
          <p:nvPr/>
        </p:nvSpPr>
        <p:spPr>
          <a:xfrm>
            <a:off x="3429000" y="3357720"/>
            <a:ext cx="571680" cy="571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Равнобедренный треугольник 56"/>
          <p:cNvSpPr/>
          <p:nvPr/>
        </p:nvSpPr>
        <p:spPr>
          <a:xfrm>
            <a:off x="3429000" y="4500720"/>
            <a:ext cx="571680" cy="571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Равнобедренный треугольник 57"/>
          <p:cNvSpPr/>
          <p:nvPr/>
        </p:nvSpPr>
        <p:spPr>
          <a:xfrm>
            <a:off x="6500880" y="4572000"/>
            <a:ext cx="571320" cy="5716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Равнобедренный треугольник 58"/>
          <p:cNvSpPr/>
          <p:nvPr/>
        </p:nvSpPr>
        <p:spPr>
          <a:xfrm>
            <a:off x="6500880" y="5500800"/>
            <a:ext cx="571320" cy="571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57120" y="285840"/>
          <a:ext cx="4897440" cy="3398760"/>
        </p:xfrm>
        <a:graphic>
          <a:graphicData uri="http://schemas.openxmlformats.org/drawingml/2006/table">
            <a:tbl>
              <a:tblPr/>
              <a:tblGrid>
                <a:gridCol w="612720"/>
                <a:gridCol w="611280"/>
                <a:gridCol w="614520"/>
                <a:gridCol w="610920"/>
                <a:gridCol w="613080"/>
                <a:gridCol w="610920"/>
                <a:gridCol w="612720"/>
                <a:gridCol w="611280"/>
              </a:tblGrid>
              <a:tr h="67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73"/>
          <p:cNvSpPr/>
          <p:nvPr/>
        </p:nvSpPr>
        <p:spPr>
          <a:xfrm>
            <a:off x="468360" y="3786120"/>
            <a:ext cx="86756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еское поднятие уровня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стый водяной вал, образующийся при разрушении волн о бере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еское понижение уровня мо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точка вол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ны, вызываемые землетрясением  или подводными вулка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5"/>
          <p:cNvSpPr/>
          <p:nvPr/>
        </p:nvSpPr>
        <p:spPr>
          <a:xfrm>
            <a:off x="5500800" y="35712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 кроссв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1"/>
          <p:cNvSpPr/>
          <p:nvPr/>
        </p:nvSpPr>
        <p:spPr>
          <a:xfrm>
            <a:off x="142920" y="357120"/>
            <a:ext cx="40003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 Р  И Л И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2"/>
          <p:cNvSpPr/>
          <p:nvPr/>
        </p:nvSpPr>
        <p:spPr>
          <a:xfrm>
            <a:off x="642960" y="1000080"/>
            <a:ext cx="4071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Р  И  Б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3"/>
          <p:cNvSpPr/>
          <p:nvPr/>
        </p:nvSpPr>
        <p:spPr>
          <a:xfrm>
            <a:off x="1428840" y="1643040"/>
            <a:ext cx="4143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Т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5"/>
          <p:cNvSpPr/>
          <p:nvPr/>
        </p:nvSpPr>
        <p:spPr>
          <a:xfrm>
            <a:off x="214200" y="2286000"/>
            <a:ext cx="4429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Р  Е  Б  Е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6"/>
          <p:cNvSpPr/>
          <p:nvPr/>
        </p:nvSpPr>
        <p:spPr>
          <a:xfrm>
            <a:off x="1143000" y="3000240"/>
            <a:ext cx="4429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  У Н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 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трелка вниз 9">
            <a:hlinkClick r:id="rId1" action="ppaction://hlinksldjump"/>
          </p:cNvPr>
          <p:cNvSpPr/>
          <p:nvPr/>
        </p:nvSpPr>
        <p:spPr>
          <a:xfrm>
            <a:off x="8358120" y="492912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214200" y="210600"/>
            <a:ext cx="8929800" cy="47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вижение вод в Океа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Подбери каждому из ниже перечисленных географических понятий соответствующее определ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волны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А) волны, вызываемые землетрясениям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ржениями подводных вулк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волны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ериодическое понижение уровня мо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В) расстояние от подошвы до гребня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цунами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расстояние между двумя соседними гребнями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Е) пенистый водяной вал, образующийся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ушении волн о бер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тлив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периодическое поднятие уровня мо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357120" y="1285920"/>
            <a:ext cx="82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чему при приближении цунами корабли из портов выходят в открытый оке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285840" y="271476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 каких волн вызывает внеземной объект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2286000" y="214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ОЧ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Движение вод в Океа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571680" y="3929040"/>
            <a:ext cx="7929360" cy="2511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ы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1. а – Г,  б – В,  в – Е,  г – А,  д – Ж,  е – 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Чтобы избежать кораблекру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(Луна) – приливы и отл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Администратор\Рабочий стол\cfb64f4f740e.jpg"/>
          <p:cNvPicPr/>
          <p:nvPr/>
        </p:nvPicPr>
        <p:blipFill>
          <a:blip r:embed="rId1"/>
          <a:stretch/>
        </p:blipFill>
        <p:spPr>
          <a:xfrm>
            <a:off x="706320" y="1994040"/>
            <a:ext cx="7480440" cy="4870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5480" y="428760"/>
            <a:ext cx="8286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ть знания о видах движений воды в океане, в том  числе о ветровых, цунами, приливно-отливных течениях. Развивать умение выделять причинно-следственные связ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ние географической культуры и эстетического восприятия географических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893080" cy="15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Бросая в воду камешки, смотри на круги ими образуемые; иначе такое бросание будет пустою забавою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зьма Пру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Documents and Settings\Администратор\Рабочий стол\picturecontent-pid-22aca.jpg"/>
          <p:cNvPicPr/>
          <p:nvPr/>
        </p:nvPicPr>
        <p:blipFill>
          <a:blip r:embed="rId1"/>
          <a:stretch/>
        </p:blipFill>
        <p:spPr>
          <a:xfrm>
            <a:off x="1042920" y="2352600"/>
            <a:ext cx="6637320" cy="41515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7">
            <a:hlinkClick r:id="rId2" action="ppaction://hlinksldjump"/>
          </p:cNvPr>
          <p:cNvSpPr/>
          <p:nvPr/>
        </p:nvSpPr>
        <p:spPr>
          <a:xfrm>
            <a:off x="867564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763640" y="557280"/>
            <a:ext cx="538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Откуда берутся в море вол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 Как и почему движутся вол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 Какие они быв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 Для чего нам необходимо изучать вол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7128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68360" y="1874880"/>
            <a:ext cx="8280360" cy="4437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560" y="620640"/>
            <a:ext cx="7427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части волн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йте определение каждому элементу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200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473400" y="4869000"/>
            <a:ext cx="484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Б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ая высокая часть во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98520" y="5300640"/>
            <a:ext cx="48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ОШВ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ая низкая часть во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395280" y="57340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ТА ВОЛНЫ – расстояние от подошвы до  греб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27600" y="6165720"/>
            <a:ext cx="76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ИНА ВОЛНЫ – расстояние между двумя соседними греб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250920" y="260280"/>
            <a:ext cx="8602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лна- водяной вал, образующийся в результате колебательного движения поверхностного слоя в водо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116000" y="40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родуи на старинных кар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310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3708000" y="260280"/>
            <a:ext cx="25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ПОМНИ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95280" y="112536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ждая частица воды, качнувшись вместе с волной, остаётся на том же само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324000" y="2708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лну создают те капли, которые находятся на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-конечная звезда 4"/>
          <p:cNvSpPr/>
          <p:nvPr/>
        </p:nvSpPr>
        <p:spPr>
          <a:xfrm>
            <a:off x="7072200" y="5357880"/>
            <a:ext cx="1714680" cy="1214280"/>
          </a:xfrm>
          <a:custGeom>
            <a:avLst/>
            <a:gdLst>
              <a:gd name="textAreaLeft" fmla="*/ 529920 w 1714680"/>
              <a:gd name="textAreaRight" fmla="*/ 1184760 w 1714680"/>
              <a:gd name="textAreaTop" fmla="*/ 463680 h 1214280"/>
              <a:gd name="textAreaBottom" fmla="*/ 927720 h 1214280"/>
            </a:gdLst>
            <a:ahLst/>
            <a:rect l="textAreaLeft" t="textAreaTop" r="textAreaRight" b="textAreaBottom"/>
            <a:pathLst>
              <a:path w="1714500" h="1214437">
                <a:moveTo>
                  <a:pt x="2" y="463872"/>
                </a:moveTo>
                <a:lnTo>
                  <a:pt x="654884" y="463876"/>
                </a:lnTo>
                <a:lnTo>
                  <a:pt x="857250" y="0"/>
                </a:lnTo>
                <a:lnTo>
                  <a:pt x="1059616" y="463876"/>
                </a:lnTo>
                <a:lnTo>
                  <a:pt x="1714498" y="463872"/>
                </a:lnTo>
                <a:lnTo>
                  <a:pt x="1184685" y="750560"/>
                </a:lnTo>
                <a:lnTo>
                  <a:pt x="1387060" y="1214433"/>
                </a:lnTo>
                <a:lnTo>
                  <a:pt x="857250" y="927741"/>
                </a:lnTo>
                <a:lnTo>
                  <a:pt x="327440" y="1214433"/>
                </a:lnTo>
                <a:lnTo>
                  <a:pt x="529815" y="75056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05:26:54Z</dcterms:created>
  <dc:creator>USER</dc:creator>
  <dc:description/>
  <dc:language>en-US</dc:language>
  <cp:lastModifiedBy>Lenovo</cp:lastModifiedBy>
  <dcterms:modified xsi:type="dcterms:W3CDTF">2015-02-08T05:49:33Z</dcterms:modified>
  <cp:revision>53</cp:revision>
  <dc:subject/>
  <dc:title>Слайд 1</dc:title>
</cp:coreProperties>
</file>