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122-73CD-4C0F-B200-1E5957D8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BFA-6A29-4D95-B607-C6AEC0FC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29D-E51A-4473-878D-97476486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3C8-7F90-4CB5-AE3D-4E51478B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58FF-EB84-476B-99C2-D3D96B29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28B7-96C9-4723-A301-5A3D606D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E3E1-AEB7-46EA-9169-571BD9C9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60ED-CA50-42C1-BD59-6F83A921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06E-F34D-42C7-B9BC-42E0B71F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93B-6AB3-444D-9B4C-6A64F0E6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E019-81A4-4223-9E46-3AEFB0A4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F9A6-D43F-48FA-8CFA-6A9A4BAF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ECE0-F967-4E61-83B6-8FED3EA81C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43" name="Picture 2" descr="D:\Рабочий стол\ГИФЫ\гиф\природа\озеро, ледник 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928800" y="1785960"/>
            <a:ext cx="7500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Эпиграф: “Вода: нельзя сказать, что ты необходима для жизни: ты сама жизнь”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А. де Сент-Экзюпер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вода м.mp3" descr=""/>
          <p:cNvPicPr/>
          <p:nvPr/>
        </p:nvPicPr>
        <p:blipFill>
          <a:blip r:embed="rId3"/>
          <a:stretch/>
        </p:blipFill>
        <p:spPr>
          <a:xfrm>
            <a:off x="8215200" y="6215040"/>
            <a:ext cx="7146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9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Задание картографическ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читайте четверостишье о реке, покажите её на карте, назовите исток, устье, а также  бассейн  океа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3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14200" y="500040"/>
            <a:ext cx="85726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ерек воет, дик и злобен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еж утесистых громад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уре плач его подобен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лезы брызгами летя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о по степи разбегаясь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н лукавый принял вид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, приветливо ласкаясь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орю Каспию журчи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бъясните причину происшедшего изменения в поведении реки. Как выглядит русло Терека в нижнем его течении? Почему берега его покрыты галечником и валун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571680" y="571680"/>
            <a:ext cx="7643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жасный день!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ва всю ноч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валась к морю против бур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 одолев их буйной дури 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о силой ветров от залив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егражденная Нев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братно шла гневна, бурлив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затопляла остров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года пуще свирепе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ва вздувалась и реве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тлом клокоча и клубяс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вдруг, как зверь остервеняяс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 город кинула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е явление описано А.С. Пушкиным в этом отрыв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285840" y="500040"/>
            <a:ext cx="85010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А.П. Чехов так сказал об этой реке: “Я не видел реки великолепнее… Могучий, неистовый богатырь, который не знает куда девать свои силы и молодость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оэт И. Кокарев посвятил ей стих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Тебе кипучее начал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ано вершинами Саян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едаром гордо, величав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Ты мчишься в гордый океан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акая это река? В какой океан она мчит свои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Задание практическ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енности хозяйственного использования рек во многом зависит от падения и уклона рек. Сейчас ваша задача, определить падение, уклон рек, указанных на карточке. Ответить на вопрос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огата ли река гидроэнергоресурсами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28760" y="1714680"/>
          <a:ext cx="8429400" cy="3412800"/>
        </p:xfrm>
        <a:graphic>
          <a:graphicData uri="http://schemas.openxmlformats.org/drawingml/2006/table">
            <a:tbl>
              <a:tblPr/>
              <a:tblGrid>
                <a:gridCol w="917280"/>
                <a:gridCol w="2170440"/>
                <a:gridCol w="2587320"/>
                <a:gridCol w="27543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я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та исто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 рек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исе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2 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0 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ора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Прямоугольник 4"/>
          <p:cNvSpPr/>
          <p:nvPr/>
        </p:nvSpPr>
        <p:spPr>
          <a:xfrm>
            <a:off x="642960" y="557208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огата ли река гидроэнергоресурсами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Географическая эстафета</a:t>
            </a:r>
            <a:br>
              <a:rPr sz="44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кажите на карте озёра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3 человека по очереди называют и показывают озёра, передавая указку, как эстафетную палоч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im0-tub-ru.yandex.net/i?id=390338720-70-72&amp;n=21"/>
          <p:cNvPicPr/>
          <p:nvPr/>
        </p:nvPicPr>
        <p:blipFill>
          <a:blip r:embed="rId1"/>
          <a:stretch/>
        </p:blipFill>
        <p:spPr>
          <a:xfrm>
            <a:off x="0" y="4357800"/>
            <a:ext cx="3214800" cy="25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im7-tub-ru.yandex.net/i?id=389803035-00-72&amp;n=21"/>
          <p:cNvPicPr/>
          <p:nvPr/>
        </p:nvPicPr>
        <p:blipFill>
          <a:blip r:embed="rId2"/>
          <a:stretch/>
        </p:blipFill>
        <p:spPr>
          <a:xfrm>
            <a:off x="6215040" y="4357800"/>
            <a:ext cx="2928960" cy="2500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im5-tub-ru.yandex.net/i?id=184659935-22-72&amp;n=21"/>
          <p:cNvPicPr/>
          <p:nvPr/>
        </p:nvPicPr>
        <p:blipFill>
          <a:blip r:embed="rId3"/>
          <a:stretch/>
        </p:blipFill>
        <p:spPr>
          <a:xfrm>
            <a:off x="3357720" y="4357800"/>
            <a:ext cx="2643120" cy="25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2"/>
          <p:cNvSpPr/>
          <p:nvPr/>
        </p:nvSpPr>
        <p:spPr>
          <a:xfrm>
            <a:off x="468360" y="1557360"/>
            <a:ext cx="45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Оцените водные ресурсы Республики Карелия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84360" y="3857760"/>
            <a:ext cx="3786120" cy="3000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&amp;Vcy;&amp;ocy;&amp;dcy;&amp;ncy;&amp;ycy;&amp;jcy; &amp;tcy;&amp;ucy;&amp;rcy;&amp;icy;&amp;zcy;&amp;mcy; &amp;vcy; &amp;Kcy;&amp;acy;&amp;rcy;&amp;iecy;&amp;lcy;&amp;icy;&amp;icy; - &amp;Kcy;&amp;acy;&amp;rcy;&amp;tcy;&amp;acy;"/>
          <p:cNvPicPr/>
          <p:nvPr/>
        </p:nvPicPr>
        <p:blipFill>
          <a:blip r:embed="rId2"/>
          <a:stretch/>
        </p:blipFill>
        <p:spPr>
          <a:xfrm>
            <a:off x="5076720" y="83664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66"/>
                </a:solidFill>
                <a:latin typeface="Arial"/>
              </a:rPr>
              <a:t>Тестиров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cc"/>
                </a:solidFill>
                <a:latin typeface="Arial"/>
              </a:rPr>
              <a:t>10 вопрос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cc"/>
                </a:solidFill>
                <a:latin typeface="Arial"/>
              </a:rPr>
              <a:t>1 ответ из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2060640"/>
            <a:ext cx="871380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россворд по желанию «Внутренние воды России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48" name="Picture 2" descr="D:\Рабочий стол\ГИФЫ\гиф\природа\озеро, ледник 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428760" y="1857240"/>
            <a:ext cx="8143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Обобщение по теме: «Внутренние воды России»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вода м.mp3" descr=""/>
          <p:cNvPicPr/>
          <p:nvPr/>
        </p:nvPicPr>
        <p:blipFill>
          <a:blip r:embed="rId2"/>
          <a:stretch/>
        </p:blipFill>
        <p:spPr>
          <a:xfrm>
            <a:off x="8286840" y="6072120"/>
            <a:ext cx="590400" cy="519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50920" y="587700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ель географ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темьева Ольг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КОУ «Пиндушская СОШ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9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Назовите все виды внутренних вод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54" name="Picture 7" descr="http://im6-tub-ru.yandex.net/i?id=180101177-03-72&amp;n=21"/>
          <p:cNvPicPr/>
          <p:nvPr/>
        </p:nvPicPr>
        <p:blipFill>
          <a:blip r:embed="rId1"/>
          <a:stretch/>
        </p:blipFill>
        <p:spPr>
          <a:xfrm>
            <a:off x="0" y="4500720"/>
            <a:ext cx="2786040" cy="235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http://im0-tub-ru.yandex.net/i?id=55727561-56-72&amp;n=21"/>
          <p:cNvPicPr/>
          <p:nvPr/>
        </p:nvPicPr>
        <p:blipFill>
          <a:blip r:embed="rId2"/>
          <a:stretch/>
        </p:blipFill>
        <p:spPr>
          <a:xfrm>
            <a:off x="0" y="2357280"/>
            <a:ext cx="2714760" cy="2000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im6-tub-ru.yandex.net/i?id=393093547-34-72&amp;n=21"/>
          <p:cNvPicPr/>
          <p:nvPr/>
        </p:nvPicPr>
        <p:blipFill>
          <a:blip r:embed="rId3"/>
          <a:stretch/>
        </p:blipFill>
        <p:spPr>
          <a:xfrm>
            <a:off x="3000240" y="4500720"/>
            <a:ext cx="3000600" cy="2357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im5-tub-ru.yandex.net/i?id=1895794-24-72&amp;n=21"/>
          <p:cNvPicPr/>
          <p:nvPr/>
        </p:nvPicPr>
        <p:blipFill>
          <a:blip r:embed="rId4"/>
          <a:stretch/>
        </p:blipFill>
        <p:spPr>
          <a:xfrm>
            <a:off x="3071880" y="2286000"/>
            <a:ext cx="2857320" cy="207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http://im3-tub-ru.yandex.net/i?id=157070062-45-72&amp;n=21"/>
          <p:cNvPicPr/>
          <p:nvPr/>
        </p:nvPicPr>
        <p:blipFill>
          <a:blip r:embed="rId5"/>
          <a:stretch/>
        </p:blipFill>
        <p:spPr>
          <a:xfrm>
            <a:off x="6215040" y="4572000"/>
            <a:ext cx="292896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http://im7-tub-ru.yandex.net/i?id=587622614-10-72&amp;n=21"/>
          <p:cNvPicPr/>
          <p:nvPr/>
        </p:nvPicPr>
        <p:blipFill>
          <a:blip r:embed="rId6"/>
          <a:stretch/>
        </p:blipFill>
        <p:spPr>
          <a:xfrm>
            <a:off x="6215040" y="2286000"/>
            <a:ext cx="292896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Географическая эстафета</a:t>
            </a:r>
            <a:br>
              <a:rPr sz="44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кажите на карте речные системы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3 человека по очереди называют и показывают речные системы, передавая указку, как эстафетную палоч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http://im5-tub-ru.yandex.net/i?id=104048913-46-72&amp;n=21"/>
          <p:cNvPicPr/>
          <p:nvPr/>
        </p:nvPicPr>
        <p:blipFill>
          <a:blip r:embed="rId1"/>
          <a:stretch/>
        </p:blipFill>
        <p:spPr>
          <a:xfrm>
            <a:off x="0" y="4500720"/>
            <a:ext cx="3286080" cy="235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http://img-fotki.yandex.ru/get/4418/111184772.47/0_7a2d9_46bad868_XL"/>
          <p:cNvPicPr/>
          <p:nvPr/>
        </p:nvPicPr>
        <p:blipFill>
          <a:blip r:embed="rId2"/>
          <a:stretch/>
        </p:blipFill>
        <p:spPr>
          <a:xfrm>
            <a:off x="5929200" y="4429080"/>
            <a:ext cx="321480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Задание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Закройте глаза и мысленно представьте образ карты и ответьте на вопрос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2500200"/>
            <a:ext cx="8472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32000" indent="-43200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Какое озеро находится на Таймырском полуостро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Какая великая река впадает в Каспийское море-озер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Какое озеро похожее на месяц находится на юге Восточной Сибир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На какой равнине расположено Онежское озер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66"/>
                </a:solidFill>
                <a:latin typeface="Arial"/>
              </a:rPr>
              <a:t>Что лишнее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cc"/>
                </a:solidFill>
                <a:latin typeface="Arial"/>
              </a:rPr>
              <a:t>Колыма, Индигирка, Печора, Ха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cc"/>
                </a:solidFill>
                <a:latin typeface="Arial"/>
              </a:rPr>
              <a:t>Лена, Волга, Амур, Об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cc"/>
                </a:solidFill>
                <a:latin typeface="Arial"/>
              </a:rPr>
              <a:t>Таймыр, Чаны, Оленёк, Ладож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cc"/>
                </a:solidFill>
                <a:latin typeface="Arial"/>
              </a:rPr>
              <a:t>Камчатка, Онега, Северная Двина, Тере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428760" y="357120"/>
            <a:ext cx="842940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onstantia"/>
              </a:rPr>
              <a:t>Логическая цепочка. Исключите лишнее и объясни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Лена, Енисей, Амур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- Исток, устье, приток, межень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- Река, озеро, мор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500040" y="571680"/>
            <a:ext cx="82868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Constantia"/>
              </a:rPr>
              <a:t>Найдите ошибк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Река Лена берет начало из озера Байкал и впадает в Карское мо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- Река Волга берет начало с Приволжской возвышенности и впадает в Черное мо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ставьте пары и покажите на кар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5840" y="1600200"/>
            <a:ext cx="4357440" cy="452592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зе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дохранилищ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20984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Беломоро-Балтий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Чуд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Краснояр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Я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9:47:10Z</dcterms:created>
  <dc:creator>Customer</dc:creator>
  <dc:description/>
  <dc:language>en-US</dc:language>
  <cp:lastModifiedBy>Пользователь</cp:lastModifiedBy>
  <dcterms:modified xsi:type="dcterms:W3CDTF">2015-01-09T16:32:00Z</dcterms:modified>
  <cp:revision>18</cp:revision>
  <dc:subject/>
  <dc:title>Слайд 1</dc:title>
</cp:coreProperties>
</file>