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927-EEC5-42BB-AE99-A149E108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275-20B4-476F-A5E2-E2AF4B42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E32-383B-4CAA-B146-28B43016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BA5-BED0-4FA1-B9D2-6B67C7DA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112-2C66-476C-8B06-2773341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F24-D80C-4C93-80EF-66E87A5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55B-2E4E-4FA3-99FD-758C58A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CD1-6D8C-4395-8159-B8C21F2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08-4299-4C6E-9F3C-2C7037A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DAB-2751-46BC-A653-7BA9AFA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C65-A37E-473F-B01F-5BCAC76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3F4-4E34-4D46-9E15-65A5658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3DC-67EE-490B-9E50-349CF5BA5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3" name="Picture 2" descr="D:\Рабочий стол\ГИФЫ\гиф\природа\озеро, ледник 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928800" y="178596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Эпиграф: “Вода: нельзя сказать, что ты необходима для жизни: ты сама жизнь”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А. де Сент-Экзюпер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вода м.mp3" descr=""/>
          <p:cNvPicPr/>
          <p:nvPr/>
        </p:nvPicPr>
        <p:blipFill>
          <a:blip r:embed="rId3"/>
          <a:stretch/>
        </p:blipFill>
        <p:spPr>
          <a:xfrm>
            <a:off x="8215200" y="6215040"/>
            <a:ext cx="7146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картограф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йте четверостишье о реке, покажите её на карте, назовите исток, устье, а также  бассейн  оке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4200" y="50004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рек воет, дик и зл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ж утесистых гром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ре плач его под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лезы брызгами летя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о по степи разбег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н лукавый принял ви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приветливо ласк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рю Каспию журч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ъясните причину происшедшего изменения в поведении реки. Как выглядит русло Терека в нижнем его течении? Почему берега его покрыты галечником и валун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71680" y="571680"/>
            <a:ext cx="7643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жасный день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сю ноч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валась к морю против бу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одолев их буйной дури 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силой ветров от зали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гражденная Не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ратно шла гневна, бурли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затопляла остр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года пуще свиреп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здувалась и рев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лом клокоча и клуб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друг, как зверь остервеня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город кинула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е явление описано А.С. Пушкиным в этом отрыв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85840" y="500040"/>
            <a:ext cx="8501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.П. Чехов так сказал об этой реке: “Я не видел реки великолепнее… Могучий, неистовый богатырь, который не знает куда девать свои силы и молодость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эт И. Кокарев посвятил ей стих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ебе кипучее начал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ано вершинами Саян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даром гордо, величав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ы мчишься в гордый океа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кая это река? В какой океан она мчит свои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практ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хозяйственного использования рек во многом зависит от падения и уклона рек. Сейчас ваша задача, определить падение, уклон рек, указанных на карточке. Ответить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8760" y="1714680"/>
          <a:ext cx="8429400" cy="3412800"/>
        </p:xfrm>
        <a:graphic>
          <a:graphicData uri="http://schemas.openxmlformats.org/drawingml/2006/table">
            <a:tbl>
              <a:tblPr/>
              <a:tblGrid>
                <a:gridCol w="917280"/>
                <a:gridCol w="2170440"/>
                <a:gridCol w="2587320"/>
                <a:gridCol w="27543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исто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ре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2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4"/>
          <p:cNvSpPr/>
          <p:nvPr/>
        </p:nvSpPr>
        <p:spPr>
          <a:xfrm>
            <a:off x="642960" y="5572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озёр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озёра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0-tub-ru.yandex.net/i?id=390338720-70-72&amp;n=21"/>
          <p:cNvPicPr/>
          <p:nvPr/>
        </p:nvPicPr>
        <p:blipFill>
          <a:blip r:embed="rId1"/>
          <a:stretch/>
        </p:blipFill>
        <p:spPr>
          <a:xfrm>
            <a:off x="0" y="435780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7-tub-ru.yandex.net/i?id=389803035-00-72&amp;n=21"/>
          <p:cNvPicPr/>
          <p:nvPr/>
        </p:nvPicPr>
        <p:blipFill>
          <a:blip r:embed="rId2"/>
          <a:stretch/>
        </p:blipFill>
        <p:spPr>
          <a:xfrm>
            <a:off x="6215040" y="435780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184659935-22-72&amp;n=21"/>
          <p:cNvPicPr/>
          <p:nvPr/>
        </p:nvPicPr>
        <p:blipFill>
          <a:blip r:embed="rId3"/>
          <a:stretch/>
        </p:blipFill>
        <p:spPr>
          <a:xfrm>
            <a:off x="3357720" y="4357800"/>
            <a:ext cx="26431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468360" y="1557360"/>
            <a:ext cx="45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цените водные ресурсы Республики Карели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84360" y="385776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Vcy;&amp;ocy;&amp;dcy;&amp;ncy;&amp;ycy;&amp;jcy; &amp;tcy;&amp;ucy;&amp;rcy;&amp;icy;&amp;zcy;&amp;mcy; &amp;vcy; &amp;Kcy;&amp;acy;&amp;rcy;&amp;iecy;&amp;lcy;&amp;icy;&amp;icy; - &amp;Kcy;&amp;acy;&amp;rcy;&amp;tcy;&amp;acy;"/>
          <p:cNvPicPr/>
          <p:nvPr/>
        </p:nvPicPr>
        <p:blipFill>
          <a:blip r:embed="rId2"/>
          <a:stretch/>
        </p:blipFill>
        <p:spPr>
          <a:xfrm>
            <a:off x="5076720" y="83664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Тестиров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0 вопро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 ответ из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2060640"/>
            <a:ext cx="87138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оссворд по желанию «Внутренние воды России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8" name="Picture 2" descr="D:\Рабочий стол\ГИФЫ\гиф\природа\озеро, ледник 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1857240"/>
            <a:ext cx="814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бобщение по теме: «Внутренние воды России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ода м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50920" y="5877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темьева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КОУ «Пиндуш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Назовите все виды внутренних во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4" name="Picture 7" descr="http://im6-tub-ru.yandex.net/i?id=180101177-03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im0-tub-ru.yandex.net/i?id=55727561-56-72&amp;n=21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im6-tub-ru.yandex.net/i?id=393093547-34-72&amp;n=21"/>
          <p:cNvPicPr/>
          <p:nvPr/>
        </p:nvPicPr>
        <p:blipFill>
          <a:blip r:embed="rId3"/>
          <a:stretch/>
        </p:blipFill>
        <p:spPr>
          <a:xfrm>
            <a:off x="3000240" y="4500720"/>
            <a:ext cx="300060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im5-tub-ru.yandex.net/i?id=1895794-24-72&amp;n=21"/>
          <p:cNvPicPr/>
          <p:nvPr/>
        </p:nvPicPr>
        <p:blipFill>
          <a:blip r:embed="rId4"/>
          <a:stretch/>
        </p:blipFill>
        <p:spPr>
          <a:xfrm>
            <a:off x="3071880" y="2286000"/>
            <a:ext cx="285732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ttp://im3-tub-ru.yandex.net/i?id=157070062-45-72&amp;n=21"/>
          <p:cNvPicPr/>
          <p:nvPr/>
        </p:nvPicPr>
        <p:blipFill>
          <a:blip r:embed="rId5"/>
          <a:stretch/>
        </p:blipFill>
        <p:spPr>
          <a:xfrm>
            <a:off x="6215040" y="457200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http://im7-tub-ru.yandex.net/i?id=587622614-10-72&amp;n=21"/>
          <p:cNvPicPr/>
          <p:nvPr/>
        </p:nvPicPr>
        <p:blipFill>
          <a:blip r:embed="rId6"/>
          <a:stretch/>
        </p:blipFill>
        <p:spPr>
          <a:xfrm>
            <a:off x="6215040" y="2286000"/>
            <a:ext cx="292896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речные систем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речные системы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im5-tub-ru.yandex.net/i?id=104048913-46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img-fotki.yandex.ru/get/4418/111184772.47/0_7a2d9_46bad868_XL"/>
          <p:cNvPicPr/>
          <p:nvPr/>
        </p:nvPicPr>
        <p:blipFill>
          <a:blip r:embed="rId2"/>
          <a:stretch/>
        </p:blipFill>
        <p:spPr>
          <a:xfrm>
            <a:off x="5929200" y="44290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кройте глаза и мысленно представьте образ карты и ответьте на вопрос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00200"/>
            <a:ext cx="8472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находится на Таймырском полуостр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ая великая река впадает в Каспийское море-озер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похожее на месяц находится на юге Восточной Сиби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На какой равнине расположено Онежское озер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Что лишнее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олыма, Индигирка, Печора, Ха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Лена, Волга, Амур, Об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Таймыр, Чаны, Оленёк, Ладож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амчатка, Онега, Северная Двина, Тере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8760" y="357120"/>
            <a:ext cx="84294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Логическая цепочка. Исключите лишнее и объяс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ена, Енисей, Аму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Исток, устье, приток, межен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Река, озеро, мо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500040" y="571680"/>
            <a:ext cx="82868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Constantia"/>
              </a:rPr>
              <a:t>Найдите ошиб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ека Лена берет начало из озера Байкал и впадает в Карск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- Река Волга берет начало с Приволжской возвышенности и впадает в Черн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те пары и покажите на кар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600200"/>
            <a:ext cx="4357440" cy="45259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хранил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Беломоро-Балти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уд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Краснояр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47:10Z</dcterms:created>
  <dc:creator>Customer</dc:creator>
  <dc:description/>
  <dc:language>en-US</dc:language>
  <cp:lastModifiedBy>Пользователь</cp:lastModifiedBy>
  <dcterms:modified xsi:type="dcterms:W3CDTF">2015-01-09T16:32:00Z</dcterms:modified>
  <cp:revision>18</cp:revision>
  <dc:subject/>
  <dc:title>Слайд 1</dc:title>
</cp:coreProperties>
</file>