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883-C1AC-49CF-AE27-0CD68CCD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21D-032C-4F76-ABAF-88F26B8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644-FE27-4BEC-BCDD-AD55F1FF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EC9-0A21-4614-A200-03D07F01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EBA-C26C-4E54-9877-A30C1809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F40-73EE-4709-A938-E27AB28C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C79-9B83-4E50-848E-9851A80F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982-33C5-4415-ADA7-248106BE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A4E-30DF-4929-8DFB-1093A0AD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E95-61FD-4421-A9B6-C260934A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20A-8778-4607-B595-2A4A3A7F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6ED-9092-4070-AB5D-02C1259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E1BD-6BBA-408A-8E81-BAD411C18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43" name="Picture 2" descr="D:\Рабочий стол\ГИФЫ\гиф\природа\озеро, ледник 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928800" y="1785960"/>
            <a:ext cx="750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Эпиграф: “Вода: нельзя сказать, что ты необходима для жизни: ты сама жизнь”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А. де Сент-Экзюпер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вода м.mp3" descr=""/>
          <p:cNvPicPr/>
          <p:nvPr/>
        </p:nvPicPr>
        <p:blipFill>
          <a:blip r:embed="rId3"/>
          <a:stretch/>
        </p:blipFill>
        <p:spPr>
          <a:xfrm>
            <a:off x="8215200" y="6215040"/>
            <a:ext cx="7146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Задание картограф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йте четверостишье о реке, покажите её на карте, назовите исток, устье, а также  бассейн  оке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3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14200" y="500040"/>
            <a:ext cx="8572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ерек воет, дик и злобе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ж утесистых грома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уре плач его подобе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лезы брызгами летя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о по степи разбегаяс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н лукавый принял ви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, приветливо ласкаяс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орю Каспию журч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ъясните причину происшедшего изменения в поведении реки. Как выглядит русло Терека в нижнем его течении? Почему берега его покрыты галечником и валун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571680" y="571680"/>
            <a:ext cx="7643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жасный день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а всю ноч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валась к морю против бур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 одолев их буйной дури 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 силой ветров от зали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егражденная Не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братно шла гневна, бурлив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затопляла остро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года пуще свиреп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а вздувалась и рев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тлом клокоча и клуб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вдруг, как зверь остервеняяс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город кинула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е явление описано А.С. Пушкиным в этом отрыв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85840" y="500040"/>
            <a:ext cx="8501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.П. Чехов так сказал об этой реке: “Я не видел реки великолепнее… Могучий, неистовый богатырь, который не знает куда девать свои силы и молодость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эт И. Кокарев посвятил ей стих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ебе кипучее начал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ано вершинами Саян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даром гордо, величав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ы мчишься в гордый океан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акая это река? В какой океан она мчит свои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Задание практиче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хозяйственного использования рек во многом зависит от падения и уклона рек. Сейчас ваша задача, определить падение, уклон рек, указанных на карточке. Ответить на вопрос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огата ли река гидроэнергоресурсами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28760" y="1714680"/>
          <a:ext cx="8429400" cy="3412800"/>
        </p:xfrm>
        <a:graphic>
          <a:graphicData uri="http://schemas.openxmlformats.org/drawingml/2006/table">
            <a:tbl>
              <a:tblPr/>
              <a:tblGrid>
                <a:gridCol w="917280"/>
                <a:gridCol w="2170440"/>
                <a:gridCol w="2587320"/>
                <a:gridCol w="27543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та исто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ре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исе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2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0 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ора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Прямоугольник 4"/>
          <p:cNvSpPr/>
          <p:nvPr/>
        </p:nvSpPr>
        <p:spPr>
          <a:xfrm>
            <a:off x="642960" y="557208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огата ли река гидроэнергоресурсами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Географическая эстафета</a:t>
            </a:r>
            <a:br>
              <a:rPr sz="44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кажите на карте озёр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3 человека по очереди называют и показывают озёра, передавая указку, как эстафетную палоч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im0-tub-ru.yandex.net/i?id=390338720-70-72&amp;n=21"/>
          <p:cNvPicPr/>
          <p:nvPr/>
        </p:nvPicPr>
        <p:blipFill>
          <a:blip r:embed="rId1"/>
          <a:stretch/>
        </p:blipFill>
        <p:spPr>
          <a:xfrm>
            <a:off x="0" y="4357800"/>
            <a:ext cx="321480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im7-tub-ru.yandex.net/i?id=389803035-00-72&amp;n=21"/>
          <p:cNvPicPr/>
          <p:nvPr/>
        </p:nvPicPr>
        <p:blipFill>
          <a:blip r:embed="rId2"/>
          <a:stretch/>
        </p:blipFill>
        <p:spPr>
          <a:xfrm>
            <a:off x="6215040" y="4357800"/>
            <a:ext cx="2928960" cy="25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im5-tub-ru.yandex.net/i?id=184659935-22-72&amp;n=21"/>
          <p:cNvPicPr/>
          <p:nvPr/>
        </p:nvPicPr>
        <p:blipFill>
          <a:blip r:embed="rId3"/>
          <a:stretch/>
        </p:blipFill>
        <p:spPr>
          <a:xfrm>
            <a:off x="3357720" y="4357800"/>
            <a:ext cx="264312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468360" y="1557360"/>
            <a:ext cx="45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Оцените водные ресурсы Республики Карели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84360" y="3857760"/>
            <a:ext cx="378612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&amp;Vcy;&amp;ocy;&amp;dcy;&amp;ncy;&amp;ycy;&amp;jcy; &amp;tcy;&amp;ucy;&amp;rcy;&amp;icy;&amp;zcy;&amp;mcy; &amp;vcy; &amp;Kcy;&amp;acy;&amp;rcy;&amp;iecy;&amp;lcy;&amp;icy;&amp;icy; - &amp;Kcy;&amp;acy;&amp;rcy;&amp;tcy;&amp;acy;"/>
          <p:cNvPicPr/>
          <p:nvPr/>
        </p:nvPicPr>
        <p:blipFill>
          <a:blip r:embed="rId2"/>
          <a:stretch/>
        </p:blipFill>
        <p:spPr>
          <a:xfrm>
            <a:off x="5076720" y="836640"/>
            <a:ext cx="4067280" cy="602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Arial"/>
              </a:rPr>
              <a:t>Тестиров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cc"/>
                </a:solidFill>
                <a:latin typeface="Arial"/>
              </a:rPr>
              <a:t>10 вопрос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cc"/>
                </a:solidFill>
                <a:latin typeface="Arial"/>
              </a:rPr>
              <a:t>1 ответ из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2060640"/>
            <a:ext cx="87138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россворд по желанию «Внутренние воды России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48" name="Picture 2" descr="D:\Рабочий стол\ГИФЫ\гиф\природа\озеро, ледник 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28760" y="1857240"/>
            <a:ext cx="8143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Обобщение по теме: «Внутренние воды России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вода м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590400" cy="519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50920" y="587700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географ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темьева Ольг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КОУ «Пиндуш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9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Назовите все виды внутренних во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4" name="Picture 7" descr="http://im6-tub-ru.yandex.net/i?id=180101177-03-72&amp;n=21"/>
          <p:cNvPicPr/>
          <p:nvPr/>
        </p:nvPicPr>
        <p:blipFill>
          <a:blip r:embed="rId1"/>
          <a:stretch/>
        </p:blipFill>
        <p:spPr>
          <a:xfrm>
            <a:off x="0" y="4500720"/>
            <a:ext cx="2786040" cy="23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im0-tub-ru.yandex.net/i?id=55727561-56-72&amp;n=21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im6-tub-ru.yandex.net/i?id=393093547-34-72&amp;n=21"/>
          <p:cNvPicPr/>
          <p:nvPr/>
        </p:nvPicPr>
        <p:blipFill>
          <a:blip r:embed="rId3"/>
          <a:stretch/>
        </p:blipFill>
        <p:spPr>
          <a:xfrm>
            <a:off x="3000240" y="4500720"/>
            <a:ext cx="3000600" cy="235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im5-tub-ru.yandex.net/i?id=1895794-24-72&amp;n=21"/>
          <p:cNvPicPr/>
          <p:nvPr/>
        </p:nvPicPr>
        <p:blipFill>
          <a:blip r:embed="rId4"/>
          <a:stretch/>
        </p:blipFill>
        <p:spPr>
          <a:xfrm>
            <a:off x="3071880" y="2286000"/>
            <a:ext cx="285732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http://im3-tub-ru.yandex.net/i?id=157070062-45-72&amp;n=21"/>
          <p:cNvPicPr/>
          <p:nvPr/>
        </p:nvPicPr>
        <p:blipFill>
          <a:blip r:embed="rId5"/>
          <a:stretch/>
        </p:blipFill>
        <p:spPr>
          <a:xfrm>
            <a:off x="6215040" y="457200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http://im7-tub-ru.yandex.net/i?id=587622614-10-72&amp;n=21"/>
          <p:cNvPicPr/>
          <p:nvPr/>
        </p:nvPicPr>
        <p:blipFill>
          <a:blip r:embed="rId6"/>
          <a:stretch/>
        </p:blipFill>
        <p:spPr>
          <a:xfrm>
            <a:off x="6215040" y="2286000"/>
            <a:ext cx="292896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Географическая эстафета</a:t>
            </a:r>
            <a:br>
              <a:rPr sz="44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кажите на карте речные системы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cc"/>
                </a:solidFill>
                <a:latin typeface="Arial"/>
              </a:rPr>
              <a:t>3 человека по очереди называют и показывают речные системы, передавая указку, как эстафетную палоч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im5-tub-ru.yandex.net/i?id=104048913-46-72&amp;n=21"/>
          <p:cNvPicPr/>
          <p:nvPr/>
        </p:nvPicPr>
        <p:blipFill>
          <a:blip r:embed="rId1"/>
          <a:stretch/>
        </p:blipFill>
        <p:spPr>
          <a:xfrm>
            <a:off x="0" y="4500720"/>
            <a:ext cx="3286080" cy="235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img-fotki.yandex.ru/get/4418/111184772.47/0_7a2d9_46bad868_XL"/>
          <p:cNvPicPr/>
          <p:nvPr/>
        </p:nvPicPr>
        <p:blipFill>
          <a:blip r:embed="rId2"/>
          <a:stretch/>
        </p:blipFill>
        <p:spPr>
          <a:xfrm>
            <a:off x="5929200" y="442908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адание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Закройте глаза и мысленно представьте образ карты и ответьте на вопрос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500200"/>
            <a:ext cx="8472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ое озеро находится на Таймырском полуостр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ая великая река впадает в Каспийское море-озер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ое озеро похожее на месяц находится на юге Восточной Сиби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На какой равнине расположено Онежское озер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66"/>
                </a:solidFill>
                <a:latin typeface="Arial"/>
              </a:rPr>
              <a:t>Что лишнее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Колыма, Индигирка, Печора, Ха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Лена, Волга, Амур, Об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Таймыр, Чаны, Оленёк, Ладож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cc"/>
                </a:solidFill>
                <a:latin typeface="Arial"/>
              </a:rPr>
              <a:t>Камчатка, Онега, Северная Двина, Тере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428760" y="357120"/>
            <a:ext cx="84294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Логическая цепочка. Исключите лишнее и объясн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ена, Енисей, Амур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 Исток, устье, приток, межень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 Река, озеро, мо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500040" y="571680"/>
            <a:ext cx="82868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Constantia"/>
              </a:rPr>
              <a:t>Найдите ошибк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Река Лена берет начало из озера Байкал и впадает в Карское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- Река Волга берет начало с Приволжской возвышенности и впадает в Черное м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ьте пары и покажите на кар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1600200"/>
            <a:ext cx="4357440" cy="452592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дохранил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20984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Беломоро-Балтий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Чуд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Краснояр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Я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47:10Z</dcterms:created>
  <dc:creator>Customer</dc:creator>
  <dc:description/>
  <dc:language>en-US</dc:language>
  <cp:lastModifiedBy>Пользователь</cp:lastModifiedBy>
  <dcterms:modified xsi:type="dcterms:W3CDTF">2015-01-09T16:32:00Z</dcterms:modified>
  <cp:revision>18</cp:revision>
  <dc:subject/>
  <dc:title>Слайд 1</dc:title>
</cp:coreProperties>
</file>