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679-EF96-4D1D-B354-107C6B7965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17E-2CE0-4CC8-968F-4ED2FE23BE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C41-648B-4C80-BD6F-86FE999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98D-894D-4675-9168-FA3DFEF4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06C-7D7B-498C-83D2-1D7B4F1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46D-0FA4-42BF-9C09-8D7B3458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D301-2F08-4679-9C49-80E019F8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F1B-D939-4122-9AC3-6A0E21F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5407-E31B-436A-8780-C5E56C4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13F-F28C-44B5-A69D-F214EB7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EBB1-6733-4A8F-81AD-1A012D9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391C-86B8-49DF-9CA6-9A448D0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3C19-D4BB-410D-8FB2-5A887A2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F2A-6E79-43F3-A161-3C48348B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E823-D072-4B10-9219-4116488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2B2F-C15D-40E5-AE02-A5341B7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3D3-3746-4181-B9B6-6B4D9D95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3D9C-BDD8-44AF-8E59-471AEED0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3146-538D-4137-A31B-AFE14E14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5CD-61B6-44F0-868C-7735227E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D5E-663E-4172-B066-AF28958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444-9BB4-448E-B06B-307A0673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8B1-9E97-418C-8795-C20FAC7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62A-0CE7-46EB-B52D-4545EC9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C3D-3810-4B4D-AAC6-384F812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C80-896A-41DC-BC06-8A92354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1C4E-D559-49D9-A7FF-A00FFD2760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B4CD-4C5A-450D-A122-07CF8E4C90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Физико – географическое положение Австралии. Рельеф и полезные ископаемые.</a:t>
            </a:r>
            <a:br>
              <a:rPr sz="5000"/>
            </a:br>
            <a:br>
              <a:rPr sz="50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одготовила : Л. В.  Шилохвостова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учитель географии Б-Чураковской средней школы 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цените собственные знания следующим образом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5406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всё понял(а), смогу объяснить этот материал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, могу объяснить другому, но при помощи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ничего не понял(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300" spc="-1" strike="noStrike">
                <a:solidFill>
                  <a:srgbClr val="ffffff"/>
                </a:solidFill>
                <a:latin typeface="Arial"/>
              </a:rPr>
              <a:t>СПАСИБО ЗА УРОК</a:t>
            </a:r>
            <a:endParaRPr b="0" lang="en-US" sz="1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лжны знать и умет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700280"/>
            <a:ext cx="8591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ть ГП Австралии, координаты крайних т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ть и называть элементы береговой линии Австра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нозировать влияние ГП на особенности рельефа матер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ть имена путешественников – исследователей Австралии, их основные открытия и исслед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Австралия – это самый…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540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по площади (7,7 млн.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алонаселённый (около 20 млн. человек, г. Токио – 12 млн. челове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ух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низкий (средняя высота 215 м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покойный (нет действующих вулкан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удивительный – это материк рели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йние точки Австралии и их координат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5406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- мыс Йорк -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жная – мыс Саут – ист – Пойнт - 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ная – мыс Стип – Пойнт - 2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1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– мыс Байрон - 2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верь себ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ов Тасмания. Остро Новая Зеланд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Барьерный ри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афурск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океан, Тихий оке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Австралийский зал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сманово море. Кораллов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Кейп – Йор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Арнем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с Байрон, мыс Йорк, мыс Стип – Пойн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e7ff"/>
                </a:solidFill>
                <a:latin typeface="Arial"/>
              </a:rPr>
              <a:t>Проблема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66268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Австралию называют «самым спокойным» в геологическом отношении материком. Справедливо ли это утверждени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люч к тесту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 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– б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-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ритерии оценок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9 – 10 правильных ответов – вы успешно справились с работой – 5 бал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7 – 8 правильных ответов – вы неплохо усвоили материал – 4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4 – 6 правильных ответов – вы были не слишком внимательны – 3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Менее 4 правильных ответов - к сожалению, вы плохо усвоили тему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ыберите домашнее зада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1680" y="1676520"/>
          <a:ext cx="8540640" cy="45352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0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– 8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е 7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ить малое «кругосветное» путешествие вокруг Австр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записи в тетради, выполнить географические задания «1,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19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тему по учебнику – 5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20:38:29Z</dcterms:created>
  <dc:creator>Антош@</dc:creator>
  <dc:description/>
  <dc:language>en-US</dc:language>
  <cp:lastModifiedBy>Мама-Папа</cp:lastModifiedBy>
  <dcterms:modified xsi:type="dcterms:W3CDTF">2014-01-28T12:49:50Z</dcterms:modified>
  <cp:revision>4</cp:revision>
  <dc:subject/>
  <dc:title>Физико – географическое положение Австралии. Рельеф и полезные ископаемые.</dc:title>
</cp:coreProperties>
</file>