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1D24-1D7A-4830-826E-99322F2063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3ECB-D128-4611-8590-499F702C36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AAB7-81F5-4D16-9C64-1D69B2BA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527-C301-4F07-9B4A-C2226745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3CB7-7A0C-484A-AEA0-35EC1CC2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F7D-AA3F-4560-8462-C1B0E79A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AA23-FAA1-41F9-94D5-C7C86E0C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3DAB-4C7E-443A-A50A-AE998A10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FF81-265B-4522-9F24-2C4ACF0E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8064-D9B6-45F3-8DAC-449F5E9B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080C-4F92-4596-A7CD-1EF821B8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93C4-F8C8-4A22-BDE2-8FB8258A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80A9-81A7-4C67-9FD9-770A1CF3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5AC-8ABC-4EBA-BF82-9FF89331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5A40-64FA-4591-84EB-E376A4A7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F5B8-9A46-466F-AA00-5998BF32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A1E6-E0B8-4C21-8F61-F65F3E88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BEA9-DC2A-43D0-861A-2AF037A0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B4D1-218F-4533-B820-CF704EA2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EBF-7276-41C3-9C1A-E5AC7231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F92-4DAB-4F94-AA22-CCB90C69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606A-7D9C-4108-A430-3BDBB6AF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0F8-0BC6-4A88-A969-B246435F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683-C88A-4AA8-B6CD-8FFD90B4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14D-15F4-4F00-BAAB-880577BB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56E2-49B5-47BF-9DF4-D890B001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0046-B767-4BC0-87BC-D2FDE38A50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06AC-607B-44CA-B87E-EA07A7FE1DF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7e7ff"/>
                </a:solidFill>
                <a:latin typeface="Arial"/>
              </a:rPr>
              <a:t>Физико – географическое положение Австралии. Рельеф и полезные ископаемые.</a:t>
            </a:r>
            <a:br>
              <a:rPr sz="5000"/>
            </a:br>
            <a:br>
              <a:rPr sz="50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Подготовила : Л. В.  Шилохвостова</a:t>
            </a: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учитель географии Б-Чураковской средней школы 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цените собственные знания следующим образом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54064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всё понял(а), смогу объяснить этот материал друг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понял(а) материал, могу объяснить другому, но при помощи учи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понял(а) материал частич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ничего не понял(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540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0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300" spc="-1" strike="noStrike">
                <a:solidFill>
                  <a:srgbClr val="ffffff"/>
                </a:solidFill>
                <a:latin typeface="Arial"/>
              </a:rPr>
              <a:t>СПАСИБО ЗА УРОК</a:t>
            </a:r>
            <a:endParaRPr b="0" lang="en-US" sz="1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Должны знать и уметь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700280"/>
            <a:ext cx="8591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ять ГП Австралии, координаты крайних точ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ывать и называть элементы береговой линии Австрал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нозировать влияние ГП на особенности рельефа матер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ывать имена путешественников – исследователей Австралии, их основные открытия и исслед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7e7ff"/>
                </a:solidFill>
                <a:latin typeface="Arial"/>
              </a:rPr>
              <a:t>Австралия – это самый…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540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енький по площади (7,7 млн. к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малонаселённый (около 20 млн. человек, г. Токио – 12 млн. челове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сух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низкий (средняя высота 215 м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спокойный (нет действующих вулкан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удивительный – это материк рели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райние точки Австралии и их координаты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2997000"/>
            <a:ext cx="8540640" cy="21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верная - мыс Йорк -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ю. ш., 14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жная – мыс Саут – ист – Пойнт - 3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ю. ш., 1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адная – мыс Стип – Пойнт - 2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ю. ш., 11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точная – мыс Байрон - 2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ю. ш., 1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оверь себя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ров Тасмания. Остро Новая Зеланд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ой Барьерный ри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афурское мо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ийский океан, Тихий оке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ой Австралийский зали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сманово море. Коралловое мо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остров Кейп – Йор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остров Арнемлен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с Байрон, мыс Йорк, мыс Стип – Пойн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7e7ff"/>
                </a:solidFill>
                <a:latin typeface="Arial"/>
              </a:rPr>
              <a:t>Проблема: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662680" cy="39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Австралию называют «самым спокойным» в геологическом отношении материком. Справедливо ли это утверждение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7e7ff"/>
                </a:solidFill>
                <a:latin typeface="Arial"/>
              </a:rPr>
              <a:t>Ключ к тесту: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54064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– 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 – 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 в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 –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 б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– 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 – б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–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– б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 –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 - 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7e7ff"/>
                </a:solidFill>
                <a:latin typeface="Arial"/>
              </a:rPr>
              <a:t>Критерии оценок: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1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9 – 10 правильных ответов – вы успешно справились с работой – 5 балл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7 – 8 правильных ответов – вы неплохо усвоили материал – 4 балл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. 4 – 6 правильных ответов – вы были не слишком внимательны – 3 балл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. Менее 4 правильных ответов - к сожалению, вы плохо усвоили тему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ыберите домашнее задание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1680" y="1676520"/>
          <a:ext cx="8540640" cy="453528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– 10 правильных ответо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– 8 правильных ответо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нее 7 правильных ответо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ить малое «кругосветное» путешествие вокруг Австрал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вторить записи в тетради, выполнить географические задания «1,3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с 195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вторить тему по учебнику – 5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20:38:29Z</dcterms:created>
  <dc:creator>Антош@</dc:creator>
  <dc:description/>
  <dc:language>en-US</dc:language>
  <cp:lastModifiedBy>Мама-Папа</cp:lastModifiedBy>
  <dcterms:modified xsi:type="dcterms:W3CDTF">2014-01-28T12:49:50Z</dcterms:modified>
  <cp:revision>4</cp:revision>
  <dc:subject/>
  <dc:title>Физико – географическое положение Австралии. Рельеф и полезные ископаемые.</dc:title>
</cp:coreProperties>
</file>