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D2BD-0A4E-47AC-9477-6CBBB144D9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0AF1-0E1C-49EF-A141-3C7075132F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F89-5E35-469B-8DC0-E477534D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AAC-90A8-4162-A013-680D5A50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89A-447C-4EA6-BA9D-CE55002C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C1F-9761-4BE5-9661-09FF3299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A57C-3569-46D3-AC23-36C70DB8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64F1-C7F8-45AA-A25A-3492370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2B0C-984B-4027-86B9-38823D61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7824-BAFC-485B-9AF4-D0F68F86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86D6-4D12-4E10-AE2D-55705965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8740-CDFC-4591-837B-FE83F96F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BB50-27F3-49C3-BBF6-A3E384AC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FAC-0DF1-4C2A-90C0-A492E213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31AF-81F2-4DA2-AB42-F09594F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6A36-116E-42DD-AEFC-CCBB248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4A68-23BD-4B51-AAE7-AE8E1371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D98D-20EB-4FE2-AB08-D98608E5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33C3-7384-40C3-BD03-42E2B0E2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65B-C3C6-470D-8364-B5788038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530-5E75-4D05-AA26-FD929089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2F9-D9AF-43CA-B64E-3961DAB9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43A-589B-4CDD-B782-186DC90C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905-0749-4F89-9F52-C151F0E8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0EB-D75D-4930-AB65-67C23FA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CB0-4D6F-48F0-B6AB-D78A3975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C885-874A-47C9-821F-8541AD40D8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D968-A00B-494A-960B-62833FE32B3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Физико – географическое положение Австралии. Рельеф и полезные ископаемые.</a:t>
            </a:r>
            <a:br>
              <a:rPr sz="5000"/>
            </a:br>
            <a:br>
              <a:rPr sz="50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одготовила : Л. В.  Шилохвостова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учитель географии Б-Чураковской средней школы 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цените собственные знания следующим образом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5406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всё понял(а), смогу объяснить этот материал друг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нял(а) материал, могу объяснить другому, но при помощи уч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нял(а) материал частич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ничего не понял(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540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300" spc="-1" strike="noStrike">
                <a:solidFill>
                  <a:srgbClr val="ffffff"/>
                </a:solidFill>
                <a:latin typeface="Arial"/>
              </a:rPr>
              <a:t>СПАСИБО ЗА УРОК</a:t>
            </a:r>
            <a:endParaRPr b="0" lang="en-US" sz="1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лжны знать и умет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700280"/>
            <a:ext cx="8591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ть ГП Австралии, координаты крайних то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ть и называть элементы береговой линии Австрал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нозировать влияние ГП на особенности рельефа матер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ывать имена путешественников – исследователей Австралии, их основные открытия и исслед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Австралия – это самый…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540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енький по площади (7,7 млн.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малонаселённый (около 20 млн. человек, г. Токио – 12 млн. челове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сух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низкий (средняя высота 215 м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спокойный (нет действующих вулкан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удивительный – это материк рели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йние точки Австралии и их координат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5406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ая - мыс Йорк -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4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жная – мыс Саут – ист – Пойнт - 3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адная – мыс Стип – Пойнт - 2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1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– мыс Байрон - 2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ю. ш., 1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верь себя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ов Тасмания. Остро Новая Зеланд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й Барьерный ри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афурское м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йский океан, Тихий оке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й Австралийский зал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сманово море. Коралловое м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остров Кейп – Йор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остров Арнемле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с Байрон, мыс Йорк, мыс Стип – Пойн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7e7ff"/>
                </a:solidFill>
                <a:latin typeface="Arial"/>
              </a:rPr>
              <a:t>Проблема: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66268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Австралию называют «самым спокойным» в геологическом отношении материком. Справедливо ли это утверждение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Ключ к тесту: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54064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 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 в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 б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– б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–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– б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- 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7e7ff"/>
                </a:solidFill>
                <a:latin typeface="Arial"/>
              </a:rPr>
              <a:t>Критерии оценок:</a:t>
            </a:r>
            <a:endParaRPr b="0" lang="en-US" sz="5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9 – 10 правильных ответов – вы успешно справились с работой – 5 балл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7 – 8 правильных ответов – вы неплохо усвоили материал – 4 бал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4 – 6 правильных ответов – вы были не слишком внимательны – 3 бал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 Менее 4 правильных ответов - к сожалению, вы плохо усвоили тему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ыберите домашнее задание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1680" y="1676520"/>
          <a:ext cx="8540640" cy="453528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– 10 правильных ответ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– 8 правильных ответ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ее 7 правильных ответо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ить малое «кругосветное» путешествие вокруг Австра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торить записи в тетради, выполнить географические задания «1,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 195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торить тему по учебнику – 5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20:38:29Z</dcterms:created>
  <dc:creator>Антош@</dc:creator>
  <dc:description/>
  <dc:language>en-US</dc:language>
  <cp:lastModifiedBy>Мама-Папа</cp:lastModifiedBy>
  <dcterms:modified xsi:type="dcterms:W3CDTF">2014-01-28T12:49:50Z</dcterms:modified>
  <cp:revision>4</cp:revision>
  <dc:subject/>
  <dc:title>Физико – географическое положение Австралии. Рельеф и полезные ископаемые.</dc:title>
</cp:coreProperties>
</file>