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4A3-43C9-42C8-8902-D253F6BF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C17-9466-49F7-A75E-1375B783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C2B-9A64-4588-B7C1-C7268D18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F41-C371-4774-B0FF-61889DE0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86A-AE2F-4D9C-B18D-5BE5FCC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126-9DA8-417B-8414-CA0CC5F9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048-FFEA-458C-816F-6B51D789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BCE-A1B5-4429-AB2A-F0DED19A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BE1-057B-463C-8480-1861550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DC9-4B8C-4C29-A012-30EC430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761-9750-46B9-A981-30076D2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1C5-E81B-452D-A901-5932936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6DB-7E72-41D0-BB49-2F6100C53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о-психологическая характеристика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процесс передач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мысловой аспект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юд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только слова, но и многие действия человека несут в себе смысл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ерба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верба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ун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муникативные барьеры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ческие препятствия, возникающие на пути передачи адекватн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восприятие и понимание людьми друг др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сприятие людьми друг друга в процессе общени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знание людьми друг дру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ффекты межличностного воспри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ффект «Ореола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формирование представлений о другом человеке или группе на основе сформированных ранее представл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ффект «Первичности» и эффект «Новизн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вязаны с порядком поступления новой информ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циальные стереотип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устойчивые, упрощенные, эмоциальнально-окрашенные образы какого-либо явления или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еханизмы взаимопонимания в процессе обще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е механизмы понимания человека человеком (Хайнц Хекхаузен)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ция, каузальная атрибуция, эмпа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2920" y="1999800"/>
            <a:ext cx="87868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проецир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неосознанном наделении другого чело­века собственными мотивами, приписывании ему переживаний и качеств, которые присущи самому оценивающ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клонен приписывать другому не только собственные свойства характера, но и некотор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ческие и мотивационные особенност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ти осуществляя проекцию всех возможных уровне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ирующих личность «другог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зальная атрибу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285920"/>
            <a:ext cx="84009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зальная атрибу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интерпретацию челове­ком причин и мотивов поведения других люде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писывания причин) (Г.Келли, Э.Джонс, К.Дэвис, Д.Кенноуз, Р.Нисбет, Л.Стрикленд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ое поведен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о с ролевыми образцами, поэтом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объясним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ипичное поведен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пуска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интерпрета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следовательно, дает простор приписыванию его причин и интерпрет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ы атрибу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840" y="1071720"/>
            <a:ext cx="8472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Хекхаузен различ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типа объяс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 действий других люде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сходя из личностных особенностей друг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сходя из особенностей ситу­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сходя из личностных особенностей другого и особенностей ситу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сходя из социокультурных возможностей друг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атрибуц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ая         Объектная           Субъект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ивные ст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т характер объяснения причин своих неудач, основанный на опыте, в зависимости от типа локуса контроля: интернальный-экстернальный (Дж.Роттер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ффективно-эмпатийный компонент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Эмпат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моциональный отклик на состояние другого, умение эмоционально «резонировать» с партнером по обще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эмпатии в определенных чертах сходен с механизмом идентификации: и там, и здесь присутствует умение поставить себя на место другого, взглянуть на вещи с его точки зрения. Однак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глянуть на вещи с точки зрения друг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значает отождествление с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я проявляю к нему эмпатию, я просто принимаю во внимание его линию поведения (отношусь к ней сочувственно), но свою собственную могу строить по-ин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механизмы межличностного познания по А. В. Петровск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уквально отождествление, умение «встать на место другого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ознание действующим индивидом того, как он выглядит со стороны, способность посмотреть на себя глазами друг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один из важнейших механизмов межличностного познания. Под влиянием окружающих и в силу взаимодействия с ними у каждого человека образуются более или менее конкретные эталоны, пользуясь которыми он дает оценку другим людя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реотип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200" y="928800"/>
            <a:ext cx="844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еот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екоторый устойчивый, упрощенный, эмоционально-окрашенный образ какого-либо явления или человека, который используют при взаимодействии с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. Н. Панферову, стереотипы подразделяются на три класса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нтропологические; 2) социальные; 3) эмоционально-экспресси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ругой классификации А. А. Ре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нтропологические, 2) этнонациональн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циально-статусные, 4) социально-ролев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экспрессивно-эстетические, 6) вербально-поведенческ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428760"/>
            <a:ext cx="82152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ожный многоплановый ПРОЦЕСС установления и развития контактов между людьми, порождаемый потребностями в сложной совместной деятельности и включающий в себя обмен информацией, выработку единой стратегии взаимодействия, восприятия и понимания другого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взаимодействие людей друг с друг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енные и временные характеристики взаимодействия («лицом к лицу», «здесь и теперь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и взаимодействия (диалогическое и монологическое; авторитарный, демократический, либераль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 взаимодействия (кооперация, конфлик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и взаимодействия в конфликтной ситуации по К. Томас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ерничество (конкуренция) – стремление добиться удовлетворения своих интересов в ущерб друг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 – принесение в жертву собственных интересов ради друг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с – урегулирование разногласий через взаимные уступ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стремление выйти из конфликтной ситуации, не решая 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– нахождение альтернативы, удовлетворяющей обе стор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нкци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сихологическая 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человека как индивида и личности,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нструментальная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ункция   определяет   многочисленные   связи между   человеком   и   миром;   между   различными   социальными групп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оциальная   —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ение   детерминирует   развитие   общества   как социальной системы и развитие групп как составляющих эту систе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посредственное 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посредован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свен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ый вид общения –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ас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левое и межлично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) конвенцион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) информацио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) интимно-лично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руг общен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» - число людей, с которыми общение осуществляется на том или ином уров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лог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ологическ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мператив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нипулятив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перативное (авторитарное) общение – директивное взаимодействие с партнером по общению с целью достижения контроля над его поведением, установками, мыслями, принуждение его к определенным действи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нипуляция – это вид психологического воздействия, используемый для достижения одностороннего выигрыша посредством скрытого побуждения другого к совершению определенных дейст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ая компете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кативная компетентность складывается из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а) способностей человека прогнозировать коммуникативную ситуацию, в которой предстоит общение; ориентироваться в ситуации, в которой он оказался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б) коммуникативного исполнительского мастерства, т.е. умения найти адекватную теме общения коммуникативную структуру и реализо­вать коммуникативный замысел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) способности разбираться в са­мом себе, собственном психологическом потенциале и потенциале партнер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уктура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ммуника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ерцеп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нтерак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21:05:27Z</dcterms:created>
  <dc:creator>Admin</dc:creator>
  <dc:description/>
  <dc:language>en-US</dc:language>
  <cp:lastModifiedBy>nebom zav</cp:lastModifiedBy>
  <dcterms:modified xsi:type="dcterms:W3CDTF">2015-02-05T13:22:37Z</dcterms:modified>
  <cp:revision>21</cp:revision>
  <dc:subject/>
  <dc:title>Социально-психологическая характеристика общения</dc:title>
</cp:coreProperties>
</file>