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7D1D-DA6D-4825-A064-BC46EC30C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7EB2-4452-4AE5-A9E8-F59BB7A69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8CDD-F42B-41A1-8775-AE1FB79F6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014E-F2D7-4953-A755-7317201C5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0964-9272-4D95-9E47-9C55574B7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50BD-33C1-4B00-9CA4-31675723A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7CFE-0F7D-4520-9292-D1B030129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FD54-680A-4E70-98C9-AC568F1EF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FFC8-58DA-40AB-A734-4CBC24CD6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8AC6-86C4-422E-A556-C1569C4A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297A-07FF-42D4-A3D0-9F1C9FF1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04DC-E6A6-421B-94DB-6E45B03C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812C8-7888-4761-8731-D31F41EFD7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rezentacija.biz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циально-психологическая характеристика общ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6559920" y="648828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prezentacija.biz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бщение, как процесс передачи информ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ммуникация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это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мысловой аспект взаимодейств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люде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только слова, но и многие действия человека несут в себе смысл: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ербальна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невербальна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коммуника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ммуникативные барьеры 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сихологические препятствия, возникающие на пути передачи адекватной информ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бщение, как восприятие и понимание людьми друг друг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000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Восприятие людьми друг друга в процессе общения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познание людьми друг друг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Эффекты межличностного восприят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Эффект «Ореола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формирование представлений о другом человеке или группе на основе сформированных ранее представлени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Эффект «Первичности» и эффект «Новизны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связаны с порядком поступления новой информаци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оциальные стереотипы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это устойчивые, упрощенные, эмоциальнально-окрашенные образы какого-либо явления или человек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Механизмы взаимопонимания в процессе общения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циальные механизмы понимания человека человеком (Хайнц Хекхаузен):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оекция, каузальная атрибуция, эмпат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2920" y="1999800"/>
            <a:ext cx="878688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зм проецировани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ается в неосознанном наделении другого чело­века собственными мотивами, приписывании ему переживаний и качеств, которые присущи самому оценивающем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 склонен приписывать другому не только собственные свойства характера, но и некоторые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веденческие и мотивационные особенности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ути осуществляя проекцию всех возможных уровней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ституирующих личность «другого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узальная атрибуц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85840" y="1285920"/>
            <a:ext cx="840096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узальная атрибуци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яет собой интерпретацию челове­ком причин и мотивов поведения других людей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иписывания причин) (Г.Келли, Э.Джонс, К.Дэвис, Д.Кенноуз, Р.Нисбет, Л.Стрикленд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ичное поведение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ано с ролевыми образцами, поэтому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ко объяснимо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ипичное поведение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пускает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жество интерпретаций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, следовательно, дает простор приписыванию его причин и интерпретац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арианты атрибуц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13840" y="1071720"/>
            <a:ext cx="8472600" cy="53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. Хекхаузен различает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ыре типа объяснен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ом действий других людей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исходя из личностных особенностей другого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исходя из особенностей ситу­аци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исходя из личностных особенностей другого и особенностей ситуаци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исходя из социокультурных возможностей другог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ы атрибуций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тивная         Объектная           Субъектна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рибутивные стил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жают характер объяснения причин своих неудач, основанный на опыте, в зависимости от типа локуса контроля: интернальный-экстернальный (Дж.Роттер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Аффективно-эмпатийный компонент общ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13840" y="78588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Эмпатия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эмоциональный отклик на состояние другого, умение эмоционально «резонировать» с партнером по общению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зм эмпатии в определенных чертах сходен с механизмом идентификации: и там, и здесь присутствует умение поставить себя на место другого, взглянуть на вещи с его точки зрения. Однако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глянуть на вещи с точки зрения другого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значает отождествление с ни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же я проявляю к нему эмпатию, я просто принимаю во внимание его линию поведения (отношусь к ней сочувственно), но свою собственную могу строить по-ином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новные механизмы межличностного познания по А. В. Петровском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28760" y="1213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нтификац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буквально отождествление, умение «встать на место другого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сознание действующим индивидом того, как он выглядит со стороны, способность посмотреть на себя глазами другог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еотипизац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ставляет собой один из важнейших механизмов межличностного познания. Под влиянием окружающих и в силу взаимодействия с ними у каждого человека образуются более или менее конкретные эталоны, пользуясь которыми он дает оценку другим людя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ереотип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14200" y="928800"/>
            <a:ext cx="844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ереоти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это некоторый устойчивый, упрощенный, эмоционально-окрашенный образ какого-либо явления или человека, который используют при взаимодействии с ни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. Н. Панферову, стереотипы подразделяются на три класса: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антропологические; 2) социальные; 3) эмоционально-экспрессивны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мках другой классификации А. А. Реана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антропологические, 2) этнонациональные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социально-статусные, 4) социально-ролевые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экспрессивно-эстетические, 6) вербально-поведенческ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28760" y="428760"/>
            <a:ext cx="82152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ни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ложный многоплановый ПРОЦЕСС установления и развития контактов между людьми, порождаемый потребностями в сложной совместной деятельности и включающий в себя обмен информацией, выработку единой стратегии взаимодействия, восприятия и понимания другого человек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бщение, как взаимодействие людей друг с друг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странственные и временные характеристики взаимодействия («лицом к лицу», «здесь и теперь»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или взаимодействия (диалогическое и монологическое; авторитарный, демократический, либеральный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арактер взаимодействия (кооперация, конфликт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тили взаимодействия в конфликтной ситуации по К. Томасу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85840" y="1600200"/>
            <a:ext cx="8572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перничество (конкуренция) – стремление добиться удовлетворения своих интересов в ущерб другом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пособление – принесение в жертву собственных интересов ради другог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ромисс – урегулирование разногласий через взаимные уступ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егание стремление выйти из конфликтной ситуации, не решая е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трудничество – нахождение альтернативы, удовлетворяющей обе сторон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ункции общ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Психологическая —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азвитие человека как индивида и личности,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Инструментальная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функция   определяет   многочисленные   связи между   человеком   и   миром;   между   различными   социальными группа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Социальная   —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бщение   детерминирует   развитие   общества   как социальной системы и развитие групп как составляющих эту систем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иды общ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непосредственное общ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опосредованное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ли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косвенное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щ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обый вид общения –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массов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Ролевое и межличностно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ровни общ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1) конвенциональ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2) информацион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3) интимно-личност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Круг общения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» - число людей, с которыми общение осуществляется на том или ином уровн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или общ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иалогическ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онологический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мперативны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анипулятивны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мперативное (авторитарное) общение – директивное взаимодействие с партнером по общению с целью достижения контроля над его поведением, установками, мыслями, принуждение его к определенным действия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анипуляция – это вид психологического воздействия, используемый для достижения одностороннего выигрыша посредством скрытого побуждения другого к совершению определенных действи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сихологическая компетент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оммуникативная компетентность складывается из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(а) способностей человека прогнозировать коммуникативную ситуацию, в которой предстоит общение; ориентироваться в ситуации, в которой он оказался;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(б) коммуникативного исполнительского мастерства, т.е. умения найти адекватную теме общения коммуникативную структуру и реализо­вать коммуникативный замысел;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(в) способности разбираться в са­мом себе, собственном психологическом потенциале и потенциале партнер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руктура общ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Коммуникативная сторон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Перцептивная сторон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Интерактивная сторон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8T21:05:27Z</dcterms:created>
  <dc:creator>Admin</dc:creator>
  <dc:description/>
  <dc:language>en-US</dc:language>
  <cp:lastModifiedBy>nebom zav</cp:lastModifiedBy>
  <dcterms:modified xsi:type="dcterms:W3CDTF">2015-02-05T13:22:37Z</dcterms:modified>
  <cp:revision>21</cp:revision>
  <dc:subject/>
  <dc:title>Социально-психологическая характеристика общения</dc:title>
</cp:coreProperties>
</file>