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81A-E517-4743-A759-3903ADAC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5C2-5006-4B2E-AFAA-B9DD833C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15E-7F13-4BAE-ABD5-5C9F436D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B1E-643C-4891-8FC4-2DD2BBCD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26B-96B9-418C-BA9D-3FA7F85A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177-EBB3-4934-BDA3-9E6E98E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098-2D9C-4B62-BC6D-F2093D18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FC7-78C6-4C0D-9F9C-C18442C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D98-6F5D-44C3-B3D8-1005B51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931-08F1-4238-ACFB-6792DBC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671-0B2B-47BE-9E17-2EADB35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8E3-B643-4DA3-A5D8-E397279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F75-174C-49A4-BD0D-1C11BFD6F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lovari.yandex.ru/~&#1082;&#1085;&#1080;&#1075;&#1080;/&#1041;&#1057;&#1069;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haroni"/>
              </a:rPr>
              <a:t>Семья как субъект педагогического взаимо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дагогика, РГ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95280" y="549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ДЕРЖАНИЕ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"/>
          <p:cNvSpPr/>
          <p:nvPr/>
        </p:nvSpPr>
        <p:spPr>
          <a:xfrm>
            <a:off x="324000" y="1484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76720" y="1484280"/>
            <a:ext cx="2447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м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5867280" y="1484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с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161928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уд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471636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9"/>
          <p:cNvCxnSpPr>
            <a:endCxn id="61" idx="0"/>
          </p:cNvCxnSpPr>
          <p:nvPr/>
        </p:nvCxnSpPr>
        <p:spPr>
          <a:xfrm flipH="1">
            <a:off x="1727280" y="1197000"/>
            <a:ext cx="2557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 flipH="1">
            <a:off x="4354200" y="1196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11"/>
          <p:cNvCxnSpPr/>
          <p:nvPr/>
        </p:nvCxnSpPr>
        <p:spPr>
          <a:xfrm>
            <a:off x="4427640" y="1197000"/>
            <a:ext cx="295344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7"/>
          <p:cNvCxnSpPr/>
          <p:nvPr/>
        </p:nvCxnSpPr>
        <p:spPr>
          <a:xfrm flipH="1">
            <a:off x="2410920" y="1124280"/>
            <a:ext cx="1945440" cy="136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>
            <a:off x="4356000" y="1197000"/>
            <a:ext cx="244872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Скругленный прямоугольник 23"/>
          <p:cNvSpPr/>
          <p:nvPr/>
        </p:nvSpPr>
        <p:spPr>
          <a:xfrm>
            <a:off x="3059280" y="3500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игио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6"/>
          <p:cNvSpPr/>
          <p:nvPr/>
        </p:nvSpPr>
        <p:spPr>
          <a:xfrm>
            <a:off x="395280" y="549360"/>
            <a:ext cx="835344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ОСПИТАТЕЛЬНЫЕ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лияние семьи на ребенка сильнее всех других воспитательных воздействий. С возрастом оно ослабевает, но никогда не утрачива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 семье формируются те качества, которые нигде, кроме как в семье, сформированы быть не мо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емья осуществляет социализацию личности, является концентрированным выражением её усилий по физическому, моральному и трудовому воспитанию. Из семьи выходят члены общества: какая семья – такое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емья обеспечивает преемственность тра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ажнейшей социальной функцией семьи является воспитание гражданина, патриота, будущего семьянина, законопослушного член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Существенное влияние оказывает семья на выбор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395280" y="1125360"/>
            <a:ext cx="8353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льшая советская энциклопе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ейное воспитание 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тическое целенаправленное воздействие на ребёнка взрослых членов семьи и семейного уклада. Главная и общая задача семейного воспитания 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етоды  семейного  воспитания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способы взаимодействия родителей с детьми, которые помогают последним развивать свое сознание, чувства и волю, активно стимулируют формирование опыта поведения, самостоятель­ную детскую жизнедеятельность, полноценное моральное и духовное развитие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6"/>
          <p:cNvSpPr/>
          <p:nvPr/>
        </p:nvSpPr>
        <p:spPr>
          <a:xfrm>
            <a:off x="395280" y="1341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ыбор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зависит от общей культуры родителей, их жизненного опыта, психолого-педагогической подготовки и способов организации жизнедеятельности. Использование тех или иных методов воспитания детей в семье также завис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 целей и задач воспитания, которые ставят перед собой родит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ношений в семье и образа жиз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числа детей в семь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родственных связей и чувств родителей, других членов семьи, которые часто склонны идеализировать возможности детей, преувеличивать их способности, достоинства, воспита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личностных качеств отца, матери, других членов семьи, их духовных и моральных ценностей и ориенти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пыта родителей и их практических умений при реализации комплекса воспитательных методов с учетом возраста и психофизиологических особенностей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БОР МЕТОДОВ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6" descr=""/>
          <p:cNvPicPr/>
          <p:nvPr/>
        </p:nvPicPr>
        <p:blipFill>
          <a:blip r:embed="rId2"/>
          <a:stretch/>
        </p:blipFill>
        <p:spPr>
          <a:xfrm>
            <a:off x="390600" y="1279440"/>
            <a:ext cx="836280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395280" y="134136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Невысокий экономический уровень большинства трудовых сем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Низкая культура общественной жизни, двойная мораль, лицемерие властей, социальная напряженность, неуверенность в завтрашнем д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Двойная нагрузка на женщину в семье – и на работу, и на сем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Высокий процент разводов. Развод – это всегда проблема воспитани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Бытующее общественное мнение, что муж лишь помогает жене в воспитании детей. Объявленное законом равное право отца и матери в воспитании детей на практике наруш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бострение конфликтов между поколениями (информация о семейных убийствах не исчезает со страниц пресс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Увеличение разрыва между семьёй и школой. Школа почти устранилась от выполнения роли помощника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ЧИНЫ НЕУДОВЛЕТВОРИТЕ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395280" y="1341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Безнадзорность, бесконтро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Гиперопека (жизнь ребенка находится под бдительным и неустанным надзором родителей; приказы, запре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оспитание по типу «кумира» (разновидность гиперопеки). Желания и просьбы ребенка беспрекословно вы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оспитание по типу «Золушки» (эмоциональная отверженность, безразличие, холодность к ребен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«Жестокое воспитание» (за малейшую провинность ребенка сурово наказывают, он растет в постоянном страхе.) К. Д. Ушинский указывал, что страх – самый обильный источник пороков (жестокость, озлобленность, приспособленчество, угоднич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оспитание в условиях повышенной моральной ответственности (с малых лет ребенку внушается мысль, что он обязательно должен оправдать многочисленные честолюбивые надежды родителей или же на него возлагаются недетские непосильные з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НОВНЫЕ ТИПЫ НЕПРАВИ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395280" y="112536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Физическое наказание вызывает физические, психические, нравственные травмы, которые в конечном итоге ведут к изменению поведения ребят. Так, у каждого второго наказуемого подростка возникают сложности в адаптации, приспособлении его к коллективу, почти у всех этих детей пропадает интерес к учебе. Ученые выделили это явление в особый феномен и назвали его СООСД (синдром опасного обращения с детьм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ИЗИЧЕСКОЕ 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356000" y="3357720"/>
            <a:ext cx="2230560" cy="2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732720" y="3357720"/>
            <a:ext cx="19555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2556000" y="98100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и воспитательный стиль родителей влияют на формирование различных форм зависимого поведен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27672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 (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366280"/>
            <a:ext cx="828036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негативного, отрицательного влия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бенок привлекает к себе внимание с помощью ссор, неподчинения указаниям родителей и требованиям, проявляет агрессивность.) Это связанно с недостатком внимания к ребенку со стороны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стоянного подтвержде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Извинения, просьбы обещаний, поиск защиты, утешения, помощи или руководства со стороны родителей.) Все это связано с высокими требованиями достижений ребенка со стороны обоих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262728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95280" y="2009880"/>
            <a:ext cx="8280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зитивного внима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оиск похвалы – включает усилия, направленные на получение одобрения от окружающих людей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ебывание поблизости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стоянное присутствие ребенка возле другого ребенка или группы детей либо взрослых.) Возникает из-за неопределенности, какое именно поведение заслуживает поощрения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икосновение и удержание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Обнимание, прикосновение, удержание других ребенком.) Возникает, если мать и отец лишены тревожности и требовательности и наблюдается атмосфера инфантилиз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392360" cy="329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4" name="Прямоугольник 4"/>
          <p:cNvSpPr/>
          <p:nvPr/>
        </p:nvSpPr>
        <p:spPr>
          <a:xfrm>
            <a:off x="468360" y="407664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социально-педагогическая группа людей, предназначенная для оптимального удовлетворения потребностей в самосохранении (продолжении рода) и самоутверждении (самоуважении) каждого её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4000" y="576360"/>
            <a:ext cx="3960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Семья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это основанная на браке или кровном родстве малая группа, члены которой связаны общностью быта, взаимной моральной ответственностью и взаимопомощью; в ней вырабатываются совокупность норм, санкций и образцов поведения, регламентирующих взаимодействие между супругами, родителями и детьми, детей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1692360" y="47628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95280" y="142632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айте определение понятия «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Назовите функ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 чем заключаются задачи семь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Расскажите о принципах и методах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 чем заключаются причины неудовлетворительного воспитания в сем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Назовите основные типы неправильного воспитания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Как поведение и воспитательный стиль родителей влияют на формирование различных форм зависимого поведения ребе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395280" y="126828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ласый И.П. Педагогика. - М.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рдовская Н.В., Реан А.А. Педагогика. Учебник для вузов. — СПб., 2000. (серия «Учебник нового век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яренко Л.Д., Самыгин С.И. Психология и педагогика в вопросах и ответах – Ростов – на – Дону,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 как объект социальной работы.// Соц. Работа.–выпуск № 7. – М., 199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 заведений/ под ред. В.А. Сластенина. — М.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заведений/ под ред. П.И. Пидкасистого. — М.,2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627280" y="4888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464000" cy="2998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7" name="TextBox 6"/>
          <p:cNvSpPr/>
          <p:nvPr/>
        </p:nvSpPr>
        <p:spPr>
          <a:xfrm>
            <a:off x="4932360" y="333360"/>
            <a:ext cx="3816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АТРИАРХАЛЬ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вместное хозяйство управлялось отцом, включая его потомков с их женами и детьми, а также домашних ра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24000" y="3586680"/>
            <a:ext cx="84960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ой из основных функций патриархальной семьи являлось продолжение рода, связанное с воспитанием детей – передачей им накопленного опыта, формированием трудовых навыков, сообщение знаний о традициях, обычаях и принятых нормах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Familia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лат.) – в Древнем Риме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) семейная хозяйственно-юридическая единица, в состав которой входили и раб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) совокупность рабов, принадлежащих одн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395280" y="0"/>
            <a:ext cx="8353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УКЛЕАР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мья, состоящая из родителей и детей, находящихся на их иждивении и не состоящих в браке. В нуклеарной семье на первый план выдвигаются отношения мужа и жены, а не кровнородственные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38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1" name="Rectangle 3"/>
          <p:cNvSpPr/>
          <p:nvPr/>
        </p:nvSpPr>
        <p:spPr>
          <a:xfrm>
            <a:off x="395280" y="538344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ующее влияние изменяется по характеру (активную роль приобретает система общественного воспитания, пример родителей перестаёт быть главным фактором социализации личности, ребенок приобретает большую автономию в семье), но значения своего как основного института воспитания семья не утрачи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395280" y="549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быта и ведение хозяй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физических и духовных с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й деятельности, для полноценного развития каждого члена семь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и дос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армонии интимных отношений супр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395280" y="5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МЕЙ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ое воспитание – это система воспитания и образования, складывающаяся в условиях конкретной семьи силами родителей и родствен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982520" cy="27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484360" y="306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5292720" y="3141720"/>
            <a:ext cx="3382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395280" y="54936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оздать максимальные условия дл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беспечить социально-экономическую и психологическую защит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дать опыт создания и сохранения семьи, воспитание в ней детей и отношение к стар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учить детей полезным прикладным навыкам и умениям, направленным на самообслуживание и помощь близ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оспитать чувство собственного достоинства, ценности собственного «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395280" y="549360"/>
            <a:ext cx="8353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НЦИП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Гуманность и милосердие к растущему челов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овлечение детей в жизнедеятельность семьи как её равноправных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ткрытость и доверительность отношений с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птимистичность взаимо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оследовательность в своих требованиях (не требовать невозможног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Оказание посильной помощи своему ребенку, готовность отвечать на его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395280" y="549360"/>
            <a:ext cx="8353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ИЛА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Запрещение физических 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Запрещение читать чужие письма и днев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Не мор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е говорить слишком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Не требовать немедленного повинов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е потакать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53:12Z</dcterms:created>
  <dc:creator>Valued eMachines Customer</dc:creator>
  <dc:description/>
  <dc:language>en-US</dc:language>
  <cp:lastModifiedBy>Valued eMachines Customer</cp:lastModifiedBy>
  <dcterms:modified xsi:type="dcterms:W3CDTF">2010-11-26T07:29:32Z</dcterms:modified>
  <cp:revision>17</cp:revision>
  <dc:subject/>
  <dc:title>Семья как субъект педагогического взаимодействия</dc:title>
</cp:coreProperties>
</file>