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4093-CFDB-4F71-AD3F-5155E5FEC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31DD-8736-4D1C-B0B4-C6908D5FD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C6CB-22F2-489F-87B6-DE5CFF65A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F6AD-0F40-4623-94B4-439693246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31DCE-C639-46CF-BE0D-B72742D1B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815BF-FF41-4C11-8A4B-0F462B64E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4C793-5CB5-4880-815E-03D9C1A20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CF0C8-35F7-44F0-ACAC-989E47D2D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74282-B70A-4E58-A700-E15F48285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CA496-60EA-4D45-9D29-EAB804839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F150F-A0A8-4EDE-90C7-5BBB4E972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1C3B-D4A0-49B5-976C-401C110E4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63477-B7CB-486C-96E9-D3419AF8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02871-C9D5-4B71-9CB8-62F43F5EA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24DDE-5FF6-469B-93BE-8F8113322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601EA-2B46-4326-AC7E-E3AF80124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8B128-0C70-4246-A8A8-A324D9191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34598-B71A-4996-A320-D05DF713F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440CE-F4CC-406D-964B-7AB4F1F05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CE2E1-6643-485B-888B-85AF538B8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1507F-EE5B-4A8D-B7CC-DC120BC9E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29BB9-D609-444F-8744-B74B0B2FA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ACF3-EE11-4358-A8F2-AB67F5E23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09E4A-A405-4C10-89C4-E09CE3B16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522BE-A433-4E1F-8C3F-264F22E6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61B80-52EE-4B4D-A154-7FA89181A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AB27A-0435-43D4-8782-01A6974D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8CC85-C52A-4CC7-BDF7-60D91CE81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FEBD3-2287-4127-ABC7-E0B2C656B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531E1-517E-49FA-8763-6B51C3319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51638-25B2-4758-9F12-0853D54A4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703B0-49C9-46FE-B2E4-9F146B445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E5D01-7A7C-4347-A38F-D296F7867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B552-CEE4-46DF-9403-F678C0F45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566A1-9895-497A-B36F-BDB5C596E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637FA-849B-451D-B970-8791D4EC0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E4771-E479-4CFB-8296-72DF47438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77D24-3490-4320-8ED0-F187F4DD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E402C-90A4-4073-BB66-887B79BC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9FDD1-CF8E-4A22-8447-A5F81D0E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FC881-0ACA-4750-B1F5-35ED4CE41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D156C-C025-4D22-877E-1634495B6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91221-4476-4432-87E9-950539341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6957C7-2E88-49A6-A24C-134581399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5FAB-D017-49C3-B2BB-27AFEDA3C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25E44-9D8D-4D63-9D0B-95E4EC015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31AED0-05AC-4CC0-BEBA-B7E4E0EA5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FED42-DC34-4535-B63C-4370593BF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A9FB2-9692-4867-9CCF-7144E60A3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251CC-1D91-465F-A86F-018B4C588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5F8592-04B6-4F51-A786-58C62415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E93CC2-473E-4268-9731-BD4280E3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F01D6-6E6D-4544-BB1F-9B36548A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3BF17-0FBB-4246-B8F0-091A6AF91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C3070-F134-418B-81E1-CF221DA67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AF4E-8A3A-4F8D-A247-4A3A65074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95A2E2-BD43-4356-9B3A-02A9A0698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C0513F-A6B2-4D3B-B972-9256DF187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73F990-D033-42BE-8267-6155EA90E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27E341-D1E1-486B-8B6B-7A8F8E907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D6425A-4DA5-4EE5-8DB6-005DD72EC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227B1E-A736-4233-B919-FA1B87DD9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528BDD-31C0-40C8-A2FF-85F63E8EF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04B80F-F76C-4C40-B799-2D89BFAA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7EA633-6F56-43EF-95ED-C7EA7AC43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4C199A-C753-4AAC-AFCD-BAED414EE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D39C-3372-4B3E-AD00-161DC4CE2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40DAAC-2861-4768-9ADE-7D0109CC8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98EEDC-6EC5-499B-AFBB-099780E49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4DA127-ECFB-48D2-B676-8578EBE5C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620436-6AB6-4EDB-9306-1DD1B9FC9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AC7D0E-9134-4ABE-A31E-51518CE8D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E4B459-2A11-43D6-A8B3-158BAB757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901698-D1C3-431D-BAE2-DE7C71984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DDACEA-07E2-43F5-9514-EA74FCFDD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2252FB-1022-4F9C-871E-239B63808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DFFCEC-F3BF-4F45-8DD0-FDAF45163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D96C-43D5-436E-A247-4C3073A1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CF9ECB-3235-4313-B8E0-4414251E6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2BBD8A-8ED9-4A35-9971-20D16ABD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3B3394-DB73-4CFE-8098-9719EF4FA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7AA422-BF93-4082-B432-9AA325935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6E648D-D899-467F-A91C-84AEFCFE8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55030E-DFC6-4618-85ED-8829A4D28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B547C0-270C-468E-BA81-DEF83CA7A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34F635-93FE-46FE-9540-968C82A3C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BC8562-43FC-48C3-9974-B61358362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CEA26C-DCD6-4345-AE13-4A0A958A2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9C2A-22A2-450B-877D-981766F24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CD2BE7-1514-45D6-83DF-CB459F8A6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35D2F0-71DC-4F48-B1AA-F44E5E7E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3463A9-F69B-4DDD-972E-0CCFE879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1BDFB5-7F67-4174-8B5F-12821DEB8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4A6ED8-7504-4D0D-8145-241E3D3C7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787CF4-9477-4580-AFA1-9C00BA24C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51458B-E06E-4C81-B251-93823BB2D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A0570-D681-49DF-99AC-EF73A538FA0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F92C5-FD52-4F0C-9D3E-2CB1291BE64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4460F-8258-4141-8D94-DF487350885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CBA53-1D05-4901-BD7F-BD0F3506238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5024C-7BA0-47F7-9526-3F2D4E97D54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C8F1E-DB10-4036-A366-E61C0764030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45FD4-3542-4938-89E3-6B681DDB835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BAD14-A004-4053-8DA8-631A0EF13AC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prezentacija.biz/" TargetMode="Externa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5" descr="3eef86e13f86991f8d4edcc1c48e159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71629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bbe004"/>
              </a:solidFill>
              <a:latin typeface="Lucida Sans Unicod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3657600" y="4572000"/>
            <a:ext cx="45720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Lucida Sans Unicode"/>
              </a:rPr>
              <a:t>Работу выполнил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Lucida Sans Unicode"/>
              </a:rPr>
              <a:t>Ст.гр. 23 ДО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Lucida Sans Unicode"/>
              </a:rPr>
              <a:t>Владимирова Н.Ю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WordArt 4"/>
          <p:cNvSpPr txBox="1"/>
          <p:nvPr/>
        </p:nvSpPr>
        <p:spPr>
          <a:xfrm>
            <a:off x="380880" y="1295280"/>
            <a:ext cx="701064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Личность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74" name="Прямоугольник 5"/>
          <p:cNvSpPr/>
          <p:nvPr/>
        </p:nvSpPr>
        <p:spPr>
          <a:xfrm>
            <a:off x="3371400" y="324468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8119"/>
                </a:solidFill>
                <a:uFillTx/>
                <a:latin typeface="Arial"/>
                <a:hlinkClick r:id="rId2"/>
              </a:rPr>
              <a:t>http://prezentacija.biz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4" descr="3eef86e13f86991f8d4edcc1c48e159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это переживания человеком своего отношения к предметам и явлениям действительности к тому, что он познает в себе и в других людях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Rectangle 2" descr=""/>
          <p:cNvPicPr/>
          <p:nvPr/>
        </p:nvPicPr>
        <p:blipFill>
          <a:blip r:embed="rId2"/>
          <a:stretch/>
        </p:blipFill>
        <p:spPr>
          <a:xfrm>
            <a:off x="450720" y="201600"/>
            <a:ext cx="8242560" cy="1225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98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898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4" descr="3eef86e13f86991f8d4edcc1c48e159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т. е. заинтересованность в той или иной деятельности, предмете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Rectangle 2" descr=""/>
          <p:cNvPicPr/>
          <p:nvPr/>
        </p:nvPicPr>
        <p:blipFill>
          <a:blip r:embed="rId2"/>
          <a:stretch/>
        </p:blipFill>
        <p:spPr>
          <a:xfrm>
            <a:off x="450720" y="201600"/>
            <a:ext cx="8242560" cy="1225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98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98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4" descr="3eef86e13f86991f8d4edcc1c48e159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так называемые жизненные позиции личности, ее предубеждения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0" name="Rectangle 2" descr=""/>
          <p:cNvPicPr/>
          <p:nvPr/>
        </p:nvPicPr>
        <p:blipFill>
          <a:blip r:embed="rId2"/>
          <a:stretch/>
        </p:blipFill>
        <p:spPr>
          <a:xfrm>
            <a:off x="450720" y="201600"/>
            <a:ext cx="8242560" cy="1225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98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98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5" descr="3eef86e13f86991f8d4edcc1c48e159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2" name="WordArt 4"/>
          <p:cNvSpPr txBox="1"/>
          <p:nvPr/>
        </p:nvSpPr>
        <p:spPr>
          <a:xfrm>
            <a:off x="457200" y="838080"/>
            <a:ext cx="7848720" cy="586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пасибо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за внимани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-7386480" y="99072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5" descr="3eef86e13f86991f8d4edcc1c48e159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 txBox="1"/>
          <p:nvPr/>
        </p:nvSpPr>
        <p:spPr>
          <a:xfrm>
            <a:off x="263520" y="2666880"/>
            <a:ext cx="73864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динамичная, относительно устойчивая целостная система интеллектуальных, социально-культурных и морально-волевых качеств человека, выраженных в индивидуальных особенностях его сознания и деятельност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8" name="WordArt 4"/>
          <p:cNvSpPr txBox="1"/>
          <p:nvPr/>
        </p:nvSpPr>
        <p:spPr>
          <a:xfrm>
            <a:off x="762120" y="0"/>
            <a:ext cx="601956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2006de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ичность: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2006de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3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5" descr="3eef86e13f86991f8d4edcc1c48e159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 txBox="1"/>
          <p:nvPr/>
        </p:nvSpPr>
        <p:spPr>
          <a:xfrm>
            <a:off x="263520" y="2819160"/>
            <a:ext cx="738648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оциальная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Индивидуальность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WordArt 4"/>
          <p:cNvSpPr txBox="1"/>
          <p:nvPr/>
        </p:nvSpPr>
        <p:spPr>
          <a:xfrm>
            <a:off x="1905120" y="914400"/>
            <a:ext cx="54864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Черты личности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30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30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30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19" descr="3eef86e13f86991f8d4edcc1c48e159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пособности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Темперамент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Характер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олевые качества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Эмоции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Мотивация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оц. установ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6" name="WordArt 4"/>
          <p:cNvSpPr txBox="1"/>
          <p:nvPr/>
        </p:nvSpPr>
        <p:spPr>
          <a:xfrm>
            <a:off x="3124080" y="304920"/>
            <a:ext cx="5791320" cy="156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труктура личност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4" descr="3eef86e13f86991f8d4edcc1c48e159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это психические особенности человека, позволяющие  ему с той или иной степенью успешности овладевать деятельностью, совершенствоваться ею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Rectangle 2" descr=""/>
          <p:cNvPicPr/>
          <p:nvPr/>
        </p:nvPicPr>
        <p:blipFill>
          <a:blip r:embed="rId2"/>
          <a:stretch/>
        </p:blipFill>
        <p:spPr>
          <a:xfrm>
            <a:off x="450720" y="201600"/>
            <a:ext cx="8242560" cy="122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3eef86e13f86991f8d4edcc1c48e159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индивидуальную своеобразную и природно обусловленную совокупность динамических проявлений психики – интенсивности, скорости, темпа, ритма, психических процессов и состояний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Rectangle 2" descr=""/>
          <p:cNvPicPr/>
          <p:nvPr/>
        </p:nvPicPr>
        <p:blipFill>
          <a:blip r:embed="rId2"/>
          <a:stretch/>
        </p:blipFill>
        <p:spPr>
          <a:xfrm>
            <a:off x="450720" y="201600"/>
            <a:ext cx="8242560" cy="122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4" descr="3eef86e13f86991f8d4edcc1c48e159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304920" y="1066680"/>
            <a:ext cx="716256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Lucida Sans Unicode"/>
              </a:rPr>
              <a:t>Холеристический – </a:t>
            </a:r>
            <a:r>
              <a:rPr b="0" i="1" lang="ru-RU" sz="2000" spc="-1" strike="noStrike">
                <a:solidFill>
                  <a:srgbClr val="000000"/>
                </a:solidFill>
                <a:latin typeface="Lucida Sans Unicode"/>
              </a:rPr>
              <a:t>сильный тип темперамента.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 Преобладание возбуждения над торможением в нервной системе. Подвижность, бурные эмоции, резкие смены настроения. В критические моменты – высокая концентрация сил.</a:t>
            </a:r>
            <a:r>
              <a:rPr b="0" i="1" lang="ru-RU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Lucida Sans Unicode"/>
              </a:rPr>
              <a:t>Сангвистический </a:t>
            </a:r>
            <a:r>
              <a:rPr b="0" i="1" lang="ru-RU" sz="2000" spc="-1" strike="noStrike">
                <a:solidFill>
                  <a:srgbClr val="000000"/>
                </a:solidFill>
                <a:latin typeface="Lucida Sans Unicode"/>
              </a:rPr>
              <a:t>– сильный тип темперамента.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 Характеризуется быстротой реакции, высокой психической активностью, богатством мимики, контактностью, высокой сопротивляемостью трудностям, уравновешенностью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Lucida Sans Unicode"/>
              </a:rPr>
              <a:t>Флегматический </a:t>
            </a:r>
            <a:r>
              <a:rPr b="0" i="1" lang="ru-RU" sz="2000" spc="-1" strike="noStrike">
                <a:solidFill>
                  <a:srgbClr val="000000"/>
                </a:solidFill>
                <a:latin typeface="Lucida Sans Unicode"/>
              </a:rPr>
              <a:t>– сильный тип, 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СВЯЗАН С МЕДЛИТЕЛЬНОСТЬЮ, ИНЕРТНОСТЬЮ, УСТОЙЧИВОСТЬЮ В НАСТРОЕНИИ, СЛАБЫМ ПРОЯВЛЕНИЕМ ЭМОЦИЙ, НИЗКОЙ ПСИХИЧЕСКОЙ АКТИВНОСТЬЮ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Lucida Sans Unicode"/>
              </a:rPr>
              <a:t>Меланхолический </a:t>
            </a:r>
            <a:r>
              <a:rPr b="0" i="1" lang="ru-RU" sz="2000" spc="-1" strike="noStrike">
                <a:solidFill>
                  <a:srgbClr val="000000"/>
                </a:solidFill>
                <a:latin typeface="Lucida Sans Unicode"/>
              </a:rPr>
              <a:t>– слабый тип. 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Ему свойственны сдержанность речи и движений, низкий уровень психической активности, ранимость, преобладание отрицательных эмоций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Rectangle 2" descr=""/>
          <p:cNvPicPr/>
          <p:nvPr/>
        </p:nvPicPr>
        <p:blipFill>
          <a:blip r:embed="rId2"/>
          <a:stretch/>
        </p:blipFill>
        <p:spPr>
          <a:xfrm>
            <a:off x="212760" y="66600"/>
            <a:ext cx="7493040" cy="101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4" descr="3eef86e13f86991f8d4edcc1c48e159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овокупность существенных, устойчивых черт личности, которые проявляются в отношении человека к действительности и накладывают отпечаток на его поведение и поступки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Rectangle 2" descr=""/>
          <p:cNvPicPr/>
          <p:nvPr/>
        </p:nvPicPr>
        <p:blipFill>
          <a:blip r:embed="rId2"/>
          <a:stretch/>
        </p:blipFill>
        <p:spPr>
          <a:xfrm>
            <a:off x="450720" y="201600"/>
            <a:ext cx="8242560" cy="1225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98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898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4" descr="3eef86e13f86991f8d4edcc1c48e159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это психический процесс, возникающий при преодолении человеком с помощью усилий внутренних и внешних препятствий для достижения поставленной цели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1" name="Rectangle 2" descr=""/>
          <p:cNvPicPr/>
          <p:nvPr/>
        </p:nvPicPr>
        <p:blipFill>
          <a:blip r:embed="rId2"/>
          <a:stretch/>
        </p:blipFill>
        <p:spPr>
          <a:xfrm>
            <a:off x="450720" y="201600"/>
            <a:ext cx="8242560" cy="1225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98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98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ebom zav</cp:lastModifiedBy>
  <dcterms:modified xsi:type="dcterms:W3CDTF">2015-02-05T12:58:05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