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408-8F13-4823-8261-57A357B0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14E-A954-439C-B623-E0DF1A15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E4B-E6C5-4ECB-8584-630DC2CB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AAC-048A-4609-A275-04C6DC6C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5B3-B2AE-40AE-A0BE-B02D844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F88-F573-4CBA-BAFC-EA619B6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AFD-7BA8-416C-88D6-0968F69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C27A-B25F-4EFC-A4A8-907742B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B95A-025C-435F-825D-B0F3F2ED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CB2-B969-4336-A870-B35D4918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948-DD3A-4516-9FB5-18E841E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A19-5842-43F2-8D1E-2D7AE08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022-2980-42E0-8F5A-39CAE1ED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2BBD-072A-46EB-8BDC-33D3A89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C36-68E5-48DB-9184-81D7703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3C2-6CC2-4A4E-87EE-500743EE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B9C2-7A08-47AA-AFA6-DF82CFC6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1058-1407-4A9E-87DC-E0C7ABB7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BB51-BB86-4CAE-83F0-DFD72C49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BF9B-8F26-493D-9872-13516F9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890A-B455-48A5-BC97-25BE882C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367B-F5E8-45D6-86D0-5337DB23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A87-48AD-4988-876C-9FD3A39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D368-30C1-4222-9433-52D11F2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178C-73F7-4165-9D7A-83EFDEF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D8D5-E24F-42B0-AE91-9157A9B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A8DD-2F39-48E4-BB78-5BF1D7C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8AB7-824F-43FC-836B-B8D7BC2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986E-CEDC-4D60-AE7B-B2F854F6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798F-946F-45E6-BE12-ABA08B09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B7FA-28BB-4983-A255-34142EBA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8D74-E79D-4A83-943E-EB78734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A0E1-3AC0-4336-AAF6-A9540237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01D-0117-4496-A107-07DE24B2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0239-70E1-4914-8321-D3EC3423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D639-4A56-4123-AB8A-500D612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59BA-5225-44B9-8C26-5A3280AB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43F5-57F0-485A-97AD-A8BF862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0C49-AF71-414D-AC78-7174729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78AA-E018-42F3-AEB6-113955F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1591-E4DB-4E98-AA59-D97C175B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CF34-88F6-4AE5-BE2B-F5368B31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68D2-61F4-465E-B686-F67CE4E7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550B-99FC-40C0-9536-8A2DF08B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396-5254-422B-984A-46941D1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E702-24F0-43AA-8DDC-6E8D313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1BF5-0D0A-46DA-8841-D89256A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0DC2-3A40-4055-B4A3-48EA2F4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613A-409B-40A4-AD8F-5E85CBD2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9FDA-C71A-4725-B0A4-E7243DB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06AAF-74A5-4FAF-A887-92FEDCF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302E6-303D-485D-9459-83E27CF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00ACD-8BD0-4E34-9F0A-DD5157E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DC61-DCB6-446A-AB96-EC70AC81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CB0C-1965-4579-9E09-3E273728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1D7-3D9A-47D4-AD80-D8E8C35E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0440-B9F9-48BC-A1CC-3C6ED180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C644-B1A9-462A-9396-49F5BC4D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D26A-0639-428C-96FC-491440D3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B147-0421-4BC7-A50B-90DB875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5CCB-B238-4431-8A47-C420F3D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FF69-D3A2-430A-B0CB-C4A6A958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A547-E7B7-4DF2-920F-9E9D5595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89C9-EE2B-4C0A-AEB3-2A2EE7E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07CF-74A6-4573-B568-40D9A2A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1413-1883-450C-B198-FD83FA9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26E-6FE1-4052-AD0C-C18D07F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AE2C-2B73-4792-A388-76EAEB1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8564-D9A1-496A-9CD7-83F055B8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18C0-09C1-494E-AD51-9D0E9853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D03D-AFFD-4FA3-8341-A901CC22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6F12-64FA-4E3C-995E-F2456278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C864-2415-4357-9EC0-9DF5D07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A972A-CE04-4D23-94A3-EEC82A3E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62F9-9D5B-4FB2-88CC-83E6848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12A9-9EE1-4F78-8E9E-0C339F7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6417-3A01-4934-83A0-7D33707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2D4-F834-4609-BC74-A4D4A1B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617A3-2BF9-4EE2-B4B1-D733EA27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4206-8D79-433C-BC6F-E7D674F5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54D6-9EEE-4D0C-8EF8-91BA890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9DCBE-4ABC-4733-AA9E-58801241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864C-5DD0-4A84-9920-CDAF0C23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8421-8A71-4F27-851F-CB9E18B6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6475-2198-49B6-9C52-0B799B1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B7563-0450-49BC-BD56-83221267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C0AF4-26D5-446B-987A-8B9A7F9C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A173-ADB3-4874-B2E4-F63D334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78E-6F25-40F1-A4A8-E5B6A014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6EFB-B124-4344-A842-EECCF63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DCB2-15AE-4CE4-8AEC-57FB0F0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68FD-3A2C-4436-A2CF-2EFC2F5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7041-57D5-43F0-9136-33B67DD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46516-9481-4E39-8C7E-ACFD50E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8266-A0AC-42D1-AA10-B2326C7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3BF1B-86C7-4AAC-80B3-48667BC3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0A0-1990-478F-BD42-00F936B0E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970-E4F4-4CE2-AF1D-7D736792C1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12D-9523-4537-AA51-3B37EE8717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2A9-618E-4991-BC63-BA20292C75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DB10-E942-4A5D-8DB2-25AC933F86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9025-273F-4AAA-8A96-33F40EEEC7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A20-54B4-467C-9B0F-CDE4EA3533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9FB-878D-4F2B-AC54-F0EFEBDA1B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rezentacija.biz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bbe004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боту выполни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Ст.гр. 23 Д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ладимирова Н.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380880" y="1295280"/>
            <a:ext cx="7010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чнос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3371400" y="32446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ереживания человеком своего отношения к предметам и явлениям действительности к тому, что он познает в себе и в других людя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. е. заинтересованность в той или иной деятельности, предм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называемые жизненные позиции личности, ее предубежд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WordArt 4"/>
          <p:cNvSpPr txBox="1"/>
          <p:nvPr/>
        </p:nvSpPr>
        <p:spPr>
          <a:xfrm>
            <a:off x="457200" y="838080"/>
            <a:ext cx="7848720" cy="58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738648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63520" y="2666880"/>
            <a:ext cx="7386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инамичная, относительно устойчивая целостная система интеллектуальных, социально-культурных и морально-волевых качеств человека, выраженных в индивидуальных особенностях его сознания и деяте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762120" y="0"/>
            <a:ext cx="6019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006de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2006de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263520" y="2819160"/>
            <a:ext cx="7386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иальна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ос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1905120" y="9144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ерты личност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9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перамент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арактер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левые каче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мо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тив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. устан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3124080" y="304920"/>
            <a:ext cx="57913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ктура лич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е особенности человека, позволяющие  ему с той или иной степенью успешности овладевать деятельностью, совершенствоваться ею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ую своеобразную и природно обусловленную совокупность динамических проявлений психики – интенсивности, скорости, темпа, ритма, психических процессов и состоян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304920" y="10666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Холеристический –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Преобладание возбуждения над торможением в нервной системе. Подвижность, бурные эмоции, резкие смены настроения. В критические моменты – высокая концентрация сил.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ангвис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Характеризуется быстротой реакции, высокой психической активностью, богатством мимики, контактностью, высокой сопротивляемостью трудностям, уравновеш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Флегма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,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ВЯЗАН С МЕДЛИТЕЛЬНОСТЬЮ, ИНЕРТНОСТЬЮ, УСТОЙЧИВОСТЬЮ В НАСТРОЕНИИ, СЛАБЫМ ПРОЯВЛЕНИЕМ ЭМОЦИЙ, НИЗКОЙ ПСИХИЧЕСКОЙ АКТИВ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ланхол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лабый тип.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Ему свойственны сдержанность речи и движений, низкий уровень психической активности, ранимость, преобладание отрицательных эмо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12760" y="66600"/>
            <a:ext cx="749304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вокупность существенных, устойчивых черт личности, которые проявляются в отношении человека к действительности и накладывают отпечаток на его поведение и поступ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й процесс, возникающий при преодолении человеком с помощью усилий внутренних и внешних препятствий для достижения поставленной цел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2:58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