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1BA-C12D-462B-B427-3A47F7BB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7C9-C86D-40C1-86DC-482559D4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C92-C103-4DC5-A416-5B412A0D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CE0-CDFE-4846-AE8C-4432FDD2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5DD0-60D2-450C-958B-17EBFE26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CE6D-7050-443D-ACDD-4F780A07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7AF9-1934-4FF2-BA74-155F8D30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900F-7E91-46E2-822C-EB057C39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3497-0D03-4201-83DB-2E10F22F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35D7-D8EA-4A2F-BAF1-9D0281A0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7098-A30E-4EB1-B27F-1A8BEDAB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213-88D1-479C-80AB-08EEC399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A382-DBBB-422F-A548-BEDD4A37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FA67-5C0F-46A2-BB77-7A0E29C1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BD08-C1DA-4996-887C-F118FD3D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A3DD-F561-4155-B18F-C5381991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026A-C54B-46FC-9602-AC6E660C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B29D-5C08-47CA-B1ED-A5AEF505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53A9-FD66-4449-8627-F37A6D30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D7A2-09B2-4521-BB36-E1A0982B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34A1-DDE4-45EB-A84E-692B0D31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C12BF-6B1A-4D38-9F39-B3B64F82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01E-7835-473C-9116-8E987B31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FD6D-E4D7-441E-A154-183874D4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4136-BD59-4FD7-A997-107FDAB3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6462-EFA7-496C-8A6C-02E3934A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3F28-AC65-498D-95E5-226B847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84BA-4A16-4790-9C2C-2C2AB153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01E1-7426-4682-8505-C7A49174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0AC9-1337-4A00-9805-A4E73722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8681-D934-49A7-B507-05155AEA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822B-098D-4AD2-9377-90C555B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A2BFC-C6FC-4703-A380-5656FFC9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173-862F-4760-AA6C-0E41016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3774-5B4F-48DA-B1D7-62088DDB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B0BA-13C4-4B4D-A920-A8C16B87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8C28-0E32-4AE7-A9B5-63EBF2A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8F08-6BAA-4403-B483-A68B4BB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A35D3-9820-4FF5-BB65-1482BAE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4EDE-F07F-4CD6-8D67-B05AD58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E865-D78C-4FF6-888E-4BA02BBF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F9F5-5B03-43D8-AEAF-AD7B2E6A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328C-DB63-4F7F-AD50-29DBC731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E91F1-6F2D-4C22-8CCA-A8C71246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9F6-806E-47B8-9BA7-103A64DF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ED16F-3A4F-4D57-8CD8-BE42FC3D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7917-742A-4410-89D5-5A08CCCF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DA70-80F3-4642-9DDC-A874C8D5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655A-DBF9-4FD0-88BD-012FD30F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545F-2846-4A0A-9D59-B461F25F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741E-FE4C-489C-BA12-739AAB57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A4046-DD6E-417F-8899-D7188BBA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ECFE4-5701-45A5-98D5-D7AB445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5620E-57C6-4E94-ABE4-9DDBB00E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EA1D-E54F-42C9-A942-1249010A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404-1E7F-410A-ACBB-2849142C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CAEC2-DEE3-4EC0-AA07-A75F590A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37B87-CAFC-43D0-9AD0-19990870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86925-3DC4-4854-8199-A8734E4E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53C26-6F65-43F7-B55B-8B9467AC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E04F-03F8-4649-AFF8-EF1F19F7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F8771-E923-4F1A-B541-255FC3FB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D6CD-E8CF-489F-909C-F2B2B4AE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AC08B-F921-4C55-B70A-2965025B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89B64-46D8-4F46-A4B8-AAE1C5E5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CE9D1-DA1E-41B9-AD87-7CD50F2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98C-8E82-46DF-9CB5-091EC91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F588-CBF8-4AE6-8804-B259BCC2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2A5A2-6629-4FCF-A333-EBBC40D7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919B3-AA4B-41B5-8E74-98C6D63D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2C35A-4190-433E-8582-7A23136F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8136A-44F3-493F-B205-35645400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17768-AD9A-45BB-80FB-C522F822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CA1EC-BA22-479D-A0D0-7F20FEAB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E962B-F38E-4F5E-BB43-10931775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1817E-4255-4046-A314-42784110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26966-D71B-4571-BC8B-7329EE4D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1F4-5E6A-4E32-B7E4-6BE38A6E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EDB25-AFAC-49EE-A371-81CC01CD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A96CF-0A0A-4857-AF49-E58875BD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BB03D-E094-4E01-9F13-D5CF008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A3CA-98B8-4584-BBAD-38D94C5D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2D736-4564-45C3-9086-AB6E61D8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8F675-4F0E-4FAF-A334-3D2CAF1F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46333-72AC-4F3F-9C00-66735BEC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EABD8-72BC-4D6A-AEE6-8DE54C64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DF069-8242-4E60-91E0-48E7CBD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809B7-6FF3-464B-B0CB-ABFAAD3D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3DF-04B7-4415-AA45-E813C2C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2E28C-AE81-4099-946E-AEE61672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0E3FF-0CC4-43B1-8D6E-C12CF2F4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9F3A7-5C98-437B-B936-F96CAC5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8C780-52CE-48D2-A16C-6063E7C3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FA27E-8AFA-47EE-B1E6-78ADCD97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B6496-4340-4AE2-8A9F-B0AAB3D7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9CBB6-17E9-453A-B234-247DE86D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1586-6DB1-400C-8718-CBC50F9CBC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41A5-83C4-4E94-AEEE-C64D7178D5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FCA5-996A-4C2B-9A10-E1963930ED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E193-A5C2-44CA-9665-EE9A81E92D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85B9-EC2D-4506-AE40-5E662D7C2F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45B-0B6E-4BF1-A657-A8C0EE09B4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1803-D94A-4717-9439-955D91F68C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6B38-8AD4-4385-8673-CDF6C0FC5A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rezentacija.biz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bbe004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657600" y="45720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Работу выполни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Ст.гр. 23 Д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ладимирова Н.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380880" y="1295280"/>
            <a:ext cx="7010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чнос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4" name="Прямоугольник 5"/>
          <p:cNvSpPr/>
          <p:nvPr/>
        </p:nvSpPr>
        <p:spPr>
          <a:xfrm>
            <a:off x="3371400" y="32446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ереживания человеком своего отношения к предметам и явлениям действительности к тому, что он познает в себе и в других людях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. е. заинтересованность в той или иной деятельности, предмет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 называемые жизненные позиции личности, ее предубежд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WordArt 4"/>
          <p:cNvSpPr txBox="1"/>
          <p:nvPr/>
        </p:nvSpPr>
        <p:spPr>
          <a:xfrm>
            <a:off x="457200" y="838080"/>
            <a:ext cx="7848720" cy="586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7386480" y="990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263520" y="2666880"/>
            <a:ext cx="7386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инамичная, относительно устойчивая целостная система интеллектуальных, социально-культурных и морально-волевых качеств человека, выраженных в индивидуальных особенностях его сознания и деятель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WordArt 4"/>
          <p:cNvSpPr txBox="1"/>
          <p:nvPr/>
        </p:nvSpPr>
        <p:spPr>
          <a:xfrm>
            <a:off x="762120" y="0"/>
            <a:ext cx="6019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006de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2006de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263520" y="2819160"/>
            <a:ext cx="7386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циальна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видуальность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1905120" y="9144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ерты личност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3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9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ност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емперамент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арактер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левые качеств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мо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тивац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ц. установ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WordArt 4"/>
          <p:cNvSpPr txBox="1"/>
          <p:nvPr/>
        </p:nvSpPr>
        <p:spPr>
          <a:xfrm>
            <a:off x="3124080" y="304920"/>
            <a:ext cx="579132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уктура лич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сихические особенности человека, позволяющие  ему с той или иной степенью успешности овладевать деятельностью, совершенствоваться ею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видуальную своеобразную и природно обусловленную совокупность динамических проявлений психики – интенсивности, скорости, темпа, ритма, психических процессов и состоян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304920" y="1066680"/>
            <a:ext cx="7162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Холеристический –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сильный тип темперамента.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Преобладание возбуждения над торможением в нервной системе. Подвижность, бурные эмоции, резкие смены настроения. В критические моменты – высокая концентрация сил.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Сангвист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– сильный тип темперамента.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Характеризуется быстротой реакции, высокой психической активностью, богатством мимики, контактностью, высокой сопротивляемостью трудностям, уравновеш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Флегмат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– сильный тип,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ВЯЗАН С МЕДЛИТЕЛЬНОСТЬЮ, ИНЕРТНОСТЬЮ, УСТОЙЧИВОСТЬЮ В НАСТРОЕНИИ, СЛАБЫМ ПРОЯВЛЕНИЕМ ЭМОЦИЙ, НИЗКОЙ ПСИХИЧЕСКОЙ АКТИВ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Sans Unicode"/>
              </a:rPr>
              <a:t>Меланхолический </a:t>
            </a:r>
            <a:r>
              <a:rPr b="0" i="1" lang="ru-RU" sz="2000" spc="-1" strike="noStrike">
                <a:solidFill>
                  <a:srgbClr val="000000"/>
                </a:solidFill>
                <a:latin typeface="Lucida Sans Unicode"/>
              </a:rPr>
              <a:t>– слабый тип.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Ему свойственны сдержанность речи и движений, низкий уровень психической активности, ранимость, преобладание отрицательных эмоц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212760" y="66600"/>
            <a:ext cx="749304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вокупность существенных, устойчивых черт личности, которые проявляются в отношении человека к действительности и накладывают отпечаток на его поведение и поступк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3eef86e13f86991f8d4edcc1c48e15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психический процесс, возникающий при преодолении человеком с помощью усилий внутренних и внешних препятствий для достижения поставленной цел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5-02-05T12:58:0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