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8C311-B313-41B6-A875-09D1ED9B7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7A54-65A9-49EC-A2D8-169F228A4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D4216-3FD3-45F1-9DCB-A6E614AFA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87747-82E0-43B6-B4B3-086829168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793CC-6A93-4385-80EA-0707916EF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7B59-5F00-4CE9-B916-F94F85E2C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16CC-DF94-4ED2-BAD9-4E45AF0FD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A5EF7-43FD-4A82-9AC5-015349B24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C24A9-38AF-4F44-8740-F23A9617A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A7915-2EF1-4EA2-8469-1A8672220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51D33-360A-466A-AC74-F6A96CB75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AA594-E5DF-48C5-9BEB-2D4C87D2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289DC-73E7-44F6-92F1-C94D9153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CA28C-2A3D-4795-9D09-A8C5C98CA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83A80-4FE0-462D-801E-A84600165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A3428-BDF9-4926-8C57-24F28D672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B568D-7C8F-456E-AA68-396F6B131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3289A-07CB-49CA-90E9-AF87744C4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08D78-82D3-4127-BBC7-6DA4C6B1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D0448-A169-4B6A-A8C5-3268EC52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9626-CF98-4C52-93CF-84CB4F11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64DD-2AAE-45DE-BDA0-6343E3E6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CAE3-B68F-416D-93A4-A9A8EE8F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F0D1-98B1-4731-B791-6F7E98C94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1EF4-4235-4D9A-9985-66375F986E8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0C1D-BDE9-446A-8D4B-BA8E2B57F0F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ezentacija.bi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2028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Тема № 2</a:t>
            </a:r>
            <a:endParaRPr b="0" lang="en-US" sz="4800" spc="-1" strike="noStrike">
              <a:solidFill>
                <a:srgbClr val="ccecff"/>
              </a:solidFill>
              <a:latin typeface="Arial"/>
            </a:endParaRPr>
          </a:p>
        </p:txBody>
      </p:sp>
      <p:sp>
        <p:nvSpPr>
          <p:cNvPr id="157" name="PlaceHolder 2"/>
          <p:cNvSpPr>
            <a:spLocks noGrp="1"/>
          </p:cNvSpPr>
          <p:nvPr>
            <p:ph type="subTitle"/>
          </p:nvPr>
        </p:nvSpPr>
        <p:spPr>
          <a:xfrm>
            <a:off x="324000" y="1844280"/>
            <a:ext cx="8640720" cy="379404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Психологическая характеристика юридической деятельности</a:t>
            </a:r>
            <a:endParaRPr b="0" lang="en-US" sz="3600" spc="-1" strike="noStrike">
              <a:solidFill>
                <a:srgbClr val="ffffff"/>
              </a:solidFill>
              <a:latin typeface="Verdana"/>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Verdana"/>
              </a:rPr>
              <a:t>Закирова Татьяна Ивановна</a:t>
            </a:r>
            <a:r>
              <a:rPr b="1" lang="ru-RU" sz="3100" spc="-1" strike="noStrike">
                <a:solidFill>
                  <a:srgbClr val="ffffff"/>
                </a:solidFill>
                <a:latin typeface="Verdana"/>
              </a:rPr>
              <a:t> </a:t>
            </a:r>
            <a:endParaRPr b="0" lang="en-US" sz="31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доцент кафедры психологии и педагогики </a:t>
            </a:r>
            <a:endParaRPr b="0" lang="en-US" sz="27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кандидат педагогических наук</a:t>
            </a:r>
            <a:endParaRPr b="0" lang="en-US" sz="27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Verdana"/>
              </a:rPr>
              <a:t> </a:t>
            </a:r>
            <a:endParaRPr b="0" lang="en-US" sz="3600" spc="-1" strike="noStrike">
              <a:solidFill>
                <a:srgbClr val="ffffff"/>
              </a:solidFill>
              <a:latin typeface="Verdana"/>
            </a:endParaRPr>
          </a:p>
        </p:txBody>
      </p:sp>
      <p:sp>
        <p:nvSpPr>
          <p:cNvPr id="158" name="Прямоугольник 5"/>
          <p:cNvSpPr/>
          <p:nvPr/>
        </p:nvSpPr>
        <p:spPr>
          <a:xfrm>
            <a:off x="6448680" y="6488280"/>
            <a:ext cx="262368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prezentacija.biz/</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изнаки профессий </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именование професси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способ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область базовых знаний;</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офессиональная област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ежличностное взаимодействие;</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полнительны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условия работы.</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История профессии юрист</a:t>
            </a:r>
            <a:br>
              <a:rPr sz="4000"/>
            </a:br>
            <a:endParaRPr b="0" lang="en-US" sz="40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основоположниками права как отрасли стали древние философы: Сократ, Аристотель, Платон. Большой вклад в развитие законотворчества внесла религия. Именно 12 библейских заповедей легли в основу создания законов.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юристами были жрецы (понтифы), которые толковали закон. На протяжении многих веков человечество совершенствовало свои межличностные и международные отношения, и поэтому право должно было прогрессировать вместе со временем и охватывать все сферы человеческой деятельно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ейчас право прочно укоренилось во всех областях жизни людей и представляет собой самостоятельную отрасль знаний. А деятельность юристов приобретает все большее и большее значение в жизнедеятельности людей.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рофессиограмма юриста</a:t>
            </a:r>
            <a:br>
              <a:rPr sz="4000"/>
            </a:br>
            <a:endParaRPr b="0" lang="en-US" sz="4000" spc="-1" strike="noStrike">
              <a:solidFill>
                <a:srgbClr val="ccecff"/>
              </a:solidFill>
              <a:latin typeface="Arial"/>
            </a:endParaRPr>
          </a:p>
        </p:txBody>
      </p:sp>
      <p:sp>
        <p:nvSpPr>
          <p:cNvPr id="180" name="PlaceHolder 2"/>
          <p:cNvSpPr>
            <a:spLocks noGrp="1"/>
          </p:cNvSpPr>
          <p:nvPr>
            <p:ph/>
          </p:nvPr>
        </p:nvSpPr>
        <p:spPr>
          <a:xfrm>
            <a:off x="179280" y="1196640"/>
            <a:ext cx="4316400" cy="4933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Наименование професс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способ мышления</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1 и их уровень </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2 и их уровень</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офессиональная область</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Межличностное взаимодействие</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интерес</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полнительный интерес</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1" lang="ru-RU" sz="1600" spc="-1" strike="noStrike">
                <a:solidFill>
                  <a:srgbClr val="ffffff"/>
                </a:solidFill>
                <a:latin typeface="Verdana"/>
              </a:rPr>
              <a:t>Условия работы</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81" name="PlaceHolder 3"/>
          <p:cNvSpPr>
            <a:spLocks noGrp="1"/>
          </p:cNvSpPr>
          <p:nvPr>
            <p:ph/>
          </p:nvPr>
        </p:nvSpPr>
        <p:spPr>
          <a:xfrm>
            <a:off x="4427280" y="980640"/>
            <a:ext cx="453708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т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даптация – формализация</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щественные науки, уровень 3, высокий (теоретическ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аво, юридические науки, уровень 2, средний (практическое использование знан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пруденция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Частое по типу «рядом»</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едпринимательск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оциальны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 помещении, сидячий</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277920"/>
            <a:ext cx="864216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Доминирующие виды деятельности профессии юрист:</a:t>
            </a:r>
            <a:br>
              <a:rPr sz="3200"/>
            </a:br>
            <a:endParaRPr b="0" lang="en-US" sz="3200" spc="-1" strike="noStrike">
              <a:solidFill>
                <a:srgbClr val="ccecff"/>
              </a:solidFill>
              <a:latin typeface="Arial"/>
            </a:endParaRPr>
          </a:p>
        </p:txBody>
      </p:sp>
      <p:sp>
        <p:nvSpPr>
          <p:cNvPr id="183" name="PlaceHolder 2"/>
          <p:cNvSpPr>
            <a:spLocks noGrp="1"/>
          </p:cNvSpPr>
          <p:nvPr>
            <p:ph/>
          </p:nvPr>
        </p:nvSpPr>
        <p:spPr>
          <a:xfrm>
            <a:off x="250920" y="980640"/>
            <a:ext cx="864216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сультирование лиц, нуждающихся в юридической помощи (правовая помощь, справочно-информационная работа по законодательству с применением технических средст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законов, подзаконных актов, нормативно-правовых актов, международных договоров (также учет действующего законодательства и других нормативных актов) и применение их на практике;</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ставление юридических документов, контрактов, актов (договоров, лицензий) имущественно-правового характера, содействие в их оформлен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толкование закон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троль за соблюдением законности (правовое регулирование социальных норм и отношен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уществление методического руководства правовой работы на предприят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здание архива судебных и арбитражных дел;</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процессе законотворчества (разработка законов и правовых документ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беспечение правовой защиты граждан, организаций, государств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правовой практики зарубежных коллег;</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вовая пропаганд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судебных процессах (защита дел в суде или поддержание обвинения).</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7560"/>
            <a:ext cx="89647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Способност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179280" y="1196640"/>
            <a:ext cx="8785440" cy="532764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логическое, аналитическое мышлени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понятийного мышления (владение научными понятиями и способность воспринимать и понимать различные термин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ее развитие концентрации и устойчивости внимания (способность в течение длительного времени сосредоточиваться на определенном виде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кратковременной и долговременной памя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ербальные способности (умение правильно и понятно изъяснятьс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убежден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тивные навыки (навыки общения с людь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клонность к исследовательской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ие познания в разных областях наук;</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дедуктивного мышления (умение мыслить от общего к частному);</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к всестороннему, адекватному восприятию ситуаци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вести перегово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ичностные качества, интересы и склонности</a:t>
            </a:r>
            <a:endParaRPr b="0" lang="en-US" sz="32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рганиз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ккурат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еренность в себ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рудир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стность и порядо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еловая хватка;</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тветстве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бъектив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бе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ая интуиц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моционально-психическая 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нерги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стойчивость, принципиа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тремление к самосовершенствованию;</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быстро восстанавливать работоспособность.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Качества, препятствующие эффективности профессиональной деятельности:</a:t>
            </a:r>
            <a:br>
              <a:rPr sz="2800"/>
            </a:br>
            <a:endParaRPr b="0" lang="en-US" sz="28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тсутствие интереса к выполняемой работ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решите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быстро принимать реше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противостоять внешним факторам (лицам, ситуациям);</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чест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ринципиа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способность глубоко осмысливать происходяще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еспеч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огашенная судим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лохая дикция.</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ласти применения профессиональных знаний:</a:t>
            </a:r>
            <a:endParaRPr b="0" lang="en-US" sz="3200" spc="-1" strike="noStrike">
              <a:solidFill>
                <a:srgbClr val="ccecff"/>
              </a:solidFill>
              <a:latin typeface="Arial"/>
            </a:endParaRPr>
          </a:p>
        </p:txBody>
      </p:sp>
      <p:sp>
        <p:nvSpPr>
          <p:cNvPr id="191" name="PlaceHolder 2"/>
          <p:cNvSpPr>
            <a:spLocks noGrp="1"/>
          </p:cNvSpPr>
          <p:nvPr>
            <p:ph/>
          </p:nvPr>
        </p:nvSpPr>
        <p:spPr>
          <a:xfrm>
            <a:off x="456840" y="1267920"/>
            <a:ext cx="8435880" cy="52563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и негосударственные организации, предприятия, учреждения, общества различных форм собственности, являющиеся юридическими лицам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двокатура, прокуратур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уд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ое или индивидуальное предпринимательство;</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рганы предварительного следствия и дозна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отариальные контор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юридические консульта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органы обеспечения охраны порядка и безопасности (ОВД, органы обеспечения безопасности, органы налоговой службы и налоговой полиции, таможенные органы, органы юстиции (Министерство юстиции, служба судебных приставов);</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разовательные учрежд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ые детективные службы.</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Самосовершенствование личности юриста</a:t>
            </a:r>
            <a:endParaRPr b="0" lang="en-US" sz="3600" spc="-1" strike="noStrike">
              <a:solidFill>
                <a:srgbClr val="ccecff"/>
              </a:solidFill>
              <a:latin typeface="Arial"/>
            </a:endParaRPr>
          </a:p>
        </p:txBody>
      </p:sp>
      <p:sp>
        <p:nvSpPr>
          <p:cNvPr id="193" name="PlaceHolder 2"/>
          <p:cNvSpPr>
            <a:spLocks noGrp="1"/>
          </p:cNvSpPr>
          <p:nvPr>
            <p:ph/>
          </p:nvPr>
        </p:nvSpPr>
        <p:spPr>
          <a:xfrm>
            <a:off x="179280" y="1483920"/>
            <a:ext cx="896472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это потребность личности в профессиональном самоопределении и самореализации.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но призвано компенсировать недостатки предшествующей подготовки, совершенствовать и систематизировать знания, умения и навыки, полученные ранее; способствовать формированию индивидуального стиля профессиональной деятельности, осмыслению передового опыта и становлению профессиональной самостоятельности юрист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офессиональное самосовершенствование юриста</a:t>
            </a:r>
            <a:endParaRPr b="0" lang="en-US" sz="4000" spc="-1" strike="noStrike">
              <a:solidFill>
                <a:srgbClr val="ccecff"/>
              </a:solidFill>
              <a:latin typeface="Arial"/>
            </a:endParaRPr>
          </a:p>
        </p:txBody>
      </p:sp>
      <p:sp>
        <p:nvSpPr>
          <p:cNvPr id="195" name="PlaceHolder 2"/>
          <p:cNvSpPr>
            <a:spLocks noGrp="1"/>
          </p:cNvSpPr>
          <p:nvPr>
            <p:ph/>
          </p:nvPr>
        </p:nvSpPr>
        <p:spPr>
          <a:xfrm>
            <a:off x="250920" y="1599840"/>
            <a:ext cx="864216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заключается в его умении на основе самокритичной оценки своей личности формировать у себя необходимые профессионально значимые качества, черты характера, привычки, навыки и умения, а также в способности самостоятельно приобретать и осваивать профессиональные зна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Учебные вопросы</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пециальные способности и психологические качества юрист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нальная характеристика основных юридических специальносте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грамма юридической деятельност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овершенствование юриста. Самовоспитание. Самообразование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Методы и приемы самообразования, самообучен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cccc"/>
                </a:solidFill>
                <a:latin typeface="Arial"/>
              </a:rPr>
              <a:t>Составляющие профессионального самосовершенствования</a:t>
            </a:r>
            <a:endParaRPr b="0" lang="en-US" sz="36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cccc"/>
                </a:solidFill>
                <a:latin typeface="Verdana"/>
              </a:rPr>
              <a:t>Самовоспитание</a:t>
            </a:r>
            <a:r>
              <a:rPr b="0" lang="ru-RU" sz="3200" spc="-1" strike="noStrike">
                <a:solidFill>
                  <a:srgbClr val="33cccc"/>
                </a:solidFill>
                <a:latin typeface="Verdana"/>
              </a:rPr>
              <a:t> юриста</a:t>
            </a:r>
            <a:r>
              <a:rPr b="0" lang="ru-RU" sz="3200" spc="-1" strike="noStrike">
                <a:solidFill>
                  <a:srgbClr val="ffffff"/>
                </a:solidFill>
                <a:latin typeface="Verdana"/>
              </a:rPr>
              <a:t> – сознательная деятельность по обнаружению, утверждению и совершенствованию личностных качеств, умений, способов поведения и взаимодействия с окружающим миром. Существенным условием для его успешного протекания является то, что он должен быть </a:t>
            </a:r>
            <a:r>
              <a:rPr b="0" lang="ru-RU" sz="3200" spc="-1" strike="noStrike">
                <a:solidFill>
                  <a:srgbClr val="33cccc"/>
                </a:solidFill>
                <a:latin typeface="Verdana"/>
              </a:rPr>
              <a:t>осознанным</a:t>
            </a: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изнаки профессионального самовоспитан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99" name="PlaceHolder 2"/>
          <p:cNvSpPr>
            <a:spLocks noGrp="1"/>
          </p:cNvSpPr>
          <p:nvPr>
            <p:ph/>
          </p:nvPr>
        </p:nvSpPr>
        <p:spPr>
          <a:xfrm>
            <a:off x="250920" y="1600200"/>
            <a:ext cx="8642160" cy="47815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ознание личности противоречий между уровнем своего профессионального образования и требованиями, предъявляемыми к роду его профессиональной деятельности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самоорганизации юриста, связанный с постановкой целей, формулировкой задач, осуществлением самоконтроля за их выполнением, коррекцией путей самовоспита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офессиональное самовоспитание есть процесс разностороннего воздействия на личность служебной и бытовой сферы.</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ажную роль в профессиональном самовоспитании играют свойства личности юриста, качества интеллекта, вол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7920"/>
            <a:ext cx="843588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Способы самовоспит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1" name="PlaceHolder 2"/>
          <p:cNvSpPr>
            <a:spLocks noGrp="1"/>
          </p:cNvSpPr>
          <p:nvPr>
            <p:ph/>
          </p:nvPr>
        </p:nvSpPr>
        <p:spPr>
          <a:xfrm>
            <a:off x="250560" y="1267920"/>
            <a:ext cx="8893080" cy="50403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имулирование. Личность самостоятельно определяет мотивы для занятий самовоспитанием. Эффективной формой самостимуляции является самоубеждение, самоприказ.</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программирование – создание программы действий.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емы осуществления программы: самоинструктирование, самонаблюдение за процессом саморазвития, самоанализ, самоконтроль, самоотчет и самооценк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cc"/>
                </a:solidFill>
                <a:latin typeface="Arial"/>
              </a:rPr>
              <a:t>профессиональное самообразование</a:t>
            </a:r>
            <a:endParaRPr b="0" lang="en-US" sz="36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рганизованная деятельность юриста, направленная на обновление, расширение и углубление имеющихся у него профессиональных знаний, навыков и умений в целях всестороннего развития лич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уществляется посредством сбора и анализа информационных источников, их восприятия, переработки, осознания, овладения новыми знаниями, который позволяет их успешно применять в повседневной профессиональной служебной деятельност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Методы самообразов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д литературой;</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 тренажерах;</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упражнения и самотренировк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с аудиовизуальными средствам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ое выполнение практических задани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cccc"/>
                </a:solidFill>
                <a:latin typeface="Arial"/>
              </a:rPr>
              <a:t>Факторы профессиональной пригодности</a:t>
            </a:r>
            <a:endParaRPr b="0" lang="en-US" sz="3200" spc="-1" strike="noStrike">
              <a:solidFill>
                <a:srgbClr val="ccecff"/>
              </a:solidFill>
              <a:latin typeface="Arial"/>
            </a:endParaRPr>
          </a:p>
        </p:txBody>
      </p:sp>
      <p:sp>
        <p:nvSpPr>
          <p:cNvPr id="162" name="PlaceHolder 2"/>
          <p:cNvSpPr>
            <a:spLocks noGrp="1"/>
          </p:cNvSpPr>
          <p:nvPr>
            <p:ph/>
          </p:nvPr>
        </p:nvSpPr>
        <p:spPr>
          <a:xfrm>
            <a:off x="250560" y="836640"/>
            <a:ext cx="8713800" cy="56880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I фактор — высокий уровень социализации личности юрист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ий уровень развития правосознания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ование социально значимых мотивов в сфере мотивации профессиональной деятельности (стремление помогать людям отстаивать их права, добиваться справедливости, противостоять преступности, непреклонно защищать законность, стремиться к достижению успеха в работе, наиболее полной реализации своих возможностей, завоеванию профессиональ­ного авторитета и уважения среди коллег и др.);</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естность, принципиальность, гражданское мужество, чувство долга, совестливость;</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тветственность, обязательность, добросовест­ность, исполнительность, дисциплинированность, аккуратнос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качества профессиональной непригодности</a:t>
            </a:r>
            <a:r>
              <a:rPr b="0" lang="ru-RU" sz="2000" spc="-1" strike="noStrike">
                <a:solidFill>
                  <a:srgbClr val="ffffff"/>
                </a:solidFill>
                <a:latin typeface="Verdana"/>
              </a:rPr>
              <a:t>: низкий нравственный облик, нечестность, безответственное отношение к делу, недисциплинированность, склонность к алкоголизму.</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7920"/>
            <a:ext cx="84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II фактор — эмоционально-волевая устойчивость личности юриста</a:t>
            </a:r>
            <a:endParaRPr b="0" lang="en-US" sz="3200" spc="-1" strike="noStrike">
              <a:solidFill>
                <a:srgbClr val="ccecff"/>
              </a:solidFill>
              <a:latin typeface="Arial"/>
            </a:endParaRPr>
          </a:p>
        </p:txBody>
      </p:sp>
      <p:sp>
        <p:nvSpPr>
          <p:cNvPr id="164" name="PlaceHolder 2"/>
          <p:cNvSpPr>
            <a:spLocks noGrp="1"/>
          </p:cNvSpPr>
          <p:nvPr>
            <p:ph/>
          </p:nvPr>
        </p:nvSpPr>
        <p:spPr>
          <a:xfrm>
            <a:off x="0" y="1483920"/>
            <a:ext cx="8964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ая работоспособность, выносливость в ситуациях длительных, интенсивных физических и психических перегрузок, способность сохранять целеустремленность и продуктивность деятельности в этих условиях;</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мение выдерживать стресс-факторы, высокий уровень самоконтроля над эмоциями и поведением, самообладание, способность сдерживать спонтанно возникающие импульсивные реак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витые адаптивные свойства нервной системы (сила, уравновешенность, подвижность, активность, динамичность нервных процессо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Отрицательные  качества</a:t>
            </a:r>
            <a:r>
              <a:rPr b="0" lang="ru-RU" sz="2000" spc="-1" strike="noStrike">
                <a:solidFill>
                  <a:srgbClr val="ffffff"/>
                </a:solidFill>
                <a:latin typeface="Verdana"/>
              </a:rPr>
              <a:t> личности: низкий порог устойчивости к стрессу, избыточная эмоциональная напряженность; агрессивность, импульсивность поступков; невротическая симпатия, быстрая истощаемость нервных процессов.</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III фактор — познавательные способности юриста</a:t>
            </a:r>
            <a:endParaRPr b="0" lang="en-US" sz="4000" spc="-1" strike="noStrike">
              <a:solidFill>
                <a:srgbClr val="ccecff"/>
              </a:solidFill>
              <a:latin typeface="Arial"/>
            </a:endParaRPr>
          </a:p>
        </p:txBody>
      </p:sp>
      <p:sp>
        <p:nvSpPr>
          <p:cNvPr id="166"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интеллектуального развития, что предполагает следующие психически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ая умственная работоспособ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вристичность мышления, его ярко выраженный творческий характер.</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cc"/>
                </a:solidFill>
                <a:latin typeface="Verdana"/>
              </a:rPr>
              <a:t>Отрицательны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изкая умственная работоспособность, сниженные познавательная активность, интеллект, неразвитое воображение, слабая память — качества, несовместимые с эффективностью профессионального труда</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IV фактор — коммуникативная компетентность юриста</a:t>
            </a:r>
            <a:endParaRPr b="0" lang="en-US" sz="3600" spc="-1" strike="noStrike">
              <a:solidFill>
                <a:srgbClr val="ccecff"/>
              </a:solidFill>
              <a:latin typeface="Arial"/>
            </a:endParaRPr>
          </a:p>
        </p:txBody>
      </p:sp>
      <p:sp>
        <p:nvSpPr>
          <p:cNvPr id="168" name="PlaceHolder 2"/>
          <p:cNvSpPr>
            <a:spLocks noGrp="1"/>
          </p:cNvSpPr>
          <p:nvPr>
            <p:ph/>
          </p:nvPr>
        </p:nvSpPr>
        <p:spPr>
          <a:xfrm>
            <a:off x="250560" y="1599840"/>
            <a:ext cx="87138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вободное владение вербальными и невербальными средствами общения, в том числе средствами коммуникативного воздействия, как в межличностном взаимодействии, так и во время публичных выступлений;</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ачествами, </a:t>
            </a:r>
            <a:r>
              <a:rPr b="0" lang="ru-RU" sz="2400" spc="-1" strike="noStrike">
                <a:solidFill>
                  <a:srgbClr val="33cccc"/>
                </a:solidFill>
                <a:latin typeface="Verdana"/>
              </a:rPr>
              <a:t>затрудняющие коммуникативное взаимодействие</a:t>
            </a:r>
            <a:r>
              <a:rPr b="0" lang="ru-RU" sz="2400" spc="-1" strike="noStrike">
                <a:solidFill>
                  <a:srgbClr val="ffffff"/>
                </a:solidFill>
                <a:latin typeface="Verdana"/>
              </a:rPr>
              <a:t>: замкнутость (аутизм), повышенная сосредоточенность на своих проблемах, переживаниях; легкоранимое самолюбие, повышенная обидчивость, конфликтность, агрессивность; эмоциональная неустойчивость, импульсивность; слабое владение вербальными и невербальными средствами обще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7920"/>
            <a:ext cx="896472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V фактор - организаторские способности</a:t>
            </a:r>
            <a:br>
              <a:rPr sz="3200"/>
            </a:br>
            <a:endParaRPr b="0" lang="en-US" sz="3200" spc="-1" strike="noStrike">
              <a:solidFill>
                <a:srgbClr val="ccecff"/>
              </a:solidFill>
              <a:latin typeface="Arial"/>
            </a:endParaRPr>
          </a:p>
        </p:txBody>
      </p:sp>
      <p:sp>
        <p:nvSpPr>
          <p:cNvPr id="170" name="PlaceHolder 2"/>
          <p:cNvSpPr>
            <a:spLocks noGrp="1"/>
          </p:cNvSpPr>
          <p:nvPr>
            <p:ph/>
          </p:nvPr>
        </p:nvSpPr>
        <p:spPr>
          <a:xfrm>
            <a:off x="179280" y="836640"/>
            <a:ext cx="8785440" cy="56167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активность, энергичность, повышенная работоспособ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амостоятельность, инициативность, предприим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стойчивость, целеустремленность, уверенность в себе; в мотивационной сфере — доминирование мотивов достижения успехов в делах;</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сокая стрессо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чувство ответственности за свои действ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аналитические способности: рефлексивность, гибкость мышления, умение прогнозировать и планировать совместную деятельность, распределять задания с учетом возможностей и психологических особенностей каждого члена групп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коммуникативные качества: умение устанавливать психологический контакт с людьми, проницательность, способность прогнозировать поведение подчиненных, понимать мотивы их поступков, доброжелательность к окружающим, психологический такт во взаимоотношениях с ни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контролировать ход и результаты совместной деятельности, критичность, требовательность к подчиненным;</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оказывать управляющее воздействие на коллектив, мотивировать и побуждать подчиненных к выполнению работы, направлять их и «заряжать» своей энергией.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Профессиограмма</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оставляется на основе анализа содержания профессиональной деятельности и включает в себя общую характеристику профессии и требования, которые профессия предъявляет к человеку.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человек хочет выбрать профессию в соответствии со своими индивидуально-личностными особенностями, ему больше подойдут профессиограммы, построенные на основе психологического изучения профессий, чем такие, которые построены на основании формальных признаков профессий. Так, при смене профессии или при выборе запасного варианта лучше ориентироваться на профессии, связанные со следующими психологическими характеристикам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пособ мышл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ип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едпочитаемый способ взаимодействия с людьм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азделы профессиограммы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лассификационная карточка професс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ующие виды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обеспечивающие успешность выполнения профессиональной деятельности (способности, личностные качества, интересы, склон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препятствующие эффективности профессиональной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ласти применения профессиональных знан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стория професс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екоторые профессии, которые также подходят человеку с данным типом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чебные заведения, обучающие данной професси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34:58Z</dcterms:created>
  <dc:creator>User</dc:creator>
  <dc:description/>
  <dc:language>en-US</dc:language>
  <cp:lastModifiedBy>nebom zav</cp:lastModifiedBy>
  <dcterms:modified xsi:type="dcterms:W3CDTF">2015-02-05T13:22:58Z</dcterms:modified>
  <cp:revision>7</cp:revision>
  <dc:subject/>
  <dc:title>Тема № 2</dc:title>
</cp:coreProperties>
</file>