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BA4F2-B662-4FC0-97E4-42BD9D2A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9AFD-FA02-4625-B4BB-4E1040BD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170E6-8B06-4087-919D-9FB58983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6834-56E2-488F-BE57-4C0D9E342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C3CB8-2650-46E4-B992-BDB855865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5503B-B484-4E6A-9096-3089A0D59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4C06-C81D-4152-AB55-5A94E9CA8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318FC-D534-4034-AFFB-B76BDD868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73430-5C3F-462B-BFC5-9C0980818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0FD20-7B08-4CAC-A860-8BC4A341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6FDEA-84EB-489C-9DF0-B6EA3769B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12A8-8DF5-4A9D-9CE4-62C2C0A91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6B81F-BB70-4D5B-8A1C-DCD2ACB9D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F3477-1777-4EA3-851A-461C8DBB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667AD-6EEE-4210-A26B-DCDCC74BC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202AC-0637-4721-8C1C-8538B4658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69528-6461-4122-AA77-28351A7BA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A18E-C7D8-4271-9AE8-835D8C8C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2C730-F9E7-4CA1-A68F-E2D4540B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30A80-8C03-4737-BE75-40332DBE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765C-0F40-44F2-9ED6-8F5F8AB2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E2F2-73BA-413E-9AA4-D0C05239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FA9D-3ABF-4A0F-A443-2C3E2136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171F8-2025-4788-ACCE-BF8DF655C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7DBB-03F3-4B0F-886E-0E6A3573414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F8B1-5690-437C-B42B-9BFDB789B6F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ezentacija.bi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2028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ecff"/>
                </a:solidFill>
                <a:latin typeface="Arial"/>
              </a:rPr>
              <a:t>Тема № 2</a:t>
            </a:r>
            <a:endParaRPr b="0" lang="en-US" sz="4800" spc="-1" strike="noStrike">
              <a:solidFill>
                <a:srgbClr val="ccecff"/>
              </a:solidFill>
              <a:latin typeface="Arial"/>
            </a:endParaRPr>
          </a:p>
        </p:txBody>
      </p:sp>
      <p:sp>
        <p:nvSpPr>
          <p:cNvPr id="157" name="PlaceHolder 2"/>
          <p:cNvSpPr>
            <a:spLocks noGrp="1"/>
          </p:cNvSpPr>
          <p:nvPr>
            <p:ph type="subTitle"/>
          </p:nvPr>
        </p:nvSpPr>
        <p:spPr>
          <a:xfrm>
            <a:off x="324000" y="1844280"/>
            <a:ext cx="8640720" cy="379404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Психологическая характеристика юридической деятельности</a:t>
            </a:r>
            <a:endParaRPr b="0" lang="en-US" sz="3600" spc="-1" strike="noStrike">
              <a:solidFill>
                <a:srgbClr val="ffffff"/>
              </a:solidFill>
              <a:latin typeface="Verdana"/>
            </a:endParaRPr>
          </a:p>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Verdana"/>
              </a:rPr>
              <a:t>Закирова Татьяна Ивановна</a:t>
            </a:r>
            <a:r>
              <a:rPr b="1" lang="ru-RU" sz="3100" spc="-1" strike="noStrike">
                <a:solidFill>
                  <a:srgbClr val="ffffff"/>
                </a:solidFill>
                <a:latin typeface="Verdana"/>
              </a:rPr>
              <a:t> </a:t>
            </a:r>
            <a:endParaRPr b="0" lang="en-US" sz="31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доцент кафедры психологии и педагогики </a:t>
            </a:r>
            <a:endParaRPr b="0" lang="en-US" sz="2700" spc="-1" strike="noStrike">
              <a:solidFill>
                <a:srgbClr val="ffffff"/>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Verdana"/>
              </a:rPr>
              <a:t>кандидат педагогических наук</a:t>
            </a:r>
            <a:endParaRPr b="0" lang="en-US" sz="27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Verdana"/>
              </a:rPr>
              <a:t> </a:t>
            </a:r>
            <a:endParaRPr b="0" lang="en-US" sz="3600" spc="-1" strike="noStrike">
              <a:solidFill>
                <a:srgbClr val="ffffff"/>
              </a:solidFill>
              <a:latin typeface="Verdana"/>
            </a:endParaRPr>
          </a:p>
        </p:txBody>
      </p:sp>
      <p:sp>
        <p:nvSpPr>
          <p:cNvPr id="158" name="Прямоугольник 5"/>
          <p:cNvSpPr/>
          <p:nvPr/>
        </p:nvSpPr>
        <p:spPr>
          <a:xfrm>
            <a:off x="6448680" y="6488280"/>
            <a:ext cx="262368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prezentacija.biz/</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изнаки профессий </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именование професси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способ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область базовых знаний;</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офессиональная област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межличностное взаимодействие;</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минирующи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дополнительный интерес;</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условия работы.</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История профессии юрист</a:t>
            </a:r>
            <a:br>
              <a:rPr sz="4000"/>
            </a:br>
            <a:endParaRPr b="0" lang="en-US" sz="40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основоположниками права как отрасли стали древние философы: Сократ, Аристотель, Платон. Большой вклад в развитие законотворчества внесла религия. Именно 12 библейских заповедей легли в основу создания законов.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ервыми юристами были жрецы (понтифы), которые толковали закон. На протяжении многих веков человечество совершенствовало свои межличностные и международные отношения, и поэтому право должно было прогрессировать вместе со временем и охватывать все сферы человеческой деятельно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ейчас право прочно укоренилось во всех областях жизни людей и представляет собой самостоятельную отрасль знаний. А деятельность юристов приобретает все большее и большее значение в жизнедеятельности людей.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рофессиограмма юриста</a:t>
            </a:r>
            <a:br>
              <a:rPr sz="4000"/>
            </a:br>
            <a:endParaRPr b="0" lang="en-US" sz="4000" spc="-1" strike="noStrike">
              <a:solidFill>
                <a:srgbClr val="ccecff"/>
              </a:solidFill>
              <a:latin typeface="Arial"/>
            </a:endParaRPr>
          </a:p>
        </p:txBody>
      </p:sp>
      <p:sp>
        <p:nvSpPr>
          <p:cNvPr id="180" name="PlaceHolder 2"/>
          <p:cNvSpPr>
            <a:spLocks noGrp="1"/>
          </p:cNvSpPr>
          <p:nvPr>
            <p:ph/>
          </p:nvPr>
        </p:nvSpPr>
        <p:spPr>
          <a:xfrm>
            <a:off x="179280" y="1196640"/>
            <a:ext cx="4316400" cy="4933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Наименование професс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способ мышления</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1 и их уровень </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ласть базовых знаний №2 и их уровень</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офессиональная область</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Межличностное взаимодействие</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минирующий интерес</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Дополнительный интерес</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1" lang="ru-RU" sz="1600" spc="-1" strike="noStrike">
                <a:solidFill>
                  <a:srgbClr val="ffffff"/>
                </a:solidFill>
                <a:latin typeface="Verdana"/>
              </a:rPr>
              <a:t>Условия работы</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81" name="PlaceHolder 3"/>
          <p:cNvSpPr>
            <a:spLocks noGrp="1"/>
          </p:cNvSpPr>
          <p:nvPr>
            <p:ph/>
          </p:nvPr>
        </p:nvSpPr>
        <p:spPr>
          <a:xfrm>
            <a:off x="4427280" y="980640"/>
            <a:ext cx="453708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т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даптация – формализация</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бщественные науки, уровень 3, высокий (теоретическ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аво, юридические науки, уровень 2, средний (практическое использование знан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Юриспруденция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Частое по типу «рядом»</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редпринимательски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оциальный</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 помещении, сидячий</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277920"/>
            <a:ext cx="864216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Доминирующие виды деятельности профессии юрист:</a:t>
            </a:r>
            <a:br>
              <a:rPr sz="3200"/>
            </a:br>
            <a:endParaRPr b="0" lang="en-US" sz="3200" spc="-1" strike="noStrike">
              <a:solidFill>
                <a:srgbClr val="ccecff"/>
              </a:solidFill>
              <a:latin typeface="Arial"/>
            </a:endParaRPr>
          </a:p>
        </p:txBody>
      </p:sp>
      <p:sp>
        <p:nvSpPr>
          <p:cNvPr id="183" name="PlaceHolder 2"/>
          <p:cNvSpPr>
            <a:spLocks noGrp="1"/>
          </p:cNvSpPr>
          <p:nvPr>
            <p:ph/>
          </p:nvPr>
        </p:nvSpPr>
        <p:spPr>
          <a:xfrm>
            <a:off x="250920" y="980640"/>
            <a:ext cx="8642160" cy="514980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сультирование лиц, нуждающихся в юридической помощи (правовая помощь, справочно-информационная работа по законодательству с применением технических средст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законов, подзаконных актов, нормативно-правовых актов, международных договоров (также учет действующего законодательства и других нормативных актов) и применение их на практике;</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ставление юридических документов, контрактов, актов (договоров, лицензий) имущественно-правового характера, содействие в их оформлен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толкование закон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контроль за соблюдением законности (правовое регулирование социальных норм и отношений);</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уществление методического руководства правовой работы на предприятии;</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оздание архива судебных и арбитражных дел;</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процессе законотворчества (разработка законов и правовых документов);</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беспечение правовой защиты граждан, организаций, государств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зучение правовой практики зарубежных коллег;</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вовая пропаганда;</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частие в судебных процессах (защита дел в суде или поддержание обвинения).</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77560"/>
            <a:ext cx="896472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Способност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179280" y="1196640"/>
            <a:ext cx="8785440" cy="532764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логическое, аналитическое мышлени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понятийного мышления (владение научными понятиями и способность воспринимать и понимать различные термин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ее развитие концентрации и устойчивости внимания (способность в течение длительного времени сосредоточиваться на определенном виде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кратковременной и долговременной памя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ербальные способности (умение правильно и понятно изъяснятьс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убежден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тивные навыки (навыки общения с людь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клонность к исследовательской деятельност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ие познания в разных областях наук;</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ысокий уровень развития дедуктивного мышления (умение мыслить от общего к частному);</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пособность к всестороннему, адекватному восприятию ситуаци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вести перегово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ичностные качества, интересы и склонности</a:t>
            </a:r>
            <a:endParaRPr b="0" lang="en-US" sz="32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рганиз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ккурат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веренность в себе;</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рудирова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честность и порядо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деловая хватка;</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тветствен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объектив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оммуникабе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орошая интуиц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моционально-психическая 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энергич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настойчивость, принципиаль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тремление к самосовершенствованию;</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мение быстро восстанавливать работоспособность.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Качества, препятствующие эффективности профессиональной деятельности:</a:t>
            </a:r>
            <a:br>
              <a:rPr sz="2800"/>
            </a:br>
            <a:endParaRPr b="0" lang="en-US" sz="28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тсутствие интереса к выполняемой работ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решите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быстро принимать реше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умение противостоять внешним факторам (лицам, ситуациям);</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чест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ринципиаль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способность глубоко осмысливать происходяще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беспеч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погашенная судим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лохая дикция.</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ласти применения профессиональных знаний:</a:t>
            </a:r>
            <a:endParaRPr b="0" lang="en-US" sz="3200" spc="-1" strike="noStrike">
              <a:solidFill>
                <a:srgbClr val="ccecff"/>
              </a:solidFill>
              <a:latin typeface="Arial"/>
            </a:endParaRPr>
          </a:p>
        </p:txBody>
      </p:sp>
      <p:sp>
        <p:nvSpPr>
          <p:cNvPr id="191" name="PlaceHolder 2"/>
          <p:cNvSpPr>
            <a:spLocks noGrp="1"/>
          </p:cNvSpPr>
          <p:nvPr>
            <p:ph/>
          </p:nvPr>
        </p:nvSpPr>
        <p:spPr>
          <a:xfrm>
            <a:off x="456840" y="1267920"/>
            <a:ext cx="8435880" cy="52563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и негосударственные организации, предприятия, учреждения, общества различных форм собственности, являющиеся юридическими лицам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двокатура, прокуратур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уд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ое или индивидуальное предпринимательство;</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рганы предварительного следствия и дозна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отариальные конторы;</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юридические консульта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государственные органы обеспечения охраны порядка и безопасности (ОВД, органы обеспечения безопасности, органы налоговой службы и налоговой полиции, таможенные органы, органы юстиции (Министерство юстиции, служба судебных приставов);</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разовательные учрежд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астные детективные службы.</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Самосовершенствование личности юриста</a:t>
            </a:r>
            <a:endParaRPr b="0" lang="en-US" sz="3600" spc="-1" strike="noStrike">
              <a:solidFill>
                <a:srgbClr val="ccecff"/>
              </a:solidFill>
              <a:latin typeface="Arial"/>
            </a:endParaRPr>
          </a:p>
        </p:txBody>
      </p:sp>
      <p:sp>
        <p:nvSpPr>
          <p:cNvPr id="193" name="PlaceHolder 2"/>
          <p:cNvSpPr>
            <a:spLocks noGrp="1"/>
          </p:cNvSpPr>
          <p:nvPr>
            <p:ph/>
          </p:nvPr>
        </p:nvSpPr>
        <p:spPr>
          <a:xfrm>
            <a:off x="179280" y="1483920"/>
            <a:ext cx="896472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это потребность личности в профессиональном самоопределении и самореализации.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но призвано компенсировать недостатки предшествующей подготовки, совершенствовать и систематизировать знания, умения и навыки, полученные ранее; способствовать формированию индивидуального стиля профессиональной деятельности, осмыслению передового опыта и становлению профессиональной самостоятельности юрист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8920" y="277920"/>
            <a:ext cx="8713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офессиональное самосовершенствование юриста</a:t>
            </a:r>
            <a:endParaRPr b="0" lang="en-US" sz="4000" spc="-1" strike="noStrike">
              <a:solidFill>
                <a:srgbClr val="ccecff"/>
              </a:solidFill>
              <a:latin typeface="Arial"/>
            </a:endParaRPr>
          </a:p>
        </p:txBody>
      </p:sp>
      <p:sp>
        <p:nvSpPr>
          <p:cNvPr id="195" name="PlaceHolder 2"/>
          <p:cNvSpPr>
            <a:spLocks noGrp="1"/>
          </p:cNvSpPr>
          <p:nvPr>
            <p:ph/>
          </p:nvPr>
        </p:nvSpPr>
        <p:spPr>
          <a:xfrm>
            <a:off x="250920" y="1599840"/>
            <a:ext cx="864216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заключается в его умении на основе самокритичной оценки своей личности формировать у себя необходимые профессионально значимые качества, черты характера, привычки, навыки и умения, а также в способности самостоятельно приобретать и осваивать профессиональные зна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Учебные вопросы</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пециальные способности и психологические качества юрист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нальная характеристика основных юридических специальносте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офессиограмма юридической деятельност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овершенствование юриста. Самовоспитание. Самообразование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Методы и приемы самообразования, самообучен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cccc"/>
                </a:solidFill>
                <a:latin typeface="Arial"/>
              </a:rPr>
              <a:t>Составляющие профессионального самосовершенствования</a:t>
            </a:r>
            <a:endParaRPr b="0" lang="en-US" sz="36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cccc"/>
                </a:solidFill>
                <a:latin typeface="Verdana"/>
              </a:rPr>
              <a:t>Самовоспитание</a:t>
            </a:r>
            <a:r>
              <a:rPr b="0" lang="ru-RU" sz="3200" spc="-1" strike="noStrike">
                <a:solidFill>
                  <a:srgbClr val="33cccc"/>
                </a:solidFill>
                <a:latin typeface="Verdana"/>
              </a:rPr>
              <a:t> юриста</a:t>
            </a:r>
            <a:r>
              <a:rPr b="0" lang="ru-RU" sz="3200" spc="-1" strike="noStrike">
                <a:solidFill>
                  <a:srgbClr val="ffffff"/>
                </a:solidFill>
                <a:latin typeface="Verdana"/>
              </a:rPr>
              <a:t> – сознательная деятельность по обнаружению, утверждению и совершенствованию личностных качеств, умений, способов поведения и взаимодействия с окружающим миром. Существенным условием для его успешного протекания является то, что он должен быть </a:t>
            </a:r>
            <a:r>
              <a:rPr b="0" lang="ru-RU" sz="3200" spc="-1" strike="noStrike">
                <a:solidFill>
                  <a:srgbClr val="33cccc"/>
                </a:solidFill>
                <a:latin typeface="Verdana"/>
              </a:rPr>
              <a:t>осознанным</a:t>
            </a: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Признаки профессионального самовоспитан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99" name="PlaceHolder 2"/>
          <p:cNvSpPr>
            <a:spLocks noGrp="1"/>
          </p:cNvSpPr>
          <p:nvPr>
            <p:ph/>
          </p:nvPr>
        </p:nvSpPr>
        <p:spPr>
          <a:xfrm>
            <a:off x="250920" y="1600200"/>
            <a:ext cx="8642160" cy="47815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ознание личности противоречий между уровнем своего профессионального образования и требованиями, предъявляемыми к роду его профессиональной деятельности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самоорганизации юриста, связанный с постановкой целей, формулировкой задач, осуществлением самоконтроля за их выполнением, коррекцией путей самовоспитания.</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офессиональное самовоспитание есть процесс разностороннего воздействия на личность служебной и бытовой сферы.</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ажную роль в профессиональном самовоспитании играют свойства личности юриста, качества интеллекта, вол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7920"/>
            <a:ext cx="843588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Способы самовоспит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1" name="PlaceHolder 2"/>
          <p:cNvSpPr>
            <a:spLocks noGrp="1"/>
          </p:cNvSpPr>
          <p:nvPr>
            <p:ph/>
          </p:nvPr>
        </p:nvSpPr>
        <p:spPr>
          <a:xfrm>
            <a:off x="250560" y="1267920"/>
            <a:ext cx="8893080" cy="50403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имулирование. Личность самостоятельно определяет мотивы для занятий самовоспитанием. Эффективной формой самостимуляции является самоубеждение, самоприказ.</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программирование – создание программы действий.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емы осуществления программы: самоинструктирование, самонаблюдение за процессом саморазвития, самоанализ, самоконтроль, самоотчет и самооценк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7920"/>
            <a:ext cx="8964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3cccc"/>
                </a:solidFill>
                <a:latin typeface="Arial"/>
              </a:rPr>
              <a:t>профессиональное самообразование</a:t>
            </a:r>
            <a:endParaRPr b="0" lang="en-US" sz="36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рганизованная деятельность юриста, направленная на обновление, расширение и углубление имеющихся у него профессиональных знаний, навыков и умений в целях всестороннего развития лич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уществляется посредством сбора и анализа информационных источников, их восприятия, переработки, осознания, овладения новыми знаниями, который позволяет их успешно применять в повседневной профессиональной служебной деятельност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Методы самообразования</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д литературой;</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на тренажерах;</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упражнения и самотренировк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ая работа с аудиовизуальными средствами;</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амостоятельное выполнение практических задани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90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cccc"/>
                </a:solidFill>
                <a:latin typeface="Arial"/>
              </a:rPr>
              <a:t>Факторы профессиональной пригодности</a:t>
            </a:r>
            <a:endParaRPr b="0" lang="en-US" sz="3200" spc="-1" strike="noStrike">
              <a:solidFill>
                <a:srgbClr val="ccecff"/>
              </a:solidFill>
              <a:latin typeface="Arial"/>
            </a:endParaRPr>
          </a:p>
        </p:txBody>
      </p:sp>
      <p:sp>
        <p:nvSpPr>
          <p:cNvPr id="162" name="PlaceHolder 2"/>
          <p:cNvSpPr>
            <a:spLocks noGrp="1"/>
          </p:cNvSpPr>
          <p:nvPr>
            <p:ph/>
          </p:nvPr>
        </p:nvSpPr>
        <p:spPr>
          <a:xfrm>
            <a:off x="250560" y="836640"/>
            <a:ext cx="8713800" cy="56880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I фактор — высокий уровень социализации личности юрист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ий уровень развития правосознания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ование социально значимых мотивов в сфере мотивации профессиональной деятельности (стремление помогать людям отстаивать их права, добиваться справедливости, противостоять преступности, непреклонно защищать законность, стремиться к достижению успеха в работе, наиболее полной реализации своих возможностей, завоеванию профессиональ­ного авторитета и уважения среди коллег и др.);</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честность, принципиальность, гражданское мужество, чувство долга, совестливость;</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тветственность, обязательность, добросовест­ность, исполнительность, дисциплинированность, аккуратность.</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качества профессиональной непригодности</a:t>
            </a:r>
            <a:r>
              <a:rPr b="0" lang="ru-RU" sz="2000" spc="-1" strike="noStrike">
                <a:solidFill>
                  <a:srgbClr val="ffffff"/>
                </a:solidFill>
                <a:latin typeface="Verdana"/>
              </a:rPr>
              <a:t>: низкий нравственный облик, нечестность, безответственное отношение к делу, недисциплинированность, склонность к алкоголизму.</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7920"/>
            <a:ext cx="8435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II фактор — эмоционально-волевая устойчивость личности юриста</a:t>
            </a:r>
            <a:endParaRPr b="0" lang="en-US" sz="3200" spc="-1" strike="noStrike">
              <a:solidFill>
                <a:srgbClr val="ccecff"/>
              </a:solidFill>
              <a:latin typeface="Arial"/>
            </a:endParaRPr>
          </a:p>
        </p:txBody>
      </p:sp>
      <p:sp>
        <p:nvSpPr>
          <p:cNvPr id="164" name="PlaceHolder 2"/>
          <p:cNvSpPr>
            <a:spLocks noGrp="1"/>
          </p:cNvSpPr>
          <p:nvPr>
            <p:ph/>
          </p:nvPr>
        </p:nvSpPr>
        <p:spPr>
          <a:xfrm>
            <a:off x="0" y="1483920"/>
            <a:ext cx="8964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высокая работоспособность, выносливость в ситуациях длительных, интенсивных физических и психических перегрузок, способность сохранять целеустремленность и продуктивность деятельности в этих условиях;</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мение выдерживать стресс-факторы, высокий уровень самоконтроля над эмоциями и поведением, самообладание, способность сдерживать спонтанно возникающие импульсивные реакц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развитые адаптивные свойства нервной системы (сила, уравновешенность, подвижность, активность, динамичность нервных процессо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cc"/>
                </a:solidFill>
                <a:latin typeface="Verdana"/>
              </a:rPr>
              <a:t>Отрицательные  качества</a:t>
            </a:r>
            <a:r>
              <a:rPr b="0" lang="ru-RU" sz="2000" spc="-1" strike="noStrike">
                <a:solidFill>
                  <a:srgbClr val="ffffff"/>
                </a:solidFill>
                <a:latin typeface="Verdana"/>
              </a:rPr>
              <a:t> личности: низкий порог устойчивости к стрессу, избыточная эмоциональная напряженность; агрессивность, импульсивность поступков; невротическая симпатия, быстрая истощаемость нервных процессов.</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cccc"/>
                </a:solidFill>
                <a:latin typeface="Arial"/>
              </a:rPr>
              <a:t>III фактор — познавательные способности юриста</a:t>
            </a:r>
            <a:endParaRPr b="0" lang="en-US" sz="4000" spc="-1" strike="noStrike">
              <a:solidFill>
                <a:srgbClr val="ccecff"/>
              </a:solidFill>
              <a:latin typeface="Arial"/>
            </a:endParaRPr>
          </a:p>
        </p:txBody>
      </p:sp>
      <p:sp>
        <p:nvSpPr>
          <p:cNvPr id="166"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ий уровень интеллектуального развития, что предполагает следующие психически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сокая умственная работоспособность.</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вристичность мышления, его ярко выраженный творческий характер.</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cccc"/>
                </a:solidFill>
                <a:latin typeface="Verdana"/>
              </a:rPr>
              <a:t>Отрицательные качества:</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изкая умственная работоспособность, сниженные познавательная активность, интеллект, неразвитое воображение, слабая память — качества, несовместимые с эффективностью профессионального труда</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cccc"/>
                </a:solidFill>
                <a:latin typeface="Arial"/>
              </a:rPr>
              <a:t>IV фактор — коммуникативная компетентность юриста</a:t>
            </a:r>
            <a:endParaRPr b="0" lang="en-US" sz="3600" spc="-1" strike="noStrike">
              <a:solidFill>
                <a:srgbClr val="ccecff"/>
              </a:solidFill>
              <a:latin typeface="Arial"/>
            </a:endParaRPr>
          </a:p>
        </p:txBody>
      </p:sp>
      <p:sp>
        <p:nvSpPr>
          <p:cNvPr id="168" name="PlaceHolder 2"/>
          <p:cNvSpPr>
            <a:spLocks noGrp="1"/>
          </p:cNvSpPr>
          <p:nvPr>
            <p:ph/>
          </p:nvPr>
        </p:nvSpPr>
        <p:spPr>
          <a:xfrm>
            <a:off x="250560" y="1599840"/>
            <a:ext cx="87138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вободное владение вербальными и невербальными средствами общения, в том числе средствами коммуникативного воздействия, как в межличностном взаимодействии, так и во время публичных выступлений;</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качествами, </a:t>
            </a:r>
            <a:r>
              <a:rPr b="0" lang="ru-RU" sz="2400" spc="-1" strike="noStrike">
                <a:solidFill>
                  <a:srgbClr val="33cccc"/>
                </a:solidFill>
                <a:latin typeface="Verdana"/>
              </a:rPr>
              <a:t>затрудняющие коммуникативное взаимодействие</a:t>
            </a:r>
            <a:r>
              <a:rPr b="0" lang="ru-RU" sz="2400" spc="-1" strike="noStrike">
                <a:solidFill>
                  <a:srgbClr val="ffffff"/>
                </a:solidFill>
                <a:latin typeface="Verdana"/>
              </a:rPr>
              <a:t>: замкнутость (аутизм), повышенная сосредоточенность на своих проблемах, переживаниях; легкоранимое самолюбие, повышенная обидчивость, конфликтность, агрессивность; эмоциональная неустойчивость, импульсивность; слабое владение вербальными и невербальными средствами общен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7920"/>
            <a:ext cx="896472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cccc"/>
                </a:solidFill>
                <a:latin typeface="Arial"/>
              </a:rPr>
              <a:t>V фактор - организаторские способности</a:t>
            </a:r>
            <a:br>
              <a:rPr sz="3200"/>
            </a:br>
            <a:endParaRPr b="0" lang="en-US" sz="3200" spc="-1" strike="noStrike">
              <a:solidFill>
                <a:srgbClr val="ccecff"/>
              </a:solidFill>
              <a:latin typeface="Arial"/>
            </a:endParaRPr>
          </a:p>
        </p:txBody>
      </p:sp>
      <p:sp>
        <p:nvSpPr>
          <p:cNvPr id="170" name="PlaceHolder 2"/>
          <p:cNvSpPr>
            <a:spLocks noGrp="1"/>
          </p:cNvSpPr>
          <p:nvPr>
            <p:ph/>
          </p:nvPr>
        </p:nvSpPr>
        <p:spPr>
          <a:xfrm>
            <a:off x="179280" y="836640"/>
            <a:ext cx="8785440" cy="561672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активность, энергичность, повышенная работоспособн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самостоятельность, инициативность, предприим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астойчивость, целеустремленность, уверенность в себе; в мотивационной сфере — доминирование мотивов достижения успехов в делах;</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ысокая стрессоустойчивость;</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чувство ответственности за свои действия;</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аналитические способности: рефлексивность, гибкость мышления, умение прогнозировать и планировать совместную деятельность, распределять задания с учетом возможностей и психологических особенностей каждого члена группы;</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развитые коммуникативные качества: умение устанавливать психологический контакт с людьми, проницательность, способность прогнозировать поведение подчиненных, понимать мотивы их поступков, доброжелательность к окружающим, психологический такт во взаимоотношениях с ними;</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контролировать ход и результаты совместной деятельности, критичность, требовательность к подчиненным;</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умение оказывать управляющее воздействие на коллектив, мотивировать и побуждать подчиненных к выполнению работы, направлять их и «заряжать» своей энергией.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ecff"/>
                </a:solidFill>
                <a:latin typeface="Arial"/>
              </a:rPr>
              <a:t>Профессиограмма</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оставляется на основе анализа содержания профессиональной деятельности и включает в себя общую характеристику профессии и требования, которые профессия предъявляет к человеку.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Если человек хочет выбрать профессию в соответствии со своими индивидуально-личностными особенностями, ему больше подойдут профессиограммы, построенные на основе психологического изучения профессий, чем такие, которые построены на основании формальных признаков профессий. Так, при смене профессии или при выборе запасного варианта лучше ориентироваться на профессии, связанные со следующими психологическими характеристикам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пособ мышления;</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тип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предпочитаемый способ взаимодействия с людьм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Разделы профессиограммы </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лассификационная карточка професс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оминирующие виды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обеспечивающие успешность выполнения профессиональной деятельности (способности, личностные качества, интересы, склон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Качества, препятствующие эффективности профессиональной деятель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Области применения профессиональных знаний.</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История професси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Некоторые профессии, которые также подходят человеку с данным типом лич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Учебные заведения, обучающие данной профессии.</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34:58Z</dcterms:created>
  <dc:creator>User</dc:creator>
  <dc:description/>
  <dc:language>en-US</dc:language>
  <cp:lastModifiedBy>nebom zav</cp:lastModifiedBy>
  <dcterms:modified xsi:type="dcterms:W3CDTF">2015-02-05T13:22:58Z</dcterms:modified>
  <cp:revision>7</cp:revision>
  <dc:subject/>
  <dc:title>Тема № 2</dc:title>
</cp:coreProperties>
</file>