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54A44-0DFA-4ACD-9284-33E5BBBCF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F1B63-BCCB-4E2F-BC25-A8FA69F13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6C14A-F564-4AAE-A9F7-0C0FEFFF5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E42D2-C2DB-450D-9CAF-07B65AE4E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B9225D-52F1-4E60-88A3-A1F82B015E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63E25-9E7E-48FF-BEF6-B414C574D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EFDBF-FB0A-4D7C-89E1-7CF68894A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CEB14-FD24-4D2B-94A0-8AF88080B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17F83-D70D-417F-8493-21D526796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FCC1A-21B0-4369-8A76-A9024083B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220ED-98A5-4D57-982D-C80BD846E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77F1F-9A07-4C11-B83D-1D4EC18C2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914A8-6093-499C-861C-9C48CDBE9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46FD8-BF59-4095-9D76-7164AA501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243C8-F1E7-47A6-BA12-8F3329784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14CCBC-1203-47E5-9A9F-0DEA7379EB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1D51CC-8E8E-430B-84F6-FFFA4335A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053F5-CCC3-4595-84A2-6005E1814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62E1D-5475-493C-A307-08A863D98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B01E4-2F0A-4769-8181-520027896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EA013-5DE9-486D-85AF-9D7AF8CDC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9DB26-7028-43AE-85FB-A560A8808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8AAD8-8C73-420B-8606-8EBCF4754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1B567-8B70-4AED-8F27-89F9E8087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FFF8-6B0C-4C20-B22C-BF256BCDFFF8}"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2671-1346-465A-9806-509CB804744C}"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ezentacija.biz/"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20280"/>
            <a:ext cx="7772400" cy="79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ecff"/>
                </a:solidFill>
                <a:latin typeface="Arial"/>
              </a:rPr>
              <a:t>Тема № 2</a:t>
            </a:r>
            <a:endParaRPr b="0" lang="en-US" sz="4800" spc="-1" strike="noStrike">
              <a:solidFill>
                <a:srgbClr val="ccecff"/>
              </a:solidFill>
              <a:latin typeface="Arial"/>
            </a:endParaRPr>
          </a:p>
        </p:txBody>
      </p:sp>
      <p:sp>
        <p:nvSpPr>
          <p:cNvPr id="157" name="PlaceHolder 2"/>
          <p:cNvSpPr>
            <a:spLocks noGrp="1"/>
          </p:cNvSpPr>
          <p:nvPr>
            <p:ph type="subTitle"/>
          </p:nvPr>
        </p:nvSpPr>
        <p:spPr>
          <a:xfrm>
            <a:off x="324000" y="1844280"/>
            <a:ext cx="8640720" cy="379404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Психологическая характеристика юридической деятельности</a:t>
            </a:r>
            <a:endParaRPr b="0" lang="en-US" sz="3600" spc="-1" strike="noStrike">
              <a:solidFill>
                <a:srgbClr val="ffffff"/>
              </a:solidFill>
              <a:latin typeface="Verdana"/>
            </a:endParaRPr>
          </a:p>
          <a:p>
            <a:pPr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Verdana"/>
              </a:rPr>
              <a:t>Закирова Татьяна Ивановна</a:t>
            </a:r>
            <a:r>
              <a:rPr b="1" lang="ru-RU" sz="3100" spc="-1" strike="noStrike">
                <a:solidFill>
                  <a:srgbClr val="ffffff"/>
                </a:solidFill>
                <a:latin typeface="Verdana"/>
              </a:rPr>
              <a:t> </a:t>
            </a:r>
            <a:endParaRPr b="0" lang="en-US" sz="3100" spc="-1" strike="noStrike">
              <a:solidFill>
                <a:srgbClr val="ffffff"/>
              </a:solidFill>
              <a:latin typeface="Verdana"/>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Verdana"/>
              </a:rPr>
              <a:t>доцент кафедры психологии и педагогики </a:t>
            </a:r>
            <a:endParaRPr b="0" lang="en-US" sz="2700" spc="-1" strike="noStrike">
              <a:solidFill>
                <a:srgbClr val="ffffff"/>
              </a:solidFill>
              <a:latin typeface="Verdana"/>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Verdana"/>
              </a:rPr>
              <a:t>кандидат педагогических наук</a:t>
            </a:r>
            <a:endParaRPr b="0" lang="en-US" sz="2700" spc="-1" strike="noStrike">
              <a:solidFill>
                <a:srgbClr val="ffffff"/>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Verdana"/>
              </a:rPr>
              <a:t> </a:t>
            </a:r>
            <a:endParaRPr b="0" lang="en-US" sz="3600" spc="-1" strike="noStrike">
              <a:solidFill>
                <a:srgbClr val="ffffff"/>
              </a:solidFill>
              <a:latin typeface="Verdana"/>
            </a:endParaRPr>
          </a:p>
        </p:txBody>
      </p:sp>
      <p:sp>
        <p:nvSpPr>
          <p:cNvPr id="158" name="Прямоугольник 5"/>
          <p:cNvSpPr/>
          <p:nvPr/>
        </p:nvSpPr>
        <p:spPr>
          <a:xfrm>
            <a:off x="6448680" y="6488280"/>
            <a:ext cx="262368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1"/>
              </a:rPr>
              <a:t>http://prezentacija.biz/</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ризнаки профессий </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аименование професси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доминирующий способ мышления;</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область базовых знаний;</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рофессиональная область;</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межличностное взаимодействие;</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доминирующий интерес;</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дополнительный интерес;</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условия работы.</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История профессии юрист</a:t>
            </a:r>
            <a:br>
              <a:rPr sz="4000"/>
            </a:br>
            <a:endParaRPr b="0" lang="en-US" sz="40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ервыми основоположниками права как отрасли стали древние философы: Сократ, Аристотель, Платон. Большой вклад в развитие законотворчества внесла религия. Именно 12 библейских заповедей легли в основу создания законов.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ервыми юристами были жрецы (понтифы), которые толковали закон. На протяжении многих веков человечество совершенствовало свои межличностные и международные отношения, и поэтому право должно было прогрессировать вместе со временем и охватывать все сферы человеческой деятельности.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ейчас право прочно укоренилось во всех областях жизни людей и представляет собой самостоятельную отрасль знаний. А деятельность юристов приобретает все большее и большее значение в жизнедеятельности людей.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Профессиограмма юриста</a:t>
            </a:r>
            <a:br>
              <a:rPr sz="4000"/>
            </a:br>
            <a:endParaRPr b="0" lang="en-US" sz="4000" spc="-1" strike="noStrike">
              <a:solidFill>
                <a:srgbClr val="ccecff"/>
              </a:solidFill>
              <a:latin typeface="Arial"/>
            </a:endParaRPr>
          </a:p>
        </p:txBody>
      </p:sp>
      <p:sp>
        <p:nvSpPr>
          <p:cNvPr id="180" name="PlaceHolder 2"/>
          <p:cNvSpPr>
            <a:spLocks noGrp="1"/>
          </p:cNvSpPr>
          <p:nvPr>
            <p:ph/>
          </p:nvPr>
        </p:nvSpPr>
        <p:spPr>
          <a:xfrm>
            <a:off x="179280" y="1196640"/>
            <a:ext cx="4316400" cy="4933800"/>
          </a:xfrm>
          <a:prstGeom prst="rect">
            <a:avLst/>
          </a:prstGeom>
          <a:noFill/>
          <a:ln w="0">
            <a:noFill/>
          </a:ln>
        </p:spPr>
        <p:txBody>
          <a:bodyPr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Наименование профессии</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Доминирующий способ мышления</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Область базовых знаний №1 и их уровень </a:t>
            </a:r>
            <a:r>
              <a:rPr b="0" lang="ru-RU" sz="1600" spc="-1" strike="noStrike">
                <a:solidFill>
                  <a:srgbClr val="ffffff"/>
                </a:solidFill>
                <a:latin typeface="Verdana"/>
              </a:rPr>
              <a:t>)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Область базовых знаний №2 и их уровень</a:t>
            </a:r>
            <a:r>
              <a:rPr b="0" lang="ru-RU"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Профессиональная область</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Межличностное взаимодействие</a:t>
            </a:r>
            <a:r>
              <a:rPr b="0" lang="ru-RU"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Доминирующий интерес</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Дополнительный интерес</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1" lang="ru-RU" sz="1600" spc="-1" strike="noStrike">
                <a:solidFill>
                  <a:srgbClr val="ffffff"/>
                </a:solidFill>
                <a:latin typeface="Verdana"/>
              </a:rPr>
              <a:t>Условия работы</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81" name="PlaceHolder 3"/>
          <p:cNvSpPr>
            <a:spLocks noGrp="1"/>
          </p:cNvSpPr>
          <p:nvPr>
            <p:ph/>
          </p:nvPr>
        </p:nvSpPr>
        <p:spPr>
          <a:xfrm>
            <a:off x="4427280" y="980640"/>
            <a:ext cx="4537080" cy="5149800"/>
          </a:xfrm>
          <a:prstGeom prst="rect">
            <a:avLst/>
          </a:prstGeom>
          <a:noFill/>
          <a:ln w="0">
            <a:noFill/>
          </a:ln>
        </p:spPr>
        <p:txBody>
          <a:bodyPr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юрист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адаптация – формализация</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общественные науки, уровень 3, высокий (теоретический)</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Право, юридические науки, уровень 2, средний (практическое использование знаний)</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Юриспруденция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Частое по типу «рядом»</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Предпринимательский</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Социальный</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в помещении, сидячий</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0920" y="277920"/>
            <a:ext cx="8642160" cy="84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Доминирующие виды деятельности профессии юрист:</a:t>
            </a:r>
            <a:br>
              <a:rPr sz="3200"/>
            </a:br>
            <a:endParaRPr b="0" lang="en-US" sz="3200" spc="-1" strike="noStrike">
              <a:solidFill>
                <a:srgbClr val="ccecff"/>
              </a:solidFill>
              <a:latin typeface="Arial"/>
            </a:endParaRPr>
          </a:p>
        </p:txBody>
      </p:sp>
      <p:sp>
        <p:nvSpPr>
          <p:cNvPr id="183" name="PlaceHolder 2"/>
          <p:cNvSpPr>
            <a:spLocks noGrp="1"/>
          </p:cNvSpPr>
          <p:nvPr>
            <p:ph/>
          </p:nvPr>
        </p:nvSpPr>
        <p:spPr>
          <a:xfrm>
            <a:off x="250920" y="980640"/>
            <a:ext cx="8642160" cy="5149800"/>
          </a:xfrm>
          <a:prstGeom prst="rect">
            <a:avLst/>
          </a:prstGeom>
          <a:noFill/>
          <a:ln w="0">
            <a:noFill/>
          </a:ln>
        </p:spPr>
        <p:txBody>
          <a:bodyPr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консультирование лиц, нуждающихся в юридической помощи (правовая помощь, справочно-информационная работа по законодательству с применением технических средств);</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изучение законов, подзаконных актов, нормативно-правовых актов, международных договоров (также учет действующего законодательства и других нормативных актов) и применение их на практике;</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оставление юридических документов, контрактов, актов (договоров, лицензий) имущественно-правового характера, содействие в их оформлении;</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толкование законов;</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контроль за соблюдением законности (правовое регулирование социальных норм и отношений);</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осуществление методического руководства правовой работы на предприятии;</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оздание архива судебных и арбитражных дел;</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участие в процессе законотворчества (разработка законов и правовых документов);</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обеспечение правовой защиты граждан, организаций, государства;</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изучение правовой практики зарубежных коллег;</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правовая пропаганда;</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участие в судебных процессах (защита дел в суде или поддержание обвинения).</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277560"/>
            <a:ext cx="896472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Способност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185" name="PlaceHolder 2"/>
          <p:cNvSpPr>
            <a:spLocks noGrp="1"/>
          </p:cNvSpPr>
          <p:nvPr>
            <p:ph/>
          </p:nvPr>
        </p:nvSpPr>
        <p:spPr>
          <a:xfrm>
            <a:off x="179280" y="1196640"/>
            <a:ext cx="8785440" cy="532764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логическое, аналитическое мышление;</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ысокий уровень развития понятийного мышления (владение научными понятиями и способность воспринимать и понимать различные термины);</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хорошее развитие концентрации и устойчивости внимания (способность в течение длительного времени сосредоточиваться на определенном виде деятельности);</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ысокий уровень развития кратковременной и долговременной памяти;</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ербальные способности (умение правильно и понятно изъясняться);</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пособность убеждения;</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оммуникативные навыки (навыки общения с людьми);</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клонность к исследовательской деятельности;</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хорошие познания в разных областях наук;</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ысокий уровень развития дедуктивного мышления (умение мыслить от общего к частному);</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пособность к всестороннему, адекватному восприятию ситуации;</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умение вести переговоры.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Личностные качества, интересы и склонности</a:t>
            </a:r>
            <a:endParaRPr b="0" lang="en-US" sz="32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организован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аккурат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уверенность в себе;</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эрудирован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честность и порядоч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деловая хватка;</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ответствен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объектив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оммуникабель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хорошая интуиция;</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эмоционально-психическая устойчив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энергич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настойчивость, принципиаль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тремление к самосовершенствованию;</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умение быстро восстанавливать работоспособность.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77920"/>
            <a:ext cx="89647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Качества, препятствующие эффективности профессиональной деятельности:</a:t>
            </a:r>
            <a:br>
              <a:rPr sz="2800"/>
            </a:br>
            <a:endParaRPr b="0" lang="en-US" sz="28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тсутствие интереса к выполняемой работе;</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решительность;</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умение быстро принимать решения;</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умение противостоять внешним факторам (лицам, ситуациям);</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честность;</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принципиальность;</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способность глубоко осмысливать происходящее;</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беспечность;</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погашенная судимость;</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лохая дикция.</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бласти применения профессиональных знаний:</a:t>
            </a:r>
            <a:endParaRPr b="0" lang="en-US" sz="3200" spc="-1" strike="noStrike">
              <a:solidFill>
                <a:srgbClr val="ccecff"/>
              </a:solidFill>
              <a:latin typeface="Arial"/>
            </a:endParaRPr>
          </a:p>
        </p:txBody>
      </p:sp>
      <p:sp>
        <p:nvSpPr>
          <p:cNvPr id="191" name="PlaceHolder 2"/>
          <p:cNvSpPr>
            <a:spLocks noGrp="1"/>
          </p:cNvSpPr>
          <p:nvPr>
            <p:ph/>
          </p:nvPr>
        </p:nvSpPr>
        <p:spPr>
          <a:xfrm>
            <a:off x="456840" y="1267920"/>
            <a:ext cx="8435880" cy="525636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государственные и негосударственные организации, предприятия, учреждения, общества различных форм собственности, являющиеся юридическими лицам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адвокатура, прокуратура;</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уды;</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частное или индивидуальное предпринимательство;</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органы предварительного следствия и дознания;</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нотариальные конторы;</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юридические консультаци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государственные органы обеспечения охраны порядка и безопасности (ОВД, органы обеспечения безопасности, органы налоговой службы и налоговой полиции, таможенные органы, органы юстиции (Министерство юстиции, служба судебных приставов);</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образовательные учреждения;</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частные детективные службы.</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0560" y="277920"/>
            <a:ext cx="8713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cccc"/>
                </a:solidFill>
                <a:latin typeface="Arial"/>
              </a:rPr>
              <a:t>Самосовершенствование личности юриста</a:t>
            </a:r>
            <a:endParaRPr b="0" lang="en-US" sz="3600" spc="-1" strike="noStrike">
              <a:solidFill>
                <a:srgbClr val="ccecff"/>
              </a:solidFill>
              <a:latin typeface="Arial"/>
            </a:endParaRPr>
          </a:p>
        </p:txBody>
      </p:sp>
      <p:sp>
        <p:nvSpPr>
          <p:cNvPr id="193" name="PlaceHolder 2"/>
          <p:cNvSpPr>
            <a:spLocks noGrp="1"/>
          </p:cNvSpPr>
          <p:nvPr>
            <p:ph/>
          </p:nvPr>
        </p:nvSpPr>
        <p:spPr>
          <a:xfrm>
            <a:off x="179280" y="1483920"/>
            <a:ext cx="896472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это потребность личности в профессиональном самоопределении и самореализации.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оно призвано компенсировать недостатки предшествующей подготовки, совершенствовать и систематизировать знания, умения и навыки, полученные ранее; способствовать формированию индивидуального стиля профессиональной деятельности, осмыслению передового опыта и становлению профессиональной самостоятельности юриста.</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78920" y="277920"/>
            <a:ext cx="8713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cccc"/>
                </a:solidFill>
                <a:latin typeface="Arial"/>
              </a:rPr>
              <a:t>Профессиональное самосовершенствование юриста</a:t>
            </a:r>
            <a:endParaRPr b="0" lang="en-US" sz="4000" spc="-1" strike="noStrike">
              <a:solidFill>
                <a:srgbClr val="ccecff"/>
              </a:solidFill>
              <a:latin typeface="Arial"/>
            </a:endParaRPr>
          </a:p>
        </p:txBody>
      </p:sp>
      <p:sp>
        <p:nvSpPr>
          <p:cNvPr id="195" name="PlaceHolder 2"/>
          <p:cNvSpPr>
            <a:spLocks noGrp="1"/>
          </p:cNvSpPr>
          <p:nvPr>
            <p:ph/>
          </p:nvPr>
        </p:nvSpPr>
        <p:spPr>
          <a:xfrm>
            <a:off x="250920" y="1599840"/>
            <a:ext cx="864216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заключается в его умении на основе самокритичной оценки своей личности формировать у себя необходимые профессионально значимые качества, черты характера, привычки, навыки и умения, а также в способности самостоятельно приобретать и осваивать профессиональные знания.</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ecff"/>
                </a:solidFill>
                <a:latin typeface="Arial"/>
              </a:rPr>
              <a:t>Учебные вопросы</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пециальные способности и психологические качества юриста</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рофессиональная характеристика основных юридических специальностей</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рофессиограмма юридической деятельности</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совершенствование юриста. Самовоспитание. Самообразование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Методы и приемы самообразования, самообучения</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cccc"/>
                </a:solidFill>
                <a:latin typeface="Arial"/>
              </a:rPr>
              <a:t>Составляющие профессионального самосовершенствования</a:t>
            </a:r>
            <a:endParaRPr b="0" lang="en-US" sz="36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cccc"/>
                </a:solidFill>
                <a:latin typeface="Verdana"/>
              </a:rPr>
              <a:t>Самовоспитание</a:t>
            </a:r>
            <a:r>
              <a:rPr b="0" lang="ru-RU" sz="3200" spc="-1" strike="noStrike">
                <a:solidFill>
                  <a:srgbClr val="33cccc"/>
                </a:solidFill>
                <a:latin typeface="Verdana"/>
              </a:rPr>
              <a:t> юриста</a:t>
            </a:r>
            <a:r>
              <a:rPr b="0" lang="ru-RU" sz="3200" spc="-1" strike="noStrike">
                <a:solidFill>
                  <a:srgbClr val="ffffff"/>
                </a:solidFill>
                <a:latin typeface="Verdana"/>
              </a:rPr>
              <a:t> – сознательная деятельность по обнаружению, утверждению и совершенствованию личностных качеств, умений, способов поведения и взаимодействия с окружающим миром. Существенным условием для его успешного протекания является то, что он должен быть </a:t>
            </a:r>
            <a:r>
              <a:rPr b="0" lang="ru-RU" sz="3200" spc="-1" strike="noStrike">
                <a:solidFill>
                  <a:srgbClr val="33cccc"/>
                </a:solidFill>
                <a:latin typeface="Verdana"/>
              </a:rPr>
              <a:t>осознанным</a:t>
            </a:r>
            <a:r>
              <a:rPr b="0" lang="ru-RU"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cccc"/>
                </a:solidFill>
                <a:latin typeface="Arial"/>
              </a:rPr>
              <a:t>Признаки профессионального самовоспитания</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199" name="PlaceHolder 2"/>
          <p:cNvSpPr>
            <a:spLocks noGrp="1"/>
          </p:cNvSpPr>
          <p:nvPr>
            <p:ph/>
          </p:nvPr>
        </p:nvSpPr>
        <p:spPr>
          <a:xfrm>
            <a:off x="250920" y="1600200"/>
            <a:ext cx="8642160" cy="478152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сознание личности противоречий между уровнем своего профессионального образования и требованиями, предъявляемыми к роду его профессиональной деятельности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ысокий уровень самоорганизации юриста, связанный с постановкой целей, формулировкой задач, осуществлением самоконтроля за их выполнением, коррекцией путей самовоспитания.</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офессиональное самовоспитание есть процесс разностороннего воздействия на личность служебной и бытовой сферы.</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ажную роль в профессиональном самовоспитании играют свойства личности юриста, качества интеллекта, воли.</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7920"/>
            <a:ext cx="8435880" cy="84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cccc"/>
                </a:solidFill>
                <a:latin typeface="Arial"/>
              </a:rPr>
              <a:t>Способы самовоспитания</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01" name="PlaceHolder 2"/>
          <p:cNvSpPr>
            <a:spLocks noGrp="1"/>
          </p:cNvSpPr>
          <p:nvPr>
            <p:ph/>
          </p:nvPr>
        </p:nvSpPr>
        <p:spPr>
          <a:xfrm>
            <a:off x="250560" y="1267920"/>
            <a:ext cx="8893080" cy="50403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стимулирование. Личность самостоятельно определяет мотивы для занятий самовоспитанием. Эффективной формой самостимуляции является самоубеждение, самоприказ.</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программирование – создание программы действий.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риемы осуществления программы: самоинструктирование, самонаблюдение за процессом саморазвития, самоанализ, самоконтроль, самоотчет и самооценка.</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77920"/>
            <a:ext cx="89647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cccc"/>
                </a:solidFill>
                <a:latin typeface="Arial"/>
              </a:rPr>
              <a:t>профессиональное самообразование</a:t>
            </a:r>
            <a:endParaRPr b="0" lang="en-US" sz="3600" spc="-1" strike="noStrike">
              <a:solidFill>
                <a:srgbClr val="ccec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рганизованная деятельность юриста, направленная на обновление, расширение и углубление имеющихся у него профессиональных знаний, навыков и умений в целях всестороннего развития личности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существляется посредством сбора и анализа информационных источников, их восприятия, переработки, осознания, овладения новыми знаниями, который позволяет их успешно применять в повседневной профессиональной служебной деятельности.</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cccc"/>
                </a:solidFill>
                <a:latin typeface="Arial"/>
              </a:rPr>
              <a:t>Методы самообразования</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стоятельная работа над литературой;</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стоятельная работа на тренажерах;</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упражнения и самотренировки;</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стоятельная работа с аудиовизуальными средствами;</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стоятельное выполнение практических заданий.</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9144000" cy="907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cccc"/>
                </a:solidFill>
                <a:latin typeface="Arial"/>
              </a:rPr>
              <a:t>Факторы профессиональной пригодности</a:t>
            </a:r>
            <a:endParaRPr b="0" lang="en-US" sz="3200" spc="-1" strike="noStrike">
              <a:solidFill>
                <a:srgbClr val="ccecff"/>
              </a:solidFill>
              <a:latin typeface="Arial"/>
            </a:endParaRPr>
          </a:p>
        </p:txBody>
      </p:sp>
      <p:sp>
        <p:nvSpPr>
          <p:cNvPr id="162" name="PlaceHolder 2"/>
          <p:cNvSpPr>
            <a:spLocks noGrp="1"/>
          </p:cNvSpPr>
          <p:nvPr>
            <p:ph/>
          </p:nvPr>
        </p:nvSpPr>
        <p:spPr>
          <a:xfrm>
            <a:off x="250560" y="836640"/>
            <a:ext cx="8713800" cy="568800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cccc"/>
                </a:solidFill>
                <a:latin typeface="Verdana"/>
              </a:rPr>
              <a:t>I фактор — высокий уровень социализации личности юриста</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высокий уровень развития правосознания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доминирование социально значимых мотивов в сфере мотивации профессиональной деятельности (стремление помогать людям отстаивать их права, добиваться справедливости, противостоять преступности, непреклонно защищать законность, стремиться к достижению успеха в работе, наиболее полной реализации своих возможностей, завоеванию профессиональ­ного авторитета и уважения среди коллег и др.);</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честность, принципиальность, гражданское мужество, чувство долга, совестливость;</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ответственность, обязательность, добросовест­ность, исполнительность, дисциплинированность, аккуратность.</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cccc"/>
                </a:solidFill>
                <a:latin typeface="Verdana"/>
              </a:rPr>
              <a:t>качества профессиональной непригодности</a:t>
            </a:r>
            <a:r>
              <a:rPr b="0" lang="ru-RU" sz="2000" spc="-1" strike="noStrike">
                <a:solidFill>
                  <a:srgbClr val="ffffff"/>
                </a:solidFill>
                <a:latin typeface="Verdana"/>
              </a:rPr>
              <a:t>: низкий нравственный облик, нечестность, безответственное отношение к делу, недисциплинированность, склонность к алкоголизму.</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7920"/>
            <a:ext cx="84358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cccc"/>
                </a:solidFill>
                <a:latin typeface="Arial"/>
              </a:rPr>
              <a:t>II фактор — эмоционально-волевая устойчивость личности юриста</a:t>
            </a:r>
            <a:endParaRPr b="0" lang="en-US" sz="3200" spc="-1" strike="noStrike">
              <a:solidFill>
                <a:srgbClr val="ccecff"/>
              </a:solidFill>
              <a:latin typeface="Arial"/>
            </a:endParaRPr>
          </a:p>
        </p:txBody>
      </p:sp>
      <p:sp>
        <p:nvSpPr>
          <p:cNvPr id="164" name="PlaceHolder 2"/>
          <p:cNvSpPr>
            <a:spLocks noGrp="1"/>
          </p:cNvSpPr>
          <p:nvPr>
            <p:ph/>
          </p:nvPr>
        </p:nvSpPr>
        <p:spPr>
          <a:xfrm>
            <a:off x="0" y="1483920"/>
            <a:ext cx="8964720" cy="4969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высокая работоспособность, выносливость в ситуациях длительных, интенсивных физических и психических перегрузок, способность сохранять целеустремленность и продуктивность деятельности в этих условиях;</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умение выдерживать стресс-факторы, высокий уровень самоконтроля над эмоциями и поведением, самообладание, способность сдерживать спонтанно возникающие импульсивные реакци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развитые адаптивные свойства нервной системы (сила, уравновешенность, подвижность, активность, динамичность нервных процессов).</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cccc"/>
                </a:solidFill>
                <a:latin typeface="Verdana"/>
              </a:rPr>
              <a:t>Отрицательные  качества</a:t>
            </a:r>
            <a:r>
              <a:rPr b="0" lang="ru-RU" sz="2000" spc="-1" strike="noStrike">
                <a:solidFill>
                  <a:srgbClr val="ffffff"/>
                </a:solidFill>
                <a:latin typeface="Verdana"/>
              </a:rPr>
              <a:t> личности: низкий порог устойчивости к стрессу, избыточная эмоциональная напряженность; агрессивность, импульсивность поступков; невротическая симпатия, быстрая истощаемость нервных процессов.</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cccc"/>
                </a:solidFill>
                <a:latin typeface="Arial"/>
              </a:rPr>
              <a:t>III фактор — познавательные способности юриста</a:t>
            </a:r>
            <a:endParaRPr b="0" lang="en-US" sz="4000" spc="-1" strike="noStrike">
              <a:solidFill>
                <a:srgbClr val="ccecff"/>
              </a:solidFill>
              <a:latin typeface="Arial"/>
            </a:endParaRPr>
          </a:p>
        </p:txBody>
      </p:sp>
      <p:sp>
        <p:nvSpPr>
          <p:cNvPr id="166" name="PlaceHolder 2"/>
          <p:cNvSpPr>
            <a:spLocks noGrp="1"/>
          </p:cNvSpPr>
          <p:nvPr>
            <p:ph/>
          </p:nvPr>
        </p:nvSpPr>
        <p:spPr>
          <a:xfrm>
            <a:off x="456840" y="1599840"/>
            <a:ext cx="8435880" cy="485316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ысокий уровень интеллектуального развития, что предполагает следующие психические качества:</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ысокая умственная работоспособность.</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эвристичность мышления, его ярко выраженный творческий характер.</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cccc"/>
                </a:solidFill>
                <a:latin typeface="Verdana"/>
              </a:rPr>
              <a:t>Отрицательные качества:</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изкая умственная работоспособность, сниженные познавательная активность, интеллект, неразвитое воображение, слабая память — качества, несовместимые с эффективностью профессионального труда</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cccc"/>
                </a:solidFill>
                <a:latin typeface="Arial"/>
              </a:rPr>
              <a:t>IV фактор — коммуникативная компетентность юриста</a:t>
            </a:r>
            <a:endParaRPr b="0" lang="en-US" sz="3600" spc="-1" strike="noStrike">
              <a:solidFill>
                <a:srgbClr val="ccecff"/>
              </a:solidFill>
              <a:latin typeface="Arial"/>
            </a:endParaRPr>
          </a:p>
        </p:txBody>
      </p:sp>
      <p:sp>
        <p:nvSpPr>
          <p:cNvPr id="168" name="PlaceHolder 2"/>
          <p:cNvSpPr>
            <a:spLocks noGrp="1"/>
          </p:cNvSpPr>
          <p:nvPr>
            <p:ph/>
          </p:nvPr>
        </p:nvSpPr>
        <p:spPr>
          <a:xfrm>
            <a:off x="250560" y="1599840"/>
            <a:ext cx="87138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свободное владение вербальными и невербальными средствами общения, в том числе средствами коммуникативного воздействия, как в межличностном взаимодействии, так и во время публичных выступлений;</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качествами, </a:t>
            </a:r>
            <a:r>
              <a:rPr b="0" lang="ru-RU" sz="2400" spc="-1" strike="noStrike">
                <a:solidFill>
                  <a:srgbClr val="33cccc"/>
                </a:solidFill>
                <a:latin typeface="Verdana"/>
              </a:rPr>
              <a:t>затрудняющие коммуникативное взаимодействие</a:t>
            </a:r>
            <a:r>
              <a:rPr b="0" lang="ru-RU" sz="2400" spc="-1" strike="noStrike">
                <a:solidFill>
                  <a:srgbClr val="ffffff"/>
                </a:solidFill>
                <a:latin typeface="Verdana"/>
              </a:rPr>
              <a:t>: замкнутость (аутизм), повышенная сосредоточенность на своих проблемах, переживаниях; легкоранимое самолюбие, повышенная обидчивость, конфликтность, агрессивность; эмоциональная неустойчивость, импульсивность; слабое владение вербальными и невербальными средствами общения.</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277920"/>
            <a:ext cx="896472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cccc"/>
                </a:solidFill>
                <a:latin typeface="Arial"/>
              </a:rPr>
              <a:t>V фактор - организаторские способности</a:t>
            </a:r>
            <a:br>
              <a:rPr sz="3200"/>
            </a:br>
            <a:endParaRPr b="0" lang="en-US" sz="3200" spc="-1" strike="noStrike">
              <a:solidFill>
                <a:srgbClr val="ccecff"/>
              </a:solidFill>
              <a:latin typeface="Arial"/>
            </a:endParaRPr>
          </a:p>
        </p:txBody>
      </p:sp>
      <p:sp>
        <p:nvSpPr>
          <p:cNvPr id="170" name="PlaceHolder 2"/>
          <p:cNvSpPr>
            <a:spLocks noGrp="1"/>
          </p:cNvSpPr>
          <p:nvPr>
            <p:ph/>
          </p:nvPr>
        </p:nvSpPr>
        <p:spPr>
          <a:xfrm>
            <a:off x="179280" y="836640"/>
            <a:ext cx="8785440" cy="561672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активность, энергичность, повышенная работоспособ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самостоятельность, инициативность, предприимчив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настойчивость, целеустремленность, уверенность в себе; в мотивационной сфере — доминирование мотивов достижения успехов в делах;</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высокая стрессоустойчив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чувство ответственности за свои действия;</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развитые аналитические способности: рефлексивность, гибкость мышления, умение прогнозировать и планировать совместную деятельность, распределять задания с учетом возможностей и психологических особенностей каждого члена группы;</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развитые коммуникативные качества: умение устанавливать психологический контакт с людьми, проницательность, способность прогнозировать поведение подчиненных, понимать мотивы их поступков, доброжелательность к окружающим, психологический такт во взаимоотношениях с ними;</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умение контролировать ход и результаты совместной деятельности, критичность, требовательность к подчиненным;</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умение оказывать управляющее воздействие на коллектив, мотивировать и побуждать подчиненных к выполнению работы, направлять их и «заряжать» своей энергией.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ecff"/>
                </a:solidFill>
                <a:latin typeface="Arial"/>
              </a:rPr>
              <a:t>Профессиограмма</a:t>
            </a:r>
            <a:endParaRPr b="0" lang="en-US" sz="44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оставляется на основе анализа содержания профессиональной деятельности и включает в себя общую характеристику профессии и требования, которые профессия предъявляет к человеку.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Если человек хочет выбрать профессию в соответствии со своими индивидуально-личностными особенностями, ему больше подойдут профессиограммы, построенные на основе психологического изучения профессий, чем такие, которые построены на основании формальных признаков профессий. Так, при смене профессии или при выборе запасного варианта лучше ориентироваться на профессии, связанные со следующими психологическими характеристиками: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пособ мышления;</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тип личност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редпочитаемый способ взаимодействия с людьми.</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Разделы профессиограммы </a:t>
            </a:r>
            <a:endParaRPr b="0" lang="en-US" sz="4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Классификационная карточка профессий.</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Доминирующие виды деятельност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Качества, обеспечивающие успешность выполнения профессиональной деятельности (способности, личностные качества, интересы, склонност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Качества, препятствующие эффективности профессиональной деятельност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Области применения профессиональных знаний.</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История професси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Некоторые профессии, которые также подходят человеку с данным типом личност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Учебные заведения, обучающие данной профессии.</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1T16:34:58Z</dcterms:created>
  <dc:creator>User</dc:creator>
  <dc:description/>
  <dc:language>en-US</dc:language>
  <cp:lastModifiedBy>nebom zav</cp:lastModifiedBy>
  <dcterms:modified xsi:type="dcterms:W3CDTF">2015-02-05T13:22:58Z</dcterms:modified>
  <cp:revision>7</cp:revision>
  <dc:subject/>
  <dc:title>Тема № 2</dc:title>
</cp:coreProperties>
</file>