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E606-AC29-48E6-B755-19EEFD02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0DFB-7CA0-47E7-9104-CA51367A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BD00-4923-4D34-89E6-E999F581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5271-B483-4A4E-9F30-2645DA54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9AC0-843F-46FD-969D-96A3DC9D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3CDA-51D2-49C1-BE72-8882773B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6C89-3192-41E5-A972-A92D37A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D2D-0243-43D0-996F-E071ECA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F758-95A5-4E90-8265-37882A8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9F2-E6D7-487A-9689-CE98A1C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12A-BE65-4FF7-9C24-F229EE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96EE-32C3-4EE0-869A-C3310E4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4F2-8343-4B14-9D57-4B01356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4C7-C7FB-4D3C-A79E-04D4F11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2F4C-E0FE-43D2-A58C-1C1E8893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F5CD-ECB2-4256-BAB9-517DADE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D95-3BC7-48C3-AD1E-46C37320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3A9A-D3B4-414E-8A88-B25C7DE7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CB1B-7DFC-4D37-AF54-1E5DA4C5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5114-1AF2-4B00-9609-84B5E4AF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EEB4-D510-4769-B678-A74227A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9E1C-B0E4-4CC7-B7BA-48AF1B1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6025-810F-4090-B642-9EB1FB6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BF46-31CD-419E-AD9F-92F1A72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E255-48F6-4794-9542-4523630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F9F6-A350-4157-8DA4-5A8B75D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C077-C301-44A9-87E8-EF67C7E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10CE-22C7-4F83-B0D0-91B0290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398A-7E92-47DD-A054-52D33A7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91F1-012D-4139-8723-92F979F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503F-D667-4475-B3B7-5F1D9D6C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CF0A3-4717-45A5-B0BE-D577D3C8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15A9-6C64-4E2B-8E8F-873DF22B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708B-1EAF-46BE-8538-20487940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78CD8-EBF9-4998-B034-8A25FE89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B7E4-8DC3-456E-AB98-F271D497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E645-787B-4092-B8C2-3DD735F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5439-2635-4C04-A999-4230DAF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8C0B-1C73-40D4-B707-324E6C7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7EC0-AE8C-482B-9723-1539E99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07C9-4186-4084-8804-127C636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CB0C-997B-4F14-9036-0F22299B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69AA6-C065-4896-951C-55135E76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362B-8B73-4606-9A98-BE3FD4F9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1B1C-27A2-4A63-A6D9-2FDB3D1B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5AAA-44D3-4FF3-970D-15C95A9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E6F8-8047-4E71-93AD-24268D1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6F4F-93E2-4527-BFB1-43F757E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B939-8CDF-404D-8512-3362E3FE85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22AD-8421-463A-AEE6-BBBF663D10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E53-49CC-493F-93FA-DAE175712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DF8D-ED15-4E90-AE7B-C7B183608E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16000" y="184464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 rot="10800000">
            <a:off x="2971800" y="6019200"/>
            <a:ext cx="601992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3143160" y="928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6432480" y="648828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Психологическая характеристика воспитания и само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нятие о 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нятие само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ньев, Б.Г. Психология и проблемы человекознания: Избранные психологические труды / под ред А.А. Бодалева. – М.: Воронеж: Изд-во «Институт практической психологии» НПО «МОДЭК», 1996. – 384 с. – (Психология отече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бай, Т.В. Педагогическая психология: Учеб. пособие для студентов вузов / Т.В. Габай. –  М.: Академия, 2003. – 240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мняя, И.А. Педагогическая психология: Учеб. пособие для студ.в вузов / И.А. Зимняя. – М.: Логос, 2005. – 38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ская, В.Г. Педагогическая психология / В.Г. Казанская. – СПб.: Питер, 2005. – 366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ов, Р.С. Психология: учеб. для студ. пед. вузов : В 3 кн. Кн. 2: Психология образования Р.С. Немов. –  М.: ВЛАДОС, 2004. – 60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екомендуемая литерату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н, А.А., Коломинский, Я.Л. Социальная педагогическая психология: учеб. пособие для студ. Вузов А.А. Реан, Я.Л. Коломинский. – СПб: Питер, 2000. – 416 с. – (Мастера психологи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кова, М.М. Конфликт и взаимодействие в педагогическом процессе: Кн. для учителя М.М. Рыбаков. –  М.: Просвещение, 1991. – 128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яренко, Л.Д. Педагогическая психология: учеб. пособие для студ. вузов / Л.Д. Столяренко. –  Ростов н/Д: Феникс, 2004. – 544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ьконин,  Д.Б. Избранные психологические труды / под. ред. В.В. Давыдова, В.П. Зинченко. – М.: Педагогика, 1989. – 555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ятельность по передаче новым поколениям общественно-исторического опыта; планомерное и целенаправленное воздействие на сознание и поведение человека с целью формирования определенных установок, понятий, принципов, ценностных ориентаций, обеспечивающих условия для его развития, подготовки к обществен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заимодействия целенаправленных воспитательных мер с внутренними особенностям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влияния целенаправленных воспитательных мер на формировани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оцесса возникновения новых образований личности – черт характера, привычек, потребностей и мотивов, способов поведения, новых чувств и 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Задачи психологи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сихологической характеристики возрастного облика ребенка и его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сихологических закономерностей процесса формирования личности ребенка, анализ движущих сил этого форм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утей и методов изучения индивидуальных особенностей и выявление тех качественных сдвигов, которые происходят в личности ребенка под влиянием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57:23Z</dcterms:created>
  <dc:creator>Саша</dc:creator>
  <dc:description/>
  <dc:language>en-US</dc:language>
  <cp:lastModifiedBy>nebom zav</cp:lastModifiedBy>
  <dcterms:modified xsi:type="dcterms:W3CDTF">2015-02-05T13:22:53Z</dcterms:modified>
  <cp:revision>104</cp:revision>
  <dc:subject/>
  <dc:title>Выставка-ярмарка «Образование и карьера – 2011. Гродненский регион»</dc:title>
</cp:coreProperties>
</file>