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94B36-AD25-4BE2-8BB6-6340BE82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85000-4645-4361-BD25-72A9740F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DFCF7-54E1-4595-97C2-47B1A1BD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18101-AC1A-4FC0-8D88-99219203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C5B5-3010-47E0-BB5D-AAA29825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E2C7-44C9-41F9-9C47-D1BE9D3A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0896-2BBF-4E92-B836-CEE0D3A8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BDC5-AAF0-435C-A33E-59E6423F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44D7-F64C-4590-BC17-408182CC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72FC-C65D-48BA-8E2C-10370934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C308-EDEC-4D30-BCBA-1CDB5099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7C5C0-B625-4502-B5F7-21545F6A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2B79-4409-4A57-8377-DE2627CD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560C-4A78-4CD5-AC96-2F50E669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3F9A-0AFF-4BB4-B293-A0CA8631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9F41-0C39-4C6B-B048-8C9594C9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A7CA-F2B5-4B6B-8E79-2C2355BE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BBC3E-0630-4759-A84E-B9EDD7C2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2F64F-9CF8-492A-9028-BA0506AA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58C19-3DF4-4919-8FB5-CAB54E95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447D8-1616-4293-8D05-38EE55BD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B70F9-CCA7-4FDD-B0D3-7A447E66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B68C5-D094-46D8-B518-FD1189DA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0A3EC-4113-4A18-9CA9-679CDD8A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2CABC-A3B7-48CE-BB4C-D4153605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F73DB-3DC0-4BFB-87B8-132C8204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7C448-2C42-4285-A9DD-AC8CA6DC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7F917-9D7B-432F-AF42-0A4D19C1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E365A-D88F-469E-B213-81AACDAD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145E9-B49A-4F72-BB41-01F6F8D1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9FCE6-59E2-4FEB-91B2-EFAED630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08BAD-9114-4030-9197-53BCFA03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A2F73-A653-42F0-8F84-B291495A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44461-581D-4262-A5AD-DBC4BDC1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0B946-C591-498C-B62E-425BBDF3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3E2CD-1B56-4091-B6C9-D30850AB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4DB15-50E4-458C-A412-10F90C3F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27E9B-4F8A-4E80-A9C9-8B4AC274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38B40-AE35-42BE-AE6F-F92F8DAF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51D50-5578-478C-A74A-CD64218E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CFA14-CBD2-4D69-972A-D1BD6B64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7559C-75EE-4576-B0FC-C3CF1C9F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17932-5BA7-4903-ABE0-8D7D9349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9A3EF-A00A-4C29-9107-655E5DD6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5173F-F2AD-4C2B-8A52-C8A83756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B434F-B93A-4630-AFE4-72E97A04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FC760-6936-4F2F-83D0-BFF1BD6D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8A1CA-62F8-4DC1-A33D-385E8EFA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25B8-F54C-40FE-9469-9892345086B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81B2-AB30-4EA8-B1C5-DAC12343D4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C006-8E58-424F-915A-11C1C35BC05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33DD-2FA4-4CFF-92B7-B698B70B1E5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ja.biz/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916000" y="184464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 rot="10800000">
            <a:off x="2971800" y="6019200"/>
            <a:ext cx="601992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3143160" y="928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сихологическая характеристика воспитания и самовос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6432480" y="648828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prezentacija.biz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сихологическая характеристика воспитания и само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онятие о воспит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Понятие самовос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Рекомендуемая литерату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ньев, Б.Г. Психология и проблемы человекознания: Избранные психологические труды / под ред А.А. Бодалева. – М.: Воронеж: Изд-во «Институт практической психологии» НПО «МОДЭК», 1996. – 384 с. – (Психология отечеств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бай, Т.В. Педагогическая психология: Учеб. пособие для студентов вузов / Т.В. Габай. –  М.: Академия, 2003. – 240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имняя, И.А. Педагогическая психология: Учеб. пособие для студ.в вузов / И.А. Зимняя. – М.: Логос, 2005. – 384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занская, В.Г. Педагогическая психология / В.Г. Казанская. – СПб.: Питер, 2005. – 366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ов, Р.С. Психология: учеб. для студ. пед. вузов : В 3 кн. Кн. 2: Психология образования Р.С. Немов. –  М.: ВЛАДОС, 2004. – 608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Рекомендуемая литерату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н, А.А., Коломинский, Я.Л. Социальная педагогическая психология: учеб. пособие для студ. Вузов А.А. Реан, Я.Л. Коломинский. – СПб: Питер, 2000. – 416 с. – (Мастера психологи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кова, М.М. Конфликт и взаимодействие в педагогическом процессе: Кн. для учителя М.М. Рыбаков. –  М.: Просвещение, 1991. – 128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яренко, Л.Д. Педагогическая психология: учеб. пособие для студ. вузов / Л.Д. Столяренко. –  Ростов н/Д: Феникс, 2004. – 544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ьконин,  Д.Б. Избранные психологические труды / под. ред. В.В. Давыдова, В.П. Зинченко. – М.: Педагогика, 1989. – 555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пит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деятельность по передаче новым поколениям общественно-исторического опыта; планомерное и целенаправленное воздействие на сознание и поведение человека с целью формирования определенных установок, понятий, принципов, ценностных ориентаций, обеспечивающих условия для его развития, подготовки к общественн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Задачи психологии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взаимодействия целенаправленных воспитательных мер с внутренними особенностями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влияния целенаправленных воспитательных мер на формирование ли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процесса возникновения новых образований личности – черт характера, привычек, потребностей и мотивов, способов поведения, новых чувств и отнош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Задачи психологии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психологической характеристики возрастного облика ребенка и его возрастных особен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психологических закономерностей процесса формирования личности ребенка, анализ движущих сил этого форм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путей и методов изучения индивидуальных особенностей и выявление тех качественных сдвигов, которые происходят в личности ребенка под влиянием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57:23Z</dcterms:created>
  <dc:creator>Саша</dc:creator>
  <dc:description/>
  <dc:language>en-US</dc:language>
  <cp:lastModifiedBy>nebom zav</cp:lastModifiedBy>
  <dcterms:modified xsi:type="dcterms:W3CDTF">2015-02-05T13:22:53Z</dcterms:modified>
  <cp:revision>104</cp:revision>
  <dc:subject/>
  <dc:title>Выставка-ярмарка «Образование и карьера – 2011. Гродненский регион»</dc:title>
</cp:coreProperties>
</file>