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94E3-72F7-4947-BBC4-5448A58B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077A-F5F3-4B0D-90F2-C42F6D5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E186-4A78-48B4-8195-2487C024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4B02-FF37-4D73-83BE-968DA4C4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E2F7-8632-48A3-8794-8629D437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9911-F141-4DE5-BD23-C9F68A60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F726-9D5F-49A7-A82A-8731A8C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2579-478A-406F-B12E-FFAD0B17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6AAF-5BB1-4537-896B-8CE6AD82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51B4-F777-4CCE-9373-057A7E6F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154D-2E4F-47D1-B040-BF1CCFCB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CC08-A595-40C8-B50B-B1E7AB7D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D8E8-D459-4EBA-ABF1-93851E6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1C7D-51C4-49E6-A516-04ED3AD1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2A2C-5367-417A-9060-0979D55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7577-A4FA-44AF-A24C-A5F7101F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E5DA-C879-4C1A-BFD9-2D1583D8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7902-3B70-4E88-A702-C2E75B7F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607A-77E4-4B08-BB0E-85E14FE5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8BD9-F139-4F0B-A480-DFF0C002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1EE5-6D91-4772-B2E4-240BFE4B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8482F-0786-45E0-9D8C-1175781C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04F2-158D-4EAF-9E64-654AF4C5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1BB4-7E14-48DA-8DF1-A76F66D5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1982-5A6E-41B4-B496-3BCA6EEE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7719-AEE5-48A6-B862-EAD0DB5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7333-BF92-4FAB-9626-FFC30D9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07E1-390A-461E-9A14-8A7FE284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B9EC-74A9-446E-93B6-E2E5C552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B17F-8694-4CB4-AF4D-BBDEF1B1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3472-46B0-46C3-96EB-10384B16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CE91-3344-4901-9B44-057269B4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C0B0-350D-4A56-AAA9-236D0A4D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5A8D-2747-40C7-94E4-A2606AF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11FB-F69E-4F48-BF78-9E4B4123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4D6E-E7EB-44AF-BA65-85016C1B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53A7-7124-4E10-8F73-EFD9F5D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B9B7-49A8-4EF1-B8DE-AD3FE2A7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25B2-BD3E-4D05-A7B5-1EA025FC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A149-EF4B-4B84-B070-AB43D8A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2F67-D5E0-4772-84EE-A6143B4D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0D10D-F0D9-4B01-B434-A6C2D355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84C4-275B-4B0B-9E87-19B8431E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92E6-F6C5-49FA-A74D-E8B65265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7992-1A5C-4C4A-9402-05CB2A6E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035C-6876-4C4E-B144-2865CCE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2B8D-47BE-4DE1-B36F-367C7D52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E670-9DD4-462B-B5B5-10FC2921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DE0-990E-4942-BC61-964CA39EA5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0FFF-061E-4357-B574-5F9D96B6D0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F89-8980-4F67-A80E-E1E087AD2B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08B9-E3A1-42C8-9846-BEAE9A1D04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16000" y="184464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 rot="10800000">
            <a:off x="2971800" y="6019200"/>
            <a:ext cx="601992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3143160" y="928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воспитания и само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6432480" y="648828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воспитания и само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о вос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нятие само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ньев, Б.Г. Психология и проблемы человекознания: Избранные психологические труды / под ред А.А. Бодалева. – М.: Воронеж: Изд-во «Институт практической психологии» НПО «МОДЭК», 1996. – 384 с. – (Психология отече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бай, Т.В. Педагогическая психология: Учеб. пособие для студентов вузов / Т.В. Габай. –  М.: Академия, 2003. – 240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няя, И.А. Педагогическая психология: Учеб. пособие для студ.в вузов / И.А. Зимняя. – М.: Логос, 2005. – 38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нская, В.Г. Педагогическая психология / В.Г. Казанская. – СПб.: Питер, 2005. – 366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ов, Р.С. Психология: учеб. для студ. пед. вузов : В 3 кн. Кн. 2: Психология образования Р.С. Немов. –  М.: ВЛАДОС, 2004. – 60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н, А.А., Коломинский, Я.Л. Социальная педагогическая психология: учеб. пособие для студ. Вузов А.А. Реан, Я.Л. Коломинский. – СПб: Питер, 2000. – 416 с. – (Мастера психолог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кова, М.М. Конфликт и взаимодействие в педагогическом процессе: Кн. для учителя М.М. Рыбаков. –  М.: Просвещение, 1991. – 12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яренко, Л.Д. Педагогическая психология: учеб. пособие для студ. вузов / Л.Д. Столяренко. –  Ростов н/Д: Феникс, 2004. – 54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ьконин,  Д.Б. Избранные психологические труды / под. ред. В.В. Давыдова, В.П. Зинченко. – М.: Педагогика, 1989. – 555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ятельность по передаче новым поколениям общественно-исторического опыта; планомерное и целенаправленное воздействие на сознание и поведение человека с целью формирования определенных установок, понятий, принципов, ценностных ориентаций, обеспечивающих условия для его развития, подготовки к обществен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Задачи психологи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взаимодействия целенаправленных воспитательных мер с внутренними особенностями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влияния целенаправленных воспитательных мер на формировани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оцесса возникновения новых образований личности – черт характера, привычек, потребностей и мотивов, способов поведения, новых чувств и 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Задачи психологи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сихологической характеристики возрастного облика ребенка и его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сихологических закономерностей процесса формирования личности ребенка, анализ движущих сил этого форм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утей и методов изучения индивидуальных особенностей и выявление тех качественных сдвигов, которые происходят в личности ребенка под влиянием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57:23Z</dcterms:created>
  <dc:creator>Саша</dc:creator>
  <dc:description/>
  <dc:language>en-US</dc:language>
  <cp:lastModifiedBy>nebom zav</cp:lastModifiedBy>
  <dcterms:modified xsi:type="dcterms:W3CDTF">2015-02-05T13:22:53Z</dcterms:modified>
  <cp:revision>104</cp:revision>
  <dc:subject/>
  <dc:title>Выставка-ярмарка «Образование и карьера – 2011. Гродненский регион»</dc:title>
</cp:coreProperties>
</file>