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760B-877C-4C07-8C34-3067052C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19C4-7004-4459-AC9E-64EAABD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0271B-51D5-4661-9675-6DB141E6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08D8-040A-494A-BD15-0D0F0564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E0BF-9ED0-4CA8-B2FC-66443A34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171-92CF-410D-B55E-9D0ED0E4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37B4-E87C-4A73-B39D-67A9029A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8B3C-B7DD-46D8-A50A-F0D29DC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3390-2CF2-4D6A-8D87-43A29C64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DA8-0092-417B-BCFC-77E1669D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F337-6846-45E1-A69F-F926F93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F5E6-4761-448F-90F9-C0EB6A41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5BC0-8409-4C7E-9205-C7D44EB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BBA8-A899-4245-87C0-42B5F49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FDD0-99AD-4456-BFE9-D3FB126F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725-F49A-409C-A9D2-10ECFB5D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026A-CAD8-4228-9382-968EF787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5CAF-3B1E-4DC4-A251-DD52B0D6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B48D-43E1-4590-87F6-1D461529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D79D-7B56-4065-BC47-6FFAE01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5FDF-261D-45B0-8D50-D65B71BC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457C-016D-4AA5-9C95-FCD579A8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C9C5-7557-4BED-8C86-F134595A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0C24-6B6C-409A-92C3-7622DC1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7C76-A3BB-4A1A-879B-B8D5A29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E45F-0FE7-480A-AD24-22762AB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9E2C-9186-417B-9D2A-A7D2466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54F8-36F2-42A6-9147-0727734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C982-736B-4A9B-8CCB-6275A265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CA58-9099-45A4-84A9-7F1248A4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ED3E-F29C-4B56-BAF1-FDD049E9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AB0E-5FB7-44CE-8589-C657F08E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B2B4-C29E-43EF-ABDB-E551A91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CF51-E5AD-4481-AEAA-AB10E58B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84E9-814F-4C7E-9841-2D133582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AF2C-F345-4D4D-A3D4-6A69271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6462-5409-404D-B75E-758E1BCC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2A0D-A696-477F-84FE-EE07301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1A2F-51E0-44BF-B27E-31CD422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8143-E79E-49F6-870F-962F555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0169-0A5F-4758-A704-36F39A8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EC6D-6485-4922-8A57-E4E3FFA5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EE52-4F57-4EFD-B662-FD0A6346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F75E-6C08-4086-AE18-EB174205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AFFC-E634-4B34-BDEB-2D4597D7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CD8D-3FC8-4C1B-8A04-DD20342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0E8B-55AF-4BD8-8EF9-6A24C36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AD51-8400-4AE5-8781-03E61D4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112-DE5E-47C4-9AB4-EFC445D086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75A-2DC1-41D8-A1FB-A75C47072B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BE65-27E4-40CD-B72E-F07E92BDB5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7B7-1865-4C63-B252-8C3CA3D6FB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28560" y="1856880"/>
            <a:ext cx="74358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учения. Структур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собенности учебной деятельности в различные периоды, их учет при организации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28760" y="1642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– процесс усвоения знаний, умений, социального опыта с целью практического использования их в практической жизни. Учение – деятельность ученика, организуемая в процессе обучения, осуществляемого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и как всякая деятельность включает в себя: мотивацию и целеполагание в их единстве, а также содержание и способы овладения этим содерж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т в овладении содержанием и способами учения, в обогащении личности ребенка. В отличие от игры, учебная деятельность представляет выполнение определенной системы обязательных учеб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ы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то, что побуждает ученика учиться, преодолевать трудности в процессе овладения зн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бщественно-исторический опыт. Одной из его форм является на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я 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перациональная его сторона) – э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и умственны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ых ученик овладевает содержанием учения и вместе с тем применяет усвоенные знания на прак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ктически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ешние, материальные) – это действия с предметами (с изображениями предметов, схемами, таблицами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ственные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нутренние, идеальные) к ним относятся мнемические, мыслительные, перцептивные, репродуктивные, имажети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0Z</dcterms:modified>
  <cp:revision>108</cp:revision>
  <dc:subject/>
  <dc:title>Выставка-ярмарка «Образование и карьера – 2011. Гродненский регион»</dc:title>
</cp:coreProperties>
</file>