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F1642-3EB3-4072-8AD9-FD5F22F7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70852-21FC-4076-BBAF-9A36FD87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1799D-9D61-403F-ACB3-9D57C916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9BB69-8B2D-4604-8EA9-AFA09BDC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F852-2A25-4730-AAE0-9CA18506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13EA-69D1-4467-AD99-392FAF54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F31E-41AA-4451-8920-9A253FE2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AC53-160E-4ED0-AE8F-6F849DAB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CC46-BCF3-429A-95A7-6F4A5B71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B232-6207-4E7B-84B6-C4F03278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B54B-AFD8-42EF-8D43-8E9E9E4C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7CD10-D577-4047-ACA0-16C0CD98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EDB2-F23E-4540-BC73-55441586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E95E-B1C0-4C2D-9826-EBFCC69C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D7F0-4915-4BFF-9650-850C0187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982B-973F-4E2A-98D9-3DA69432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B731-7141-4093-9C78-280A11E6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31CB4-7253-4984-AB11-7424337C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58576-CA10-4797-A41B-B29467FF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D2789-36B0-4734-829C-5F1C0240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093B1-23EE-4B20-A7E6-4CBE037B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3AD91-6D58-4C3A-8074-071DE52E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3870D-859B-4850-A060-A92475CE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BF585-AF65-41ED-8CD9-949C633D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9A173-0F42-47A7-B26A-A0D819D3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B3E1E-98F3-4C72-AB0C-A444EE87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4386B-B52D-4B5C-95A9-A3D9C0D6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30703-C72F-4983-8619-8607A0AA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103C1-91D9-4788-9D19-EE21CC6B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54FD2-420B-4CD3-818B-30858E03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0FE5F-4310-4797-9167-BA48C87F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31229-3D77-40E1-99A4-6F8EBD69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F7EC7-956D-4288-B71B-D3382C7B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8535C-D2B5-4377-B169-E1A65A08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66295-81F1-49DC-88C4-73FDC850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893EA-045E-4FA5-A8AA-82674334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A4A74-0B82-4787-B87F-12BC28DA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5CF1B-F523-42A8-8C75-DF9794CC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360DA-6047-4C7D-A52B-6C4D86E5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DAC6D-FA15-4B94-BF3E-0EAC30DD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31896-0902-4751-99E6-06CFC398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A495E-C348-42E7-A27E-DD069280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C61D6-3520-4D18-BEF1-E021C48A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66EAA-1F44-4BB0-89C2-FE7ED04C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50346-5291-4E82-94D4-52383CAB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BB0FA-ED56-432D-9C7E-7611FC34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5958E-3343-4C58-BAAC-B518996A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969E6-6039-4333-B018-E68A88D6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791C-D631-49DA-B3B6-7C3B7D8855D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4835-C9AB-4062-B544-8371F71C3C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0429-4B5A-455E-B29C-B08B05FD2A6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A5C4-00ED-4E80-BF21-C402DCA377D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ja.biz/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28560" y="1856880"/>
            <a:ext cx="74358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Психологическая характеристика учебной деятельно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 rot="10800000">
            <a:off x="2971800" y="6019200"/>
            <a:ext cx="601992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6432480" y="6488280"/>
            <a:ext cx="26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prezentacija.biz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сихологическая характеристика учеб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Понятие учения. Структура учеб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Особенности учебной деятельности в различные периоды, их учет при организации обу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Рекомендуемая литерату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н, А.А., Коломинский, Я.Л. Социальная педагогическая психология: учеб. пособие для студ. Вузов А.А. Реан, Я.Л. Коломинский. – СПб: Питер, 2000. – 416 с. – (Мастера психологи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кова, М.М. Конфликт и взаимодействие в педагогическом процессе: Кн. для учителя М.М. Рыбаков. –  М.: Просвещение, 1991. – 128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яренко, Л.Д. Педагогическая психология: учеб. пособие для студ. вузов / Л.Д. Столяренко. –  Ростов н/Д: Феникс, 2004. – 544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ьконин,  Д.Б. Избранные психологические труды / под. ред. В.В. Давыдова, В.П. Зинченко. – М.: Педагогика, 1989. – 555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Рекомендуемая литерату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ньев, Б.Г. Психология и проблемы человекознания: Избранные психологические труды / под ред А.А. Бодалева. – М.: Воронеж: Изд-во «Институт практической психологии» НПО «МОДЭК», 1996. – 384 с. – (Психология отечеств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бай, Т.В. Педагогическая психология: Учеб. пособие для студентов вузов / Т.В. Габай. –  М.: Академия, 2003. – 240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имняя, И.А. Педагогическая психология: Учеб. пособие для студ.в вузов / И.А. Зимняя. – М.: Логос, 2005. – 384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занская, В.Г. Педагогическая психология / В.Г. Казанская. – СПб.: Питер, 2005. – 366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ов, Р.С. Психология: учеб. для студ. пед. вузов : В 3 кн. Кн. 2: Психология образования Р.С. Немов. –  М.: ВЛАДОС, 2004. – 608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28760" y="16426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е – процесс усвоения знаний, умений, социального опыта с целью практического использования их в практической жизни. Учение – деятельность ученика, организуемая в процессе обучения, осуществляемого учи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сихология 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деятельность и как всякая деятельность включает в себя: мотивацию и целеполагание в их единстве, а также содержание и способы овладения этим содерж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сихология 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 уч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стоят в овладении содержанием и способами учения, в обогащении личности ребенка. В отличие от игры, учебная деятельность представляет выполнение определенной системы обязательных учебных за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тивы уч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то, что побуждает ученика учиться, преодолевать трудности в процессе овладения зна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 уч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общественно-исторический опыт. Одной из его форм является на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сихология 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перациональная его сторона) – э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актические и умственные 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 помощью которых ученик овладевает содержанием учения и вместе с тем применяет усвоенные знания на прак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актические действ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нешние, материальные) – это действия с предметами (с изображениями предметов, схемами, таблицами и т.п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мственные действ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нутренние, идеальные) к ним относятся мнемические, мыслительные, перцептивные, репродуктивные, имажетив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57:23Z</dcterms:created>
  <dc:creator>Саша</dc:creator>
  <dc:description/>
  <dc:language>en-US</dc:language>
  <cp:lastModifiedBy>nebom zav</cp:lastModifiedBy>
  <dcterms:modified xsi:type="dcterms:W3CDTF">2015-02-05T13:22:50Z</dcterms:modified>
  <cp:revision>108</cp:revision>
  <dc:subject/>
  <dc:title>Выставка-ярмарка «Образование и карьера – 2011. Гродненский регион»</dc:title>
</cp:coreProperties>
</file>