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9D662-CAF8-4545-8AC5-FEAB81070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2C915-9C36-4A1D-9680-A68E48F40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AB8DD-859E-447D-A7CA-1AA82B1CA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2165C-05D2-4334-96FE-DCCD103F5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F18A1-EBCF-4322-ADE8-17E225313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FC163-C223-4A74-A24A-A5E6153A5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2D66F-10F2-479B-9A63-D930276A8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6FFD1-0B03-4568-A3B9-CD798BFED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A1391-3BA0-4323-BFBE-723B43F81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AC38D-E743-4C88-A09B-298EF4A7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1AB3C-DF1E-4238-9BB3-845D3EE0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BD0EA-6DD2-4FD5-AE5D-98C252B84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6B770-F09E-442B-9ED1-22B33222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F7B70-DE7C-4657-A6C4-91D34AE8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BEE53-3FDA-456E-B59D-CF021678F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3B761-9906-4A97-92E3-F89BC22F3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664E9-0F02-4E88-9584-612A49AE7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F9E7A-1B98-4CC9-BD47-37C91043D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F2512-16E3-4797-811A-79110EA3B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CD7F9-F920-4562-B314-A2C0DDCEC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A0F2E-5A1E-41C5-B3E4-4270572F1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443AB-89EC-4054-AC3F-74C27EDCF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C5613-EC0F-48D3-99A3-89F6CA8E1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B963A-68B0-40E7-A27A-A1AE6D51C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B55BA-63A0-4FF0-AEEB-ED0FE781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7E9B6-1164-441D-B44E-AEC7C3E9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542E0-04DC-4A7C-B8FB-9854652A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F4B10-0C5F-4B74-821E-C053D78A2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3DE45-32D0-4BF6-B5E2-799DCFB6E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CE72E-13D1-45BD-BAB9-E575B51D9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1E2FA-9771-4090-B1E7-E6C1869F4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4F6B0-3B35-4B14-AAB3-2804AA37B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2549F-C24A-4EB5-8933-D1A720D54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137EE-5111-4145-8D5C-3237789C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A5D25-3886-47A6-9571-8C6E33043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2024A-BE8F-4C9E-B01D-F2F606032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CE3D5-3FE9-4B33-872F-74CE34354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498F9-C1C2-4276-B69A-967C2BC7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C1B1E-9A58-46F7-822E-86C21594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9CC1B-253F-460F-8AAA-95FBBD30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5A6BB-00A3-4B51-AAB8-BE05F2ED7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92134-A601-4810-BCFB-97B747B74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CFABD-E5E0-475E-8F74-F68613169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39D93-62D1-41F7-BEF3-D48F860DA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FE3CE-5F15-499B-82CB-A8E560878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970EC-AAD7-4AB0-A24B-54CD72C3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6958B-44A7-41D3-B9CA-4AAC0D99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B6A64-3139-43CA-91CE-094DFD9E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F6BA0-B437-453B-9A6D-2CD6EFC0269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EBF21-0008-48EF-8C88-E5B1B343CBB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587BE-1883-4817-8325-16165F23240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48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50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2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81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99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6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07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ED7BC-B802-4E3E-A366-401555B9062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rezentacija.biz/" TargetMode="External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428560" y="1856880"/>
            <a:ext cx="74358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Психологическая характеристика учебной деятельност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 rot="10800000">
            <a:off x="2971800" y="6019200"/>
            <a:ext cx="6019920" cy="73080"/>
          </a:xfrm>
          <a:prstGeom prst="rect">
            <a:avLst/>
          </a:prstGeom>
          <a:noFill/>
          <a:ln w="0">
            <a:noFill/>
          </a:ln>
        </p:spPr>
        <p:txBody>
          <a:bodyPr tIns="27360" bIns="27360" anchor="t">
            <a:noAutofit/>
          </a:bodyPr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3"/>
          <p:cNvSpPr/>
          <p:nvPr/>
        </p:nvSpPr>
        <p:spPr>
          <a:xfrm>
            <a:off x="6432480" y="6488280"/>
            <a:ext cx="26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prezentacija.biz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Психологическая характеристика учебн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Понятие учения. Структура учебно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Особенности учебной деятельности в различные периоды, их учет при организации обуч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Рекомендуемая литератур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ан, А.А., Коломинский, Я.Л. Социальная педагогическая психология: учеб. пособие для студ. Вузов А.А. Реан, Я.Л. Коломинский. – СПб: Питер, 2000. – 416 с. – (Мастера психологии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ыбакова, М.М. Конфликт и взаимодействие в педагогическом процессе: Кн. для учителя М.М. Рыбаков. –  М.: Просвещение, 1991. – 128 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оляренко, Л.Д. Педагогическая психология: учеб. пособие для студ. вузов / Л.Д. Столяренко. –  Ростов н/Д: Феникс, 2004. – 544 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льконин,  Д.Б. Избранные психологические труды / под. ред. В.В. Давыдова, В.П. Зинченко. – М.: Педагогика, 1989. – 555 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Рекомендуемая литератур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аньев, Б.Г. Психология и проблемы человекознания: Избранные психологические труды / под ред А.А. Бодалева. – М.: Воронеж: Изд-во «Институт практической психологии» НПО «МОДЭК», 1996. – 384 с. – (Психология отечеств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абай, Т.В. Педагогическая психология: Учеб. пособие для студентов вузов / Т.В. Габай. –  М.: Академия, 2003. – 240 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имняя, И.А. Педагогическая психология: Учеб. пособие для студ.в вузов / И.А. Зимняя. – М.: Логос, 2005. – 384 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занская, В.Г. Педагогическая психология / В.Г. Казанская. – СПб.: Питер, 2005. – 366 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мов, Р.С. Психология: учеб. для студ. пед. вузов : В 3 кн. Кн. 2: Психология образования Р.С. Немов. –  М.: ВЛАДОС, 2004. – 608 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428760" y="16426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ние – процесс усвоения знаний, умений, социального опыта с целью практического использования их в практической жизни. Учение – деятельность ученика, организуемая в процессе обучения, осуществляемого учител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Психология 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деятельность и как всякая деятельность включает в себя: мотивацию и целеполагание в их единстве, а также содержание и способы овладения этим содержа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Психология 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и уч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стоят в овладении содержанием и способами учения, в обогащении личности ребенка. В отличие от игры, учебная деятельность представляет выполнение определенной системы обязательных учебных зад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тивы учен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это то, что побуждает ученика учиться, преодолевать трудности в процессе овладения знан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держание учен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общественно-исторический опыт. Одной из его форм является нау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Психология 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особ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ен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операциональная его сторона) – это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актические и умственные действ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с помощью которых ученик овладевает содержанием учения и вместе с тем применяет усвоенные знания на практ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актические действ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внешние, материальные) – это действия с предметами (с изображениями предметов, схемами, таблицами и т.п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мственные действ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внутренние, идеальные) к ним относятся мнемические, мыслительные, перцептивные, репродуктивные, имажетив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57:23Z</dcterms:created>
  <dc:creator>Саша</dc:creator>
  <dc:description/>
  <dc:language>en-US</dc:language>
  <cp:lastModifiedBy>nebom zav</cp:lastModifiedBy>
  <dcterms:modified xsi:type="dcterms:W3CDTF">2015-02-05T13:22:50Z</dcterms:modified>
  <cp:revision>108</cp:revision>
  <dc:subject/>
  <dc:title>Выставка-ярмарка «Образование и карьера – 2011. Гродненский регион»</dc:title>
</cp:coreProperties>
</file>