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3637-F2C3-4ADF-AF19-B977F46AF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FD3B-FCD4-4036-B8B5-66409BAAA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251A-F817-4818-AE41-0EABA6202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75BE-57EB-4FE0-8E7E-5296B2DC0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FF03-A7E8-4EBE-B4C9-4B00DED52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D5D8-1B18-4B54-8AC6-BA0363140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CC0B-7704-4193-96C7-CD491AD7D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2C22-6B41-46F8-ABB9-FFF744E3E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0D9D-6B1F-49AE-A3AD-57E3F1B1F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3E0F-9103-4F0B-8F3F-94B200193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329D-9F7E-4E8B-B909-FB1853FE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B4AF-B927-4429-BDF4-DA396726B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944AC-3B0D-4EE3-B3C1-7D990E681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ivr.ru/kbr2/?p=28&amp;region=1" TargetMode="External"/><Relationship Id="rId3" Type="http://schemas.openxmlformats.org/officeDocument/2006/relationships/hyperlink" Target="http://www.ivr.ru/kbr2/?p=28&amp;region=2" TargetMode="External"/><Relationship Id="rId4" Type="http://schemas.openxmlformats.org/officeDocument/2006/relationships/hyperlink" Target="http://www.ivr.ru/kbr2/?p=28&amp;region=3" TargetMode="External"/><Relationship Id="rId5" Type="http://schemas.openxmlformats.org/officeDocument/2006/relationships/hyperlink" Target="http://www.ivr.ru/kbr2/?p=28&amp;region=3" TargetMode="External"/><Relationship Id="rId6" Type="http://schemas.openxmlformats.org/officeDocument/2006/relationships/hyperlink" Target="http://www.ivr.ru/kbr2/?p=28&amp;region=4" TargetMode="External"/><Relationship Id="rId7" Type="http://schemas.openxmlformats.org/officeDocument/2006/relationships/hyperlink" Target="http://www.ivr.ru/kbr2/?p=28&amp;region=5" TargetMode="External"/><Relationship Id="rId8" Type="http://schemas.openxmlformats.org/officeDocument/2006/relationships/hyperlink" Target="http://www.ivr.ru/kbr2/?p=28&amp;region=6" TargetMode="External"/><Relationship Id="rId9" Type="http://schemas.openxmlformats.org/officeDocument/2006/relationships/hyperlink" Target="http://www.ivr.ru/kbr2/?p=28&amp;region=7" TargetMode="External"/><Relationship Id="rId10" Type="http://schemas.openxmlformats.org/officeDocument/2006/relationships/hyperlink" Target="http://www.ivr.ru/kbr2/?p=28&amp;region=8" TargetMode="External"/><Relationship Id="rId11" Type="http://schemas.openxmlformats.org/officeDocument/2006/relationships/hyperlink" Target="http://www.ivr.ru/kbr2/?p=28&amp;region=9" TargetMode="External"/><Relationship Id="rId12" Type="http://schemas.openxmlformats.org/officeDocument/2006/relationships/hyperlink" Target="http://www.ivr.ru/kbr2/?p=28&amp;region=10" TargetMode="External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ru.wikipedia.org/wiki/&#1058;&#1091;&#1088;&#1077;&#1094;&#1082;&#1080;&#1081;_&#1103;&#1079;&#1099;&#1082;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География  КБР   9 кл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5943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Государственное устройств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Кабардино - Балка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4648320"/>
            <a:ext cx="3887640" cy="18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Автор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Жуленко Ольга Александровн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учитель географ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МКОУ «СОШ с. Малакановского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Прохладненского рай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Кабардино – Балкарской Республи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2014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26669" t="0" r="33333" b="12000"/>
          <a:stretch/>
        </p:blipFill>
        <p:spPr>
          <a:xfrm>
            <a:off x="6934320" y="1066680"/>
            <a:ext cx="1447560" cy="3353040"/>
          </a:xfrm>
          <a:prstGeom prst="rect">
            <a:avLst/>
          </a:prstGeom>
          <a:ln w="28440">
            <a:solidFill>
              <a:srgbClr val="0033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9493-9849-4B5D-9D7E-EFEA6C2065E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80520" y="990360"/>
            <a:ext cx="8458200" cy="1447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ff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922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бардино - Балкарская автономная область (5 округов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ьчикский округ, Урванский округ , Мало - Кабардинский округ, Баксанский округ, Балкарский окру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ffffff"/>
              </a:gs>
              <a:gs pos="100000">
                <a:srgbClr val="99ff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Из истории государстве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2743200"/>
            <a:ext cx="5105160" cy="358128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ffffff"/>
              </a:gs>
              <a:gs pos="100000">
                <a:srgbClr val="99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00"/>
                </a:solidFill>
                <a:uFillTx/>
                <a:latin typeface="Times New Roman"/>
                <a:ea typeface="Times New Roman"/>
              </a:rPr>
              <a:t>Так по данным переписи 1921 г.,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в Балкарском округе выделяли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12 обществ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Баксанское (Урусбиевское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Чегемское, Верхняя Балкар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Нижняя Балкария, Былы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Безенгийское, Хуламское, Янико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Белореченское, Хабаз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Кашхатау и Кёнделен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 rot="229800">
            <a:off x="5478120" y="2595240"/>
            <a:ext cx="1596960" cy="2362320"/>
          </a:xfrm>
          <a:prstGeom prst="rect">
            <a:avLst/>
          </a:prstGeom>
          <a:ln w="28440">
            <a:solidFill>
              <a:srgbClr val="003300"/>
            </a:solidFill>
            <a:miter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 rot="984600">
            <a:off x="7010280" y="4419720"/>
            <a:ext cx="1393920" cy="2133360"/>
          </a:xfrm>
          <a:prstGeom prst="rect">
            <a:avLst/>
          </a:prstGeom>
          <a:ln w="28440">
            <a:solidFill>
              <a:srgbClr val="0033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0018-E8CF-4B36-9F4F-61A3EF83DC0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ffffff"/>
              </a:gs>
              <a:gs pos="100000">
                <a:srgbClr val="99ff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Из истории государстве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 rot="504600">
            <a:off x="5638680" y="1066680"/>
            <a:ext cx="2857680" cy="14288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380880" y="914400"/>
            <a:ext cx="5486400" cy="4863960"/>
          </a:xfrm>
          <a:prstGeom prst="rect">
            <a:avLst/>
          </a:prstGeom>
          <a:ln w="28440">
            <a:solidFill>
              <a:srgbClr val="003300"/>
            </a:solidFill>
            <a:miter/>
          </a:ln>
        </p:spPr>
      </p:pic>
      <p:pic>
        <p:nvPicPr>
          <p:cNvPr id="87" name="" descr=""/>
          <p:cNvPicPr/>
          <p:nvPr/>
        </p:nvPicPr>
        <p:blipFill>
          <a:blip r:embed="rId4"/>
          <a:srcRect l="0" t="0" r="0" b="34007"/>
          <a:stretch/>
        </p:blipFill>
        <p:spPr>
          <a:xfrm rot="513000">
            <a:off x="5638680" y="2895120"/>
            <a:ext cx="3276720" cy="2514600"/>
          </a:xfrm>
          <a:prstGeom prst="rect">
            <a:avLst/>
          </a:prstGeom>
          <a:ln w="38160">
            <a:solidFill>
              <a:srgbClr val="003300"/>
            </a:solidFill>
            <a:miter/>
          </a:ln>
        </p:spPr>
      </p:pic>
      <p:pic>
        <p:nvPicPr>
          <p:cNvPr id="88" name="" descr=""/>
          <p:cNvPicPr/>
          <p:nvPr/>
        </p:nvPicPr>
        <p:blipFill>
          <a:blip r:embed="rId5"/>
          <a:srcRect l="7547" t="9579" r="3774" b="13779"/>
          <a:stretch/>
        </p:blipFill>
        <p:spPr>
          <a:xfrm>
            <a:off x="3048120" y="5029200"/>
            <a:ext cx="4876560" cy="1523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89" name=""/>
          <p:cNvSpPr/>
          <p:nvPr/>
        </p:nvSpPr>
        <p:spPr>
          <a:xfrm>
            <a:off x="2895480" y="365760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B3A1-5664-4742-910B-4B76CD5FD06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" dur="1000" autoRev="1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78" dur="1000" autoRev="1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9" dur="1000" autoRev="1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2" dur="2000" fill="hold"/>
                                        <p:tgtEl>
                                          <p:spTgt spid="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6840" y="1066320"/>
            <a:ext cx="4267080" cy="5410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ff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1936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Кабардино - Балкарская Автономная Советская Социалистическая Республика (КБАССР)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 районов: Прималкинский, Терский, Урухский, Курпский, Баксанский, Нальчикский, Урванский, Черекский, Чегемский, Эльбрусский, Нагор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858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ffffff"/>
              </a:gs>
              <a:gs pos="100000">
                <a:srgbClr val="99ff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з истории государствен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rcRect l="2561" t="7788" r="0" b="6545"/>
          <a:stretch/>
        </p:blipFill>
        <p:spPr>
          <a:xfrm rot="700800">
            <a:off x="4800240" y="3885840"/>
            <a:ext cx="3733920" cy="2162160"/>
          </a:xfrm>
          <a:prstGeom prst="rect">
            <a:avLst/>
          </a:prstGeom>
          <a:ln w="38160">
            <a:solidFill>
              <a:srgbClr val="003300"/>
            </a:solidFill>
            <a:miter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 rot="202200">
            <a:off x="6248160" y="1066320"/>
            <a:ext cx="1671480" cy="2819520"/>
          </a:xfrm>
          <a:prstGeom prst="rect">
            <a:avLst/>
          </a:prstGeom>
          <a:ln w="28440">
            <a:solidFill>
              <a:srgbClr val="0033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9535-8C02-4D9F-ADDD-8290EC12A129}" type="slidenum">
              <a:t>12</a:t>
            </a:fld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ff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Административно –территориальное деление 1920-1936г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57200" y="1066680"/>
          <a:ext cx="7848720" cy="5761080"/>
        </p:xfrm>
        <a:graphic>
          <a:graphicData uri="http://schemas.openxmlformats.org/drawingml/2006/table">
            <a:tbl>
              <a:tblPr/>
              <a:tblGrid>
                <a:gridCol w="1440000"/>
                <a:gridCol w="2663640"/>
                <a:gridCol w="374508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 образов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9ff99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9ff99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а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9ff99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9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9ff99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Горской Автономной  Советской Социалистической Республики</a:t>
                      </a: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9ff99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9ff99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</a:tcPr>
                </a:tc>
              </a:tr>
              <a:tr h="23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9ff99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бардино -Балкарская автономная область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9ff99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Нальчикский, Урванский, Мало - Кабардинский, Баксанский, </a:t>
                      </a:r>
                      <a:r>
                        <a:rPr b="1" lang="ru-RU" sz="1600" spc="-1" strike="noStrike" u="sng">
                          <a:solidFill>
                            <a:srgbClr val="003300"/>
                          </a:solidFill>
                          <a:uFillTx/>
                          <a:latin typeface="Times New Roman"/>
                          <a:ea typeface="Times New Roman"/>
                        </a:rPr>
                        <a:t>Балкарский (12 обществ)</a:t>
                      </a:r>
                      <a:r>
                        <a:rPr b="1" lang="ru-RU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0" lang="ru-RU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Баксанское (Урусбиевское), Чегемское, Верхняя Балкария, Нижняя Балкария, Былым, Безенгийское, Хуламское, Яникой, Белореченское, Хабаз, Кашхатау и Кёнделен</a:t>
                      </a:r>
                      <a:r>
                        <a:rPr b="0" lang="ru-RU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9ff99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</a:tcPr>
                </a:tc>
              </a:tr>
              <a:tr h="167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9ff99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бардино - Балкарская Автономная Советская Социалистическая Республика (КБАССР)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9ff99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1 районов: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рималкинский, Терский, Урухский, Курпский, Баксанский, Нальчикский, Урванский, Черекский, Чегемский, Эльбрусский, Нагор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9ff99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9ff99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9ff99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9ff99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7876-E094-4B23-9438-F1DB0B5C379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5634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ffffff"/>
              </a:gs>
              <a:gs pos="100000">
                <a:srgbClr val="99ff99"/>
              </a:gs>
            </a:gsLst>
            <a:lin ang="108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Административно –территориальное деление                             1944-2014гг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80880" y="841320"/>
          <a:ext cx="7848720" cy="5607000"/>
        </p:xfrm>
        <a:graphic>
          <a:graphicData uri="http://schemas.openxmlformats.org/drawingml/2006/table">
            <a:tbl>
              <a:tblPr/>
              <a:tblGrid>
                <a:gridCol w="1454400"/>
                <a:gridCol w="2469960"/>
                <a:gridCol w="392436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 образов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9ff99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9ff99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а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9ff99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</a:tcPr>
                </a:tc>
              </a:tr>
              <a:tr h="133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бардино - Балкарская Автономная Советская Социалистическая Республика (КБАСС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5 районов: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Прохладненский,Прималкинский, Майский, Терский, Курпский, Урванский, Нальчикский,  Кубинский,  Баксанский, Зольский, Нагорный, Эльбрусский, Чегемский, Хуламо - Безенгийский, Черек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2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бардино-Балкарская Республ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0 районов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санский, Зольский,  Лескенский, Майский, Прохладненский, Терский,  Урванский,  Чегемский,  Черекский, Эльбрус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3 городских округа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ьчик, Баксан, Прохлад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5 городов районного подчинени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йский, Нарткала, Терек, Тырныауз, Чегем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9ff99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9ff99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9ff99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9ff99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9ff99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9ff99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9ff99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9ff99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9ff99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380880" y="4876920"/>
            <a:ext cx="7848720" cy="16002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ffffff"/>
              </a:gs>
              <a:gs pos="100000">
                <a:srgbClr val="99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Административно - территориальное устрой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разделение территории государ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(области, республики) на части, в соответствии с котор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строится и функционирует система местных органов вла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216A-9EE5-44AF-B0F6-0B3219D49DB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ff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униципальные  образования Кабардино – Балкарской Республ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914400" y="990720"/>
            <a:ext cx="7162920" cy="5224320"/>
          </a:xfrm>
          <a:prstGeom prst="rect">
            <a:avLst/>
          </a:prstGeom>
          <a:ln w="28440">
            <a:solidFill>
              <a:srgbClr val="0033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18FB-8089-46D6-8CB4-118D1CCA1AB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Муниципальные районы и города Кабардино-Балкарской Республик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09480" y="685800"/>
          <a:ext cx="8153640" cy="5929200"/>
        </p:xfrm>
        <a:graphic>
          <a:graphicData uri="http://schemas.openxmlformats.org/drawingml/2006/table">
            <a:tbl>
              <a:tblPr/>
              <a:tblGrid>
                <a:gridCol w="1742400"/>
                <a:gridCol w="1760040"/>
                <a:gridCol w="1253520"/>
                <a:gridCol w="1053720"/>
                <a:gridCol w="934560"/>
                <a:gridCol w="1409400"/>
              </a:tblGrid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министративный цент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енность населения, тыс. челов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ритория (тыс. кв. км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сельских поселе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сельских населённых пунк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по республик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Нальчи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а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"/>
                        </a:rPr>
                        <a:t>г. Нальч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297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0,1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"/>
                        </a:rPr>
                        <a:t>г. Бакс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0,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"/>
                        </a:rPr>
                        <a:t>г</a:t>
                      </a: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"/>
                        </a:rPr>
                        <a:t>. Прохлад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60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0,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районы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6"/>
                        </a:rPr>
                        <a:t>Баксан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г. Бакса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57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0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7"/>
                        </a:rPr>
                        <a:t>Золь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с. Залукокоаж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50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2,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8"/>
                        </a:rPr>
                        <a:t>Лескен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с. Анзор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28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9"/>
                        </a:rPr>
                        <a:t>Май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с. Май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4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0"/>
                        </a:rPr>
                        <a:t>Прохладнен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г. Прохлад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45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1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1"/>
                        </a:rPr>
                        <a:t>Тер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с. Тер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51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2"/>
                        </a:rPr>
                        <a:t>Урван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с. Нарткал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7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Чегем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с. Чегем перв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68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1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Черек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с. Кашхата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68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2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Эльбрус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г. Тырныау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35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1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2DE3-B1CA-40D6-B1A2-4F65D398AFA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6832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ffffff"/>
              </a:gs>
              <a:gs pos="100000">
                <a:srgbClr val="99ff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овторим главно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648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ff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1. Каково государственное устройство Кабардино-Балкар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2. Административно-территориальное  устройство Кабардино-Балкарии в период с 1920-1936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3. Сколько районов насчитывалось в Республике в 1944г. Как они называлис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4. Сколько районов в Республике в настоящее время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6A85-57AA-4B3F-83DC-7337467411F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533160" y="762120"/>
            <a:ext cx="571500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ff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ые  образования Кабардино – Балкарской Республи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ffffff"/>
              </a:gs>
              <a:gs pos="100000">
                <a:srgbClr val="99ff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Повторим главно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rcRect l="0" t="0" r="47760" b="67678"/>
          <a:stretch/>
        </p:blipFill>
        <p:spPr>
          <a:xfrm>
            <a:off x="609480" y="1447920"/>
            <a:ext cx="5257800" cy="4724280"/>
          </a:xfrm>
          <a:prstGeom prst="rect">
            <a:avLst/>
          </a:prstGeom>
          <a:ln w="28440">
            <a:solidFill>
              <a:srgbClr val="003300"/>
            </a:solidFill>
            <a:miter/>
          </a:ln>
        </p:spPr>
      </p:pic>
      <p:sp>
        <p:nvSpPr>
          <p:cNvPr id="109" name=""/>
          <p:cNvSpPr/>
          <p:nvPr/>
        </p:nvSpPr>
        <p:spPr>
          <a:xfrm>
            <a:off x="6095880" y="838080"/>
            <a:ext cx="2667240" cy="541044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ffffff"/>
              </a:gs>
              <a:gs pos="100000">
                <a:srgbClr val="99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3300"/>
                </a:solidFill>
                <a:uFillTx/>
                <a:latin typeface="Arial"/>
              </a:rPr>
              <a:t> 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Подпишите цифр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к нижеуказанны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Муниципальны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образования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3300"/>
                </a:solidFill>
                <a:uFillTx/>
                <a:latin typeface="Arial"/>
              </a:rPr>
              <a:t>Городской округ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Нальчикский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Баксанский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Прохладненский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3300"/>
                </a:solidFill>
                <a:uFillTx/>
                <a:latin typeface="Arial"/>
              </a:rPr>
              <a:t>Район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Баксанский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Зольский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Лескенский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Майский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Прохладненский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Терский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Урванский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Чегемский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Черекский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Эльбрусский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724280" y="624852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18907" y="3794"/>
                </a:moveTo>
                <a:lnTo>
                  <a:pt x="32920" y="10800"/>
                </a:lnTo>
                <a:lnTo>
                  <a:pt x="18907" y="17806"/>
                </a:lnTo>
                <a:close/>
              </a:path>
            </a:pathLst>
          </a:custGeom>
          <a:solidFill>
            <a:srgbClr val="009999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B04C-0FB4-4C0F-95C9-1FCD5441932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990720" y="1371600"/>
            <a:ext cx="7238880" cy="4873680"/>
          </a:xfrm>
          <a:prstGeom prst="rect">
            <a:avLst/>
          </a:prstGeom>
          <a:ln w="19080">
            <a:solidFill>
              <a:srgbClr val="003300"/>
            </a:solidFill>
            <a:miter/>
          </a:ln>
        </p:spPr>
      </p:pic>
      <p:sp>
        <p:nvSpPr>
          <p:cNvPr id="112" name=""/>
          <p:cNvSpPr/>
          <p:nvPr/>
        </p:nvSpPr>
        <p:spPr>
          <a:xfrm>
            <a:off x="533520" y="380880"/>
            <a:ext cx="8153280" cy="838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униципальные  образования Кабардино – Балкарской Республик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6324480"/>
            <a:ext cx="1295640" cy="38124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73358" h="21600">
                <a:moveTo>
                  <a:pt x="0" y="0"/>
                </a:moveTo>
                <a:lnTo>
                  <a:pt x="73358" y="0"/>
                </a:lnTo>
                <a:lnTo>
                  <a:pt x="73358" y="21600"/>
                </a:lnTo>
                <a:lnTo>
                  <a:pt x="0" y="21600"/>
                </a:lnTo>
                <a:close/>
              </a:path>
              <a:path fill="lightenLess" w="73358" h="21600">
                <a:moveTo>
                  <a:pt x="0" y="0"/>
                </a:moveTo>
                <a:lnTo>
                  <a:pt x="73358" y="0"/>
                </a:lnTo>
                <a:lnTo>
                  <a:pt x="71958" y="1400"/>
                </a:lnTo>
                <a:lnTo>
                  <a:pt x="1400" y="1400"/>
                </a:lnTo>
                <a:close/>
              </a:path>
              <a:path fill="darken" w="73358" h="21600">
                <a:moveTo>
                  <a:pt x="73358" y="0"/>
                </a:moveTo>
                <a:lnTo>
                  <a:pt x="73358" y="21600"/>
                </a:lnTo>
                <a:lnTo>
                  <a:pt x="71958" y="20200"/>
                </a:lnTo>
                <a:lnTo>
                  <a:pt x="71958" y="1400"/>
                </a:lnTo>
                <a:close/>
              </a:path>
              <a:path fill="darkenLess" w="73358" h="21600">
                <a:moveTo>
                  <a:pt x="73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958" y="20200"/>
                </a:lnTo>
                <a:close/>
              </a:path>
              <a:path fill="lighten" w="73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358" h="21600">
                <a:moveTo>
                  <a:pt x="29673" y="3794"/>
                </a:moveTo>
                <a:lnTo>
                  <a:pt x="43686" y="10800"/>
                </a:lnTo>
                <a:lnTo>
                  <a:pt x="29673" y="17806"/>
                </a:lnTo>
                <a:close/>
              </a:path>
            </a:pathLst>
          </a:custGeom>
          <a:solidFill>
            <a:srgbClr val="009999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F1C1-7E50-4D38-9151-A3706CE42D6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Цели и 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Образовательны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-продолжить формирование понятий о государственном устройстве Кабардино-Балкарской Республи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- углубить и расширить знания школьников  об истории становления Кабардино-Балкарской Республ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Развивающ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-развивать память, внимание, логическое мышление, умение анализировать, обобщать, систематизировать и делать вы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-формировать умения чётко и ясно излагать свои мыс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Воспитательны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-воспитать чувство патриотизма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C285-C92C-481E-B8F3-FE33BE04DA2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ffffff"/>
              </a:gs>
              <a:gs pos="100000">
                <a:srgbClr val="99ff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Домашнее задание:</a:t>
            </a:r>
            <a:r>
              <a:rPr b="1" lang="en-US" sz="3600" spc="-1" strike="noStrike" u="sng">
                <a:solidFill>
                  <a:srgbClr val="0033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</a:t>
            </a:r>
            <a:r>
              <a:rPr b="1" lang="en-US" sz="3200" spc="-1" strike="noStrike" u="sng">
                <a:solidFill>
                  <a:srgbClr val="003300"/>
                </a:solidFill>
                <a:uFillTx/>
                <a:latin typeface="Times New Roman"/>
                <a:ea typeface="Times New Roman"/>
              </a:rPr>
              <a:t>1. Работа с картой: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уметь называть и показывать  муниципальные образования Республ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</a:t>
            </a:r>
            <a:r>
              <a:rPr b="1" lang="en-US" sz="3200" spc="-1" strike="noStrike" u="sng">
                <a:solidFill>
                  <a:srgbClr val="003300"/>
                </a:solidFill>
                <a:uFillTx/>
                <a:latin typeface="Times New Roman"/>
                <a:ea typeface="Times New Roman"/>
              </a:rPr>
              <a:t>2. Учебник: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стр.-5-9, вопросы стр.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</a:t>
            </a:r>
            <a:r>
              <a:rPr b="1" lang="en-US" sz="3200" spc="-1" strike="noStrike" u="sng">
                <a:solidFill>
                  <a:srgbClr val="003300"/>
                </a:solidFill>
                <a:uFillTx/>
                <a:latin typeface="Times New Roman"/>
                <a:ea typeface="Times New Roman"/>
              </a:rPr>
              <a:t>3. Подготовить  сообщение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о районах -соседях своего населённого пункта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9B58-1A4B-4473-A56E-3B9B9830CE9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229600" cy="452592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точни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-Бураев Р.А. Экономическая и социальная география Кабардино - Балкарской Республики. Учебник для  9 класса  общеобразовательных учреждений. - Нальчик, 2010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00"/>
                </a:solidFill>
                <a:uFillTx/>
                <a:latin typeface="Times New Roman"/>
                <a:ea typeface="Times New Roman"/>
              </a:rPr>
              <a:t>http://www.ru.all.biz/regions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00"/>
                </a:solidFill>
                <a:uFillTx/>
                <a:latin typeface="Times New Roman"/>
                <a:ea typeface="Times New Roman"/>
              </a:rPr>
              <a:t>http://www.bankgorodov.ru/region/ufo.ph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2800" spc="-1" strike="noStrike" u="sng">
                <a:solidFill>
                  <a:srgbClr val="003300"/>
                </a:solidFill>
                <a:uFillTx/>
                <a:latin typeface="Times New Roman"/>
                <a:ea typeface="Times New Roman"/>
              </a:rPr>
              <a:t>http://www.osmanenerbe.ru/dokumentyi/kyuchuk-kaynardzhiyskiy-mirnyiy-dogovor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00"/>
                </a:solidFill>
                <a:uFillTx/>
                <a:latin typeface="Times New Roman"/>
                <a:ea typeface="Times New Roman"/>
              </a:rPr>
              <a:t>http://dic.academic.ru/dic.nsf/enc_biography/</a:t>
            </a:r>
            <a:r>
              <a:rPr b="0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AE46-D694-4E8F-881A-78D22FEB607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ffffff"/>
              </a:gs>
              <a:gs pos="100000">
                <a:srgbClr val="99ff99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ла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1. Общие свед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-Кабардино - Балкарская Республика  - субъект Российской Федера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2.  Из истории государствен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3. Административно - территориальное дел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94A4-FED8-4861-A1F7-7EEDA34D1CE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038480" y="304920"/>
            <a:ext cx="4876920" cy="1066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Кабардино - Балкарская Республика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субъект Российской Федераци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86200" y="1219320"/>
            <a:ext cx="2666880" cy="99036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ffffff"/>
              </a:gs>
              <a:gs pos="100000">
                <a:srgbClr val="99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конодате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лас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24280" y="2133720"/>
            <a:ext cx="2667240" cy="9144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ffffff"/>
              </a:gs>
              <a:gs pos="100000">
                <a:srgbClr val="99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сполните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лас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95880" y="3048120"/>
            <a:ext cx="2667240" cy="99036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ffffff"/>
              </a:gs>
              <a:gs pos="100000">
                <a:srgbClr val="99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удеб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лас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6553080" y="990720"/>
            <a:ext cx="144792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7010280" y="990720"/>
            <a:ext cx="990720" cy="1218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001000" y="990720"/>
            <a:ext cx="76320" cy="2209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33520" y="380880"/>
            <a:ext cx="2819160" cy="2590920"/>
          </a:xfrm>
          <a:prstGeom prst="rect">
            <a:avLst/>
          </a:prstGeom>
          <a:ln w="28440">
            <a:solidFill>
              <a:srgbClr val="003300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533520" y="3048120"/>
            <a:ext cx="2819160" cy="9144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ffffff"/>
              </a:gs>
              <a:gs pos="100000">
                <a:srgbClr val="99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В.М. Ко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Первый президент КБ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1992 – 2005г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2286000" y="4038480"/>
            <a:ext cx="2819520" cy="2387880"/>
          </a:xfrm>
          <a:prstGeom prst="rect">
            <a:avLst/>
          </a:prstGeom>
          <a:ln w="28440">
            <a:solidFill>
              <a:srgbClr val="00330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5410080" y="5181480"/>
            <a:ext cx="3353040" cy="1143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ffffff"/>
              </a:gs>
              <a:gs pos="100000">
                <a:srgbClr val="99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Ю.А. Ко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Главы  КБ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14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848720" y="914400"/>
            <a:ext cx="228600" cy="228600"/>
          </a:xfrm>
          <a:prstGeom prst="ellipse">
            <a:avLst/>
          </a:pr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6CBD-D6CA-4F2B-87BF-61C8CA061AF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800240" y="914400"/>
            <a:ext cx="3886200" cy="510552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ffffff"/>
              </a:gs>
              <a:gs pos="100000">
                <a:srgbClr val="99ff99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ючук-Кайнарджийский мирный договор (тур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Küçük Kaynarca Antlaşması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 — мирный договор между Россией и Османской империей, заключённый 10 (21) июля 1774 «в лагере при деревне Кючук-Кайнарджи» (ныне Болгария); завершил первую турецкую войну императрицы Екатерины II. Подтвердил территориальные завоевания России в рамках предыдущего Белградского мирного договора от 1739 го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380880" y="838080"/>
            <a:ext cx="4267440" cy="5715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з истории государственност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9C60-951C-4CD0-B40B-29973F89A9A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990720" y="609480"/>
            <a:ext cx="7162560" cy="39625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53352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ffffff"/>
              </a:gs>
              <a:gs pos="100000">
                <a:srgbClr val="99ff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з истории государств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4648320"/>
            <a:ext cx="7696080" cy="2014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ff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3300"/>
                </a:solidFill>
                <a:uFillTx/>
                <a:latin typeface="Arial"/>
              </a:rPr>
              <a:t>Уезды Терской области: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Владикавказский округ                   Веденский окру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Грозненский округ                           Кизлярский окру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Моздокский округ                            Назрановский окру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Пятигорский округ                          Сундженский окру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Хасав-Юртовский округ                   Караногайское пристав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Нальчикский окру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7F02-D2B3-46C0-BC43-FE733E8C115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1000" autoRev="1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31" dur="1000" autoRev="1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2" dur="1000" autoRev="1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>
            <a:lum bright="18000"/>
          </a:blip>
          <a:stretch/>
        </p:blipFill>
        <p:spPr>
          <a:xfrm rot="20885400">
            <a:off x="3733920" y="2895120"/>
            <a:ext cx="2208240" cy="31244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5791320" y="228600"/>
            <a:ext cx="2873160" cy="43527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867280" y="4191120"/>
            <a:ext cx="2743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нязь Малой  Кабар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304920" y="228600"/>
            <a:ext cx="3276360" cy="4734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80880" y="4952880"/>
            <a:ext cx="3200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Кабардинское письм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510E-3FD2-4304-975D-43DF9778CF6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2880" y="274320"/>
            <a:ext cx="3810240" cy="10206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ffffff"/>
              </a:gs>
              <a:gs pos="100000">
                <a:srgbClr val="99ff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Из истории государстве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4190760" cy="3733560"/>
          </a:xfrm>
          <a:prstGeom prst="rect">
            <a:avLst/>
          </a:prstGeom>
          <a:ln w="28440">
            <a:solidFill>
              <a:srgbClr val="003300"/>
            </a:solidFill>
            <a:miter/>
          </a:ln>
        </p:spPr>
      </p:pic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586692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304920" y="304920"/>
            <a:ext cx="8153280" cy="5937120"/>
          </a:xfrm>
          <a:prstGeom prst="rect">
            <a:avLst/>
          </a:prstGeom>
          <a:ln w="28440">
            <a:solidFill>
              <a:srgbClr val="003300"/>
            </a:solidFill>
            <a:miter/>
          </a:ln>
        </p:spPr>
      </p:pic>
      <p:sp>
        <p:nvSpPr>
          <p:cNvPr id="75" name=""/>
          <p:cNvSpPr/>
          <p:nvPr/>
        </p:nvSpPr>
        <p:spPr>
          <a:xfrm>
            <a:off x="1523880" y="510552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ор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спубл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2FB7-A3C8-4BCC-8745-47C9F81F14A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ffffff"/>
              </a:gs>
              <a:gs pos="100000">
                <a:srgbClr val="99ff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Из истории государствен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5257800"/>
            <a:ext cx="7772400" cy="144792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ffffff"/>
              </a:gs>
              <a:gs pos="100000">
                <a:srgbClr val="99ff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Даты образования: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Кабардинская автономная область — 1 сентября 1921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Кабардино-Балкарская автономная область — 1922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Кабардино-Балкарская АССР — 5 декабря 1936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Кабардино-Балкарская Республика в составе РФ — январь 1991 г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3520" y="762120"/>
            <a:ext cx="8076960" cy="4311360"/>
          </a:xfrm>
          <a:prstGeom prst="rect">
            <a:avLst/>
          </a:prstGeom>
          <a:ln w="28440">
            <a:solidFill>
              <a:srgbClr val="0033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CCE4-76A5-4C18-8225-90148C38763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8T11:28:28Z</dcterms:created>
  <dc:creator>Ольга</dc:creator>
  <dc:description/>
  <dc:language>en-US</dc:language>
  <cp:lastModifiedBy>Ольга</cp:lastModifiedBy>
  <dcterms:modified xsi:type="dcterms:W3CDTF">2015-01-09T18:33:32Z</dcterms:modified>
  <cp:revision>5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