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8FB6-8061-4A5D-B8D0-F786B5C4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D57-5159-4ED7-82EC-394F8981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8FBD-B3E7-4A5E-931B-A29544FF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390-0237-4ADE-92C4-4027261F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A73A-620A-4778-AF96-B44165A5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DBD8-BFEC-4F9F-B0AA-1A367B36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8C8-9AE1-47BB-9D1C-F9ED2B90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EAF0-773C-49A0-9838-93EEE69C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C27E-0B01-4C56-8DBF-CA21ECEF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486-8031-45B8-A156-9DE7C60B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A8C-BFCB-4522-A03B-D257D797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8367-F8B1-4E78-9517-7BBB5DC5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D1C2-5EE5-4996-942A-62419A3CC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ivr.ru/kbr2/?p=28&amp;region=1" TargetMode="External"/><Relationship Id="rId3" Type="http://schemas.openxmlformats.org/officeDocument/2006/relationships/hyperlink" Target="http://www.ivr.ru/kbr2/?p=28&amp;region=2" TargetMode="External"/><Relationship Id="rId4" Type="http://schemas.openxmlformats.org/officeDocument/2006/relationships/hyperlink" Target="http://www.ivr.ru/kbr2/?p=28&amp;region=3" TargetMode="External"/><Relationship Id="rId5" Type="http://schemas.openxmlformats.org/officeDocument/2006/relationships/hyperlink" Target="http://www.ivr.ru/kbr2/?p=28&amp;region=3" TargetMode="External"/><Relationship Id="rId6" Type="http://schemas.openxmlformats.org/officeDocument/2006/relationships/hyperlink" Target="http://www.ivr.ru/kbr2/?p=28&amp;region=4" TargetMode="External"/><Relationship Id="rId7" Type="http://schemas.openxmlformats.org/officeDocument/2006/relationships/hyperlink" Target="http://www.ivr.ru/kbr2/?p=28&amp;region=5" TargetMode="External"/><Relationship Id="rId8" Type="http://schemas.openxmlformats.org/officeDocument/2006/relationships/hyperlink" Target="http://www.ivr.ru/kbr2/?p=28&amp;region=6" TargetMode="External"/><Relationship Id="rId9" Type="http://schemas.openxmlformats.org/officeDocument/2006/relationships/hyperlink" Target="http://www.ivr.ru/kbr2/?p=28&amp;region=7" TargetMode="External"/><Relationship Id="rId10" Type="http://schemas.openxmlformats.org/officeDocument/2006/relationships/hyperlink" Target="http://www.ivr.ru/kbr2/?p=28&amp;region=8" TargetMode="External"/><Relationship Id="rId11" Type="http://schemas.openxmlformats.org/officeDocument/2006/relationships/hyperlink" Target="http://www.ivr.ru/kbr2/?p=28&amp;region=9" TargetMode="External"/><Relationship Id="rId12" Type="http://schemas.openxmlformats.org/officeDocument/2006/relationships/hyperlink" Target="http://www.ivr.ru/kbr2/?p=28&amp;region=10" TargetMode="External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8;&#1091;&#1088;&#1077;&#1094;&#1082;&#1080;&#1081;_&#1103;&#1079;&#1099;&#1082;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География  КБР   9 к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Государственное устрой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Кабардино - Балка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4648320"/>
            <a:ext cx="3887640" cy="18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Авто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Жуленко Ольга Александр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читель географ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КОУ «СОШ с. Малакановског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охладнен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абардино – Балкарской Республ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2014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26669" t="0" r="33333" b="12000"/>
          <a:stretch/>
        </p:blipFill>
        <p:spPr>
          <a:xfrm>
            <a:off x="6934320" y="1066680"/>
            <a:ext cx="1447560" cy="335304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0568-20A3-4EF8-B1BB-2E599D853B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458200" cy="144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2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бардино - Балкарская автономная область (5 округов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ьчикский округ, Урванский округ , Мало - Кабардинский округ, Баксанский округ, Балкарский окру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Из истории государств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2743200"/>
            <a:ext cx="5105160" cy="358128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Так по данным переписи 1921 г.,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Балкарском округе выделя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12 общест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аксанское (Урусбиевское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Чегемское, Верхняя Балкар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ижняя Балкария, Был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езенгийское, Хуламское, Яник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елореченское, Хабаз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ашхатау и Кёнделен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 rot="229800">
            <a:off x="5478120" y="2595240"/>
            <a:ext cx="1596960" cy="23623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 rot="984600">
            <a:off x="7010280" y="4419720"/>
            <a:ext cx="1393920" cy="213336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478-7A7C-4C03-A5B8-C943562034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Из истории государств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504600">
            <a:off x="5638680" y="1066680"/>
            <a:ext cx="2857680" cy="1428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80880" y="914400"/>
            <a:ext cx="5486400" cy="486396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4"/>
          <a:srcRect l="0" t="0" r="0" b="34007"/>
          <a:stretch/>
        </p:blipFill>
        <p:spPr>
          <a:xfrm rot="513000">
            <a:off x="5638680" y="2895120"/>
            <a:ext cx="3276720" cy="251460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5"/>
          <a:srcRect l="7547" t="9579" r="3774" b="13779"/>
          <a:stretch/>
        </p:blipFill>
        <p:spPr>
          <a:xfrm>
            <a:off x="3048120" y="5029200"/>
            <a:ext cx="4876560" cy="15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2895480" y="36576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221-64D0-40D7-9100-C0CB423248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8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9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4267080" cy="5410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936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абардино - Балкарская Автономная Советская Социалистическая Республика (КБАССР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районов: Прималкинский, Терский, Урухский, Курпский, Баксанский, Нальчикский, Урванский, Черекский, Чегемский, Эльбрусский, Нагор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 истории государств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2561" t="7788" r="0" b="6545"/>
          <a:stretch/>
        </p:blipFill>
        <p:spPr>
          <a:xfrm rot="700800">
            <a:off x="4800240" y="3885840"/>
            <a:ext cx="3733920" cy="216216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 rot="202200">
            <a:off x="6248160" y="1066320"/>
            <a:ext cx="1671480" cy="28195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BF60-E71F-48CC-BD3C-6AEEB51614CF}" type="slidenum">
              <a:t>12</a:t>
            </a:fld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Административно –территориальное деление 1920-1936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066680"/>
          <a:ext cx="7848720" cy="5761080"/>
        </p:xfrm>
        <a:graphic>
          <a:graphicData uri="http://schemas.openxmlformats.org/drawingml/2006/table">
            <a:tbl>
              <a:tblPr/>
              <a:tblGrid>
                <a:gridCol w="1440000"/>
                <a:gridCol w="2663640"/>
                <a:gridCol w="37450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 образ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9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орской Автономной  Советской Социалистической Республики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  <a:tr h="23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ардино -Балкарская автономная область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Нальчикский, Урванский, Мало - Кабардинский, Баксанский, </a:t>
                      </a:r>
                      <a:r>
                        <a:rPr b="1" lang="ru-RU" sz="16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Балкарский (12 обществ)</a:t>
                      </a: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Баксанское (Урусбиевское), Чегемское, Верхняя Балкария, Нижняя Балкария, Былым, Безенгийское, Хуламское, Яникой, Белореченское, Хабаз, Кашхатау и Кёнделен</a:t>
                      </a: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  <a:tr h="167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бардино - Балкарская Автономная Советская Социалистическая Республика (КБАССР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1 районов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малкинский, Терский, Урухский, Курпский, Баксанский, Нальчикский, Урванский, Черекский, Чегемский, Эльбрусский, Наго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E794-C842-4560-A556-76B09301A0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563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Административно –территориальное деление                             1944-2014гг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841320"/>
          <a:ext cx="7848720" cy="5607000"/>
        </p:xfrm>
        <a:graphic>
          <a:graphicData uri="http://schemas.openxmlformats.org/drawingml/2006/table">
            <a:tbl>
              <a:tblPr/>
              <a:tblGrid>
                <a:gridCol w="1454400"/>
                <a:gridCol w="2469960"/>
                <a:gridCol w="39243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 образ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  <a:tr h="133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ардино - Балкарская Автономная Советская Социалистическая Республика (КБАСС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5 районов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Прохладненский,Прималкинский, Майский, Терский, Курпский, Урванский, Нальчикский,  Кубинский,  Баксанский, Зольский, Нагорный, Эльбрусский, Чегемский, Хуламо - Безенгийский, Черек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ардино-Балкарская Республ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0 районов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санский, Зольский,  Лескенский, Майский, Прохладненский, Терский,  Урванский,  Чегемский,  Черекский, Эльбрус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 городских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ьчик, Баксан, Прохлад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 городов районного подчине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ский, Нарткала, Терек, Тырныауз, Чеге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80880" y="4876920"/>
            <a:ext cx="7848720" cy="16002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Административно - территориальное устрой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разделение территории государ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(области, республики) на части, в соответствии с котор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строится и функционирует система местных органов в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7036-0344-4CC7-8A07-3C6DB8908A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ниципальные  образования Кабардино – Балкарской Республ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162920" cy="52243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88C1-AC9E-4BED-B44D-48399C3F91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униципальные районы и города Кабардино-Балкарской Республ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685800"/>
          <a:ext cx="8153640" cy="5929200"/>
        </p:xfrm>
        <a:graphic>
          <a:graphicData uri="http://schemas.openxmlformats.org/drawingml/2006/table">
            <a:tbl>
              <a:tblPr/>
              <a:tblGrid>
                <a:gridCol w="1742400"/>
                <a:gridCol w="1760040"/>
                <a:gridCol w="1253520"/>
                <a:gridCol w="1053720"/>
                <a:gridCol w="934560"/>
                <a:gridCol w="140940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ивный цент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населения, тыс. челов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(тыс. кв. км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сельских посе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сельских населённых пунк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по республик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Нальчи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а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г. Нальч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9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г. Бакс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г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. Прохла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йоны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Баксан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. Бакс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Золь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. Залукокоаж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,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Лескен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. Анзор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Май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. Май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Прохладнен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. Прохлад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Тер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. Тер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Урван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. Нартк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7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Чегем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. Чегем перв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Черек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. Кашхата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Эльбрус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. Тырныау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3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347-CA0E-4D44-A208-F6DDEADA91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683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вторим главно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64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1. Каково государственное устройство Кабардино-Балкар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2. Административно-территориальное  устройство Кабардино-Балкарии в период с 1920-1936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3. Сколько районов насчитывалось в Республике в 1944г. Как они называ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4. Сколько районов в Республике в настоящее время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018C-7C4D-41A5-A082-C40E58947D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160" y="762120"/>
            <a:ext cx="5715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е  образования Кабардино – Балкарской Республ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вторим главно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0" t="0" r="47760" b="67678"/>
          <a:stretch/>
        </p:blipFill>
        <p:spPr>
          <a:xfrm>
            <a:off x="609480" y="1447920"/>
            <a:ext cx="5257800" cy="47242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6095880" y="838080"/>
            <a:ext cx="2667240" cy="541044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Подпишите циф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к нижеуказан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Муниципаль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образован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00"/>
                </a:solidFill>
                <a:uFillTx/>
                <a:latin typeface="Arial"/>
              </a:rPr>
              <a:t>Городской окру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Нальчик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Баксан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Прохладнен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00"/>
                </a:solidFill>
                <a:uFillTx/>
                <a:latin typeface="Arial"/>
              </a:rPr>
              <a:t>Райо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Баксан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Золь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Лескен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Май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Прохладнен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Тер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Урван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Чегем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Черек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Эльбрус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009999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7B5C-6A83-4DD8-A789-BDD57ACEE1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90720" y="1371600"/>
            <a:ext cx="7238880" cy="487368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533520" y="380880"/>
            <a:ext cx="8153280" cy="83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ниципальные  образования Кабардино – Балкарской Республи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6324480"/>
            <a:ext cx="1295640" cy="38124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3358" h="21600">
                <a:moveTo>
                  <a:pt x="0" y="0"/>
                </a:moveTo>
                <a:lnTo>
                  <a:pt x="73358" y="0"/>
                </a:lnTo>
                <a:lnTo>
                  <a:pt x="73358" y="21600"/>
                </a:lnTo>
                <a:lnTo>
                  <a:pt x="0" y="21600"/>
                </a:lnTo>
                <a:close/>
              </a:path>
              <a:path fill="lightenLess" w="73358" h="21600">
                <a:moveTo>
                  <a:pt x="0" y="0"/>
                </a:moveTo>
                <a:lnTo>
                  <a:pt x="73358" y="0"/>
                </a:lnTo>
                <a:lnTo>
                  <a:pt x="71958" y="1400"/>
                </a:lnTo>
                <a:lnTo>
                  <a:pt x="1400" y="1400"/>
                </a:lnTo>
                <a:close/>
              </a:path>
              <a:path fill="darken" w="73358" h="21600">
                <a:moveTo>
                  <a:pt x="73358" y="0"/>
                </a:moveTo>
                <a:lnTo>
                  <a:pt x="73358" y="21600"/>
                </a:lnTo>
                <a:lnTo>
                  <a:pt x="71958" y="20200"/>
                </a:lnTo>
                <a:lnTo>
                  <a:pt x="71958" y="1400"/>
                </a:lnTo>
                <a:close/>
              </a:path>
              <a:path fill="darkenLess" w="73358" h="21600">
                <a:moveTo>
                  <a:pt x="73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58" y="20200"/>
                </a:lnTo>
                <a:close/>
              </a:path>
              <a:path fill="lighten" w="73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358" h="21600">
                <a:moveTo>
                  <a:pt x="29673" y="3794"/>
                </a:moveTo>
                <a:lnTo>
                  <a:pt x="43686" y="10800"/>
                </a:lnTo>
                <a:lnTo>
                  <a:pt x="29673" y="17806"/>
                </a:lnTo>
                <a:close/>
              </a:path>
            </a:pathLst>
          </a:custGeom>
          <a:solidFill>
            <a:srgbClr val="009999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F3DC-E849-4EE0-8168-174078E3EE6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Цели и 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Образовате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продолжить формирование понятий о государственном устройстве Кабардино-Балкарской Республ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 углубить и расширить знания школьников  об истории становления Кабардино-Балкарской Республ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развивать память, внимание, логическое мышление, умение анализировать, обобщать, систематизировать и 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формировать умения чётко и ясно излагать свои мы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воспитать чувство патриотизм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38E1-4684-459A-824E-FD7D856D9B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омашнее задание: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1. Работа с картой: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уметь называть и показывать  муниципальные образования Республ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2. Учебник: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стр.-5-9, вопросы стр.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3. Подготовить  сообщение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о районах -соседях своего населённого пункт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925-F531-4F90-B9E8-A2C960A49D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229600" cy="4525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Бураев Р.А. Экономическая и социальная география Кабардино - Балкарской Республики. Учебник для  9 класса  общеобразовательных учреждений. - Нальчик, 2010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http://www.ru.all.biz/region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http://www.bankgorodov.ru/region/ufo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http://www.osmanenerbe.ru/dokumentyi/kyuchuk-kaynardzhiyskiy-mirnyiy-dogovor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http://dic.academic.ru/dic.nsf/enc_biography/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D2BA-FB69-4A06-9B14-1F7811AD1F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1. Общие свед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Кабардино - Балкарская Республика  - субъект Российской Федер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2.  Из истории государств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3. Административно - территориальное де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9E42-AD83-40A5-ADF3-7C35586D74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038480" y="304920"/>
            <a:ext cx="487692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Кабардино - Балкарская Республик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субъект Российской Федерац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1219320"/>
            <a:ext cx="2666880" cy="9903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конод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ла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2133720"/>
            <a:ext cx="2667240" cy="914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полн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ла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3048120"/>
            <a:ext cx="2667240" cy="9903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деб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ла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553080" y="990720"/>
            <a:ext cx="14479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010280" y="990720"/>
            <a:ext cx="99072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01000" y="990720"/>
            <a:ext cx="76320" cy="2209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2819160" cy="25909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533520" y="3048120"/>
            <a:ext cx="2819160" cy="914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В.М. Ко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Первый президент КБ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1992 – 2005г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2819520" cy="23878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5410080" y="5181480"/>
            <a:ext cx="335304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Ю.А. Ко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лавы  КБ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4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48720" y="914400"/>
            <a:ext cx="228600" cy="22860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CAD9-2D66-4FCE-B087-25B4AFA223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800240" y="914400"/>
            <a:ext cx="3886200" cy="51055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ючук-Кайнарджийский мирный договор (тур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Küçük Kaynarca Antlaşmas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 — мирный договор между Россией и Османской империей, заключённый 10 (21) июля 1774 «в лагере при деревне Кючук-Кайнарджи» (ныне Болгария); завершил первую турецкую войну императрицы Екатерины II. Подтвердил территориальные завоевания России в рамках предыдущего Белградского мирного договора от 1739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0880" y="838080"/>
            <a:ext cx="426744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 истории государственност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0AFC-D853-4F98-9A49-D34A289F31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7162560" cy="3962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5335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 истории государств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4648320"/>
            <a:ext cx="7696080" cy="20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3300"/>
                </a:solidFill>
                <a:uFillTx/>
                <a:latin typeface="Arial"/>
              </a:rPr>
              <a:t>Уезды Терской области: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ладикавказский округ                   Веденский о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Грозненский округ                           Кизлярский о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Моздокский округ                            Назрановский о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ятигорский округ                          Сундженский окр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Хасав-Юртовский округ                   Караногайское пристав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Нальчикский окр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CEC4-773A-4DD2-99D0-066DE430E5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0" autoRev="1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1" dur="1000" autoRev="1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" dur="1000" autoRev="1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>
            <a:lum bright="18000"/>
          </a:blip>
          <a:stretch/>
        </p:blipFill>
        <p:spPr>
          <a:xfrm rot="20885400">
            <a:off x="3733920" y="2895120"/>
            <a:ext cx="2208240" cy="3124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791320" y="228600"/>
            <a:ext cx="2873160" cy="4352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67280" y="4191120"/>
            <a:ext cx="2743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язь Малой  Каба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3276360" cy="4734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495288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Кабардинское пись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DF7-5F13-4799-AC6A-AC48D526240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2880" y="274320"/>
            <a:ext cx="3810240" cy="10206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Из истории государств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190760" cy="373356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8669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8153280" cy="59371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1523880" y="51055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спубл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BC55-D874-4907-8C2C-8E33B38EE4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Из истории государств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7772400" cy="1447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аты образования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абардинская автономная область — 1 сентября 192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абардино-Балкарская автономная область — 192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абардино-Балкарская АССР — 5 декабря 193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абардино-Балкарская Республика в составе РФ — январь 1991 г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8076960" cy="431136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6486-2F33-4425-B6C9-E927E706D7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8T11:28:28Z</dcterms:created>
  <dc:creator>Ольга</dc:creator>
  <dc:description/>
  <dc:language>en-US</dc:language>
  <cp:lastModifiedBy>Ольга</cp:lastModifiedBy>
  <dcterms:modified xsi:type="dcterms:W3CDTF">2015-01-09T18:33:32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