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DC8-974D-4D8E-885E-D4188BB9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D26-26CB-4414-ABCB-F188A94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662-778D-4035-8D3A-86F8A04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785-FF67-4051-BD28-50586FC7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ED5-A75D-4BB1-B68B-0E14F9C6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E64-3A77-4499-BEDC-0882A53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41C-8CFF-427B-8639-5497EB7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73F-D5F2-494E-AA14-770E336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99D-D40D-4179-A07F-0B1B3F5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23B-5599-4C5D-8773-F80F10D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3A7-EC1E-4363-8F25-675FC83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845-C06F-4213-BE64-E6A5DEE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6A7C-35F8-42B1-A76B-942D8954B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vr.ru/kbr2/?p=28&amp;region=1" TargetMode="External"/><Relationship Id="rId3" Type="http://schemas.openxmlformats.org/officeDocument/2006/relationships/hyperlink" Target="http://www.ivr.ru/kbr2/?p=28&amp;region=2" TargetMode="External"/><Relationship Id="rId4" Type="http://schemas.openxmlformats.org/officeDocument/2006/relationships/hyperlink" Target="http://www.ivr.ru/kbr2/?p=28&amp;region=3" TargetMode="External"/><Relationship Id="rId5" Type="http://schemas.openxmlformats.org/officeDocument/2006/relationships/hyperlink" Target="http://www.ivr.ru/kbr2/?p=28&amp;region=3" TargetMode="External"/><Relationship Id="rId6" Type="http://schemas.openxmlformats.org/officeDocument/2006/relationships/hyperlink" Target="http://www.ivr.ru/kbr2/?p=28&amp;region=4" TargetMode="External"/><Relationship Id="rId7" Type="http://schemas.openxmlformats.org/officeDocument/2006/relationships/hyperlink" Target="http://www.ivr.ru/kbr2/?p=28&amp;region=5" TargetMode="External"/><Relationship Id="rId8" Type="http://schemas.openxmlformats.org/officeDocument/2006/relationships/hyperlink" Target="http://www.ivr.ru/kbr2/?p=28&amp;region=6" TargetMode="External"/><Relationship Id="rId9" Type="http://schemas.openxmlformats.org/officeDocument/2006/relationships/hyperlink" Target="http://www.ivr.ru/kbr2/?p=28&amp;region=7" TargetMode="External"/><Relationship Id="rId10" Type="http://schemas.openxmlformats.org/officeDocument/2006/relationships/hyperlink" Target="http://www.ivr.ru/kbr2/?p=28&amp;region=8" TargetMode="External"/><Relationship Id="rId11" Type="http://schemas.openxmlformats.org/officeDocument/2006/relationships/hyperlink" Target="http://www.ivr.ru/kbr2/?p=28&amp;region=9" TargetMode="External"/><Relationship Id="rId12" Type="http://schemas.openxmlformats.org/officeDocument/2006/relationships/hyperlink" Target="http://www.ivr.ru/kbr2/?p=28&amp;region=10" TargetMode="Externa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8;&#1091;&#1088;&#1077;&#1094;&#1082;&#1080;&#1081;_&#1103;&#1079;&#1099;&#1082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еография  КБР   9 к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Государственное устро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Кабардино - Балк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648320"/>
            <a:ext cx="3887640" cy="18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14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6669" t="0" r="33333" b="12000"/>
          <a:stretch/>
        </p:blipFill>
        <p:spPr>
          <a:xfrm>
            <a:off x="6934320" y="1066680"/>
            <a:ext cx="1447560" cy="33530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25E-1C75-41A3-BC80-CD5B1E1BB1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45820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2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бардино - Балкарская автономная область (5 округ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ьчикский округ, Урванский округ , Мало - Кабардинский округ, Баксанский округ, Балкарский о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43200"/>
            <a:ext cx="5105160" cy="35812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Так по данным переписи 1921 г.,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Балкарском округе выделя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2 обще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аксанское (Урусбиевско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егемское, Верхняя Балка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ижняя Балкария, Бы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зенгийское, Хуламское, Яни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лореченское, Хаб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шхатау и Кёнделе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29800">
            <a:off x="5478120" y="2595240"/>
            <a:ext cx="1596960" cy="2362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984600">
            <a:off x="7010280" y="4419720"/>
            <a:ext cx="1393920" cy="2133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D11-9078-4954-B8D7-F498B06057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504600">
            <a:off x="5638680" y="10666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5486400" cy="4863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0" r="0" b="34007"/>
          <a:stretch/>
        </p:blipFill>
        <p:spPr>
          <a:xfrm rot="513000">
            <a:off x="5638680" y="2895120"/>
            <a:ext cx="3276720" cy="25146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rcRect l="7547" t="9579" r="3774" b="13779"/>
          <a:stretch/>
        </p:blipFill>
        <p:spPr>
          <a:xfrm>
            <a:off x="3048120" y="5029200"/>
            <a:ext cx="487656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895480" y="36576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6B5-8FCA-4909-B4AF-66AB689AA9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267080" cy="541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36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- Балкарская Автономная Советская Социалистическая Республика (КБАССР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районов: Прималкинский, Терский, Урухский, Курпский, Баксанский, Нальчикский, Урванский, Черекский, Чегемский, Эльбрусский, Наго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2561" t="7788" r="0" b="6545"/>
          <a:stretch/>
        </p:blipFill>
        <p:spPr>
          <a:xfrm rot="700800">
            <a:off x="4800240" y="3885840"/>
            <a:ext cx="3733920" cy="21621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202200">
            <a:off x="6248160" y="1066320"/>
            <a:ext cx="1671480" cy="28195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942-94A0-428D-A74D-125ECAF221EC}" type="slidenum">
              <a:t>12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1920-1936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7848720" cy="5761080"/>
        </p:xfrm>
        <a:graphic>
          <a:graphicData uri="http://schemas.openxmlformats.org/drawingml/2006/table">
            <a:tbl>
              <a:tblPr/>
              <a:tblGrid>
                <a:gridCol w="1440000"/>
                <a:gridCol w="2663640"/>
                <a:gridCol w="3745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орской Автономной  Советской Социалистической Республики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23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Балкарская автономная обла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льчикский, Урванский, Мало - Кабардинский, Баксанский, </a:t>
                      </a:r>
                      <a:r>
                        <a:rPr b="1" lang="ru-RU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Балкарский (12 обществ)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аксанское (Урусбиевское), Чегемское, Верхняя Балкария, Нижняя Балкария, Былым, Безенгийское, Хуламское, Яникой, Белореченское, Хабаз, Кашхатау и Кёнделен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 - Балкарская Автономная Советская Социалистическая Республика (КБАССР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1 районов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алкинский, Терский, Урухский, Курпский, Баксанский, Нальчикский, Урванский, Черекский, Чегемский, Эльбрусский, Наг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F50-E378-4C82-832D-C216A0A3AB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                            1944-2014гг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841320"/>
          <a:ext cx="7848720" cy="5607000"/>
        </p:xfrm>
        <a:graphic>
          <a:graphicData uri="http://schemas.openxmlformats.org/drawingml/2006/table">
            <a:tbl>
              <a:tblPr/>
              <a:tblGrid>
                <a:gridCol w="1454400"/>
                <a:gridCol w="2469960"/>
                <a:gridCol w="39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3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 Балкарская Автономная Советская Социалистическая Республика (КБАСС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5 районов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Прохладненский,Прималкинский, Майский, Терский, Курпский, Урванский, Нальчикский,  Кубинский,  Баксанский, Зольский, Нагорный, Эльбрусский, Чегемский, Хуламо - Безенгийский, Черек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 район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санский, Зольский,  Лескенский, Майский, Прохладненский, Терский,  Урванский,  Чегемский,  Черекский, Эльбру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городских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ьчик, Баксан, Прохл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городов районного подчин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ский, Нарткала, Терек, Тырныауз, Чеге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80880" y="4876920"/>
            <a:ext cx="7848720" cy="16002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дминистративно - территориальное устрой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разделение территории госуда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области, республики) на части, в соответствии с кото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троится и функционирует система местных органов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93C-C6C8-4AA6-A803-C3FC47473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е  образования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224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518-D078-41BB-A836-12CEBC4BD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униципальные районы и города Кабардино-Балкарской Республ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685800"/>
          <a:ext cx="8153640" cy="5929200"/>
        </p:xfrm>
        <a:graphic>
          <a:graphicData uri="http://schemas.openxmlformats.org/drawingml/2006/table">
            <a:tbl>
              <a:tblPr/>
              <a:tblGrid>
                <a:gridCol w="1742400"/>
                <a:gridCol w="1760040"/>
                <a:gridCol w="1253520"/>
                <a:gridCol w="1053720"/>
                <a:gridCol w="934560"/>
                <a:gridCol w="14094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цен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тыс.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(тыс. кв. км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пос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населённых пун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республи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Наль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. Наль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. Бакс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. 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йо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Бакс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Бакс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Зо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Залукокоа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Леск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Анзо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Прохладн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Прохла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Тер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Тер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Урв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Нартк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гем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Чегем пер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рек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Кашхата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льбрус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Тырныа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F40-9E6D-4EBC-AD3B-1A1A46C8B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Каково государственное устройство Кабардино-Балка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Административно-территориальное  устройство Кабардино-Балкарии в период с 1920-193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Сколько районов насчитывалось в Республике в 1944г. Как они назы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Сколько районов в Республике в настоящее время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628-D36B-430F-96F0-3E1D795C95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5715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47760" b="67678"/>
          <a:stretch/>
        </p:blipFill>
        <p:spPr>
          <a:xfrm>
            <a:off x="609480" y="1447920"/>
            <a:ext cx="5257800" cy="4724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095880" y="838080"/>
            <a:ext cx="2667240" cy="5410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одпишите циф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к нижеуказа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Муниципа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бразов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Городской окру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льчи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Рай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Золь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Леск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Май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ер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Урв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гем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ре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Эльбрус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50A-A9BD-4D32-979F-CB030E097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8736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33520" y="38088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6324480"/>
            <a:ext cx="1295640" cy="38124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58" h="21600">
                <a:moveTo>
                  <a:pt x="0" y="0"/>
                </a:moveTo>
                <a:lnTo>
                  <a:pt x="73358" y="0"/>
                </a:lnTo>
                <a:lnTo>
                  <a:pt x="73358" y="21600"/>
                </a:lnTo>
                <a:lnTo>
                  <a:pt x="0" y="21600"/>
                </a:lnTo>
                <a:close/>
              </a:path>
              <a:path fill="lightenLess" w="73358" h="21600">
                <a:moveTo>
                  <a:pt x="0" y="0"/>
                </a:moveTo>
                <a:lnTo>
                  <a:pt x="73358" y="0"/>
                </a:lnTo>
                <a:lnTo>
                  <a:pt x="71958" y="1400"/>
                </a:lnTo>
                <a:lnTo>
                  <a:pt x="1400" y="1400"/>
                </a:lnTo>
                <a:close/>
              </a:path>
              <a:path fill="darken" w="73358" h="21600">
                <a:moveTo>
                  <a:pt x="73358" y="0"/>
                </a:moveTo>
                <a:lnTo>
                  <a:pt x="73358" y="21600"/>
                </a:lnTo>
                <a:lnTo>
                  <a:pt x="71958" y="20200"/>
                </a:lnTo>
                <a:lnTo>
                  <a:pt x="71958" y="1400"/>
                </a:lnTo>
                <a:close/>
              </a:path>
              <a:path fill="darkenLess" w="73358" h="21600">
                <a:moveTo>
                  <a:pt x="73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8" y="20200"/>
                </a:lnTo>
                <a:close/>
              </a:path>
              <a:path fill="lighten" w="73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8" h="21600">
                <a:moveTo>
                  <a:pt x="29673" y="3794"/>
                </a:moveTo>
                <a:lnTo>
                  <a:pt x="43686" y="10800"/>
                </a:lnTo>
                <a:lnTo>
                  <a:pt x="29673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136-33E0-47B1-BBF5-3A3FF6CC47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продолжить формирование понятий о государственном устройстве Кабардино-Балкарской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углубить и расширить знания школьников  об истории становления Кабардино-Балкарской Рес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формировать умения чётко и ясно излаг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воспитать чувство патриотизм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E58-FDF3-4A29-9FA4-92F2D2487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1. Работа с картой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уметь называть и показывать  муниципальные образования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2. Учебник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стр.-5-9, вопросы стр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3. Подготовить  сообщение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о районах -соседях своего населённого пун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E8B-FB89-44E7-85D0-608EC2846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Бураев Р.А. Экономическая и социальная география Кабардино - Балкарской Республики. Учебник для  9 класса  общеобразовательных учреждений. - Нальчик, 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ru.all.biz/regio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bankgorodov.ru/region/ufo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osmanenerbe.ru/dokumentyi/kyuchuk-kaynardzhiyskiy-mirnyiy-dogov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dic.academic.ru/dic.nsf/enc_biography/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3CE-3D80-49A7-AFE5-CCCD2F268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Общие све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Кабардино - Балкарская Республика  - субъект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 Из истории государ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Административно - территориальное 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FCD-92B5-4125-B067-8D9510F0E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304920"/>
            <a:ext cx="4876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о - Балкарская Республик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убъект Российской Федер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219320"/>
            <a:ext cx="266688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о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133720"/>
            <a:ext cx="26672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3048120"/>
            <a:ext cx="266724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553080" y="990720"/>
            <a:ext cx="1447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010280" y="990720"/>
            <a:ext cx="99072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990720"/>
            <a:ext cx="7632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81916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3520" y="3048120"/>
            <a:ext cx="281916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.М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й президент К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992 – 2005г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2819520" cy="23878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410080" y="5181480"/>
            <a:ext cx="335304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Ю.А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ы  КБ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91440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3E2-C00A-4A6C-871F-734CC2653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3886200" cy="5105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ючук-Кайнарджийский мирный договор (ту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Küçük Kaynarca Antlaşmas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 — мирный договор между Россией и Османской империей, заключённый 10 (21) июля 1774 «в лагере при деревне Кючук-Кайнарджи» (ныне Болгария); завершил первую турецкую войну императрицы Екатерины II. Подтвердил территориальные завоевания России в рамках предыдущего Белградского мирного договора от 1739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B1D-431F-40E8-A293-42DC4BBAA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533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648320"/>
            <a:ext cx="7696080" cy="20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Уезды Терской области: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ладикавказский округ                   Веден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розненский округ                           Кизляр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оздокский округ                            Назранов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ятигорский округ                          Сунджен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асав-Юртовский округ                   Караногайское приста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альчик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513-1CDF-41AD-B2D9-A3A3BFC56A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bright="18000"/>
          </a:blip>
          <a:stretch/>
        </p:blipFill>
        <p:spPr>
          <a:xfrm rot="20885400">
            <a:off x="3733920" y="2895120"/>
            <a:ext cx="2208240" cy="312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28600"/>
            <a:ext cx="2873160" cy="435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67280" y="419112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зь Малой  Каб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276360" cy="473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9528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ское 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EB1-71E0-40D9-A89C-B5178D80BB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810240" cy="1020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7335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153280" cy="59371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523880" y="5105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867-79A5-4DAB-BA4B-2CF247FA5F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7772400" cy="1447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аты образования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ская автономная область — 1 сентября 19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втономная область — 19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ССР — 5 декабря 193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Республика в составе РФ — январь 1991 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076960" cy="4311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E26-91BF-4AC5-BF7B-67BCA1BDD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1:28:28Z</dcterms:created>
  <dc:creator>Ольга</dc:creator>
  <dc:description/>
  <dc:language>en-US</dc:language>
  <cp:lastModifiedBy>Ольга</cp:lastModifiedBy>
  <dcterms:modified xsi:type="dcterms:W3CDTF">2015-01-09T18:33:3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