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0B8-8EE4-4274-8E0A-6315D514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A05-F84A-4C37-B219-0000D7A3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151-2C86-4CCA-AF4F-67537FBD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87A-05C1-46A7-8D64-1B9E3BDE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10C-9CEF-4601-8D1E-FC1F28DE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69C-4F21-49EC-A27E-22A5D994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BC6-DE50-4674-8D88-67A777E1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F30-0690-4A7A-A156-F413D0A6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451-0976-4654-9D57-0B5A1B7D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195-7A38-4CAD-A0F4-98DE2DD4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912-50D2-4B90-85F3-078745B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C30-703B-46F1-B0BC-E86925BE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eeff"/>
            </a:gs>
            <a:gs pos="50000">
              <a:srgbClr val="cfe7ff"/>
            </a:gs>
            <a:gs pos="100000">
              <a:srgbClr val="a5e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A119-479B-453D-B87C-680E6A804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500040" y="571680"/>
            <a:ext cx="807264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ловек и вода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3" descr="C:\Users\Родители\Desktop\TEyMzIzNj.jpg"/>
          <p:cNvPicPr/>
          <p:nvPr/>
        </p:nvPicPr>
        <p:blipFill>
          <a:blip r:embed="rId1"/>
          <a:stretch/>
        </p:blipFill>
        <p:spPr>
          <a:xfrm>
            <a:off x="714240" y="2500200"/>
            <a:ext cx="4714920" cy="3905280"/>
          </a:xfrm>
          <a:prstGeom prst="rect">
            <a:avLst/>
          </a:prstGeom>
          <a:ln w="0">
            <a:noFill/>
          </a:ln>
        </p:spPr>
      </p:pic>
      <p:sp>
        <p:nvSpPr>
          <p:cNvPr id="43" name="Скругленный прямоугольник 3"/>
          <p:cNvSpPr/>
          <p:nvPr/>
        </p:nvSpPr>
        <p:spPr>
          <a:xfrm>
            <a:off x="5786280" y="5000760"/>
            <a:ext cx="321480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 географии высшей квалификационной категории МБОУ СОШ №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восибир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мова Татьяна Семе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79280" y="3333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ромышленное водоснаб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250920" y="3500280"/>
            <a:ext cx="424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крупным потребителем является промышленность. Вода обеспечивает функционирование технолог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684360" y="162864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8 г. объем использования пресной воды в России составил 75780,4 млн.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год, морской – 4975,9 млн,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4572000" y="2943360"/>
            <a:ext cx="43228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Екатеринбург"/>
          <p:cNvPicPr/>
          <p:nvPr/>
        </p:nvPicPr>
        <p:blipFill>
          <a:blip r:embed="rId1"/>
          <a:stretch/>
        </p:blipFill>
        <p:spPr>
          <a:xfrm>
            <a:off x="1692360" y="1197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684360" y="515772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альное хозяйство России обеспечивает потребность в воде населения, расходы воды на благоустройство населенных пунктов. В среднем по России водопотребление на одного городского жителя составляет 367 л/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50920" y="333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Коммунальное водоснаб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Уровень грунтовых вод"/>
          <p:cNvPicPr/>
          <p:nvPr/>
        </p:nvPicPr>
        <p:blipFill>
          <a:blip r:embed="rId1"/>
          <a:stretch/>
        </p:blipFill>
        <p:spPr>
          <a:xfrm>
            <a:off x="1835280" y="2276640"/>
            <a:ext cx="5276880" cy="395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71640" y="333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Артезианские скваж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71640" y="134136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ородах, расположенных вдалеке от рек, питьевую воду берут из глуб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Орошение полей"/>
          <p:cNvPicPr/>
          <p:nvPr/>
        </p:nvPicPr>
        <p:blipFill>
          <a:blip r:embed="rId1"/>
          <a:stretch/>
        </p:blipFill>
        <p:spPr>
          <a:xfrm>
            <a:off x="250920" y="1989000"/>
            <a:ext cx="3960720" cy="2606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476360" y="18900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ельскохозяйственное водоснаб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9280" y="5516640"/>
            <a:ext cx="414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211640" y="2276640"/>
            <a:ext cx="49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потребителем свежей воды в районах сухого и жаркого климата, где есть условия для выращивания больш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жа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орошаемое землед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24000" y="5229360"/>
            <a:ext cx="48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м крупным водопотребителем являются животноводческие компл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Стадо коров"/>
          <p:cNvPicPr/>
          <p:nvPr/>
        </p:nvPicPr>
        <p:blipFill>
          <a:blip r:embed="rId2"/>
          <a:stretch/>
        </p:blipFill>
        <p:spPr>
          <a:xfrm>
            <a:off x="5292720" y="39337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Рыбинское водохранилище"/>
          <p:cNvPicPr/>
          <p:nvPr/>
        </p:nvPicPr>
        <p:blipFill>
          <a:blip r:embed="rId1"/>
          <a:stretch/>
        </p:blipFill>
        <p:spPr>
          <a:xfrm>
            <a:off x="324000" y="1413000"/>
            <a:ext cx="3600360" cy="2376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116000" y="2602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одохранили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Братская ГЭС"/>
          <p:cNvPicPr/>
          <p:nvPr/>
        </p:nvPicPr>
        <p:blipFill>
          <a:blip r:embed="rId2"/>
          <a:stretch/>
        </p:blipFill>
        <p:spPr>
          <a:xfrm>
            <a:off x="4356000" y="4149720"/>
            <a:ext cx="3764160" cy="2489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1"/>
          <p:cNvSpPr/>
          <p:nvPr/>
        </p:nvSpPr>
        <p:spPr>
          <a:xfrm>
            <a:off x="755640" y="4869000"/>
            <a:ext cx="338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использовать энергию падающе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140360" y="981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хранилища на реках созд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140360" y="1484280"/>
            <a:ext cx="4859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запасти воду для ее бесперебойного потреб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140360" y="2276640"/>
            <a:ext cx="4859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дополнительную емкость для воды, чтобы во время половодья и паводков не происходило катастрофических разливов и затопления больших территор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Водные пути"/>
          <p:cNvPicPr/>
          <p:nvPr/>
        </p:nvPicPr>
        <p:blipFill>
          <a:blip r:embed="rId1"/>
          <a:stretch/>
        </p:blipFill>
        <p:spPr>
          <a:xfrm>
            <a:off x="1979640" y="1341360"/>
            <a:ext cx="4897440" cy="3527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619280" y="33336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24000" y="26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одный тран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50920" y="530064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нутренним водным путям России (рекам, озерам, водохранилищам, каналам), имеющим общую протяженность свыше 400 тыс. км, перевозится до 50 млн.т гру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Лов рыбы"/>
          <p:cNvPicPr/>
          <p:nvPr/>
        </p:nvPicPr>
        <p:blipFill>
          <a:blip r:embed="rId1"/>
          <a:stretch/>
        </p:blipFill>
        <p:spPr>
          <a:xfrm>
            <a:off x="4932360" y="3141720"/>
            <a:ext cx="3959280" cy="2843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403280" y="260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ыболовство и рыбное хозяй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39640" y="170028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около 30% уловов во внутренних водоемах приходится на долю пресноводных рыб (щуки, леща, судака, плотвы, окуня, сазана, белуги, семги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38606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воспроизводства рыбы осуществляется за счет искусственного рыборазведения на рыбоводных заводах, рыбопитом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332000" y="333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Минеральные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71640" y="162864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ые минеральные воды – уникальное богатство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00000" y="249228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стах, где происходят горообразовательные процессы, подземные воды в глубинах земной коры растворяют вещества горных пород, минерали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26920" y="4149720"/>
            <a:ext cx="749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есть несколько крупных районов, где минеральные источники встречаются часто. Эти районы расположены на Северном Кавказе (Сочи, Кисловодск, Железноводск, Ессентуки, Пятигорск), в Сибири в районе озера Бай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Вулканическое озеро"/>
          <p:cNvPicPr/>
          <p:nvPr/>
        </p:nvPicPr>
        <p:blipFill>
          <a:blip r:embed="rId1"/>
          <a:stretch/>
        </p:blipFill>
        <p:spPr>
          <a:xfrm>
            <a:off x="395280" y="1989000"/>
            <a:ext cx="6048360" cy="4032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84360" y="260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Зоны отды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90792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ные объекты – излюбленное место отдыха, спорта, оздоровления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804000" y="1916280"/>
            <a:ext cx="20890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на берегах водоемов располож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60% всех санаторие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ыше 80% учреждений отдых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0% рекреационных объе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Гейзер на о"/>
          <p:cNvPicPr/>
          <p:nvPr/>
        </p:nvPicPr>
        <p:blipFill>
          <a:blip r:embed="rId1"/>
          <a:stretch/>
        </p:blipFill>
        <p:spPr>
          <a:xfrm>
            <a:off x="3492360" y="2492280"/>
            <a:ext cx="5249880" cy="3500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826920" y="40464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Геотермальные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24000" y="13413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термальные воды используют для обогрева теплиц и отопления, выработки электро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24000" y="2781360"/>
            <a:ext cx="295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омные ресурсы геотермальных вод есть на Камчатке и Курильских  остров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9528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мчатке в долине реки Паужетки дает ток первая в стране геотермальная электроста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Челябинск"/>
          <p:cNvPicPr/>
          <p:nvPr/>
        </p:nvPicPr>
        <p:blipFill>
          <a:blip r:embed="rId1"/>
          <a:stretch/>
        </p:blipFill>
        <p:spPr>
          <a:xfrm>
            <a:off x="1571760" y="1820880"/>
            <a:ext cx="6357960" cy="4770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9640" y="47628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ие представления обучающихся  о значении водных ресурсов в хозяйстве страны и в жизни человека, воспитание бережного отношения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835280" y="278136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:\Users\Родители\Desktop\406547_360594757294060_170377179649153_1234716_78677631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3071880" y="1000080"/>
            <a:ext cx="521496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знания учащихся о водных ресурсах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виды вод суши, главные речные системы на территории страны, представить роль рек в хозяйстве стра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важность значения воды в жизни человека и экологического состояния в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навыки работы с картами атласа, со страницами уче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Родители\Desktop\276263504.jpg"/>
          <p:cNvPicPr/>
          <p:nvPr/>
        </p:nvPicPr>
        <p:blipFill>
          <a:blip r:embed="rId1"/>
          <a:stretch/>
        </p:blipFill>
        <p:spPr>
          <a:xfrm>
            <a:off x="1214280" y="1500120"/>
            <a:ext cx="668052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357120" y="142920"/>
            <a:ext cx="842976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уйте карту атласа «Население», установите взаимосвязь между географическим положением населенных пунктов и водными объек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628640"/>
          <a:ext cx="4038480" cy="3384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ояр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завод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кут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500720" y="1628640"/>
          <a:ext cx="4038480" cy="3384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ис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ежское 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о Байк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5"/>
          <p:cNvSpPr/>
          <p:nvPr/>
        </p:nvSpPr>
        <p:spPr>
          <a:xfrm>
            <a:off x="357120" y="214200"/>
            <a:ext cx="8215560" cy="1071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 водные объекты, на которых расположены данные города. Сделайте выв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357120" y="5143680"/>
            <a:ext cx="821556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аселение и освоение огромных российских пространств происходило преимущественно по рекам и оз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и и озера нашей Роди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9640" y="4005360"/>
          <a:ext cx="8136000" cy="2413080"/>
        </p:xfrm>
        <a:graphic>
          <a:graphicData uri="http://schemas.openxmlformats.org/drawingml/2006/table">
            <a:tbl>
              <a:tblPr/>
              <a:tblGrid>
                <a:gridCol w="2713320"/>
                <a:gridCol w="2709720"/>
                <a:gridCol w="2712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пей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ат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хранили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26"/>
          <p:cNvSpPr/>
          <p:nvPr/>
        </p:nvSpPr>
        <p:spPr>
          <a:xfrm>
            <a:off x="395280" y="5805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2565360"/>
          <a:ext cx="8136000" cy="3816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ора, Байкал, Онежское, Енисей, Волга, Вилюйское, Обь, Ханка, Лена, Зейское, Амур Ладожское, Рыб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Прямоугольник 6"/>
          <p:cNvSpPr/>
          <p:nvPr/>
        </p:nvSpPr>
        <p:spPr>
          <a:xfrm>
            <a:off x="428760" y="714240"/>
            <a:ext cx="8358120" cy="1714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ите крупные реки и озера в таблице, пользуясь данными «Физической карты России» атл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 обеспеченность водными ресурсами европейской и азиатской частей стр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и и озера нашей Родины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1268280"/>
          <a:ext cx="8136000" cy="3419640"/>
        </p:xfrm>
        <a:graphic>
          <a:graphicData uri="http://schemas.openxmlformats.org/drawingml/2006/table">
            <a:tbl>
              <a:tblPr/>
              <a:tblGrid>
                <a:gridCol w="2713320"/>
                <a:gridCol w="2709720"/>
                <a:gridCol w="2712960"/>
              </a:tblGrid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пей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ат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га, Печ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, Лена, Енисей, Аму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дожское, Онеж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йкал, Ха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хранили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йское, Вилюй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65"/>
          <p:cNvSpPr/>
          <p:nvPr/>
        </p:nvSpPr>
        <p:spPr>
          <a:xfrm>
            <a:off x="428760" y="52149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зиатская часть станы гораздо лучше обеспечена водными ресурсами, чем Европейск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6"/>
          <p:cNvSpPr txBox="1"/>
          <p:nvPr/>
        </p:nvSpPr>
        <p:spPr>
          <a:xfrm>
            <a:off x="1143000" y="1785960"/>
            <a:ext cx="684036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ование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дных 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сурсов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Ледник - хранилище пресной воды"/>
          <p:cNvPicPr/>
          <p:nvPr/>
        </p:nvPicPr>
        <p:blipFill>
          <a:blip r:embed="rId1"/>
          <a:stretch/>
        </p:blipFill>
        <p:spPr>
          <a:xfrm>
            <a:off x="971640" y="1125360"/>
            <a:ext cx="2879640" cy="18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Подземные воды"/>
          <p:cNvPicPr/>
          <p:nvPr/>
        </p:nvPicPr>
        <p:blipFill>
          <a:blip r:embed="rId2"/>
          <a:stretch/>
        </p:blipFill>
        <p:spPr>
          <a:xfrm>
            <a:off x="5435640" y="3860640"/>
            <a:ext cx="2808360" cy="201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Болото"/>
          <p:cNvPicPr/>
          <p:nvPr/>
        </p:nvPicPr>
        <p:blipFill>
          <a:blip r:embed="rId3"/>
          <a:stretch/>
        </p:blipFill>
        <p:spPr>
          <a:xfrm>
            <a:off x="5364000" y="1125360"/>
            <a:ext cx="2808360" cy="1872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1332000" y="3068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Река Обь"/>
          <p:cNvPicPr/>
          <p:nvPr/>
        </p:nvPicPr>
        <p:blipFill>
          <a:blip r:embed="rId4"/>
          <a:stretch/>
        </p:blipFill>
        <p:spPr>
          <a:xfrm>
            <a:off x="971640" y="3860640"/>
            <a:ext cx="2952720" cy="2016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1187280" y="6237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Реки и 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5796000" y="3213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5724360" y="61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Грунтов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1332000" y="26028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оды су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3:47:50Z</dcterms:created>
  <dc:creator>Ефимов</dc:creator>
  <dc:description/>
  <dc:language>en-US</dc:language>
  <cp:lastModifiedBy>Родители</cp:lastModifiedBy>
  <dcterms:modified xsi:type="dcterms:W3CDTF">2015-01-16T10:54:44Z</dcterms:modified>
  <cp:revision>22</cp:revision>
  <dc:subject/>
  <dc:title>Слайд 1</dc:title>
</cp:coreProperties>
</file>