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AC8-3B65-426E-89AB-C7F62FFA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0A3-2E43-45D9-98C0-1815DB0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D54-C563-48C8-BA8B-4C36042C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5F9-E48C-431B-BDD9-9383B99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D0E-2E35-4AD5-8949-475E954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610-0E19-4FD9-9B8C-9CCEC14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4D2-1769-4663-BCBE-5592060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B8F-7D83-434B-9342-26BE9B5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339-167B-49D7-B07B-E6357D4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73F-C95C-4AB8-9DD6-94B8AA62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404-8B0D-4C14-B933-05E321A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08A-FAD4-4F9E-B6CD-BCC98DC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eff"/>
            </a:gs>
            <a:gs pos="50000">
              <a:srgbClr val="cfe7ff"/>
            </a:gs>
            <a:gs pos="100000">
              <a:srgbClr val="a5e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2DB-BDEF-49F4-BCFD-941AE5F70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500040" y="571680"/>
            <a:ext cx="807264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овек и вода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C:\Users\Родители\Desktop\TEyMzIzNj.jpg"/>
          <p:cNvPicPr/>
          <p:nvPr/>
        </p:nvPicPr>
        <p:blipFill>
          <a:blip r:embed="rId1"/>
          <a:stretch/>
        </p:blipFill>
        <p:spPr>
          <a:xfrm>
            <a:off x="714240" y="2500200"/>
            <a:ext cx="4714920" cy="390528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/>
          <p:cNvSpPr/>
          <p:nvPr/>
        </p:nvSpPr>
        <p:spPr>
          <a:xfrm>
            <a:off x="5786280" y="5000760"/>
            <a:ext cx="321480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географии высшей квалификационной категории МБОУ СОШ №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мова Татьяна Семе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79280" y="333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мышл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50920" y="3500280"/>
            <a:ext cx="42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крупным потребителем является промышленность. Вода обеспечивает функционирование технолог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84360" y="162864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8 г. объем использования пресной воды в России составил 75780,4 млн.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, морской – 4975,9 млн,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4572000" y="2943360"/>
            <a:ext cx="43228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Екатеринбург"/>
          <p:cNvPicPr/>
          <p:nvPr/>
        </p:nvPicPr>
        <p:blipFill>
          <a:blip r:embed="rId1"/>
          <a:stretch/>
        </p:blipFill>
        <p:spPr>
          <a:xfrm>
            <a:off x="1692360" y="1197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684360" y="515772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альное хозяйство России обеспечивает потребность в воде населения, расходы воды на благоустройство населенных пунктов. В среднем по России водопотребление на одного городского жителя составляет 367 л/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оммуналь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Уровень грунтовых вод"/>
          <p:cNvPicPr/>
          <p:nvPr/>
        </p:nvPicPr>
        <p:blipFill>
          <a:blip r:embed="rId1"/>
          <a:stretch/>
        </p:blipFill>
        <p:spPr>
          <a:xfrm>
            <a:off x="1835280" y="2276640"/>
            <a:ext cx="5276880" cy="395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7164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ртезианские скваж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341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родах, расположенных вдалеке от рек, питьевую воду берут из глуб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Орошение полей"/>
          <p:cNvPicPr/>
          <p:nvPr/>
        </p:nvPicPr>
        <p:blipFill>
          <a:blip r:embed="rId1"/>
          <a:stretch/>
        </p:blipFill>
        <p:spPr>
          <a:xfrm>
            <a:off x="250920" y="1989000"/>
            <a:ext cx="3960720" cy="2606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476360" y="18900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ельскохозяйств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5516640"/>
            <a:ext cx="41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211640" y="2276640"/>
            <a:ext cx="49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потребителем свежей воды в районах сухого и жаркого климата, где есть условия для выращивания больш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а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орошаемое землед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24000" y="522936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м крупным водопотребителем являются животноводческие компл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Стадо коров"/>
          <p:cNvPicPr/>
          <p:nvPr/>
        </p:nvPicPr>
        <p:blipFill>
          <a:blip r:embed="rId2"/>
          <a:stretch/>
        </p:blipFill>
        <p:spPr>
          <a:xfrm>
            <a:off x="5292720" y="3933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Рыбинское водохранилище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260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охранил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Братская ГЭС"/>
          <p:cNvPicPr/>
          <p:nvPr/>
        </p:nvPicPr>
        <p:blipFill>
          <a:blip r:embed="rId2"/>
          <a:stretch/>
        </p:blipFill>
        <p:spPr>
          <a:xfrm>
            <a:off x="4356000" y="4149720"/>
            <a:ext cx="3764160" cy="2489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755640" y="4869000"/>
            <a:ext cx="33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использовать энергию падающе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140360" y="981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хранилища на реках созд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140360" y="1484280"/>
            <a:ext cx="48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апасти воду для ее бесперебойного потре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140360" y="2276640"/>
            <a:ext cx="4859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дополнительную емкость для воды, чтобы во время половодья и паводков не происходило катастрофических разливов и затопления больших террито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Водные пути"/>
          <p:cNvPicPr/>
          <p:nvPr/>
        </p:nvPicPr>
        <p:blipFill>
          <a:blip r:embed="rId1"/>
          <a:stretch/>
        </p:blipFill>
        <p:spPr>
          <a:xfrm>
            <a:off x="1979640" y="1341360"/>
            <a:ext cx="489744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619280" y="3333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0920" y="530064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нутренним водным путям России (рекам, озерам, водохранилищам, каналам), имеющим общую протяженность свыше 400 тыс. км, перевозится до 50 млн.т гру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Лов рыбы"/>
          <p:cNvPicPr/>
          <p:nvPr/>
        </p:nvPicPr>
        <p:blipFill>
          <a:blip r:embed="rId1"/>
          <a:stretch/>
        </p:blipFill>
        <p:spPr>
          <a:xfrm>
            <a:off x="4932360" y="3141720"/>
            <a:ext cx="3959280" cy="28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403280" y="260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ыболовство и рыбн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39640" y="1700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около 30% уловов во внутренних водоемах приходится на долю пресноводных рыб (щуки, леща, судака, плотвы, окуня, сазана, белуги, семги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3860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воспроизводства рыбы осуществляется за счет искусственного рыборазведения на рыбоводных заводах, рыбопитом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332000" y="33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инер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1628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– уникальное богатство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249228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стах, где происходят горообразовательные процессы, подземные воды в глубинах земной коры растворяют вещества горных пород, минерали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26920" y="4149720"/>
            <a:ext cx="74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есть несколько крупных районов, где минеральные источники встречаются часто. Эти районы расположены на Северном Кавказе (Сочи, Кисловодск, Железноводск, Ессентуки, Пятигорск), в Сибири в районе озера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Вулканическое озеро"/>
          <p:cNvPicPr/>
          <p:nvPr/>
        </p:nvPicPr>
        <p:blipFill>
          <a:blip r:embed="rId1"/>
          <a:stretch/>
        </p:blipFill>
        <p:spPr>
          <a:xfrm>
            <a:off x="395280" y="198900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4360" y="26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оны отды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ные объекты – излюбленное место отдыха, спорта, оздоровлени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04000" y="1916280"/>
            <a:ext cx="2089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на берегах водоемов располож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60% всех санатори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ыше 80% учреждений отдых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% рекреационны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Гейзер на о"/>
          <p:cNvPicPr/>
          <p:nvPr/>
        </p:nvPicPr>
        <p:blipFill>
          <a:blip r:embed="rId1"/>
          <a:stretch/>
        </p:blipFill>
        <p:spPr>
          <a:xfrm>
            <a:off x="3492360" y="249228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826920" y="404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отерм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4000" y="1341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термальные воды используют для обогрева теплиц и отопления, выработки электро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4000" y="278136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ые ресурсы геотермальных вод есть на Камчатке и Курильских 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мчатке в долине реки Паужетки дает ток первая в стране геотермальная электро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Челябинск"/>
          <p:cNvPicPr/>
          <p:nvPr/>
        </p:nvPicPr>
        <p:blipFill>
          <a:blip r:embed="rId1"/>
          <a:stretch/>
        </p:blipFill>
        <p:spPr>
          <a:xfrm>
            <a:off x="1571760" y="1820880"/>
            <a:ext cx="6357960" cy="477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476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представления обучающихся  о значении водных ресурсов в хозяйстве страны и в жизни человека, воспитание бережного отношения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835280" y="278136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Родители\Desktop\406547_360594757294060_170377179649153_1234716_78677631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071880" y="1000080"/>
            <a:ext cx="521496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знания учащихся о водных ресурсах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виды вод суши, главные речные системы на территории страны, представить роль рек в хозяйстве стра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ажность значения воды в жизни человека и экологического состояния 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и работы с картами атласа, со страницами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Родители\Desktop\276263504.jpg"/>
          <p:cNvPicPr/>
          <p:nvPr/>
        </p:nvPicPr>
        <p:blipFill>
          <a:blip r:embed="rId1"/>
          <a:stretch/>
        </p:blipFill>
        <p:spPr>
          <a:xfrm>
            <a:off x="1214280" y="1500120"/>
            <a:ext cx="668052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7120" y="142920"/>
            <a:ext cx="84297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те карту атласа «Население», установите взаимосвязь между географическим положением населенных пунктов и водными объе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яр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0072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ежское 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о 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357120" y="214200"/>
            <a:ext cx="8215560" cy="1071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водные объекты, на которых расположены данные города. Сделайте вы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57120" y="5143680"/>
            <a:ext cx="821556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селение и освоение огромных российских пространств происходило преимущественно по рекам и оз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4005360"/>
          <a:ext cx="8136000" cy="241308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6"/>
          <p:cNvSpPr/>
          <p:nvPr/>
        </p:nvSpPr>
        <p:spPr>
          <a:xfrm>
            <a:off x="395280" y="5805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2565360"/>
          <a:ext cx="8136000" cy="3816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, Байкал, Онежское, Енисей, Волга, Вилюйское, Обь, Ханка, Лена, Зейское, Амур Ладожское, 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6"/>
          <p:cNvSpPr/>
          <p:nvPr/>
        </p:nvSpPr>
        <p:spPr>
          <a:xfrm>
            <a:off x="428760" y="714240"/>
            <a:ext cx="8358120" cy="171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крупные реки и озера в таблице, пользуясь данными «Физической карты России»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обеспеченность водными ресурсами европейской и азиатской частей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268280"/>
          <a:ext cx="8136000" cy="341964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, Печ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, Лена, Енисей, 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жское, 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кал, Ха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ское, Вилюй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65"/>
          <p:cNvSpPr/>
          <p:nvPr/>
        </p:nvSpPr>
        <p:spPr>
          <a:xfrm>
            <a:off x="428760" y="52149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зиатская часть станы гораздо лучше обеспечена водными ресурсами, чем Европейск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6"/>
          <p:cNvSpPr txBox="1"/>
          <p:nvPr/>
        </p:nvSpPr>
        <p:spPr>
          <a:xfrm>
            <a:off x="1143000" y="1785960"/>
            <a:ext cx="684036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ных 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сурсов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971640" y="112536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Подземные воды"/>
          <p:cNvPicPr/>
          <p:nvPr/>
        </p:nvPicPr>
        <p:blipFill>
          <a:blip r:embed="rId2"/>
          <a:stretch/>
        </p:blipFill>
        <p:spPr>
          <a:xfrm>
            <a:off x="5435640" y="3860640"/>
            <a:ext cx="280836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Болото"/>
          <p:cNvPicPr/>
          <p:nvPr/>
        </p:nvPicPr>
        <p:blipFill>
          <a:blip r:embed="rId3"/>
          <a:stretch/>
        </p:blipFill>
        <p:spPr>
          <a:xfrm>
            <a:off x="5364000" y="1125360"/>
            <a:ext cx="2808360" cy="187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332000" y="306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Река Обь"/>
          <p:cNvPicPr/>
          <p:nvPr/>
        </p:nvPicPr>
        <p:blipFill>
          <a:blip r:embed="rId4"/>
          <a:stretch/>
        </p:blipFill>
        <p:spPr>
          <a:xfrm>
            <a:off x="971640" y="386064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1187280" y="6237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ки и 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96000" y="321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72436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рунтов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332000" y="260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ы су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3:47:50Z</dcterms:created>
  <dc:creator>Ефимов</dc:creator>
  <dc:description/>
  <dc:language>en-US</dc:language>
  <cp:lastModifiedBy>Родители</cp:lastModifiedBy>
  <dcterms:modified xsi:type="dcterms:W3CDTF">2015-01-16T10:54:44Z</dcterms:modified>
  <cp:revision>22</cp:revision>
  <dc:subject/>
  <dc:title>Слайд 1</dc:title>
</cp:coreProperties>
</file>