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633B-59C0-4A2E-8BD7-DD29C195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DCB7-6994-4B85-A438-193537B9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282-FF67-4AC1-9A42-E9EA7317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ED49-2888-41E6-AD92-7B9E9099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58A7-3DED-4FE1-8E9C-43EFF29D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F2DB-0121-4816-A2EC-190C8F3D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5D1B-0DA2-4E54-91B5-CAF19C8A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7EB6-51BF-4ABF-B6E3-5BC5A5F4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4003-0DED-4B5F-BD71-E0ADCC44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DCB5-E8B7-490B-899E-AAA150BF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0046-7555-4D48-BF8F-F7DF40E3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F600-5063-463A-8E15-D54628F5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6664-D70F-4733-833C-B2E61C2E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C8E2-4450-4A2A-9445-4DB8000D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38E7-E61B-4E02-9B2A-FF34E419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E270-A2A9-425E-AA09-4A524B0D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E365-D8A3-44EE-BE7D-318B273C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221AE-1D6C-4958-8808-6D5A71F8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CE2C3-628E-4448-8A3F-B791B232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E3DA5-F888-4CED-B159-D8FF124A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48CB7-B884-4A61-9E71-DB4AA40F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FEF5D-C198-4275-814D-BC229078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5939-E0A3-4FDB-8650-748C0262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4E5F9-C514-42AB-AC20-5D8255FD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868BC-F3EF-4205-BFEA-25DD0219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6B20B-081B-4932-BD27-E944B511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2096E-A569-4125-BB74-0895BD79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D4EA5-8E68-4B77-BA6A-52949846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F0674-B333-4CBD-BF1F-8AECA5CD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105B5-18DF-4CBC-9390-51885452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05ADF-6383-4235-AB74-59116AED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C0108-5AD6-4444-8EF0-68DD462A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A3B4C-89EE-418C-8BFD-0CB4C71E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C45-49C2-463C-BCDE-1C07905D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0B8A1-C48E-474F-A4B3-638F0D09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80B1F-96D9-454A-BCAC-B4BFF11D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562E6-26C9-409C-9063-0B305B5E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82BCC-ED89-40AB-934D-DF9759B7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0F684-F162-4D25-94D8-800135B0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6352C-FFA3-4FFF-91D7-DFA45EEE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4FA48-A26D-4C3D-B5DD-528DCCD7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73E51-262D-4B2F-8269-0F60081C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AD60B-1B8C-48C0-81E5-C186F425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8BE11-DC82-4893-85D3-564B9697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BA7-278A-488E-80C7-F7D502A9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0FF86-6141-4B0B-92A4-9B80F9F5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DD7C1-DD28-4053-9EA9-C897878A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809F9-249E-4D75-A610-61470CEE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C4EDE-0D49-4A3D-A11F-188861F8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5E18D-6730-49CA-90CC-EFFEB944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1EEC9-D453-4F30-A73C-0E53C278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F03CB-56E4-443B-9B9A-EF5F8FCF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350ED-56DF-44AC-B343-C83587C1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60A18-8386-41EF-8F43-16016E5F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AACC2-9EB7-42D3-AB80-1531C04C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C87-28DD-44DB-8470-82F90CEA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AA59F-F723-4EFE-8B72-417DCE8D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4CDE2-3DA5-431D-8592-5D70E4BF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53902-D070-4FE2-B73F-B54C750A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12B3C-AB2A-4B51-B58A-B7F677D5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6CF8B-0B75-4A29-8650-AEC845D1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53D1E-18EF-4105-8567-10E9621D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B5899-8C37-4C6F-BF53-566E29AA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3B3F7-7302-4615-A68D-01F830CB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5A632-9274-4713-A78D-CAB1E072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1C1E4-BE0E-46D5-9AFD-49783CA7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A68-1369-44AE-96CE-EAD91FCA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5B93A-0D79-444E-B48B-8A074430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497B4-9651-4597-8602-466BCC07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6E3B4-F9FC-4DB2-BAED-78EBAE09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709C8-7A41-4389-BD81-9237CA23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52062-F3AB-4B72-A363-47083601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00C13-573A-4741-90EE-568E3292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8F227-A928-4986-B15E-52CAFDDC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F9CE2-33A2-4F4A-86DE-CA89BE22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E370E-7A91-4723-807B-42AF1555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69D4F-90E9-47AB-8BC1-73FEF0E6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32E-1E19-4D29-8510-9B1B0C45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68D63-FE6B-4A97-8EB5-B3791785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DF865-2E46-4D0B-9F48-8D42E060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36891-D886-45C1-B1E0-ADE45B47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810B8-DBC5-4127-AE3B-FB53F9DE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14887-74B0-4B4B-BADE-EE995124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7A7-305A-425F-8BA2-D294C8EE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DCB2-6D34-4F1F-B4A8-B8EA5B6F75B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DAF0-45E6-4E5A-B7CA-AA8B74D78EE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9182-C2F5-4137-A9D6-2FBFABFA085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719B-8ADC-4312-A5A7-805E6A062C9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C610-D8FA-4AD3-AE61-3E669A02272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331E-7D7A-408D-A90E-35EA285C0D6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8690-ADA3-4FE1-AEDE-7CF62B8F9C7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arant.ru/news/481391/#ixzz3Ghr5yljR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f271c"/>
                </a:solidFill>
                <a:latin typeface="Corbel"/>
              </a:rPr>
              <a:t>ОБЩАЯ ХАРАКТЕРИСТИКА ПСИХОЛОГИЧЕСКОГО ВОЗДЕЙСТВ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2852280"/>
            <a:ext cx="7407000" cy="2016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Corbel"/>
              </a:rPr>
              <a:t>ПСИХОЛОГИЯ ВОСПИТАНИ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Corbel"/>
              </a:rPr>
              <a:t>МАТЕРИАЛЫ ЛЕКЦИ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Corbel"/>
              </a:rPr>
              <a:t>МПГУ 2014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655992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Arial"/>
                <a:hlinkClick r:id="rId1"/>
              </a:rPr>
              <a:t>http://prezentacija.biz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еакция на психологическое воздействи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чинение – страх наказания, стремление к поощрени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дентификация – желание походить на воспитател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тернализация – партнерские взаимоотнош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род подчиняется не правителю, а его указу. Поэтому правителю, прежде чем охранять государство, следует соблюдать собственный указ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Ли Гоу «План успокоения народа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Содержимое 3" descr=""/>
          <p:cNvPicPr/>
          <p:nvPr/>
        </p:nvPicPr>
        <p:blipFill>
          <a:blip r:embed="rId1"/>
          <a:stretch/>
        </p:blipFill>
        <p:spPr>
          <a:xfrm>
            <a:off x="1163520" y="384120"/>
            <a:ext cx="7828200" cy="58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сихологическое воздейств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523520"/>
            <a:ext cx="3657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ЛИЧ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ГРУППА ЛЮДЕ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276880" y="1523880"/>
            <a:ext cx="36576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Corbel"/>
              </a:rPr>
              <a:t>СОЦИАЛЬНЫЕ И ИНЫЕ ФАКТОР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Содержимое 3"/>
          <p:cNvSpPr/>
          <p:nvPr/>
        </p:nvSpPr>
        <p:spPr>
          <a:xfrm>
            <a:off x="5076720" y="5661000"/>
            <a:ext cx="36576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СИХОЛОГИЧЕСКОЕ ВОЗДЕЙСТВИ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ИЗВОЛЬНОЕ – действующая сторона старается вызвать определенный эффек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276880" y="1523880"/>
            <a:ext cx="386712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ЕПРОИЗВОЛЬНОЕ – заранее результат не планируется – неадекватная реакц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Х.Мюнстерберг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 июля 2013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f271c"/>
                </a:solidFill>
                <a:latin typeface="Corbel"/>
              </a:rPr>
              <a:t>Президент РФ </a:t>
            </a:r>
            <a:r>
              <a:rPr b="1" lang="ru-RU" sz="1500" spc="-1" strike="noStrike">
                <a:solidFill>
                  <a:srgbClr val="4f271c"/>
                </a:solidFill>
                <a:latin typeface="Corbel"/>
              </a:rPr>
              <a:t>Владимир Путин</a:t>
            </a:r>
            <a:r>
              <a:rPr b="0" lang="ru-RU" sz="1500" spc="-1" strike="noStrike">
                <a:solidFill>
                  <a:srgbClr val="4f271c"/>
                </a:solidFill>
                <a:latin typeface="Corbel"/>
              </a:rPr>
              <a:t> подписал закон о запрете пропаганды гомосексуализма среди несовершеннолетних. Полное наименование документа – Федеральный закон от 29 июня 2013 г. № 135-ФЗ "О внесении изменений в статью 5 Федерального закона "О защите детей от информации, причиняющей вред их здоровью и развитию" и отдельные законодательные акты Российской Федерации в целях защиты детей от информации, пропагандирующей отрицание традиционных семейных ценностей"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4f271c"/>
                </a:solidFill>
                <a:latin typeface="Corbel"/>
              </a:rPr>
              <a:t>Информация, пропагандирующая нетрадиционные сексуальные отношения, отнесена законом к информации, запрещенной для распространения среди детей. Соответствующая поправка внесена в п. 4 ч. 2 ст. 5 Федерального закона "О защите детей от информации, причиняющей вред их здоровью и развитию"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4f271c"/>
                </a:solidFill>
                <a:latin typeface="Corbel"/>
              </a:rPr>
              <a:t>КоАП РФ дополнен ст. 6.21 "Пропаганда нетрадиционных сексуальных отношений среди несовершеннолетних". Под такой пропагандой понимается распространение информации, направленной на формирование у несовершеннолетних нетрадиционных сексуальных установок, привлекательности нетрадиционных сексуальных отношений, искаженного представления о социальной равноценности традиционных и нетрадиционных сексуальных отношений, либо навязывание информации о нетрадиционных сексуальных отношениях, вызывающей интерес к таким отношениям, если эти действия не содержат уголовно наказуемого деяния.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4f271c"/>
                </a:solidFill>
                <a:latin typeface="Corbel"/>
              </a:rPr>
              <a:t>ГАРАНТ.РУ: </a:t>
            </a:r>
            <a:r>
              <a:rPr b="0" lang="ru-RU" sz="15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http://www.garant.ru/news/481391/#ixzz3Ghr5yljR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сихологические воздейств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ямо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свенное  - через социальную сред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сихологическое воздейств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87280" y="1523880"/>
            <a:ext cx="39052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НЕПОСРЕДСТВЕННО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ОПОСРЕДОВАННО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ОЦЕНИВАЕТСЯ  ПО КАНАЛУ КОММУНИК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Явное и скрытое воздейств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ратор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лити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кте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ипнотизер  и т.д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аскируется источник – «психологические войны, манипулятивные технологии рекламы и т.д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сихологическое воздействие и профессионализ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.С.Кабаченко Методы психологического воздейств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сихологическое воздействи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целенаправленный перенос движения, информации на других от одного участника взаимодействия к другом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ОБРАТЬ НА КАЖДЫЙ ВИД ПСИХОЛОГИЧЕСКОГО ВЗАИМОДЕЙСТВИЯ ПРИМЕР ИЗ ПРАКТИКИ ВОСПИТ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СПАСИБО ЗА ВНИМАНИЕ!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20e04"/>
                </a:solidFill>
                <a:latin typeface="Corbel"/>
              </a:rPr>
              <a:t>ВОПРОСЫ ЕСТЬ?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сихологическое воздейств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жет быть непосредственным (контактным), когда движение и заключенная в нем информация передаются в форме импульса движения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и опосредованным (дистантным), когда информация и закодированный в ней импульс движения передаются в форме комплекса сигналов, несущих сообщение о чем-либо и ориентирующих воспринимающую систему относительно смысла и значения этих сигналов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 степени изменения в состоянии, поведении и личностно-смысловых образованиях субъекта, на которого было направлено воздействие, можно судить о степени влияния на него воздействующего субъекта (или объекта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лия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цесс и результат изменения индивидом поведения другого человека, его установок, намерений, представлений, оценок и т. п. в ходе взаимодействия с ни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правленное влия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ханизмом являются убеждение и внушени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этом случае субъект ставит перед собой задачу добиться определенного результата от объекта влия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енаправленное влия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имеет специальной задачи изменить поведение, установки и т.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ффект воздействия возникает, проявляясь нередко в действии механизмов заражения и подраж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сихологическое воздействие - классификац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ип взаимодействующих сторо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ратегии взаимодейств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нечный результа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личие непосредственного контакта или других каналов взаимодействия сторо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епень сокрытия факта воздейств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ямое воздействие на реципиента или ориентация на измение условий его жизн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46612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Субъект-субъектные и субъект-объектные ориентированные стратегии взаимодейств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773000"/>
            <a:ext cx="74995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Манипулятивн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мперативна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звивающа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С.Ю. Решетина, Г.Л.Смолян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0T16:13:26Z</dcterms:created>
  <dc:creator>user</dc:creator>
  <dc:description/>
  <dc:language>en-US</dc:language>
  <cp:lastModifiedBy>nebom zav</cp:lastModifiedBy>
  <dcterms:modified xsi:type="dcterms:W3CDTF">2015-02-05T13:22:46Z</dcterms:modified>
  <cp:revision>25</cp:revision>
  <dc:subject/>
  <dc:title>Слайд 1</dc:title>
</cp:coreProperties>
</file>