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4C2D5-C124-4399-8790-9B2D91B01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EACD8-FE7C-4F4B-B54D-62D0CACEA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FC24C-85BD-4FD7-AA9D-D27D4EE3D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7F18B-635E-46D6-B238-64AECD05D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B6690-B4F2-4F8C-83C8-7931261F7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D3821-A979-401E-8706-CC55C7045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44A8D-02C9-40DC-ADD1-C3819A9EA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E6233-57E2-44B0-B64B-83CFF4712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F6715-37AA-4C19-88D4-AEE131587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9D22C-8E74-481E-AFDE-BE0557AB0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6A411-25F4-4655-A5B2-F2BDB123F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AA464-8C94-4E16-B68B-88E3CAAB5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03D86-831B-4AF9-9370-AEF65D056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82CEB-077A-45DD-AE0B-B994B4846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9D2A3-E16B-403F-B758-02AE30862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89C4E-C654-411C-B410-2E4C6457A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D8F07-A29C-4D56-8EC7-0B4A61569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6C1A41-AB44-414A-B81A-B66F7DDFB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FF8812-6994-4813-AFDE-6E72B976B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F47B1B-E6A4-42BB-941A-991579813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526FE0-8A82-4EA6-A673-913DC160D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9397DB-B359-49FE-949C-33329F986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ADAE9-122B-402B-B799-7A9E7BE5E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A4E3F9-16A0-43CF-936C-F869AD3EA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4348CA-ABFE-40B4-B86C-68CAF4D49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11990B-B868-422D-8D78-25EA03D3D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35D235-D8D0-4CB0-AA1E-F68194893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48D092-AD24-4F68-BC31-5429E5080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783D40-EA1D-4782-97AD-9E24CBF2E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443FBF-5063-4D36-9C2A-374DA8D36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6D11CF-96F9-46CD-AB18-7AD82C442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D7B629-F412-4660-A025-A719706A6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2BD40B-3E49-437C-B741-0A413CEFA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DB290-049C-4F03-8B9D-58A5F68B9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7D90E6-53A7-41CB-ABED-BE94B23DB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92138C-3361-412D-AD9B-5ECB56842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318236-81C4-4D5C-B50B-601F3B488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D395E2-81E5-4D3E-B507-B05205400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7923FD-16A6-43DE-B9ED-2BA1137EC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AAB724-A234-4F57-8B91-E2AA36F69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F798DE-2AC8-427B-8817-6DE120B21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3B03A7-D662-44C3-ADD8-6FF18F0F7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11268F-D959-4E24-8D4C-38F41C95C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D87198-6BAF-4718-80CB-A5AD9F87A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F12AF-F60F-4066-9D63-E9A42DAD5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C5D21B-AEF1-4048-BE64-DB9C3AEF8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499D2A-D55B-4E53-A727-263D3A63E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3371E5-E79E-47E9-B3A0-72207D439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CF7123-E3C6-4E02-960E-24761A142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2E8DDF-E27F-45A5-A994-919DF2780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CDCAFA-FD50-4B0A-88D3-E520A5711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A2D75B-607E-43B2-8963-7B44A3361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10686A-F860-4770-8C0F-4EE2DFBF5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C56A28-B6C3-4724-B643-E14D44536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CB7001-92AA-40BD-83D5-569D3F272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C3289-8762-4CBC-ABBD-EF69F25F4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DD9C66-B023-4409-BA9E-280E80DCA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057E63-A2DB-4103-AF78-A01137990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485E6F-8E26-47D0-A785-89A91BA4A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C1D263-DD49-41A7-B26D-E3EF778DD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22AE48-B41B-4DB7-A1C7-7F2D99A97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EA3B0C-ACA1-4636-845E-DDE4139C6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BD73E9-2BCC-4776-A6DF-97D326D88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A70392-808B-49F8-B863-FAB2A1D00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0BC23D-7478-42AE-8F44-A3CA9F19E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CEA39E-7AEE-4943-A0E9-690EE0632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27FB4-24A0-47B5-97D3-B1B07C04A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A419BD-2FFA-452E-BC97-A18FBD048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BA9FBB-A074-4792-9585-2D07674CD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5601C4-E14C-471F-9B7C-AFB0752F6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899475-1188-4AB6-B17C-FF979F630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17A86F-48E0-4DBF-A138-62AE0EA9A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CE2389-486E-4416-8010-EDD404D14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3B16CA-E4A7-4B9D-B02D-6E4C4DE09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7E77B2-FC62-4B27-B199-EDA997988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33184B-81A7-4053-A6C8-2389B772C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386F3B-55B0-44A8-83C6-94180F25D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E04E1-2E38-431F-95A0-9C2B2742B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083CC9-0682-47E2-9A2B-81743365F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7A3D05-3630-4CA6-A0BE-F34C1594E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6E2277-0287-428F-8F79-98F29874C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8B975F-99D8-4C8A-B7F6-5C39A24B7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9BF30B-2BC2-43FB-ACDC-0BF06AE80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9AFEE-E12E-4F38-B3D1-B2096547B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43C60-0CB9-40F3-8B57-F9BA2B867222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1F651-5D93-4C8F-83A2-A8809FE958AD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80196-1CDD-47A3-9EC7-7C4D5B7243D1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A8543-0956-4F0E-B9D9-EB6B6F25311F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95045-E3C2-481A-9507-632A677C407D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226FE-1E25-45FE-A263-F1926AFF7C1D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4295D-D489-4E3C-B3E8-702078C4806F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prezentacija.biz/" TargetMode="External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garant.ru/news/481391/#ixzz3Ghr5yljR" TargetMode="Externa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227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4f271c"/>
                </a:solidFill>
                <a:latin typeface="Corbel"/>
              </a:rPr>
              <a:t>ОБЩАЯ ХАРАКТЕРИСТИКА ПСИХОЛОГИЧЕСКОГО ВОЗДЕЙСТВИЯ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431720" y="2852280"/>
            <a:ext cx="7407000" cy="201636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20e04"/>
                </a:solidFill>
                <a:latin typeface="Corbel"/>
              </a:rPr>
              <a:t>ПСИХОЛОГИЯ ВОСПИТАНИЯ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70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20e04"/>
                </a:solidFill>
                <a:latin typeface="Corbel"/>
              </a:rPr>
              <a:t>МАТЕРИАЛЫ ЛЕКЦИИ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70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20e04"/>
                </a:solidFill>
                <a:latin typeface="Corbel"/>
              </a:rPr>
              <a:t>МПГУ 2014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0" name="Прямоугольник 3"/>
          <p:cNvSpPr/>
          <p:nvPr/>
        </p:nvSpPr>
        <p:spPr>
          <a:xfrm>
            <a:off x="6559920" y="6488280"/>
            <a:ext cx="240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8dc765"/>
                </a:solidFill>
                <a:uFillTx/>
                <a:latin typeface="Arial"/>
                <a:hlinkClick r:id="rId1"/>
              </a:rPr>
              <a:t>http://prezentacija.biz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Реакция на психологическое воздействие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одчинение – страх наказания, стремление к поощрению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Идентификация – желание походить на воспитателя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Интернализация – партнерские взаимоотношения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Народ подчиняется не правителю, а его указу. Поэтому правителю, прежде чем охранять государство, следует соблюдать собственный указ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Ли Гоу «План успокоения народа»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Содержимое 3" descr=""/>
          <p:cNvPicPr/>
          <p:nvPr/>
        </p:nvPicPr>
        <p:blipFill>
          <a:blip r:embed="rId1"/>
          <a:stretch/>
        </p:blipFill>
        <p:spPr>
          <a:xfrm>
            <a:off x="1163520" y="384120"/>
            <a:ext cx="7828200" cy="588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Психологическое воздействие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1434960" y="1523520"/>
            <a:ext cx="3657600" cy="104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rbel"/>
              </a:rPr>
              <a:t>ЛИЧНОСТЬ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rbel"/>
              </a:rPr>
              <a:t>ГРУППА ЛЮДЕЙ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5276880" y="1523880"/>
            <a:ext cx="3657600" cy="8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2d050"/>
                </a:solidFill>
                <a:latin typeface="Corbel"/>
              </a:rPr>
              <a:t>СОЦИАЛЬНЫЕ И ИНЫЕ ФАКТОРЫ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3" name="Содержимое 3"/>
          <p:cNvSpPr/>
          <p:nvPr/>
        </p:nvSpPr>
        <p:spPr>
          <a:xfrm>
            <a:off x="5076720" y="5661000"/>
            <a:ext cx="3657600" cy="104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ПСИХОЛОГИЧЕСКОЕ ВОЗДЕЙСТВИЕ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1434960" y="1523880"/>
            <a:ext cx="3657600" cy="466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ПРОИЗВОЛЬНОЕ – действующая сторона старается вызвать определенный эффект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5276880" y="1523880"/>
            <a:ext cx="3867120" cy="466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НЕПРОИЗВОЛЬНОЕ – заранее результат не планируется – неадекватная реакция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orbel"/>
              </a:rPr>
              <a:t>Х.Мюнстерберг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1 июля 2013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7108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4f271c"/>
                </a:solidFill>
                <a:latin typeface="Corbel"/>
              </a:rPr>
              <a:t>Президент РФ </a:t>
            </a:r>
            <a:r>
              <a:rPr b="1" lang="ru-RU" sz="1500" spc="-1" strike="noStrike">
                <a:solidFill>
                  <a:srgbClr val="4f271c"/>
                </a:solidFill>
                <a:latin typeface="Corbel"/>
              </a:rPr>
              <a:t>Владимир Путин</a:t>
            </a:r>
            <a:r>
              <a:rPr b="0" lang="ru-RU" sz="1500" spc="-1" strike="noStrike">
                <a:solidFill>
                  <a:srgbClr val="4f271c"/>
                </a:solidFill>
                <a:latin typeface="Corbel"/>
              </a:rPr>
              <a:t> подписал закон о запрете пропаганды гомосексуализма среди несовершеннолетних. Полное наименование документа – Федеральный закон от 29 июня 2013 г. № 135-ФЗ "О внесении изменений в статью 5 Федерального закона "О защите детей от информации, причиняющей вред их здоровью и развитию" и отдельные законодательные акты Российской Федерации в целях защиты детей от информации, пропагандирующей отрицание традиционных семейных ценностей"</a:t>
            </a:r>
            <a:br>
              <a:rPr sz="1500"/>
            </a:br>
            <a:br>
              <a:rPr sz="1500"/>
            </a:br>
            <a:r>
              <a:rPr b="0" lang="ru-RU" sz="1500" spc="-1" strike="noStrike">
                <a:solidFill>
                  <a:srgbClr val="4f271c"/>
                </a:solidFill>
                <a:latin typeface="Corbel"/>
              </a:rPr>
              <a:t>Информация, пропагандирующая нетрадиционные сексуальные отношения, отнесена законом к информации, запрещенной для распространения среди детей. Соответствующая поправка внесена в п. 4 ч. 2 ст. 5 Федерального закона "О защите детей от информации, причиняющей вред их здоровью и развитию"</a:t>
            </a:r>
            <a:br>
              <a:rPr sz="1500"/>
            </a:br>
            <a:br>
              <a:rPr sz="1500"/>
            </a:br>
            <a:r>
              <a:rPr b="0" lang="ru-RU" sz="1500" spc="-1" strike="noStrike">
                <a:solidFill>
                  <a:srgbClr val="4f271c"/>
                </a:solidFill>
                <a:latin typeface="Corbel"/>
              </a:rPr>
              <a:t>КоАП РФ дополнен ст. 6.21 "Пропаганда нетрадиционных сексуальных отношений среди несовершеннолетних". Под такой пропагандой понимается распространение информации, направленной на формирование у несовершеннолетних нетрадиционных сексуальных установок, привлекательности нетрадиционных сексуальных отношений, искаженного представления о социальной равноценности традиционных и нетрадиционных сексуальных отношений, либо навязывание информации о нетрадиционных сексуальных отношениях, вызывающей интерес к таким отношениям, если эти действия не содержат уголовно наказуемого деяния.</a:t>
            </a:r>
            <a:br>
              <a:rPr sz="1500"/>
            </a:br>
            <a:br>
              <a:rPr sz="1500"/>
            </a:br>
            <a:r>
              <a:rPr b="0" lang="ru-RU" sz="1500" spc="-1" strike="noStrike">
                <a:solidFill>
                  <a:srgbClr val="4f271c"/>
                </a:solidFill>
                <a:latin typeface="Corbel"/>
              </a:rPr>
              <a:t>ГАРАНТ.РУ: </a:t>
            </a:r>
            <a:r>
              <a:rPr b="0" lang="ru-RU" sz="1500" spc="-1" strike="noStrike" u="sng">
                <a:solidFill>
                  <a:srgbClr val="8dc765"/>
                </a:solidFill>
                <a:uFillTx/>
                <a:latin typeface="Corbel"/>
                <a:hlinkClick r:id="rId1"/>
              </a:rPr>
              <a:t>http://www.garant.ru/news/481391/#ixzz3Ghr5yljR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Психологические воздействие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1434960" y="1523880"/>
            <a:ext cx="3657600" cy="466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Прямое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5276880" y="1523880"/>
            <a:ext cx="3657600" cy="466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Косвенное  - через социальную среду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Психологическое воздействие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1187280" y="1523880"/>
            <a:ext cx="3905280" cy="466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НЕПОСРЕДСТВЕННОЕ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5276880" y="1523880"/>
            <a:ext cx="3657600" cy="466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ОПОСРЕДОВАННОЕ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ОЦЕНИВАЕТСЯ  ПО КАНАЛУ КОММУНИКАЦИИ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Явное и скрытое воздействие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1434960" y="1523880"/>
            <a:ext cx="3657600" cy="466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Оратор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Политик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Актер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Гипнотизер  и т.д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5276880" y="1523880"/>
            <a:ext cx="3657600" cy="466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Маскируется источник – «психологические войны, манипулятивные технологии рекламы и т.д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Психологическое воздействие и профессионализм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Т.С.Кабаченко Методы психологического воздействия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Психологическое воздействие 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—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целенаправленный перенос движения, информации на других от одного участника взаимодействия к другому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ДОМАШНЕЕ ЗАДАНИЕ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ОДОБРАТЬ НА КАЖДЫЙ ВИД ПСИХОЛОГИЧЕСКОГО ВЗАИМОДЕЙСТВИЯ ПРИМЕР ИЗ ПРАКТИКИ ВОСПИТАНИЯ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2577960" y="260028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4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72314"/>
                </a:solidFill>
                <a:latin typeface="Corbel"/>
              </a:rPr>
              <a:t>СПАСИБО ЗА ВНИМАНИЕ!</a:t>
            </a: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2577960" y="1066680"/>
            <a:ext cx="6400800" cy="15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marL="17640" indent="0">
              <a:lnSpc>
                <a:spcPts val="22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20e04"/>
                </a:solidFill>
                <a:latin typeface="Corbel"/>
              </a:rPr>
              <a:t>ВОПРОСЫ ЕСТЬ?</a:t>
            </a:r>
            <a:endParaRPr b="0" lang="en-US" sz="4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Психологическое воздействие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24720" indent="-25128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может быть непосредственным (контактным), когда движение и заключенная в нем информация передаются в форме импульса движения,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24720" indent="-25128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и опосредованным (дистантным), когда информация и закодированный в ней импульс движения передаются в форме комплекса сигналов, несущих сообщение о чем-либо и ориентирующих воспринимающую систему относительно смысла и значения этих сигналов.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о степени изменения в состоянии, поведении и личностно-смысловых образованиях субъекта, на которого было направлено воздействие, можно судить о степени влияния на него воздействующего субъекта (или объекта)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Влияние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—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роцесс и результат изменения индивидом поведения другого человека, его установок, намерений, представлений, оценок и т. п. в ходе взаимодействия с ним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Направленное влияние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Механизмом являются убеждение и внушение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В этом случае субъект ставит перед собой задачу добиться определенного результата от объекта влияния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Ненаправленное влияние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Не имеет специальной задачи изменить поведение, установки и т.д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Эффект воздействия возникает, проявляясь нередко в действии механизмов заражения и подражания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Психологическое воздействие - классификация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1434960" y="1447560"/>
            <a:ext cx="7499520" cy="52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768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Тип взаимодействующих сторон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Стратегии взаимодействия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Конечный результат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Наличие непосредственного контакта или других каналов взаимодействия сторон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Степень сокрытия факта воздействия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рямое воздействие на реципиента или ориентация на измение условий его жизни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8466120" cy="16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572314"/>
                </a:solidFill>
                <a:latin typeface="Corbel"/>
              </a:rPr>
              <a:t>Субъект-субъектные и субъект-объектные ориентированные стратегии взаимодействия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1434960" y="1773000"/>
            <a:ext cx="749952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Манипулятивная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Императивная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Развивающая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rbel"/>
              </a:rPr>
              <a:t>С.Ю. Решетина, Г.Л.Смолян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20T16:13:26Z</dcterms:created>
  <dc:creator>user</dc:creator>
  <dc:description/>
  <dc:language>en-US</dc:language>
  <cp:lastModifiedBy>nebom zav</cp:lastModifiedBy>
  <dcterms:modified xsi:type="dcterms:W3CDTF">2015-02-05T13:22:46Z</dcterms:modified>
  <cp:revision>25</cp:revision>
  <dc:subject/>
  <dc:title>Слайд 1</dc:title>
</cp:coreProperties>
</file>