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F01-FE1E-4D92-93DE-C25E332C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753-3FE3-42A6-983C-17813DBC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87A-FA12-416F-8366-D3EDD6B9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E77-CD92-443F-82C9-C0955654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3D3F-BA53-4ACC-A08F-C8FE20F7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7F16-A78F-4748-9A23-CFDA9F3B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342D-6728-49E3-9ED6-7C3F23F2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CD74-2CE6-45DA-AE59-D54B95C9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4B3-7B67-489B-8618-A6F1CD97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CC51-30AA-466C-8192-2818858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093D-D425-43AC-B0D3-818ABC9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EB8-5E30-42B9-A8A7-2578BE85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C98E-9B72-4E5B-824C-A22E309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82F8-521E-4281-AB0E-80594AD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AEA0-933F-427E-8CAB-688025F8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6600-63E0-4AD5-A9C9-08790F47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3A34-10E2-40CD-BEDF-BDD7B996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E154-6D34-44FC-ACEA-1208D2DE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6104-7473-4F30-86E8-F21CB965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9DF4-47E0-48DB-8892-A9A1034D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ABC21-E351-4854-A64C-55E759DC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9A77-8D63-4D4F-A87B-A688CF36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CBC-8FF3-46C2-AC8B-EB691F25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B121-8983-4538-A499-793771BB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82F7-5B03-4DA7-860E-7271376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9912-85ED-4FF0-8FE9-176B93E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4FB1-AF03-4F95-AA1A-40E673C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34A8-F5A8-478C-A31B-993E01BB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F501-6291-4F1A-8D7E-66458A1E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223D-8543-4F91-BCC6-66EC1564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1122-52C8-4F85-8874-528D2E79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353B-5599-46A6-9EFE-E486D04C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6466-41F8-4200-9B7F-D1D58C28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F0C-D7FF-4A44-9259-0E5D85E9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77432-6A68-4894-B9F3-2253640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CF5A-0ACA-4BF1-BA25-161F218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3C51-3E8B-41D1-8E95-BD2728A6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3869D-B03F-4749-8A46-A94D617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37E2-58A3-4A92-AE45-37225990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452C-464A-4D20-B7F6-FB8E440F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262F4-E10D-49A6-AF0D-E9C419D2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0AA1-0DD9-479D-9CAE-04382292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B90A-57C8-4432-BC53-BCF11034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46FF-A521-4CA2-A643-E643E970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A8A-87C8-4805-9D62-9B1A5984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012D-4938-4392-824C-5101AAE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E379-59D1-4DEB-801A-325A5E7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9267-D768-4E25-88D1-33A5F717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66940-C6AC-46A2-B1D6-CCD2A85C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9C60-B489-4A97-96A9-2E417950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77E53-6C2E-4F15-9B2D-DF8B996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3134-E339-48D0-8394-6F955E8D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CD5E-81E8-4497-A228-961298C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C0959-C548-4371-8FA1-A143BAF0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7D328-1061-4DF3-8463-1F973B15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FC7-1323-48A4-A5BF-A73114E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0649-94ED-4889-AEE6-6120F47C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AB91-D7BE-4075-AAF4-87715C35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AACC9-3B8F-4048-A632-CCA9053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56D81-C234-47C1-81BF-B33EC98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6102-7F57-4543-85C0-B1F14FED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6119F-AFD5-4E5F-908B-4CD918E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C16F3-44CA-4212-9EED-B99BED36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4E5FF-7E56-458D-B684-B2EEC35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A3A0-BFEE-43C8-AB82-E1BEFD1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9905A-7429-4098-BE9F-574F6322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4B7-0B94-4E8C-94B5-6CEA1BC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4F2C-D34B-4FAA-BC35-018A455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CF3C-8170-4A1E-98BF-4AC0BEC5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7E4B0-791E-4F26-A997-670FDC57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A382-1255-4177-ACC1-F3BA68EE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3805-A2D5-46E6-BF62-2F295B15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B7BF-A900-4198-890C-8A594FC2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2720D-978A-423E-B950-1D8B076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ECDD7-B1B1-49C3-BCFD-814E7386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FD6C-A092-434C-A9E5-82CF7A75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4B84A-53C0-45EF-B727-D8083A0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0C4-D1C3-49A9-BB07-4BCF2CC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2C0B-5ED5-4960-8A1F-1A647E8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D8A6E-A899-4B30-9628-492D9671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164F7-FF61-4363-9D37-AF11076F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1B05D-2585-4210-9F7D-E472CCE4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0B7D5-7E9C-4B8F-818C-55C81E00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D69-5F05-4318-9813-164B65A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C4A8-1521-4FA2-8781-DBFA7538D0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C28-4972-40FE-8E2C-B345BAA74B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B50D-DD07-431E-ACD1-4EC951E4E2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F127-5A9B-495C-B07F-81B71FFCA0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0C7-086F-4414-8720-7291BEFDA2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BCF2-CB7B-4694-93D1-998DCEA290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55BB-B2BC-450A-A598-9EC337580A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arant.ru/news/481391/#ixzz3Ghr5yljR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271c"/>
                </a:solidFill>
                <a:latin typeface="Corbel"/>
              </a:rPr>
              <a:t>ОБЩАЯ ХАРАКТЕРИСТИКА ПСИХОЛОГИЧЕСКОГО ВОЗДЕЙСТВ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852280"/>
            <a:ext cx="7407000" cy="201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ПСИХОЛОГИЯ ВОСПИТ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АТЕРИАЛЫ ЛЕКЦИ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ПГУ 201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акция на психологическое воздейств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чинение – страх наказания, стремление к поощрени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дентификация – желание походить на воспита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нализация – партнерские взаимоотнош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род подчиняется не правителю, а его указу. Поэтому правителю, прежде чем охранять государство, следует соблюдать собственный ука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Ли Гоу «План успокоения народ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1163520" y="384120"/>
            <a:ext cx="782820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523520"/>
            <a:ext cx="3657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ГРУППА ЛЮД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276880" y="1523880"/>
            <a:ext cx="3657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orbel"/>
              </a:rPr>
              <a:t>СОЦИАЛЬНЫЕ И ИНЫЕ ФАКТОР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Содержимое 3"/>
          <p:cNvSpPr/>
          <p:nvPr/>
        </p:nvSpPr>
        <p:spPr>
          <a:xfrm>
            <a:off x="5076720" y="5661000"/>
            <a:ext cx="3657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ИЗВОЛЬНОЕ – действующая сторона старается вызвать определенный эффек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76880" y="1523880"/>
            <a:ext cx="38671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ПРОИЗВОЛЬНОЕ – заранее результат не планируется – неадекватная реа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Х.Мюнстербер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 июля 201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Президент РФ </a:t>
            </a:r>
            <a:r>
              <a:rPr b="1" lang="ru-RU" sz="1500" spc="-1" strike="noStrike">
                <a:solidFill>
                  <a:srgbClr val="4f271c"/>
                </a:solidFill>
                <a:latin typeface="Corbel"/>
              </a:rPr>
              <a:t>Владимир Путин</a:t>
            </a: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 подписал закон о запрете пропаганды гомосексуализма среди несовершеннолетних. Полное наименование документа – Федеральный закон от 29 июня 2013 г. № 135-ФЗ "О внесении изменений в статью 5 Федерального закона "О защите детей от информации, причиняющей вред их здоровью и развитию" и отдельные законодательные акты Российской Федерации в целях защиты детей от информации, пропагандирующей отрицание традиционных семейных ценностей"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Информация, пропагандирующая нетрадиционные сексуальные отношения, отнесена законом к информации, запрещенной для распространения среди детей. Соответствующая поправка внесена в п. 4 ч. 2 ст. 5 Федерального закона "О защите детей от информации, причиняющей вред их здоровью и развитию"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КоАП РФ дополнен ст. 6.21 "Пропаганда нетрадиционных сексуальных отношений среди несовершеннолетних". Под такой пропагандой понимается распространение информации, направленной на формирование у несовершеннолетних нетрадиционных сексуальных установок, привлекательности нетрадиционных сексуальных отношений, искаженного представления о социальной равноценности традиционных и нетрадиционных сексуальных отношений, либо навязывание информации о нетрадиционных сексуальных отношениях, вызывающей интерес к таким отношениям, если эти действия не содержат уголовно наказуемого деяния.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ГАРАНТ.РУ: </a:t>
            </a:r>
            <a:r>
              <a:rPr b="0" lang="ru-RU" sz="15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http://www.garant.ru/news/481391/#ixzz3Ghr5ylj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и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я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свенное  - через социальную сред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87280" y="1523880"/>
            <a:ext cx="39052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ЕПОСРЕДСТВЕННО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ПОСРЕДОВАН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ЦЕНИВАЕТСЯ  ПО КАНАЛУ КОММУНИК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Явное и скрыт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ратор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лити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кт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ипнотизер 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скируется источник – «психологические войны, манипулятивные технологии рекламы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 и профессионализ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.С.Кабаченко Методы психологического воз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ленаправленный перенос движения, информации на других от одного участника взаимодействия к друг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ОБРАТЬ НА КАЖДЫЙ ВИД ПСИХОЛОГИЧЕСКОГО ВЗАИМОДЕЙСТВИЯ ПРИМЕР ИЗ ПРАКТИКИ ВОСПИТ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20e04"/>
                </a:solidFill>
                <a:latin typeface="Corbel"/>
              </a:rPr>
              <a:t>ВОПРОСЫ ЕСТЬ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жет быть непосредственным (контактным), когда движение и заключенная в нем информация передаются в форме импульса движения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 опосредованным (дистантным), когда информация и закодированный в ней импульс движения передаются в форме комплекса сигналов, несущих сообщение о чем-либо и ориентирующих воспринимающую систему относительно смысла и значения этих сигнал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степени изменения в состоянии, поведении и личностно-смысловых образованиях субъекта, на которого было направлено воздействие, можно судить о степени влияния на него воздействующего субъекта (или объект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 и результат изменения индивидом поведения другого человека, его установок, намерений, представлений, оценок и т. п. в ходе взаимодействия с н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правленное 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ханизмом являются убеждение и внуш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том случае субъект ставит перед собой задачу добиться определенного результата от объекта влия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енаправленное 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имеет специальной задачи изменить поведение, установки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ффект воздействия возникает, проявляясь нередко в действии механизмов заражения и подраж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 - классификац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 взаимодействующих стор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атегии взаимо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ечный результ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непосредственного контакта или других каналов взаимодействия стор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епень сокрытия факта воз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ямое воздействие на реципиента или ориентация на измение условий его жиз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661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убъект-субъектные и субъект-объектные ориентированные стратегии взаимодейств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анипулятив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перативн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.Ю. Решетина, Г.Л.Смоля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6:13:26Z</dcterms:created>
  <dc:creator>user</dc:creator>
  <dc:description/>
  <dc:language>en-US</dc:language>
  <cp:lastModifiedBy>nebom zav</cp:lastModifiedBy>
  <dcterms:modified xsi:type="dcterms:W3CDTF">2015-02-05T13:22:46Z</dcterms:modified>
  <cp:revision>25</cp:revision>
  <dc:subject/>
  <dc:title>Слайд 1</dc:title>
</cp:coreProperties>
</file>