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3294-8CD9-453D-9FB0-0B54F05FC8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фискалитет</a:t>
            </a:r>
            <a:endParaRPr b="0" lang="en-US" sz="1200" spc="-1" strike="noStrike">
              <a:solidFill>
                <a:srgbClr val="000000"/>
              </a:solidFill>
              <a:latin typeface="Calibri"/>
            </a:endParaRPr>
          </a:p>
        </p:txBody>
      </p:sp>
      <p:sp>
        <p:nvSpPr>
          <p:cNvPr id="2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05A3-FDDC-4A75-86A6-0258BE43D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81bd"/>
                </a:solidFill>
                <a:latin typeface="Calibri"/>
              </a:rPr>
              <a:t>Дать ссылку на источник где про них можно подробно прочитать</a:t>
            </a:r>
            <a:endParaRPr b="0" lang="en-US" sz="1200" spc="-1" strike="noStrike">
              <a:solidFill>
                <a:srgbClr val="000000"/>
              </a:solidFill>
              <a:latin typeface="Calibri"/>
            </a:endParaRPr>
          </a:p>
        </p:txBody>
      </p:sp>
      <p:sp>
        <p:nvSpPr>
          <p:cNvPr id="2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8F9F-3236-401E-BBBF-E4DFD6354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Пар. 2 главы 11 раздел 4 учебника Финансовое право под ред. Е.Ю. Грачевой стр. 223-225</a:t>
            </a: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2C62-CBF8-4001-8ACD-9D2D5A7BA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19DA6-A932-4A2C-B9B7-BD9933C9F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D25EF-728F-43F6-AC92-DEB79FCC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61C38-324F-4D47-9BDD-2B898EA2A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032C5-60D3-4955-B06E-BE9FBBFD1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FB473-72B6-4721-873B-0DF2746C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52C5-E267-446C-B7F2-08F9C564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D6A89-FFCF-4C9B-BAD5-452B7005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5DF2F-3AF9-4C2B-A023-F316A80F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01E94-09F7-467E-A62A-1FAF12BC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E26F-D21D-4FB4-90C1-7009B3EE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A4B9-C5F1-4A25-A2E3-4BA87F85B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FE27-73DF-4857-AAC9-083B9FA0C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3E00-AD9D-424A-B107-98FD11AC06F1}"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1509-4CD9-4CCB-A77C-DA56960ED6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4"/>
          <p:cNvSpPr/>
          <p:nvPr/>
        </p:nvSpPr>
        <p:spPr>
          <a:xfrm>
            <a:off x="0" y="0"/>
            <a:ext cx="9144000" cy="1700280"/>
          </a:xfrm>
          <a:prstGeom prst="rect">
            <a:avLst/>
          </a:prstGeom>
          <a:solidFill>
            <a:srgbClr val="33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Лекция</a:t>
            </a:r>
            <a:r>
              <a:rPr b="0" lang="en-US" sz="3200" spc="-1" strike="noStrike">
                <a:solidFill>
                  <a:srgbClr val="000000"/>
                </a:solidFill>
                <a:latin typeface="Corbel"/>
              </a:rPr>
              <a:t> I</a:t>
            </a:r>
            <a:r>
              <a:rPr b="0" lang="ru-RU" sz="3200" spc="-1" strike="noStrike">
                <a:solidFill>
                  <a:srgbClr val="000000"/>
                </a:solidFill>
                <a:latin typeface="Corbel"/>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Основы теории налогового пра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p:txBody>
      </p:sp>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Налоговое право РФ</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8E0E71D-8CB8-4DD1-894F-93E287987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sp>
        <p:nvSpPr>
          <p:cNvPr id="68"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не только не единственная форма аккумулирования денежных средств в бюджет, но и не его первая форма в историческом ракурсе.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ейшим источником государственных доходов (не считая военной добычи) являлись домены, или государственное имущество, казенные земли и леса. Первоначально они были собственностью государя, доходы которого одновременно являлись и доходами государства. Это были частно-правовые, а не публично-правовые дохо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угим важным источником государственных доходов были регалии, т.е. доходные прерогативы казны. Определенные отрасли производства, виды деятельности поступали в исключительное владение казны, изымались из гражданского оборота, из сферы деятельности насел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ы извлечения средств из регалий различны. Государство могло самостоятельно эксплуатировать ту или иную отрасль производства и сбывать товары по монопольно высокой цене (например, соляная монополия). Доходы могли быть получены и в виде платы за предоставление аренды.</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место регалий сейчас все чаще стали применяться пошлины, которые имели целью лишь покрытие издержек государственного учреждения, а не извлечение дохода.</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0D6848-EB7A-42E6-9B4B-A89E7CBC08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91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Налоги, регалии, домены</a:t>
            </a:r>
            <a:endParaRPr b="0" lang="en-US" sz="1400" spc="-1" strike="noStrike">
              <a:solidFill>
                <a:srgbClr val="000000"/>
              </a:solidFill>
              <a:latin typeface="Arial"/>
            </a:endParaRPr>
          </a:p>
        </p:txBody>
      </p:sp>
      <p:pic>
        <p:nvPicPr>
          <p:cNvPr id="70" name="Содержимое 6" descr=""/>
          <p:cNvPicPr/>
          <p:nvPr/>
        </p:nvPicPr>
        <p:blipFill>
          <a:blip r:embed="rId1"/>
          <a:stretch/>
        </p:blipFill>
        <p:spPr>
          <a:xfrm>
            <a:off x="396720" y="841320"/>
            <a:ext cx="8418600" cy="5297400"/>
          </a:xfrm>
          <a:prstGeom prst="rect">
            <a:avLst/>
          </a:prstGeom>
          <a:ln w="0">
            <a:noFill/>
          </a:ln>
        </p:spPr>
      </p:pic>
      <p:sp>
        <p:nvSpPr>
          <p:cNvPr id="3" name="PlaceHolder 2"/>
          <p:cNvSpPr>
            <a:spLocks noGrp="1"/>
          </p:cNvSpPr>
          <p:nvPr>
            <p:ph type="sldNum" idx="3"/>
          </p:nvPr>
        </p:nvSpPr>
        <p:spPr/>
        <p:txBody>
          <a:bodyPr/>
          <a:p>
            <a:fld id="{C2A17C2F-92EA-4731-8E67-1612ED559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333360"/>
            <a:ext cx="807552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ы (пошлины)</a:t>
            </a:r>
            <a:endParaRPr b="0" lang="en-US" sz="1400" spc="-1" strike="noStrike">
              <a:solidFill>
                <a:srgbClr val="000000"/>
              </a:solidFill>
              <a:latin typeface="Arial"/>
            </a:endParaRPr>
          </a:p>
        </p:txBody>
      </p:sp>
      <p:sp>
        <p:nvSpPr>
          <p:cNvPr id="72"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являются ключевым, базовым понятием в теории налогового прав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  - это комплексная категория, имеющая экономическое и юридическое значени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экономики налог представляет собой платеж (изъятие).</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точки зрения права налог представляет собой принуждение (обязывание), выраженное в обязательности платеж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59DA7B-437E-456D-9181-35CF2FAF38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4"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общая наиболее характерные черты налога  как правовой категории, можно выделить признаки, отличающие налог от иных платежей: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бязательный (принудительный) характер налог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односторонний характер установления налог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индивидуальная безвозмездност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носят нецелевой характер</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взыскивается на условиях безвозвратност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систематичность взыскания</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приводной механизм налогообложения – принуждени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38E854-6468-4DDD-BC64-499A3F7D4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76"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арафискалитет - обязательный сбор, устанавливаемый в пользу юридических лиц публичного или частного права, которые не являются органами государственной власти или публичной администрации.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8153C404-B04C-4E4A-80A9-2F34DA01C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78"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1 СТ. 8 Ч </a:t>
            </a:r>
            <a:r>
              <a:rPr b="0" lang="en-US" sz="2100" spc="-1" strike="noStrike">
                <a:solidFill>
                  <a:srgbClr val="000000"/>
                </a:solidFill>
                <a:latin typeface="Arial"/>
              </a:rPr>
              <a:t>I </a:t>
            </a:r>
            <a:r>
              <a:rPr b="0" lang="ru-RU" sz="2100" spc="-1" strike="noStrike">
                <a:solidFill>
                  <a:srgbClr val="000000"/>
                </a:solidFill>
                <a:latin typeface="Arial"/>
              </a:rPr>
              <a:t>НК РФ дает определение понятия налога:</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1" lang="ru-RU" sz="2100" spc="-1" strike="noStrike">
                <a:solidFill>
                  <a:srgbClr val="000000"/>
                </a:solidFill>
                <a:latin typeface="Arial"/>
              </a:rPr>
              <a:t>Под налогом понимается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E867CA-99D6-4FA5-A5AC-72EF7CBE1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4680"/>
            <a:ext cx="7715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0"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Законодательное закрепление понятия налога необходимо для того, чтобы можно было провести четкое различие между налогом и иными  платежами. </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законодательстве определение налога дается с целью указать черты этого платежа и тем самым ограничить возможности органов власти и управления самостоятельно устанавливать платежи, которым свойственны эти черты. Имеются примеры, когда органами управления вводились обязательные платежи, налоговые по сути, но неналоговые по названию. Оспорить законность таких поборов при отсутствии четкого определения понятия «налог» весьма сложно.</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 5 СТ. 3 Ч</a:t>
            </a:r>
            <a:r>
              <a:rPr b="0" lang="en-US" sz="1900" spc="-1" strike="noStrike">
                <a:solidFill>
                  <a:srgbClr val="000000"/>
                </a:solidFill>
                <a:latin typeface="Arial"/>
              </a:rPr>
              <a:t>I </a:t>
            </a:r>
            <a:r>
              <a:rPr b="0" lang="ru-RU" sz="1900" spc="-1" strike="noStrike">
                <a:solidFill>
                  <a:srgbClr val="000000"/>
                </a:solidFill>
                <a:latin typeface="Arial"/>
              </a:rPr>
              <a:t>НК РФ: Ни на кого не может быть возложена обязанность уплачивать  … иные взносы и платежи, обладающие установленными настоящим Кодексом признаками налогов или сборов, не предусмотренные настоящим Кодексом либо установленные в ином порядке, чем это определено настоящим Кодексом.</a:t>
            </a:r>
            <a:endParaRPr b="0" lang="en-US" sz="1900" spc="-1" strike="noStrike">
              <a:solidFill>
                <a:srgbClr val="000000"/>
              </a:solidFill>
              <a:latin typeface="Arial"/>
            </a:endParaRPr>
          </a:p>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тсутствие четкого определения понятия налог приводит к нарушению конституционных принципов налогообложения и как, следствие нарушению прав налогоплательщиков.</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FE734544-6E5F-4BAC-9781-56B1110EB4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2" name="PlaceHolder 2"/>
          <p:cNvSpPr>
            <a:spLocks noGrp="1"/>
          </p:cNvSpPr>
          <p:nvPr>
            <p:ph/>
          </p:nvPr>
        </p:nvSpPr>
        <p:spPr>
          <a:xfrm>
            <a:off x="468000" y="765000"/>
            <a:ext cx="821844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сформулированное Конституционным Судом Российской Федерации в Постановлении №16-П от 11.11.1997г.:</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овый платеж – это основанная на законе денежная форма отчуждения собственности с целью обеспечения расходов публичной власти, осуществляемого в том числе на началах обязательности, безвозвратности, индивидуальной безвозмезд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налог», предложенное  С.Г. Пепеляевым:</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лог - единственно законная (устанавливаемая законом) форма отчуждения собственности физических и юридических лиц на началах обязательности, индивидуальной безвозмездности, безвозвратности, обеспеченная государственным принуждением, не носящая характер наказания или контрибуции, с целью обеспечения платежеспособности субъектов публичной власт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CAB7581-A3C0-4B70-B337-0C73A8F23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4"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2 СТ.8 Ч1 НК РФ дает следующее определение понятия сбо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д сбором понимается обязательный взнос, взимаемый с организаций и физических лиц, уплата которого является одним из условий совершения в отношении плательщиков сборов государственными органами, органами местного самоуправления, иными уполномоченными органами и должностными лицами юридически значимых действий, включая предоставление определенных прав или выдачу разрешений (лицензи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F11E90-C6D2-4DA4-9EFA-6EBC31FF8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560" y="260280"/>
            <a:ext cx="7715160" cy="1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налога и сбора (пошлины)</a:t>
            </a:r>
            <a:endParaRPr b="0" lang="en-US" sz="1200" spc="-1" strike="noStrike">
              <a:solidFill>
                <a:srgbClr val="000000"/>
              </a:solidFill>
              <a:latin typeface="Arial"/>
            </a:endParaRPr>
          </a:p>
        </p:txBody>
      </p:sp>
      <p:sp>
        <p:nvSpPr>
          <p:cNvPr id="8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боры (пошлины) как и налоги являются обязательными платежами, устанавливаемые государством в одностороннем порядке.</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ует ряд признаков, отличающих сбор от налога:</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сбор (пошлина) в отличие от налога является платежом взимаемым не систематически, т.е. сборы носят разов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сбор (пошлина) – взнос, уплата которого является одним из условий совершения в отношении плательщиков сборов юридически значимых действий, т.е. сборы носят возмездный характер;</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Сборы (пошлины) не имеют финансового значения присущего налогам.  Цель взимания налогов - финансового обеспечения деятельности государства. Цель взыскания сбора (пошлины) – покрытие издержек государства, связанных с совершением юридически значимых действий в пользу плательщика сборов. Хотя стоит отметить, что на практике, этот принцип соблюдается не всегда.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Характер сборов (пошлин) предполагает использование иных принципов при определении размера платежа, нежели те, которые применяются при налогообложении. Размер пошлины или сбора определяют исходя из характера и размера услуги (принцип эквивалентности), а не из платежеспособности лиц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829C39-E646-4E6D-970E-4C40F32C3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ция 1 Основы теории налогового пра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395280" y="1125000"/>
            <a:ext cx="8291520" cy="500076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История возникновения налогов. Общая характеристика теорий о налогах. Налоги и другие виды государственных доходов (домены и регалии)</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Понятие налога и сборы (пошлины). Функции налог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Система налогов и сборов. Классификация налогов.</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Понятие налоговой системы. Принципы налогообложения.</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Понятие, предмет, метод и система налогового права. Место налогового права в системе российского права.</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Источники налогового права. Установление налогов и сборов.</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48099C7-CD41-4AD5-BA6C-A4C0F282F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88" name="PlaceHolder 2"/>
          <p:cNvSpPr>
            <a:spLocks noGrp="1"/>
          </p:cNvSpPr>
          <p:nvPr>
            <p:ph/>
          </p:nvPr>
        </p:nvSpPr>
        <p:spPr>
          <a:xfrm>
            <a:off x="250560" y="836280"/>
            <a:ext cx="843588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ределение понятия сбора (пошлины) сформулированное в теории налогового пра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бор (пошлина) - денежные повинности, взимаемые в индивидуальном порядке в связи с услугой публично-правового характер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пошлины в П.1 СТ. 333.16 Ч2 НК РФ: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Государственная пошлина - сбор, взимаемый с лиц, указанных в статье 333.17 настоящего Кодекса, при их обращении в государственные органы, органы местного самоуправления, иные органы и (или) к должностным лицам, которые уполномочены в соответствии с законодательными актами Российской Федерации, законодательными актами субъектов Российской Федерации и нормативными правовыми актами органов местного самоуправления, за совершением в отношении этих лиц юридически значимых действий, предусмотренных главой 25.3., за исключением действий, совершаемых консульскими учреждениями Российской Федераци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FF2FD2-B7FA-46B5-8D4D-F41CA00972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8240" y="260280"/>
            <a:ext cx="706752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онятие налога и сбора (пошлины)</a:t>
            </a:r>
            <a:endParaRPr b="0" lang="en-US" sz="2000" spc="-1" strike="noStrike">
              <a:solidFill>
                <a:srgbClr val="000000"/>
              </a:solidFill>
              <a:latin typeface="Arial"/>
            </a:endParaRPr>
          </a:p>
        </p:txBody>
      </p:sp>
      <p:sp>
        <p:nvSpPr>
          <p:cNvPr id="90" name="PlaceHolder 2"/>
          <p:cNvSpPr>
            <a:spLocks noGrp="1"/>
          </p:cNvSpPr>
          <p:nvPr>
            <p:ph/>
          </p:nvPr>
        </p:nvSpPr>
        <p:spPr>
          <a:xfrm>
            <a:off x="1511280" y="1628280"/>
            <a:ext cx="6121440" cy="358920"/>
          </a:xfrm>
          <a:prstGeom prst="rect">
            <a:avLst/>
          </a:prstGeom>
          <a:noFill/>
          <a:ln w="0">
            <a:noFill/>
          </a:ln>
        </p:spPr>
        <p:txBody>
          <a:bodyPr anchor="t">
            <a:normAutofit fontScale="87000"/>
          </a:bodyPr>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иды государственных пошлин:</a:t>
            </a:r>
            <a:endParaRPr b="0" lang="en-US" sz="2000" spc="-1" strike="noStrike">
              <a:solidFill>
                <a:srgbClr val="000000"/>
              </a:solidFill>
              <a:latin typeface="Arial"/>
            </a:endParaRPr>
          </a:p>
        </p:txBody>
      </p:sp>
      <p:grpSp>
        <p:nvGrpSpPr>
          <p:cNvPr id="91" name="Organization Chart 5"/>
          <p:cNvGrpSpPr/>
          <p:nvPr/>
        </p:nvGrpSpPr>
        <p:grpSpPr>
          <a:xfrm>
            <a:off x="684360" y="2492280"/>
            <a:ext cx="7714800" cy="3096360"/>
            <a:chOff x="684360" y="2492280"/>
            <a:chExt cx="7714800" cy="3096360"/>
          </a:xfrm>
        </p:grpSpPr>
        <p:cxnSp>
          <p:nvCxnSpPr>
            <p:cNvPr id="92" name="_s29708"/>
            <p:cNvCxnSpPr>
              <a:stCxn id="93" idx="0"/>
              <a:endCxn id="94" idx="2"/>
            </p:cNvCxnSpPr>
            <p:nvPr/>
          </p:nvCxnSpPr>
          <p:spPr>
            <a:xfrm flipV="1" rot="16200000">
              <a:off x="5570640" y="2694600"/>
              <a:ext cx="594360" cy="2652480"/>
            </a:xfrm>
            <a:prstGeom prst="bentConnector3">
              <a:avLst>
                <a:gd name="adj1" fmla="val 20909"/>
              </a:avLst>
            </a:prstGeom>
            <a:ln w="28440">
              <a:solidFill>
                <a:srgbClr val="000000"/>
              </a:solidFill>
              <a:miter/>
            </a:ln>
          </p:spPr>
        </p:cxnSp>
        <p:cxnSp>
          <p:nvCxnSpPr>
            <p:cNvPr id="95" name="_s29707"/>
            <p:cNvCxnSpPr>
              <a:stCxn id="96" idx="0"/>
              <a:endCxn id="94" idx="2"/>
            </p:cNvCxnSpPr>
            <p:nvPr/>
          </p:nvCxnSpPr>
          <p:spPr>
            <a:xfrm flipV="1">
              <a:off x="4542120" y="3723840"/>
              <a:ext cx="2880" cy="594360"/>
            </a:xfrm>
            <a:prstGeom prst="straightConnector1">
              <a:avLst/>
            </a:prstGeom>
            <a:ln w="28440">
              <a:solidFill>
                <a:srgbClr val="000000"/>
              </a:solidFill>
              <a:miter/>
            </a:ln>
          </p:spPr>
        </p:cxnSp>
        <p:cxnSp>
          <p:nvCxnSpPr>
            <p:cNvPr id="97" name="_s29706"/>
            <p:cNvCxnSpPr>
              <a:stCxn id="98" idx="0"/>
              <a:endCxn id="94" idx="2"/>
            </p:cNvCxnSpPr>
            <p:nvPr/>
          </p:nvCxnSpPr>
          <p:spPr>
            <a:xfrm flipH="1" flipV="1" rot="5400000">
              <a:off x="2918160" y="2694960"/>
              <a:ext cx="594360" cy="2652480"/>
            </a:xfrm>
            <a:prstGeom prst="bentConnector3">
              <a:avLst>
                <a:gd name="adj1" fmla="val 20909"/>
              </a:avLst>
            </a:prstGeom>
            <a:ln w="28440">
              <a:solidFill>
                <a:srgbClr val="000000"/>
              </a:solidFill>
              <a:miter/>
            </a:ln>
          </p:spPr>
        </p:cxnSp>
        <p:pic>
          <p:nvPicPr>
            <p:cNvPr id="99" name="_s29702" descr=""/>
            <p:cNvPicPr/>
            <p:nvPr/>
          </p:nvPicPr>
          <p:blipFill>
            <a:blip r:embed="rId1"/>
            <a:stretch/>
          </p:blipFill>
          <p:spPr>
            <a:xfrm>
              <a:off x="3336480" y="2492280"/>
              <a:ext cx="2407680" cy="1315440"/>
            </a:xfrm>
            <a:prstGeom prst="rect">
              <a:avLst/>
            </a:prstGeom>
            <a:ln w="0">
              <a:noFill/>
            </a:ln>
          </p:spPr>
        </p:pic>
        <p:pic>
          <p:nvPicPr>
            <p:cNvPr id="100" name="_s29703" descr=""/>
            <p:cNvPicPr/>
            <p:nvPr/>
          </p:nvPicPr>
          <p:blipFill>
            <a:blip r:embed="rId2"/>
            <a:stretch/>
          </p:blipFill>
          <p:spPr>
            <a:xfrm>
              <a:off x="684360" y="4273200"/>
              <a:ext cx="2407680" cy="1315440"/>
            </a:xfrm>
            <a:prstGeom prst="rect">
              <a:avLst/>
            </a:prstGeom>
            <a:ln w="0">
              <a:noFill/>
            </a:ln>
          </p:spPr>
        </p:pic>
        <p:pic>
          <p:nvPicPr>
            <p:cNvPr id="101" name="_s29704" descr=""/>
            <p:cNvPicPr/>
            <p:nvPr/>
          </p:nvPicPr>
          <p:blipFill>
            <a:blip r:embed="rId3"/>
            <a:stretch/>
          </p:blipFill>
          <p:spPr>
            <a:xfrm>
              <a:off x="3336480" y="4273200"/>
              <a:ext cx="2418480" cy="1315440"/>
            </a:xfrm>
            <a:prstGeom prst="rect">
              <a:avLst/>
            </a:prstGeom>
            <a:ln w="0">
              <a:noFill/>
            </a:ln>
          </p:spPr>
        </p:pic>
        <p:pic>
          <p:nvPicPr>
            <p:cNvPr id="102" name="_s29705" descr=""/>
            <p:cNvPicPr/>
            <p:nvPr/>
          </p:nvPicPr>
          <p:blipFill>
            <a:blip r:embed="rId4"/>
            <a:stretch/>
          </p:blipFill>
          <p:spPr>
            <a:xfrm>
              <a:off x="5991480" y="4273200"/>
              <a:ext cx="2407680" cy="1315440"/>
            </a:xfrm>
            <a:prstGeom prst="rect">
              <a:avLst/>
            </a:prstGeom>
            <a:ln w="0">
              <a:noFill/>
            </a:ln>
          </p:spPr>
        </p:pic>
      </p:grpSp>
      <p:sp>
        <p:nvSpPr>
          <p:cNvPr id="4" name="PlaceHolder 3"/>
          <p:cNvSpPr>
            <a:spLocks noGrp="1"/>
          </p:cNvSpPr>
          <p:nvPr>
            <p:ph type="sldNum" idx="3"/>
          </p:nvPr>
        </p:nvSpPr>
        <p:spPr/>
        <p:txBody>
          <a:bodyPr/>
          <a:p>
            <a:fld id="{33A53795-39FC-4C54-821E-FF15EDDFD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налога и сбора (пошлины)</a:t>
            </a:r>
            <a:endParaRPr b="0" lang="en-US"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Налоговом кодексе Российской Федерации понятие "сбор" имеет собирательное значение. Оно охватывает как собственно сборы (платежи за обладание специальным правом), так и пошлины. Это объясняется тем, что в таком же значении понятие "сборы" употреблено в ст. 57 Конституции РФ, согласно которой "каждый обязан уплачивать законно установленные налоги и сбор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B5D6DD-1B65-4F12-8483-138C4FEFBE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280" y="333360"/>
            <a:ext cx="541044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Функции налога</a:t>
            </a:r>
            <a:endParaRPr b="0" lang="en-US" sz="1400" spc="-1" strike="noStrike">
              <a:solidFill>
                <a:srgbClr val="000000"/>
              </a:solidFill>
              <a:latin typeface="Arial"/>
            </a:endParaRPr>
          </a:p>
        </p:txBody>
      </p:sp>
      <p:sp>
        <p:nvSpPr>
          <p:cNvPr id="106" name="PlaceHolder 2"/>
          <p:cNvSpPr>
            <a:spLocks noGrp="1"/>
          </p:cNvSpPr>
          <p:nvPr>
            <p:ph/>
          </p:nvPr>
        </p:nvSpPr>
        <p:spPr>
          <a:xfrm>
            <a:off x="611280" y="981000"/>
            <a:ext cx="8229600" cy="132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нкция налога – это направление правового воздействия норм налогового права на общественные отношения, обладающее постоянством, раскрывающее сущность налога и реализующее социальное назначение государства.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Схема 5" descr=""/>
          <p:cNvPicPr/>
          <p:nvPr/>
        </p:nvPicPr>
        <p:blipFill>
          <a:blip r:embed="rId1"/>
          <a:stretch/>
        </p:blipFill>
        <p:spPr>
          <a:xfrm>
            <a:off x="1547640" y="2352600"/>
            <a:ext cx="6108840" cy="4071960"/>
          </a:xfrm>
          <a:prstGeom prst="rect">
            <a:avLst/>
          </a:prstGeom>
          <a:ln w="0">
            <a:noFill/>
          </a:ln>
        </p:spPr>
      </p:pic>
      <p:sp>
        <p:nvSpPr>
          <p:cNvPr id="4" name="PlaceHolder 3"/>
          <p:cNvSpPr>
            <a:spLocks noGrp="1"/>
          </p:cNvSpPr>
          <p:nvPr>
            <p:ph type="sldNum" idx="3"/>
          </p:nvPr>
        </p:nvSpPr>
        <p:spPr/>
        <p:txBody>
          <a:bodyPr/>
          <a:p>
            <a:fld id="{7796F559-C863-4574-A594-3F68686BDC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3 Система налогов и сборов</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а налогов и сборов - это совокупность установленных законным способом отельных налогов и сборов на территории страны, обладающих организационно-правовым и экономическим единством.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рганизационно правовое единство системы налогов выражается в централизованном порядке установления видов налогов и сборов и основных элементов их составов.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кономическое единство системы налогов – непременное условие реализации принципа обоснованности в макроэкономическом масштабе. При разработке системы налогов должно учитываться влияние налогообложения на экономику страны в целом.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1A740FF-5A95-4971-BDCF-969F20760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274320"/>
            <a:ext cx="8002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a:t>
            </a:r>
            <a:endParaRPr b="0" lang="en-US" sz="1400" spc="-1" strike="noStrike">
              <a:solidFill>
                <a:srgbClr val="000000"/>
              </a:solidFill>
              <a:latin typeface="Arial"/>
            </a:endParaRPr>
          </a:p>
        </p:txBody>
      </p:sp>
      <p:sp>
        <p:nvSpPr>
          <p:cNvPr id="111" name="PlaceHolder 2"/>
          <p:cNvSpPr>
            <a:spLocks noGrp="1"/>
          </p:cNvSpPr>
          <p:nvPr>
            <p:ph/>
          </p:nvPr>
        </p:nvSpPr>
        <p:spPr>
          <a:xfrm>
            <a:off x="324000" y="907560"/>
            <a:ext cx="8362800" cy="521820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Мировая практика выделяет четыре базисные модели системы налогов в зависимости от роли различных видов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осаксонская модель ориентирована на прямые налоги с физических лиц, доля косвенных налогов незначительна (США, Австралия, Великобритания, Канад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вроконтинентальная модель характеризуется высокой долей отчислений на социальное страхование, а также большим объемом косвенных налогов (Германия, Франция, Австрия, Бельг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тиноамериканская модель рассчитана на сбор налогов в условиях инфляционной экономики. Косвенные налоги наиболее гибко реагируют на изменение цен, лучше защищают бюджет от инфляции и составляют основу системы налогов (Чили, Болив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шанная модель сочетает черты других моделей, ее выбирают, чтобы диверсифицировать структуру доходов, избежать зависимости бюджета от отдельного вида или группы налогов (Российская Федерация).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402C72-01CD-4C60-95C8-F6E70C114F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274680"/>
            <a:ext cx="807552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3"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современную системы налогов и сборов входят: федеральные, региональные и местные налоги и сборы (ст. 13-15 НК Р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федеральным налогам и сбор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авленную стоимость;</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акцизы;</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ходы физических лиц;</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прибыль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добычу полезных ископаемых;</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од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боры за пользование объектами животного мира и за пользование объектами водных биологических ресурсов;</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государственная пошли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региональ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организаций;</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горный бизнес;</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транспортный нало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 местным налогам относятся:</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земельный налог;</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лог на имущество физических лиц.</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могут устанавливаться федеральные, региональные или местные налоги и сборы, не предусмотренные НК РФ. Кроме того, федеральные, региональные и местные налоги и сборы отменяются также исключительно НК РФ.</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9CB94C0-BC6B-4857-95D5-EB4273013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Система налогов и сборов</a:t>
            </a:r>
            <a:endParaRPr b="0" lang="en-US" sz="1200" spc="-1" strike="noStrike">
              <a:solidFill>
                <a:srgbClr val="000000"/>
              </a:solidFill>
              <a:latin typeface="Arial"/>
            </a:endParaRPr>
          </a:p>
        </p:txBody>
      </p:sp>
      <p:sp>
        <p:nvSpPr>
          <p:cNvPr id="115" name="PlaceHolder 2"/>
          <p:cNvSpPr>
            <a:spLocks noGrp="1"/>
          </p:cNvSpPr>
          <p:nvPr>
            <p:ph/>
          </p:nvPr>
        </p:nvSpPr>
        <p:spPr>
          <a:xfrm>
            <a:off x="324000" y="692280"/>
            <a:ext cx="8362800" cy="54338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конодатель в гл. 2 НК РФ (ст. 18) выделяет специальные налоговые режимы.</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 специальным налоговым режимам относятс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для сельскохозяйственных товаро­производителей (единый сельскохозяйственный налог);</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упрощенная система налогообложения;</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в виде единого налога на вмененный доход для отдельных видов деятельности;</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система налогообложения при выполнении соглашений о разделе продукци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могут предусматривать освобождение от обязанности по уплате отдельных федеральных, региональных и местных налогов и сборов, указанных в статьях 13 - 1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пециальные налоговые режимы устанавливаются НК РФ и применяются в случаях и порядке, которые предусмотрены НК РФ и иными актами законодательства о налогах и сборах.</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2C1F1F2-5C78-4E01-B543-B3BE6C326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7" name="Схема 3" descr=""/>
          <p:cNvPicPr/>
          <p:nvPr/>
        </p:nvPicPr>
        <p:blipFill>
          <a:blip r:embed="rId1"/>
          <a:stretch/>
        </p:blipFill>
        <p:spPr>
          <a:xfrm>
            <a:off x="390600" y="1596960"/>
            <a:ext cx="8362800" cy="4535640"/>
          </a:xfrm>
          <a:prstGeom prst="rect">
            <a:avLst/>
          </a:prstGeom>
          <a:ln w="0">
            <a:noFill/>
          </a:ln>
        </p:spPr>
      </p:pic>
      <p:sp>
        <p:nvSpPr>
          <p:cNvPr id="3" name="PlaceHolder 2"/>
          <p:cNvSpPr>
            <a:spLocks noGrp="1"/>
          </p:cNvSpPr>
          <p:nvPr>
            <p:ph type="sldNum" idx="3"/>
          </p:nvPr>
        </p:nvSpPr>
        <p:spPr/>
        <p:txBody>
          <a:bodyPr/>
          <a:p>
            <a:fld id="{171BF3B1-92C9-406E-B97F-68FF0BF69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6275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Классификация налогов</a:t>
            </a:r>
            <a:endParaRPr b="0" lang="en-US" sz="1400" spc="-1" strike="noStrike">
              <a:solidFill>
                <a:srgbClr val="000000"/>
              </a:solidFill>
              <a:latin typeface="Arial"/>
            </a:endParaRPr>
          </a:p>
        </p:txBody>
      </p:sp>
      <p:pic>
        <p:nvPicPr>
          <p:cNvPr id="119" name="Содержимое 6" descr=""/>
          <p:cNvPicPr/>
          <p:nvPr/>
        </p:nvPicPr>
        <p:blipFill>
          <a:blip r:embed="rId1"/>
          <a:stretch/>
        </p:blipFill>
        <p:spPr>
          <a:xfrm>
            <a:off x="450720" y="1006560"/>
            <a:ext cx="8242560" cy="5199120"/>
          </a:xfrm>
          <a:prstGeom prst="rect">
            <a:avLst/>
          </a:prstGeom>
          <a:ln w="0">
            <a:noFill/>
          </a:ln>
        </p:spPr>
      </p:pic>
      <p:pic>
        <p:nvPicPr>
          <p:cNvPr id="120" name="TextBox 7" descr=""/>
          <p:cNvPicPr/>
          <p:nvPr/>
        </p:nvPicPr>
        <p:blipFill>
          <a:blip r:embed="rId2"/>
          <a:stretch/>
        </p:blipFill>
        <p:spPr>
          <a:xfrm>
            <a:off x="7400880" y="1938240"/>
            <a:ext cx="1444680" cy="457200"/>
          </a:xfrm>
          <a:prstGeom prst="rect">
            <a:avLst/>
          </a:prstGeom>
          <a:ln w="0">
            <a:noFill/>
          </a:ln>
        </p:spPr>
      </p:pic>
      <p:pic>
        <p:nvPicPr>
          <p:cNvPr id="121" name="TextBox 11" descr=""/>
          <p:cNvPicPr/>
          <p:nvPr/>
        </p:nvPicPr>
        <p:blipFill>
          <a:blip r:embed="rId3"/>
          <a:stretch/>
        </p:blipFill>
        <p:spPr>
          <a:xfrm>
            <a:off x="7400880" y="2876400"/>
            <a:ext cx="1444680" cy="452520"/>
          </a:xfrm>
          <a:prstGeom prst="rect">
            <a:avLst/>
          </a:prstGeom>
          <a:ln w="0">
            <a:noFill/>
          </a:ln>
        </p:spPr>
      </p:pic>
      <p:pic>
        <p:nvPicPr>
          <p:cNvPr id="122" name="TextBox 12" descr=""/>
          <p:cNvPicPr/>
          <p:nvPr/>
        </p:nvPicPr>
        <p:blipFill>
          <a:blip r:embed="rId4"/>
          <a:stretch/>
        </p:blipFill>
        <p:spPr>
          <a:xfrm>
            <a:off x="7259760" y="3382920"/>
            <a:ext cx="1585800" cy="450720"/>
          </a:xfrm>
          <a:prstGeom prst="rect">
            <a:avLst/>
          </a:prstGeom>
          <a:ln w="0">
            <a:noFill/>
          </a:ln>
        </p:spPr>
      </p:pic>
      <p:pic>
        <p:nvPicPr>
          <p:cNvPr id="123" name="TextBox 13" descr=""/>
          <p:cNvPicPr/>
          <p:nvPr/>
        </p:nvPicPr>
        <p:blipFill>
          <a:blip r:embed="rId5"/>
          <a:stretch/>
        </p:blipFill>
        <p:spPr>
          <a:xfrm>
            <a:off x="7400880" y="3882960"/>
            <a:ext cx="1444680" cy="451080"/>
          </a:xfrm>
          <a:prstGeom prst="rect">
            <a:avLst/>
          </a:prstGeom>
          <a:ln w="0">
            <a:noFill/>
          </a:ln>
        </p:spPr>
      </p:pic>
      <p:pic>
        <p:nvPicPr>
          <p:cNvPr id="124" name="TextBox 14" descr=""/>
          <p:cNvPicPr/>
          <p:nvPr/>
        </p:nvPicPr>
        <p:blipFill>
          <a:blip r:embed="rId6"/>
          <a:stretch/>
        </p:blipFill>
        <p:spPr>
          <a:xfrm>
            <a:off x="7400880" y="4316400"/>
            <a:ext cx="1444680" cy="450720"/>
          </a:xfrm>
          <a:prstGeom prst="rect">
            <a:avLst/>
          </a:prstGeom>
          <a:ln w="0">
            <a:noFill/>
          </a:ln>
        </p:spPr>
      </p:pic>
      <p:pic>
        <p:nvPicPr>
          <p:cNvPr id="125" name="TextBox 15" descr=""/>
          <p:cNvPicPr/>
          <p:nvPr/>
        </p:nvPicPr>
        <p:blipFill>
          <a:blip r:embed="rId7"/>
          <a:stretch/>
        </p:blipFill>
        <p:spPr>
          <a:xfrm>
            <a:off x="7400880" y="4821120"/>
            <a:ext cx="1444680" cy="452520"/>
          </a:xfrm>
          <a:prstGeom prst="rect">
            <a:avLst/>
          </a:prstGeom>
          <a:ln w="0">
            <a:noFill/>
          </a:ln>
        </p:spPr>
      </p:pic>
      <p:pic>
        <p:nvPicPr>
          <p:cNvPr id="126" name="TextBox 16" descr=""/>
          <p:cNvPicPr/>
          <p:nvPr/>
        </p:nvPicPr>
        <p:blipFill>
          <a:blip r:embed="rId8"/>
          <a:stretch/>
        </p:blipFill>
        <p:spPr>
          <a:xfrm>
            <a:off x="7400880" y="5321160"/>
            <a:ext cx="1444680" cy="457200"/>
          </a:xfrm>
          <a:prstGeom prst="rect">
            <a:avLst/>
          </a:prstGeom>
          <a:ln w="0">
            <a:noFill/>
          </a:ln>
        </p:spPr>
      </p:pic>
      <p:pic>
        <p:nvPicPr>
          <p:cNvPr id="127" name="TextBox 17" descr=""/>
          <p:cNvPicPr/>
          <p:nvPr/>
        </p:nvPicPr>
        <p:blipFill>
          <a:blip r:embed="rId9"/>
          <a:stretch/>
        </p:blipFill>
        <p:spPr>
          <a:xfrm>
            <a:off x="7113600" y="5754600"/>
            <a:ext cx="1731960" cy="457200"/>
          </a:xfrm>
          <a:prstGeom prst="rect">
            <a:avLst/>
          </a:prstGeom>
          <a:ln w="0">
            <a:noFill/>
          </a:ln>
        </p:spPr>
      </p:pic>
      <p:pic>
        <p:nvPicPr>
          <p:cNvPr id="128" name="TextBox 18" descr=""/>
          <p:cNvPicPr/>
          <p:nvPr/>
        </p:nvPicPr>
        <p:blipFill>
          <a:blip r:embed="rId10"/>
          <a:stretch/>
        </p:blipFill>
        <p:spPr>
          <a:xfrm>
            <a:off x="7400880" y="2444760"/>
            <a:ext cx="1444680" cy="450720"/>
          </a:xfrm>
          <a:prstGeom prst="rect">
            <a:avLst/>
          </a:prstGeom>
          <a:ln w="0">
            <a:noFill/>
          </a:ln>
        </p:spPr>
      </p:pic>
      <p:pic>
        <p:nvPicPr>
          <p:cNvPr id="129" name="TextBox 19" descr=""/>
          <p:cNvPicPr/>
          <p:nvPr/>
        </p:nvPicPr>
        <p:blipFill>
          <a:blip r:embed="rId11"/>
          <a:stretch/>
        </p:blipFill>
        <p:spPr>
          <a:xfrm>
            <a:off x="420840" y="1938240"/>
            <a:ext cx="1438200" cy="457200"/>
          </a:xfrm>
          <a:prstGeom prst="rect">
            <a:avLst/>
          </a:prstGeom>
          <a:ln w="0">
            <a:noFill/>
          </a:ln>
        </p:spPr>
      </p:pic>
      <p:pic>
        <p:nvPicPr>
          <p:cNvPr id="130" name="TextBox 20" descr=""/>
          <p:cNvPicPr/>
          <p:nvPr/>
        </p:nvPicPr>
        <p:blipFill>
          <a:blip r:embed="rId12"/>
          <a:stretch/>
        </p:blipFill>
        <p:spPr>
          <a:xfrm>
            <a:off x="420840" y="2876400"/>
            <a:ext cx="1438200" cy="452520"/>
          </a:xfrm>
          <a:prstGeom prst="rect">
            <a:avLst/>
          </a:prstGeom>
          <a:ln w="0">
            <a:noFill/>
          </a:ln>
        </p:spPr>
      </p:pic>
      <p:pic>
        <p:nvPicPr>
          <p:cNvPr id="131" name="TextBox 21" descr=""/>
          <p:cNvPicPr/>
          <p:nvPr/>
        </p:nvPicPr>
        <p:blipFill>
          <a:blip r:embed="rId13"/>
          <a:stretch/>
        </p:blipFill>
        <p:spPr>
          <a:xfrm>
            <a:off x="420840" y="3382920"/>
            <a:ext cx="1438200" cy="450720"/>
          </a:xfrm>
          <a:prstGeom prst="rect">
            <a:avLst/>
          </a:prstGeom>
          <a:ln w="0">
            <a:noFill/>
          </a:ln>
        </p:spPr>
      </p:pic>
      <p:pic>
        <p:nvPicPr>
          <p:cNvPr id="132" name="TextBox 22" descr=""/>
          <p:cNvPicPr/>
          <p:nvPr/>
        </p:nvPicPr>
        <p:blipFill>
          <a:blip r:embed="rId14"/>
          <a:stretch/>
        </p:blipFill>
        <p:spPr>
          <a:xfrm>
            <a:off x="420840" y="3882960"/>
            <a:ext cx="1438200" cy="451080"/>
          </a:xfrm>
          <a:prstGeom prst="rect">
            <a:avLst/>
          </a:prstGeom>
          <a:ln w="0">
            <a:noFill/>
          </a:ln>
        </p:spPr>
      </p:pic>
      <p:pic>
        <p:nvPicPr>
          <p:cNvPr id="133" name="TextBox 23" descr=""/>
          <p:cNvPicPr/>
          <p:nvPr/>
        </p:nvPicPr>
        <p:blipFill>
          <a:blip r:embed="rId15"/>
          <a:stretch/>
        </p:blipFill>
        <p:spPr>
          <a:xfrm>
            <a:off x="420840" y="4316400"/>
            <a:ext cx="1731960" cy="450720"/>
          </a:xfrm>
          <a:prstGeom prst="rect">
            <a:avLst/>
          </a:prstGeom>
          <a:ln w="0">
            <a:noFill/>
          </a:ln>
        </p:spPr>
      </p:pic>
      <p:pic>
        <p:nvPicPr>
          <p:cNvPr id="134" name="TextBox 24" descr=""/>
          <p:cNvPicPr/>
          <p:nvPr/>
        </p:nvPicPr>
        <p:blipFill>
          <a:blip r:embed="rId16"/>
          <a:stretch/>
        </p:blipFill>
        <p:spPr>
          <a:xfrm>
            <a:off x="420840" y="4821120"/>
            <a:ext cx="1438200" cy="452520"/>
          </a:xfrm>
          <a:prstGeom prst="rect">
            <a:avLst/>
          </a:prstGeom>
          <a:ln w="0">
            <a:noFill/>
          </a:ln>
        </p:spPr>
      </p:pic>
      <p:pic>
        <p:nvPicPr>
          <p:cNvPr id="135" name="TextBox 25" descr=""/>
          <p:cNvPicPr/>
          <p:nvPr/>
        </p:nvPicPr>
        <p:blipFill>
          <a:blip r:embed="rId17"/>
          <a:stretch/>
        </p:blipFill>
        <p:spPr>
          <a:xfrm>
            <a:off x="420840" y="5321160"/>
            <a:ext cx="1438200" cy="457200"/>
          </a:xfrm>
          <a:prstGeom prst="rect">
            <a:avLst/>
          </a:prstGeom>
          <a:ln w="0">
            <a:noFill/>
          </a:ln>
        </p:spPr>
      </p:pic>
      <p:pic>
        <p:nvPicPr>
          <p:cNvPr id="136" name="TextBox 26" descr=""/>
          <p:cNvPicPr/>
          <p:nvPr/>
        </p:nvPicPr>
        <p:blipFill>
          <a:blip r:embed="rId18"/>
          <a:stretch/>
        </p:blipFill>
        <p:spPr>
          <a:xfrm>
            <a:off x="420840" y="5754600"/>
            <a:ext cx="1438200" cy="457200"/>
          </a:xfrm>
          <a:prstGeom prst="rect">
            <a:avLst/>
          </a:prstGeom>
          <a:ln w="0">
            <a:noFill/>
          </a:ln>
        </p:spPr>
      </p:pic>
      <p:pic>
        <p:nvPicPr>
          <p:cNvPr id="137" name="TextBox 27" descr=""/>
          <p:cNvPicPr/>
          <p:nvPr/>
        </p:nvPicPr>
        <p:blipFill>
          <a:blip r:embed="rId19"/>
          <a:stretch/>
        </p:blipFill>
        <p:spPr>
          <a:xfrm>
            <a:off x="420840" y="2444760"/>
            <a:ext cx="1438200" cy="450720"/>
          </a:xfrm>
          <a:prstGeom prst="rect">
            <a:avLst/>
          </a:prstGeom>
          <a:ln w="0">
            <a:noFill/>
          </a:ln>
        </p:spPr>
      </p:pic>
      <p:sp>
        <p:nvSpPr>
          <p:cNvPr id="138" name="Прямая соединительная линия 29"/>
          <p:cNvSpPr/>
          <p:nvPr/>
        </p:nvSpPr>
        <p:spPr>
          <a:xfrm>
            <a:off x="6659640" y="220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39" name="Прямая соединительная линия 31"/>
          <p:cNvSpPr/>
          <p:nvPr/>
        </p:nvSpPr>
        <p:spPr>
          <a:xfrm>
            <a:off x="6732720" y="501336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0" name="Прямая соединительная линия 32"/>
          <p:cNvSpPr/>
          <p:nvPr/>
        </p:nvSpPr>
        <p:spPr>
          <a:xfrm>
            <a:off x="6732720" y="551664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1" name="Прямая соединительная линия 33"/>
          <p:cNvSpPr/>
          <p:nvPr/>
        </p:nvSpPr>
        <p:spPr>
          <a:xfrm>
            <a:off x="6659640" y="5950080"/>
            <a:ext cx="504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4000" spc="-1" strike="noStrike">
              <a:solidFill>
                <a:srgbClr val="000000"/>
              </a:solidFill>
              <a:latin typeface="Arial"/>
            </a:endParaRPr>
          </a:p>
        </p:txBody>
      </p:sp>
      <p:sp>
        <p:nvSpPr>
          <p:cNvPr id="142" name="Прямая соединительная линия 34"/>
          <p:cNvSpPr/>
          <p:nvPr/>
        </p:nvSpPr>
        <p:spPr>
          <a:xfrm>
            <a:off x="665964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3" name="Прямая соединительная линия 35"/>
          <p:cNvSpPr/>
          <p:nvPr/>
        </p:nvSpPr>
        <p:spPr>
          <a:xfrm>
            <a:off x="6659640" y="3573360"/>
            <a:ext cx="6490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4000" spc="-1" strike="noStrike">
              <a:solidFill>
                <a:srgbClr val="000000"/>
              </a:solidFill>
              <a:latin typeface="Arial"/>
            </a:endParaRPr>
          </a:p>
        </p:txBody>
      </p:sp>
      <p:sp>
        <p:nvSpPr>
          <p:cNvPr id="144" name="Прямая соединительная линия 36"/>
          <p:cNvSpPr/>
          <p:nvPr/>
        </p:nvSpPr>
        <p:spPr>
          <a:xfrm>
            <a:off x="665964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5" name="Прямая соединительная линия 37"/>
          <p:cNvSpPr/>
          <p:nvPr/>
        </p:nvSpPr>
        <p:spPr>
          <a:xfrm>
            <a:off x="6659640" y="263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6" name="Прямая соединительная линия 39"/>
          <p:cNvSpPr/>
          <p:nvPr/>
        </p:nvSpPr>
        <p:spPr>
          <a:xfrm>
            <a:off x="6659640" y="4076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7" name="Прямая соединительная линия 42"/>
          <p:cNvSpPr/>
          <p:nvPr/>
        </p:nvSpPr>
        <p:spPr>
          <a:xfrm>
            <a:off x="1763640" y="213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8" name="Прямая соединительная линия 43"/>
          <p:cNvSpPr/>
          <p:nvPr/>
        </p:nvSpPr>
        <p:spPr>
          <a:xfrm>
            <a:off x="1835280" y="4941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49" name="Прямая соединительная линия 44"/>
          <p:cNvSpPr/>
          <p:nvPr/>
        </p:nvSpPr>
        <p:spPr>
          <a:xfrm>
            <a:off x="1835280" y="5445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0" name="Прямая соединительная линия 45"/>
          <p:cNvSpPr/>
          <p:nvPr/>
        </p:nvSpPr>
        <p:spPr>
          <a:xfrm>
            <a:off x="1835280" y="587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1" name="Прямая соединительная линия 46"/>
          <p:cNvSpPr/>
          <p:nvPr/>
        </p:nvSpPr>
        <p:spPr>
          <a:xfrm flipV="1">
            <a:off x="2050920" y="4508640"/>
            <a:ext cx="4334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4000" spc="-1" strike="noStrike">
              <a:solidFill>
                <a:srgbClr val="000000"/>
              </a:solidFill>
              <a:latin typeface="Arial"/>
            </a:endParaRPr>
          </a:p>
        </p:txBody>
      </p:sp>
      <p:sp>
        <p:nvSpPr>
          <p:cNvPr id="152" name="Прямая соединительная линия 47"/>
          <p:cNvSpPr/>
          <p:nvPr/>
        </p:nvSpPr>
        <p:spPr>
          <a:xfrm>
            <a:off x="1763640" y="3500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3" name="Прямая соединительная линия 48"/>
          <p:cNvSpPr/>
          <p:nvPr/>
        </p:nvSpPr>
        <p:spPr>
          <a:xfrm>
            <a:off x="1763640" y="306864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4" name="Прямая соединительная линия 49"/>
          <p:cNvSpPr/>
          <p:nvPr/>
        </p:nvSpPr>
        <p:spPr>
          <a:xfrm>
            <a:off x="1763640" y="2565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55" name="Прямая соединительная линия 50"/>
          <p:cNvSpPr/>
          <p:nvPr/>
        </p:nvSpPr>
        <p:spPr>
          <a:xfrm>
            <a:off x="1763640" y="400536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98817C1-A405-4013-8B3B-E2F0730320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4"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ории государства и права налоги рассматриваются  в качестве одного из важнейших признаков государства, отличающего государство от догосударственных и негосударственных образований.</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государством возложенных на него целей, задач и функций оно должно располагать собственными средствами, т.е. находящимися в его собственности финансовыми ресурсам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яду государственных доходов налогам и сборам принадлежит важнейшее мес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налог - не единственная форма аккумулирования денежных средств в казну. По форме образования выделяют налоговые и неналоговые доходы  бюджета и безвозмездные поступл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налоговая система предполагает достаточно высокий уровень развития правосознания, экономики и системы контрол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ститут налогообложения насчитывает тысячелетия. История становления и развития налогов тесно связана с развитием и функционированием государства.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22D970-08A4-4628-9585-4211AF343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Тема 3 Классификация налогов</a:t>
            </a:r>
            <a:endParaRPr b="0" lang="en-US" sz="1400" spc="-1" strike="noStrike">
              <a:solidFill>
                <a:srgbClr val="000000"/>
              </a:solidFill>
              <a:latin typeface="Arial"/>
            </a:endParaRPr>
          </a:p>
        </p:txBody>
      </p:sp>
      <p:pic>
        <p:nvPicPr>
          <p:cNvPr id="157" name="Схема 3" descr=""/>
          <p:cNvPicPr/>
          <p:nvPr/>
        </p:nvPicPr>
        <p:blipFill>
          <a:blip r:embed="rId1"/>
          <a:stretch/>
        </p:blipFill>
        <p:spPr>
          <a:xfrm>
            <a:off x="281160" y="1560600"/>
            <a:ext cx="8594640" cy="4638600"/>
          </a:xfrm>
          <a:prstGeom prst="rect">
            <a:avLst/>
          </a:prstGeom>
          <a:ln w="0">
            <a:noFill/>
          </a:ln>
        </p:spPr>
      </p:pic>
      <p:sp>
        <p:nvSpPr>
          <p:cNvPr id="3" name="PlaceHolder 2"/>
          <p:cNvSpPr>
            <a:spLocks noGrp="1"/>
          </p:cNvSpPr>
          <p:nvPr>
            <p:ph type="sldNum" idx="3"/>
          </p:nvPr>
        </p:nvSpPr>
        <p:spPr/>
        <p:txBody>
          <a:bodyPr/>
          <a:p>
            <a:fld id="{6C36A4B1-F652-48C3-A64E-336AC9BB9E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60280"/>
            <a:ext cx="80136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4 Понятие налоговой системы</a:t>
            </a:r>
            <a:endParaRPr b="0" lang="en-US" sz="1400" spc="-1" strike="noStrike">
              <a:solidFill>
                <a:srgbClr val="000000"/>
              </a:solidFill>
              <a:latin typeface="Arial"/>
            </a:endParaRPr>
          </a:p>
        </p:txBody>
      </p:sp>
      <p:sp>
        <p:nvSpPr>
          <p:cNvPr id="159"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алоговая система - это совокупность установленных в государстве существенных условий налогообложения</a:t>
            </a:r>
            <a:endParaRPr b="0" lang="en-US" sz="2200" spc="-1" strike="noStrike">
              <a:solidFill>
                <a:srgbClr val="000000"/>
              </a:solidFill>
              <a:latin typeface="Arial"/>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ущественными условиями налогообложения являютс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принципы налогообложения</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установления и введения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истема налогов;</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орядок распределения налоговых поступлений между бюджетами разных уровне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права и обязанности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формы и методы налогового контроля;</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ответственность участников налоговых отношений;</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способы защиты прав и интересов участников налоговых отношений.</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E7CDB31-903D-4C61-9E47-522968242C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 и сборов и налоговая система</a:t>
            </a:r>
            <a:endParaRPr b="0" lang="en-US" sz="1400" spc="-1" strike="noStrike">
              <a:solidFill>
                <a:srgbClr val="000000"/>
              </a:solidFill>
              <a:latin typeface="Arial"/>
            </a:endParaRPr>
          </a:p>
        </p:txBody>
      </p:sp>
      <p:sp>
        <p:nvSpPr>
          <p:cNvPr id="161"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и сборов» следует отличать от понятия «налоговая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истема налогов и сборов - это совокупность</a:t>
            </a:r>
            <a:r>
              <a:rPr b="0" lang="en-US" sz="1800" spc="-1" strike="noStrike">
                <a:solidFill>
                  <a:srgbClr val="000000"/>
                </a:solidFill>
                <a:latin typeface="Arial"/>
              </a:rPr>
              <a:t> установленных законным способом отельных </a:t>
            </a:r>
            <a:r>
              <a:rPr b="1" lang="en-US" sz="1800" spc="-1" strike="noStrike">
                <a:solidFill>
                  <a:srgbClr val="000000"/>
                </a:solidFill>
                <a:latin typeface="Arial"/>
              </a:rPr>
              <a:t>налогов и сборов</a:t>
            </a:r>
            <a:r>
              <a:rPr b="0" lang="en-US" sz="1800" spc="-1" strike="noStrike">
                <a:solidFill>
                  <a:srgbClr val="000000"/>
                </a:solidFill>
                <a:latin typeface="Arial"/>
              </a:rPr>
              <a:t> на территории страны, обладающих организационно-правовым и экономическим единством.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логовая система</a:t>
            </a:r>
            <a:r>
              <a:rPr b="0" lang="en-US" sz="1800" spc="-1" strike="noStrike">
                <a:solidFill>
                  <a:srgbClr val="000000"/>
                </a:solidFill>
                <a:latin typeface="Arial"/>
              </a:rPr>
              <a:t> - </a:t>
            </a:r>
            <a:r>
              <a:rPr b="1" lang="en-US" sz="1800" spc="-1" strike="noStrike">
                <a:solidFill>
                  <a:srgbClr val="000000"/>
                </a:solidFill>
                <a:latin typeface="Arial"/>
              </a:rPr>
              <a:t>это совокупность</a:t>
            </a:r>
            <a:r>
              <a:rPr b="0" lang="en-US" sz="1800" spc="-1" strike="noStrike">
                <a:solidFill>
                  <a:srgbClr val="000000"/>
                </a:solidFill>
                <a:latin typeface="Arial"/>
              </a:rPr>
              <a:t> установленных в государстве </a:t>
            </a:r>
            <a:r>
              <a:rPr b="1" lang="en-US" sz="1800" spc="-1" strike="noStrike">
                <a:solidFill>
                  <a:srgbClr val="000000"/>
                </a:solidFill>
                <a:latin typeface="Arial"/>
              </a:rPr>
              <a:t>существенных условий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нятие система налогов характеризует налоговый правопорядок в целом, а </a:t>
            </a:r>
            <a:r>
              <a:rPr b="1" lang="en-US" sz="1800" spc="-1" strike="noStrike">
                <a:solidFill>
                  <a:srgbClr val="000000"/>
                </a:solidFill>
                <a:latin typeface="Arial"/>
              </a:rPr>
              <a:t>система налогов и сборов является одним из элементов современной налоговой системы Российской Федерации.</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423BE4-40C2-4A99-AA23-F91E6D9FD5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Принципы налогообложения</a:t>
            </a:r>
            <a:endParaRPr b="0" lang="en-US" sz="2000" spc="-1" strike="noStrike">
              <a:solidFill>
                <a:srgbClr val="000000"/>
              </a:solidFill>
              <a:latin typeface="Arial"/>
            </a:endParaRPr>
          </a:p>
        </p:txBody>
      </p:sp>
      <p:pic>
        <p:nvPicPr>
          <p:cNvPr id="163" name="Схема 5" descr=""/>
          <p:cNvPicPr/>
          <p:nvPr/>
        </p:nvPicPr>
        <p:blipFill>
          <a:blip r:embed="rId1"/>
          <a:stretch/>
        </p:blipFill>
        <p:spPr>
          <a:xfrm>
            <a:off x="401760" y="1335240"/>
            <a:ext cx="8486640" cy="4333680"/>
          </a:xfrm>
          <a:prstGeom prst="rect">
            <a:avLst/>
          </a:prstGeom>
          <a:ln w="0">
            <a:noFill/>
          </a:ln>
        </p:spPr>
      </p:pic>
      <p:sp>
        <p:nvSpPr>
          <p:cNvPr id="3" name="PlaceHolder 2"/>
          <p:cNvSpPr>
            <a:spLocks noGrp="1"/>
          </p:cNvSpPr>
          <p:nvPr>
            <p:ph type="sldNum" idx="3"/>
          </p:nvPr>
        </p:nvSpPr>
        <p:spPr/>
        <p:txBody>
          <a:bodyPr/>
          <a:p>
            <a:fld id="{D57C4A9F-825E-4E7E-8DF3-D262E92665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55280" y="274320"/>
            <a:ext cx="7931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ринципы налогообложения</a:t>
            </a:r>
            <a:endParaRPr b="0" lang="en-US" sz="1400" spc="-1" strike="noStrike">
              <a:solidFill>
                <a:srgbClr val="000000"/>
              </a:solidFill>
              <a:latin typeface="Arial"/>
            </a:endParaRPr>
          </a:p>
        </p:txBody>
      </p:sp>
      <p:sp>
        <p:nvSpPr>
          <p:cNvPr id="165" name="PlaceHolder 2"/>
          <p:cNvSpPr>
            <a:spLocks noGrp="1"/>
          </p:cNvSpPr>
          <p:nvPr>
            <p:ph/>
          </p:nvPr>
        </p:nvSpPr>
        <p:spPr>
          <a:xfrm>
            <a:off x="394920" y="1052640"/>
            <a:ext cx="8302680" cy="510192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учитывать, что принципы налогообложения играют не только познавательную роль, роль научных абстракций. Они выступают и юридическим инструментом. Будучи закрепленными в конституциях и законах, принципы налогообложения оказывают непосредственное влияние на практику налогообложения.</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ие принципы налогообложения и сборов относятся к основным гарантиям, установление которых федеральным законом обеспечивает реализацию и соблюдение основ конституционного строя, основных прав и свобод человека и гражданина, принципов федерализма в Российской Федерации</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зависимости от направленности действия и смысла решаемых задач основные принципы налогообложения и сборов можно разделить на три группы:</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принципы, обеспечивающие реализацию и соблюдение основ конституционного строя;</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принципы, обеспечивающие реализацию и соблюдение основных прав и свобод налогоплательщиков;</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принципы, обеспечивающие реализацию и соблюдение начал федерализма.</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961B4D-B19F-4B9D-948C-05C5EE9723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Лекция 1 Принципы налогообложения Дать ссылку на источник где про них можно подробно прочитать</a:t>
            </a:r>
            <a:endParaRPr b="0" lang="en-US" sz="1200" spc="-1" strike="noStrike">
              <a:solidFill>
                <a:srgbClr val="000000"/>
              </a:solidFill>
              <a:latin typeface="Arial"/>
            </a:endParaRPr>
          </a:p>
        </p:txBody>
      </p:sp>
      <p:sp>
        <p:nvSpPr>
          <p:cNvPr id="167"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Основные принципы налогообложения, обеспечивающие реализацию и соблюдение основ конституционного стро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убличн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приоритета финансовой цели взимания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специализации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изменения или отмены налогов и сборов закон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установления налогов и сборов  в должной процедуре;</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ограничения форм налогового законотворче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Основные принципы налогообложения, обеспечивающие реализацию и соблюдение прав и свобод налогоплательщик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юридического равенства плательщиков налогов и сбор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всеобщности налогообложения;</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вного налогового бремен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соразмерности налогообложения конституционно значимым целям ограничения прав и свобод.</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Основные принципы налогообложения, обеспечивающие реализацию и соблюдение начал федерализма:</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налоговой политик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единства системы налогов;</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принцип разделения налоговых полномочий.</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2440BED-F132-4938-8D9C-7FB2484947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1 Принципы налогообложения</a:t>
            </a:r>
            <a:endParaRPr b="0" lang="en-US" sz="1400" spc="-1" strike="noStrike">
              <a:solidFill>
                <a:srgbClr val="000000"/>
              </a:solidFill>
              <a:latin typeface="Arial"/>
            </a:endParaRPr>
          </a:p>
        </p:txBody>
      </p:sp>
      <p:sp>
        <p:nvSpPr>
          <p:cNvPr id="169" name="PlaceHolder 2"/>
          <p:cNvSpPr>
            <a:spLocks noGrp="1"/>
          </p:cNvSpPr>
          <p:nvPr>
            <p:ph/>
          </p:nvPr>
        </p:nvSpPr>
        <p:spPr>
          <a:xfrm>
            <a:off x="394920" y="836640"/>
            <a:ext cx="8302680" cy="5317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ы и другие основания деления на группы принципов налогообложения и сборов.  Так выделяют экономические, юридические и организационные принцип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экономическим принципам относят принципы, сформулированные А.Смитом, а именно справедливости, определенности, удобности и экономии, которые в настоящее время воплощены на практике как принципы справедливости, соразмерности, максимального учета интересов и возможностей налогоплательщиков и экономичности (эффективности).</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 юридическим принципам относят:</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равного налогового бремен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установления налогов законами;</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отрицания обратной силы налоговых законов;</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инцип наличия всех элементов налога в налоговом законе.</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1E9D869-71CC-4E15-87B2-AB6624FEA8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74680"/>
            <a:ext cx="814716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1 Принципы налогообложения</a:t>
            </a:r>
            <a:endParaRPr b="0" lang="en-US" sz="1200" spc="-1" strike="noStrike">
              <a:solidFill>
                <a:srgbClr val="000000"/>
              </a:solidFill>
              <a:latin typeface="Arial"/>
            </a:endParaRPr>
          </a:p>
        </p:txBody>
      </p:sp>
      <p:sp>
        <p:nvSpPr>
          <p:cNvPr id="171" name="PlaceHolder 2"/>
          <p:cNvSpPr>
            <a:spLocks noGrp="1"/>
          </p:cNvSpPr>
          <p:nvPr>
            <p:ph/>
          </p:nvPr>
        </p:nvSpPr>
        <p:spPr>
          <a:xfrm>
            <a:off x="324000" y="765000"/>
            <a:ext cx="8362800" cy="536112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 организационным принципам относят:</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единства финансовой, налоговой политики и единства налоговой систе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подвижности (эластичности) означает, что налог и некоторые налоговые механизмы могут быть оперативно изменены в сторону уменьшения или увеличения налогового бремени в соответствии с объективными нуждами и возможностями государства);</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стабильности означает, что налоговая система должна действовать в течение ряда лет вплоть до налоговой реформы;</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множественности налогов предусматривает, что налоговая система государства должна быть основана на совокупности дифференцированных налогов и объектов обложения;</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принцип исчерпывающего перечня региональных и местных налогов означает проявление государственно-правовой идеи фискального федерализма как основного способа разделения налоговых полномочий между федеральными и региональными властями, а также органами местного самоуправления.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сновные принципы налогообложения нашли свое закрепление в ст.3 части первой  НК РФ, которая называется: «Основные начала законодательства о налогах и сбора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998A7D2-208E-4443-8725-CC3346A2B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274320"/>
            <a:ext cx="8218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1 Тема 5. Понятие, предмет, метод и система налогового права.</a:t>
            </a:r>
            <a:endParaRPr b="0" lang="en-US" sz="1200" spc="-1" strike="noStrike">
              <a:solidFill>
                <a:srgbClr val="000000"/>
              </a:solidFill>
              <a:latin typeface="Arial"/>
            </a:endParaRPr>
          </a:p>
        </p:txBody>
      </p:sp>
      <p:sp>
        <p:nvSpPr>
          <p:cNvPr id="17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мин «налоговое право» в юридической науке рассматривается в трех аспекта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налоговое право как учебная дисциплин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налоговое право как наука (система категорий, суждений и выводов о налогово-правовых отношениях);</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налоговое право как подотрасль финансового пра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F88628-13E4-4DA6-BACB-1E948BD1B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274320"/>
            <a:ext cx="807552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Понятие, предмет, метод и система налогового права.</a:t>
            </a:r>
            <a:endParaRPr b="0" lang="en-US" sz="1200" spc="-1" strike="noStrike">
              <a:solidFill>
                <a:srgbClr val="000000"/>
              </a:solidFill>
              <a:latin typeface="Arial"/>
            </a:endParaRPr>
          </a:p>
        </p:txBody>
      </p:sp>
      <p:sp>
        <p:nvSpPr>
          <p:cNvPr id="175" name="PlaceHolder 2"/>
          <p:cNvSpPr>
            <a:spLocks noGrp="1"/>
          </p:cNvSpPr>
          <p:nvPr>
            <p:ph/>
          </p:nvPr>
        </p:nvSpPr>
        <p:spPr>
          <a:xfrm>
            <a:off x="395280" y="620280"/>
            <a:ext cx="8291520" cy="55054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учебная дисциплина представляет собой совокупность знаний, представлений, информации об основных положениях налогового права. Оно может отличаться от налогового права как подотрасли, так как содержит более обширный объем информации. Ведь в рамках учебной дисциплины рассматриваются такие вопросы, как предмет, метод налогового права, виды налогов и сборов, история налогового законодательства и другие теоретические проблемы.</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ка налогового права - система знаний, научных концепций и положений о нормах налогового права, теории, практике, о порядке, формах и способах применения норм налогового права.</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ое право как подотрасль финансового права - совокупность финансово-правовых норм, регулирующих общественные отношения, возникающие в процессе установления, введения и взиманию налогов, налогового контроля и привлечения к ответственности за совершение налоговых правонарушений.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D3522B3-8316-44AB-B190-D625C6EA77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1 История возникновения налогов</a:t>
            </a:r>
            <a:endParaRPr b="0" lang="en-US" sz="1200" spc="-1" strike="noStrike">
              <a:solidFill>
                <a:srgbClr val="000000"/>
              </a:solidFill>
              <a:latin typeface="Arial"/>
            </a:endParaRPr>
          </a:p>
        </p:txBody>
      </p:sp>
      <p:sp>
        <p:nvSpPr>
          <p:cNvPr id="56" name="PlaceHolder 2"/>
          <p:cNvSpPr>
            <a:spLocks noGrp="1"/>
          </p:cNvSpPr>
          <p:nvPr>
            <p:ph/>
          </p:nvPr>
        </p:nvSpPr>
        <p:spPr>
          <a:xfrm>
            <a:off x="395280" y="907560"/>
            <a:ext cx="8291520" cy="52182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звитии налогообложения различают три период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Становление налогообложения. Возникновение налогов происходило одновременно с появлением первых государств, когда действуют товарно-денежные отношения, формируется государственный аппарат управления и принуждения, на содержание которого требовались средств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оги Древнего мира принято называть «квазиналогами», поскольку они представляли собой переходный этап к современному типу налога.</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воначально налоги существовали в виде бессистемных платежей в натуральной форме, носили разовый характер.</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 мере развития товарно-денежных отношений налоги в основном приобретают денежную форму.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звитие государственности диктовало объективную необходимость усиления государственного аппарата, что обусловило возникновение налоговых систем, пришедших на смену разовым, бессистемным платежам.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6FC4EE-354F-4590-8C10-668DE3B990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Понятие, предмет, метод и система налогового права.</a:t>
            </a:r>
            <a:endParaRPr b="0" lang="en-US" sz="1400" spc="-1" strike="noStrike">
              <a:solidFill>
                <a:srgbClr val="000000"/>
              </a:solidFill>
              <a:latin typeface="Arial"/>
            </a:endParaRPr>
          </a:p>
        </p:txBody>
      </p:sp>
      <p:sp>
        <p:nvSpPr>
          <p:cNvPr id="177" name="PlaceHolder 2"/>
          <p:cNvSpPr>
            <a:spLocks noGrp="1"/>
          </p:cNvSpPr>
          <p:nvPr>
            <p:ph/>
          </p:nvPr>
        </p:nvSpPr>
        <p:spPr>
          <a:xfrm>
            <a:off x="468360" y="764640"/>
            <a:ext cx="8229600" cy="5389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едмет налогового права – это общественные отношения, складывающиеся между государством в лице его органов, наделенных специальной компетенцией, а также налогоплательщиками и иными лицами в процессе установления, введения в действие  и взимания налоговых платежей, налогового контроля и привлечения к ответственности за совершение налоговых правонарушений.</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тод налогового права - это совокупность приемов и способов регулирования налоговых отношений. Преобладающим методом правового регулирования налоговых отношений является императивный метод, так как государство устанавливает процедуры установления, введения и уплаты налогов, а также материальное содержание этих отношений. В качестве властной стороны выступает публичный субъект, который выражает волю государства или муниципального образован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нако применение в налоговом праве преимущественно императивного способа не исключает возможности использования императивно ограниченной диспозитивности. Использование диспозитивного метода правового регулирования, предполагающего юридическое равенство сторон в налоговом праве, ограничено. Элементы диспозитивности применяются в целях регулирующего воздействия на экономические отношения.</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539D401-676A-4E91-99F7-A82FAE37F2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Предмет налогового права</a:t>
            </a:r>
            <a:endParaRPr b="0" lang="en-US" sz="1600" spc="-1" strike="noStrike">
              <a:solidFill>
                <a:srgbClr val="000000"/>
              </a:solidFill>
              <a:latin typeface="Arial"/>
            </a:endParaRPr>
          </a:p>
        </p:txBody>
      </p:sp>
      <p:pic>
        <p:nvPicPr>
          <p:cNvPr id="179" name="Схема 3" descr=""/>
          <p:cNvPicPr/>
          <p:nvPr/>
        </p:nvPicPr>
        <p:blipFill>
          <a:blip r:embed="rId1"/>
          <a:stretch/>
        </p:blipFill>
        <p:spPr>
          <a:xfrm>
            <a:off x="450720" y="1079640"/>
            <a:ext cx="8242560" cy="5119560"/>
          </a:xfrm>
          <a:prstGeom prst="rect">
            <a:avLst/>
          </a:prstGeom>
          <a:ln w="0">
            <a:noFill/>
          </a:ln>
        </p:spPr>
      </p:pic>
      <p:sp>
        <p:nvSpPr>
          <p:cNvPr id="3" name="PlaceHolder 2"/>
          <p:cNvSpPr>
            <a:spLocks noGrp="1"/>
          </p:cNvSpPr>
          <p:nvPr>
            <p:ph type="sldNum" idx="3"/>
          </p:nvPr>
        </p:nvSpPr>
        <p:spPr/>
        <p:txBody>
          <a:bodyPr/>
          <a:p>
            <a:fld id="{AA59A900-73FC-464D-B7EA-087698087D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Система налогового права</a:t>
            </a:r>
            <a:endParaRPr b="0" lang="en-US" sz="1400" spc="-1" strike="noStrike">
              <a:solidFill>
                <a:srgbClr val="000000"/>
              </a:solidFill>
              <a:latin typeface="Arial"/>
            </a:endParaRPr>
          </a:p>
        </p:txBody>
      </p:sp>
      <p:sp>
        <p:nvSpPr>
          <p:cNvPr id="181"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стема налогового права - это определенная внутренняя его структура, которая складывается объективно как отражение реально существующих и развивающихся общественных отношений налоговой сферы.</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логовое право подразделяется на две части - Общую и Особенную.</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щая часть налогового права включает нормы, устанавливающие:</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ные принципы налогооблож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истему и виды налогов и сборов Российской Федераци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рава и обязанности участников отношений, регулируемых налоговым правом;</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нования возникновения, изменения и прекращения обязанностей по уплате налогов, порядок их исполнени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порядок осуществления налоговой отчетности и налогового контроля;</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тветственность за совершение налоговых правонарушений и порядок обжалования действий (бездействия) налоговых органов и их должностных лиц;</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способы и порядок защиты прав налогоплательщико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собенная часть налогового права включает нормы, регулирующие порядок взимания отдельных видов налогов.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3A346D-C30D-4CED-804E-7046446AAA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260280"/>
            <a:ext cx="8291520" cy="3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Лекция 1 Тема 6 Источники налогового права</a:t>
            </a:r>
            <a:endParaRPr b="0" lang="en-US" sz="1400" spc="-1" strike="noStrike">
              <a:solidFill>
                <a:srgbClr val="000000"/>
              </a:solidFill>
              <a:latin typeface="Arial"/>
            </a:endParaRPr>
          </a:p>
        </p:txBody>
      </p:sp>
      <p:sp>
        <p:nvSpPr>
          <p:cNvPr id="183"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Источники налогового права – это конкретные формы выражения норм налогового права, т.е. правовые акты представительных и исполнительных органов государственной власти и местного самоуправления, в которых содержатся нормы налогового права. </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1 части первой НК РФ: Законодательство Российской Федерации о налогах и сборах состоит из настоящего Кодекса и принятых в соответствии с ним федеральных законов о налогах и сборах.</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7 части первой НК РФ: Если международным договором Российской Федерации, содержащим положения, касающиеся налогообложения и сборов, установлены иные правила и нормы, чем предусмотренные настоящим Кодексом и принятыми в соответствии с ним нормативными правовыми актами о налогах и (или) сборах, то применяются правила и нормы международных договоров Российской Федерации.</a:t>
            </a:r>
            <a:endParaRPr b="0" lang="en-US" sz="1300" spc="-1" strike="noStrike">
              <a:solidFill>
                <a:srgbClr val="000000"/>
              </a:solidFill>
              <a:latin typeface="Arial"/>
            </a:endParaRPr>
          </a:p>
          <a:p>
            <a:pPr marL="343080" indent="-3430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Ст. 4 части первой НК РФ: </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Правительство Российской Федерации, федеральные органы исполнительной власти, уполномоченные осуществлять функции по выработке государственной политики и нормативно-правовому регулированию в сфере налогов и сборов и в области таможенного дела, органы исполнительной власти субъектов Российской Федерации, исполнительные органы местного самоуправления </a:t>
            </a:r>
            <a:r>
              <a:rPr b="1" lang="en-US" sz="1300" spc="-1" strike="noStrike">
                <a:solidFill>
                  <a:srgbClr val="000000"/>
                </a:solidFill>
                <a:latin typeface="Arial"/>
              </a:rPr>
              <a:t>в предусмотренных законодательством о налогах и сборах случаях в пределах своей компетенции издают нормативные правовые акты по вопросам, связанным с налогообложением и со сборами, которые не могут изменять или дополнять законодательство о налогах и сборах.</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Федеральный орган исполнительной власти, уполномоченный по контролю и надзору в области налогов и сборов, его территориальные органы, а также подчиненные федеральному органу исполнительной власти, уполномоченному в области таможенного дела, таможенные органы Российской Федерации </a:t>
            </a:r>
            <a:r>
              <a:rPr b="1" lang="en-US" sz="1300" spc="-1" strike="noStrike">
                <a:solidFill>
                  <a:srgbClr val="000000"/>
                </a:solidFill>
                <a:latin typeface="Arial"/>
              </a:rPr>
              <a:t>не имеют права издавать нормативные правовые акты по вопросам налогов и сборов.</a:t>
            </a:r>
            <a:endParaRPr b="0" lang="en-US" sz="1300" spc="-1" strike="noStrike">
              <a:solidFill>
                <a:srgbClr val="000000"/>
              </a:solidFill>
              <a:latin typeface="Arial"/>
            </a:endParaRPr>
          </a:p>
          <a:p>
            <a:pPr marL="34308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9D6C73-4051-44C9-9E02-03FE1498C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274320"/>
            <a:ext cx="800244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чники налогового права</a:t>
            </a:r>
            <a:endParaRPr b="0" lang="en-US" sz="1400" spc="-1" strike="noStrike">
              <a:solidFill>
                <a:srgbClr val="000000"/>
              </a:solidFill>
              <a:latin typeface="Arial"/>
            </a:endParaRPr>
          </a:p>
        </p:txBody>
      </p:sp>
      <p:pic>
        <p:nvPicPr>
          <p:cNvPr id="185" name="Содержимое 6" descr=""/>
          <p:cNvPicPr/>
          <p:nvPr/>
        </p:nvPicPr>
        <p:blipFill>
          <a:blip r:embed="rId1"/>
          <a:stretch/>
        </p:blipFill>
        <p:spPr>
          <a:xfrm>
            <a:off x="274680" y="828720"/>
            <a:ext cx="8478720" cy="5700600"/>
          </a:xfrm>
          <a:prstGeom prst="rect">
            <a:avLst/>
          </a:prstGeom>
          <a:ln w="0">
            <a:noFill/>
          </a:ln>
        </p:spPr>
      </p:pic>
      <p:sp>
        <p:nvSpPr>
          <p:cNvPr id="3" name="PlaceHolder 2"/>
          <p:cNvSpPr>
            <a:spLocks noGrp="1"/>
          </p:cNvSpPr>
          <p:nvPr>
            <p:ph type="sldNum" idx="3"/>
          </p:nvPr>
        </p:nvSpPr>
        <p:spPr/>
        <p:txBody>
          <a:bodyPr/>
          <a:p>
            <a:fld id="{0891AD48-F409-4DC7-A93D-E82296F9F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екция 1 Источники налогового права</a:t>
            </a:r>
            <a:endParaRPr b="0" lang="en-US" sz="1600" spc="-1" strike="noStrike">
              <a:solidFill>
                <a:srgbClr val="000000"/>
              </a:solidFill>
              <a:latin typeface="Arial"/>
            </a:endParaRPr>
          </a:p>
        </p:txBody>
      </p:sp>
      <p:pic>
        <p:nvPicPr>
          <p:cNvPr id="187" name="Содержимое 6" descr=""/>
          <p:cNvPicPr/>
          <p:nvPr/>
        </p:nvPicPr>
        <p:blipFill>
          <a:blip r:embed="rId1"/>
          <a:stretch/>
        </p:blipFill>
        <p:spPr>
          <a:xfrm>
            <a:off x="476280" y="901800"/>
            <a:ext cx="8362800" cy="4224240"/>
          </a:xfrm>
          <a:prstGeom prst="rect">
            <a:avLst/>
          </a:prstGeom>
          <a:ln w="0">
            <a:noFill/>
          </a:ln>
        </p:spPr>
      </p:pic>
      <p:sp>
        <p:nvSpPr>
          <p:cNvPr id="3" name="PlaceHolder 2"/>
          <p:cNvSpPr>
            <a:spLocks noGrp="1"/>
          </p:cNvSpPr>
          <p:nvPr>
            <p:ph type="sldNum" idx="3"/>
          </p:nvPr>
        </p:nvSpPr>
        <p:spPr/>
        <p:txBody>
          <a:bodyPr/>
          <a:p>
            <a:fld id="{6CAC5486-356E-4493-99A6-798A6B2E19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274680"/>
            <a:ext cx="8147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89" name="PlaceHolder 2"/>
          <p:cNvSpPr>
            <a:spLocks noGrp="1"/>
          </p:cNvSpPr>
          <p:nvPr>
            <p:ph/>
          </p:nvPr>
        </p:nvSpPr>
        <p:spPr>
          <a:xfrm>
            <a:off x="395280" y="836280"/>
            <a:ext cx="8291520" cy="52894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налог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и не ранее 1-го числа очередного налогового периода по соответствующему налогу,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кты законодательства </a:t>
            </a:r>
            <a:r>
              <a:rPr b="1" lang="en-US" sz="2000" spc="-1" strike="noStrike">
                <a:solidFill>
                  <a:srgbClr val="000000"/>
                </a:solidFill>
                <a:latin typeface="Arial"/>
              </a:rPr>
              <a:t>о сборах</a:t>
            </a:r>
            <a:r>
              <a:rPr b="0" lang="en-US" sz="2000" spc="-1" strike="noStrike">
                <a:solidFill>
                  <a:srgbClr val="000000"/>
                </a:solidFill>
                <a:latin typeface="Arial"/>
              </a:rPr>
              <a:t> вступают в силу не ранее чем по истечении одного месяца со дня их официального опубликования, за исключением случаев, предусмотренных статьей 5 НК РФ.</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едеральные законы, вносящие изменения в НК РФ в части </a:t>
            </a:r>
            <a:r>
              <a:rPr b="1" lang="en-US" sz="2000" spc="-1" strike="noStrike">
                <a:solidFill>
                  <a:srgbClr val="000000"/>
                </a:solidFill>
                <a:latin typeface="Arial"/>
              </a:rPr>
              <a:t>установления новых налогов и (или) сборов</a:t>
            </a:r>
            <a:r>
              <a:rPr b="0" lang="en-US" sz="2000" spc="-1" strike="noStrike">
                <a:solidFill>
                  <a:srgbClr val="000000"/>
                </a:solidFill>
                <a:latin typeface="Arial"/>
              </a:rPr>
              <a:t>, а также акты законодательства о налогах и сборах субъектов Российской Федерации и нормативные правовые акты представительных органов муниципальных образований, вводящие налоги, вступают в силу не ранее 1 января года, следующего за годом их принятия, но не ранее одного месяца со дня их официального опубликования.</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651D23D-988B-4C8E-AA46-33E50BFC2D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8002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pic>
        <p:nvPicPr>
          <p:cNvPr id="191" name="Содержимое 6" descr=""/>
          <p:cNvPicPr/>
          <p:nvPr/>
        </p:nvPicPr>
        <p:blipFill>
          <a:blip r:embed="rId1"/>
          <a:stretch/>
        </p:blipFill>
        <p:spPr>
          <a:xfrm>
            <a:off x="450720" y="573120"/>
            <a:ext cx="8242560" cy="5638680"/>
          </a:xfrm>
          <a:prstGeom prst="rect">
            <a:avLst/>
          </a:prstGeom>
          <a:ln w="0">
            <a:noFill/>
          </a:ln>
        </p:spPr>
      </p:pic>
      <p:sp>
        <p:nvSpPr>
          <p:cNvPr id="3" name="PlaceHolder 2"/>
          <p:cNvSpPr>
            <a:spLocks noGrp="1"/>
          </p:cNvSpPr>
          <p:nvPr>
            <p:ph type="sldNum" idx="3"/>
          </p:nvPr>
        </p:nvSpPr>
        <p:spPr/>
        <p:txBody>
          <a:bodyPr/>
          <a:p>
            <a:fld id="{9E854DB3-A03B-4AED-9452-56C85E103F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274320"/>
            <a:ext cx="807552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Установление налогов и сборов</a:t>
            </a:r>
            <a:endParaRPr b="0" lang="en-US" sz="1400" spc="-1" strike="noStrike">
              <a:solidFill>
                <a:srgbClr val="000000"/>
              </a:solidFill>
              <a:latin typeface="Arial"/>
            </a:endParaRPr>
          </a:p>
        </p:txBody>
      </p:sp>
      <p:sp>
        <p:nvSpPr>
          <p:cNvPr id="193"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применения ст. 5 части первой НК РФ: порядок вступления в силу изменений НК РФ</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положим, что 5 декабря 2012 г. официально опубликован закон, вносящий изменения в гл. 23 «Налог на доходы физических лиц» НК РФ в части повышения ставки налога с 13 до 2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Закон не может вступить в силу ранее 1 января 2014 года, поскольку налоговым периодом для этого налога является год. Таким образом, чтобы ставка налога была повышена в 2013г., соответствующий закон должен быть опубликован до 30 ноября 2012г. (включительно), поскольку  закон вступает в силу не ранее одного месяца со дня их официального опубликовани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C9497B-E237-4590-A2BD-D44CCCF256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4"/>
          <p:cNvSpPr/>
          <p:nvPr/>
        </p:nvSpPr>
        <p:spPr>
          <a:xfrm>
            <a:off x="0" y="0"/>
            <a:ext cx="9144000" cy="1700280"/>
          </a:xfrm>
          <a:prstGeom prst="rect">
            <a:avLst/>
          </a:prstGeom>
          <a:solidFill>
            <a:srgbClr val="0000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Романов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Екатерина Викторовн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ю.н.</a:t>
            </a: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v.romanova@yandex.ru</a:t>
            </a:r>
            <a:endParaRPr b="0" lang="en-US" sz="32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rbel"/>
              </a:rPr>
              <a:t>Контактная информация</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79F0DF8-1BA2-4682-838C-3C23B9CFAC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58" name="PlaceHolder 2"/>
          <p:cNvSpPr>
            <a:spLocks noGrp="1"/>
          </p:cNvSpPr>
          <p:nvPr>
            <p:ph/>
          </p:nvPr>
        </p:nvSpPr>
        <p:spPr>
          <a:xfrm>
            <a:off x="457200" y="836280"/>
            <a:ext cx="8075520" cy="52894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конце </a:t>
            </a:r>
            <a:r>
              <a:rPr b="0" lang="en-US" sz="1800" spc="-1" strike="noStrike">
                <a:solidFill>
                  <a:srgbClr val="000000"/>
                </a:solidFill>
                <a:latin typeface="Arial"/>
              </a:rPr>
              <a:t>XVII – </a:t>
            </a:r>
            <a:r>
              <a:rPr b="0" lang="ru-RU" sz="1800" spc="-1" strike="noStrike">
                <a:solidFill>
                  <a:srgbClr val="000000"/>
                </a:solidFill>
                <a:latin typeface="Arial"/>
              </a:rPr>
              <a:t> начале </a:t>
            </a:r>
            <a:r>
              <a:rPr b="0" lang="en-US" sz="1800" spc="-1" strike="noStrike">
                <a:solidFill>
                  <a:srgbClr val="000000"/>
                </a:solidFill>
                <a:latin typeface="Arial"/>
              </a:rPr>
              <a:t>XVIII</a:t>
            </a:r>
            <a:r>
              <a:rPr b="0" lang="ru-RU" sz="1800" spc="-1" strike="noStrike">
                <a:solidFill>
                  <a:srgbClr val="000000"/>
                </a:solidFill>
                <a:latin typeface="Arial"/>
              </a:rPr>
              <a:t> вв. наступает второй период развития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вого права связано с демократизацией общества, с идей правового государства (Ш.Л. Монтескье., Дж. Локк и др.)</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ги становятся основным источником бюдже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онодательстве закрепляется право представительных органов власти утверждать все государственные расходы и доходы.</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инает формироваться научная теория налогообложения.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налогах Д. Рикардо и Адама Смита.</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аботе «Исследование о природе и принципах богатства народов» А.Смит впервые сформулировал принципы налогообложения, дал определение налоговым платежам, указал их место в финансовой системе государства.</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3BE5B2-CD5C-440D-A465-C41D12719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0" name="PlaceHolder 2"/>
          <p:cNvSpPr>
            <a:spLocks noGrp="1"/>
          </p:cNvSpPr>
          <p:nvPr>
            <p:ph/>
          </p:nvPr>
        </p:nvSpPr>
        <p:spPr>
          <a:xfrm>
            <a:off x="395280" y="765000"/>
            <a:ext cx="8291520" cy="53611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Третий период развития налогообложения начинается с XIX в.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тот этап характеризуется дальнейшем  совершенствованием налоговых систем.</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нижается количество налогов.</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иливается нормативное регулирование налогообложения.</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существует совершенной, идеальной модели налоговой систем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огочисленные налоговые реформы в большинстве стран свидетельствуют о дальнейшем процессе развития налогов и налоговых систем в целом.</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BEA66F-CE0B-4DCC-8F4B-6A35A120EE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История возникновения налогов.</a:t>
            </a:r>
            <a:endParaRPr b="0" lang="en-US" sz="1400" spc="-1" strike="noStrike">
              <a:solidFill>
                <a:srgbClr val="000000"/>
              </a:solidFill>
              <a:latin typeface="Arial"/>
            </a:endParaRPr>
          </a:p>
        </p:txBody>
      </p:sp>
      <p:sp>
        <p:nvSpPr>
          <p:cNvPr id="62" name="PlaceHolder 2"/>
          <p:cNvSpPr>
            <a:spLocks noGrp="1"/>
          </p:cNvSpPr>
          <p:nvPr>
            <p:ph/>
          </p:nvPr>
        </p:nvSpPr>
        <p:spPr>
          <a:xfrm>
            <a:off x="468000" y="907560"/>
            <a:ext cx="8218440" cy="52182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налогообложения в России подчинялось общим закономерностям становления налоговых систем, хотя и имело определенную специфику.</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ало XIX в. характеризуется развитием российской финансовой науки. Крупнейшими учеными разрабатывались проблемы налогообложения. После Октябрьской революции утрачивается роль налогов как регуляторов общественных отношений в сфере экономики и, как следствие, снижение интереса к ним в финансовой науке.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в настоящее время в условиях формирования рыночных отношений, роль налогов в обществе заметно возросла, что привело к увеличению числа научных исследований, посвященных проблемам налогового права, среди которых необходимо назвать работы                Н.И. Химичевой, Э. Д. Соколовой, Е.Ю. Грачевой, Г.В. Петровой,           С.Г. Пепеляева, А.В. Брызгалина, Ю.А. Крохиной, И.И. Кучерова,           А.Н. Козырина, Г.П. Тостопятенко, Р.А. Шепенко. </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6B376E-062E-40EA-899F-F966191DBD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74320"/>
            <a:ext cx="8218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4" name="PlaceHolder 2"/>
          <p:cNvSpPr>
            <a:spLocks noGrp="1"/>
          </p:cNvSpPr>
          <p:nvPr>
            <p:ph/>
          </p:nvPr>
        </p:nvSpPr>
        <p:spPr>
          <a:xfrm>
            <a:off x="324000" y="836280"/>
            <a:ext cx="8362800" cy="5289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Теория обмена - налог носит возмездный характер, через его уплату гражданин «приобретает» у государства услуги по обеспечению собственной безопасности и благополуч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Теория публичного договора - налог рассматривался как результат договора между гражданином и государством, в соответствии с которым с помощью налога оплачиваются оказываемые государством услуги по обеспечению общественного порядка, охране собственности, защиты от военного вторжения и т. п. При таком подходе налог является общеобязательным, от его уплаты никто не может отказаться, так как никто не отказывается от предоставляемых государством услуг</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Теория «наслаждения» - налоги есть цена, уплачиваемая гражданином за получаемые им от общества положительные эмоции от поддерживаемого государством состояния правопорядка, защиты личности, его права собственности.</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Теория налога как страхового платежа.  Налог рассматривается как страховой платеж, уплачиваемый гражданами государству за возможное наступление каких-либо неблагоприятных обстоятельств в обществе в целом. Иными словами, граждане, уплачивая налог, страхуют себя, свою собственность от войны, пожаров, преступности и т. п.</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819901A-5D2C-442A-9E41-E4F6D8749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274320"/>
            <a:ext cx="81471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Лекция 1 Общая характеристика теорий о налогах</a:t>
            </a:r>
            <a:endParaRPr b="0" lang="en-US" sz="1400" spc="-1" strike="noStrike">
              <a:solidFill>
                <a:srgbClr val="000000"/>
              </a:solidFill>
              <a:latin typeface="Arial"/>
            </a:endParaRPr>
          </a:p>
        </p:txBody>
      </p:sp>
      <p:sp>
        <p:nvSpPr>
          <p:cNvPr id="66" name="PlaceHolder 2"/>
          <p:cNvSpPr>
            <a:spLocks noGrp="1"/>
          </p:cNvSpPr>
          <p:nvPr>
            <p:ph/>
          </p:nvPr>
        </p:nvSpPr>
        <p:spPr>
          <a:xfrm>
            <a:off x="395280" y="692280"/>
            <a:ext cx="8291520" cy="54338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Кейнсианская теория, в соответствии с которой налоги рассматриваются как главный рычаг регулирования экономики и важнейшее условие ее развития.</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Теория экономики предложения. Является продолжением развития кейнсианских взглядов и рассматривает роль налогов в регулировании экономики. Суть теории: высокое налогообложение отрицательно влияет на предпринимательскую и инвестиционную деятельность, что, в свою очередь, ведет к снижению налоговых поступлений. Снижение уровня налогообложения - ведет к росту экономики.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Теория монетаризма - регулирование экономикой осуществляется посредством денежного обращения, регулирования количества денег в обращении. Через налоги изымается излишнее количество денег из оборота и, таким образом, сокращаются негативные факторы, влияющие на экономику.</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 Наибольшее значение в развитии взглядов на экономическую сущность налогов оказала классическая теория, созданная А. Смитом и Д. Рикардо. Сторонники этой теории рассматривали налоги как важнейший вид государственных доходов, направляемых на финансирование затрат на содержание государства.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6E8FE84-A596-4DD2-B925-3C4E479B5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2T10:56:06Z</dcterms:created>
  <dc:creator>Катя</dc:creator>
  <dc:description/>
  <dc:language>en-US</dc:language>
  <cp:lastModifiedBy>Катя</cp:lastModifiedBy>
  <dcterms:modified xsi:type="dcterms:W3CDTF">2014-03-05T10:45:34Z</dcterms:modified>
  <cp:revision>46</cp:revision>
  <dc:subject/>
  <dc:title>Лекция 1 Основы теории налогового права</dc:title>
</cp:coreProperties>
</file>