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7558-A794-4C58-AE57-235F207FE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91DE-5645-41D9-B3F8-339D5C0B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7689-D528-40B9-90C2-A46C2333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1F8E-4DF0-4240-864B-39E0C915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C213-5F74-4054-9EE8-FA2083AD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BFAA-A81F-47D8-97C2-DA38DA7C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5057-07CA-436B-9D15-D96923FF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F72B-A43A-480B-889B-42093DEF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E620-796B-48E6-89EC-B8A3D7D0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FB44-DC99-4708-B3DF-096B097B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5564-773D-4190-97D6-7ECBA3F9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864A-8A6A-478D-8934-6F79F37A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1187-84FB-4A1E-8C2A-5A91D7D3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4876-F482-4EF9-BA5C-D31F0E2A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7E0A-6AF4-4DC5-AD32-FFBAC846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5529-170A-4E1B-A029-E2DC25DA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3537-1C45-477D-9EDC-1095BDC17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660C-F474-4544-8B3A-5CEBC1A2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EEAB-358D-4B11-8B49-40AECF61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24F0-811F-49D2-8730-1912382D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AEBD-3318-4EBE-BD7D-E25C6581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B0F5-CFA8-43CF-994F-7800F3A1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D3E9-B4A9-4238-8E6E-1751A64C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D04A-4073-415B-A340-EC3025C7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3020-5BEC-40F9-8C2A-9EC9C2B40B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8BAB-76BA-4EC2-9379-4A7329905405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rezentacija.biz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ма 2:</a:t>
            </a:r>
            <a:br>
              <a:rPr sz="2000"/>
            </a:br>
            <a:r>
              <a:rPr b="1" lang="ru-RU" sz="3600" spc="-1" strike="noStrike">
                <a:solidFill>
                  <a:srgbClr val="262673"/>
                </a:solidFill>
                <a:latin typeface="Tahoma"/>
              </a:rPr>
              <a:t>Место психологии в системе наук о человек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520" y="2895120"/>
            <a:ext cx="822960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нятие о познании. Научное, обыденное, художественное и религиозное позна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нятие «научное познание».Эмпирическое и теоретическое познание. Правила и принципы научного позна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фикация наук о человеке. Антропологический подход Б.Г. Ананьева и его школ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тественно-научная, гуманитарная и когнитивная парадигм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логия как фундаментальная и прикладная наук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990720" y="2362320"/>
            <a:ext cx="7467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ан лекции:</a:t>
            </a:r>
            <a:r>
              <a:rPr b="0" lang="ru-RU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6312960" y="6488280"/>
            <a:ext cx="2895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prezentacija.biz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Эмпирическое и теоретическое познание: различ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82600" y="1828440"/>
            <a:ext cx="777240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Основной формой знан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получаемого на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эмпирическом этап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является научный факт и совокупность эмпирических обобщений. На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теоретическом уро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не получаемое знание фиксируется в форме законов, принципов и научных теори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Основными методам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используемыми на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эмпирическом этап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являются наблюдение, эксперимент, индуктивное обобщение.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На теоретическом этапе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знания используются такие методы, как анализ и синтез, идеализация, индукция и дедукция, аналогия, гипотеза и др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   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В эмпирическом познании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минирует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чувственный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мпонент, а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в теоретическом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рациональный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Их соотношение находит свое отражение в методах, используемых на каждом этапе. 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Общие правила исследовательского процесса (метод Декарта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82844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ичего не принимать за истинное, что не представляется ясным и отчетливым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рудные вопросы делить на столько частей, сколько нужно для разрешения; начинать исследование с самых простых и удобных для познания вещей и восходить постепенно к познанию трудных и сложных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станавливаться на всех подробностях, на все обращать внимание, чтобы быть уверенным, что ничего не опущен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Содержимое 4" descr="познай себя.jpg"/>
          <p:cNvPicPr/>
          <p:nvPr/>
        </p:nvPicPr>
        <p:blipFill>
          <a:blip r:embed="rId1"/>
          <a:stretch/>
        </p:blipFill>
        <p:spPr>
          <a:xfrm>
            <a:off x="5410080" y="1752480"/>
            <a:ext cx="3581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ринципы научного позна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520" y="1523880"/>
            <a:ext cx="85741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ичинность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современном понимании означает связь между отдельными состояниями видов и форм материи в процессе ее движения и развития. Возникновение любых объектов и систем, а также изменение их свойств во времени имеют свои основания в предшествующих состояниях материи; эти основания называются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причинам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а вызываемые ими изменения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- следствиям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ритерий истины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Естественно-научная истина проверяется (доказывается) только практикой: наблюдениями, опытами, экспериментами, производственной деятельностью. Если научная теория подтверждена практикой, то она истинн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тносительность научного знания. 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учное знание (понятия, идеи, концепции, модели, теории, выводы из них и т. п.) всегда относительно и ограничен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Классификация наук Б.М. Кедров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Содержимое 3" descr="классификация наук кедрова.jpg"/>
          <p:cNvPicPr/>
          <p:nvPr/>
        </p:nvPicPr>
        <p:blipFill>
          <a:blip r:embed="rId1"/>
          <a:stretch/>
        </p:blipFill>
        <p:spPr>
          <a:xfrm>
            <a:off x="838080" y="1981080"/>
            <a:ext cx="7391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Классификация наук Ж. Пиаже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1625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нтропологический подход Б.Г. Ананьев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599840"/>
            <a:ext cx="4535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делял в системе человекознания 4 понятия: индивид, личность, субъет деятельности и индивидуальност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ндивид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единичное природное существо, представитель вида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mo sapiens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Можно выделить первичные свойства индивида (присущие всем людям) и вторичные свойства (индивидуально-типические характеристики). Свойства индивида проявляются в темпераменте и задатка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Содержимое 6" descr="индивид.jpg"/>
          <p:cNvPicPr/>
          <p:nvPr/>
        </p:nvPicPr>
        <p:blipFill>
          <a:blip r:embed="rId1"/>
          <a:stretch/>
        </p:blipFill>
        <p:spPr>
          <a:xfrm>
            <a:off x="5181480" y="1828800"/>
            <a:ext cx="3657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51080" y="228240"/>
            <a:ext cx="53546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Структура понятия «индивид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4876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Личнос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880" y="2017800"/>
            <a:ext cx="5639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нятие «личность» имеет различные варианты толкования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дивид как субъект социальных отношений и созна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истемное свойство индивида, формирующееся в совместной деятельности и общен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щее: понятие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личность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арактеризует человека как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оциальное существо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В рамках понятия «личность» рассматриваются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мотивация, темперамент, характер и способ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Содержимое 4" descr="личность.jpg"/>
          <p:cNvPicPr/>
          <p:nvPr/>
        </p:nvPicPr>
        <p:blipFill>
          <a:blip r:embed="rId1"/>
          <a:stretch/>
        </p:blipFill>
        <p:spPr>
          <a:xfrm>
            <a:off x="6054840" y="1981080"/>
            <a:ext cx="270828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труктура понятия «личность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486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Понятие «субъект деятельности»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82600" y="1828440"/>
            <a:ext cx="777240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нимает промежуточное положение между понятиями «индивид» и «личность». Соединяет в единое целое биологическое начало и социальную сущность челове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ежде всего необходимо уяснить смысл понятий «объект» и «субъект»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бъект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– это существующие независимо от нашего сознания предмет или явление реального мира, выступающие в виде цели. На эту цель обращена активность человека –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убъекта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здейств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лавной чертой человека как субъекта является сознание. Сознание – это высшая форма развития психики, присущая только человеку. Оно определяет возможность познания объективной действительности, формирования целенаправленного поведения и преобразования окружающего мир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убъект – это индивид как носитель сознания, обладающий способностью к деятельност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r>
              <a:rPr b="0" lang="ru-RU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218960" y="2590920"/>
            <a:ext cx="662940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аклаков, А.Г. Общая психология. СПб:Питер, 2004. С.38-4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уркова, В.В., Березанская, Н.Б. Психология. М.: Юрайт, 2004. С.24-26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бщая психология: в 7 т. /под ред. Б.С. Братуся. Том 1. Е.Е. Соколова . Введение в психологию. М.: Академия, 2008. С.29-3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етухов, В.В. Общая психология. Тексты.Т.1. Введение в психологию. М.: МГУ, 1997. С.19-4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Ярошевский,  М.Г. История психологии от античности до двадцатого века. М.,1996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Структура понятия «субъект деятельности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209680" y="1905120"/>
            <a:ext cx="435636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ндивидуальнос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аким образом, человек – биосоциальное существо, наделенное сознанием и способностью к деятельности. Объединение трех уровней в одно целое формирует интегральную характеристику человека – индивидуальност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Индивидуальность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— это совокупность психических, физиологических и социальных особенностей конкретного человека с точки зрения его уникальности, своеобразия и неповторимости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аким образом, человек – один из наиболее сложных объектов реального мира. Структурная организация человека носит многоуровневый характер и отражает его природную и социальную сущност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Структура понятия «индивидуальность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48006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440" y="4968360"/>
            <a:ext cx="5486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92080" y="5791320"/>
            <a:ext cx="68943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уки,  изучающие человека как биологический объект (по Б.Г. Ананьеву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Рисунок 9" descr="ананьев классификация.jpg"/>
          <p:cNvPicPr/>
          <p:nvPr/>
        </p:nvPicPr>
        <p:blipFill>
          <a:blip r:embed="rId1"/>
          <a:srcRect l="0" t="17524" r="0" b="17524"/>
          <a:stretch/>
        </p:blipFill>
        <p:spPr>
          <a:xfrm>
            <a:off x="1752480" y="609480"/>
            <a:ext cx="54864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Естественнонаучная, гуманитарная и когнитивная парадигмы в психологи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09480" y="1676520"/>
            <a:ext cx="83455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арадигм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– система взглядов, господствующая в науке в течение определенного исторического период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современно психологии выделяют три основные парадигмы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тественнонаучна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уманитарна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гнитивна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читается, что эти парадигмы не исключают друг друга, так как каждая из них обладает специфическими способами взаимодействия с психическими феноменами. Проблема заключается лишь в ограничении сферы их применения. В методологическом плане это различение имеет принципиальное значение, поскольку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каждый из подходов представляет собой специфическое понимание идеалов и норм исследования, исходит из определенных мировоззренческих установок, способов получения, истолкования и использования знани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стественнонаучная парадиг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временное естествознание ориентировано на междисциплинарные исследования; их объектом становятся уникальные системы, характеризующиеся открытостью и саморазвитием. Естественнонаучная парадигма сохраняет ценность объективно-научного знания, ориентацию на внешнее наблюдение и эксперимент, на принцип использования («полезности») научных знаний.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Основным типом деятельности ученого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стается исследование, направленное на выявление законов жизни изучаемого объекта в данный момент, его «срез». Субъект познания выносится за скобки познава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Недостатки естественнонаучной парадигмы в психологи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ловек рассматривается как объект в ряду других объектов, ставится исследователем под контроль и превращается в источник информаци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ля получения искомых знаний над ним совершают различного рода операции, подвергают эксперименту и т.п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спытуемый существует отстранение от исследователя, который изучает его беспристрастно, с внешней позиции, строит объективное знание. Именно поэтому объективный подход к человеку с позиций естествознания не может полноценно изучать человеческую субъективность как таковую, не способен постичь индивидуальность личности, ее духовную сущность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уманитарная парадиг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уманитарное познание ориентировано на индивидуальность, обращено к духовному миру человека, к его личностным ценностям и смыслам жизн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уманитарная парадигма в науке представляет собой познание природы, общества, самого человека с антропологической, человековедческой позиции. Для нее характерно использование общих принципов при интерпретировании индивидуальных, общественных или исторических событий. Но, в то же время единичное событие не рассматривается как частный случай общей закономерности, а берется в своей самоценности и автономности. Для гуманитарного познания важно постичь единичные факты как таковы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уманитарная парадиг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82600" y="1828440"/>
            <a:ext cx="777240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уманитарные науки используют в познании субъектный подход, при котором человек воспринимается исследователем как активный субъект общения. Исследование, по сути, принимает форму диалога двух суверенных субъектов. При диалоговом общении исследователя и испытуемого происходит изменение, развитие субъектов общения. Эта особенность отличает гуманитарное познание от естественнонаучного. Однако с ней связана ограниченность в применении количественных методов при изучении гуманитарной сфер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тественнонаучное и гуманитарное познание взаимосвязаны и невозможны друг без друга (особенно в психологии). Но при этом в психологии гуманитарное познание в конечном счете оказывается более широким понятием, включающим в свои пределы естественнонаучное познан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огнитивная парадиг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лово «когнитивный» происходит от лат. глагола «знать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огнитивная психолог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 как самостоятельная научная дисциплина возникла в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50-60-е гг. XX в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Официальным манифестом когнитивистов стала изданная в 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1967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. книга американского психолога 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У. Найссер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 «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Cognitive psychology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оронники этого подхода изучают то, как человек перерабатывает информацию, анализирует ее и на основе этого принимает реше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Понятие позна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разделе философии, который называется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«гносеология»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изучается природа познания и его возможности, отношение знания к реальности, выявляются условия достоверности и истинности позна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рмин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гносеолог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роисходит от греческих слов γνώσις  - знание, и λόγος – учение. слово, и означает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учение о познании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носеология изучает всеобщее, характеризующее познавательную деятельность человека. Особое значение для гносеологии  имеет вопрос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«Познаваем ли мир?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Одной из основных проблем классической гносеологии является  проблема субъекта и объекта позна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сихология как фундаментальная  и прикладная нау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182600" y="1828440"/>
            <a:ext cx="777240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Фундаментальная наук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– это часть научно-исследовательской деятельности без определенных коммерческих или других практических целей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икладная наука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это наука, направленная на получение конкретного научного результата, который может использоваться для удовлетворения частных или общественных потребностей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кадемической психологии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сущ широкий культурный кругозор, глубокий методологический анализ, видение тенденций. С другой стороны, характерна оторванность от практики и неготовность отвечать на запросы обычных людей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актическая психология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помогает людям в трудных жизненных ситуациях, просвещает, учит, воспитывает, корректирует и развивает. С другой стороны, в сравнении с академической практическая психология обычно более поверхностна, фрагментарн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актическая психолог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8284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акти́ческая психоло́гия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часть психологического знания, непосредственно связанная с удовлетворением практических запросов широкого круга людей. Сюда относятся часть теории и практика психотерапии, психометрии и ряда других отраслей психолог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актика психологии зачастую значительно опережает теорию. Отсутствие методов, позволяющих экспериментально проверить необходимые в практике данные, значительно сдерживают развитие теори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ущественная часть практической психологии неразрывно связана с психотерапевтической работой. Другие области практической психологии занимаются вопросами психологии бизнеса, тайм-менеджмента и личной успешности, образования и развития личност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878040" y="438120"/>
            <a:ext cx="800388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убъект и объект позн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Субъект познан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это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познающее сознание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ли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источник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целенаправленной познавательной, предметно-практической и оценочной деятель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убъектом познания могут быть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индивид, наделенный сознанием, способностью к ощущениям, к восприятию, эмоциями, способностью оперировать образами, абстрактными понятиям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группа (коллектив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общество в цел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Объект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– это то, на что направлена познавательно-предметная и оценочная деятельность челове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Формы позна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еория познания изучает всеобщее в познавательной деятельности человека независимо от того, какова сама эта деятельность: повседневная или профессиональная, художественная или научная. Поэтому некорректно отождествлять гносеологию только с теорией научного познания (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эпистемологией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ычно выделяют следующие формы познания: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обыденное, научное, художественное, религиозное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п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Формы позна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752120"/>
            <a:ext cx="82692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Обыденное познани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сопутствует человеку на протяжении всей его жизн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Научное познани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меет специфические познавательные процедуры и операции, способы образования абстракций, понятий, особый стиль научного мышлени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Художественное познани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впервые было заявлено как форма познания в немецкой классической философии.. Наука способна описать внутренний мир человека, переживания, эмоции в общем. Художник способен в произведении искусства выразить сущность этих переживани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Религиозное познани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– основано на вере человека «в мир идеальных ценностей (без которых просто неясно зачем жить)» (Н.А. Бердяев). Через веру человек приобщается к миру трансцендентного, высокого, идеального, абсолютного, к которому должен стремится мир «дольний». Основным способом познания является вер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Формы позна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80520" y="1828440"/>
            <a:ext cx="857412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дним из критериев, по которому можно различать виды, формы, способы познания – является определение того, что именно познается: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ahoma"/>
              </a:rPr>
              <a:t>явление или сущность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Явление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– внешняя сторона предмета, события, чувства, процесса. Чаще всего, это факт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Сущность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– это совокупность существенных свойств и качеств вещей, ядро сущег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В науке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ущность изучаемого обычно выражают в понятиях. Для формулирования определения понятия принято называть следующее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класс предметов, к которым относится данная вещ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главную функцию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внешнее описание (при необходимости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чем отличается от ближайших вещей (не обязательно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В искусстве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ущность выражается в художественных образах, которые способны выразить сущность даже на основе уникальных признаков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Обыденное познание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больше ориентировано на познание фактов, познание явлений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Научное познание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удучи профессиональным видом общественной деятельности, оно осуществляется по определенным научным канонам, принимаемым научным обществом. В нем используются специальные методы исследования, а также оценивается качество получаемых знаний на основе принятых научных критериев. Процесс научного познания включает в себя: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объект, субъект, знание как результат и метод исследова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науке различают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эмпирический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теоретический уровни исследован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Это различие имеет своим основанием неодинаковость, во- первых, способов (методов) самой познавательной активности, а во-вторых, характера достигаемых научных результат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Эмпирическое и теоретическое позн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09480" y="20178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Эмпирическое исследование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едполагает выработку исследовательской программы, организацию наблюдений, эксперимента, описание наблюдаемых и экспериментальных данных, их классификацию, первичное обобщение. Для эмпирического познания характерна фактофиксирующая деятельност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 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еоретическо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знани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– это сущностное познание, осуществляемое на уровне абстракции высоких порядков. Здесь орудием выступает понятия, категории, законы, гипотезы и т.д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Содержимое 4" descr="познание.jpg"/>
          <p:cNvPicPr/>
          <p:nvPr/>
        </p:nvPicPr>
        <p:blipFill>
          <a:blip r:embed="rId1"/>
          <a:stretch/>
        </p:blipFill>
        <p:spPr>
          <a:xfrm>
            <a:off x="5791320" y="1905120"/>
            <a:ext cx="27432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ebom zav</cp:lastModifiedBy>
  <dcterms:modified xsi:type="dcterms:W3CDTF">2015-02-05T13:23:07Z</dcterms:modified>
  <cp:revision>29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