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889-05D0-4257-8E29-822A3F97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E64-568E-42FC-954E-BFBF387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DDF-FD19-4688-82C8-67DD2D9E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7DA-C8D0-4EC5-B218-075B550F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04D9-6221-46A2-9971-C5B2AC32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A8D8-42A8-4762-A1EE-20D8D4E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CA2-77B1-4FD8-BF25-F00965FE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2E1-1D61-4641-B2DB-FDC14BF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4EF7-D618-4565-80BC-BA0D888E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1BA8-B7DA-41EF-B111-F9073FB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941-509A-4325-94AA-813E876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075-6055-4163-963E-F49ED7A9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E2C2-03BA-4B83-A531-58F57FA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F2C6-6C10-4DA0-A49D-50CDC61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C8D-8338-4996-98E9-8570B566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5FE-52CA-486C-9688-31DDC53E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969-058B-4810-A9A8-DF2D9DA2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B75-F06F-481D-807C-C92EF64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21B-A8FE-4F9F-9444-19F95894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45E-F85B-41AE-BCD2-3AF3D41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456-E5AE-4905-972C-746A2630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499-B41E-41D7-AA12-B9E1888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202-78DF-4C47-B4CB-262448F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A77-EE91-49F5-AECB-048489E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6623-0A5F-4836-A53E-A243A5F8E5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272-2FDB-41F4-9A0D-94365E7F4A3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 2:</a:t>
            </a:r>
            <a:br>
              <a:rPr sz="2000"/>
            </a:br>
            <a:r>
              <a:rPr b="1" lang="ru-RU" sz="3600" spc="-1" strike="noStrike">
                <a:solidFill>
                  <a:srgbClr val="262673"/>
                </a:solidFill>
                <a:latin typeface="Tahoma"/>
              </a:rPr>
              <a:t>Место психологии в системе наук о человек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895120"/>
            <a:ext cx="82296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о познании. Научное, обыденное, художественное и религиозное позн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«научное познание».Эмпирическое и теоретическое познание. Правила и принципы научного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наук о человеке. Антропологический подход Б.Г. Ананьева и его шко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-научная, гуманитарная и когнитивная паради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я как фундаментальная и прикладная нау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90720" y="2362320"/>
            <a:ext cx="746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лекции: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2960" y="6488280"/>
            <a:ext cx="289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: различ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ой формой 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получаемого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ется научный факт и совокупность эмпирических обобщений.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ом у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 получаемое знание фиксируется в форме законов, принципов и научных теор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сновными метод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спользуемыми 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ом этап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являются наблюдение, эксперимент, индуктивное обобщение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На теоретическом этап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знания используются такие методы, как анализ и синтез, идеализация, индукция и дедукция, аналогия, гипотеза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эмпирическом позна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инирует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чувственны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онент, 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 теоретическом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ациональны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Их соотношение находит свое отражение в методах, используемых на каждом этапе. 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ие правила исследовательского процесса (метод Декарта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8284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чего не принимать за истинное, что не представляется ясным и отчетливы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ые вопросы делить на столько частей, сколько нужно для разрешения; начинать исследование с самых простых и удобных для познания вещей и восходить постепенно к познанию трудных и слож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навливаться на всех подробностях, на все обращать внимание, чтобы быть уверенным, что ничего не опущ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Содержимое 4" descr="познай себя.jpg"/>
          <p:cNvPicPr/>
          <p:nvPr/>
        </p:nvPicPr>
        <p:blipFill>
          <a:blip r:embed="rId1"/>
          <a:stretch/>
        </p:blipFill>
        <p:spPr>
          <a:xfrm>
            <a:off x="54100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нципы научного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чинность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современном понимании означает связь между отдельными состояниями видов и форм материи в процессе ее движения и развития. Возникновение любых объектов и систем, а также изменение их свойств во времени имеют свои основания в предшествующих состояниях материи; эти основания назы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ичин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а вызываемые ими изменени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- следствия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итерий истины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ественно-научная истина проверяется (доказывается) только практикой: наблюдениями, опытами, экспериментами, производственной деятельностью. Если научная теория подтверждена практикой, то она истин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носительность научного знания.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ное знание (понятия, идеи, концепции, модели, теории, выводы из них и т. п.) всегда относительно и ограниче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Классификация наук Б.М. Кедро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Содержимое 3" descr="классификация наук кедрова.jpg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лассификация наук Ж. Пиаж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тропологический подход Б.Г. Анань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453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ял в системе человекознания 4 понятия: индивид, личность, субъет деятельности и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диви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единичное природное существо, представитель вид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 sapiens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Можно выделить первичные свойства индивида (присущие всем людям) и вторичные свойства (индивидуально-типические характеристики). Свойства индивида проявляются в темпераменте и задат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Содержимое 6" descr="индивид.jpg"/>
          <p:cNvPicPr/>
          <p:nvPr/>
        </p:nvPicPr>
        <p:blipFill>
          <a:blip r:embed="rId1"/>
          <a:stretch/>
        </p:blipFill>
        <p:spPr>
          <a:xfrm>
            <a:off x="518148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51080" y="228240"/>
            <a:ext cx="5354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ч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201780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нятие «личность» имеет различные варианты толкова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дивид как субъект социальных отношений и созн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ное свойство индивида, формирующееся в совместной деятельности и общ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е: поняти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ичнос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зует человека как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циальное суще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рамках понятия «личность» рассматриваю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мотивация, темперамент, характер и способ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Содержимое 4" descr="личность.jpg"/>
          <p:cNvPicPr/>
          <p:nvPr/>
        </p:nvPicPr>
        <p:blipFill>
          <a:blip r:embed="rId1"/>
          <a:stretch/>
        </p:blipFill>
        <p:spPr>
          <a:xfrm>
            <a:off x="6054840" y="1981080"/>
            <a:ext cx="27082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руктура понятия «личност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«субъект деятельност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нимает промежуточное положение между понятиями «индивид» и «личность». Соединяет в единое целое биологическое начало и социальную сущность челове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жде всего необходимо уяснить смысл понятий «объект» и «субъект»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бъек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существующие независимо от нашего сознания предмет или явление реального мира, выступающие в виде цели. На эту цель обращена активность человека –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действ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авной чертой человека как субъекта является сознание. Сознание – это высшая форма развития психики, присущая только человеку. Оно определяет возможность познания объективной действительности, формирования целенаправленного поведения и преобразования окружающего ми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 – это индивид как носитель сознания, обладающий способностью к деяте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8960" y="2590920"/>
            <a:ext cx="6629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лаков, А.Г. Общая психология. СПб:Питер, 2004. С.38-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уркова, В.В., Березанская, Н.Б. Психология. М.: Юрайт, 2004. С.24-2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щая психология: в 7 т. /под ред. Б.С. Братуся. Том 1. Е.Е. Соколова . Введение в психологию. М.: Академия, 2008. С.29-3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тухов, В.В. Общая психология. Тексты.Т.1. Введение в психологию. М.: МГУ, 1997. С.19-4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Ярошевский,  М.Г. История психологии от античности до двадцатого века. М.,1996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субъект деятельност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3563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дивидуаль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биосоциальное существо, наделенное сознанием и способностью к деятельности. Объединение трех уровней в одно целое формирует интегральную характеристику человека – индивидуаль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ндивидуальность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— это совокупность психических, физиологических и социальных особенностей конкретного человека с точки зрения его уникальности, своеобразия и неповторимост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ким образом, человек – один из наиболее сложных объектов реального мира. Структурная организация человека носит многоуровневый характер и отражает его природную и социальную сущнос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Структура понятия «индивидуальность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800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440" y="496836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080" y="5791320"/>
            <a:ext cx="689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уки,  изучающие человека как биологический объект (по Б.Г. Ананьев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Рисунок 9" descr="ананьев классификация.jpg"/>
          <p:cNvPicPr/>
          <p:nvPr/>
        </p:nvPicPr>
        <p:blipFill>
          <a:blip r:embed="rId1"/>
          <a:srcRect l="0" t="17524" r="0" b="17524"/>
          <a:stretch/>
        </p:blipFill>
        <p:spPr>
          <a:xfrm>
            <a:off x="1752480" y="609480"/>
            <a:ext cx="5486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Естественнонаучная, гуманитарная и когнитивная парадигмы в псих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76520"/>
            <a:ext cx="8345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арадиг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система взглядов, господствующая в науке в течение определенного исторического перио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овременно психологии выделяют три основные парадигм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гнитив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читается, что эти парадигмы не исключают друг друга, так как каждая из них обладает специфическими способами взаимодействия с психическими феноменами. Проблема заключается лишь в ограничении сферы их применения. В методологическом плане это различение имеет принципиальное значение, поскольку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аждый из подходов представляет собой специфическое понимание идеалов и норм исследования, исходит из определенных мировоззренческих установок, способов получения, истолкования и использования зн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тественнонауч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ое естествознание ориентировано на междисциплинарные исследования; их объектом становятся уникальные системы, характеризующиеся открытостью и саморазвитием. Естественнонаучная парадигма сохраняет ценность объективно-научного знания, ориентацию на внешнее наблюдение и эксперимент, на принцип использования («полезности») научных знаний.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сновным типом деятельности ученого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тается исследование, направленное на выявление законов жизни изучаемого объекта в данный момент, его «срез». Субъект познания выносится за скобки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едостатки естественнонаучной парадигмы в психолог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ловек рассматривается как объект в ряду других объектов, ставится исследователем под контроль и превращается в источник информ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получения искомых знаний над ним совершают различного рода операции, подвергают эксперименту и т.п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ытуемый существует отстранение от исследователя, который изучает его беспристрастно, с внешней позиции, строит объективное знание. Именно поэтому объективный подход к человеку с позиций естествознания не может полноценно изучать человеческую субъективность как таковую, не способен постичь индивидуальность личности, ее духовную сущнос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ое познание ориентировано на индивидуальность, обращено к духовному миру человека, к его личностным ценностям и смыслам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ая парадигма в науке представляет собой познание природы, общества, самого человека с антропологической, человековедческой позиции. Для нее характерно использование общих принципов при интерпретировании индивидуальных, общественных или исторических событий. Но, в то же время единичное событие не рассматривается как частный случай общей закономерности, а берется в своей самоценности и автономности. Для гуманитарного познания важно постичь единичные факты как таков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уманитар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уманитарные науки используют в познании субъектный подход, при котором человек воспринимается исследователем как активный субъект общения. Исследование, по сути, принимает форму диалога двух суверенных субъектов. При диалоговом общении исследователя и испытуемого происходит изменение, развитие субъектов общения. Эта особенность отличает гуманитарное познание от естественнонаучного. Однако с ней связана ограниченность в применении количественных методов при изучении гуманитарной сфе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тественнонаучное и гуманитарное познание взаимосвязаны и невозможны друг без друга (особенно в психологии). Но при этом в психологии гуманитарное познание в конечном счете оказывается более широким понятием, включающим в свои пределы естественнонаучное позн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гнитивная парадиг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лово «когнитивный» происходит от лат. глагола «знать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нитивная псих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как самостоятельная научная дисциплина возникла в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50-60-е гг. XX 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Официальным манифестом когнитивистов стала изданная в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967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книга американского психолога 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. Найссер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«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Cognitive psycholog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оронники этого подхода изучают то, как человек перерабатывает информацию, анализирует ее и на основе этого принимает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онятие позн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азделе философии, который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гносеология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изучается природа познания и его возможности, отношение знания к реальности, выявляются условия достоверности и истинности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гносеолог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оисходит от греческих слов γνώσις  - знание, и λόγος – учение. слово, и означает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чение о познании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носеология изучает всеобщее, характеризующее познавательную деятельность человека. Особое значение для гносеологии  имеет вопрос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«Познаваем ли мир?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дной из основных проблем классической гносеологии является  проблема субъекта и объекта позн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сихология как фундаментальная  и прикладная на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ундаментальная наук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часть научно-исследовательской деятельности без определенных коммерческих или других практических цел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кладная наук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это наука, направленная на получение конкретного научного результата, который может использоваться для удовлетворения частных или общественных потребнос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кадемической психологи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сущ широкий культурный кругозор, глубокий методологический анализ, видение тенденций. С другой стороны, характерна оторванность от практики и неготовность отвечать на запросы обычных людей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ческ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могает людям в трудных жизненных ситуациях, просвещает, учит, воспитывает, корректирует и развивает. С другой стороны, в сравнении с академической практическая психология обычно более поверхностна, фрагментар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ктическая психолог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4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акти́ческая психоло́ги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асть психологического знания, непосредственно связанная с удовлетворением практических запросов широкого круга людей. Сюда относятся часть теории и практика психотерапии, психометрии и ряда других отраслей психолог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ктика психологии зачастую значительно опережает теорию. Отсутствие методов, позволяющих экспериментально проверить необходимые в практике данные, значительно сдерживают развитие теори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ущественная часть практической психологии неразрывно связана с психотерапевтической работой. Другие области практической психологии занимаются вопросами психологии бизнеса, тайм-менеджмента и личной успешности, образования и развития лич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78040" y="438120"/>
            <a:ext cx="80038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убъект и объект позн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убъект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эт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знающее созна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источник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енаправленной познавательной, предметно-практической и оценоч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бъектом познания могут бы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индивид, наделенный сознанием, способностью к ощущениям, к восприятию, эмоциями, способностью оперировать образами, абстрактными понятиям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группа (коллектив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бщество в цел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бъек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это то, на что направлена познавательно-предметная и оценочная деятельность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ория познания изучает всеобщее в познавательной деятельности человека независимо от того, какова сама эта деятельность: повседневная или профессиональная, художественная или научная. Поэтому некорректно отождествлять гносеологию только с теорией научного познания 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пистемологие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ычно выделяют следующие формы познания: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ыденное, научное, художественное, религиозное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752120"/>
            <a:ext cx="82692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ыд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опутствует человеку на протяжении всей его жизн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ауч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меет специфические познавательные процедуры и операции, способы образования абстракций, понятий, особый стиль научного мыш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Художествен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первые было заявлено как форма познания в немецкой классической философии.. Наука способна описать внутренний мир человека, переживания, эмоции в общем. Художник способен в произведении искусства выразить сущность этих пережива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елигиозное 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основано на вере человека «в мир идеальных ценностей (без которых просто неясно зачем жить)» (Н.А. Бердяев). Через веру человек приобщается к миру трансцендентного, высокого, идеального, абсолютного, к которому должен стремится мир «дольний». Основным способом познания является 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ы позна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1828440"/>
            <a:ext cx="85741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дним из критериев, по которому можно различать виды, формы, способы познания – является определение того, что именно познается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явление или сущност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Яв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внешняя сторона предмета, события, чувства, процесса. Чаще всего, это фак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ущность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это совокупность существенных свойств и качеств вещей, ядро сущег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наук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изучаемого обычно выражают в понятиях. Для формулирования определения понятия принято называть следующе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ласс предметов, к которым относится данная вещ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главную функцию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внешнее описание (при необходимости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ем отличается от ближайших вещей (не обязательно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В искусств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ущность выражается в художественных образах, которые способны выразить сущность даже на основе уникальных признак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Обыденное познани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льше ориентировано на познание фактов, познание явл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аучное позн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удучи профессиональным видом общественной деятельности, оно осуществляется по определенным научным канонам, принимаемым научным обществом. В нем используются специальные методы исследования, а также оценивается качество получаемых знаний на основе принятых научных критериев. Процесс научного познания включает в себя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бъект, субъект, знание как результат и метод исслед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ауке различают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эмпирический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еоретический уровни 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 различие имеет своим основанием неодинаковость, во- первых, способов (методов) самой познавательной активности, а во-вторых, характера достигаемых научн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мпирическое и теоретическое позн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017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мпирическое исследова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полагает выработку исследовательской программы, организацию наблюдений, эксперимента, описание наблюдаемых и экспериментальных данных, их классификацию, первичное обобщение. Для эмпирического познания характерна фактофиксирующая деятель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етическо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зн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– это сущностное познание, осуществляемое на уровне абстракции высоких порядков. Здесь орудием выступает понятия, категории, законы, гипотезы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Содержимое 4" descr="познание.jpg"/>
          <p:cNvPicPr/>
          <p:nvPr/>
        </p:nvPicPr>
        <p:blipFill>
          <a:blip r:embed="rId1"/>
          <a:stretch/>
        </p:blipFill>
        <p:spPr>
          <a:xfrm>
            <a:off x="5791320" y="1905120"/>
            <a:ext cx="2743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2-05T13:23:07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