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312-BE8E-4835-8E8E-CABA748C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EEE-7922-41C5-AB1B-DA995B9D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2A0-6B8F-4AE1-AD46-A13331A7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118-8D76-4FA4-B97C-C34A7A14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57DD-86DA-4ADC-AC2F-6CAE4AB4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770D-8B18-4F62-97D4-5A9AFD62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9923-A74B-440D-8693-C9CE27B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FC55-D60B-4DD7-B801-E711DBE9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47BF-1E60-4D56-8183-56AD2E19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AE70-16DF-4CAE-B854-4565FEA0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A72D-41DD-4D03-B6AF-8B1A2E8C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356-861A-4746-97DC-0D72E312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DC80-D5AE-4209-99D3-7D101ACC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8C16-B920-4771-B90E-863E7B4B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0F77-A15B-4D46-BBA3-F20A868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F9C-53B8-467E-9FBB-80B09225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BA6C-E352-4179-871A-53478AE2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DA5-FD4F-4922-AEDD-B91B8FDC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6E2-A344-4551-8EBB-945BA8FD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5E9-03AF-4148-A075-C2F46B80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891-B865-4B3F-990B-E1494527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519-6916-49BB-984B-7A7B191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226-F6B1-43DC-AA5D-CF4A03BD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C36-3F27-4F8E-9C3F-A2C2860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9662-E2DE-4C6C-ABF2-C740BAF114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7598-DB01-44AB-849E-A809C75C17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prezentacija.biz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Куба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лаг Кубы                                 Герб Ку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135px-Flag_of_Cuba"/>
          <p:cNvPicPr/>
          <p:nvPr/>
        </p:nvPicPr>
        <p:blipFill>
          <a:blip r:embed="rId1"/>
          <a:stretch/>
        </p:blipFill>
        <p:spPr>
          <a:xfrm>
            <a:off x="762120" y="4267080"/>
            <a:ext cx="3276360" cy="16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00px-Coat_of_Arms_of_Cuba"/>
          <p:cNvPicPr/>
          <p:nvPr/>
        </p:nvPicPr>
        <p:blipFill>
          <a:blip r:embed="rId2"/>
          <a:stretch/>
        </p:blipFill>
        <p:spPr>
          <a:xfrm>
            <a:off x="5638680" y="3733920"/>
            <a:ext cx="2098800" cy="2371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3264120" y="6172200"/>
            <a:ext cx="262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зование всех уровней является бесплатным, что прописано в конституции. Кроме того кубинские дети бесплатно обеспечиваются школьными принадлежностями и формой, а в школах-интернатах также обеспечиваются бесплатным питанием и получают предметы первой необходимости. Дети из неблагополучных и неполных семей получают поддержку и материальную помощь для обеспечения равных условий учё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Pioneeres"/>
          <p:cNvPicPr/>
          <p:nvPr/>
        </p:nvPicPr>
        <p:blipFill>
          <a:blip r:embed="rId1"/>
          <a:stretch/>
        </p:blipFill>
        <p:spPr>
          <a:xfrm>
            <a:off x="1828800" y="2362320"/>
            <a:ext cx="523872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бу в начале 2013 года была проведена первая оптоволоконная сеть широкополосного доступа в интернет. Государству данная модернизация информационной инфраструктуры обошлась в 70 миллионов долларов. Кабель был протянут из Венесуэлы на расстояние свыше 1500 километр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июня 2013 года в стране открылись 118 интернет-кафе. Стоимость часа работы в интернет составляет 4,5 доллара США. Население впервые получило свободный доступ во всемирную информационную се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internetcafeoaxaca-500"/>
          <p:cNvPicPr/>
          <p:nvPr/>
        </p:nvPicPr>
        <p:blipFill>
          <a:blip r:embed="rId1"/>
          <a:srcRect l="0" t="9822" r="0" b="0"/>
          <a:stretch/>
        </p:blipFill>
        <p:spPr>
          <a:xfrm>
            <a:off x="1752480" y="2793960"/>
            <a:ext cx="61722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яя заработная плата чиновника среднего ранга составляет примерно 20 $ в месяц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ктически все жилые кубинские дома, за исключением нескольких гаванских многоэтажек, не имеют стёкол. Вместо остекления обычно используются деревянные или металлические жалюз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кубинец имеет право оформить только одну сим-карту для мобильного телефона. Причем и сама сотовая связь очень дорога, за минуту разговора по местным симкам придётся выложить около доллара. Оператор мобильной связи один, называется Cubacel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инцы не любят выходить из дома во время дождя. Нередко это природное явление становится поводом для прогула работы, школы и т. 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убинские центральные каналы вещают без рекламы. Сетка насыщена образовательными, научно-популярными и музыкальными телепередачами, спортивными трансляциями и новинками мирового кинематограф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а отличается низким уровнем преступности в виду полной неагрессивности населения. Но даже здесь опасно бродить ночью в бедных кварталах, освещая дорогу айфоно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инцы — отъявлен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бачники, практически 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ом доме есть один, а 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несколько пёсиков. Писк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ды считается влад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одистой собакой, пред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ение отдаётся, п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ъяснимым причинам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мым мохнатым порода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па Лайки и Чау-Чау, та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е многочисленны малень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ие чихуа-ху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1311777225_Marcy_Pape_Cuban_lady_with_dog_2011_digital_image"/>
          <p:cNvPicPr/>
          <p:nvPr/>
        </p:nvPicPr>
        <p:blipFill>
          <a:blip r:embed="rId1"/>
          <a:stretch/>
        </p:blipFill>
        <p:spPr>
          <a:xfrm>
            <a:off x="4038480" y="228600"/>
            <a:ext cx="4800600" cy="640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upercoolpics_13_27112012103832-800x533"/>
          <p:cNvPicPr/>
          <p:nvPr/>
        </p:nvPicPr>
        <p:blipFill>
          <a:blip r:embed="rId2"/>
          <a:srcRect l="0" t="8105" r="0" b="12254"/>
          <a:stretch/>
        </p:blipFill>
        <p:spPr>
          <a:xfrm>
            <a:off x="457200" y="4343400"/>
            <a:ext cx="42670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кубинца вполне норм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работы удобно распо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житься на скамеечке п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ревом или на теплом кам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ванской набережной и немно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 вздремнуть. Жизнь проходи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ут неторопливо, и это замет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 всё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бивать собственных кор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быков на мясо здесь запреще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законом. После естестве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и животного необходим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явить в соответствующ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ужбу, после чего прие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уповозка и заберёт туш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лучае неповиновения закон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рушителя ждёт уголовн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казание, предусматриваю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лидный срок за решётк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image-130"/>
          <p:cNvPicPr/>
          <p:nvPr/>
        </p:nvPicPr>
        <p:blipFill>
          <a:blip r:embed="rId1"/>
          <a:srcRect l="4324" t="1915" r="0" b="4010"/>
          <a:stretch/>
        </p:blipFill>
        <p:spPr>
          <a:xfrm>
            <a:off x="4495680" y="228600"/>
            <a:ext cx="43372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15 лет девочки празднуют день рождения с особой торжественностью, наряжаясь в пышные костюмы принцессы и фотографируяс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15-años"/>
          <p:cNvPicPr/>
          <p:nvPr/>
        </p:nvPicPr>
        <p:blipFill>
          <a:blip r:embed="rId1"/>
          <a:stretch/>
        </p:blipFill>
        <p:spPr>
          <a:xfrm>
            <a:off x="762120" y="1219320"/>
            <a:ext cx="78483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бе есть нефть, но из-за неудачного расположения залежей, а именно в туристической зоне пляжа Варадеро, она практически не добыва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2299_hotel_herradura_1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917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вичники и всевозможный отдых отдельно от мужа не только не приветствуется, но и считается абсурдным. Мужья же имеют полное право отлучаться по своим делам в любо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мение танцевать присуще каждому кубинцу с рождения. Заслышав ритмичную музыку любой местный житель, даже находящийся на рабочем месте, будет немного пританцовывать. На ночных дискотеках же все ограничения отбрасываются и можно увидеть по-настоящему «грязные» танц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54176"/>
          <p:cNvPicPr/>
          <p:nvPr/>
        </p:nvPicPr>
        <p:blipFill>
          <a:blip r:embed="rId1"/>
          <a:stretch/>
        </p:blipFill>
        <p:spPr>
          <a:xfrm>
            <a:off x="4114800" y="30290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a3e1e-300x240"/>
          <p:cNvPicPr/>
          <p:nvPr/>
        </p:nvPicPr>
        <p:blipFill>
          <a:blip r:embed="rId2"/>
          <a:stretch/>
        </p:blipFill>
        <p:spPr>
          <a:xfrm>
            <a:off x="609480" y="3581280"/>
            <a:ext cx="31626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олица Кубы Гавана наряду с Рио-де-Жанейро считается одним из самых красивых городов Латинской Амери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post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10531204374e146f0cc623f765314179_v4 big"/>
          <p:cNvPicPr/>
          <p:nvPr/>
        </p:nvPicPr>
        <p:blipFill>
          <a:blip r:embed="rId1"/>
          <a:stretch/>
        </p:blipFill>
        <p:spPr>
          <a:xfrm>
            <a:off x="380880" y="582480"/>
            <a:ext cx="845820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у́б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официальное название —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спу́блика Ку́б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еофициальное —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тров Свобод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 островное государство в северной части Карибского моря. Страна занимает территорию острова Куба в составе Больших Антильских островов, острова Хувентуд и множества более мелких островов. От Северной Америки Куба отделена Флоридским проливом  на севере и Юкатанским проливом на западе. Страна является членом ООН с 1945 год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RepubliquedeCuba"/>
          <p:cNvPicPr/>
          <p:nvPr/>
        </p:nvPicPr>
        <p:blipFill>
          <a:blip r:embed="rId1"/>
          <a:stretch/>
        </p:blipFill>
        <p:spPr>
          <a:xfrm>
            <a:off x="914400" y="3048120"/>
            <a:ext cx="708660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ляжи Кубы входят в тройку лучших пляжей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1206566449_02"/>
          <p:cNvPicPr/>
          <p:nvPr/>
        </p:nvPicPr>
        <p:blipFill>
          <a:blip r:embed="rId1"/>
          <a:stretch/>
        </p:blipFill>
        <p:spPr>
          <a:xfrm>
            <a:off x="304920" y="1143000"/>
            <a:ext cx="3703680" cy="493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1206566573_12"/>
          <p:cNvPicPr/>
          <p:nvPr/>
        </p:nvPicPr>
        <p:blipFill>
          <a:blip r:embed="rId2"/>
          <a:srcRect l="8270" t="0" r="16388" b="0"/>
          <a:stretch/>
        </p:blipFill>
        <p:spPr>
          <a:xfrm>
            <a:off x="4191120" y="1143000"/>
            <a:ext cx="48006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denizy5"/>
          <p:cNvPicPr/>
          <p:nvPr/>
        </p:nvPicPr>
        <p:blipFill>
          <a:blip r:embed="rId1"/>
          <a:stretch/>
        </p:blipFill>
        <p:spPr>
          <a:xfrm>
            <a:off x="685800" y="457200"/>
            <a:ext cx="80773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25522"/>
          <p:cNvPicPr/>
          <p:nvPr/>
        </p:nvPicPr>
        <p:blipFill>
          <a:blip r:embed="rId1"/>
          <a:stretch/>
        </p:blipFill>
        <p:spPr>
          <a:xfrm>
            <a:off x="762120" y="304920"/>
            <a:ext cx="7611840" cy="4991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60" y="52574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блички с регистрационным номером на кубинских машинах имеют разный цвет в зависимости от принадлежности тому или иному собственнику. Так государственные автомобили обозначены синим цветом, а частные — жёлт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511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img_Museum_of_Revolution_Cuba"/>
          <p:cNvPicPr/>
          <p:nvPr/>
        </p:nvPicPr>
        <p:blipFill>
          <a:blip r:embed="rId1"/>
          <a:stretch/>
        </p:blipFill>
        <p:spPr>
          <a:xfrm>
            <a:off x="685800" y="3049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cuba"/>
          <p:cNvPicPr/>
          <p:nvPr/>
        </p:nvPicPr>
        <p:blipFill>
          <a:blip r:embed="rId1"/>
          <a:stretch/>
        </p:blipFill>
        <p:spPr>
          <a:xfrm>
            <a:off x="4876920" y="457200"/>
            <a:ext cx="4043160" cy="5105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G_5103"/>
          <p:cNvPicPr/>
          <p:nvPr/>
        </p:nvPicPr>
        <p:blipFill>
          <a:blip r:embed="rId2"/>
          <a:stretch/>
        </p:blipFill>
        <p:spPr>
          <a:xfrm>
            <a:off x="380880" y="304920"/>
            <a:ext cx="4257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IMG_4849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126510023379334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ATLANTICO_STRAND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рритория Кубы — 110 860 км². Остров, протянувшийся с запада на восток на 1250 км, нередко сравнивают с ящерицей, туловище которой обращено к Атлантике, а хвост находится у входа в Мексиканский залив. На юге Куба омывается водами Карибского моря, на северо-западе Мексиканским заливом, а на северо-востоке Атлантическим океан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а является унитарным государством. Национальная территория в политико-административных целях до 2011 года делилась на 15 провинций и специальную муниципию остров Хувентуд.1 января 2011 вступило в силу решение о разделении провинции Гавана на провинции Артемиса и Маябеке и количество провинций увеличилось до 16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400px-CubaSubdivisions"/>
          <p:cNvPicPr/>
          <p:nvPr/>
        </p:nvPicPr>
        <p:blipFill>
          <a:blip r:embed="rId1"/>
          <a:stretch/>
        </p:blipFill>
        <p:spPr>
          <a:xfrm>
            <a:off x="1295280" y="4038480"/>
            <a:ext cx="57913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6aee3656bfd8056138063699eccb2470"/>
          <p:cNvPicPr/>
          <p:nvPr/>
        </p:nvPicPr>
        <p:blipFill>
          <a:blip r:embed="rId1"/>
          <a:srcRect l="7246" t="0" r="0" b="0"/>
          <a:stretch/>
        </p:blipFill>
        <p:spPr>
          <a:xfrm>
            <a:off x="457200" y="2133720"/>
            <a:ext cx="5029200" cy="3243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данным переписи населения, в сентябре 2012 года общая численность населения Кубы составляла 11 163 934 человек. Данные о расовом составе Кубы противоречивы. Согласно официальным данным переписи 2002 года, население Кубы состоит из белых — 65,1 % (7 271 926), мулатов — 24,8 % (2 778 923), негров — 10,1 % (1 126 894), 1 % — китайцы (113 828).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сведениям британского журнала, Куба является единственной латиноамериканской страной, чье население уменьша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6"/>
          <p:cNvPicPr/>
          <p:nvPr/>
        </p:nvPicPr>
        <p:blipFill>
          <a:blip r:embed="rId2"/>
          <a:stretch/>
        </p:blipFill>
        <p:spPr>
          <a:xfrm>
            <a:off x="441972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форме государственного устройства Куба является социалистической республикой парламентского типа. Это единственное социалистическое государство в Западном полушарии. Вся полнота власти в парламенте принадлежит только одной партии — Коммунистической партии Ку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нительная власть принадлежит председателю Государственного Совета (главе государства), который одновременно является и генеральным секретарём Центрального Комитета (ЦК) Коммунистической партии Кубы, и председателю Совета Министров (главе правительства)- второму секретарю ЦК соответственн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йствующий президен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ы Рауль Кастр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1315101776_f0e383a2dca93ae51242b1c564ba_grande"/>
          <p:cNvPicPr/>
          <p:nvPr/>
        </p:nvPicPr>
        <p:blipFill>
          <a:blip r:embed="rId1"/>
          <a:stretch/>
        </p:blipFill>
        <p:spPr>
          <a:xfrm>
            <a:off x="762120" y="3505320"/>
            <a:ext cx="445752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ной отраслью кубинской экономики является сахарная промышленность.  Экспортирует (3,3 млрд долл. в 2010) — сахар, никель, табак, морепродукты, медицинские товары, цитрусовые, кофе. Основные партнёры по экспорту — Китай (26 %), Канада (20 %), Испания (7 %), Нидерланды (5 %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ба импортирует (10,3 млрд долл. в 2010) — нефтепродукты, продовольствие, промышленное оборудование, химические продукты. Основные партнёры по импорту — Венесуэла (31 %), Китай (15 %), Испания (8 %), США (7 %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 1962 года на Кубе действует карточная система, продукты выдаются по единым для всей страны норм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007-7-26-001-rations-card"/>
          <p:cNvPicPr/>
          <p:nvPr/>
        </p:nvPicPr>
        <p:blipFill>
          <a:blip r:embed="rId1"/>
          <a:stretch/>
        </p:blipFill>
        <p:spPr>
          <a:xfrm>
            <a:off x="457200" y="388620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356088094_libreta"/>
          <p:cNvPicPr/>
          <p:nvPr/>
        </p:nvPicPr>
        <p:blipFill>
          <a:blip r:embed="rId2"/>
          <a:stretch/>
        </p:blipFill>
        <p:spPr>
          <a:xfrm>
            <a:off x="4724280" y="3886200"/>
            <a:ext cx="41148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Куба тратит более миллиарда долларов на продовольственные субсидии, которые распределяются посредством карточек среди населения. Кубинцы платят всего 12% от реальной стоимости продуктов пит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, курятина, сахар, молоко, яйца, масло, бобы, макароны и балонный газ продаются только по карточк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нее можно купить продуктов примерно на 10 дней, но стоит карточка недорого - всего доллар в месяц на одного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 либрета", как ее называют на Кубе, до сих пор имеет сторонников и противников. Многие кубинцы опасаются, что ее исчезновение приведет к голоду среди беднейших слоев населения, другие же считают, что дешевле было бы просто давать пособия людям, а не продавать товары по заниженным це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и противников карточек - президент Рауль Кастро, который предупредил, что экономика страны не выдерживает расходов на субсидирование цен на продовольствие; он уже приступил к постепенной отмене карточек, сократив список продуктов, которые можно купить по н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 2008 году жителям Кубы было разрешено покупать сотовые телефоны, компьютеры и DVD-плееры, а также телевизоры с диагональю 19 и 24 дюйма, электрические скороварки и электровелосипеды, автомобильную сигнализацию и микроволновые печи (но только за конвертируемую валюту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яя месячная зарплата на Кубе на январь 2011 г. составляла 300—350 песо (23-25 песо за доллар). Однако внутренние цены на производимые внутри страны товары могут существенно отличаться от среднемировых. Есть развитая система бесплатных услуг и государственных пособий. Например, выдаётся бесплатная одежда рабочим. Действует система бесплатной и качественной медицинской помощи, бесплатного высшего и среднего образова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8" descr="1220825667r_lg"/>
          <p:cNvPicPr/>
          <p:nvPr/>
        </p:nvPicPr>
        <p:blipFill>
          <a:blip r:embed="rId1"/>
          <a:stretch/>
        </p:blipFill>
        <p:spPr>
          <a:xfrm>
            <a:off x="380880" y="3886200"/>
            <a:ext cx="3505320" cy="174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7xxRmEBlSl"/>
          <p:cNvPicPr/>
          <p:nvPr/>
        </p:nvPicPr>
        <p:blipFill>
          <a:blip r:embed="rId2"/>
          <a:stretch/>
        </p:blipFill>
        <p:spPr>
          <a:xfrm>
            <a:off x="2514600" y="4495680"/>
            <a:ext cx="4114800" cy="19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2974z"/>
          <p:cNvPicPr/>
          <p:nvPr/>
        </p:nvPicPr>
        <p:blipFill>
          <a:blip r:embed="rId3"/>
          <a:stretch/>
        </p:blipFill>
        <p:spPr>
          <a:xfrm>
            <a:off x="5257800" y="3886200"/>
            <a:ext cx="3581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бе традиционно высок образовательный уровень населения (грамотно 99,8 %). В настоящее время на Кубе существует обязательное девятиклассное образование (средним является 12-классное образование). Имеются 50 центров высшего образования. Для студентов, поступивших сразу после окончания средней школы, предназначено дневное отделение вуза, для работающих студентов — заочное и вечернее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tu-iti-aduci-aminte-cu-aratai-in-prima-zi-de-scoala-uite-in-ce-scoli-invata-elevi-din-lumea-intreaga-si_8"/>
          <p:cNvPicPr/>
          <p:nvPr/>
        </p:nvPicPr>
        <p:blipFill>
          <a:blip r:embed="rId1"/>
          <a:stretch/>
        </p:blipFill>
        <p:spPr>
          <a:xfrm>
            <a:off x="1981080" y="2514600"/>
            <a:ext cx="5257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4-09-25T18:20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