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35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A79E-F248-45EF-8B96-2F6E96E93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A39C-3FBD-404A-B934-F9ED0CBF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4616-301C-4115-85FB-77BD19204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93EB-620C-41CB-8B66-4CA3F9A6B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12D9-B926-49D3-BDCF-C90D7F294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7DA2-78A3-4DDB-A65B-F421C661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D6B1-3025-48C1-AA05-8194EFA7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D7AE-237F-4352-800E-156EBF4B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1E22-24B0-4202-93B8-F23E5ABA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B8E4-D680-4BC4-A24B-42A58597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CDC3-6283-4C1F-AD20-9743856E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49BC-5E6B-46BB-87AC-9281EE64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0C82-C767-4D19-B662-A3C16F92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86E7-D60C-497A-8515-5C34E959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B56A-EAE8-4B4A-A3C5-DBD6B0DB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A077-250D-41AF-8826-CDD0560F0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F61F-C0C7-4652-BAA1-9C5959FBF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9102-3684-45F2-95D6-618C6995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FB9D-3713-4BF2-8BB1-192938DD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3074-3DA2-4567-AFA6-684E16A5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7B23-8E23-4A48-B646-15FA59CE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5A16-CAF8-40E1-8B83-ACBE2C6E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CD69-BB9C-41C0-9B2A-77AB671C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66C5-BC08-4DB3-B91F-5B34E8E0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CBD8-9B90-43C3-B081-8EDC1DDFC58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C5AA-5374-467C-99F7-29BBE7D5CC5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prezentacija.biz/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999900"/>
                </a:solidFill>
                <a:latin typeface="Garamond"/>
              </a:rPr>
              <a:t>Куба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лаг Кубы                                 Герб Куб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135px-Flag_of_Cuba"/>
          <p:cNvPicPr/>
          <p:nvPr/>
        </p:nvPicPr>
        <p:blipFill>
          <a:blip r:embed="rId1"/>
          <a:stretch/>
        </p:blipFill>
        <p:spPr>
          <a:xfrm>
            <a:off x="762120" y="4267080"/>
            <a:ext cx="3276360" cy="1650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100px-Coat_of_Arms_of_Cuba"/>
          <p:cNvPicPr/>
          <p:nvPr/>
        </p:nvPicPr>
        <p:blipFill>
          <a:blip r:embed="rId2"/>
          <a:stretch/>
        </p:blipFill>
        <p:spPr>
          <a:xfrm>
            <a:off x="5638680" y="3733920"/>
            <a:ext cx="2098800" cy="237168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7"/>
          <p:cNvSpPr/>
          <p:nvPr/>
        </p:nvSpPr>
        <p:spPr>
          <a:xfrm>
            <a:off x="3264120" y="6172200"/>
            <a:ext cx="2623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Verdana"/>
                <a:hlinkClick r:id="rId3"/>
              </a:rPr>
              <a:t>http://prezentacija.biz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9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разование всех уровней является бесплатным, что прописано в конституции. Кроме того кубинские дети бесплатно обеспечиваются школьными принадлежностями и формой, а в школах-интернатах также обеспечиваются бесплатным питанием и получают предметы первой необходимости. Дети из неблагополучных и неполных семей получают поддержку и материальную помощь для обеспечения равных условий учёб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4" descr="Pioneeres"/>
          <p:cNvPicPr/>
          <p:nvPr/>
        </p:nvPicPr>
        <p:blipFill>
          <a:blip r:embed="rId1"/>
          <a:stretch/>
        </p:blipFill>
        <p:spPr>
          <a:xfrm>
            <a:off x="1828800" y="2362320"/>
            <a:ext cx="523872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Кубу в начале 2013 года была проведена первая оптоволоконная сеть широкополосного доступа в интернет. Государству данная модернизация информационной инфраструктуры обошлась в 70 миллионов долларов. Кабель был протянут из Венесуэлы на расстояние свыше 1500 километров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 июня 2013 года в стране открылись 118 интернет-кафе. Стоимость часа работы в интернет составляет 4,5 доллара США. Население впервые получило свободный доступ во всемирную информационную се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4" descr="internetcafeoaxaca-500"/>
          <p:cNvPicPr/>
          <p:nvPr/>
        </p:nvPicPr>
        <p:blipFill>
          <a:blip r:embed="rId1"/>
          <a:srcRect l="0" t="9822" r="0" b="0"/>
          <a:stretch/>
        </p:blipFill>
        <p:spPr>
          <a:xfrm>
            <a:off x="1752480" y="2793960"/>
            <a:ext cx="61722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редняя заработная плата чиновника среднего ранга составляет примерно 20 $ в месяц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актически все жилые кубинские дома, за исключением нескольких гаванских многоэтажек, не имеют стёкол. Вместо остекления обычно используются деревянные или металлические жалюз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кубинец имеет право оформить только одну сим-карту для мобильного телефона. Причем и сама сотовая связь очень дорога, за минуту разговора по местным симкам придётся выложить около доллара. Оператор мобильной связи один, называется Cubacel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убинцы не любят выходить из дома во время дождя. Нередко это природное явление становится поводом для прогула работы, школы и т. д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Кубинские центральные каналы вещают без рекламы. Сетка насыщена образовательными, научно-популярными и музыкальными телепередачами, спортивными трансляциями и новинками мирового кинематограф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уба отличается низким уровнем преступности в виду полной неагрессивности населения. Но даже здесь опасно бродить ночью в бедных кварталах, освещая дорогу айфоном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убинцы — отъявленны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бачники, практически в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ом доме есть один, а т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несколько пёсиков. Писк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ды считается владени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родистой собакой, пред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тение отдаётся, п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объяснимым причинам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амым мохнатым породам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ипа Лайки и Чау-Чау, так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же многочисленны малень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ие чихуа-ху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4" descr="1311777225_Marcy_Pape_Cuban_lady_with_dog_2011_digital_image"/>
          <p:cNvPicPr/>
          <p:nvPr/>
        </p:nvPicPr>
        <p:blipFill>
          <a:blip r:embed="rId1"/>
          <a:stretch/>
        </p:blipFill>
        <p:spPr>
          <a:xfrm>
            <a:off x="4038480" y="228600"/>
            <a:ext cx="4800600" cy="6400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supercoolpics_13_27112012103832-800x533"/>
          <p:cNvPicPr/>
          <p:nvPr/>
        </p:nvPicPr>
        <p:blipFill>
          <a:blip r:embed="rId2"/>
          <a:srcRect l="0" t="8105" r="0" b="12254"/>
          <a:stretch/>
        </p:blipFill>
        <p:spPr>
          <a:xfrm>
            <a:off x="457200" y="4343400"/>
            <a:ext cx="426708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ля кубинца вполне нормаль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 работы удобно распо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ожиться на скамеечке под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еревом или на теплом камн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аванской набережной и немно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о вздремнуть. Жизнь проходи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ут неторопливо, и это замет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о всё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бивать собственных кор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быков на мясо здесь запреще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 законом. После естественно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мерти животного необходим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явить в соответствующую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лужбу, после чего приеде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руповозка и заберёт тушу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лучае неповиновения закон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рушителя ждёт уголовно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казание, предусматривающе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лидный срок за решётко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4" descr="image-130"/>
          <p:cNvPicPr/>
          <p:nvPr/>
        </p:nvPicPr>
        <p:blipFill>
          <a:blip r:embed="rId1"/>
          <a:srcRect l="4324" t="1915" r="0" b="4010"/>
          <a:stretch/>
        </p:blipFill>
        <p:spPr>
          <a:xfrm>
            <a:off x="4495680" y="228600"/>
            <a:ext cx="4337280" cy="64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0"/>
            <a:ext cx="86868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15 лет девочки празднуют день рождения с особой торжественностью, наряжаясь в пышные костюмы принцессы и фотографируясь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4" descr="15-años"/>
          <p:cNvPicPr/>
          <p:nvPr/>
        </p:nvPicPr>
        <p:blipFill>
          <a:blip r:embed="rId1"/>
          <a:stretch/>
        </p:blipFill>
        <p:spPr>
          <a:xfrm>
            <a:off x="762120" y="1219320"/>
            <a:ext cx="784836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-360" y="152280"/>
            <a:ext cx="8915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Кубе есть нефть, но из-за неудачного расположения залежей, а именно в туристической зоне пляжа Варадеро, она практически не добываетс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5" descr="2299_hotel_herradura_1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9172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евичники и всевозможный отдых отдельно от мужа не только не приветствуется, но и считается абсурдным. Мужья же имеют полное право отлучаться по своим делам в любое врем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мение танцевать присуще каждому кубинцу с рождения. Заслышав ритмичную музыку любой местный житель, даже находящийся на рабочем месте, будет немного пританцовывать. На ночных дискотеках же все ограничения отбрасываются и можно увидеть по-настоящему «грязные» танцы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4" descr="54176"/>
          <p:cNvPicPr/>
          <p:nvPr/>
        </p:nvPicPr>
        <p:blipFill>
          <a:blip r:embed="rId1"/>
          <a:stretch/>
        </p:blipFill>
        <p:spPr>
          <a:xfrm>
            <a:off x="4114800" y="302904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6a3e1e-300x240"/>
          <p:cNvPicPr/>
          <p:nvPr/>
        </p:nvPicPr>
        <p:blipFill>
          <a:blip r:embed="rId2"/>
          <a:stretch/>
        </p:blipFill>
        <p:spPr>
          <a:xfrm>
            <a:off x="609480" y="3581280"/>
            <a:ext cx="316260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899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олица Кубы Гавана наряду с Рио-де-Жанейро считается одним из самых красивых городов Латинской Америк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4" descr="post"/>
          <p:cNvPicPr/>
          <p:nvPr/>
        </p:nvPicPr>
        <p:blipFill>
          <a:blip r:embed="rId1"/>
          <a:stretch/>
        </p:blipFill>
        <p:spPr>
          <a:xfrm>
            <a:off x="533520" y="1295280"/>
            <a:ext cx="815328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4" descr="10531204374e146f0cc623f765314179_v4 big"/>
          <p:cNvPicPr/>
          <p:nvPr/>
        </p:nvPicPr>
        <p:blipFill>
          <a:blip r:embed="rId1"/>
          <a:stretch/>
        </p:blipFill>
        <p:spPr>
          <a:xfrm>
            <a:off x="380880" y="582480"/>
            <a:ext cx="8458200" cy="564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у́б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официальное название — 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спу́блика Ку́б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неофициальное — 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тров Свобод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— островное государство в северной части Карибского моря. Страна занимает территорию острова Куба в составе Больших Антильских островов, острова Хувентуд и множества более мелких островов. От Северной Америки Куба отделена Флоридским проливом  на севере и Юкатанским проливом на западе. Страна является членом ООН с 1945 год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4" descr="RepubliquedeCuba"/>
          <p:cNvPicPr/>
          <p:nvPr/>
        </p:nvPicPr>
        <p:blipFill>
          <a:blip r:embed="rId1"/>
          <a:stretch/>
        </p:blipFill>
        <p:spPr>
          <a:xfrm>
            <a:off x="914400" y="3048120"/>
            <a:ext cx="7086600" cy="35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ляжи Кубы входят в тройку лучших пляжей мир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4" descr="1206566449_02"/>
          <p:cNvPicPr/>
          <p:nvPr/>
        </p:nvPicPr>
        <p:blipFill>
          <a:blip r:embed="rId1"/>
          <a:stretch/>
        </p:blipFill>
        <p:spPr>
          <a:xfrm>
            <a:off x="304920" y="1143000"/>
            <a:ext cx="3703680" cy="4933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1206566573_12"/>
          <p:cNvPicPr/>
          <p:nvPr/>
        </p:nvPicPr>
        <p:blipFill>
          <a:blip r:embed="rId2"/>
          <a:srcRect l="8270" t="0" r="16388" b="0"/>
          <a:stretch/>
        </p:blipFill>
        <p:spPr>
          <a:xfrm>
            <a:off x="4191120" y="1143000"/>
            <a:ext cx="480060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4" descr="denizy5"/>
          <p:cNvPicPr/>
          <p:nvPr/>
        </p:nvPicPr>
        <p:blipFill>
          <a:blip r:embed="rId1"/>
          <a:stretch/>
        </p:blipFill>
        <p:spPr>
          <a:xfrm>
            <a:off x="685800" y="457200"/>
            <a:ext cx="807732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25522"/>
          <p:cNvPicPr/>
          <p:nvPr/>
        </p:nvPicPr>
        <p:blipFill>
          <a:blip r:embed="rId1"/>
          <a:stretch/>
        </p:blipFill>
        <p:spPr>
          <a:xfrm>
            <a:off x="762120" y="304920"/>
            <a:ext cx="7611840" cy="49910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-360" y="5257440"/>
            <a:ext cx="8915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аблички с регистрационным номером на кубинских машинах имеют разный цвет в зависимости от принадлежности тому или иному собственнику. Так государственные автомобили обозначены синим цветом, а частные — жёлты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511"/>
          <p:cNvPicPr/>
          <p:nvPr/>
        </p:nvPicPr>
        <p:blipFill>
          <a:blip r:embed="rId1"/>
          <a:stretch/>
        </p:blipFill>
        <p:spPr>
          <a:xfrm>
            <a:off x="380880" y="380880"/>
            <a:ext cx="8534520" cy="57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img_Museum_of_Revolution_Cuba"/>
          <p:cNvPicPr/>
          <p:nvPr/>
        </p:nvPicPr>
        <p:blipFill>
          <a:blip r:embed="rId1"/>
          <a:stretch/>
        </p:blipFill>
        <p:spPr>
          <a:xfrm>
            <a:off x="685800" y="304920"/>
            <a:ext cx="8077320" cy="60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cuba"/>
          <p:cNvPicPr/>
          <p:nvPr/>
        </p:nvPicPr>
        <p:blipFill>
          <a:blip r:embed="rId1"/>
          <a:stretch/>
        </p:blipFill>
        <p:spPr>
          <a:xfrm>
            <a:off x="4876920" y="457200"/>
            <a:ext cx="4043160" cy="5105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IMG_5103"/>
          <p:cNvPicPr/>
          <p:nvPr/>
        </p:nvPicPr>
        <p:blipFill>
          <a:blip r:embed="rId2"/>
          <a:stretch/>
        </p:blipFill>
        <p:spPr>
          <a:xfrm>
            <a:off x="380880" y="304920"/>
            <a:ext cx="42577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IMG_4849"/>
          <p:cNvPicPr/>
          <p:nvPr/>
        </p:nvPicPr>
        <p:blipFill>
          <a:blip r:embed="rId1"/>
          <a:stretch/>
        </p:blipFill>
        <p:spPr>
          <a:xfrm>
            <a:off x="533520" y="380880"/>
            <a:ext cx="815328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7" descr="126510023379334"/>
          <p:cNvPicPr/>
          <p:nvPr/>
        </p:nvPicPr>
        <p:blipFill>
          <a:blip r:embed="rId1"/>
          <a:stretch/>
        </p:blipFill>
        <p:spPr>
          <a:xfrm>
            <a:off x="380880" y="457200"/>
            <a:ext cx="83059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ATLANTICO_STRAND"/>
          <p:cNvPicPr/>
          <p:nvPr/>
        </p:nvPicPr>
        <p:blipFill>
          <a:blip r:embed="rId1"/>
          <a:stretch/>
        </p:blipFill>
        <p:spPr>
          <a:xfrm>
            <a:off x="304920" y="304920"/>
            <a:ext cx="86868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рритория Кубы — 110 860 км². Остров, протянувшийся с запада на восток на 1250 км, нередко сравнивают с ящерицей, туловище которой обращено к Атлантике, а хвост находится у входа в Мексиканский залив. На юге Куба омывается водами Карибского моря, на северо-западе Мексиканским заливом, а на северо-востоке Атлантическим океаном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уба является унитарным государством. Национальная территория в политико-административных целях до 2011 года делилась на 15 провинций и специальную муниципию остров Хувентуд.1 января 2011 вступило в силу решение о разделении провинции Гавана на провинции Артемиса и Маябеке и количество провинций увеличилось до 16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4" descr="400px-CubaSubdivisions"/>
          <p:cNvPicPr/>
          <p:nvPr/>
        </p:nvPicPr>
        <p:blipFill>
          <a:blip r:embed="rId1"/>
          <a:stretch/>
        </p:blipFill>
        <p:spPr>
          <a:xfrm>
            <a:off x="1295280" y="4038480"/>
            <a:ext cx="5791320" cy="24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6aee3656bfd8056138063699eccb2470"/>
          <p:cNvPicPr/>
          <p:nvPr/>
        </p:nvPicPr>
        <p:blipFill>
          <a:blip r:embed="rId1"/>
          <a:srcRect l="7246" t="0" r="0" b="0"/>
          <a:stretch/>
        </p:blipFill>
        <p:spPr>
          <a:xfrm>
            <a:off x="457200" y="2133720"/>
            <a:ext cx="5029200" cy="32432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" y="0"/>
            <a:ext cx="87631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 данным переписи населения, в сентябре 2012 года общая численность населения Кубы составляла 11 163 934 человек. Данные о расовом составе Кубы противоречивы. Согласно официальным данным переписи 2002 года, население Кубы состоит из белых — 65,1 % (7 271 926), мулатов — 24,8 % (2 778 923), негров — 10,1 % (1 126 894), 1 % — китайцы (113 828). 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 сведениям британского журнала, Куба является единственной латиноамериканской страной, чье население уменьшаетс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6"/>
          <p:cNvPicPr/>
          <p:nvPr/>
        </p:nvPicPr>
        <p:blipFill>
          <a:blip r:embed="rId2"/>
          <a:stretch/>
        </p:blipFill>
        <p:spPr>
          <a:xfrm>
            <a:off x="4419720" y="251460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92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 форме государственного устройства Куба является социалистической республикой парламентского типа. Это единственное социалистическое государство в Западном полушарии. Вся полнота власти в парламенте принадлежит только одной партии — Коммунистической партии Куб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полнительная власть принадлежит председателю Государственного Совета (главе государства), который одновременно является и генеральным секретарём Центрального Комитета (ЦК) Коммунистической партии Кубы, и председателю Совета Министров (главе правительства)- второму секретарю ЦК соответственно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ействующий президен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убы Рауль Кастр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4" descr="1315101776_f0e383a2dca93ae51242b1c564ba_grande"/>
          <p:cNvPicPr/>
          <p:nvPr/>
        </p:nvPicPr>
        <p:blipFill>
          <a:blip r:embed="rId1"/>
          <a:stretch/>
        </p:blipFill>
        <p:spPr>
          <a:xfrm>
            <a:off x="762120" y="3505320"/>
            <a:ext cx="4457520" cy="31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917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новной отраслью кубинской экономики является сахарная промышленность.  Экспортирует (3,3 млрд долл. в 2010) — сахар, никель, табак, морепродукты, медицинские товары, цитрусовые, кофе. Основные партнёры по экспорту — Китай (26 %), Канада (20 %), Испания (7 %), Нидерланды (5 %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уба импортирует (10,3 млрд долл. в 2010) — нефтепродукты, продовольствие, промышленное оборудование, химические продукты. Основные партнёры по импорту — Венесуэла (31 %), Китай (15 %), Испания (8 %), США (7 %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C 1962 года на Кубе действует карточная система, продукты выдаются по единым для всей страны нормам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2007-7-26-001-rations-card"/>
          <p:cNvPicPr/>
          <p:nvPr/>
        </p:nvPicPr>
        <p:blipFill>
          <a:blip r:embed="rId1"/>
          <a:stretch/>
        </p:blipFill>
        <p:spPr>
          <a:xfrm>
            <a:off x="457200" y="3886200"/>
            <a:ext cx="4114800" cy="273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1356088094_libreta"/>
          <p:cNvPicPr/>
          <p:nvPr/>
        </p:nvPicPr>
        <p:blipFill>
          <a:blip r:embed="rId2"/>
          <a:stretch/>
        </p:blipFill>
        <p:spPr>
          <a:xfrm>
            <a:off x="4724280" y="3886200"/>
            <a:ext cx="411480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настоящее время Куба тратит более миллиарда долларов на продовольственные субсидии, которые распределяются посредством карточек среди населения. Кубинцы платят всего 12% от реальной стоимости продуктов пита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ис, курятина, сахар, молоко, яйца, масло, бобы, макароны и балонный газ продаются только по карточка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нее можно купить продуктов примерно на 10 дней, но стоит карточка недорого - всего доллар в месяц на одного челове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а либрета", как ее называют на Кубе, до сих пор имеет сторонников и противников. Многие кубинцы опасаются, что ее исчезновение приведет к голоду среди беднейших слоев населения, другие же считают, что дешевле было бы просто давать пособия людям, а не продавать товары по заниженным ценам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реди противников карточек - президент Рауль Кастро, который предупредил, что экономика страны не выдерживает расходов на субсидирование цен на продовольствие; он уже приступил к постепенной отмене карточек, сократив список продуктов, которые можно купить по не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 2008 году жителям Кубы было разрешено покупать сотовые телефоны, компьютеры и DVD-плееры, а также телевизоры с диагональю 19 и 24 дюйма, электрические скороварки и электровелосипеды, автомобильную сигнализацию и микроволновые печи (но только за конвертируемую валюту)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редняя месячная зарплата на Кубе на январь 2011 г. составляла 300—350 песо (23-25 песо за доллар). Однако внутренние цены на производимые внутри страны товары могут существенно отличаться от среднемировых. Есть развитая система бесплатных услуг и государственных пособий. Например, выдаётся бесплатная одежда рабочим. Действует система бесплатной и качественной медицинской помощи, бесплатного высшего и среднего образовани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8" descr="1220825667r_lg"/>
          <p:cNvPicPr/>
          <p:nvPr/>
        </p:nvPicPr>
        <p:blipFill>
          <a:blip r:embed="rId1"/>
          <a:stretch/>
        </p:blipFill>
        <p:spPr>
          <a:xfrm>
            <a:off x="380880" y="3886200"/>
            <a:ext cx="3505320" cy="1746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7xxRmEBlSl"/>
          <p:cNvPicPr/>
          <p:nvPr/>
        </p:nvPicPr>
        <p:blipFill>
          <a:blip r:embed="rId2"/>
          <a:stretch/>
        </p:blipFill>
        <p:spPr>
          <a:xfrm>
            <a:off x="2514600" y="4495680"/>
            <a:ext cx="4114800" cy="1928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12974z"/>
          <p:cNvPicPr/>
          <p:nvPr/>
        </p:nvPicPr>
        <p:blipFill>
          <a:blip r:embed="rId3"/>
          <a:stretch/>
        </p:blipFill>
        <p:spPr>
          <a:xfrm>
            <a:off x="5257800" y="3886200"/>
            <a:ext cx="358128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59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Кубе традиционно высок образовательный уровень населения (грамотно 99,8 %). В настоящее время на Кубе существует обязательное девятиклассное образование (средним является 12-классное образование). Имеются 50 центров высшего образования. Для студентов, поступивших сразу после окончания средней школы, предназначено дневное отделение вуза, для работающих студентов — заочное и вечернее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tu-iti-aduci-aminte-cu-aratai-in-prima-zi-de-scoala-uite-in-ce-scoli-invata-elevi-din-lumea-intreaga-si_8"/>
          <p:cNvPicPr/>
          <p:nvPr/>
        </p:nvPicPr>
        <p:blipFill>
          <a:blip r:embed="rId1"/>
          <a:stretch/>
        </p:blipFill>
        <p:spPr>
          <a:xfrm>
            <a:off x="1981080" y="2514600"/>
            <a:ext cx="525780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ebom zav</cp:lastModifiedBy>
  <dcterms:modified xsi:type="dcterms:W3CDTF">2014-09-25T18:20:13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