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2DC-D501-451E-A17D-CB9044ED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C12-6E0F-47A5-B436-C4BACFEA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146-4B54-4000-8FC3-556366CD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2E8-B606-4B80-A3E4-7F85182C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C857-0209-4D2D-99FD-66B2AC4C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7FAF-F0F1-4D1D-AE55-43984A14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CBB7-AF66-46D5-AF2D-BEC5AFF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DE8D-232E-4C14-A336-0F98EDAD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C6AC-4478-46D9-91A8-FCE1FBB1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6B5F-73B5-41DA-9A7A-B5022641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864A-6306-405A-99D8-AE5236BE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C7D-8ECC-42D7-BF40-786D03E9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FA3A-93DB-472A-A660-89628FE4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2C6D-8A62-4CBE-98FA-C73F342D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08ED-8F1B-490A-9CA1-FED3654D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799E-9420-4DCA-A128-857D025C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BCEF-11FA-47DD-A194-D6BB6F59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BBB-8AEF-4FE6-AD12-E38D61A6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342-C80C-4C82-BF39-56795113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9F4-B678-422A-AB69-A82CA7E0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219-3464-473A-9975-2DA965A2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F41-25BA-4642-93AD-E5FFB00C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AF8-364A-47C1-A979-976A38F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D68-A07A-496B-A56F-2E3351A7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FE2-E490-4630-BC7F-B21E6FD4BF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A924-9CB0-4C56-BB66-B6D7DEF3FBD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prezentacija.biz/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онсерватиз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политическое направл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5" descr="640px-Arthur_Balfour%2C_photo_portrait_facing_left"/>
          <p:cNvPicPr/>
          <p:nvPr/>
        </p:nvPicPr>
        <p:blipFill>
          <a:blip r:embed="rId1"/>
          <a:stretch/>
        </p:blipFill>
        <p:spPr>
          <a:xfrm>
            <a:off x="0" y="2666880"/>
            <a:ext cx="3533760" cy="4191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640px-Margaret_Thatcher_%28Retouched%29"/>
          <p:cNvPicPr/>
          <p:nvPr/>
        </p:nvPicPr>
        <p:blipFill>
          <a:blip r:embed="rId2"/>
          <a:stretch/>
        </p:blipFill>
        <p:spPr>
          <a:xfrm>
            <a:off x="3276720" y="2708280"/>
            <a:ext cx="3805200" cy="4149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hurchill_V_sign_HU_55521"/>
          <p:cNvPicPr/>
          <p:nvPr/>
        </p:nvPicPr>
        <p:blipFill>
          <a:blip r:embed="rId3"/>
          <a:stretch/>
        </p:blipFill>
        <p:spPr>
          <a:xfrm>
            <a:off x="5892840" y="2637000"/>
            <a:ext cx="3251160" cy="42210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8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http://prezentacija.biz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637236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нсерватиз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литическая идеология, выступающая за сохранение существующего общественного порядка, морально-правовых отношений, воплощенных в нации, религии, браке, семье, собственност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5" descr="200px-EdmundBurke1771"/>
          <p:cNvPicPr/>
          <p:nvPr/>
        </p:nvPicPr>
        <p:blipFill>
          <a:blip r:embed="rId3"/>
          <a:stretch/>
        </p:blipFill>
        <p:spPr>
          <a:xfrm>
            <a:off x="6140520" y="0"/>
            <a:ext cx="3003480" cy="3573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0" y="3692520"/>
            <a:ext cx="9144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  <a:ea typeface="Arial"/>
              </a:rPr>
              <a:t>Многочисленные социальные изменения, потрясшие порядок в связи с крушением феодализма, вызвали к жизни такое явление как консерватизм. Ведущими теоретиками консерватизма начала XIX века был Эдмунд Бёрк, который написал в 1790 году книгу «Размышления о французской революции».Она стала «Библией» консерватиз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1" name="Object 8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Line 11"/>
          <p:cNvSpPr/>
          <p:nvPr/>
        </p:nvSpPr>
        <p:spPr>
          <a:xfrm flipV="1">
            <a:off x="8893080" y="3860640"/>
            <a:ext cx="0" cy="1368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нципы консерватизм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317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осударство и правящая элита должны не только управлять обществом, но и воплощать мудрость нац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ава человека являются следствием его обязанностей, а общество – форма его защи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бщественный строй необходимо оберегать, держать его в стабильности и неизмен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звитие государства, учитывая результат проб и ошибок, накопленный и переданный из поколения в поколение опыт, воплощенный в социальных институтах и ценностях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щита устоев экономики — частной собственности, свободы личности, рыночного механизма, максимальное ограничение вмешательства государства в его функционировани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онсерватизм в Англии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серватизм развился  и укоренился в Англии в период Х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. Консерваторы поддерживали абсолютную монархию, развивая теорию божественного происхождения королевской власти. Они отвергали теорию, что независимость исходит от народа, власти парламента и свободы вероисповеда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мьер-министры от Консервативной партии возглавляли правительство в XX веке 57 лет. На сегодняшний день партия является третьей из британских партий в Европейском парламенте, лидером которой является Дэвид Кэмеро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11:39Z</dcterms:created>
  <dc:creator>и</dc:creator>
  <dc:description/>
  <dc:language>en-US</dc:language>
  <cp:lastModifiedBy>nebom zav</cp:lastModifiedBy>
  <dcterms:modified xsi:type="dcterms:W3CDTF">2015-02-05T13:23:00Z</dcterms:modified>
  <cp:revision>4</cp:revision>
  <dc:subject/>
  <dc:title>Консерватизм.</dc:title>
</cp:coreProperties>
</file>