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243-FB4E-450D-B02D-2BB10060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853-9F2C-46CF-8B9D-74BA5AE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E59-AA81-4054-A13E-F830F59D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984-0C2F-4C3F-AEAE-62EA8104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17C1-F035-4839-852A-361FC428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0129-4FBB-41CB-A52A-1C732C10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2B8F-C188-469D-95CC-E495F91E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C4A4-6B2F-4EBF-BEBC-68D0BF55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051A-554A-4899-99B8-621976FD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7928-3EE1-48B4-8089-152D61FA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C840-A7FC-4AC0-8A2F-647A2F1F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B5F-5226-4B08-8224-A9F5C9F4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78DB-0A3A-4154-AAD7-6745525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47E5-BA5D-46C9-B8CB-BB8A6D0D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84C6-05E2-4EA3-86E6-2C154CDF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1D31-801C-4EAE-93F7-7CA0D6C0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4275-611E-427C-A48B-BE788B44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931-E743-4C60-A4BC-71F4109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FD1-C7CF-4E94-847F-73C53AA7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21C-A5FE-4A31-9036-768D6F48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27F-51F8-4C8B-8867-7FC1846B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104-00C2-4EB3-ADBF-1FA5A7B5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B60-DC4E-4D52-A6B8-401F7D52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C9F-CAC0-4B57-A7CE-EA29A40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F156-05FC-454D-A75A-E374F047FF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574D-C9B4-4AF1-BBE8-62BBCE1380D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prezentacija.biz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онсерватиз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политическое направл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640px-Arthur_Balfour%2C_photo_portrait_facing_left"/>
          <p:cNvPicPr/>
          <p:nvPr/>
        </p:nvPicPr>
        <p:blipFill>
          <a:blip r:embed="rId1"/>
          <a:stretch/>
        </p:blipFill>
        <p:spPr>
          <a:xfrm>
            <a:off x="0" y="2666880"/>
            <a:ext cx="3533760" cy="4191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640px-Margaret_Thatcher_%28Retouched%29"/>
          <p:cNvPicPr/>
          <p:nvPr/>
        </p:nvPicPr>
        <p:blipFill>
          <a:blip r:embed="rId2"/>
          <a:stretch/>
        </p:blipFill>
        <p:spPr>
          <a:xfrm>
            <a:off x="3276720" y="2708280"/>
            <a:ext cx="3805200" cy="4149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hurchill_V_sign_HU_55521"/>
          <p:cNvPicPr/>
          <p:nvPr/>
        </p:nvPicPr>
        <p:blipFill>
          <a:blip r:embed="rId3"/>
          <a:stretch/>
        </p:blipFill>
        <p:spPr>
          <a:xfrm>
            <a:off x="5892840" y="2637000"/>
            <a:ext cx="3251160" cy="4221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8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prezentacija.biz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37236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нсерватиз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литическая идеология, выступающая за сохранение существующего общественного порядка, морально-правовых отношений, воплощенных в нации, религии, браке, семье, собственност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5" descr="200px-EdmundBurke1771"/>
          <p:cNvPicPr/>
          <p:nvPr/>
        </p:nvPicPr>
        <p:blipFill>
          <a:blip r:embed="rId3"/>
          <a:stretch/>
        </p:blipFill>
        <p:spPr>
          <a:xfrm>
            <a:off x="6140520" y="0"/>
            <a:ext cx="3003480" cy="3573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0" y="3692520"/>
            <a:ext cx="9144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Многочисленные социальные изменения, потрясшие порядок в связи с крушением феодализма, вызвали к жизни такое явление как консерватизм. Ведущими теоретиками консерватизма начала XIX века был Эдмунд Бёрк, который написал в 1790 году книгу «Размышления о французской революции».Она стала «Библией» консерватиз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Line 11"/>
          <p:cNvSpPr/>
          <p:nvPr/>
        </p:nvSpPr>
        <p:spPr>
          <a:xfrm flipV="1">
            <a:off x="8893080" y="3860640"/>
            <a:ext cx="0" cy="136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нципы консерватизм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317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осударство и правящая элита должны не только управлять обществом, но и воплощать мудрость н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ава человека являются следствием его обязанностей, а общество – форма его защи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щественный строй необходимо оберегать, держать его в стабильности и неизмен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витие государства, учитывая результат проб и ошибок, накопленный и переданный из поколения в поколение опыт, воплощенный в социальных институтах и ценностя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щита устоев экономики — частной собственности, свободы личности, рыночного механизма, максимальное ограничение вмешательства государства в его функционирова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онсерватизм в Англи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ерватизм развился  и укоренился в Англии в период Х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. Консерваторы поддерживали абсолютную монархию, развивая теорию божественного происхождения королевской власти. Они отвергали теорию, что независимость исходит от народа, власти парламента и свободы вероисповеда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мьер-министры от Консервативной партии возглавляли правительство в XX веке 57 лет. На сегодняшний день партия является третьей из британских партий в Европейском парламенте, лидером которой является Дэвид Кэмеро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11:39Z</dcterms:created>
  <dc:creator>и</dc:creator>
  <dc:description/>
  <dc:language>en-US</dc:language>
  <cp:lastModifiedBy>nebom zav</cp:lastModifiedBy>
  <dcterms:modified xsi:type="dcterms:W3CDTF">2015-02-05T13:23:00Z</dcterms:modified>
  <cp:revision>4</cp:revision>
  <dc:subject/>
  <dc:title>Консерватизм.</dc:title>
</cp:coreProperties>
</file>