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2CA-0786-462B-AFF1-6E3D3779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1C1-B172-4431-BE3F-54D3E83A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FB2-C1B6-4A1D-BB07-4209F267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5F0-1AFF-4DCB-85EE-648C3C60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A55B-7BE0-4E87-AD78-7ECD983B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950C-437E-4EEF-B80C-1C5B9C4F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50C4-92AE-415C-9659-31A12492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85E3-0E7D-4EB9-9049-2722E1C1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AF66-B2E6-4EB6-80FF-CF0CB206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C9FF-29DD-4B12-9370-A4AC1B67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0F03-C464-4BE0-9A28-9302D30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B8E-ED89-49BF-9C26-89C1585F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8ABF-6FA7-4496-90D6-101C393B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345E-D175-4858-BE1B-D5D8BAF8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419A-A1AF-4BB1-A232-99E1F71E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FE5D-FD3F-42F1-9BFC-98A81305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E7EE-E47C-4056-886F-C312E63A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FC4-5427-43E5-AA78-6C527DE9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683-4A9D-4FBE-83BC-ACB4BA2A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FF7-DA68-4E77-ADEA-E195BDF9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486-13A2-4E75-8CA2-77A2711D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BA9-38DF-442D-A7D6-F7DFF47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1A1-D58A-41EB-A35E-BE98926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D39-7F4A-4B2D-ACD5-DED557E4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E6BB-6C42-4F0B-A25E-008A08AD74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CFE8-CA7E-4A91-84BA-2F46B5A15F7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prezentacija.biz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онсерватиз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политическое направл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640px-Arthur_Balfour%2C_photo_portrait_facing_left"/>
          <p:cNvPicPr/>
          <p:nvPr/>
        </p:nvPicPr>
        <p:blipFill>
          <a:blip r:embed="rId1"/>
          <a:stretch/>
        </p:blipFill>
        <p:spPr>
          <a:xfrm>
            <a:off x="0" y="2666880"/>
            <a:ext cx="3533760" cy="4191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640px-Margaret_Thatcher_%28Retouched%29"/>
          <p:cNvPicPr/>
          <p:nvPr/>
        </p:nvPicPr>
        <p:blipFill>
          <a:blip r:embed="rId2"/>
          <a:stretch/>
        </p:blipFill>
        <p:spPr>
          <a:xfrm>
            <a:off x="3276720" y="2708280"/>
            <a:ext cx="3805200" cy="4149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hurchill_V_sign_HU_55521"/>
          <p:cNvPicPr/>
          <p:nvPr/>
        </p:nvPicPr>
        <p:blipFill>
          <a:blip r:embed="rId3"/>
          <a:stretch/>
        </p:blipFill>
        <p:spPr>
          <a:xfrm>
            <a:off x="5892840" y="2637000"/>
            <a:ext cx="3251160" cy="4221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8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prezentacija.biz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37236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нсерватиз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литическая идеология, выступающая за сохранение существующего общественного порядка, морально-правовых отношений, воплощенных в нации, религии, браке, семье, собственност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5" descr="200px-EdmundBurke1771"/>
          <p:cNvPicPr/>
          <p:nvPr/>
        </p:nvPicPr>
        <p:blipFill>
          <a:blip r:embed="rId3"/>
          <a:stretch/>
        </p:blipFill>
        <p:spPr>
          <a:xfrm>
            <a:off x="6140520" y="0"/>
            <a:ext cx="3003480" cy="3573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0" y="3692520"/>
            <a:ext cx="9144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Многочисленные социальные изменения, потрясшие порядок в связи с крушением феодализма, вызвали к жизни такое явление как консерватизм. Ведущими теоретиками консерватизма начала XIX века был Эдмунд Бёрк, который написал в 1790 году книгу «Размышления о французской революции».Она стала «Библией» консерватиз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Line 11"/>
          <p:cNvSpPr/>
          <p:nvPr/>
        </p:nvSpPr>
        <p:spPr>
          <a:xfrm flipV="1">
            <a:off x="8893080" y="3860640"/>
            <a:ext cx="0" cy="136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нципы консерватизм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317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осударство и правящая элита должны не только управлять обществом, но и воплощать мудрость н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ава человека являются следствием его обязанностей, а общество – форма его защи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щественный строй необходимо оберегать, держать его в стабильности и неизмен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витие государства, учитывая результат проб и ошибок, накопленный и переданный из поколения в поколение опыт, воплощенный в социальных институтах и ценностя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щита устоев экономики — частной собственности, свободы личности, рыночного механизма, максимальное ограничение вмешательства государства в его функционирова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онсерватизм в Англи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ерватизм развился  и укоренился в Англии в период Х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. Консерваторы поддерживали абсолютную монархию, развивая теорию божественного происхождения королевской власти. Они отвергали теорию, что независимость исходит от народа, власти парламента и свободы вероисповеда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мьер-министры от Консервативной партии возглавляли правительство в XX веке 57 лет. На сегодняшний день партия является третьей из британских партий в Европейском парламенте, лидером которой является Дэвид Кэмеро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11:39Z</dcterms:created>
  <dc:creator>и</dc:creator>
  <dc:description/>
  <dc:language>en-US</dc:language>
  <cp:lastModifiedBy>nebom zav</cp:lastModifiedBy>
  <dcterms:modified xsi:type="dcterms:W3CDTF">2015-02-05T13:23:00Z</dcterms:modified>
  <cp:revision>4</cp:revision>
  <dc:subject/>
  <dc:title>Консерватизм.</dc:title>
</cp:coreProperties>
</file>