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53F-7FD2-4090-83EA-82F4B1E3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340-FD69-4ADB-B549-32572119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C5B-CA0F-4C1A-883D-7A71FDF1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AE2-D548-48AF-8A62-70A6260B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849D-D759-48CB-9727-D64210C6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9D66-F76E-408C-90CA-680D374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0B60-AEE1-4E09-BF40-B94E8CBC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832A-1F20-4353-B739-8928078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B05F-6066-4556-88CC-B47A7AFD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0C2-76BF-4442-9148-6FCE8A83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E7DC-3A99-4DBC-AFA1-428D5663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EB2-78AE-417E-AEB4-51D97ABF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498-A75C-4319-9936-96F031DA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03E-FA94-4460-A19D-76685BC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0398-2EEB-4186-B6B2-7C2F224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721-03F4-4284-9262-DB0AA8F2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47F-F947-4E59-B6DA-EC2C14AA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DDE-85FF-42F2-A1FF-53873A9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CFE-1F13-42A0-B459-B3E96BBE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175-E8B0-40AA-9EA9-2ABB786B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955-EA8D-4988-89B8-6DF5B29D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DEE-2DAD-4121-B6D8-793E43C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79B-ED59-4131-A3F7-804E900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2AB-A3F5-4DBF-8BD2-8147DD5C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BC29-D019-4C75-965C-5D5FBAF7867A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3028-2F9E-499B-A7FE-63CFB259522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9F8C-444D-4251-B3ED-563D364295D6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7EE6-F91A-4BFE-8101-10B8937F40E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rezentacija.biz/#ym_playback=linkmap&amp;ym_cid=26448765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15040" y="5062680"/>
            <a:ext cx="265608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полнили: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уденты группы М-09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еленко Дмитрий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аскевич Татьян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615960" y="1657440"/>
            <a:ext cx="8259840" cy="2633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3706920" y="6458040"/>
            <a:ext cx="18237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Изображение 1" descr="Фазы конфликта 2.jpeg"/>
          <p:cNvPicPr/>
          <p:nvPr/>
        </p:nvPicPr>
        <p:blipFill>
          <a:blip r:embed="rId1"/>
          <a:stretch/>
        </p:blipFill>
        <p:spPr>
          <a:xfrm>
            <a:off x="309600" y="817560"/>
            <a:ext cx="8642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Изображение 3" descr="кризис.jpeg"/>
          <p:cNvPicPr/>
          <p:nvPr/>
        </p:nvPicPr>
        <p:blipFill>
          <a:blip r:embed="rId1"/>
          <a:stretch/>
        </p:blipFill>
        <p:spPr>
          <a:xfrm>
            <a:off x="150840" y="1027080"/>
            <a:ext cx="867888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Изображение 4" descr="ук.jpeg"/>
          <p:cNvPicPr/>
          <p:nvPr/>
        </p:nvPicPr>
        <p:blipFill>
          <a:blip r:embed="rId2"/>
          <a:stretch/>
        </p:blipFill>
        <p:spPr>
          <a:xfrm>
            <a:off x="150840" y="3635280"/>
            <a:ext cx="886140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Изображение 1" descr="Причины конфликтов 2.jpeg"/>
          <p:cNvPicPr/>
          <p:nvPr/>
        </p:nvPicPr>
        <p:blipFill>
          <a:blip r:embed="rId1"/>
          <a:stretch/>
        </p:blipFill>
        <p:spPr>
          <a:xfrm>
            <a:off x="227160" y="1028880"/>
            <a:ext cx="86947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Изображение 3" descr="Управление конфликтами.jpeg"/>
          <p:cNvPicPr/>
          <p:nvPr/>
        </p:nvPicPr>
        <p:blipFill>
          <a:blip r:embed="rId1"/>
          <a:stretch/>
        </p:blipFill>
        <p:spPr>
          <a:xfrm>
            <a:off x="76320" y="1042920"/>
            <a:ext cx="90676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Изображение 3" descr="Структурные методы.jpeg"/>
          <p:cNvPicPr/>
          <p:nvPr/>
        </p:nvPicPr>
        <p:blipFill>
          <a:blip r:embed="rId1"/>
          <a:stretch/>
        </p:blipFill>
        <p:spPr>
          <a:xfrm>
            <a:off x="120600" y="1270080"/>
            <a:ext cx="88153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Изображение 3" descr="разъяснение требований.jpeg"/>
          <p:cNvPicPr/>
          <p:nvPr/>
        </p:nvPicPr>
        <p:blipFill>
          <a:blip r:embed="rId1"/>
          <a:stretch/>
        </p:blipFill>
        <p:spPr>
          <a:xfrm>
            <a:off x="227160" y="447840"/>
            <a:ext cx="8557920" cy="2395440"/>
          </a:xfrm>
          <a:prstGeom prst="rect">
            <a:avLst/>
          </a:prstGeom>
          <a:ln w="0">
            <a:noFill/>
          </a:ln>
        </p:spPr>
      </p:pic>
      <p:pic>
        <p:nvPicPr>
          <p:cNvPr id="107" name="Изображение 4" descr="Координационные и интеграционные механизмы.jpeg"/>
          <p:cNvPicPr/>
          <p:nvPr/>
        </p:nvPicPr>
        <p:blipFill>
          <a:blip r:embed="rId2"/>
          <a:stretch/>
        </p:blipFill>
        <p:spPr>
          <a:xfrm>
            <a:off x="227160" y="3483000"/>
            <a:ext cx="8557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Изображение 3" descr="общеорг цели.jpeg"/>
          <p:cNvPicPr/>
          <p:nvPr/>
        </p:nvPicPr>
        <p:blipFill>
          <a:blip r:embed="rId1"/>
          <a:stretch/>
        </p:blipFill>
        <p:spPr>
          <a:xfrm>
            <a:off x="325440" y="619200"/>
            <a:ext cx="8339040" cy="2208240"/>
          </a:xfrm>
          <a:prstGeom prst="rect">
            <a:avLst/>
          </a:prstGeom>
          <a:ln w="0">
            <a:noFill/>
          </a:ln>
        </p:spPr>
      </p:pic>
      <p:pic>
        <p:nvPicPr>
          <p:cNvPr id="109" name="Изображение 4" descr="Структура системы вознаграждения .jpeg"/>
          <p:cNvPicPr/>
          <p:nvPr/>
        </p:nvPicPr>
        <p:blipFill>
          <a:blip r:embed="rId2"/>
          <a:stretch/>
        </p:blipFill>
        <p:spPr>
          <a:xfrm>
            <a:off x="325440" y="3701880"/>
            <a:ext cx="83390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Изображение 3" descr="Межличностные стратегии.jpeg"/>
          <p:cNvPicPr/>
          <p:nvPr/>
        </p:nvPicPr>
        <p:blipFill>
          <a:blip r:embed="rId1"/>
          <a:stretch/>
        </p:blipFill>
        <p:spPr>
          <a:xfrm>
            <a:off x="195120" y="1282680"/>
            <a:ext cx="87566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Изображение 3" descr="Уклонение .jpeg"/>
          <p:cNvPicPr/>
          <p:nvPr/>
        </p:nvPicPr>
        <p:blipFill>
          <a:blip r:embed="rId1"/>
          <a:stretch/>
        </p:blipFill>
        <p:spPr>
          <a:xfrm>
            <a:off x="574560" y="966960"/>
            <a:ext cx="8013960" cy="2066760"/>
          </a:xfrm>
          <a:prstGeom prst="rect">
            <a:avLst/>
          </a:prstGeom>
          <a:ln w="0">
            <a:noFill/>
          </a:ln>
        </p:spPr>
      </p:pic>
      <p:pic>
        <p:nvPicPr>
          <p:cNvPr id="112" name="Изображение 4" descr="Сглаживание..jpeg"/>
          <p:cNvPicPr/>
          <p:nvPr/>
        </p:nvPicPr>
        <p:blipFill>
          <a:blip r:embed="rId2"/>
          <a:stretch/>
        </p:blipFill>
        <p:spPr>
          <a:xfrm>
            <a:off x="638280" y="3672000"/>
            <a:ext cx="79502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Изображение 3" descr="Принуждение .jpeg"/>
          <p:cNvPicPr/>
          <p:nvPr/>
        </p:nvPicPr>
        <p:blipFill>
          <a:blip r:embed="rId1"/>
          <a:stretch/>
        </p:blipFill>
        <p:spPr>
          <a:xfrm>
            <a:off x="393840" y="237960"/>
            <a:ext cx="8481960" cy="3421080"/>
          </a:xfrm>
          <a:prstGeom prst="rect">
            <a:avLst/>
          </a:prstGeom>
          <a:ln w="0">
            <a:noFill/>
          </a:ln>
        </p:spPr>
      </p:pic>
      <p:pic>
        <p:nvPicPr>
          <p:cNvPr id="114" name="Изображение 4" descr="Решение проблемы .jpeg"/>
          <p:cNvPicPr/>
          <p:nvPr/>
        </p:nvPicPr>
        <p:blipFill>
          <a:blip r:embed="rId2"/>
          <a:stretch/>
        </p:blipFill>
        <p:spPr>
          <a:xfrm>
            <a:off x="393840" y="3691080"/>
            <a:ext cx="84819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3" descr="Цель.jpeg"/>
          <p:cNvPicPr/>
          <p:nvPr/>
        </p:nvPicPr>
        <p:blipFill>
          <a:blip r:embed="rId1"/>
          <a:stretch/>
        </p:blipFill>
        <p:spPr>
          <a:xfrm>
            <a:off x="333360" y="952560"/>
            <a:ext cx="84819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Изображение 3" descr="Тактики воздействия на оппонента в конфликте.jpe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Изображение 3" descr="Третья сторона в разрешении конфликта.jpeg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Изображение 3" descr="Алгоритм арбитража.jpeg"/>
          <p:cNvPicPr/>
          <p:nvPr/>
        </p:nvPicPr>
        <p:blipFill>
          <a:blip r:embed="rId1"/>
          <a:stretch/>
        </p:blipFill>
        <p:spPr>
          <a:xfrm>
            <a:off x="271440" y="301680"/>
            <a:ext cx="8618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Изображение 3" descr="Медиаторство .jpeg"/>
          <p:cNvPicPr/>
          <p:nvPr/>
        </p:nvPicPr>
        <p:blipFill>
          <a:blip r:embed="rId1"/>
          <a:stretch/>
        </p:blipFill>
        <p:spPr>
          <a:xfrm>
            <a:off x="196920" y="725400"/>
            <a:ext cx="88009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Изображение 3" descr="Заповеди поведения в конфликте.jpeg"/>
          <p:cNvPicPr/>
          <p:nvPr/>
        </p:nvPicPr>
        <p:blipFill>
          <a:blip r:embed="rId1"/>
          <a:stretch/>
        </p:blipFill>
        <p:spPr>
          <a:xfrm>
            <a:off x="287280" y="1420920"/>
            <a:ext cx="85582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3" descr=""/>
          <p:cNvPicPr/>
          <p:nvPr/>
        </p:nvPicPr>
        <p:blipFill>
          <a:blip r:embed="rId1"/>
          <a:stretch/>
        </p:blipFill>
        <p:spPr>
          <a:xfrm>
            <a:off x="1609560" y="1951200"/>
            <a:ext cx="532152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хема 2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478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Изображение 3" descr="конфликт 2 (2).jpeg"/>
          <p:cNvPicPr/>
          <p:nvPr/>
        </p:nvPicPr>
        <p:blipFill>
          <a:blip r:embed="rId1"/>
          <a:stretch/>
        </p:blipFill>
        <p:spPr>
          <a:xfrm>
            <a:off x="189000" y="271440"/>
            <a:ext cx="87771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Изображение 3" descr="Типы конфликтов.jpeg"/>
          <p:cNvPicPr/>
          <p:nvPr/>
        </p:nvPicPr>
        <p:blipFill>
          <a:blip r:embed="rId1"/>
          <a:stretch/>
        </p:blipFill>
        <p:spPr>
          <a:xfrm>
            <a:off x="544680" y="1390680"/>
            <a:ext cx="790416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Изображение 3" descr="Причины внутриличностного конфликта.jpeg"/>
          <p:cNvPicPr/>
          <p:nvPr/>
        </p:nvPicPr>
        <p:blipFill>
          <a:blip r:embed="rId1"/>
          <a:stretch/>
        </p:blipFill>
        <p:spPr>
          <a:xfrm>
            <a:off x="378000" y="876240"/>
            <a:ext cx="83772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Изображение 4" descr="Причины межличностного конфликта.jpeg"/>
          <p:cNvPicPr/>
          <p:nvPr/>
        </p:nvPicPr>
        <p:blipFill>
          <a:blip r:embed="rId1"/>
          <a:stretch/>
        </p:blipFill>
        <p:spPr>
          <a:xfrm>
            <a:off x="241200" y="1149480"/>
            <a:ext cx="85582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Изображение 3" descr="Причины конфликта между личностью и группой (2).jpeg"/>
          <p:cNvPicPr/>
          <p:nvPr/>
        </p:nvPicPr>
        <p:blipFill>
          <a:blip r:embed="rId1"/>
          <a:stretch/>
        </p:blipFill>
        <p:spPr>
          <a:xfrm>
            <a:off x="514440" y="1042920"/>
            <a:ext cx="82249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Изображение 3" descr="Межгрупповые конфликты.jpeg"/>
          <p:cNvPicPr/>
          <p:nvPr/>
        </p:nvPicPr>
        <p:blipFill>
          <a:blip r:embed="rId1"/>
          <a:stretch/>
        </p:blipFill>
        <p:spPr>
          <a:xfrm>
            <a:off x="407880" y="1058760"/>
            <a:ext cx="8407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22:25:49Z</dcterms:created>
  <dc:creator>Laskevich Tatiana</dc:creator>
  <dc:description/>
  <dc:language>en-US</dc:language>
  <cp:lastModifiedBy>nebom zav</cp:lastModifiedBy>
  <dcterms:modified xsi:type="dcterms:W3CDTF">2015-04-16T09:59:00Z</dcterms:modified>
  <cp:revision>9</cp:revision>
  <dc:subject/>
  <dc:title>Презентация PowerPoint</dc:title>
</cp:coreProperties>
</file>