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77B-1A52-45C4-8E8B-C1457336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FC8-4370-4A24-ACA6-A27ACD5C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65F-DD2B-4D57-BA37-DAAF9DF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D14-7AC4-4D8A-965A-7F2B379A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3AAD-EE80-475A-B554-75B6845F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7215-451C-4918-8324-7334E2F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C436-C7BF-4043-AAAD-FB6C08FB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052-31C6-4E89-827C-A600B0C6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D255-11A5-4ADE-BBE1-952CFC0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31D-56F0-4BC3-9540-74E67865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5198-60A9-4F21-BB36-352CE94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EB8-A0A8-40D6-95DF-BA3A5113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718D-8237-47AA-8B2B-CD5ED75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844-38CB-4F27-A4FB-4B0D1F90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3FEA-F701-4031-9405-9A1D01F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8295-18E6-4ACC-AC3A-4644900A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0BE1-C516-4D8C-AA52-5E50E39E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611-94E1-4155-823F-673F00AD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F5F-6883-4922-B69E-EE2E348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6C2-3BBD-4F58-B08B-9FA7160F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E4F-17A7-4F48-8779-E3D2956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A58-2476-46D3-BA6A-F2DD363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19E-6835-4DBA-B25B-CFCB85D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B1B-5C4A-4F77-B811-6E17EFF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928-73C4-40D6-B52E-189FA0569EE3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8D9-C577-47AD-9DC7-9EE4EEBFF7D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D98-2613-4E54-AEA5-7CC2A88286BB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662-427D-4DAB-966B-1D52D812A33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ja.biz/#ym_playback=linkmap&amp;ym_cid=26448765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15040" y="5062680"/>
            <a:ext cx="26560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олнили: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уденты группы М-09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еленко Дмитрий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аскевич Татьян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615960" y="1657440"/>
            <a:ext cx="8259840" cy="2633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3706920" y="6458040"/>
            <a:ext cx="18237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Изображение 1" descr="Фазы конфликта 2.jpeg"/>
          <p:cNvPicPr/>
          <p:nvPr/>
        </p:nvPicPr>
        <p:blipFill>
          <a:blip r:embed="rId1"/>
          <a:stretch/>
        </p:blipFill>
        <p:spPr>
          <a:xfrm>
            <a:off x="309600" y="817560"/>
            <a:ext cx="8642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Изображение 3" descr="кризис.jpeg"/>
          <p:cNvPicPr/>
          <p:nvPr/>
        </p:nvPicPr>
        <p:blipFill>
          <a:blip r:embed="rId1"/>
          <a:stretch/>
        </p:blipFill>
        <p:spPr>
          <a:xfrm>
            <a:off x="150840" y="1027080"/>
            <a:ext cx="8678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Изображение 4" descr="ук.jpeg"/>
          <p:cNvPicPr/>
          <p:nvPr/>
        </p:nvPicPr>
        <p:blipFill>
          <a:blip r:embed="rId2"/>
          <a:stretch/>
        </p:blipFill>
        <p:spPr>
          <a:xfrm>
            <a:off x="150840" y="3635280"/>
            <a:ext cx="88614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Изображение 1" descr="Причины конфликтов 2.jpeg"/>
          <p:cNvPicPr/>
          <p:nvPr/>
        </p:nvPicPr>
        <p:blipFill>
          <a:blip r:embed="rId1"/>
          <a:stretch/>
        </p:blipFill>
        <p:spPr>
          <a:xfrm>
            <a:off x="227160" y="1028880"/>
            <a:ext cx="869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Изображение 3" descr="Управление конфликтами.jpeg"/>
          <p:cNvPicPr/>
          <p:nvPr/>
        </p:nvPicPr>
        <p:blipFill>
          <a:blip r:embed="rId1"/>
          <a:stretch/>
        </p:blipFill>
        <p:spPr>
          <a:xfrm>
            <a:off x="76320" y="1042920"/>
            <a:ext cx="90676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Изображение 3" descr="Структурные методы.jpeg"/>
          <p:cNvPicPr/>
          <p:nvPr/>
        </p:nvPicPr>
        <p:blipFill>
          <a:blip r:embed="rId1"/>
          <a:stretch/>
        </p:blipFill>
        <p:spPr>
          <a:xfrm>
            <a:off x="120600" y="1270080"/>
            <a:ext cx="88153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Изображение 3" descr="разъяснение требований.jpeg"/>
          <p:cNvPicPr/>
          <p:nvPr/>
        </p:nvPicPr>
        <p:blipFill>
          <a:blip r:embed="rId1"/>
          <a:stretch/>
        </p:blipFill>
        <p:spPr>
          <a:xfrm>
            <a:off x="227160" y="447840"/>
            <a:ext cx="8557920" cy="2395440"/>
          </a:xfrm>
          <a:prstGeom prst="rect">
            <a:avLst/>
          </a:prstGeom>
          <a:ln w="0">
            <a:noFill/>
          </a:ln>
        </p:spPr>
      </p:pic>
      <p:pic>
        <p:nvPicPr>
          <p:cNvPr id="107" name="Изображение 4" descr="Координационные и интеграционные механизмы.jpeg"/>
          <p:cNvPicPr/>
          <p:nvPr/>
        </p:nvPicPr>
        <p:blipFill>
          <a:blip r:embed="rId2"/>
          <a:stretch/>
        </p:blipFill>
        <p:spPr>
          <a:xfrm>
            <a:off x="227160" y="3483000"/>
            <a:ext cx="8557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Изображение 3" descr="общеорг цели.jpeg"/>
          <p:cNvPicPr/>
          <p:nvPr/>
        </p:nvPicPr>
        <p:blipFill>
          <a:blip r:embed="rId1"/>
          <a:stretch/>
        </p:blipFill>
        <p:spPr>
          <a:xfrm>
            <a:off x="325440" y="619200"/>
            <a:ext cx="8339040" cy="220824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4" descr="Структура системы вознаграждения .jpeg"/>
          <p:cNvPicPr/>
          <p:nvPr/>
        </p:nvPicPr>
        <p:blipFill>
          <a:blip r:embed="rId2"/>
          <a:stretch/>
        </p:blipFill>
        <p:spPr>
          <a:xfrm>
            <a:off x="325440" y="3701880"/>
            <a:ext cx="83390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Изображение 3" descr="Межличностные стратегии.jpeg"/>
          <p:cNvPicPr/>
          <p:nvPr/>
        </p:nvPicPr>
        <p:blipFill>
          <a:blip r:embed="rId1"/>
          <a:stretch/>
        </p:blipFill>
        <p:spPr>
          <a:xfrm>
            <a:off x="195120" y="1282680"/>
            <a:ext cx="87566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Изображение 3" descr="Уклонение .jpeg"/>
          <p:cNvPicPr/>
          <p:nvPr/>
        </p:nvPicPr>
        <p:blipFill>
          <a:blip r:embed="rId1"/>
          <a:stretch/>
        </p:blipFill>
        <p:spPr>
          <a:xfrm>
            <a:off x="574560" y="966960"/>
            <a:ext cx="8013960" cy="206676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 4" descr="Сглаживание..jpeg"/>
          <p:cNvPicPr/>
          <p:nvPr/>
        </p:nvPicPr>
        <p:blipFill>
          <a:blip r:embed="rId2"/>
          <a:stretch/>
        </p:blipFill>
        <p:spPr>
          <a:xfrm>
            <a:off x="638280" y="3672000"/>
            <a:ext cx="79502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Изображение 3" descr="Принуждение .jpeg"/>
          <p:cNvPicPr/>
          <p:nvPr/>
        </p:nvPicPr>
        <p:blipFill>
          <a:blip r:embed="rId1"/>
          <a:stretch/>
        </p:blipFill>
        <p:spPr>
          <a:xfrm>
            <a:off x="393840" y="237960"/>
            <a:ext cx="8481960" cy="34210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Решение проблемы .jpeg"/>
          <p:cNvPicPr/>
          <p:nvPr/>
        </p:nvPicPr>
        <p:blipFill>
          <a:blip r:embed="rId2"/>
          <a:stretch/>
        </p:blipFill>
        <p:spPr>
          <a:xfrm>
            <a:off x="393840" y="3691080"/>
            <a:ext cx="84819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3" descr="Цель.jpeg"/>
          <p:cNvPicPr/>
          <p:nvPr/>
        </p:nvPicPr>
        <p:blipFill>
          <a:blip r:embed="rId1"/>
          <a:stretch/>
        </p:blipFill>
        <p:spPr>
          <a:xfrm>
            <a:off x="333360" y="952560"/>
            <a:ext cx="84819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Изображение 3" descr="Тактики воздействия на оппонента в конфликте.jpe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Изображение 3" descr="Третья сторона в разрешении конфликта.jpeg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Изображение 3" descr="Алгоритм арбитража.jpeg"/>
          <p:cNvPicPr/>
          <p:nvPr/>
        </p:nvPicPr>
        <p:blipFill>
          <a:blip r:embed="rId1"/>
          <a:stretch/>
        </p:blipFill>
        <p:spPr>
          <a:xfrm>
            <a:off x="271440" y="301680"/>
            <a:ext cx="8618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Изображение 3" descr="Медиаторство .jpeg"/>
          <p:cNvPicPr/>
          <p:nvPr/>
        </p:nvPicPr>
        <p:blipFill>
          <a:blip r:embed="rId1"/>
          <a:stretch/>
        </p:blipFill>
        <p:spPr>
          <a:xfrm>
            <a:off x="196920" y="725400"/>
            <a:ext cx="8800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Изображение 3" descr="Заповеди поведения в конфликте.jpeg"/>
          <p:cNvPicPr/>
          <p:nvPr/>
        </p:nvPicPr>
        <p:blipFill>
          <a:blip r:embed="rId1"/>
          <a:stretch/>
        </p:blipFill>
        <p:spPr>
          <a:xfrm>
            <a:off x="287280" y="1420920"/>
            <a:ext cx="85582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3" descr=""/>
          <p:cNvPicPr/>
          <p:nvPr/>
        </p:nvPicPr>
        <p:blipFill>
          <a:blip r:embed="rId1"/>
          <a:stretch/>
        </p:blipFill>
        <p:spPr>
          <a:xfrm>
            <a:off x="1609560" y="1951200"/>
            <a:ext cx="532152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478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Изображение 3" descr="конфликт 2 (2).jpeg"/>
          <p:cNvPicPr/>
          <p:nvPr/>
        </p:nvPicPr>
        <p:blipFill>
          <a:blip r:embed="rId1"/>
          <a:stretch/>
        </p:blipFill>
        <p:spPr>
          <a:xfrm>
            <a:off x="189000" y="271440"/>
            <a:ext cx="8777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Изображение 3" descr="Типы конфликтов.jpeg"/>
          <p:cNvPicPr/>
          <p:nvPr/>
        </p:nvPicPr>
        <p:blipFill>
          <a:blip r:embed="rId1"/>
          <a:stretch/>
        </p:blipFill>
        <p:spPr>
          <a:xfrm>
            <a:off x="544680" y="1390680"/>
            <a:ext cx="79041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Изображение 3" descr="Причины внутриличностного конфликта.jpeg"/>
          <p:cNvPicPr/>
          <p:nvPr/>
        </p:nvPicPr>
        <p:blipFill>
          <a:blip r:embed="rId1"/>
          <a:stretch/>
        </p:blipFill>
        <p:spPr>
          <a:xfrm>
            <a:off x="378000" y="876240"/>
            <a:ext cx="83772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Изображение 4" descr="Причины межличностного конфликта.jpeg"/>
          <p:cNvPicPr/>
          <p:nvPr/>
        </p:nvPicPr>
        <p:blipFill>
          <a:blip r:embed="rId1"/>
          <a:stretch/>
        </p:blipFill>
        <p:spPr>
          <a:xfrm>
            <a:off x="241200" y="1149480"/>
            <a:ext cx="8558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Изображение 3" descr="Причины конфликта между личностью и группой (2).jpeg"/>
          <p:cNvPicPr/>
          <p:nvPr/>
        </p:nvPicPr>
        <p:blipFill>
          <a:blip r:embed="rId1"/>
          <a:stretch/>
        </p:blipFill>
        <p:spPr>
          <a:xfrm>
            <a:off x="514440" y="1042920"/>
            <a:ext cx="8224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Изображение 3" descr="Межгрупповые конфликты.jpeg"/>
          <p:cNvPicPr/>
          <p:nvPr/>
        </p:nvPicPr>
        <p:blipFill>
          <a:blip r:embed="rId1"/>
          <a:stretch/>
        </p:blipFill>
        <p:spPr>
          <a:xfrm>
            <a:off x="407880" y="1058760"/>
            <a:ext cx="8407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22:25:49Z</dcterms:created>
  <dc:creator>Laskevich Tatiana</dc:creator>
  <dc:description/>
  <dc:language>en-US</dc:language>
  <cp:lastModifiedBy>nebom zav</cp:lastModifiedBy>
  <dcterms:modified xsi:type="dcterms:W3CDTF">2015-04-16T09:59:00Z</dcterms:modified>
  <cp:revision>9</cp:revision>
  <dc:subject/>
  <dc:title>Презентация PowerPoint</dc:title>
</cp:coreProperties>
</file>