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D62-6353-4F86-B2E9-52191EA0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1C7-A656-43D1-9A8B-E6637CB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494-55C2-4159-B1C7-2BAD42A6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FF2-68EB-462D-91A7-98FD3B90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C334-7DAC-46AA-9C82-4FC731A1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639-A935-4AD3-93FC-A401E3D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B625-CF26-4CBE-A870-CC2B9E0C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EBC2-9FF3-40C1-B665-B31C87E3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E9AB-66F7-4826-91FB-BAC91189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421E-7013-4366-8651-552968DF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5AF1-494F-4B40-B5F7-23D3659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81E-4787-4BDC-AC7F-CD614A6A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2CCB-1CCB-4A2E-8573-7C32869C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BB5A-17B5-4335-AF48-6D0C5B91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A26F-9D09-4331-8AC4-5F85731C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668B-DA24-4B1B-A8FA-71489B1E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FE1-1921-4D9D-B7E0-143BF93E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168-8FF8-4830-B9E2-2167589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5D8-ACEC-4D81-B863-336B7C5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0B5-9D5E-49EB-8B37-6E0AFD0F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6D7-B4A3-4E40-BF1E-CAB132E2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AA0-749C-44D0-B1C1-C4BAB9A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D06-5BCD-41FB-A8E3-7A184EB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776-5764-4C50-8F47-8D24AF1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A474-06E8-4897-8211-7EFF2F4CF986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1FFB-1C73-4EEE-A1E5-DF1F54058F8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8C26-6BB0-43D4-95FA-9F9F94F8EDE6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287A-6631-4B60-AC47-C474DD25621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rezentacija.biz/#ym_playback=linkmap&amp;ym_cid=26448765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15040" y="5062680"/>
            <a:ext cx="265608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полнили: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уденты группы М-09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еленко Дмитрий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аскевич Татьян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615960" y="1657440"/>
            <a:ext cx="8259840" cy="2633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3706920" y="6458040"/>
            <a:ext cx="18237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Изображение 1" descr="Фазы конфликта 2.jpeg"/>
          <p:cNvPicPr/>
          <p:nvPr/>
        </p:nvPicPr>
        <p:blipFill>
          <a:blip r:embed="rId1"/>
          <a:stretch/>
        </p:blipFill>
        <p:spPr>
          <a:xfrm>
            <a:off x="309600" y="817560"/>
            <a:ext cx="86421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Изображение 3" descr="кризис.jpeg"/>
          <p:cNvPicPr/>
          <p:nvPr/>
        </p:nvPicPr>
        <p:blipFill>
          <a:blip r:embed="rId1"/>
          <a:stretch/>
        </p:blipFill>
        <p:spPr>
          <a:xfrm>
            <a:off x="150840" y="1027080"/>
            <a:ext cx="867888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Изображение 4" descr="ук.jpeg"/>
          <p:cNvPicPr/>
          <p:nvPr/>
        </p:nvPicPr>
        <p:blipFill>
          <a:blip r:embed="rId2"/>
          <a:stretch/>
        </p:blipFill>
        <p:spPr>
          <a:xfrm>
            <a:off x="150840" y="3635280"/>
            <a:ext cx="886140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Изображение 1" descr="Причины конфликтов 2.jpeg"/>
          <p:cNvPicPr/>
          <p:nvPr/>
        </p:nvPicPr>
        <p:blipFill>
          <a:blip r:embed="rId1"/>
          <a:stretch/>
        </p:blipFill>
        <p:spPr>
          <a:xfrm>
            <a:off x="227160" y="1028880"/>
            <a:ext cx="869472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Изображение 3" descr="Управление конфликтами.jpeg"/>
          <p:cNvPicPr/>
          <p:nvPr/>
        </p:nvPicPr>
        <p:blipFill>
          <a:blip r:embed="rId1"/>
          <a:stretch/>
        </p:blipFill>
        <p:spPr>
          <a:xfrm>
            <a:off x="76320" y="1042920"/>
            <a:ext cx="90676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Изображение 3" descr="Структурные методы.jpeg"/>
          <p:cNvPicPr/>
          <p:nvPr/>
        </p:nvPicPr>
        <p:blipFill>
          <a:blip r:embed="rId1"/>
          <a:stretch/>
        </p:blipFill>
        <p:spPr>
          <a:xfrm>
            <a:off x="120600" y="1270080"/>
            <a:ext cx="88153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Изображение 3" descr="разъяснение требований.jpeg"/>
          <p:cNvPicPr/>
          <p:nvPr/>
        </p:nvPicPr>
        <p:blipFill>
          <a:blip r:embed="rId1"/>
          <a:stretch/>
        </p:blipFill>
        <p:spPr>
          <a:xfrm>
            <a:off x="227160" y="447840"/>
            <a:ext cx="8557920" cy="2395440"/>
          </a:xfrm>
          <a:prstGeom prst="rect">
            <a:avLst/>
          </a:prstGeom>
          <a:ln w="0">
            <a:noFill/>
          </a:ln>
        </p:spPr>
      </p:pic>
      <p:pic>
        <p:nvPicPr>
          <p:cNvPr id="107" name="Изображение 4" descr="Координационные и интеграционные механизмы.jpeg"/>
          <p:cNvPicPr/>
          <p:nvPr/>
        </p:nvPicPr>
        <p:blipFill>
          <a:blip r:embed="rId2"/>
          <a:stretch/>
        </p:blipFill>
        <p:spPr>
          <a:xfrm>
            <a:off x="227160" y="3483000"/>
            <a:ext cx="8557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Изображение 3" descr="общеорг цели.jpeg"/>
          <p:cNvPicPr/>
          <p:nvPr/>
        </p:nvPicPr>
        <p:blipFill>
          <a:blip r:embed="rId1"/>
          <a:stretch/>
        </p:blipFill>
        <p:spPr>
          <a:xfrm>
            <a:off x="325440" y="619200"/>
            <a:ext cx="8339040" cy="2208240"/>
          </a:xfrm>
          <a:prstGeom prst="rect">
            <a:avLst/>
          </a:prstGeom>
          <a:ln w="0">
            <a:noFill/>
          </a:ln>
        </p:spPr>
      </p:pic>
      <p:pic>
        <p:nvPicPr>
          <p:cNvPr id="109" name="Изображение 4" descr="Структура системы вознаграждения .jpeg"/>
          <p:cNvPicPr/>
          <p:nvPr/>
        </p:nvPicPr>
        <p:blipFill>
          <a:blip r:embed="rId2"/>
          <a:stretch/>
        </p:blipFill>
        <p:spPr>
          <a:xfrm>
            <a:off x="325440" y="3701880"/>
            <a:ext cx="83390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Изображение 3" descr="Межличностные стратегии.jpeg"/>
          <p:cNvPicPr/>
          <p:nvPr/>
        </p:nvPicPr>
        <p:blipFill>
          <a:blip r:embed="rId1"/>
          <a:stretch/>
        </p:blipFill>
        <p:spPr>
          <a:xfrm>
            <a:off x="195120" y="1282680"/>
            <a:ext cx="87566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Изображение 3" descr="Уклонение .jpeg"/>
          <p:cNvPicPr/>
          <p:nvPr/>
        </p:nvPicPr>
        <p:blipFill>
          <a:blip r:embed="rId1"/>
          <a:stretch/>
        </p:blipFill>
        <p:spPr>
          <a:xfrm>
            <a:off x="574560" y="966960"/>
            <a:ext cx="8013960" cy="2066760"/>
          </a:xfrm>
          <a:prstGeom prst="rect">
            <a:avLst/>
          </a:prstGeom>
          <a:ln w="0">
            <a:noFill/>
          </a:ln>
        </p:spPr>
      </p:pic>
      <p:pic>
        <p:nvPicPr>
          <p:cNvPr id="112" name="Изображение 4" descr="Сглаживание..jpeg"/>
          <p:cNvPicPr/>
          <p:nvPr/>
        </p:nvPicPr>
        <p:blipFill>
          <a:blip r:embed="rId2"/>
          <a:stretch/>
        </p:blipFill>
        <p:spPr>
          <a:xfrm>
            <a:off x="638280" y="3672000"/>
            <a:ext cx="79502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Изображение 3" descr="Принуждение .jpeg"/>
          <p:cNvPicPr/>
          <p:nvPr/>
        </p:nvPicPr>
        <p:blipFill>
          <a:blip r:embed="rId1"/>
          <a:stretch/>
        </p:blipFill>
        <p:spPr>
          <a:xfrm>
            <a:off x="393840" y="237960"/>
            <a:ext cx="8481960" cy="3421080"/>
          </a:xfrm>
          <a:prstGeom prst="rect">
            <a:avLst/>
          </a:prstGeom>
          <a:ln w="0">
            <a:noFill/>
          </a:ln>
        </p:spPr>
      </p:pic>
      <p:pic>
        <p:nvPicPr>
          <p:cNvPr id="114" name="Изображение 4" descr="Решение проблемы .jpeg"/>
          <p:cNvPicPr/>
          <p:nvPr/>
        </p:nvPicPr>
        <p:blipFill>
          <a:blip r:embed="rId2"/>
          <a:stretch/>
        </p:blipFill>
        <p:spPr>
          <a:xfrm>
            <a:off x="393840" y="3691080"/>
            <a:ext cx="84819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зображение 3" descr="Цель.jpeg"/>
          <p:cNvPicPr/>
          <p:nvPr/>
        </p:nvPicPr>
        <p:blipFill>
          <a:blip r:embed="rId1"/>
          <a:stretch/>
        </p:blipFill>
        <p:spPr>
          <a:xfrm>
            <a:off x="333360" y="952560"/>
            <a:ext cx="84819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Изображение 3" descr="Тактики воздействия на оппонента в конфликте.jpe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Изображение 3" descr="Третья сторона в разрешении конфликта.jpeg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Изображение 3" descr="Алгоритм арбитража.jpeg"/>
          <p:cNvPicPr/>
          <p:nvPr/>
        </p:nvPicPr>
        <p:blipFill>
          <a:blip r:embed="rId1"/>
          <a:stretch/>
        </p:blipFill>
        <p:spPr>
          <a:xfrm>
            <a:off x="271440" y="301680"/>
            <a:ext cx="8618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Изображение 3" descr="Медиаторство .jpeg"/>
          <p:cNvPicPr/>
          <p:nvPr/>
        </p:nvPicPr>
        <p:blipFill>
          <a:blip r:embed="rId1"/>
          <a:stretch/>
        </p:blipFill>
        <p:spPr>
          <a:xfrm>
            <a:off x="196920" y="725400"/>
            <a:ext cx="88009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Изображение 3" descr="Заповеди поведения в конфликте.jpeg"/>
          <p:cNvPicPr/>
          <p:nvPr/>
        </p:nvPicPr>
        <p:blipFill>
          <a:blip r:embed="rId1"/>
          <a:stretch/>
        </p:blipFill>
        <p:spPr>
          <a:xfrm>
            <a:off x="287280" y="1420920"/>
            <a:ext cx="85582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3" descr=""/>
          <p:cNvPicPr/>
          <p:nvPr/>
        </p:nvPicPr>
        <p:blipFill>
          <a:blip r:embed="rId1"/>
          <a:stretch/>
        </p:blipFill>
        <p:spPr>
          <a:xfrm>
            <a:off x="1609560" y="1951200"/>
            <a:ext cx="532152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хема 2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478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Изображение 3" descr="конфликт 2 (2).jpeg"/>
          <p:cNvPicPr/>
          <p:nvPr/>
        </p:nvPicPr>
        <p:blipFill>
          <a:blip r:embed="rId1"/>
          <a:stretch/>
        </p:blipFill>
        <p:spPr>
          <a:xfrm>
            <a:off x="189000" y="271440"/>
            <a:ext cx="87771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Изображение 3" descr="Типы конфликтов.jpeg"/>
          <p:cNvPicPr/>
          <p:nvPr/>
        </p:nvPicPr>
        <p:blipFill>
          <a:blip r:embed="rId1"/>
          <a:stretch/>
        </p:blipFill>
        <p:spPr>
          <a:xfrm>
            <a:off x="544680" y="1390680"/>
            <a:ext cx="790416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Изображение 3" descr="Причины внутриличностного конфликта.jpeg"/>
          <p:cNvPicPr/>
          <p:nvPr/>
        </p:nvPicPr>
        <p:blipFill>
          <a:blip r:embed="rId1"/>
          <a:stretch/>
        </p:blipFill>
        <p:spPr>
          <a:xfrm>
            <a:off x="378000" y="876240"/>
            <a:ext cx="83772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Изображение 4" descr="Причины межличностного конфликта.jpeg"/>
          <p:cNvPicPr/>
          <p:nvPr/>
        </p:nvPicPr>
        <p:blipFill>
          <a:blip r:embed="rId1"/>
          <a:stretch/>
        </p:blipFill>
        <p:spPr>
          <a:xfrm>
            <a:off x="241200" y="1149480"/>
            <a:ext cx="85582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Изображение 3" descr="Причины конфликта между личностью и группой (2).jpeg"/>
          <p:cNvPicPr/>
          <p:nvPr/>
        </p:nvPicPr>
        <p:blipFill>
          <a:blip r:embed="rId1"/>
          <a:stretch/>
        </p:blipFill>
        <p:spPr>
          <a:xfrm>
            <a:off x="514440" y="1042920"/>
            <a:ext cx="82249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Изображение 3" descr="Межгрупповые конфликты.jpeg"/>
          <p:cNvPicPr/>
          <p:nvPr/>
        </p:nvPicPr>
        <p:blipFill>
          <a:blip r:embed="rId1"/>
          <a:stretch/>
        </p:blipFill>
        <p:spPr>
          <a:xfrm>
            <a:off x="407880" y="1058760"/>
            <a:ext cx="8407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22:25:49Z</dcterms:created>
  <dc:creator>Laskevich Tatiana</dc:creator>
  <dc:description/>
  <dc:language>en-US</dc:language>
  <cp:lastModifiedBy>nebom zav</cp:lastModifiedBy>
  <dcterms:modified xsi:type="dcterms:W3CDTF">2015-04-16T09:59:00Z</dcterms:modified>
  <cp:revision>9</cp:revision>
  <dc:subject/>
  <dc:title>Презентация PowerPoint</dc:title>
</cp:coreProperties>
</file>