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7.png" ContentType="image/pn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  <p:sldId id="259" r:id="rId29"/>
    <p:sldId id="260" r:id="rId30"/>
    <p:sldId id="261" r:id="rId31"/>
    <p:sldId id="262" r:id="rId32"/>
    <p:sldId id="263" r:id="rId33"/>
    <p:sldId id="264" r:id="rId34"/>
    <p:sldId id="265" r:id="rId35"/>
    <p:sldId id="266" r:id="rId36"/>
    <p:sldId id="267" r:id="rId37"/>
    <p:sldId id="268" r:id="rId38"/>
    <p:sldId id="269" r:id="rId39"/>
    <p:sldId id="270" r:id="rId40"/>
    <p:sldId id="271" r:id="rId41"/>
    <p:sldId id="272" r:id="rId42"/>
    <p:sldId id="273" r:id="rId43"/>
    <p:sldId id="274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slide" Target="slides/slide5.xml"/><Relationship Id="rId31" Type="http://schemas.openxmlformats.org/officeDocument/2006/relationships/slide" Target="slides/slide6.xml"/><Relationship Id="rId32" Type="http://schemas.openxmlformats.org/officeDocument/2006/relationships/slide" Target="slides/slide7.xml"/><Relationship Id="rId33" Type="http://schemas.openxmlformats.org/officeDocument/2006/relationships/slide" Target="slides/slide8.xml"/><Relationship Id="rId34" Type="http://schemas.openxmlformats.org/officeDocument/2006/relationships/slide" Target="slides/slide9.xml"/><Relationship Id="rId35" Type="http://schemas.openxmlformats.org/officeDocument/2006/relationships/slide" Target="slides/slide10.xml"/><Relationship Id="rId36" Type="http://schemas.openxmlformats.org/officeDocument/2006/relationships/slide" Target="slides/slide11.xml"/><Relationship Id="rId37" Type="http://schemas.openxmlformats.org/officeDocument/2006/relationships/slide" Target="slides/slide12.xml"/><Relationship Id="rId38" Type="http://schemas.openxmlformats.org/officeDocument/2006/relationships/slide" Target="slides/slide13.xml"/><Relationship Id="rId39" Type="http://schemas.openxmlformats.org/officeDocument/2006/relationships/slide" Target="slides/slide14.xml"/><Relationship Id="rId40" Type="http://schemas.openxmlformats.org/officeDocument/2006/relationships/slide" Target="slides/slide15.xml"/><Relationship Id="rId41" Type="http://schemas.openxmlformats.org/officeDocument/2006/relationships/slide" Target="slides/slide16.xml"/><Relationship Id="rId42" Type="http://schemas.openxmlformats.org/officeDocument/2006/relationships/slide" Target="slides/slide17.xml"/><Relationship Id="rId43" Type="http://schemas.openxmlformats.org/officeDocument/2006/relationships/slide" Target="slides/slide18.xml"/><Relationship Id="rId44" Type="http://schemas.openxmlformats.org/officeDocument/2006/relationships/slide" Target="slides/slide19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04476-B2D6-49ED-991E-4AA760747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D7CE9-3EAB-42ED-A4F5-A139EFE92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C3360E-3A3A-4BBF-B648-23A9FCD89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91E82F-54DD-49A1-9B21-E758560A9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651A55-D163-4B1C-87DD-903391C2A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B864F0-C296-4A6F-BA34-CD40B17A6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972ACA-716C-4ECB-80FB-F93397F8A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12763D-A067-4C83-BBAF-8E4F501CE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7E6273-59C1-4F2E-8892-8D43C97AD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EC476A-734D-4E05-9B3D-60FDC64DE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B86E27-D37D-406C-90FE-04F25A77B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A552D4-8DFF-49EF-9DA8-9BB61255A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4FCF7-B84A-4B26-9D30-BC5DF7B8C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4CD75D-386B-4029-A588-3ECEFDE6F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F76DE0-0A66-40C0-BF8E-34E53C6FD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E89AA2-F370-4107-B89A-583D73C81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6D9985-93A0-47D2-AE40-4DF49CEC1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7DFB55-E02D-4E09-B5F2-E3BB60027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8A8038-CDEF-4CA4-95F1-00C438F59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3B1EA0-70CD-4334-9408-B95881342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1F4B87-DFA0-4077-B90D-10FDB93D0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DD9791-1170-4E49-A0A1-D2B7E4DE1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56D62B-93C8-420D-8B75-4A7082ABF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59424-90BB-48BF-945B-B26D4577A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44B21F-8C88-4FFE-B88D-4E9532A18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270451-28A2-40F6-A52E-13F9132A9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544DCE-FE74-420A-B7C5-E9BD594D6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8821EE-267A-4A8B-9C61-14B0852FE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5EC553-8A4C-4DCF-8B63-5FBFF6FBD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A39FF8-6A86-403C-A578-2AA5D9281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1BCBFE-488D-4C39-BBDE-0A446A114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4D9E90-40D6-4418-9833-D05E0E027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8C91E7-ED40-48FF-872A-029CD9108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66F60F-F363-43DE-8049-E8BC42F59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1A224-C986-48CB-A29B-AC56EC043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17189E-39D4-47C7-97CB-2FC4E0C37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0309BD-788A-455F-9396-31BF02B53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4345D1-6F74-4698-B8E7-965381EAC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15C92B-7080-4997-99A9-BC325F258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04D435-AF9D-41F5-A9E9-8EBA053A9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2087C6-95B4-4AEE-8038-D35FB6C60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6354BC-9475-4244-9E1B-FF34A7342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7453E3-BECD-43A4-9F41-E1B7AAD44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435452-EF5B-4C62-A663-E49EFFA8C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256692-15D5-4804-B6DF-8C86D61F3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C3CB8-EE04-45D5-A6CC-1C1346CB5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B254F4-871C-4C83-961E-AFB0AD1FD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636FB1-23CF-4C81-B069-827D24D6B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59EA2F-B839-447A-9DE7-CA8F1420A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B639DE-B2C8-4CE6-B27C-FC8B7850A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4E8516-11D6-4455-B05F-87C538D07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1730B78-2D4C-4EA0-ABE5-ED8595967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672F596-2255-43C1-A3BC-51EC7065C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1A1A381-DCE1-43D3-9771-915D7D2EE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DD88C60-DA04-452E-913C-32E989955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0D153BB-C938-4769-A007-CBF987FBC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9537D-2E2C-4592-82FB-403BC7654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071120B-8EAD-46A9-BBE5-045809274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DFF1844-CD66-436A-9531-430F42960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99F1C40-C3BA-4616-BF3B-AE23B9B2A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B018E59-E8E4-4B2F-8A07-962DDCD7B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861E8BB-824D-4750-862D-F169EE36D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758AD4B-CCD9-4E83-8321-45DE8971B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33F3FED-EC75-47C6-A922-3E067AC30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14CE245-D578-48D7-A2F3-170226DD7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1DDF2FC-2DA1-4007-9FA2-F0BA96632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CBE537E-58D3-4204-A713-48A6A1DE7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A7D21-6429-4460-A960-242E42EB7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382056D-A3FB-4F3D-8DDE-D9DDA04AA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226CBBA-4690-484D-A893-3F1049119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B504D62-BE3A-4891-AC4B-054D9514F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60A0AC1-D58A-496E-9390-4357134AB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4557600-9468-4A6F-8E96-513632158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E688160-2554-44D3-A315-90734A992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6E913B3-C277-4F03-BC58-9EC09D10B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6C4D371-42F9-4573-914A-F2445AC70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EF63057-0775-467D-B8C3-AC460841E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80F0C18-154F-4688-B03D-063CFFEFB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37BDD-D103-4E7D-89C5-0EAFF2C31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38C3AC2-021C-455C-9562-2C23292EC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5A649D6-DF36-4AC8-90B6-EF642BE6B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9E6F234-8413-4CA7-93FB-F7F1265B2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74D0C03-6897-4DE4-975D-6B5488512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09D3548-83FF-4392-8E50-F939B1A8E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24B809F-6BD5-4448-A1DE-D5C970C14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D00C94F-353C-48D7-B1FB-636EC49D4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F05DC83-38D5-4DCD-84BF-A79814D7C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4C7D0D9-B839-4BA9-91EA-025E7BB79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613E6DF-5355-4BFC-B9D8-D80E85984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4EF7F-BB2F-4688-8225-C60409B4E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16BB2D4-CAD4-4688-A40C-29AC5B56A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2AA1CBB-0D53-4592-BD8B-2A42E2C7D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502051D-F69C-4224-8051-D210E9334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84CB042-D6C7-4100-A12A-29A0D1F60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B58D2A5-6A15-445D-9F94-77A79C16B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0E52796-83CF-41EE-94F0-823084F3A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D60B2EF-947F-43A0-AAED-E9BA8345E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7B8E124-55F5-4F3B-B191-20CC4B8BC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008C1CD-943C-42D0-9571-0F0C6C757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EFDD20C-F24F-4BEF-9671-E242286B2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F4232-791A-4E81-8EF4-A8A0CE2E7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0834AD4-97FE-470B-A2E1-C96BE748A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EC877F2-30FA-4D04-B965-B1D3D065E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EC45E08-E526-4D01-9A54-78A5CC386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B63DEF4-E7D5-4518-8AEA-005A9A634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CAEC27B-71E7-410C-A81C-43C9919E7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8FE0B57-F385-4421-B25D-A1A8A42BC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1443F18-C4E9-4E5B-A43F-1FCF9DC6E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1F6A841-FB75-48D5-A2EE-006285EAA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AE6A2D1-DFE8-4B8E-860F-024E716FF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9DA3463-827A-4E5B-BEEE-C1F216CEA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13A26-E069-4D07-8AD6-18F7F7E2F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B348B-2DA7-4162-9181-D0956FA0B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B1D70D6-E7B9-45CC-8C18-04ED68057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5ED6BFB-FBAA-4115-8B40-408E02292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6701732-AE78-47C0-AE0C-28CE16FD4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DF9B0E1-C3C0-4392-8360-D083DE7DF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B1E2C6D-986F-40A9-8655-EAB954FD2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37CEB61-33CD-432A-88B1-307D97FE9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9B3EE0F-CE6C-45E7-9D83-3CD6D299E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7A2F344-3B65-4060-B273-FAAC32C1D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97F9A44-D3C7-4717-A621-40F82576F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B50BD7B-D803-4DFD-987B-6DE81512B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DF676-8432-4C9E-8BA7-D5E43FABB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7B0DB56-8DDA-472F-A4D7-A723715CA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BE77D9D-5837-4806-ACBB-7C1ECC11A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B2D89B6-6B31-4185-9A1B-95F1DC959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CFE2387-37C0-4B0F-A07B-AAD5B1813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327446B-1689-4028-986A-AA9817480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0BCB075-7DA6-471E-A2A8-1D2DAAF76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341FD5A-B2A3-4D0A-B9A1-C23CB7CF4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D810878-6A0C-4CCC-9BF4-0E457D53D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31002DE-991E-46DE-BE73-6555D5B26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ACB3F54-524C-407F-80C1-9170395C3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3DF88-4E6D-400D-8E2D-81A67ECDE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4941973-E3BD-46FE-B977-797B18FEF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3381142-0952-448D-9F9F-C073D9037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3F92950-AD15-4B63-BD51-D92468170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061AC2C-3026-4E96-AB48-F956E5400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3535B26-DEEA-459A-9691-F8DA2C9EE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14C6ABC-38F8-4436-94F7-DDD778B1B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7AD5399-38D5-4E61-B694-C718D0EB8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0013793-11C4-494F-9F74-EEC8EA034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4C4549A-9FEA-4017-8202-EAB6F33AA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3F7A90E-98D3-4B5C-AF9F-2C542E053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0B826-EBE1-4DCA-BF2C-9587C8B29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40F8282-501E-4603-B54F-5D462223A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1AA4450-5DD3-4420-A327-21180B1DB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EAD3FF1-5211-477D-B31B-9B45316CB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BEAFC7E-8EE4-40AB-B605-AF1C12D2C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52DB1E2-78E7-4868-8F58-2D097BDDE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54D8166-DC48-44B0-87C6-E91E7B7C5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59BA728-A00F-4099-9201-8135AD74A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75E4779-5618-4764-975A-3C725BB40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7D5472F-E5F1-4D5A-87F7-C13B575FB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464A058-081C-4BC6-9D1E-37E88B74A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C9300-4245-46CD-9380-5D2C45BC6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5BDF808-09E7-4F92-B506-4235FE2A2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BEF87CB-FACB-4685-81AB-287483A67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BD78BF7-3128-448C-8CF1-8D1328B39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9E72BA4-DA41-480C-92FC-CFB9C662C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539010A-9BCE-4649-AE2B-3F67DFDB0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3B5600C-6DFC-473B-A37C-4624F4ED2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E8C23A8-8C15-4069-ADAB-1A1B6A7C6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9FB4365-6260-4AF9-9D70-501759339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CB808D9-4219-4399-A60F-355789586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9281E3B-BA17-42DC-8929-73C785791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B26153-18DD-44EF-B6B1-E37EE8F24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BAF778C-7F6C-47CC-9ABF-F151C6F37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E6777FC-07BF-4174-8A48-D5AA68B0F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54CE313-7AC0-4DD5-9AF7-DC847630A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BD11AE9-5F4C-498D-B96F-EEA5B421B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946E0AE-F26C-467C-8493-9F9EE3F6C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38D9604-1FC5-4890-A07D-7F0945A2C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3D485D9-C690-40A0-831C-69257037B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CD5AF27-D95E-42F6-9E89-D0548E64C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6450827-B297-4DCC-A05D-7DD201E10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082E9F5-151D-4C6B-9799-EC9FBCECB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F243A0-378B-4339-9A2F-40686799F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8C5A2FD-12F9-4AAA-8943-6FAF6422E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505E922-C804-48EB-AEFE-F8449CB4F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E8E5571-B74F-40E6-9362-B3995BEC8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D28E117-9596-43E6-8902-5BED598F6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37F7F25-2D32-4F9F-B495-73B998407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C4A4F70-C146-4A4C-AFAD-A74C42FCF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AC661D8-5B20-4CC6-A0ED-7E100B906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270BC43-AFE6-494B-83F4-4653AA393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94792F1-88E2-4B45-BE3D-925BD0493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6840FA2-A1A3-44A8-AC44-4C12EC02C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9F3E25-6C0C-42E2-906F-417690379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D156AF9-9511-4E56-B0FD-14EA13770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D4B8F14-86C5-4227-B0EC-273E106E9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21533B1-F85F-41D5-A802-1BF214DFC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5482665-94E3-4602-B63E-96E36369F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AAFA9C6-B405-4547-8DC0-3BA80C50A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8186467-8556-4FE6-9977-2C3C683FF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45E726D-B406-46E8-A492-0755776F0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73A5CB5-2279-4810-9339-572FC4586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D6FBBCB-6C78-461B-861D-F4E0E2D16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6EF393E-FC79-4134-A0DB-C54F3C76D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7FE4AD-A254-4393-9E7D-3DB06758C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784E067-EAF5-484F-B5E3-A14F2519C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2B952FE-D5F4-42C5-9B8F-08A332D3E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EB790E3-EA3B-4CD7-AACE-F4D775B0E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66C5F77-9519-44A7-9F7D-26CDE5E5C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B8323E2-35CA-4B79-A1E2-7E8B84EE6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DE8E305-B562-4E89-BA79-37612812A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4D187A6-C10F-401F-A4E0-2A399EA7C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A3AD743-594E-41D8-851D-29A661C21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9E4388F-D64A-4222-BFE9-FDF6C6E74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7B7693-D214-4498-8134-65EAE49F5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0FDD5-3094-4111-89FD-EAD2B170E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07530C-B8E8-424A-A777-EF0D437B7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489AAF-07F4-4026-AA55-EE5E7891A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D52987-E0AB-42C8-A789-19AE28910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589A53-9847-4A3E-AFD6-62CEA4ABF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B0F2D3-9815-45F3-BBCB-60F3839EA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307D21-6E11-471D-8C93-433D3910E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36C2E6-CB87-422A-B900-C4607390C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247FF2-DEED-47B9-B92B-AFBD14014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B7624D-FBCA-4031-A206-2D8E2A15A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F1966A-B105-4F8B-A738-916E090B9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0F4A8-9C11-4664-A72E-6FD95B122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5BD6F9-6959-4A9F-BB05-8CB10F514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6512C0-D41F-4E75-9D2F-3EDFD53E3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346BFD-3DA1-4C8F-AE3A-15B2BAEFC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0EE726-6C9B-4C15-BC3F-E3164B31A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1E24E9-4617-4215-B4E5-FEC903997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033994-359D-4FC9-A857-0CB2D94CD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412067-BD69-4598-B9E6-12267C829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1C85D4-D78A-4B84-BF7F-0E2FB480B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063CE2-F97B-416F-9C80-EC6131323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65A159-63DF-4C32-AC44-09B36B9E2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93D07-4F3B-49B0-AC81-4B575C2A6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56FFFA-895B-440E-A4E9-3BD073D5A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0907CE-7205-4223-84D5-362E3BD05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267616-4DA0-4A47-82BA-FE02092B1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4CD848-517D-4353-9A67-3659EC052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0A3EDD-3171-4C0E-916C-9128DFC76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88676E-C054-474B-95C4-355A12BBE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CB2414-1EEE-46B6-8091-6CD0658C1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ED9EDD-7DA5-4447-8F3C-60EB8DF2D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4874A9-40EC-411A-A8D9-40CC79FCC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6C74F7-6E99-434A-87E0-F3DBD8D65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9328F-10F0-4695-837E-68F6D8AAF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218D18-163F-4BBC-AFA0-F7D490C51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39FB7A-E8CE-45BB-9C34-8F12DCCD1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2524D9-0C54-441E-8E53-CBC9E20D5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6E4D5F-0AEE-40C2-BD64-ECD32C8D9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6BA8AE-C155-4F50-89BF-755EB6DBB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A4A91E-86FB-4856-A3FE-3606AC992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F2C488-CEA4-42F2-91B6-7C57E50C2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8066C2-4830-49D0-836C-3D41BD1D2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189AD1-A4E7-4846-873D-639AB2BBA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78FD58-2DBE-4BCB-83B4-D32D57B2E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E0D1F-D687-4B5F-839E-9A414DB8E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231B5A-B1F3-49E6-B696-55186367C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424127-CC85-4A85-B40E-80907E242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FCC058-63AC-4413-ADEA-4CD94EAE7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F44520-8FAF-4784-B9DB-0896B3310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9FB154-C4E5-4011-9D12-5DE4229E8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72820B-4E96-4A29-88D4-8C630D8B5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86B1D9-ED94-47CA-8413-D0D0E0F5C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6020DA-4826-4EEE-BE00-0E935DAB3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3DE5FD-4BBD-4897-92FD-F88248EB7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35468B-57B2-4B9A-B067-2C2BA0A1D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81016-E197-4FFF-BD62-12ABE42FE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319B71-10EE-4B4A-95DD-CA418F201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149057-AD66-4138-B253-57A92F40B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495CEF-F59D-430D-847A-DE4AC39AC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BADAA9-E8FC-407D-A2BD-E33B21C16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147176-92A5-4DAB-B39B-91C1EAD74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AA9855-B519-4CEF-A359-8F90CD4FE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D7FB1A-A37C-4B73-B2D4-A0CA8696B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0035A3-A66B-462E-942D-BF1C29338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25808A-23B6-4B59-85F5-2F2370543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3914D1-DD5D-44C2-BD60-19D9F1E8A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1C32F-2310-42BE-A4C7-D798BBC26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824879-AD03-43E9-A886-A3BE7978F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A36649-C32A-4B84-8FD0-5CCB8DB13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C6EADA-4D2B-4FF0-AA23-B92A0A75C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CE7121-8F06-49F0-A945-CA3136D0C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D1B836-B5B9-45C1-BDDC-26E33D116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D65741-13AC-47D4-A4E7-94C5A8C69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F75C21-DD08-42C0-9A26-0E7817D1A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36057D-FCFB-4783-957B-FC97B1688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426391-B7DE-465F-9CBA-BC23E2EB5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1AAB2B-5899-4880-9074-B8A183D9A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FB37C-C51F-4EB1-A1D5-0985981DAE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0FAEF-F881-4F3A-9438-90F8B57470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915D4-63D3-40FF-B6D4-D717518BD2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FF618-292B-4F10-B564-4DC4AB039A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18CE4-5653-4FB6-AE96-E1CC2624BA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30DEC-535B-4220-B285-025D8C57EA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0A488-E00A-4965-8184-9B28154751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4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A5F6D-8C4B-477F-B4FF-6ADB04F0D9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5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7EE3F-5A7A-4940-8ADD-A517181A90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dt" idx="5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ftr" idx="5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5CD14-F07C-4A67-BE7C-066286C7C4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 type="dt" idx="5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 type="ftr" idx="5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D3948-B133-4BDF-991A-711EE12E94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749AA-5BFC-4CAE-90BC-BA054B48CA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 type="dt" idx="5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 type="ftr" idx="5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8217C-D15A-474D-A81B-B77263895A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 type="dt" idx="6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 type="ftr" idx="6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5CF2E-FB87-41A0-A79C-0BBD2BBC0A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 type="dt" idx="6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 type="ftr" idx="6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 type="sldNum" idx="6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25F2B-B5A8-4349-B41C-E66416D181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 type="dt" idx="6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 type="ftr" idx="6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 type="sldNum" idx="6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DA92C-C059-443A-95ED-29FDE8416E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 type="dt" idx="7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 type="ftr" idx="7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 type="sldNum" idx="7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8151F-BBB9-4352-AD89-B679FEC9DB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1F223-C6E1-4DEE-82AF-5B462925E4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913BA-80A2-4F21-AE54-F3231433F4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4B3CE-4F55-46C3-8B3B-6E7BF3F1FE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14F4F-63AD-4C32-9005-8925C35B16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E32A9-93F7-41C7-988E-5CC78E34B2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DC2D0-455C-40C0-B74D-7E09C70E82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27D9A-A9CD-4F9F-8E8A-E59F573E71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9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9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9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9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9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4" name="Group 3"/>
          <p:cNvGrpSpPr/>
          <p:nvPr/>
        </p:nvGrpSpPr>
        <p:grpSpPr>
          <a:xfrm>
            <a:off x="250920" y="404640"/>
            <a:ext cx="1979640" cy="1366920"/>
            <a:chOff x="250920" y="404640"/>
            <a:chExt cx="1979640" cy="1366920"/>
          </a:xfrm>
        </p:grpSpPr>
        <p:sp>
          <p:nvSpPr>
            <p:cNvPr id="985" name="Freeform 4"/>
            <p:cNvSpPr/>
            <p:nvPr/>
          </p:nvSpPr>
          <p:spPr>
            <a:xfrm>
              <a:off x="250920" y="407520"/>
              <a:ext cx="1502640" cy="308880"/>
            </a:xfrm>
            <a:custGeom>
              <a:avLst/>
              <a:gdLst>
                <a:gd name="textAreaLeft" fmla="*/ 0 w 1502640"/>
                <a:gd name="textAreaRight" fmla="*/ 1503000 w 1502640"/>
                <a:gd name="textAreaTop" fmla="*/ 0 h 308880"/>
                <a:gd name="textAreaBottom" fmla="*/ 308880 h 308880"/>
              </a:gdLst>
              <a:ahLst/>
              <a:rect l="textAreaLeft" t="textAreaTop" r="textAreaRight" b="textAreaBottom"/>
              <a:pathLst>
                <a:path w="4248" h="793">
                  <a:moveTo>
                    <a:pt x="0" y="704"/>
                  </a:moveTo>
                  <a:cubicBezTo>
                    <a:pt x="29" y="701"/>
                    <a:pt x="60" y="704"/>
                    <a:pt x="88" y="696"/>
                  </a:cubicBezTo>
                  <a:cubicBezTo>
                    <a:pt x="101" y="692"/>
                    <a:pt x="166" y="598"/>
                    <a:pt x="104" y="680"/>
                  </a:cubicBezTo>
                  <a:cubicBezTo>
                    <a:pt x="161" y="699"/>
                    <a:pt x="146" y="663"/>
                    <a:pt x="192" y="648"/>
                  </a:cubicBezTo>
                  <a:cubicBezTo>
                    <a:pt x="205" y="651"/>
                    <a:pt x="224" y="645"/>
                    <a:pt x="232" y="656"/>
                  </a:cubicBezTo>
                  <a:cubicBezTo>
                    <a:pt x="248" y="678"/>
                    <a:pt x="239" y="710"/>
                    <a:pt x="248" y="736"/>
                  </a:cubicBezTo>
                  <a:cubicBezTo>
                    <a:pt x="407" y="730"/>
                    <a:pt x="452" y="787"/>
                    <a:pt x="488" y="680"/>
                  </a:cubicBezTo>
                  <a:cubicBezTo>
                    <a:pt x="520" y="453"/>
                    <a:pt x="471" y="670"/>
                    <a:pt x="1000" y="616"/>
                  </a:cubicBezTo>
                  <a:cubicBezTo>
                    <a:pt x="1023" y="614"/>
                    <a:pt x="1062" y="547"/>
                    <a:pt x="1096" y="536"/>
                  </a:cubicBezTo>
                  <a:cubicBezTo>
                    <a:pt x="1115" y="508"/>
                    <a:pt x="1139" y="459"/>
                    <a:pt x="1168" y="440"/>
                  </a:cubicBezTo>
                  <a:cubicBezTo>
                    <a:pt x="1200" y="419"/>
                    <a:pt x="1276" y="419"/>
                    <a:pt x="1304" y="416"/>
                  </a:cubicBezTo>
                  <a:cubicBezTo>
                    <a:pt x="1327" y="381"/>
                    <a:pt x="1326" y="301"/>
                    <a:pt x="1360" y="296"/>
                  </a:cubicBezTo>
                  <a:cubicBezTo>
                    <a:pt x="1405" y="289"/>
                    <a:pt x="1451" y="291"/>
                    <a:pt x="1496" y="288"/>
                  </a:cubicBezTo>
                  <a:cubicBezTo>
                    <a:pt x="1538" y="274"/>
                    <a:pt x="1525" y="252"/>
                    <a:pt x="1560" y="232"/>
                  </a:cubicBezTo>
                  <a:cubicBezTo>
                    <a:pt x="1584" y="218"/>
                    <a:pt x="1614" y="217"/>
                    <a:pt x="1640" y="208"/>
                  </a:cubicBezTo>
                  <a:cubicBezTo>
                    <a:pt x="1648" y="205"/>
                    <a:pt x="1664" y="200"/>
                    <a:pt x="1664" y="200"/>
                  </a:cubicBezTo>
                  <a:cubicBezTo>
                    <a:pt x="1680" y="184"/>
                    <a:pt x="1696" y="168"/>
                    <a:pt x="1712" y="152"/>
                  </a:cubicBezTo>
                  <a:cubicBezTo>
                    <a:pt x="1720" y="144"/>
                    <a:pt x="1736" y="128"/>
                    <a:pt x="1736" y="128"/>
                  </a:cubicBezTo>
                  <a:cubicBezTo>
                    <a:pt x="1760" y="55"/>
                    <a:pt x="1725" y="69"/>
                    <a:pt x="1824" y="80"/>
                  </a:cubicBezTo>
                  <a:cubicBezTo>
                    <a:pt x="1835" y="83"/>
                    <a:pt x="1849" y="80"/>
                    <a:pt x="1856" y="88"/>
                  </a:cubicBezTo>
                  <a:cubicBezTo>
                    <a:pt x="1867" y="100"/>
                    <a:pt x="1878" y="182"/>
                    <a:pt x="1888" y="192"/>
                  </a:cubicBezTo>
                  <a:cubicBezTo>
                    <a:pt x="1896" y="200"/>
                    <a:pt x="1909" y="197"/>
                    <a:pt x="1920" y="200"/>
                  </a:cubicBezTo>
                  <a:cubicBezTo>
                    <a:pt x="1949" y="208"/>
                    <a:pt x="1942" y="206"/>
                    <a:pt x="1968" y="224"/>
                  </a:cubicBezTo>
                  <a:cubicBezTo>
                    <a:pt x="1971" y="232"/>
                    <a:pt x="1976" y="240"/>
                    <a:pt x="1976" y="248"/>
                  </a:cubicBezTo>
                  <a:cubicBezTo>
                    <a:pt x="1976" y="256"/>
                    <a:pt x="1965" y="264"/>
                    <a:pt x="1968" y="272"/>
                  </a:cubicBezTo>
                  <a:cubicBezTo>
                    <a:pt x="1979" y="299"/>
                    <a:pt x="2066" y="294"/>
                    <a:pt x="2088" y="296"/>
                  </a:cubicBezTo>
                  <a:cubicBezTo>
                    <a:pt x="2134" y="307"/>
                    <a:pt x="2178" y="325"/>
                    <a:pt x="2224" y="336"/>
                  </a:cubicBezTo>
                  <a:cubicBezTo>
                    <a:pt x="2244" y="377"/>
                    <a:pt x="2265" y="385"/>
                    <a:pt x="2296" y="416"/>
                  </a:cubicBezTo>
                  <a:cubicBezTo>
                    <a:pt x="2332" y="452"/>
                    <a:pt x="2289" y="432"/>
                    <a:pt x="2336" y="448"/>
                  </a:cubicBezTo>
                  <a:cubicBezTo>
                    <a:pt x="2341" y="464"/>
                    <a:pt x="2347" y="480"/>
                    <a:pt x="2352" y="496"/>
                  </a:cubicBezTo>
                  <a:cubicBezTo>
                    <a:pt x="2355" y="504"/>
                    <a:pt x="2360" y="520"/>
                    <a:pt x="2360" y="520"/>
                  </a:cubicBezTo>
                  <a:cubicBezTo>
                    <a:pt x="2354" y="538"/>
                    <a:pt x="2325" y="612"/>
                    <a:pt x="2352" y="624"/>
                  </a:cubicBezTo>
                  <a:cubicBezTo>
                    <a:pt x="2389" y="640"/>
                    <a:pt x="2432" y="629"/>
                    <a:pt x="2472" y="632"/>
                  </a:cubicBezTo>
                  <a:cubicBezTo>
                    <a:pt x="2488" y="637"/>
                    <a:pt x="2504" y="643"/>
                    <a:pt x="2520" y="648"/>
                  </a:cubicBezTo>
                  <a:cubicBezTo>
                    <a:pt x="2528" y="651"/>
                    <a:pt x="2544" y="656"/>
                    <a:pt x="2544" y="656"/>
                  </a:cubicBezTo>
                  <a:cubicBezTo>
                    <a:pt x="2572" y="677"/>
                    <a:pt x="2591" y="701"/>
                    <a:pt x="2624" y="712"/>
                  </a:cubicBezTo>
                  <a:cubicBezTo>
                    <a:pt x="2642" y="785"/>
                    <a:pt x="2622" y="764"/>
                    <a:pt x="2664" y="792"/>
                  </a:cubicBezTo>
                  <a:cubicBezTo>
                    <a:pt x="2707" y="789"/>
                    <a:pt x="2750" y="793"/>
                    <a:pt x="2792" y="784"/>
                  </a:cubicBezTo>
                  <a:cubicBezTo>
                    <a:pt x="2819" y="778"/>
                    <a:pt x="2832" y="712"/>
                    <a:pt x="2832" y="712"/>
                  </a:cubicBezTo>
                  <a:cubicBezTo>
                    <a:pt x="2839" y="646"/>
                    <a:pt x="2839" y="590"/>
                    <a:pt x="2896" y="552"/>
                  </a:cubicBezTo>
                  <a:cubicBezTo>
                    <a:pt x="2916" y="522"/>
                    <a:pt x="2946" y="476"/>
                    <a:pt x="2976" y="456"/>
                  </a:cubicBezTo>
                  <a:cubicBezTo>
                    <a:pt x="2989" y="447"/>
                    <a:pt x="3042" y="441"/>
                    <a:pt x="3048" y="440"/>
                  </a:cubicBezTo>
                  <a:cubicBezTo>
                    <a:pt x="3064" y="429"/>
                    <a:pt x="3080" y="419"/>
                    <a:pt x="3096" y="408"/>
                  </a:cubicBezTo>
                  <a:cubicBezTo>
                    <a:pt x="3106" y="401"/>
                    <a:pt x="3072" y="416"/>
                    <a:pt x="3064" y="424"/>
                  </a:cubicBezTo>
                  <a:cubicBezTo>
                    <a:pt x="3058" y="430"/>
                    <a:pt x="3081" y="421"/>
                    <a:pt x="3088" y="416"/>
                  </a:cubicBezTo>
                  <a:cubicBezTo>
                    <a:pt x="3096" y="411"/>
                    <a:pt x="3105" y="407"/>
                    <a:pt x="3112" y="400"/>
                  </a:cubicBezTo>
                  <a:cubicBezTo>
                    <a:pt x="3152" y="360"/>
                    <a:pt x="3125" y="379"/>
                    <a:pt x="3200" y="360"/>
                  </a:cubicBezTo>
                  <a:cubicBezTo>
                    <a:pt x="3211" y="357"/>
                    <a:pt x="3232" y="352"/>
                    <a:pt x="3232" y="352"/>
                  </a:cubicBezTo>
                  <a:cubicBezTo>
                    <a:pt x="3251" y="408"/>
                    <a:pt x="3307" y="331"/>
                    <a:pt x="3336" y="312"/>
                  </a:cubicBezTo>
                  <a:cubicBezTo>
                    <a:pt x="3440" y="242"/>
                    <a:pt x="3587" y="307"/>
                    <a:pt x="3712" y="304"/>
                  </a:cubicBezTo>
                  <a:cubicBezTo>
                    <a:pt x="3769" y="266"/>
                    <a:pt x="3829" y="263"/>
                    <a:pt x="3896" y="256"/>
                  </a:cubicBezTo>
                  <a:cubicBezTo>
                    <a:pt x="3908" y="221"/>
                    <a:pt x="3909" y="203"/>
                    <a:pt x="3936" y="176"/>
                  </a:cubicBezTo>
                  <a:cubicBezTo>
                    <a:pt x="3925" y="160"/>
                    <a:pt x="3908" y="147"/>
                    <a:pt x="3904" y="128"/>
                  </a:cubicBezTo>
                  <a:cubicBezTo>
                    <a:pt x="3900" y="108"/>
                    <a:pt x="3933" y="97"/>
                    <a:pt x="3944" y="96"/>
                  </a:cubicBezTo>
                  <a:cubicBezTo>
                    <a:pt x="3989" y="91"/>
                    <a:pt x="4035" y="91"/>
                    <a:pt x="4080" y="88"/>
                  </a:cubicBezTo>
                  <a:cubicBezTo>
                    <a:pt x="4168" y="73"/>
                    <a:pt x="4182" y="66"/>
                    <a:pt x="4248" y="0"/>
                  </a:cubicBezTo>
                </a:path>
              </a:pathLst>
            </a:custGeom>
            <a:noFill/>
            <a:ln w="57240">
              <a:solidFill>
                <a:srgbClr val="ff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Freeform 5"/>
            <p:cNvSpPr/>
            <p:nvPr/>
          </p:nvSpPr>
          <p:spPr>
            <a:xfrm>
              <a:off x="1760040" y="404640"/>
              <a:ext cx="465840" cy="649080"/>
            </a:xfrm>
            <a:custGeom>
              <a:avLst/>
              <a:gdLst>
                <a:gd name="textAreaLeft" fmla="*/ 0 w 465840"/>
                <a:gd name="textAreaRight" fmla="*/ 466200 w 465840"/>
                <a:gd name="textAreaTop" fmla="*/ 0 h 649080"/>
                <a:gd name="textAreaBottom" fmla="*/ 649080 h 649080"/>
              </a:gdLst>
              <a:ahLst/>
              <a:rect l="textAreaLeft" t="textAreaTop" r="textAreaRight" b="textAreaBottom"/>
              <a:pathLst>
                <a:path w="1317" h="1666">
                  <a:moveTo>
                    <a:pt x="5" y="0"/>
                  </a:moveTo>
                  <a:cubicBezTo>
                    <a:pt x="8" y="24"/>
                    <a:pt x="0" y="52"/>
                    <a:pt x="13" y="72"/>
                  </a:cubicBezTo>
                  <a:cubicBezTo>
                    <a:pt x="22" y="86"/>
                    <a:pt x="61" y="88"/>
                    <a:pt x="61" y="88"/>
                  </a:cubicBezTo>
                  <a:cubicBezTo>
                    <a:pt x="67" y="106"/>
                    <a:pt x="90" y="155"/>
                    <a:pt x="101" y="168"/>
                  </a:cubicBezTo>
                  <a:cubicBezTo>
                    <a:pt x="123" y="195"/>
                    <a:pt x="268" y="205"/>
                    <a:pt x="301" y="208"/>
                  </a:cubicBezTo>
                  <a:cubicBezTo>
                    <a:pt x="298" y="216"/>
                    <a:pt x="290" y="224"/>
                    <a:pt x="293" y="232"/>
                  </a:cubicBezTo>
                  <a:cubicBezTo>
                    <a:pt x="297" y="241"/>
                    <a:pt x="311" y="241"/>
                    <a:pt x="317" y="248"/>
                  </a:cubicBezTo>
                  <a:cubicBezTo>
                    <a:pt x="330" y="262"/>
                    <a:pt x="331" y="290"/>
                    <a:pt x="349" y="296"/>
                  </a:cubicBezTo>
                  <a:cubicBezTo>
                    <a:pt x="365" y="301"/>
                    <a:pt x="397" y="312"/>
                    <a:pt x="397" y="312"/>
                  </a:cubicBezTo>
                  <a:cubicBezTo>
                    <a:pt x="417" y="392"/>
                    <a:pt x="387" y="310"/>
                    <a:pt x="429" y="352"/>
                  </a:cubicBezTo>
                  <a:cubicBezTo>
                    <a:pt x="435" y="358"/>
                    <a:pt x="431" y="370"/>
                    <a:pt x="437" y="376"/>
                  </a:cubicBezTo>
                  <a:cubicBezTo>
                    <a:pt x="460" y="399"/>
                    <a:pt x="501" y="388"/>
                    <a:pt x="533" y="392"/>
                  </a:cubicBezTo>
                  <a:cubicBezTo>
                    <a:pt x="588" y="429"/>
                    <a:pt x="563" y="418"/>
                    <a:pt x="605" y="432"/>
                  </a:cubicBezTo>
                  <a:cubicBezTo>
                    <a:pt x="618" y="452"/>
                    <a:pt x="624" y="456"/>
                    <a:pt x="629" y="480"/>
                  </a:cubicBezTo>
                  <a:cubicBezTo>
                    <a:pt x="633" y="498"/>
                    <a:pt x="625" y="522"/>
                    <a:pt x="637" y="536"/>
                  </a:cubicBezTo>
                  <a:cubicBezTo>
                    <a:pt x="648" y="548"/>
                    <a:pt x="669" y="541"/>
                    <a:pt x="685" y="544"/>
                  </a:cubicBezTo>
                  <a:cubicBezTo>
                    <a:pt x="694" y="595"/>
                    <a:pt x="711" y="694"/>
                    <a:pt x="765" y="712"/>
                  </a:cubicBezTo>
                  <a:cubicBezTo>
                    <a:pt x="792" y="822"/>
                    <a:pt x="1029" y="804"/>
                    <a:pt x="1101" y="808"/>
                  </a:cubicBezTo>
                  <a:cubicBezTo>
                    <a:pt x="1095" y="840"/>
                    <a:pt x="1092" y="872"/>
                    <a:pt x="1085" y="904"/>
                  </a:cubicBezTo>
                  <a:cubicBezTo>
                    <a:pt x="1081" y="920"/>
                    <a:pt x="1083" y="943"/>
                    <a:pt x="1069" y="952"/>
                  </a:cubicBezTo>
                  <a:cubicBezTo>
                    <a:pt x="1027" y="980"/>
                    <a:pt x="997" y="1016"/>
                    <a:pt x="981" y="1064"/>
                  </a:cubicBezTo>
                  <a:cubicBezTo>
                    <a:pt x="993" y="1220"/>
                    <a:pt x="978" y="1182"/>
                    <a:pt x="1149" y="1192"/>
                  </a:cubicBezTo>
                  <a:cubicBezTo>
                    <a:pt x="1221" y="1240"/>
                    <a:pt x="1191" y="1277"/>
                    <a:pt x="1181" y="1384"/>
                  </a:cubicBezTo>
                  <a:cubicBezTo>
                    <a:pt x="1178" y="1412"/>
                    <a:pt x="1168" y="1407"/>
                    <a:pt x="1157" y="1432"/>
                  </a:cubicBezTo>
                  <a:cubicBezTo>
                    <a:pt x="1150" y="1447"/>
                    <a:pt x="1141" y="1480"/>
                    <a:pt x="1141" y="1480"/>
                  </a:cubicBezTo>
                  <a:cubicBezTo>
                    <a:pt x="1144" y="1496"/>
                    <a:pt x="1135" y="1520"/>
                    <a:pt x="1149" y="1528"/>
                  </a:cubicBezTo>
                  <a:cubicBezTo>
                    <a:pt x="1177" y="1543"/>
                    <a:pt x="1224" y="1512"/>
                    <a:pt x="1245" y="1536"/>
                  </a:cubicBezTo>
                  <a:cubicBezTo>
                    <a:pt x="1270" y="1564"/>
                    <a:pt x="1238" y="1614"/>
                    <a:pt x="1253" y="1648"/>
                  </a:cubicBezTo>
                  <a:cubicBezTo>
                    <a:pt x="1261" y="1666"/>
                    <a:pt x="1298" y="1664"/>
                    <a:pt x="1317" y="1664"/>
                  </a:cubicBezTo>
                </a:path>
              </a:pathLst>
            </a:custGeom>
            <a:noFill/>
            <a:ln w="57240">
              <a:solidFill>
                <a:srgbClr val="ff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Line 6"/>
            <p:cNvSpPr/>
            <p:nvPr/>
          </p:nvSpPr>
          <p:spPr>
            <a:xfrm>
              <a:off x="253800" y="788760"/>
              <a:ext cx="401040" cy="901800"/>
            </a:xfrm>
            <a:prstGeom prst="line">
              <a:avLst/>
            </a:prstGeom>
            <a:ln w="7632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Freeform 7"/>
            <p:cNvSpPr/>
            <p:nvPr/>
          </p:nvSpPr>
          <p:spPr>
            <a:xfrm>
              <a:off x="663840" y="1521360"/>
              <a:ext cx="879480" cy="250200"/>
            </a:xfrm>
            <a:custGeom>
              <a:avLst/>
              <a:gdLst>
                <a:gd name="textAreaLeft" fmla="*/ 0 w 879480"/>
                <a:gd name="textAreaRight" fmla="*/ 879840 w 879480"/>
                <a:gd name="textAreaTop" fmla="*/ 0 h 250200"/>
                <a:gd name="textAreaBottom" fmla="*/ 250200 h 250200"/>
              </a:gdLst>
              <a:ahLst/>
              <a:rect l="textAreaLeft" t="textAreaTop" r="textAreaRight" b="textAreaBottom"/>
              <a:pathLst>
                <a:path w="2487" h="642">
                  <a:moveTo>
                    <a:pt x="0" y="462"/>
                  </a:moveTo>
                  <a:cubicBezTo>
                    <a:pt x="37" y="453"/>
                    <a:pt x="51" y="446"/>
                    <a:pt x="72" y="414"/>
                  </a:cubicBezTo>
                  <a:cubicBezTo>
                    <a:pt x="91" y="339"/>
                    <a:pt x="135" y="396"/>
                    <a:pt x="192" y="358"/>
                  </a:cubicBezTo>
                  <a:cubicBezTo>
                    <a:pt x="220" y="316"/>
                    <a:pt x="252" y="279"/>
                    <a:pt x="280" y="238"/>
                  </a:cubicBezTo>
                  <a:cubicBezTo>
                    <a:pt x="290" y="66"/>
                    <a:pt x="257" y="91"/>
                    <a:pt x="400" y="78"/>
                  </a:cubicBezTo>
                  <a:cubicBezTo>
                    <a:pt x="405" y="70"/>
                    <a:pt x="412" y="63"/>
                    <a:pt x="416" y="54"/>
                  </a:cubicBezTo>
                  <a:cubicBezTo>
                    <a:pt x="423" y="39"/>
                    <a:pt x="432" y="6"/>
                    <a:pt x="432" y="6"/>
                  </a:cubicBezTo>
                  <a:cubicBezTo>
                    <a:pt x="461" y="9"/>
                    <a:pt x="494" y="0"/>
                    <a:pt x="520" y="14"/>
                  </a:cubicBezTo>
                  <a:cubicBezTo>
                    <a:pt x="558" y="34"/>
                    <a:pt x="519" y="87"/>
                    <a:pt x="568" y="102"/>
                  </a:cubicBezTo>
                  <a:cubicBezTo>
                    <a:pt x="586" y="107"/>
                    <a:pt x="605" y="107"/>
                    <a:pt x="624" y="110"/>
                  </a:cubicBezTo>
                  <a:cubicBezTo>
                    <a:pt x="621" y="131"/>
                    <a:pt x="616" y="153"/>
                    <a:pt x="616" y="174"/>
                  </a:cubicBezTo>
                  <a:cubicBezTo>
                    <a:pt x="616" y="347"/>
                    <a:pt x="616" y="278"/>
                    <a:pt x="832" y="286"/>
                  </a:cubicBezTo>
                  <a:cubicBezTo>
                    <a:pt x="848" y="642"/>
                    <a:pt x="860" y="478"/>
                    <a:pt x="1392" y="486"/>
                  </a:cubicBezTo>
                  <a:cubicBezTo>
                    <a:pt x="1453" y="527"/>
                    <a:pt x="1531" y="510"/>
                    <a:pt x="1600" y="502"/>
                  </a:cubicBezTo>
                  <a:cubicBezTo>
                    <a:pt x="1610" y="471"/>
                    <a:pt x="1630" y="469"/>
                    <a:pt x="1640" y="438"/>
                  </a:cubicBezTo>
                  <a:cubicBezTo>
                    <a:pt x="1656" y="314"/>
                    <a:pt x="1694" y="365"/>
                    <a:pt x="1856" y="358"/>
                  </a:cubicBezTo>
                  <a:cubicBezTo>
                    <a:pt x="1908" y="332"/>
                    <a:pt x="1932" y="319"/>
                    <a:pt x="1992" y="310"/>
                  </a:cubicBezTo>
                  <a:cubicBezTo>
                    <a:pt x="2079" y="281"/>
                    <a:pt x="2168" y="308"/>
                    <a:pt x="2256" y="318"/>
                  </a:cubicBezTo>
                  <a:cubicBezTo>
                    <a:pt x="2259" y="326"/>
                    <a:pt x="2257" y="338"/>
                    <a:pt x="2264" y="342"/>
                  </a:cubicBezTo>
                  <a:cubicBezTo>
                    <a:pt x="2278" y="350"/>
                    <a:pt x="2296" y="346"/>
                    <a:pt x="2312" y="350"/>
                  </a:cubicBezTo>
                  <a:cubicBezTo>
                    <a:pt x="2337" y="356"/>
                    <a:pt x="2338" y="360"/>
                    <a:pt x="2360" y="374"/>
                  </a:cubicBezTo>
                  <a:cubicBezTo>
                    <a:pt x="2365" y="390"/>
                    <a:pt x="2371" y="406"/>
                    <a:pt x="2376" y="422"/>
                  </a:cubicBezTo>
                  <a:cubicBezTo>
                    <a:pt x="2381" y="437"/>
                    <a:pt x="2377" y="455"/>
                    <a:pt x="2384" y="470"/>
                  </a:cubicBezTo>
                  <a:cubicBezTo>
                    <a:pt x="2392" y="486"/>
                    <a:pt x="2428" y="491"/>
                    <a:pt x="2440" y="494"/>
                  </a:cubicBezTo>
                  <a:cubicBezTo>
                    <a:pt x="2444" y="516"/>
                    <a:pt x="2440" y="542"/>
                    <a:pt x="2456" y="558"/>
                  </a:cubicBezTo>
                  <a:cubicBezTo>
                    <a:pt x="2462" y="564"/>
                    <a:pt x="2478" y="558"/>
                    <a:pt x="2480" y="566"/>
                  </a:cubicBezTo>
                  <a:cubicBezTo>
                    <a:pt x="2487" y="589"/>
                    <a:pt x="2480" y="614"/>
                    <a:pt x="2480" y="638"/>
                  </a:cubicBezTo>
                </a:path>
              </a:pathLst>
            </a:custGeom>
            <a:noFill/>
            <a:ln w="76320">
              <a:solidFill>
                <a:srgbClr val="ff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Freeform 8"/>
            <p:cNvSpPr/>
            <p:nvPr/>
          </p:nvSpPr>
          <p:spPr>
            <a:xfrm>
              <a:off x="1547640" y="1041840"/>
              <a:ext cx="682920" cy="715680"/>
            </a:xfrm>
            <a:custGeom>
              <a:avLst/>
              <a:gdLst>
                <a:gd name="textAreaLeft" fmla="*/ 0 w 682920"/>
                <a:gd name="textAreaRight" fmla="*/ 683280 w 682920"/>
                <a:gd name="textAreaTop" fmla="*/ 0 h 715680"/>
                <a:gd name="textAreaBottom" fmla="*/ 716040 h 715680"/>
              </a:gdLst>
              <a:ahLst/>
              <a:rect l="textAreaLeft" t="textAreaTop" r="textAreaRight" b="textAreaBottom"/>
              <a:pathLst>
                <a:path w="1931" h="1837">
                  <a:moveTo>
                    <a:pt x="46" y="1837"/>
                  </a:moveTo>
                  <a:cubicBezTo>
                    <a:pt x="143" y="1831"/>
                    <a:pt x="169" y="1828"/>
                    <a:pt x="246" y="1813"/>
                  </a:cubicBezTo>
                  <a:cubicBezTo>
                    <a:pt x="251" y="1805"/>
                    <a:pt x="259" y="1798"/>
                    <a:pt x="262" y="1789"/>
                  </a:cubicBezTo>
                  <a:cubicBezTo>
                    <a:pt x="267" y="1771"/>
                    <a:pt x="260" y="1749"/>
                    <a:pt x="270" y="1733"/>
                  </a:cubicBezTo>
                  <a:cubicBezTo>
                    <a:pt x="280" y="1717"/>
                    <a:pt x="318" y="1701"/>
                    <a:pt x="318" y="1701"/>
                  </a:cubicBezTo>
                  <a:cubicBezTo>
                    <a:pt x="323" y="1693"/>
                    <a:pt x="333" y="1687"/>
                    <a:pt x="334" y="1677"/>
                  </a:cubicBezTo>
                  <a:cubicBezTo>
                    <a:pt x="341" y="1610"/>
                    <a:pt x="317" y="1617"/>
                    <a:pt x="270" y="1605"/>
                  </a:cubicBezTo>
                  <a:cubicBezTo>
                    <a:pt x="267" y="1581"/>
                    <a:pt x="273" y="1555"/>
                    <a:pt x="262" y="1533"/>
                  </a:cubicBezTo>
                  <a:cubicBezTo>
                    <a:pt x="257" y="1523"/>
                    <a:pt x="241" y="1528"/>
                    <a:pt x="230" y="1525"/>
                  </a:cubicBezTo>
                  <a:cubicBezTo>
                    <a:pt x="166" y="1506"/>
                    <a:pt x="101" y="1490"/>
                    <a:pt x="38" y="1469"/>
                  </a:cubicBezTo>
                  <a:cubicBezTo>
                    <a:pt x="23" y="1447"/>
                    <a:pt x="0" y="1417"/>
                    <a:pt x="22" y="1389"/>
                  </a:cubicBezTo>
                  <a:cubicBezTo>
                    <a:pt x="27" y="1382"/>
                    <a:pt x="38" y="1385"/>
                    <a:pt x="46" y="1381"/>
                  </a:cubicBezTo>
                  <a:cubicBezTo>
                    <a:pt x="55" y="1377"/>
                    <a:pt x="62" y="1370"/>
                    <a:pt x="70" y="1365"/>
                  </a:cubicBezTo>
                  <a:cubicBezTo>
                    <a:pt x="123" y="1383"/>
                    <a:pt x="76" y="1376"/>
                    <a:pt x="110" y="1301"/>
                  </a:cubicBezTo>
                  <a:cubicBezTo>
                    <a:pt x="115" y="1289"/>
                    <a:pt x="147" y="1280"/>
                    <a:pt x="158" y="1277"/>
                  </a:cubicBezTo>
                  <a:cubicBezTo>
                    <a:pt x="192" y="1267"/>
                    <a:pt x="230" y="1269"/>
                    <a:pt x="262" y="1253"/>
                  </a:cubicBezTo>
                  <a:cubicBezTo>
                    <a:pt x="314" y="1227"/>
                    <a:pt x="257" y="1248"/>
                    <a:pt x="310" y="1213"/>
                  </a:cubicBezTo>
                  <a:cubicBezTo>
                    <a:pt x="370" y="1173"/>
                    <a:pt x="286" y="1269"/>
                    <a:pt x="382" y="1173"/>
                  </a:cubicBezTo>
                  <a:cubicBezTo>
                    <a:pt x="403" y="1152"/>
                    <a:pt x="425" y="1127"/>
                    <a:pt x="454" y="1117"/>
                  </a:cubicBezTo>
                  <a:cubicBezTo>
                    <a:pt x="505" y="1100"/>
                    <a:pt x="548" y="1078"/>
                    <a:pt x="598" y="1061"/>
                  </a:cubicBezTo>
                  <a:cubicBezTo>
                    <a:pt x="641" y="1047"/>
                    <a:pt x="689" y="1056"/>
                    <a:pt x="734" y="1053"/>
                  </a:cubicBezTo>
                  <a:cubicBezTo>
                    <a:pt x="798" y="1010"/>
                    <a:pt x="721" y="1066"/>
                    <a:pt x="774" y="1013"/>
                  </a:cubicBezTo>
                  <a:cubicBezTo>
                    <a:pt x="801" y="986"/>
                    <a:pt x="793" y="1005"/>
                    <a:pt x="822" y="989"/>
                  </a:cubicBezTo>
                  <a:cubicBezTo>
                    <a:pt x="874" y="960"/>
                    <a:pt x="924" y="919"/>
                    <a:pt x="966" y="877"/>
                  </a:cubicBezTo>
                  <a:cubicBezTo>
                    <a:pt x="970" y="855"/>
                    <a:pt x="979" y="835"/>
                    <a:pt x="982" y="813"/>
                  </a:cubicBezTo>
                  <a:cubicBezTo>
                    <a:pt x="987" y="773"/>
                    <a:pt x="969" y="722"/>
                    <a:pt x="998" y="693"/>
                  </a:cubicBezTo>
                  <a:cubicBezTo>
                    <a:pt x="1012" y="679"/>
                    <a:pt x="1030" y="672"/>
                    <a:pt x="1046" y="661"/>
                  </a:cubicBezTo>
                  <a:cubicBezTo>
                    <a:pt x="1079" y="639"/>
                    <a:pt x="1091" y="618"/>
                    <a:pt x="1110" y="589"/>
                  </a:cubicBezTo>
                  <a:cubicBezTo>
                    <a:pt x="1117" y="531"/>
                    <a:pt x="1112" y="511"/>
                    <a:pt x="1166" y="493"/>
                  </a:cubicBezTo>
                  <a:cubicBezTo>
                    <a:pt x="1303" y="510"/>
                    <a:pt x="1449" y="529"/>
                    <a:pt x="1582" y="485"/>
                  </a:cubicBezTo>
                  <a:cubicBezTo>
                    <a:pt x="1611" y="456"/>
                    <a:pt x="1633" y="427"/>
                    <a:pt x="1646" y="389"/>
                  </a:cubicBezTo>
                  <a:cubicBezTo>
                    <a:pt x="1641" y="324"/>
                    <a:pt x="1656" y="286"/>
                    <a:pt x="1606" y="253"/>
                  </a:cubicBezTo>
                  <a:cubicBezTo>
                    <a:pt x="1587" y="196"/>
                    <a:pt x="1599" y="219"/>
                    <a:pt x="1574" y="181"/>
                  </a:cubicBezTo>
                  <a:cubicBezTo>
                    <a:pt x="1577" y="160"/>
                    <a:pt x="1565" y="131"/>
                    <a:pt x="1582" y="117"/>
                  </a:cubicBezTo>
                  <a:cubicBezTo>
                    <a:pt x="1603" y="100"/>
                    <a:pt x="1637" y="117"/>
                    <a:pt x="1662" y="109"/>
                  </a:cubicBezTo>
                  <a:cubicBezTo>
                    <a:pt x="1687" y="101"/>
                    <a:pt x="1683" y="45"/>
                    <a:pt x="1694" y="29"/>
                  </a:cubicBezTo>
                  <a:cubicBezTo>
                    <a:pt x="1703" y="16"/>
                    <a:pt x="1728" y="10"/>
                    <a:pt x="1742" y="5"/>
                  </a:cubicBezTo>
                  <a:cubicBezTo>
                    <a:pt x="1771" y="8"/>
                    <a:pt x="1804" y="0"/>
                    <a:pt x="1830" y="13"/>
                  </a:cubicBezTo>
                  <a:cubicBezTo>
                    <a:pt x="1931" y="63"/>
                    <a:pt x="1753" y="53"/>
                    <a:pt x="1870" y="53"/>
                  </a:cubicBezTo>
                </a:path>
              </a:pathLst>
            </a:custGeom>
            <a:noFill/>
            <a:ln w="57240">
              <a:solidFill>
                <a:srgbClr val="ff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0" name="Прямоугольник 1"/>
          <p:cNvSpPr/>
          <p:nvPr/>
        </p:nvSpPr>
        <p:spPr>
          <a:xfrm>
            <a:off x="1103400" y="407880"/>
            <a:ext cx="7645320" cy="599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Calibri"/>
              </a:rPr>
              <a:t>МБОУ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«Плёсо – Курьинская средняя общеобразовательная школа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Times New Roman"/>
                <a:ea typeface="Calibri"/>
              </a:rPr>
              <a:t>I</a:t>
            </a:r>
            <a:r>
              <a:rPr b="1" lang="ru-RU" sz="4400" spc="-1" strike="noStrike">
                <a:solidFill>
                  <a:srgbClr val="0070c0"/>
                </a:solidFill>
                <a:latin typeface="Times New Roman"/>
                <a:ea typeface="Calibri"/>
              </a:rPr>
              <a:t> научно – практическая конференц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Calibri"/>
              </a:rPr>
              <a:t>учащийся 11класс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Calibri"/>
              </a:rPr>
              <a:t>Дегнер Вади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9" name="Group 3"/>
          <p:cNvGrpSpPr/>
          <p:nvPr/>
        </p:nvGrpSpPr>
        <p:grpSpPr>
          <a:xfrm>
            <a:off x="250920" y="404640"/>
            <a:ext cx="1979640" cy="1366920"/>
            <a:chOff x="250920" y="404640"/>
            <a:chExt cx="1979640" cy="1366920"/>
          </a:xfrm>
        </p:grpSpPr>
        <p:sp>
          <p:nvSpPr>
            <p:cNvPr id="1050" name="Freeform 4"/>
            <p:cNvSpPr/>
            <p:nvPr/>
          </p:nvSpPr>
          <p:spPr>
            <a:xfrm>
              <a:off x="250920" y="407520"/>
              <a:ext cx="1502640" cy="308880"/>
            </a:xfrm>
            <a:custGeom>
              <a:avLst/>
              <a:gdLst>
                <a:gd name="textAreaLeft" fmla="*/ 0 w 1502640"/>
                <a:gd name="textAreaRight" fmla="*/ 1503000 w 1502640"/>
                <a:gd name="textAreaTop" fmla="*/ 0 h 308880"/>
                <a:gd name="textAreaBottom" fmla="*/ 308880 h 308880"/>
              </a:gdLst>
              <a:ahLst/>
              <a:rect l="textAreaLeft" t="textAreaTop" r="textAreaRight" b="textAreaBottom"/>
              <a:pathLst>
                <a:path w="4248" h="793">
                  <a:moveTo>
                    <a:pt x="0" y="704"/>
                  </a:moveTo>
                  <a:cubicBezTo>
                    <a:pt x="29" y="701"/>
                    <a:pt x="60" y="704"/>
                    <a:pt x="88" y="696"/>
                  </a:cubicBezTo>
                  <a:cubicBezTo>
                    <a:pt x="101" y="692"/>
                    <a:pt x="166" y="598"/>
                    <a:pt x="104" y="680"/>
                  </a:cubicBezTo>
                  <a:cubicBezTo>
                    <a:pt x="161" y="699"/>
                    <a:pt x="146" y="663"/>
                    <a:pt x="192" y="648"/>
                  </a:cubicBezTo>
                  <a:cubicBezTo>
                    <a:pt x="205" y="651"/>
                    <a:pt x="224" y="645"/>
                    <a:pt x="232" y="656"/>
                  </a:cubicBezTo>
                  <a:cubicBezTo>
                    <a:pt x="248" y="678"/>
                    <a:pt x="239" y="710"/>
                    <a:pt x="248" y="736"/>
                  </a:cubicBezTo>
                  <a:cubicBezTo>
                    <a:pt x="407" y="730"/>
                    <a:pt x="452" y="787"/>
                    <a:pt x="488" y="680"/>
                  </a:cubicBezTo>
                  <a:cubicBezTo>
                    <a:pt x="520" y="453"/>
                    <a:pt x="471" y="670"/>
                    <a:pt x="1000" y="616"/>
                  </a:cubicBezTo>
                  <a:cubicBezTo>
                    <a:pt x="1023" y="614"/>
                    <a:pt x="1062" y="547"/>
                    <a:pt x="1096" y="536"/>
                  </a:cubicBezTo>
                  <a:cubicBezTo>
                    <a:pt x="1115" y="508"/>
                    <a:pt x="1139" y="459"/>
                    <a:pt x="1168" y="440"/>
                  </a:cubicBezTo>
                  <a:cubicBezTo>
                    <a:pt x="1200" y="419"/>
                    <a:pt x="1276" y="419"/>
                    <a:pt x="1304" y="416"/>
                  </a:cubicBezTo>
                  <a:cubicBezTo>
                    <a:pt x="1327" y="381"/>
                    <a:pt x="1326" y="301"/>
                    <a:pt x="1360" y="296"/>
                  </a:cubicBezTo>
                  <a:cubicBezTo>
                    <a:pt x="1405" y="289"/>
                    <a:pt x="1451" y="291"/>
                    <a:pt x="1496" y="288"/>
                  </a:cubicBezTo>
                  <a:cubicBezTo>
                    <a:pt x="1538" y="274"/>
                    <a:pt x="1525" y="252"/>
                    <a:pt x="1560" y="232"/>
                  </a:cubicBezTo>
                  <a:cubicBezTo>
                    <a:pt x="1584" y="218"/>
                    <a:pt x="1614" y="217"/>
                    <a:pt x="1640" y="208"/>
                  </a:cubicBezTo>
                  <a:cubicBezTo>
                    <a:pt x="1648" y="205"/>
                    <a:pt x="1664" y="200"/>
                    <a:pt x="1664" y="200"/>
                  </a:cubicBezTo>
                  <a:cubicBezTo>
                    <a:pt x="1680" y="184"/>
                    <a:pt x="1696" y="168"/>
                    <a:pt x="1712" y="152"/>
                  </a:cubicBezTo>
                  <a:cubicBezTo>
                    <a:pt x="1720" y="144"/>
                    <a:pt x="1736" y="128"/>
                    <a:pt x="1736" y="128"/>
                  </a:cubicBezTo>
                  <a:cubicBezTo>
                    <a:pt x="1760" y="55"/>
                    <a:pt x="1725" y="69"/>
                    <a:pt x="1824" y="80"/>
                  </a:cubicBezTo>
                  <a:cubicBezTo>
                    <a:pt x="1835" y="83"/>
                    <a:pt x="1849" y="80"/>
                    <a:pt x="1856" y="88"/>
                  </a:cubicBezTo>
                  <a:cubicBezTo>
                    <a:pt x="1867" y="100"/>
                    <a:pt x="1878" y="182"/>
                    <a:pt x="1888" y="192"/>
                  </a:cubicBezTo>
                  <a:cubicBezTo>
                    <a:pt x="1896" y="200"/>
                    <a:pt x="1909" y="197"/>
                    <a:pt x="1920" y="200"/>
                  </a:cubicBezTo>
                  <a:cubicBezTo>
                    <a:pt x="1949" y="208"/>
                    <a:pt x="1942" y="206"/>
                    <a:pt x="1968" y="224"/>
                  </a:cubicBezTo>
                  <a:cubicBezTo>
                    <a:pt x="1971" y="232"/>
                    <a:pt x="1976" y="240"/>
                    <a:pt x="1976" y="248"/>
                  </a:cubicBezTo>
                  <a:cubicBezTo>
                    <a:pt x="1976" y="256"/>
                    <a:pt x="1965" y="264"/>
                    <a:pt x="1968" y="272"/>
                  </a:cubicBezTo>
                  <a:cubicBezTo>
                    <a:pt x="1979" y="299"/>
                    <a:pt x="2066" y="294"/>
                    <a:pt x="2088" y="296"/>
                  </a:cubicBezTo>
                  <a:cubicBezTo>
                    <a:pt x="2134" y="307"/>
                    <a:pt x="2178" y="325"/>
                    <a:pt x="2224" y="336"/>
                  </a:cubicBezTo>
                  <a:cubicBezTo>
                    <a:pt x="2244" y="377"/>
                    <a:pt x="2265" y="385"/>
                    <a:pt x="2296" y="416"/>
                  </a:cubicBezTo>
                  <a:cubicBezTo>
                    <a:pt x="2332" y="452"/>
                    <a:pt x="2289" y="432"/>
                    <a:pt x="2336" y="448"/>
                  </a:cubicBezTo>
                  <a:cubicBezTo>
                    <a:pt x="2341" y="464"/>
                    <a:pt x="2347" y="480"/>
                    <a:pt x="2352" y="496"/>
                  </a:cubicBezTo>
                  <a:cubicBezTo>
                    <a:pt x="2355" y="504"/>
                    <a:pt x="2360" y="520"/>
                    <a:pt x="2360" y="520"/>
                  </a:cubicBezTo>
                  <a:cubicBezTo>
                    <a:pt x="2354" y="538"/>
                    <a:pt x="2325" y="612"/>
                    <a:pt x="2352" y="624"/>
                  </a:cubicBezTo>
                  <a:cubicBezTo>
                    <a:pt x="2389" y="640"/>
                    <a:pt x="2432" y="629"/>
                    <a:pt x="2472" y="632"/>
                  </a:cubicBezTo>
                  <a:cubicBezTo>
                    <a:pt x="2488" y="637"/>
                    <a:pt x="2504" y="643"/>
                    <a:pt x="2520" y="648"/>
                  </a:cubicBezTo>
                  <a:cubicBezTo>
                    <a:pt x="2528" y="651"/>
                    <a:pt x="2544" y="656"/>
                    <a:pt x="2544" y="656"/>
                  </a:cubicBezTo>
                  <a:cubicBezTo>
                    <a:pt x="2572" y="677"/>
                    <a:pt x="2591" y="701"/>
                    <a:pt x="2624" y="712"/>
                  </a:cubicBezTo>
                  <a:cubicBezTo>
                    <a:pt x="2642" y="785"/>
                    <a:pt x="2622" y="764"/>
                    <a:pt x="2664" y="792"/>
                  </a:cubicBezTo>
                  <a:cubicBezTo>
                    <a:pt x="2707" y="789"/>
                    <a:pt x="2750" y="793"/>
                    <a:pt x="2792" y="784"/>
                  </a:cubicBezTo>
                  <a:cubicBezTo>
                    <a:pt x="2819" y="778"/>
                    <a:pt x="2832" y="712"/>
                    <a:pt x="2832" y="712"/>
                  </a:cubicBezTo>
                  <a:cubicBezTo>
                    <a:pt x="2839" y="646"/>
                    <a:pt x="2839" y="590"/>
                    <a:pt x="2896" y="552"/>
                  </a:cubicBezTo>
                  <a:cubicBezTo>
                    <a:pt x="2916" y="522"/>
                    <a:pt x="2946" y="476"/>
                    <a:pt x="2976" y="456"/>
                  </a:cubicBezTo>
                  <a:cubicBezTo>
                    <a:pt x="2989" y="447"/>
                    <a:pt x="3042" y="441"/>
                    <a:pt x="3048" y="440"/>
                  </a:cubicBezTo>
                  <a:cubicBezTo>
                    <a:pt x="3064" y="429"/>
                    <a:pt x="3080" y="419"/>
                    <a:pt x="3096" y="408"/>
                  </a:cubicBezTo>
                  <a:cubicBezTo>
                    <a:pt x="3106" y="401"/>
                    <a:pt x="3072" y="416"/>
                    <a:pt x="3064" y="424"/>
                  </a:cubicBezTo>
                  <a:cubicBezTo>
                    <a:pt x="3058" y="430"/>
                    <a:pt x="3081" y="421"/>
                    <a:pt x="3088" y="416"/>
                  </a:cubicBezTo>
                  <a:cubicBezTo>
                    <a:pt x="3096" y="411"/>
                    <a:pt x="3105" y="407"/>
                    <a:pt x="3112" y="400"/>
                  </a:cubicBezTo>
                  <a:cubicBezTo>
                    <a:pt x="3152" y="360"/>
                    <a:pt x="3125" y="379"/>
                    <a:pt x="3200" y="360"/>
                  </a:cubicBezTo>
                  <a:cubicBezTo>
                    <a:pt x="3211" y="357"/>
                    <a:pt x="3232" y="352"/>
                    <a:pt x="3232" y="352"/>
                  </a:cubicBezTo>
                  <a:cubicBezTo>
                    <a:pt x="3251" y="408"/>
                    <a:pt x="3307" y="331"/>
                    <a:pt x="3336" y="312"/>
                  </a:cubicBezTo>
                  <a:cubicBezTo>
                    <a:pt x="3440" y="242"/>
                    <a:pt x="3587" y="307"/>
                    <a:pt x="3712" y="304"/>
                  </a:cubicBezTo>
                  <a:cubicBezTo>
                    <a:pt x="3769" y="266"/>
                    <a:pt x="3829" y="263"/>
                    <a:pt x="3896" y="256"/>
                  </a:cubicBezTo>
                  <a:cubicBezTo>
                    <a:pt x="3908" y="221"/>
                    <a:pt x="3909" y="203"/>
                    <a:pt x="3936" y="176"/>
                  </a:cubicBezTo>
                  <a:cubicBezTo>
                    <a:pt x="3925" y="160"/>
                    <a:pt x="3908" y="147"/>
                    <a:pt x="3904" y="128"/>
                  </a:cubicBezTo>
                  <a:cubicBezTo>
                    <a:pt x="3900" y="108"/>
                    <a:pt x="3933" y="97"/>
                    <a:pt x="3944" y="96"/>
                  </a:cubicBezTo>
                  <a:cubicBezTo>
                    <a:pt x="3989" y="91"/>
                    <a:pt x="4035" y="91"/>
                    <a:pt x="4080" y="88"/>
                  </a:cubicBezTo>
                  <a:cubicBezTo>
                    <a:pt x="4168" y="73"/>
                    <a:pt x="4182" y="66"/>
                    <a:pt x="4248" y="0"/>
                  </a:cubicBezTo>
                </a:path>
              </a:pathLst>
            </a:custGeom>
            <a:noFill/>
            <a:ln w="57240">
              <a:solidFill>
                <a:srgbClr val="ff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Freeform 5"/>
            <p:cNvSpPr/>
            <p:nvPr/>
          </p:nvSpPr>
          <p:spPr>
            <a:xfrm>
              <a:off x="1760040" y="404640"/>
              <a:ext cx="465840" cy="649080"/>
            </a:xfrm>
            <a:custGeom>
              <a:avLst/>
              <a:gdLst>
                <a:gd name="textAreaLeft" fmla="*/ 0 w 465840"/>
                <a:gd name="textAreaRight" fmla="*/ 466200 w 465840"/>
                <a:gd name="textAreaTop" fmla="*/ 0 h 649080"/>
                <a:gd name="textAreaBottom" fmla="*/ 649080 h 649080"/>
              </a:gdLst>
              <a:ahLst/>
              <a:rect l="textAreaLeft" t="textAreaTop" r="textAreaRight" b="textAreaBottom"/>
              <a:pathLst>
                <a:path w="1317" h="1666">
                  <a:moveTo>
                    <a:pt x="5" y="0"/>
                  </a:moveTo>
                  <a:cubicBezTo>
                    <a:pt x="8" y="24"/>
                    <a:pt x="0" y="52"/>
                    <a:pt x="13" y="72"/>
                  </a:cubicBezTo>
                  <a:cubicBezTo>
                    <a:pt x="22" y="86"/>
                    <a:pt x="61" y="88"/>
                    <a:pt x="61" y="88"/>
                  </a:cubicBezTo>
                  <a:cubicBezTo>
                    <a:pt x="67" y="106"/>
                    <a:pt x="90" y="155"/>
                    <a:pt x="101" y="168"/>
                  </a:cubicBezTo>
                  <a:cubicBezTo>
                    <a:pt x="123" y="195"/>
                    <a:pt x="268" y="205"/>
                    <a:pt x="301" y="208"/>
                  </a:cubicBezTo>
                  <a:cubicBezTo>
                    <a:pt x="298" y="216"/>
                    <a:pt x="290" y="224"/>
                    <a:pt x="293" y="232"/>
                  </a:cubicBezTo>
                  <a:cubicBezTo>
                    <a:pt x="297" y="241"/>
                    <a:pt x="311" y="241"/>
                    <a:pt x="317" y="248"/>
                  </a:cubicBezTo>
                  <a:cubicBezTo>
                    <a:pt x="330" y="262"/>
                    <a:pt x="331" y="290"/>
                    <a:pt x="349" y="296"/>
                  </a:cubicBezTo>
                  <a:cubicBezTo>
                    <a:pt x="365" y="301"/>
                    <a:pt x="397" y="312"/>
                    <a:pt x="397" y="312"/>
                  </a:cubicBezTo>
                  <a:cubicBezTo>
                    <a:pt x="417" y="392"/>
                    <a:pt x="387" y="310"/>
                    <a:pt x="429" y="352"/>
                  </a:cubicBezTo>
                  <a:cubicBezTo>
                    <a:pt x="435" y="358"/>
                    <a:pt x="431" y="370"/>
                    <a:pt x="437" y="376"/>
                  </a:cubicBezTo>
                  <a:cubicBezTo>
                    <a:pt x="460" y="399"/>
                    <a:pt x="501" y="388"/>
                    <a:pt x="533" y="392"/>
                  </a:cubicBezTo>
                  <a:cubicBezTo>
                    <a:pt x="588" y="429"/>
                    <a:pt x="563" y="418"/>
                    <a:pt x="605" y="432"/>
                  </a:cubicBezTo>
                  <a:cubicBezTo>
                    <a:pt x="618" y="452"/>
                    <a:pt x="624" y="456"/>
                    <a:pt x="629" y="480"/>
                  </a:cubicBezTo>
                  <a:cubicBezTo>
                    <a:pt x="633" y="498"/>
                    <a:pt x="625" y="522"/>
                    <a:pt x="637" y="536"/>
                  </a:cubicBezTo>
                  <a:cubicBezTo>
                    <a:pt x="648" y="548"/>
                    <a:pt x="669" y="541"/>
                    <a:pt x="685" y="544"/>
                  </a:cubicBezTo>
                  <a:cubicBezTo>
                    <a:pt x="694" y="595"/>
                    <a:pt x="711" y="694"/>
                    <a:pt x="765" y="712"/>
                  </a:cubicBezTo>
                  <a:cubicBezTo>
                    <a:pt x="792" y="822"/>
                    <a:pt x="1029" y="804"/>
                    <a:pt x="1101" y="808"/>
                  </a:cubicBezTo>
                  <a:cubicBezTo>
                    <a:pt x="1095" y="840"/>
                    <a:pt x="1092" y="872"/>
                    <a:pt x="1085" y="904"/>
                  </a:cubicBezTo>
                  <a:cubicBezTo>
                    <a:pt x="1081" y="920"/>
                    <a:pt x="1083" y="943"/>
                    <a:pt x="1069" y="952"/>
                  </a:cubicBezTo>
                  <a:cubicBezTo>
                    <a:pt x="1027" y="980"/>
                    <a:pt x="997" y="1016"/>
                    <a:pt x="981" y="1064"/>
                  </a:cubicBezTo>
                  <a:cubicBezTo>
                    <a:pt x="993" y="1220"/>
                    <a:pt x="978" y="1182"/>
                    <a:pt x="1149" y="1192"/>
                  </a:cubicBezTo>
                  <a:cubicBezTo>
                    <a:pt x="1221" y="1240"/>
                    <a:pt x="1191" y="1277"/>
                    <a:pt x="1181" y="1384"/>
                  </a:cubicBezTo>
                  <a:cubicBezTo>
                    <a:pt x="1178" y="1412"/>
                    <a:pt x="1168" y="1407"/>
                    <a:pt x="1157" y="1432"/>
                  </a:cubicBezTo>
                  <a:cubicBezTo>
                    <a:pt x="1150" y="1447"/>
                    <a:pt x="1141" y="1480"/>
                    <a:pt x="1141" y="1480"/>
                  </a:cubicBezTo>
                  <a:cubicBezTo>
                    <a:pt x="1144" y="1496"/>
                    <a:pt x="1135" y="1520"/>
                    <a:pt x="1149" y="1528"/>
                  </a:cubicBezTo>
                  <a:cubicBezTo>
                    <a:pt x="1177" y="1543"/>
                    <a:pt x="1224" y="1512"/>
                    <a:pt x="1245" y="1536"/>
                  </a:cubicBezTo>
                  <a:cubicBezTo>
                    <a:pt x="1270" y="1564"/>
                    <a:pt x="1238" y="1614"/>
                    <a:pt x="1253" y="1648"/>
                  </a:cubicBezTo>
                  <a:cubicBezTo>
                    <a:pt x="1261" y="1666"/>
                    <a:pt x="1298" y="1664"/>
                    <a:pt x="1317" y="1664"/>
                  </a:cubicBezTo>
                </a:path>
              </a:pathLst>
            </a:custGeom>
            <a:noFill/>
            <a:ln w="57240">
              <a:solidFill>
                <a:srgbClr val="ff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Line 6"/>
            <p:cNvSpPr/>
            <p:nvPr/>
          </p:nvSpPr>
          <p:spPr>
            <a:xfrm>
              <a:off x="253800" y="788760"/>
              <a:ext cx="401040" cy="901800"/>
            </a:xfrm>
            <a:prstGeom prst="line">
              <a:avLst/>
            </a:prstGeom>
            <a:ln w="7632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Freeform 7"/>
            <p:cNvSpPr/>
            <p:nvPr/>
          </p:nvSpPr>
          <p:spPr>
            <a:xfrm>
              <a:off x="663840" y="1521360"/>
              <a:ext cx="879480" cy="250200"/>
            </a:xfrm>
            <a:custGeom>
              <a:avLst/>
              <a:gdLst>
                <a:gd name="textAreaLeft" fmla="*/ 0 w 879480"/>
                <a:gd name="textAreaRight" fmla="*/ 879840 w 879480"/>
                <a:gd name="textAreaTop" fmla="*/ 0 h 250200"/>
                <a:gd name="textAreaBottom" fmla="*/ 250200 h 250200"/>
              </a:gdLst>
              <a:ahLst/>
              <a:rect l="textAreaLeft" t="textAreaTop" r="textAreaRight" b="textAreaBottom"/>
              <a:pathLst>
                <a:path w="2487" h="642">
                  <a:moveTo>
                    <a:pt x="0" y="462"/>
                  </a:moveTo>
                  <a:cubicBezTo>
                    <a:pt x="37" y="453"/>
                    <a:pt x="51" y="446"/>
                    <a:pt x="72" y="414"/>
                  </a:cubicBezTo>
                  <a:cubicBezTo>
                    <a:pt x="91" y="339"/>
                    <a:pt x="135" y="396"/>
                    <a:pt x="192" y="358"/>
                  </a:cubicBezTo>
                  <a:cubicBezTo>
                    <a:pt x="220" y="316"/>
                    <a:pt x="252" y="279"/>
                    <a:pt x="280" y="238"/>
                  </a:cubicBezTo>
                  <a:cubicBezTo>
                    <a:pt x="290" y="66"/>
                    <a:pt x="257" y="91"/>
                    <a:pt x="400" y="78"/>
                  </a:cubicBezTo>
                  <a:cubicBezTo>
                    <a:pt x="405" y="70"/>
                    <a:pt x="412" y="63"/>
                    <a:pt x="416" y="54"/>
                  </a:cubicBezTo>
                  <a:cubicBezTo>
                    <a:pt x="423" y="39"/>
                    <a:pt x="432" y="6"/>
                    <a:pt x="432" y="6"/>
                  </a:cubicBezTo>
                  <a:cubicBezTo>
                    <a:pt x="461" y="9"/>
                    <a:pt x="494" y="0"/>
                    <a:pt x="520" y="14"/>
                  </a:cubicBezTo>
                  <a:cubicBezTo>
                    <a:pt x="558" y="34"/>
                    <a:pt x="519" y="87"/>
                    <a:pt x="568" y="102"/>
                  </a:cubicBezTo>
                  <a:cubicBezTo>
                    <a:pt x="586" y="107"/>
                    <a:pt x="605" y="107"/>
                    <a:pt x="624" y="110"/>
                  </a:cubicBezTo>
                  <a:cubicBezTo>
                    <a:pt x="621" y="131"/>
                    <a:pt x="616" y="153"/>
                    <a:pt x="616" y="174"/>
                  </a:cubicBezTo>
                  <a:cubicBezTo>
                    <a:pt x="616" y="347"/>
                    <a:pt x="616" y="278"/>
                    <a:pt x="832" y="286"/>
                  </a:cubicBezTo>
                  <a:cubicBezTo>
                    <a:pt x="848" y="642"/>
                    <a:pt x="860" y="478"/>
                    <a:pt x="1392" y="486"/>
                  </a:cubicBezTo>
                  <a:cubicBezTo>
                    <a:pt x="1453" y="527"/>
                    <a:pt x="1531" y="510"/>
                    <a:pt x="1600" y="502"/>
                  </a:cubicBezTo>
                  <a:cubicBezTo>
                    <a:pt x="1610" y="471"/>
                    <a:pt x="1630" y="469"/>
                    <a:pt x="1640" y="438"/>
                  </a:cubicBezTo>
                  <a:cubicBezTo>
                    <a:pt x="1656" y="314"/>
                    <a:pt x="1694" y="365"/>
                    <a:pt x="1856" y="358"/>
                  </a:cubicBezTo>
                  <a:cubicBezTo>
                    <a:pt x="1908" y="332"/>
                    <a:pt x="1932" y="319"/>
                    <a:pt x="1992" y="310"/>
                  </a:cubicBezTo>
                  <a:cubicBezTo>
                    <a:pt x="2079" y="281"/>
                    <a:pt x="2168" y="308"/>
                    <a:pt x="2256" y="318"/>
                  </a:cubicBezTo>
                  <a:cubicBezTo>
                    <a:pt x="2259" y="326"/>
                    <a:pt x="2257" y="338"/>
                    <a:pt x="2264" y="342"/>
                  </a:cubicBezTo>
                  <a:cubicBezTo>
                    <a:pt x="2278" y="350"/>
                    <a:pt x="2296" y="346"/>
                    <a:pt x="2312" y="350"/>
                  </a:cubicBezTo>
                  <a:cubicBezTo>
                    <a:pt x="2337" y="356"/>
                    <a:pt x="2338" y="360"/>
                    <a:pt x="2360" y="374"/>
                  </a:cubicBezTo>
                  <a:cubicBezTo>
                    <a:pt x="2365" y="390"/>
                    <a:pt x="2371" y="406"/>
                    <a:pt x="2376" y="422"/>
                  </a:cubicBezTo>
                  <a:cubicBezTo>
                    <a:pt x="2381" y="437"/>
                    <a:pt x="2377" y="455"/>
                    <a:pt x="2384" y="470"/>
                  </a:cubicBezTo>
                  <a:cubicBezTo>
                    <a:pt x="2392" y="486"/>
                    <a:pt x="2428" y="491"/>
                    <a:pt x="2440" y="494"/>
                  </a:cubicBezTo>
                  <a:cubicBezTo>
                    <a:pt x="2444" y="516"/>
                    <a:pt x="2440" y="542"/>
                    <a:pt x="2456" y="558"/>
                  </a:cubicBezTo>
                  <a:cubicBezTo>
                    <a:pt x="2462" y="564"/>
                    <a:pt x="2478" y="558"/>
                    <a:pt x="2480" y="566"/>
                  </a:cubicBezTo>
                  <a:cubicBezTo>
                    <a:pt x="2487" y="589"/>
                    <a:pt x="2480" y="614"/>
                    <a:pt x="2480" y="638"/>
                  </a:cubicBezTo>
                </a:path>
              </a:pathLst>
            </a:custGeom>
            <a:noFill/>
            <a:ln w="76320">
              <a:solidFill>
                <a:srgbClr val="ff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Freeform 8"/>
            <p:cNvSpPr/>
            <p:nvPr/>
          </p:nvSpPr>
          <p:spPr>
            <a:xfrm>
              <a:off x="1547640" y="1041840"/>
              <a:ext cx="682920" cy="715680"/>
            </a:xfrm>
            <a:custGeom>
              <a:avLst/>
              <a:gdLst>
                <a:gd name="textAreaLeft" fmla="*/ 0 w 682920"/>
                <a:gd name="textAreaRight" fmla="*/ 683280 w 682920"/>
                <a:gd name="textAreaTop" fmla="*/ 0 h 715680"/>
                <a:gd name="textAreaBottom" fmla="*/ 716040 h 715680"/>
              </a:gdLst>
              <a:ahLst/>
              <a:rect l="textAreaLeft" t="textAreaTop" r="textAreaRight" b="textAreaBottom"/>
              <a:pathLst>
                <a:path w="1931" h="1837">
                  <a:moveTo>
                    <a:pt x="46" y="1837"/>
                  </a:moveTo>
                  <a:cubicBezTo>
                    <a:pt x="143" y="1831"/>
                    <a:pt x="169" y="1828"/>
                    <a:pt x="246" y="1813"/>
                  </a:cubicBezTo>
                  <a:cubicBezTo>
                    <a:pt x="251" y="1805"/>
                    <a:pt x="259" y="1798"/>
                    <a:pt x="262" y="1789"/>
                  </a:cubicBezTo>
                  <a:cubicBezTo>
                    <a:pt x="267" y="1771"/>
                    <a:pt x="260" y="1749"/>
                    <a:pt x="270" y="1733"/>
                  </a:cubicBezTo>
                  <a:cubicBezTo>
                    <a:pt x="280" y="1717"/>
                    <a:pt x="318" y="1701"/>
                    <a:pt x="318" y="1701"/>
                  </a:cubicBezTo>
                  <a:cubicBezTo>
                    <a:pt x="323" y="1693"/>
                    <a:pt x="333" y="1687"/>
                    <a:pt x="334" y="1677"/>
                  </a:cubicBezTo>
                  <a:cubicBezTo>
                    <a:pt x="341" y="1610"/>
                    <a:pt x="317" y="1617"/>
                    <a:pt x="270" y="1605"/>
                  </a:cubicBezTo>
                  <a:cubicBezTo>
                    <a:pt x="267" y="1581"/>
                    <a:pt x="273" y="1555"/>
                    <a:pt x="262" y="1533"/>
                  </a:cubicBezTo>
                  <a:cubicBezTo>
                    <a:pt x="257" y="1523"/>
                    <a:pt x="241" y="1528"/>
                    <a:pt x="230" y="1525"/>
                  </a:cubicBezTo>
                  <a:cubicBezTo>
                    <a:pt x="166" y="1506"/>
                    <a:pt x="101" y="1490"/>
                    <a:pt x="38" y="1469"/>
                  </a:cubicBezTo>
                  <a:cubicBezTo>
                    <a:pt x="23" y="1447"/>
                    <a:pt x="0" y="1417"/>
                    <a:pt x="22" y="1389"/>
                  </a:cubicBezTo>
                  <a:cubicBezTo>
                    <a:pt x="27" y="1382"/>
                    <a:pt x="38" y="1385"/>
                    <a:pt x="46" y="1381"/>
                  </a:cubicBezTo>
                  <a:cubicBezTo>
                    <a:pt x="55" y="1377"/>
                    <a:pt x="62" y="1370"/>
                    <a:pt x="70" y="1365"/>
                  </a:cubicBezTo>
                  <a:cubicBezTo>
                    <a:pt x="123" y="1383"/>
                    <a:pt x="76" y="1376"/>
                    <a:pt x="110" y="1301"/>
                  </a:cubicBezTo>
                  <a:cubicBezTo>
                    <a:pt x="115" y="1289"/>
                    <a:pt x="147" y="1280"/>
                    <a:pt x="158" y="1277"/>
                  </a:cubicBezTo>
                  <a:cubicBezTo>
                    <a:pt x="192" y="1267"/>
                    <a:pt x="230" y="1269"/>
                    <a:pt x="262" y="1253"/>
                  </a:cubicBezTo>
                  <a:cubicBezTo>
                    <a:pt x="314" y="1227"/>
                    <a:pt x="257" y="1248"/>
                    <a:pt x="310" y="1213"/>
                  </a:cubicBezTo>
                  <a:cubicBezTo>
                    <a:pt x="370" y="1173"/>
                    <a:pt x="286" y="1269"/>
                    <a:pt x="382" y="1173"/>
                  </a:cubicBezTo>
                  <a:cubicBezTo>
                    <a:pt x="403" y="1152"/>
                    <a:pt x="425" y="1127"/>
                    <a:pt x="454" y="1117"/>
                  </a:cubicBezTo>
                  <a:cubicBezTo>
                    <a:pt x="505" y="1100"/>
                    <a:pt x="548" y="1078"/>
                    <a:pt x="598" y="1061"/>
                  </a:cubicBezTo>
                  <a:cubicBezTo>
                    <a:pt x="641" y="1047"/>
                    <a:pt x="689" y="1056"/>
                    <a:pt x="734" y="1053"/>
                  </a:cubicBezTo>
                  <a:cubicBezTo>
                    <a:pt x="798" y="1010"/>
                    <a:pt x="721" y="1066"/>
                    <a:pt x="774" y="1013"/>
                  </a:cubicBezTo>
                  <a:cubicBezTo>
                    <a:pt x="801" y="986"/>
                    <a:pt x="793" y="1005"/>
                    <a:pt x="822" y="989"/>
                  </a:cubicBezTo>
                  <a:cubicBezTo>
                    <a:pt x="874" y="960"/>
                    <a:pt x="924" y="919"/>
                    <a:pt x="966" y="877"/>
                  </a:cubicBezTo>
                  <a:cubicBezTo>
                    <a:pt x="970" y="855"/>
                    <a:pt x="979" y="835"/>
                    <a:pt x="982" y="813"/>
                  </a:cubicBezTo>
                  <a:cubicBezTo>
                    <a:pt x="987" y="773"/>
                    <a:pt x="969" y="722"/>
                    <a:pt x="998" y="693"/>
                  </a:cubicBezTo>
                  <a:cubicBezTo>
                    <a:pt x="1012" y="679"/>
                    <a:pt x="1030" y="672"/>
                    <a:pt x="1046" y="661"/>
                  </a:cubicBezTo>
                  <a:cubicBezTo>
                    <a:pt x="1079" y="639"/>
                    <a:pt x="1091" y="618"/>
                    <a:pt x="1110" y="589"/>
                  </a:cubicBezTo>
                  <a:cubicBezTo>
                    <a:pt x="1117" y="531"/>
                    <a:pt x="1112" y="511"/>
                    <a:pt x="1166" y="493"/>
                  </a:cubicBezTo>
                  <a:cubicBezTo>
                    <a:pt x="1303" y="510"/>
                    <a:pt x="1449" y="529"/>
                    <a:pt x="1582" y="485"/>
                  </a:cubicBezTo>
                  <a:cubicBezTo>
                    <a:pt x="1611" y="456"/>
                    <a:pt x="1633" y="427"/>
                    <a:pt x="1646" y="389"/>
                  </a:cubicBezTo>
                  <a:cubicBezTo>
                    <a:pt x="1641" y="324"/>
                    <a:pt x="1656" y="286"/>
                    <a:pt x="1606" y="253"/>
                  </a:cubicBezTo>
                  <a:cubicBezTo>
                    <a:pt x="1587" y="196"/>
                    <a:pt x="1599" y="219"/>
                    <a:pt x="1574" y="181"/>
                  </a:cubicBezTo>
                  <a:cubicBezTo>
                    <a:pt x="1577" y="160"/>
                    <a:pt x="1565" y="131"/>
                    <a:pt x="1582" y="117"/>
                  </a:cubicBezTo>
                  <a:cubicBezTo>
                    <a:pt x="1603" y="100"/>
                    <a:pt x="1637" y="117"/>
                    <a:pt x="1662" y="109"/>
                  </a:cubicBezTo>
                  <a:cubicBezTo>
                    <a:pt x="1687" y="101"/>
                    <a:pt x="1683" y="45"/>
                    <a:pt x="1694" y="29"/>
                  </a:cubicBezTo>
                  <a:cubicBezTo>
                    <a:pt x="1703" y="16"/>
                    <a:pt x="1728" y="10"/>
                    <a:pt x="1742" y="5"/>
                  </a:cubicBezTo>
                  <a:cubicBezTo>
                    <a:pt x="1771" y="8"/>
                    <a:pt x="1804" y="0"/>
                    <a:pt x="1830" y="13"/>
                  </a:cubicBezTo>
                  <a:cubicBezTo>
                    <a:pt x="1931" y="63"/>
                    <a:pt x="1753" y="53"/>
                    <a:pt x="1870" y="53"/>
                  </a:cubicBezTo>
                </a:path>
              </a:pathLst>
            </a:custGeom>
            <a:noFill/>
            <a:ln w="57240">
              <a:solidFill>
                <a:srgbClr val="ff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55" name="Диаграмма 7" descr=""/>
          <p:cNvPicPr/>
          <p:nvPr/>
        </p:nvPicPr>
        <p:blipFill>
          <a:blip r:embed="rId1"/>
          <a:stretch/>
        </p:blipFill>
        <p:spPr>
          <a:xfrm>
            <a:off x="457200" y="115920"/>
            <a:ext cx="8577360" cy="65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6" name="Group 3"/>
          <p:cNvGrpSpPr/>
          <p:nvPr/>
        </p:nvGrpSpPr>
        <p:grpSpPr>
          <a:xfrm>
            <a:off x="250920" y="404640"/>
            <a:ext cx="1979640" cy="1366920"/>
            <a:chOff x="250920" y="404640"/>
            <a:chExt cx="1979640" cy="1366920"/>
          </a:xfrm>
        </p:grpSpPr>
        <p:sp>
          <p:nvSpPr>
            <p:cNvPr id="1057" name="Freeform 4"/>
            <p:cNvSpPr/>
            <p:nvPr/>
          </p:nvSpPr>
          <p:spPr>
            <a:xfrm>
              <a:off x="250920" y="407520"/>
              <a:ext cx="1502640" cy="308880"/>
            </a:xfrm>
            <a:custGeom>
              <a:avLst/>
              <a:gdLst>
                <a:gd name="textAreaLeft" fmla="*/ 0 w 1502640"/>
                <a:gd name="textAreaRight" fmla="*/ 1503000 w 1502640"/>
                <a:gd name="textAreaTop" fmla="*/ 0 h 308880"/>
                <a:gd name="textAreaBottom" fmla="*/ 308880 h 308880"/>
              </a:gdLst>
              <a:ahLst/>
              <a:rect l="textAreaLeft" t="textAreaTop" r="textAreaRight" b="textAreaBottom"/>
              <a:pathLst>
                <a:path w="4248" h="793">
                  <a:moveTo>
                    <a:pt x="0" y="704"/>
                  </a:moveTo>
                  <a:cubicBezTo>
                    <a:pt x="29" y="701"/>
                    <a:pt x="60" y="704"/>
                    <a:pt x="88" y="696"/>
                  </a:cubicBezTo>
                  <a:cubicBezTo>
                    <a:pt x="101" y="692"/>
                    <a:pt x="166" y="598"/>
                    <a:pt x="104" y="680"/>
                  </a:cubicBezTo>
                  <a:cubicBezTo>
                    <a:pt x="161" y="699"/>
                    <a:pt x="146" y="663"/>
                    <a:pt x="192" y="648"/>
                  </a:cubicBezTo>
                  <a:cubicBezTo>
                    <a:pt x="205" y="651"/>
                    <a:pt x="224" y="645"/>
                    <a:pt x="232" y="656"/>
                  </a:cubicBezTo>
                  <a:cubicBezTo>
                    <a:pt x="248" y="678"/>
                    <a:pt x="239" y="710"/>
                    <a:pt x="248" y="736"/>
                  </a:cubicBezTo>
                  <a:cubicBezTo>
                    <a:pt x="407" y="730"/>
                    <a:pt x="452" y="787"/>
                    <a:pt x="488" y="680"/>
                  </a:cubicBezTo>
                  <a:cubicBezTo>
                    <a:pt x="520" y="453"/>
                    <a:pt x="471" y="670"/>
                    <a:pt x="1000" y="616"/>
                  </a:cubicBezTo>
                  <a:cubicBezTo>
                    <a:pt x="1023" y="614"/>
                    <a:pt x="1062" y="547"/>
                    <a:pt x="1096" y="536"/>
                  </a:cubicBezTo>
                  <a:cubicBezTo>
                    <a:pt x="1115" y="508"/>
                    <a:pt x="1139" y="459"/>
                    <a:pt x="1168" y="440"/>
                  </a:cubicBezTo>
                  <a:cubicBezTo>
                    <a:pt x="1200" y="419"/>
                    <a:pt x="1276" y="419"/>
                    <a:pt x="1304" y="416"/>
                  </a:cubicBezTo>
                  <a:cubicBezTo>
                    <a:pt x="1327" y="381"/>
                    <a:pt x="1326" y="301"/>
                    <a:pt x="1360" y="296"/>
                  </a:cubicBezTo>
                  <a:cubicBezTo>
                    <a:pt x="1405" y="289"/>
                    <a:pt x="1451" y="291"/>
                    <a:pt x="1496" y="288"/>
                  </a:cubicBezTo>
                  <a:cubicBezTo>
                    <a:pt x="1538" y="274"/>
                    <a:pt x="1525" y="252"/>
                    <a:pt x="1560" y="232"/>
                  </a:cubicBezTo>
                  <a:cubicBezTo>
                    <a:pt x="1584" y="218"/>
                    <a:pt x="1614" y="217"/>
                    <a:pt x="1640" y="208"/>
                  </a:cubicBezTo>
                  <a:cubicBezTo>
                    <a:pt x="1648" y="205"/>
                    <a:pt x="1664" y="200"/>
                    <a:pt x="1664" y="200"/>
                  </a:cubicBezTo>
                  <a:cubicBezTo>
                    <a:pt x="1680" y="184"/>
                    <a:pt x="1696" y="168"/>
                    <a:pt x="1712" y="152"/>
                  </a:cubicBezTo>
                  <a:cubicBezTo>
                    <a:pt x="1720" y="144"/>
                    <a:pt x="1736" y="128"/>
                    <a:pt x="1736" y="128"/>
                  </a:cubicBezTo>
                  <a:cubicBezTo>
                    <a:pt x="1760" y="55"/>
                    <a:pt x="1725" y="69"/>
                    <a:pt x="1824" y="80"/>
                  </a:cubicBezTo>
                  <a:cubicBezTo>
                    <a:pt x="1835" y="83"/>
                    <a:pt x="1849" y="80"/>
                    <a:pt x="1856" y="88"/>
                  </a:cubicBezTo>
                  <a:cubicBezTo>
                    <a:pt x="1867" y="100"/>
                    <a:pt x="1878" y="182"/>
                    <a:pt x="1888" y="192"/>
                  </a:cubicBezTo>
                  <a:cubicBezTo>
                    <a:pt x="1896" y="200"/>
                    <a:pt x="1909" y="197"/>
                    <a:pt x="1920" y="200"/>
                  </a:cubicBezTo>
                  <a:cubicBezTo>
                    <a:pt x="1949" y="208"/>
                    <a:pt x="1942" y="206"/>
                    <a:pt x="1968" y="224"/>
                  </a:cubicBezTo>
                  <a:cubicBezTo>
                    <a:pt x="1971" y="232"/>
                    <a:pt x="1976" y="240"/>
                    <a:pt x="1976" y="248"/>
                  </a:cubicBezTo>
                  <a:cubicBezTo>
                    <a:pt x="1976" y="256"/>
                    <a:pt x="1965" y="264"/>
                    <a:pt x="1968" y="272"/>
                  </a:cubicBezTo>
                  <a:cubicBezTo>
                    <a:pt x="1979" y="299"/>
                    <a:pt x="2066" y="294"/>
                    <a:pt x="2088" y="296"/>
                  </a:cubicBezTo>
                  <a:cubicBezTo>
                    <a:pt x="2134" y="307"/>
                    <a:pt x="2178" y="325"/>
                    <a:pt x="2224" y="336"/>
                  </a:cubicBezTo>
                  <a:cubicBezTo>
                    <a:pt x="2244" y="377"/>
                    <a:pt x="2265" y="385"/>
                    <a:pt x="2296" y="416"/>
                  </a:cubicBezTo>
                  <a:cubicBezTo>
                    <a:pt x="2332" y="452"/>
                    <a:pt x="2289" y="432"/>
                    <a:pt x="2336" y="448"/>
                  </a:cubicBezTo>
                  <a:cubicBezTo>
                    <a:pt x="2341" y="464"/>
                    <a:pt x="2347" y="480"/>
                    <a:pt x="2352" y="496"/>
                  </a:cubicBezTo>
                  <a:cubicBezTo>
                    <a:pt x="2355" y="504"/>
                    <a:pt x="2360" y="520"/>
                    <a:pt x="2360" y="520"/>
                  </a:cubicBezTo>
                  <a:cubicBezTo>
                    <a:pt x="2354" y="538"/>
                    <a:pt x="2325" y="612"/>
                    <a:pt x="2352" y="624"/>
                  </a:cubicBezTo>
                  <a:cubicBezTo>
                    <a:pt x="2389" y="640"/>
                    <a:pt x="2432" y="629"/>
                    <a:pt x="2472" y="632"/>
                  </a:cubicBezTo>
                  <a:cubicBezTo>
                    <a:pt x="2488" y="637"/>
                    <a:pt x="2504" y="643"/>
                    <a:pt x="2520" y="648"/>
                  </a:cubicBezTo>
                  <a:cubicBezTo>
                    <a:pt x="2528" y="651"/>
                    <a:pt x="2544" y="656"/>
                    <a:pt x="2544" y="656"/>
                  </a:cubicBezTo>
                  <a:cubicBezTo>
                    <a:pt x="2572" y="677"/>
                    <a:pt x="2591" y="701"/>
                    <a:pt x="2624" y="712"/>
                  </a:cubicBezTo>
                  <a:cubicBezTo>
                    <a:pt x="2642" y="785"/>
                    <a:pt x="2622" y="764"/>
                    <a:pt x="2664" y="792"/>
                  </a:cubicBezTo>
                  <a:cubicBezTo>
                    <a:pt x="2707" y="789"/>
                    <a:pt x="2750" y="793"/>
                    <a:pt x="2792" y="784"/>
                  </a:cubicBezTo>
                  <a:cubicBezTo>
                    <a:pt x="2819" y="778"/>
                    <a:pt x="2832" y="712"/>
                    <a:pt x="2832" y="712"/>
                  </a:cubicBezTo>
                  <a:cubicBezTo>
                    <a:pt x="2839" y="646"/>
                    <a:pt x="2839" y="590"/>
                    <a:pt x="2896" y="552"/>
                  </a:cubicBezTo>
                  <a:cubicBezTo>
                    <a:pt x="2916" y="522"/>
                    <a:pt x="2946" y="476"/>
                    <a:pt x="2976" y="456"/>
                  </a:cubicBezTo>
                  <a:cubicBezTo>
                    <a:pt x="2989" y="447"/>
                    <a:pt x="3042" y="441"/>
                    <a:pt x="3048" y="440"/>
                  </a:cubicBezTo>
                  <a:cubicBezTo>
                    <a:pt x="3064" y="429"/>
                    <a:pt x="3080" y="419"/>
                    <a:pt x="3096" y="408"/>
                  </a:cubicBezTo>
                  <a:cubicBezTo>
                    <a:pt x="3106" y="401"/>
                    <a:pt x="3072" y="416"/>
                    <a:pt x="3064" y="424"/>
                  </a:cubicBezTo>
                  <a:cubicBezTo>
                    <a:pt x="3058" y="430"/>
                    <a:pt x="3081" y="421"/>
                    <a:pt x="3088" y="416"/>
                  </a:cubicBezTo>
                  <a:cubicBezTo>
                    <a:pt x="3096" y="411"/>
                    <a:pt x="3105" y="407"/>
                    <a:pt x="3112" y="400"/>
                  </a:cubicBezTo>
                  <a:cubicBezTo>
                    <a:pt x="3152" y="360"/>
                    <a:pt x="3125" y="379"/>
                    <a:pt x="3200" y="360"/>
                  </a:cubicBezTo>
                  <a:cubicBezTo>
                    <a:pt x="3211" y="357"/>
                    <a:pt x="3232" y="352"/>
                    <a:pt x="3232" y="352"/>
                  </a:cubicBezTo>
                  <a:cubicBezTo>
                    <a:pt x="3251" y="408"/>
                    <a:pt x="3307" y="331"/>
                    <a:pt x="3336" y="312"/>
                  </a:cubicBezTo>
                  <a:cubicBezTo>
                    <a:pt x="3440" y="242"/>
                    <a:pt x="3587" y="307"/>
                    <a:pt x="3712" y="304"/>
                  </a:cubicBezTo>
                  <a:cubicBezTo>
                    <a:pt x="3769" y="266"/>
                    <a:pt x="3829" y="263"/>
                    <a:pt x="3896" y="256"/>
                  </a:cubicBezTo>
                  <a:cubicBezTo>
                    <a:pt x="3908" y="221"/>
                    <a:pt x="3909" y="203"/>
                    <a:pt x="3936" y="176"/>
                  </a:cubicBezTo>
                  <a:cubicBezTo>
                    <a:pt x="3925" y="160"/>
                    <a:pt x="3908" y="147"/>
                    <a:pt x="3904" y="128"/>
                  </a:cubicBezTo>
                  <a:cubicBezTo>
                    <a:pt x="3900" y="108"/>
                    <a:pt x="3933" y="97"/>
                    <a:pt x="3944" y="96"/>
                  </a:cubicBezTo>
                  <a:cubicBezTo>
                    <a:pt x="3989" y="91"/>
                    <a:pt x="4035" y="91"/>
                    <a:pt x="4080" y="88"/>
                  </a:cubicBezTo>
                  <a:cubicBezTo>
                    <a:pt x="4168" y="73"/>
                    <a:pt x="4182" y="66"/>
                    <a:pt x="4248" y="0"/>
                  </a:cubicBezTo>
                </a:path>
              </a:pathLst>
            </a:custGeom>
            <a:noFill/>
            <a:ln w="57240">
              <a:solidFill>
                <a:srgbClr val="ff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Freeform 5"/>
            <p:cNvSpPr/>
            <p:nvPr/>
          </p:nvSpPr>
          <p:spPr>
            <a:xfrm>
              <a:off x="1760040" y="404640"/>
              <a:ext cx="465840" cy="649080"/>
            </a:xfrm>
            <a:custGeom>
              <a:avLst/>
              <a:gdLst>
                <a:gd name="textAreaLeft" fmla="*/ 0 w 465840"/>
                <a:gd name="textAreaRight" fmla="*/ 466200 w 465840"/>
                <a:gd name="textAreaTop" fmla="*/ 0 h 649080"/>
                <a:gd name="textAreaBottom" fmla="*/ 649080 h 649080"/>
              </a:gdLst>
              <a:ahLst/>
              <a:rect l="textAreaLeft" t="textAreaTop" r="textAreaRight" b="textAreaBottom"/>
              <a:pathLst>
                <a:path w="1317" h="1666">
                  <a:moveTo>
                    <a:pt x="5" y="0"/>
                  </a:moveTo>
                  <a:cubicBezTo>
                    <a:pt x="8" y="24"/>
                    <a:pt x="0" y="52"/>
                    <a:pt x="13" y="72"/>
                  </a:cubicBezTo>
                  <a:cubicBezTo>
                    <a:pt x="22" y="86"/>
                    <a:pt x="61" y="88"/>
                    <a:pt x="61" y="88"/>
                  </a:cubicBezTo>
                  <a:cubicBezTo>
                    <a:pt x="67" y="106"/>
                    <a:pt x="90" y="155"/>
                    <a:pt x="101" y="168"/>
                  </a:cubicBezTo>
                  <a:cubicBezTo>
                    <a:pt x="123" y="195"/>
                    <a:pt x="268" y="205"/>
                    <a:pt x="301" y="208"/>
                  </a:cubicBezTo>
                  <a:cubicBezTo>
                    <a:pt x="298" y="216"/>
                    <a:pt x="290" y="224"/>
                    <a:pt x="293" y="232"/>
                  </a:cubicBezTo>
                  <a:cubicBezTo>
                    <a:pt x="297" y="241"/>
                    <a:pt x="311" y="241"/>
                    <a:pt x="317" y="248"/>
                  </a:cubicBezTo>
                  <a:cubicBezTo>
                    <a:pt x="330" y="262"/>
                    <a:pt x="331" y="290"/>
                    <a:pt x="349" y="296"/>
                  </a:cubicBezTo>
                  <a:cubicBezTo>
                    <a:pt x="365" y="301"/>
                    <a:pt x="397" y="312"/>
                    <a:pt x="397" y="312"/>
                  </a:cubicBezTo>
                  <a:cubicBezTo>
                    <a:pt x="417" y="392"/>
                    <a:pt x="387" y="310"/>
                    <a:pt x="429" y="352"/>
                  </a:cubicBezTo>
                  <a:cubicBezTo>
                    <a:pt x="435" y="358"/>
                    <a:pt x="431" y="370"/>
                    <a:pt x="437" y="376"/>
                  </a:cubicBezTo>
                  <a:cubicBezTo>
                    <a:pt x="460" y="399"/>
                    <a:pt x="501" y="388"/>
                    <a:pt x="533" y="392"/>
                  </a:cubicBezTo>
                  <a:cubicBezTo>
                    <a:pt x="588" y="429"/>
                    <a:pt x="563" y="418"/>
                    <a:pt x="605" y="432"/>
                  </a:cubicBezTo>
                  <a:cubicBezTo>
                    <a:pt x="618" y="452"/>
                    <a:pt x="624" y="456"/>
                    <a:pt x="629" y="480"/>
                  </a:cubicBezTo>
                  <a:cubicBezTo>
                    <a:pt x="633" y="498"/>
                    <a:pt x="625" y="522"/>
                    <a:pt x="637" y="536"/>
                  </a:cubicBezTo>
                  <a:cubicBezTo>
                    <a:pt x="648" y="548"/>
                    <a:pt x="669" y="541"/>
                    <a:pt x="685" y="544"/>
                  </a:cubicBezTo>
                  <a:cubicBezTo>
                    <a:pt x="694" y="595"/>
                    <a:pt x="711" y="694"/>
                    <a:pt x="765" y="712"/>
                  </a:cubicBezTo>
                  <a:cubicBezTo>
                    <a:pt x="792" y="822"/>
                    <a:pt x="1029" y="804"/>
                    <a:pt x="1101" y="808"/>
                  </a:cubicBezTo>
                  <a:cubicBezTo>
                    <a:pt x="1095" y="840"/>
                    <a:pt x="1092" y="872"/>
                    <a:pt x="1085" y="904"/>
                  </a:cubicBezTo>
                  <a:cubicBezTo>
                    <a:pt x="1081" y="920"/>
                    <a:pt x="1083" y="943"/>
                    <a:pt x="1069" y="952"/>
                  </a:cubicBezTo>
                  <a:cubicBezTo>
                    <a:pt x="1027" y="980"/>
                    <a:pt x="997" y="1016"/>
                    <a:pt x="981" y="1064"/>
                  </a:cubicBezTo>
                  <a:cubicBezTo>
                    <a:pt x="993" y="1220"/>
                    <a:pt x="978" y="1182"/>
                    <a:pt x="1149" y="1192"/>
                  </a:cubicBezTo>
                  <a:cubicBezTo>
                    <a:pt x="1221" y="1240"/>
                    <a:pt x="1191" y="1277"/>
                    <a:pt x="1181" y="1384"/>
                  </a:cubicBezTo>
                  <a:cubicBezTo>
                    <a:pt x="1178" y="1412"/>
                    <a:pt x="1168" y="1407"/>
                    <a:pt x="1157" y="1432"/>
                  </a:cubicBezTo>
                  <a:cubicBezTo>
                    <a:pt x="1150" y="1447"/>
                    <a:pt x="1141" y="1480"/>
                    <a:pt x="1141" y="1480"/>
                  </a:cubicBezTo>
                  <a:cubicBezTo>
                    <a:pt x="1144" y="1496"/>
                    <a:pt x="1135" y="1520"/>
                    <a:pt x="1149" y="1528"/>
                  </a:cubicBezTo>
                  <a:cubicBezTo>
                    <a:pt x="1177" y="1543"/>
                    <a:pt x="1224" y="1512"/>
                    <a:pt x="1245" y="1536"/>
                  </a:cubicBezTo>
                  <a:cubicBezTo>
                    <a:pt x="1270" y="1564"/>
                    <a:pt x="1238" y="1614"/>
                    <a:pt x="1253" y="1648"/>
                  </a:cubicBezTo>
                  <a:cubicBezTo>
                    <a:pt x="1261" y="1666"/>
                    <a:pt x="1298" y="1664"/>
                    <a:pt x="1317" y="1664"/>
                  </a:cubicBezTo>
                </a:path>
              </a:pathLst>
            </a:custGeom>
            <a:noFill/>
            <a:ln w="57240">
              <a:solidFill>
                <a:srgbClr val="ff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Line 6"/>
            <p:cNvSpPr/>
            <p:nvPr/>
          </p:nvSpPr>
          <p:spPr>
            <a:xfrm>
              <a:off x="253800" y="788760"/>
              <a:ext cx="401040" cy="901800"/>
            </a:xfrm>
            <a:prstGeom prst="line">
              <a:avLst/>
            </a:prstGeom>
            <a:ln w="7632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Freeform 7"/>
            <p:cNvSpPr/>
            <p:nvPr/>
          </p:nvSpPr>
          <p:spPr>
            <a:xfrm>
              <a:off x="663840" y="1521360"/>
              <a:ext cx="879480" cy="250200"/>
            </a:xfrm>
            <a:custGeom>
              <a:avLst/>
              <a:gdLst>
                <a:gd name="textAreaLeft" fmla="*/ 0 w 879480"/>
                <a:gd name="textAreaRight" fmla="*/ 879840 w 879480"/>
                <a:gd name="textAreaTop" fmla="*/ 0 h 250200"/>
                <a:gd name="textAreaBottom" fmla="*/ 250200 h 250200"/>
              </a:gdLst>
              <a:ahLst/>
              <a:rect l="textAreaLeft" t="textAreaTop" r="textAreaRight" b="textAreaBottom"/>
              <a:pathLst>
                <a:path w="2487" h="642">
                  <a:moveTo>
                    <a:pt x="0" y="462"/>
                  </a:moveTo>
                  <a:cubicBezTo>
                    <a:pt x="37" y="453"/>
                    <a:pt x="51" y="446"/>
                    <a:pt x="72" y="414"/>
                  </a:cubicBezTo>
                  <a:cubicBezTo>
                    <a:pt x="91" y="339"/>
                    <a:pt x="135" y="396"/>
                    <a:pt x="192" y="358"/>
                  </a:cubicBezTo>
                  <a:cubicBezTo>
                    <a:pt x="220" y="316"/>
                    <a:pt x="252" y="279"/>
                    <a:pt x="280" y="238"/>
                  </a:cubicBezTo>
                  <a:cubicBezTo>
                    <a:pt x="290" y="66"/>
                    <a:pt x="257" y="91"/>
                    <a:pt x="400" y="78"/>
                  </a:cubicBezTo>
                  <a:cubicBezTo>
                    <a:pt x="405" y="70"/>
                    <a:pt x="412" y="63"/>
                    <a:pt x="416" y="54"/>
                  </a:cubicBezTo>
                  <a:cubicBezTo>
                    <a:pt x="423" y="39"/>
                    <a:pt x="432" y="6"/>
                    <a:pt x="432" y="6"/>
                  </a:cubicBezTo>
                  <a:cubicBezTo>
                    <a:pt x="461" y="9"/>
                    <a:pt x="494" y="0"/>
                    <a:pt x="520" y="14"/>
                  </a:cubicBezTo>
                  <a:cubicBezTo>
                    <a:pt x="558" y="34"/>
                    <a:pt x="519" y="87"/>
                    <a:pt x="568" y="102"/>
                  </a:cubicBezTo>
                  <a:cubicBezTo>
                    <a:pt x="586" y="107"/>
                    <a:pt x="605" y="107"/>
                    <a:pt x="624" y="110"/>
                  </a:cubicBezTo>
                  <a:cubicBezTo>
                    <a:pt x="621" y="131"/>
                    <a:pt x="616" y="153"/>
                    <a:pt x="616" y="174"/>
                  </a:cubicBezTo>
                  <a:cubicBezTo>
                    <a:pt x="616" y="347"/>
                    <a:pt x="616" y="278"/>
                    <a:pt x="832" y="286"/>
                  </a:cubicBezTo>
                  <a:cubicBezTo>
                    <a:pt x="848" y="642"/>
                    <a:pt x="860" y="478"/>
                    <a:pt x="1392" y="486"/>
                  </a:cubicBezTo>
                  <a:cubicBezTo>
                    <a:pt x="1453" y="527"/>
                    <a:pt x="1531" y="510"/>
                    <a:pt x="1600" y="502"/>
                  </a:cubicBezTo>
                  <a:cubicBezTo>
                    <a:pt x="1610" y="471"/>
                    <a:pt x="1630" y="469"/>
                    <a:pt x="1640" y="438"/>
                  </a:cubicBezTo>
                  <a:cubicBezTo>
                    <a:pt x="1656" y="314"/>
                    <a:pt x="1694" y="365"/>
                    <a:pt x="1856" y="358"/>
                  </a:cubicBezTo>
                  <a:cubicBezTo>
                    <a:pt x="1908" y="332"/>
                    <a:pt x="1932" y="319"/>
                    <a:pt x="1992" y="310"/>
                  </a:cubicBezTo>
                  <a:cubicBezTo>
                    <a:pt x="2079" y="281"/>
                    <a:pt x="2168" y="308"/>
                    <a:pt x="2256" y="318"/>
                  </a:cubicBezTo>
                  <a:cubicBezTo>
                    <a:pt x="2259" y="326"/>
                    <a:pt x="2257" y="338"/>
                    <a:pt x="2264" y="342"/>
                  </a:cubicBezTo>
                  <a:cubicBezTo>
                    <a:pt x="2278" y="350"/>
                    <a:pt x="2296" y="346"/>
                    <a:pt x="2312" y="350"/>
                  </a:cubicBezTo>
                  <a:cubicBezTo>
                    <a:pt x="2337" y="356"/>
                    <a:pt x="2338" y="360"/>
                    <a:pt x="2360" y="374"/>
                  </a:cubicBezTo>
                  <a:cubicBezTo>
                    <a:pt x="2365" y="390"/>
                    <a:pt x="2371" y="406"/>
                    <a:pt x="2376" y="422"/>
                  </a:cubicBezTo>
                  <a:cubicBezTo>
                    <a:pt x="2381" y="437"/>
                    <a:pt x="2377" y="455"/>
                    <a:pt x="2384" y="470"/>
                  </a:cubicBezTo>
                  <a:cubicBezTo>
                    <a:pt x="2392" y="486"/>
                    <a:pt x="2428" y="491"/>
                    <a:pt x="2440" y="494"/>
                  </a:cubicBezTo>
                  <a:cubicBezTo>
                    <a:pt x="2444" y="516"/>
                    <a:pt x="2440" y="542"/>
                    <a:pt x="2456" y="558"/>
                  </a:cubicBezTo>
                  <a:cubicBezTo>
                    <a:pt x="2462" y="564"/>
                    <a:pt x="2478" y="558"/>
                    <a:pt x="2480" y="566"/>
                  </a:cubicBezTo>
                  <a:cubicBezTo>
                    <a:pt x="2487" y="589"/>
                    <a:pt x="2480" y="614"/>
                    <a:pt x="2480" y="638"/>
                  </a:cubicBezTo>
                </a:path>
              </a:pathLst>
            </a:custGeom>
            <a:noFill/>
            <a:ln w="76320">
              <a:solidFill>
                <a:srgbClr val="ff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Freeform 8"/>
            <p:cNvSpPr/>
            <p:nvPr/>
          </p:nvSpPr>
          <p:spPr>
            <a:xfrm>
              <a:off x="1547640" y="1041840"/>
              <a:ext cx="682920" cy="715680"/>
            </a:xfrm>
            <a:custGeom>
              <a:avLst/>
              <a:gdLst>
                <a:gd name="textAreaLeft" fmla="*/ 0 w 682920"/>
                <a:gd name="textAreaRight" fmla="*/ 683280 w 682920"/>
                <a:gd name="textAreaTop" fmla="*/ 0 h 715680"/>
                <a:gd name="textAreaBottom" fmla="*/ 716040 h 715680"/>
              </a:gdLst>
              <a:ahLst/>
              <a:rect l="textAreaLeft" t="textAreaTop" r="textAreaRight" b="textAreaBottom"/>
              <a:pathLst>
                <a:path w="1931" h="1837">
                  <a:moveTo>
                    <a:pt x="46" y="1837"/>
                  </a:moveTo>
                  <a:cubicBezTo>
                    <a:pt x="143" y="1831"/>
                    <a:pt x="169" y="1828"/>
                    <a:pt x="246" y="1813"/>
                  </a:cubicBezTo>
                  <a:cubicBezTo>
                    <a:pt x="251" y="1805"/>
                    <a:pt x="259" y="1798"/>
                    <a:pt x="262" y="1789"/>
                  </a:cubicBezTo>
                  <a:cubicBezTo>
                    <a:pt x="267" y="1771"/>
                    <a:pt x="260" y="1749"/>
                    <a:pt x="270" y="1733"/>
                  </a:cubicBezTo>
                  <a:cubicBezTo>
                    <a:pt x="280" y="1717"/>
                    <a:pt x="318" y="1701"/>
                    <a:pt x="318" y="1701"/>
                  </a:cubicBezTo>
                  <a:cubicBezTo>
                    <a:pt x="323" y="1693"/>
                    <a:pt x="333" y="1687"/>
                    <a:pt x="334" y="1677"/>
                  </a:cubicBezTo>
                  <a:cubicBezTo>
                    <a:pt x="341" y="1610"/>
                    <a:pt x="317" y="1617"/>
                    <a:pt x="270" y="1605"/>
                  </a:cubicBezTo>
                  <a:cubicBezTo>
                    <a:pt x="267" y="1581"/>
                    <a:pt x="273" y="1555"/>
                    <a:pt x="262" y="1533"/>
                  </a:cubicBezTo>
                  <a:cubicBezTo>
                    <a:pt x="257" y="1523"/>
                    <a:pt x="241" y="1528"/>
                    <a:pt x="230" y="1525"/>
                  </a:cubicBezTo>
                  <a:cubicBezTo>
                    <a:pt x="166" y="1506"/>
                    <a:pt x="101" y="1490"/>
                    <a:pt x="38" y="1469"/>
                  </a:cubicBezTo>
                  <a:cubicBezTo>
                    <a:pt x="23" y="1447"/>
                    <a:pt x="0" y="1417"/>
                    <a:pt x="22" y="1389"/>
                  </a:cubicBezTo>
                  <a:cubicBezTo>
                    <a:pt x="27" y="1382"/>
                    <a:pt x="38" y="1385"/>
                    <a:pt x="46" y="1381"/>
                  </a:cubicBezTo>
                  <a:cubicBezTo>
                    <a:pt x="55" y="1377"/>
                    <a:pt x="62" y="1370"/>
                    <a:pt x="70" y="1365"/>
                  </a:cubicBezTo>
                  <a:cubicBezTo>
                    <a:pt x="123" y="1383"/>
                    <a:pt x="76" y="1376"/>
                    <a:pt x="110" y="1301"/>
                  </a:cubicBezTo>
                  <a:cubicBezTo>
                    <a:pt x="115" y="1289"/>
                    <a:pt x="147" y="1280"/>
                    <a:pt x="158" y="1277"/>
                  </a:cubicBezTo>
                  <a:cubicBezTo>
                    <a:pt x="192" y="1267"/>
                    <a:pt x="230" y="1269"/>
                    <a:pt x="262" y="1253"/>
                  </a:cubicBezTo>
                  <a:cubicBezTo>
                    <a:pt x="314" y="1227"/>
                    <a:pt x="257" y="1248"/>
                    <a:pt x="310" y="1213"/>
                  </a:cubicBezTo>
                  <a:cubicBezTo>
                    <a:pt x="370" y="1173"/>
                    <a:pt x="286" y="1269"/>
                    <a:pt x="382" y="1173"/>
                  </a:cubicBezTo>
                  <a:cubicBezTo>
                    <a:pt x="403" y="1152"/>
                    <a:pt x="425" y="1127"/>
                    <a:pt x="454" y="1117"/>
                  </a:cubicBezTo>
                  <a:cubicBezTo>
                    <a:pt x="505" y="1100"/>
                    <a:pt x="548" y="1078"/>
                    <a:pt x="598" y="1061"/>
                  </a:cubicBezTo>
                  <a:cubicBezTo>
                    <a:pt x="641" y="1047"/>
                    <a:pt x="689" y="1056"/>
                    <a:pt x="734" y="1053"/>
                  </a:cubicBezTo>
                  <a:cubicBezTo>
                    <a:pt x="798" y="1010"/>
                    <a:pt x="721" y="1066"/>
                    <a:pt x="774" y="1013"/>
                  </a:cubicBezTo>
                  <a:cubicBezTo>
                    <a:pt x="801" y="986"/>
                    <a:pt x="793" y="1005"/>
                    <a:pt x="822" y="989"/>
                  </a:cubicBezTo>
                  <a:cubicBezTo>
                    <a:pt x="874" y="960"/>
                    <a:pt x="924" y="919"/>
                    <a:pt x="966" y="877"/>
                  </a:cubicBezTo>
                  <a:cubicBezTo>
                    <a:pt x="970" y="855"/>
                    <a:pt x="979" y="835"/>
                    <a:pt x="982" y="813"/>
                  </a:cubicBezTo>
                  <a:cubicBezTo>
                    <a:pt x="987" y="773"/>
                    <a:pt x="969" y="722"/>
                    <a:pt x="998" y="693"/>
                  </a:cubicBezTo>
                  <a:cubicBezTo>
                    <a:pt x="1012" y="679"/>
                    <a:pt x="1030" y="672"/>
                    <a:pt x="1046" y="661"/>
                  </a:cubicBezTo>
                  <a:cubicBezTo>
                    <a:pt x="1079" y="639"/>
                    <a:pt x="1091" y="618"/>
                    <a:pt x="1110" y="589"/>
                  </a:cubicBezTo>
                  <a:cubicBezTo>
                    <a:pt x="1117" y="531"/>
                    <a:pt x="1112" y="511"/>
                    <a:pt x="1166" y="493"/>
                  </a:cubicBezTo>
                  <a:cubicBezTo>
                    <a:pt x="1303" y="510"/>
                    <a:pt x="1449" y="529"/>
                    <a:pt x="1582" y="485"/>
                  </a:cubicBezTo>
                  <a:cubicBezTo>
                    <a:pt x="1611" y="456"/>
                    <a:pt x="1633" y="427"/>
                    <a:pt x="1646" y="389"/>
                  </a:cubicBezTo>
                  <a:cubicBezTo>
                    <a:pt x="1641" y="324"/>
                    <a:pt x="1656" y="286"/>
                    <a:pt x="1606" y="253"/>
                  </a:cubicBezTo>
                  <a:cubicBezTo>
                    <a:pt x="1587" y="196"/>
                    <a:pt x="1599" y="219"/>
                    <a:pt x="1574" y="181"/>
                  </a:cubicBezTo>
                  <a:cubicBezTo>
                    <a:pt x="1577" y="160"/>
                    <a:pt x="1565" y="131"/>
                    <a:pt x="1582" y="117"/>
                  </a:cubicBezTo>
                  <a:cubicBezTo>
                    <a:pt x="1603" y="100"/>
                    <a:pt x="1637" y="117"/>
                    <a:pt x="1662" y="109"/>
                  </a:cubicBezTo>
                  <a:cubicBezTo>
                    <a:pt x="1687" y="101"/>
                    <a:pt x="1683" y="45"/>
                    <a:pt x="1694" y="29"/>
                  </a:cubicBezTo>
                  <a:cubicBezTo>
                    <a:pt x="1703" y="16"/>
                    <a:pt x="1728" y="10"/>
                    <a:pt x="1742" y="5"/>
                  </a:cubicBezTo>
                  <a:cubicBezTo>
                    <a:pt x="1771" y="8"/>
                    <a:pt x="1804" y="0"/>
                    <a:pt x="1830" y="13"/>
                  </a:cubicBezTo>
                  <a:cubicBezTo>
                    <a:pt x="1931" y="63"/>
                    <a:pt x="1753" y="53"/>
                    <a:pt x="1870" y="53"/>
                  </a:cubicBezTo>
                </a:path>
              </a:pathLst>
            </a:custGeom>
            <a:noFill/>
            <a:ln w="57240">
              <a:solidFill>
                <a:srgbClr val="ff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2" name="Прямоугольник 7"/>
          <p:cNvSpPr/>
          <p:nvPr/>
        </p:nvSpPr>
        <p:spPr>
          <a:xfrm>
            <a:off x="254160" y="260280"/>
            <a:ext cx="871056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7030a0"/>
                </a:solidFill>
                <a:latin typeface="Calibri"/>
                <a:ea typeface="Calibri"/>
              </a:rPr>
              <a:t>            </a:t>
            </a:r>
            <a:r>
              <a:rPr b="1" lang="ru-RU" sz="5400" spc="-1" strike="noStrike">
                <a:solidFill>
                  <a:srgbClr val="7030a0"/>
                </a:solidFill>
                <a:latin typeface="Calibri"/>
                <a:ea typeface="Calibri"/>
              </a:rPr>
              <a:t>Численность     населения в Алтайском крае на 1 января 2010 г. составила около </a:t>
            </a:r>
            <a:r>
              <a:rPr b="1" i="1" lang="ru-RU" sz="5400" spc="-1" strike="noStrike">
                <a:solidFill>
                  <a:srgbClr val="7030a0"/>
                </a:solidFill>
                <a:latin typeface="Calibri"/>
                <a:ea typeface="Calibri"/>
              </a:rPr>
              <a:t>2490,7 тыс</a:t>
            </a:r>
            <a:r>
              <a:rPr b="1" lang="ru-RU" sz="5400" spc="-1" strike="noStrike">
                <a:solidFill>
                  <a:srgbClr val="7030a0"/>
                </a:solidFill>
                <a:latin typeface="Calibri"/>
                <a:ea typeface="Calibri"/>
              </a:rPr>
              <a:t>. человек (</a:t>
            </a:r>
            <a:r>
              <a:rPr b="1" i="1" lang="ru-RU" sz="5400" spc="-1" strike="noStrike">
                <a:solidFill>
                  <a:srgbClr val="7030a0"/>
                </a:solidFill>
                <a:latin typeface="Calibri"/>
                <a:ea typeface="Calibri"/>
              </a:rPr>
              <a:t>12,73%</a:t>
            </a:r>
            <a:r>
              <a:rPr b="1" lang="ru-RU" sz="5400" spc="-1" strike="noStrike">
                <a:solidFill>
                  <a:srgbClr val="7030a0"/>
                </a:solidFill>
                <a:latin typeface="Calibri"/>
                <a:ea typeface="Calibri"/>
              </a:rPr>
              <a:t> населения и </a:t>
            </a:r>
            <a:r>
              <a:rPr b="1" i="1" lang="ru-RU" sz="5400" spc="-1" strike="noStrike">
                <a:solidFill>
                  <a:srgbClr val="7030a0"/>
                </a:solidFill>
                <a:latin typeface="Calibri"/>
                <a:ea typeface="Calibri"/>
              </a:rPr>
              <a:t>5</a:t>
            </a:r>
            <a:r>
              <a:rPr b="1" lang="ru-RU" sz="5400" spc="-1" strike="noStrike">
                <a:solidFill>
                  <a:srgbClr val="7030a0"/>
                </a:solidFill>
                <a:latin typeface="Calibri"/>
                <a:ea typeface="Calibri"/>
              </a:rPr>
              <a:t> место в СФО, </a:t>
            </a:r>
            <a:r>
              <a:rPr b="1" i="1" lang="ru-RU" sz="5400" spc="-1" strike="noStrike">
                <a:solidFill>
                  <a:srgbClr val="7030a0"/>
                </a:solidFill>
                <a:latin typeface="Calibri"/>
                <a:ea typeface="Calibri"/>
              </a:rPr>
              <a:t>1,76%</a:t>
            </a:r>
            <a:r>
              <a:rPr b="1" lang="ru-RU" sz="5400" spc="-1" strike="noStrike">
                <a:solidFill>
                  <a:srgbClr val="7030a0"/>
                </a:solidFill>
                <a:latin typeface="Calibri"/>
                <a:ea typeface="Calibri"/>
              </a:rPr>
              <a:t> и </a:t>
            </a:r>
            <a:r>
              <a:rPr b="1" i="1" lang="ru-RU" sz="5400" spc="-1" strike="noStrike">
                <a:solidFill>
                  <a:srgbClr val="7030a0"/>
                </a:solidFill>
                <a:latin typeface="Calibri"/>
                <a:ea typeface="Calibri"/>
              </a:rPr>
              <a:t>22</a:t>
            </a:r>
            <a:r>
              <a:rPr b="1" lang="ru-RU" sz="5400" spc="-1" strike="noStrike">
                <a:solidFill>
                  <a:srgbClr val="7030a0"/>
                </a:solidFill>
                <a:latin typeface="Calibri"/>
                <a:ea typeface="Calibri"/>
              </a:rPr>
              <a:t> место в РФ).</a:t>
            </a:r>
            <a:r>
              <a:rPr b="1" lang="ru-RU" sz="5400" spc="-1" strike="noStrike" u="sng">
                <a:solidFill>
                  <a:srgbClr val="7030a0"/>
                </a:solidFill>
                <a:uFillTx/>
                <a:latin typeface="Times New Roman"/>
                <a:ea typeface="Calibri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32" dur="2000"/>
                                        <p:tgtEl>
                                          <p:spTgt spid="10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3" name="Group 3"/>
          <p:cNvGrpSpPr/>
          <p:nvPr/>
        </p:nvGrpSpPr>
        <p:grpSpPr>
          <a:xfrm>
            <a:off x="250920" y="404640"/>
            <a:ext cx="1979640" cy="1366920"/>
            <a:chOff x="250920" y="404640"/>
            <a:chExt cx="1979640" cy="1366920"/>
          </a:xfrm>
        </p:grpSpPr>
        <p:sp>
          <p:nvSpPr>
            <p:cNvPr id="1064" name="Freeform 4"/>
            <p:cNvSpPr/>
            <p:nvPr/>
          </p:nvSpPr>
          <p:spPr>
            <a:xfrm>
              <a:off x="250920" y="407520"/>
              <a:ext cx="1502640" cy="308880"/>
            </a:xfrm>
            <a:custGeom>
              <a:avLst/>
              <a:gdLst>
                <a:gd name="textAreaLeft" fmla="*/ 0 w 1502640"/>
                <a:gd name="textAreaRight" fmla="*/ 1503000 w 1502640"/>
                <a:gd name="textAreaTop" fmla="*/ 0 h 308880"/>
                <a:gd name="textAreaBottom" fmla="*/ 308880 h 308880"/>
              </a:gdLst>
              <a:ahLst/>
              <a:rect l="textAreaLeft" t="textAreaTop" r="textAreaRight" b="textAreaBottom"/>
              <a:pathLst>
                <a:path w="4248" h="793">
                  <a:moveTo>
                    <a:pt x="0" y="704"/>
                  </a:moveTo>
                  <a:cubicBezTo>
                    <a:pt x="29" y="701"/>
                    <a:pt x="60" y="704"/>
                    <a:pt x="88" y="696"/>
                  </a:cubicBezTo>
                  <a:cubicBezTo>
                    <a:pt x="101" y="692"/>
                    <a:pt x="166" y="598"/>
                    <a:pt x="104" y="680"/>
                  </a:cubicBezTo>
                  <a:cubicBezTo>
                    <a:pt x="161" y="699"/>
                    <a:pt x="146" y="663"/>
                    <a:pt x="192" y="648"/>
                  </a:cubicBezTo>
                  <a:cubicBezTo>
                    <a:pt x="205" y="651"/>
                    <a:pt x="224" y="645"/>
                    <a:pt x="232" y="656"/>
                  </a:cubicBezTo>
                  <a:cubicBezTo>
                    <a:pt x="248" y="678"/>
                    <a:pt x="239" y="710"/>
                    <a:pt x="248" y="736"/>
                  </a:cubicBezTo>
                  <a:cubicBezTo>
                    <a:pt x="407" y="730"/>
                    <a:pt x="452" y="787"/>
                    <a:pt x="488" y="680"/>
                  </a:cubicBezTo>
                  <a:cubicBezTo>
                    <a:pt x="520" y="453"/>
                    <a:pt x="471" y="670"/>
                    <a:pt x="1000" y="616"/>
                  </a:cubicBezTo>
                  <a:cubicBezTo>
                    <a:pt x="1023" y="614"/>
                    <a:pt x="1062" y="547"/>
                    <a:pt x="1096" y="536"/>
                  </a:cubicBezTo>
                  <a:cubicBezTo>
                    <a:pt x="1115" y="508"/>
                    <a:pt x="1139" y="459"/>
                    <a:pt x="1168" y="440"/>
                  </a:cubicBezTo>
                  <a:cubicBezTo>
                    <a:pt x="1200" y="419"/>
                    <a:pt x="1276" y="419"/>
                    <a:pt x="1304" y="416"/>
                  </a:cubicBezTo>
                  <a:cubicBezTo>
                    <a:pt x="1327" y="381"/>
                    <a:pt x="1326" y="301"/>
                    <a:pt x="1360" y="296"/>
                  </a:cubicBezTo>
                  <a:cubicBezTo>
                    <a:pt x="1405" y="289"/>
                    <a:pt x="1451" y="291"/>
                    <a:pt x="1496" y="288"/>
                  </a:cubicBezTo>
                  <a:cubicBezTo>
                    <a:pt x="1538" y="274"/>
                    <a:pt x="1525" y="252"/>
                    <a:pt x="1560" y="232"/>
                  </a:cubicBezTo>
                  <a:cubicBezTo>
                    <a:pt x="1584" y="218"/>
                    <a:pt x="1614" y="217"/>
                    <a:pt x="1640" y="208"/>
                  </a:cubicBezTo>
                  <a:cubicBezTo>
                    <a:pt x="1648" y="205"/>
                    <a:pt x="1664" y="200"/>
                    <a:pt x="1664" y="200"/>
                  </a:cubicBezTo>
                  <a:cubicBezTo>
                    <a:pt x="1680" y="184"/>
                    <a:pt x="1696" y="168"/>
                    <a:pt x="1712" y="152"/>
                  </a:cubicBezTo>
                  <a:cubicBezTo>
                    <a:pt x="1720" y="144"/>
                    <a:pt x="1736" y="128"/>
                    <a:pt x="1736" y="128"/>
                  </a:cubicBezTo>
                  <a:cubicBezTo>
                    <a:pt x="1760" y="55"/>
                    <a:pt x="1725" y="69"/>
                    <a:pt x="1824" y="80"/>
                  </a:cubicBezTo>
                  <a:cubicBezTo>
                    <a:pt x="1835" y="83"/>
                    <a:pt x="1849" y="80"/>
                    <a:pt x="1856" y="88"/>
                  </a:cubicBezTo>
                  <a:cubicBezTo>
                    <a:pt x="1867" y="100"/>
                    <a:pt x="1878" y="182"/>
                    <a:pt x="1888" y="192"/>
                  </a:cubicBezTo>
                  <a:cubicBezTo>
                    <a:pt x="1896" y="200"/>
                    <a:pt x="1909" y="197"/>
                    <a:pt x="1920" y="200"/>
                  </a:cubicBezTo>
                  <a:cubicBezTo>
                    <a:pt x="1949" y="208"/>
                    <a:pt x="1942" y="206"/>
                    <a:pt x="1968" y="224"/>
                  </a:cubicBezTo>
                  <a:cubicBezTo>
                    <a:pt x="1971" y="232"/>
                    <a:pt x="1976" y="240"/>
                    <a:pt x="1976" y="248"/>
                  </a:cubicBezTo>
                  <a:cubicBezTo>
                    <a:pt x="1976" y="256"/>
                    <a:pt x="1965" y="264"/>
                    <a:pt x="1968" y="272"/>
                  </a:cubicBezTo>
                  <a:cubicBezTo>
                    <a:pt x="1979" y="299"/>
                    <a:pt x="2066" y="294"/>
                    <a:pt x="2088" y="296"/>
                  </a:cubicBezTo>
                  <a:cubicBezTo>
                    <a:pt x="2134" y="307"/>
                    <a:pt x="2178" y="325"/>
                    <a:pt x="2224" y="336"/>
                  </a:cubicBezTo>
                  <a:cubicBezTo>
                    <a:pt x="2244" y="377"/>
                    <a:pt x="2265" y="385"/>
                    <a:pt x="2296" y="416"/>
                  </a:cubicBezTo>
                  <a:cubicBezTo>
                    <a:pt x="2332" y="452"/>
                    <a:pt x="2289" y="432"/>
                    <a:pt x="2336" y="448"/>
                  </a:cubicBezTo>
                  <a:cubicBezTo>
                    <a:pt x="2341" y="464"/>
                    <a:pt x="2347" y="480"/>
                    <a:pt x="2352" y="496"/>
                  </a:cubicBezTo>
                  <a:cubicBezTo>
                    <a:pt x="2355" y="504"/>
                    <a:pt x="2360" y="520"/>
                    <a:pt x="2360" y="520"/>
                  </a:cubicBezTo>
                  <a:cubicBezTo>
                    <a:pt x="2354" y="538"/>
                    <a:pt x="2325" y="612"/>
                    <a:pt x="2352" y="624"/>
                  </a:cubicBezTo>
                  <a:cubicBezTo>
                    <a:pt x="2389" y="640"/>
                    <a:pt x="2432" y="629"/>
                    <a:pt x="2472" y="632"/>
                  </a:cubicBezTo>
                  <a:cubicBezTo>
                    <a:pt x="2488" y="637"/>
                    <a:pt x="2504" y="643"/>
                    <a:pt x="2520" y="648"/>
                  </a:cubicBezTo>
                  <a:cubicBezTo>
                    <a:pt x="2528" y="651"/>
                    <a:pt x="2544" y="656"/>
                    <a:pt x="2544" y="656"/>
                  </a:cubicBezTo>
                  <a:cubicBezTo>
                    <a:pt x="2572" y="677"/>
                    <a:pt x="2591" y="701"/>
                    <a:pt x="2624" y="712"/>
                  </a:cubicBezTo>
                  <a:cubicBezTo>
                    <a:pt x="2642" y="785"/>
                    <a:pt x="2622" y="764"/>
                    <a:pt x="2664" y="792"/>
                  </a:cubicBezTo>
                  <a:cubicBezTo>
                    <a:pt x="2707" y="789"/>
                    <a:pt x="2750" y="793"/>
                    <a:pt x="2792" y="784"/>
                  </a:cubicBezTo>
                  <a:cubicBezTo>
                    <a:pt x="2819" y="778"/>
                    <a:pt x="2832" y="712"/>
                    <a:pt x="2832" y="712"/>
                  </a:cubicBezTo>
                  <a:cubicBezTo>
                    <a:pt x="2839" y="646"/>
                    <a:pt x="2839" y="590"/>
                    <a:pt x="2896" y="552"/>
                  </a:cubicBezTo>
                  <a:cubicBezTo>
                    <a:pt x="2916" y="522"/>
                    <a:pt x="2946" y="476"/>
                    <a:pt x="2976" y="456"/>
                  </a:cubicBezTo>
                  <a:cubicBezTo>
                    <a:pt x="2989" y="447"/>
                    <a:pt x="3042" y="441"/>
                    <a:pt x="3048" y="440"/>
                  </a:cubicBezTo>
                  <a:cubicBezTo>
                    <a:pt x="3064" y="429"/>
                    <a:pt x="3080" y="419"/>
                    <a:pt x="3096" y="408"/>
                  </a:cubicBezTo>
                  <a:cubicBezTo>
                    <a:pt x="3106" y="401"/>
                    <a:pt x="3072" y="416"/>
                    <a:pt x="3064" y="424"/>
                  </a:cubicBezTo>
                  <a:cubicBezTo>
                    <a:pt x="3058" y="430"/>
                    <a:pt x="3081" y="421"/>
                    <a:pt x="3088" y="416"/>
                  </a:cubicBezTo>
                  <a:cubicBezTo>
                    <a:pt x="3096" y="411"/>
                    <a:pt x="3105" y="407"/>
                    <a:pt x="3112" y="400"/>
                  </a:cubicBezTo>
                  <a:cubicBezTo>
                    <a:pt x="3152" y="360"/>
                    <a:pt x="3125" y="379"/>
                    <a:pt x="3200" y="360"/>
                  </a:cubicBezTo>
                  <a:cubicBezTo>
                    <a:pt x="3211" y="357"/>
                    <a:pt x="3232" y="352"/>
                    <a:pt x="3232" y="352"/>
                  </a:cubicBezTo>
                  <a:cubicBezTo>
                    <a:pt x="3251" y="408"/>
                    <a:pt x="3307" y="331"/>
                    <a:pt x="3336" y="312"/>
                  </a:cubicBezTo>
                  <a:cubicBezTo>
                    <a:pt x="3440" y="242"/>
                    <a:pt x="3587" y="307"/>
                    <a:pt x="3712" y="304"/>
                  </a:cubicBezTo>
                  <a:cubicBezTo>
                    <a:pt x="3769" y="266"/>
                    <a:pt x="3829" y="263"/>
                    <a:pt x="3896" y="256"/>
                  </a:cubicBezTo>
                  <a:cubicBezTo>
                    <a:pt x="3908" y="221"/>
                    <a:pt x="3909" y="203"/>
                    <a:pt x="3936" y="176"/>
                  </a:cubicBezTo>
                  <a:cubicBezTo>
                    <a:pt x="3925" y="160"/>
                    <a:pt x="3908" y="147"/>
                    <a:pt x="3904" y="128"/>
                  </a:cubicBezTo>
                  <a:cubicBezTo>
                    <a:pt x="3900" y="108"/>
                    <a:pt x="3933" y="97"/>
                    <a:pt x="3944" y="96"/>
                  </a:cubicBezTo>
                  <a:cubicBezTo>
                    <a:pt x="3989" y="91"/>
                    <a:pt x="4035" y="91"/>
                    <a:pt x="4080" y="88"/>
                  </a:cubicBezTo>
                  <a:cubicBezTo>
                    <a:pt x="4168" y="73"/>
                    <a:pt x="4182" y="66"/>
                    <a:pt x="4248" y="0"/>
                  </a:cubicBezTo>
                </a:path>
              </a:pathLst>
            </a:custGeom>
            <a:noFill/>
            <a:ln w="57240">
              <a:solidFill>
                <a:srgbClr val="ff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Freeform 5"/>
            <p:cNvSpPr/>
            <p:nvPr/>
          </p:nvSpPr>
          <p:spPr>
            <a:xfrm>
              <a:off x="1760040" y="404640"/>
              <a:ext cx="465840" cy="649080"/>
            </a:xfrm>
            <a:custGeom>
              <a:avLst/>
              <a:gdLst>
                <a:gd name="textAreaLeft" fmla="*/ 0 w 465840"/>
                <a:gd name="textAreaRight" fmla="*/ 466200 w 465840"/>
                <a:gd name="textAreaTop" fmla="*/ 0 h 649080"/>
                <a:gd name="textAreaBottom" fmla="*/ 649080 h 649080"/>
              </a:gdLst>
              <a:ahLst/>
              <a:rect l="textAreaLeft" t="textAreaTop" r="textAreaRight" b="textAreaBottom"/>
              <a:pathLst>
                <a:path w="1317" h="1666">
                  <a:moveTo>
                    <a:pt x="5" y="0"/>
                  </a:moveTo>
                  <a:cubicBezTo>
                    <a:pt x="8" y="24"/>
                    <a:pt x="0" y="52"/>
                    <a:pt x="13" y="72"/>
                  </a:cubicBezTo>
                  <a:cubicBezTo>
                    <a:pt x="22" y="86"/>
                    <a:pt x="61" y="88"/>
                    <a:pt x="61" y="88"/>
                  </a:cubicBezTo>
                  <a:cubicBezTo>
                    <a:pt x="67" y="106"/>
                    <a:pt x="90" y="155"/>
                    <a:pt x="101" y="168"/>
                  </a:cubicBezTo>
                  <a:cubicBezTo>
                    <a:pt x="123" y="195"/>
                    <a:pt x="268" y="205"/>
                    <a:pt x="301" y="208"/>
                  </a:cubicBezTo>
                  <a:cubicBezTo>
                    <a:pt x="298" y="216"/>
                    <a:pt x="290" y="224"/>
                    <a:pt x="293" y="232"/>
                  </a:cubicBezTo>
                  <a:cubicBezTo>
                    <a:pt x="297" y="241"/>
                    <a:pt x="311" y="241"/>
                    <a:pt x="317" y="248"/>
                  </a:cubicBezTo>
                  <a:cubicBezTo>
                    <a:pt x="330" y="262"/>
                    <a:pt x="331" y="290"/>
                    <a:pt x="349" y="296"/>
                  </a:cubicBezTo>
                  <a:cubicBezTo>
                    <a:pt x="365" y="301"/>
                    <a:pt x="397" y="312"/>
                    <a:pt x="397" y="312"/>
                  </a:cubicBezTo>
                  <a:cubicBezTo>
                    <a:pt x="417" y="392"/>
                    <a:pt x="387" y="310"/>
                    <a:pt x="429" y="352"/>
                  </a:cubicBezTo>
                  <a:cubicBezTo>
                    <a:pt x="435" y="358"/>
                    <a:pt x="431" y="370"/>
                    <a:pt x="437" y="376"/>
                  </a:cubicBezTo>
                  <a:cubicBezTo>
                    <a:pt x="460" y="399"/>
                    <a:pt x="501" y="388"/>
                    <a:pt x="533" y="392"/>
                  </a:cubicBezTo>
                  <a:cubicBezTo>
                    <a:pt x="588" y="429"/>
                    <a:pt x="563" y="418"/>
                    <a:pt x="605" y="432"/>
                  </a:cubicBezTo>
                  <a:cubicBezTo>
                    <a:pt x="618" y="452"/>
                    <a:pt x="624" y="456"/>
                    <a:pt x="629" y="480"/>
                  </a:cubicBezTo>
                  <a:cubicBezTo>
                    <a:pt x="633" y="498"/>
                    <a:pt x="625" y="522"/>
                    <a:pt x="637" y="536"/>
                  </a:cubicBezTo>
                  <a:cubicBezTo>
                    <a:pt x="648" y="548"/>
                    <a:pt x="669" y="541"/>
                    <a:pt x="685" y="544"/>
                  </a:cubicBezTo>
                  <a:cubicBezTo>
                    <a:pt x="694" y="595"/>
                    <a:pt x="711" y="694"/>
                    <a:pt x="765" y="712"/>
                  </a:cubicBezTo>
                  <a:cubicBezTo>
                    <a:pt x="792" y="822"/>
                    <a:pt x="1029" y="804"/>
                    <a:pt x="1101" y="808"/>
                  </a:cubicBezTo>
                  <a:cubicBezTo>
                    <a:pt x="1095" y="840"/>
                    <a:pt x="1092" y="872"/>
                    <a:pt x="1085" y="904"/>
                  </a:cubicBezTo>
                  <a:cubicBezTo>
                    <a:pt x="1081" y="920"/>
                    <a:pt x="1083" y="943"/>
                    <a:pt x="1069" y="952"/>
                  </a:cubicBezTo>
                  <a:cubicBezTo>
                    <a:pt x="1027" y="980"/>
                    <a:pt x="997" y="1016"/>
                    <a:pt x="981" y="1064"/>
                  </a:cubicBezTo>
                  <a:cubicBezTo>
                    <a:pt x="993" y="1220"/>
                    <a:pt x="978" y="1182"/>
                    <a:pt x="1149" y="1192"/>
                  </a:cubicBezTo>
                  <a:cubicBezTo>
                    <a:pt x="1221" y="1240"/>
                    <a:pt x="1191" y="1277"/>
                    <a:pt x="1181" y="1384"/>
                  </a:cubicBezTo>
                  <a:cubicBezTo>
                    <a:pt x="1178" y="1412"/>
                    <a:pt x="1168" y="1407"/>
                    <a:pt x="1157" y="1432"/>
                  </a:cubicBezTo>
                  <a:cubicBezTo>
                    <a:pt x="1150" y="1447"/>
                    <a:pt x="1141" y="1480"/>
                    <a:pt x="1141" y="1480"/>
                  </a:cubicBezTo>
                  <a:cubicBezTo>
                    <a:pt x="1144" y="1496"/>
                    <a:pt x="1135" y="1520"/>
                    <a:pt x="1149" y="1528"/>
                  </a:cubicBezTo>
                  <a:cubicBezTo>
                    <a:pt x="1177" y="1543"/>
                    <a:pt x="1224" y="1512"/>
                    <a:pt x="1245" y="1536"/>
                  </a:cubicBezTo>
                  <a:cubicBezTo>
                    <a:pt x="1270" y="1564"/>
                    <a:pt x="1238" y="1614"/>
                    <a:pt x="1253" y="1648"/>
                  </a:cubicBezTo>
                  <a:cubicBezTo>
                    <a:pt x="1261" y="1666"/>
                    <a:pt x="1298" y="1664"/>
                    <a:pt x="1317" y="1664"/>
                  </a:cubicBezTo>
                </a:path>
              </a:pathLst>
            </a:custGeom>
            <a:noFill/>
            <a:ln w="57240">
              <a:solidFill>
                <a:srgbClr val="ff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Line 6"/>
            <p:cNvSpPr/>
            <p:nvPr/>
          </p:nvSpPr>
          <p:spPr>
            <a:xfrm>
              <a:off x="253800" y="788760"/>
              <a:ext cx="401040" cy="901800"/>
            </a:xfrm>
            <a:prstGeom prst="line">
              <a:avLst/>
            </a:prstGeom>
            <a:ln w="7632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Freeform 7"/>
            <p:cNvSpPr/>
            <p:nvPr/>
          </p:nvSpPr>
          <p:spPr>
            <a:xfrm>
              <a:off x="663840" y="1521360"/>
              <a:ext cx="879480" cy="250200"/>
            </a:xfrm>
            <a:custGeom>
              <a:avLst/>
              <a:gdLst>
                <a:gd name="textAreaLeft" fmla="*/ 0 w 879480"/>
                <a:gd name="textAreaRight" fmla="*/ 879840 w 879480"/>
                <a:gd name="textAreaTop" fmla="*/ 0 h 250200"/>
                <a:gd name="textAreaBottom" fmla="*/ 250200 h 250200"/>
              </a:gdLst>
              <a:ahLst/>
              <a:rect l="textAreaLeft" t="textAreaTop" r="textAreaRight" b="textAreaBottom"/>
              <a:pathLst>
                <a:path w="2487" h="642">
                  <a:moveTo>
                    <a:pt x="0" y="462"/>
                  </a:moveTo>
                  <a:cubicBezTo>
                    <a:pt x="37" y="453"/>
                    <a:pt x="51" y="446"/>
                    <a:pt x="72" y="414"/>
                  </a:cubicBezTo>
                  <a:cubicBezTo>
                    <a:pt x="91" y="339"/>
                    <a:pt x="135" y="396"/>
                    <a:pt x="192" y="358"/>
                  </a:cubicBezTo>
                  <a:cubicBezTo>
                    <a:pt x="220" y="316"/>
                    <a:pt x="252" y="279"/>
                    <a:pt x="280" y="238"/>
                  </a:cubicBezTo>
                  <a:cubicBezTo>
                    <a:pt x="290" y="66"/>
                    <a:pt x="257" y="91"/>
                    <a:pt x="400" y="78"/>
                  </a:cubicBezTo>
                  <a:cubicBezTo>
                    <a:pt x="405" y="70"/>
                    <a:pt x="412" y="63"/>
                    <a:pt x="416" y="54"/>
                  </a:cubicBezTo>
                  <a:cubicBezTo>
                    <a:pt x="423" y="39"/>
                    <a:pt x="432" y="6"/>
                    <a:pt x="432" y="6"/>
                  </a:cubicBezTo>
                  <a:cubicBezTo>
                    <a:pt x="461" y="9"/>
                    <a:pt x="494" y="0"/>
                    <a:pt x="520" y="14"/>
                  </a:cubicBezTo>
                  <a:cubicBezTo>
                    <a:pt x="558" y="34"/>
                    <a:pt x="519" y="87"/>
                    <a:pt x="568" y="102"/>
                  </a:cubicBezTo>
                  <a:cubicBezTo>
                    <a:pt x="586" y="107"/>
                    <a:pt x="605" y="107"/>
                    <a:pt x="624" y="110"/>
                  </a:cubicBezTo>
                  <a:cubicBezTo>
                    <a:pt x="621" y="131"/>
                    <a:pt x="616" y="153"/>
                    <a:pt x="616" y="174"/>
                  </a:cubicBezTo>
                  <a:cubicBezTo>
                    <a:pt x="616" y="347"/>
                    <a:pt x="616" y="278"/>
                    <a:pt x="832" y="286"/>
                  </a:cubicBezTo>
                  <a:cubicBezTo>
                    <a:pt x="848" y="642"/>
                    <a:pt x="860" y="478"/>
                    <a:pt x="1392" y="486"/>
                  </a:cubicBezTo>
                  <a:cubicBezTo>
                    <a:pt x="1453" y="527"/>
                    <a:pt x="1531" y="510"/>
                    <a:pt x="1600" y="502"/>
                  </a:cubicBezTo>
                  <a:cubicBezTo>
                    <a:pt x="1610" y="471"/>
                    <a:pt x="1630" y="469"/>
                    <a:pt x="1640" y="438"/>
                  </a:cubicBezTo>
                  <a:cubicBezTo>
                    <a:pt x="1656" y="314"/>
                    <a:pt x="1694" y="365"/>
                    <a:pt x="1856" y="358"/>
                  </a:cubicBezTo>
                  <a:cubicBezTo>
                    <a:pt x="1908" y="332"/>
                    <a:pt x="1932" y="319"/>
                    <a:pt x="1992" y="310"/>
                  </a:cubicBezTo>
                  <a:cubicBezTo>
                    <a:pt x="2079" y="281"/>
                    <a:pt x="2168" y="308"/>
                    <a:pt x="2256" y="318"/>
                  </a:cubicBezTo>
                  <a:cubicBezTo>
                    <a:pt x="2259" y="326"/>
                    <a:pt x="2257" y="338"/>
                    <a:pt x="2264" y="342"/>
                  </a:cubicBezTo>
                  <a:cubicBezTo>
                    <a:pt x="2278" y="350"/>
                    <a:pt x="2296" y="346"/>
                    <a:pt x="2312" y="350"/>
                  </a:cubicBezTo>
                  <a:cubicBezTo>
                    <a:pt x="2337" y="356"/>
                    <a:pt x="2338" y="360"/>
                    <a:pt x="2360" y="374"/>
                  </a:cubicBezTo>
                  <a:cubicBezTo>
                    <a:pt x="2365" y="390"/>
                    <a:pt x="2371" y="406"/>
                    <a:pt x="2376" y="422"/>
                  </a:cubicBezTo>
                  <a:cubicBezTo>
                    <a:pt x="2381" y="437"/>
                    <a:pt x="2377" y="455"/>
                    <a:pt x="2384" y="470"/>
                  </a:cubicBezTo>
                  <a:cubicBezTo>
                    <a:pt x="2392" y="486"/>
                    <a:pt x="2428" y="491"/>
                    <a:pt x="2440" y="494"/>
                  </a:cubicBezTo>
                  <a:cubicBezTo>
                    <a:pt x="2444" y="516"/>
                    <a:pt x="2440" y="542"/>
                    <a:pt x="2456" y="558"/>
                  </a:cubicBezTo>
                  <a:cubicBezTo>
                    <a:pt x="2462" y="564"/>
                    <a:pt x="2478" y="558"/>
                    <a:pt x="2480" y="566"/>
                  </a:cubicBezTo>
                  <a:cubicBezTo>
                    <a:pt x="2487" y="589"/>
                    <a:pt x="2480" y="614"/>
                    <a:pt x="2480" y="638"/>
                  </a:cubicBezTo>
                </a:path>
              </a:pathLst>
            </a:custGeom>
            <a:noFill/>
            <a:ln w="76320">
              <a:solidFill>
                <a:srgbClr val="ff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Freeform 8"/>
            <p:cNvSpPr/>
            <p:nvPr/>
          </p:nvSpPr>
          <p:spPr>
            <a:xfrm>
              <a:off x="1547640" y="1041840"/>
              <a:ext cx="682920" cy="715680"/>
            </a:xfrm>
            <a:custGeom>
              <a:avLst/>
              <a:gdLst>
                <a:gd name="textAreaLeft" fmla="*/ 0 w 682920"/>
                <a:gd name="textAreaRight" fmla="*/ 683280 w 682920"/>
                <a:gd name="textAreaTop" fmla="*/ 0 h 715680"/>
                <a:gd name="textAreaBottom" fmla="*/ 716040 h 715680"/>
              </a:gdLst>
              <a:ahLst/>
              <a:rect l="textAreaLeft" t="textAreaTop" r="textAreaRight" b="textAreaBottom"/>
              <a:pathLst>
                <a:path w="1931" h="1837">
                  <a:moveTo>
                    <a:pt x="46" y="1837"/>
                  </a:moveTo>
                  <a:cubicBezTo>
                    <a:pt x="143" y="1831"/>
                    <a:pt x="169" y="1828"/>
                    <a:pt x="246" y="1813"/>
                  </a:cubicBezTo>
                  <a:cubicBezTo>
                    <a:pt x="251" y="1805"/>
                    <a:pt x="259" y="1798"/>
                    <a:pt x="262" y="1789"/>
                  </a:cubicBezTo>
                  <a:cubicBezTo>
                    <a:pt x="267" y="1771"/>
                    <a:pt x="260" y="1749"/>
                    <a:pt x="270" y="1733"/>
                  </a:cubicBezTo>
                  <a:cubicBezTo>
                    <a:pt x="280" y="1717"/>
                    <a:pt x="318" y="1701"/>
                    <a:pt x="318" y="1701"/>
                  </a:cubicBezTo>
                  <a:cubicBezTo>
                    <a:pt x="323" y="1693"/>
                    <a:pt x="333" y="1687"/>
                    <a:pt x="334" y="1677"/>
                  </a:cubicBezTo>
                  <a:cubicBezTo>
                    <a:pt x="341" y="1610"/>
                    <a:pt x="317" y="1617"/>
                    <a:pt x="270" y="1605"/>
                  </a:cubicBezTo>
                  <a:cubicBezTo>
                    <a:pt x="267" y="1581"/>
                    <a:pt x="273" y="1555"/>
                    <a:pt x="262" y="1533"/>
                  </a:cubicBezTo>
                  <a:cubicBezTo>
                    <a:pt x="257" y="1523"/>
                    <a:pt x="241" y="1528"/>
                    <a:pt x="230" y="1525"/>
                  </a:cubicBezTo>
                  <a:cubicBezTo>
                    <a:pt x="166" y="1506"/>
                    <a:pt x="101" y="1490"/>
                    <a:pt x="38" y="1469"/>
                  </a:cubicBezTo>
                  <a:cubicBezTo>
                    <a:pt x="23" y="1447"/>
                    <a:pt x="0" y="1417"/>
                    <a:pt x="22" y="1389"/>
                  </a:cubicBezTo>
                  <a:cubicBezTo>
                    <a:pt x="27" y="1382"/>
                    <a:pt x="38" y="1385"/>
                    <a:pt x="46" y="1381"/>
                  </a:cubicBezTo>
                  <a:cubicBezTo>
                    <a:pt x="55" y="1377"/>
                    <a:pt x="62" y="1370"/>
                    <a:pt x="70" y="1365"/>
                  </a:cubicBezTo>
                  <a:cubicBezTo>
                    <a:pt x="123" y="1383"/>
                    <a:pt x="76" y="1376"/>
                    <a:pt x="110" y="1301"/>
                  </a:cubicBezTo>
                  <a:cubicBezTo>
                    <a:pt x="115" y="1289"/>
                    <a:pt x="147" y="1280"/>
                    <a:pt x="158" y="1277"/>
                  </a:cubicBezTo>
                  <a:cubicBezTo>
                    <a:pt x="192" y="1267"/>
                    <a:pt x="230" y="1269"/>
                    <a:pt x="262" y="1253"/>
                  </a:cubicBezTo>
                  <a:cubicBezTo>
                    <a:pt x="314" y="1227"/>
                    <a:pt x="257" y="1248"/>
                    <a:pt x="310" y="1213"/>
                  </a:cubicBezTo>
                  <a:cubicBezTo>
                    <a:pt x="370" y="1173"/>
                    <a:pt x="286" y="1269"/>
                    <a:pt x="382" y="1173"/>
                  </a:cubicBezTo>
                  <a:cubicBezTo>
                    <a:pt x="403" y="1152"/>
                    <a:pt x="425" y="1127"/>
                    <a:pt x="454" y="1117"/>
                  </a:cubicBezTo>
                  <a:cubicBezTo>
                    <a:pt x="505" y="1100"/>
                    <a:pt x="548" y="1078"/>
                    <a:pt x="598" y="1061"/>
                  </a:cubicBezTo>
                  <a:cubicBezTo>
                    <a:pt x="641" y="1047"/>
                    <a:pt x="689" y="1056"/>
                    <a:pt x="734" y="1053"/>
                  </a:cubicBezTo>
                  <a:cubicBezTo>
                    <a:pt x="798" y="1010"/>
                    <a:pt x="721" y="1066"/>
                    <a:pt x="774" y="1013"/>
                  </a:cubicBezTo>
                  <a:cubicBezTo>
                    <a:pt x="801" y="986"/>
                    <a:pt x="793" y="1005"/>
                    <a:pt x="822" y="989"/>
                  </a:cubicBezTo>
                  <a:cubicBezTo>
                    <a:pt x="874" y="960"/>
                    <a:pt x="924" y="919"/>
                    <a:pt x="966" y="877"/>
                  </a:cubicBezTo>
                  <a:cubicBezTo>
                    <a:pt x="970" y="855"/>
                    <a:pt x="979" y="835"/>
                    <a:pt x="982" y="813"/>
                  </a:cubicBezTo>
                  <a:cubicBezTo>
                    <a:pt x="987" y="773"/>
                    <a:pt x="969" y="722"/>
                    <a:pt x="998" y="693"/>
                  </a:cubicBezTo>
                  <a:cubicBezTo>
                    <a:pt x="1012" y="679"/>
                    <a:pt x="1030" y="672"/>
                    <a:pt x="1046" y="661"/>
                  </a:cubicBezTo>
                  <a:cubicBezTo>
                    <a:pt x="1079" y="639"/>
                    <a:pt x="1091" y="618"/>
                    <a:pt x="1110" y="589"/>
                  </a:cubicBezTo>
                  <a:cubicBezTo>
                    <a:pt x="1117" y="531"/>
                    <a:pt x="1112" y="511"/>
                    <a:pt x="1166" y="493"/>
                  </a:cubicBezTo>
                  <a:cubicBezTo>
                    <a:pt x="1303" y="510"/>
                    <a:pt x="1449" y="529"/>
                    <a:pt x="1582" y="485"/>
                  </a:cubicBezTo>
                  <a:cubicBezTo>
                    <a:pt x="1611" y="456"/>
                    <a:pt x="1633" y="427"/>
                    <a:pt x="1646" y="389"/>
                  </a:cubicBezTo>
                  <a:cubicBezTo>
                    <a:pt x="1641" y="324"/>
                    <a:pt x="1656" y="286"/>
                    <a:pt x="1606" y="253"/>
                  </a:cubicBezTo>
                  <a:cubicBezTo>
                    <a:pt x="1587" y="196"/>
                    <a:pt x="1599" y="219"/>
                    <a:pt x="1574" y="181"/>
                  </a:cubicBezTo>
                  <a:cubicBezTo>
                    <a:pt x="1577" y="160"/>
                    <a:pt x="1565" y="131"/>
                    <a:pt x="1582" y="117"/>
                  </a:cubicBezTo>
                  <a:cubicBezTo>
                    <a:pt x="1603" y="100"/>
                    <a:pt x="1637" y="117"/>
                    <a:pt x="1662" y="109"/>
                  </a:cubicBezTo>
                  <a:cubicBezTo>
                    <a:pt x="1687" y="101"/>
                    <a:pt x="1683" y="45"/>
                    <a:pt x="1694" y="29"/>
                  </a:cubicBezTo>
                  <a:cubicBezTo>
                    <a:pt x="1703" y="16"/>
                    <a:pt x="1728" y="10"/>
                    <a:pt x="1742" y="5"/>
                  </a:cubicBezTo>
                  <a:cubicBezTo>
                    <a:pt x="1771" y="8"/>
                    <a:pt x="1804" y="0"/>
                    <a:pt x="1830" y="13"/>
                  </a:cubicBezTo>
                  <a:cubicBezTo>
                    <a:pt x="1931" y="63"/>
                    <a:pt x="1753" y="53"/>
                    <a:pt x="1870" y="53"/>
                  </a:cubicBezTo>
                </a:path>
              </a:pathLst>
            </a:custGeom>
            <a:noFill/>
            <a:ln w="57240">
              <a:solidFill>
                <a:srgbClr val="ff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69" name="Рисунок 7" descr=""/>
          <p:cNvPicPr/>
          <p:nvPr/>
        </p:nvPicPr>
        <p:blipFill>
          <a:blip r:embed="rId1"/>
          <a:stretch/>
        </p:blipFill>
        <p:spPr>
          <a:xfrm>
            <a:off x="254160" y="189000"/>
            <a:ext cx="871380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9" dur="500"/>
                                        <p:tgtEl>
                                          <p:spTgt spid="10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0" name="Диаграмма 3" descr=""/>
          <p:cNvPicPr/>
          <p:nvPr/>
        </p:nvPicPr>
        <p:blipFill>
          <a:blip r:embed="rId1"/>
          <a:stretch/>
        </p:blipFill>
        <p:spPr>
          <a:xfrm>
            <a:off x="682560" y="835200"/>
            <a:ext cx="7705800" cy="5546520"/>
          </a:xfrm>
          <a:prstGeom prst="rect">
            <a:avLst/>
          </a:prstGeom>
          <a:ln w="0">
            <a:noFill/>
          </a:ln>
        </p:spPr>
      </p:pic>
      <p:grpSp>
        <p:nvGrpSpPr>
          <p:cNvPr id="1071" name="Group 3"/>
          <p:cNvGrpSpPr/>
          <p:nvPr/>
        </p:nvGrpSpPr>
        <p:grpSpPr>
          <a:xfrm>
            <a:off x="250920" y="404640"/>
            <a:ext cx="1979640" cy="1366920"/>
            <a:chOff x="250920" y="404640"/>
            <a:chExt cx="1979640" cy="1366920"/>
          </a:xfrm>
        </p:grpSpPr>
        <p:sp>
          <p:nvSpPr>
            <p:cNvPr id="1072" name="Freeform 4"/>
            <p:cNvSpPr/>
            <p:nvPr/>
          </p:nvSpPr>
          <p:spPr>
            <a:xfrm>
              <a:off x="250920" y="407520"/>
              <a:ext cx="1502640" cy="308880"/>
            </a:xfrm>
            <a:custGeom>
              <a:avLst/>
              <a:gdLst>
                <a:gd name="textAreaLeft" fmla="*/ 0 w 1502640"/>
                <a:gd name="textAreaRight" fmla="*/ 1503000 w 1502640"/>
                <a:gd name="textAreaTop" fmla="*/ 0 h 308880"/>
                <a:gd name="textAreaBottom" fmla="*/ 308880 h 308880"/>
              </a:gdLst>
              <a:ahLst/>
              <a:rect l="textAreaLeft" t="textAreaTop" r="textAreaRight" b="textAreaBottom"/>
              <a:pathLst>
                <a:path w="4248" h="793">
                  <a:moveTo>
                    <a:pt x="0" y="704"/>
                  </a:moveTo>
                  <a:cubicBezTo>
                    <a:pt x="29" y="701"/>
                    <a:pt x="60" y="704"/>
                    <a:pt x="88" y="696"/>
                  </a:cubicBezTo>
                  <a:cubicBezTo>
                    <a:pt x="101" y="692"/>
                    <a:pt x="166" y="598"/>
                    <a:pt x="104" y="680"/>
                  </a:cubicBezTo>
                  <a:cubicBezTo>
                    <a:pt x="161" y="699"/>
                    <a:pt x="146" y="663"/>
                    <a:pt x="192" y="648"/>
                  </a:cubicBezTo>
                  <a:cubicBezTo>
                    <a:pt x="205" y="651"/>
                    <a:pt x="224" y="645"/>
                    <a:pt x="232" y="656"/>
                  </a:cubicBezTo>
                  <a:cubicBezTo>
                    <a:pt x="248" y="678"/>
                    <a:pt x="239" y="710"/>
                    <a:pt x="248" y="736"/>
                  </a:cubicBezTo>
                  <a:cubicBezTo>
                    <a:pt x="407" y="730"/>
                    <a:pt x="452" y="787"/>
                    <a:pt x="488" y="680"/>
                  </a:cubicBezTo>
                  <a:cubicBezTo>
                    <a:pt x="520" y="453"/>
                    <a:pt x="471" y="670"/>
                    <a:pt x="1000" y="616"/>
                  </a:cubicBezTo>
                  <a:cubicBezTo>
                    <a:pt x="1023" y="614"/>
                    <a:pt x="1062" y="547"/>
                    <a:pt x="1096" y="536"/>
                  </a:cubicBezTo>
                  <a:cubicBezTo>
                    <a:pt x="1115" y="508"/>
                    <a:pt x="1139" y="459"/>
                    <a:pt x="1168" y="440"/>
                  </a:cubicBezTo>
                  <a:cubicBezTo>
                    <a:pt x="1200" y="419"/>
                    <a:pt x="1276" y="419"/>
                    <a:pt x="1304" y="416"/>
                  </a:cubicBezTo>
                  <a:cubicBezTo>
                    <a:pt x="1327" y="381"/>
                    <a:pt x="1326" y="301"/>
                    <a:pt x="1360" y="296"/>
                  </a:cubicBezTo>
                  <a:cubicBezTo>
                    <a:pt x="1405" y="289"/>
                    <a:pt x="1451" y="291"/>
                    <a:pt x="1496" y="288"/>
                  </a:cubicBezTo>
                  <a:cubicBezTo>
                    <a:pt x="1538" y="274"/>
                    <a:pt x="1525" y="252"/>
                    <a:pt x="1560" y="232"/>
                  </a:cubicBezTo>
                  <a:cubicBezTo>
                    <a:pt x="1584" y="218"/>
                    <a:pt x="1614" y="217"/>
                    <a:pt x="1640" y="208"/>
                  </a:cubicBezTo>
                  <a:cubicBezTo>
                    <a:pt x="1648" y="205"/>
                    <a:pt x="1664" y="200"/>
                    <a:pt x="1664" y="200"/>
                  </a:cubicBezTo>
                  <a:cubicBezTo>
                    <a:pt x="1680" y="184"/>
                    <a:pt x="1696" y="168"/>
                    <a:pt x="1712" y="152"/>
                  </a:cubicBezTo>
                  <a:cubicBezTo>
                    <a:pt x="1720" y="144"/>
                    <a:pt x="1736" y="128"/>
                    <a:pt x="1736" y="128"/>
                  </a:cubicBezTo>
                  <a:cubicBezTo>
                    <a:pt x="1760" y="55"/>
                    <a:pt x="1725" y="69"/>
                    <a:pt x="1824" y="80"/>
                  </a:cubicBezTo>
                  <a:cubicBezTo>
                    <a:pt x="1835" y="83"/>
                    <a:pt x="1849" y="80"/>
                    <a:pt x="1856" y="88"/>
                  </a:cubicBezTo>
                  <a:cubicBezTo>
                    <a:pt x="1867" y="100"/>
                    <a:pt x="1878" y="182"/>
                    <a:pt x="1888" y="192"/>
                  </a:cubicBezTo>
                  <a:cubicBezTo>
                    <a:pt x="1896" y="200"/>
                    <a:pt x="1909" y="197"/>
                    <a:pt x="1920" y="200"/>
                  </a:cubicBezTo>
                  <a:cubicBezTo>
                    <a:pt x="1949" y="208"/>
                    <a:pt x="1942" y="206"/>
                    <a:pt x="1968" y="224"/>
                  </a:cubicBezTo>
                  <a:cubicBezTo>
                    <a:pt x="1971" y="232"/>
                    <a:pt x="1976" y="240"/>
                    <a:pt x="1976" y="248"/>
                  </a:cubicBezTo>
                  <a:cubicBezTo>
                    <a:pt x="1976" y="256"/>
                    <a:pt x="1965" y="264"/>
                    <a:pt x="1968" y="272"/>
                  </a:cubicBezTo>
                  <a:cubicBezTo>
                    <a:pt x="1979" y="299"/>
                    <a:pt x="2066" y="294"/>
                    <a:pt x="2088" y="296"/>
                  </a:cubicBezTo>
                  <a:cubicBezTo>
                    <a:pt x="2134" y="307"/>
                    <a:pt x="2178" y="325"/>
                    <a:pt x="2224" y="336"/>
                  </a:cubicBezTo>
                  <a:cubicBezTo>
                    <a:pt x="2244" y="377"/>
                    <a:pt x="2265" y="385"/>
                    <a:pt x="2296" y="416"/>
                  </a:cubicBezTo>
                  <a:cubicBezTo>
                    <a:pt x="2332" y="452"/>
                    <a:pt x="2289" y="432"/>
                    <a:pt x="2336" y="448"/>
                  </a:cubicBezTo>
                  <a:cubicBezTo>
                    <a:pt x="2341" y="464"/>
                    <a:pt x="2347" y="480"/>
                    <a:pt x="2352" y="496"/>
                  </a:cubicBezTo>
                  <a:cubicBezTo>
                    <a:pt x="2355" y="504"/>
                    <a:pt x="2360" y="520"/>
                    <a:pt x="2360" y="520"/>
                  </a:cubicBezTo>
                  <a:cubicBezTo>
                    <a:pt x="2354" y="538"/>
                    <a:pt x="2325" y="612"/>
                    <a:pt x="2352" y="624"/>
                  </a:cubicBezTo>
                  <a:cubicBezTo>
                    <a:pt x="2389" y="640"/>
                    <a:pt x="2432" y="629"/>
                    <a:pt x="2472" y="632"/>
                  </a:cubicBezTo>
                  <a:cubicBezTo>
                    <a:pt x="2488" y="637"/>
                    <a:pt x="2504" y="643"/>
                    <a:pt x="2520" y="648"/>
                  </a:cubicBezTo>
                  <a:cubicBezTo>
                    <a:pt x="2528" y="651"/>
                    <a:pt x="2544" y="656"/>
                    <a:pt x="2544" y="656"/>
                  </a:cubicBezTo>
                  <a:cubicBezTo>
                    <a:pt x="2572" y="677"/>
                    <a:pt x="2591" y="701"/>
                    <a:pt x="2624" y="712"/>
                  </a:cubicBezTo>
                  <a:cubicBezTo>
                    <a:pt x="2642" y="785"/>
                    <a:pt x="2622" y="764"/>
                    <a:pt x="2664" y="792"/>
                  </a:cubicBezTo>
                  <a:cubicBezTo>
                    <a:pt x="2707" y="789"/>
                    <a:pt x="2750" y="793"/>
                    <a:pt x="2792" y="784"/>
                  </a:cubicBezTo>
                  <a:cubicBezTo>
                    <a:pt x="2819" y="778"/>
                    <a:pt x="2832" y="712"/>
                    <a:pt x="2832" y="712"/>
                  </a:cubicBezTo>
                  <a:cubicBezTo>
                    <a:pt x="2839" y="646"/>
                    <a:pt x="2839" y="590"/>
                    <a:pt x="2896" y="552"/>
                  </a:cubicBezTo>
                  <a:cubicBezTo>
                    <a:pt x="2916" y="522"/>
                    <a:pt x="2946" y="476"/>
                    <a:pt x="2976" y="456"/>
                  </a:cubicBezTo>
                  <a:cubicBezTo>
                    <a:pt x="2989" y="447"/>
                    <a:pt x="3042" y="441"/>
                    <a:pt x="3048" y="440"/>
                  </a:cubicBezTo>
                  <a:cubicBezTo>
                    <a:pt x="3064" y="429"/>
                    <a:pt x="3080" y="419"/>
                    <a:pt x="3096" y="408"/>
                  </a:cubicBezTo>
                  <a:cubicBezTo>
                    <a:pt x="3106" y="401"/>
                    <a:pt x="3072" y="416"/>
                    <a:pt x="3064" y="424"/>
                  </a:cubicBezTo>
                  <a:cubicBezTo>
                    <a:pt x="3058" y="430"/>
                    <a:pt x="3081" y="421"/>
                    <a:pt x="3088" y="416"/>
                  </a:cubicBezTo>
                  <a:cubicBezTo>
                    <a:pt x="3096" y="411"/>
                    <a:pt x="3105" y="407"/>
                    <a:pt x="3112" y="400"/>
                  </a:cubicBezTo>
                  <a:cubicBezTo>
                    <a:pt x="3152" y="360"/>
                    <a:pt x="3125" y="379"/>
                    <a:pt x="3200" y="360"/>
                  </a:cubicBezTo>
                  <a:cubicBezTo>
                    <a:pt x="3211" y="357"/>
                    <a:pt x="3232" y="352"/>
                    <a:pt x="3232" y="352"/>
                  </a:cubicBezTo>
                  <a:cubicBezTo>
                    <a:pt x="3251" y="408"/>
                    <a:pt x="3307" y="331"/>
                    <a:pt x="3336" y="312"/>
                  </a:cubicBezTo>
                  <a:cubicBezTo>
                    <a:pt x="3440" y="242"/>
                    <a:pt x="3587" y="307"/>
                    <a:pt x="3712" y="304"/>
                  </a:cubicBezTo>
                  <a:cubicBezTo>
                    <a:pt x="3769" y="266"/>
                    <a:pt x="3829" y="263"/>
                    <a:pt x="3896" y="256"/>
                  </a:cubicBezTo>
                  <a:cubicBezTo>
                    <a:pt x="3908" y="221"/>
                    <a:pt x="3909" y="203"/>
                    <a:pt x="3936" y="176"/>
                  </a:cubicBezTo>
                  <a:cubicBezTo>
                    <a:pt x="3925" y="160"/>
                    <a:pt x="3908" y="147"/>
                    <a:pt x="3904" y="128"/>
                  </a:cubicBezTo>
                  <a:cubicBezTo>
                    <a:pt x="3900" y="108"/>
                    <a:pt x="3933" y="97"/>
                    <a:pt x="3944" y="96"/>
                  </a:cubicBezTo>
                  <a:cubicBezTo>
                    <a:pt x="3989" y="91"/>
                    <a:pt x="4035" y="91"/>
                    <a:pt x="4080" y="88"/>
                  </a:cubicBezTo>
                  <a:cubicBezTo>
                    <a:pt x="4168" y="73"/>
                    <a:pt x="4182" y="66"/>
                    <a:pt x="4248" y="0"/>
                  </a:cubicBezTo>
                </a:path>
              </a:pathLst>
            </a:custGeom>
            <a:noFill/>
            <a:ln w="57240">
              <a:solidFill>
                <a:srgbClr val="ff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Freeform 5"/>
            <p:cNvSpPr/>
            <p:nvPr/>
          </p:nvSpPr>
          <p:spPr>
            <a:xfrm>
              <a:off x="1760040" y="404640"/>
              <a:ext cx="465840" cy="649080"/>
            </a:xfrm>
            <a:custGeom>
              <a:avLst/>
              <a:gdLst>
                <a:gd name="textAreaLeft" fmla="*/ 0 w 465840"/>
                <a:gd name="textAreaRight" fmla="*/ 466200 w 465840"/>
                <a:gd name="textAreaTop" fmla="*/ 0 h 649080"/>
                <a:gd name="textAreaBottom" fmla="*/ 649080 h 649080"/>
              </a:gdLst>
              <a:ahLst/>
              <a:rect l="textAreaLeft" t="textAreaTop" r="textAreaRight" b="textAreaBottom"/>
              <a:pathLst>
                <a:path w="1317" h="1666">
                  <a:moveTo>
                    <a:pt x="5" y="0"/>
                  </a:moveTo>
                  <a:cubicBezTo>
                    <a:pt x="8" y="24"/>
                    <a:pt x="0" y="52"/>
                    <a:pt x="13" y="72"/>
                  </a:cubicBezTo>
                  <a:cubicBezTo>
                    <a:pt x="22" y="86"/>
                    <a:pt x="61" y="88"/>
                    <a:pt x="61" y="88"/>
                  </a:cubicBezTo>
                  <a:cubicBezTo>
                    <a:pt x="67" y="106"/>
                    <a:pt x="90" y="155"/>
                    <a:pt x="101" y="168"/>
                  </a:cubicBezTo>
                  <a:cubicBezTo>
                    <a:pt x="123" y="195"/>
                    <a:pt x="268" y="205"/>
                    <a:pt x="301" y="208"/>
                  </a:cubicBezTo>
                  <a:cubicBezTo>
                    <a:pt x="298" y="216"/>
                    <a:pt x="290" y="224"/>
                    <a:pt x="293" y="232"/>
                  </a:cubicBezTo>
                  <a:cubicBezTo>
                    <a:pt x="297" y="241"/>
                    <a:pt x="311" y="241"/>
                    <a:pt x="317" y="248"/>
                  </a:cubicBezTo>
                  <a:cubicBezTo>
                    <a:pt x="330" y="262"/>
                    <a:pt x="331" y="290"/>
                    <a:pt x="349" y="296"/>
                  </a:cubicBezTo>
                  <a:cubicBezTo>
                    <a:pt x="365" y="301"/>
                    <a:pt x="397" y="312"/>
                    <a:pt x="397" y="312"/>
                  </a:cubicBezTo>
                  <a:cubicBezTo>
                    <a:pt x="417" y="392"/>
                    <a:pt x="387" y="310"/>
                    <a:pt x="429" y="352"/>
                  </a:cubicBezTo>
                  <a:cubicBezTo>
                    <a:pt x="435" y="358"/>
                    <a:pt x="431" y="370"/>
                    <a:pt x="437" y="376"/>
                  </a:cubicBezTo>
                  <a:cubicBezTo>
                    <a:pt x="460" y="399"/>
                    <a:pt x="501" y="388"/>
                    <a:pt x="533" y="392"/>
                  </a:cubicBezTo>
                  <a:cubicBezTo>
                    <a:pt x="588" y="429"/>
                    <a:pt x="563" y="418"/>
                    <a:pt x="605" y="432"/>
                  </a:cubicBezTo>
                  <a:cubicBezTo>
                    <a:pt x="618" y="452"/>
                    <a:pt x="624" y="456"/>
                    <a:pt x="629" y="480"/>
                  </a:cubicBezTo>
                  <a:cubicBezTo>
                    <a:pt x="633" y="498"/>
                    <a:pt x="625" y="522"/>
                    <a:pt x="637" y="536"/>
                  </a:cubicBezTo>
                  <a:cubicBezTo>
                    <a:pt x="648" y="548"/>
                    <a:pt x="669" y="541"/>
                    <a:pt x="685" y="544"/>
                  </a:cubicBezTo>
                  <a:cubicBezTo>
                    <a:pt x="694" y="595"/>
                    <a:pt x="711" y="694"/>
                    <a:pt x="765" y="712"/>
                  </a:cubicBezTo>
                  <a:cubicBezTo>
                    <a:pt x="792" y="822"/>
                    <a:pt x="1029" y="804"/>
                    <a:pt x="1101" y="808"/>
                  </a:cubicBezTo>
                  <a:cubicBezTo>
                    <a:pt x="1095" y="840"/>
                    <a:pt x="1092" y="872"/>
                    <a:pt x="1085" y="904"/>
                  </a:cubicBezTo>
                  <a:cubicBezTo>
                    <a:pt x="1081" y="920"/>
                    <a:pt x="1083" y="943"/>
                    <a:pt x="1069" y="952"/>
                  </a:cubicBezTo>
                  <a:cubicBezTo>
                    <a:pt x="1027" y="980"/>
                    <a:pt x="997" y="1016"/>
                    <a:pt x="981" y="1064"/>
                  </a:cubicBezTo>
                  <a:cubicBezTo>
                    <a:pt x="993" y="1220"/>
                    <a:pt x="978" y="1182"/>
                    <a:pt x="1149" y="1192"/>
                  </a:cubicBezTo>
                  <a:cubicBezTo>
                    <a:pt x="1221" y="1240"/>
                    <a:pt x="1191" y="1277"/>
                    <a:pt x="1181" y="1384"/>
                  </a:cubicBezTo>
                  <a:cubicBezTo>
                    <a:pt x="1178" y="1412"/>
                    <a:pt x="1168" y="1407"/>
                    <a:pt x="1157" y="1432"/>
                  </a:cubicBezTo>
                  <a:cubicBezTo>
                    <a:pt x="1150" y="1447"/>
                    <a:pt x="1141" y="1480"/>
                    <a:pt x="1141" y="1480"/>
                  </a:cubicBezTo>
                  <a:cubicBezTo>
                    <a:pt x="1144" y="1496"/>
                    <a:pt x="1135" y="1520"/>
                    <a:pt x="1149" y="1528"/>
                  </a:cubicBezTo>
                  <a:cubicBezTo>
                    <a:pt x="1177" y="1543"/>
                    <a:pt x="1224" y="1512"/>
                    <a:pt x="1245" y="1536"/>
                  </a:cubicBezTo>
                  <a:cubicBezTo>
                    <a:pt x="1270" y="1564"/>
                    <a:pt x="1238" y="1614"/>
                    <a:pt x="1253" y="1648"/>
                  </a:cubicBezTo>
                  <a:cubicBezTo>
                    <a:pt x="1261" y="1666"/>
                    <a:pt x="1298" y="1664"/>
                    <a:pt x="1317" y="1664"/>
                  </a:cubicBezTo>
                </a:path>
              </a:pathLst>
            </a:custGeom>
            <a:noFill/>
            <a:ln w="57240">
              <a:solidFill>
                <a:srgbClr val="ff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Line 6"/>
            <p:cNvSpPr/>
            <p:nvPr/>
          </p:nvSpPr>
          <p:spPr>
            <a:xfrm>
              <a:off x="253800" y="788760"/>
              <a:ext cx="401040" cy="901800"/>
            </a:xfrm>
            <a:prstGeom prst="line">
              <a:avLst/>
            </a:prstGeom>
            <a:ln w="7632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Freeform 7"/>
            <p:cNvSpPr/>
            <p:nvPr/>
          </p:nvSpPr>
          <p:spPr>
            <a:xfrm>
              <a:off x="663840" y="1521360"/>
              <a:ext cx="879480" cy="250200"/>
            </a:xfrm>
            <a:custGeom>
              <a:avLst/>
              <a:gdLst>
                <a:gd name="textAreaLeft" fmla="*/ 0 w 879480"/>
                <a:gd name="textAreaRight" fmla="*/ 879840 w 879480"/>
                <a:gd name="textAreaTop" fmla="*/ 0 h 250200"/>
                <a:gd name="textAreaBottom" fmla="*/ 250200 h 250200"/>
              </a:gdLst>
              <a:ahLst/>
              <a:rect l="textAreaLeft" t="textAreaTop" r="textAreaRight" b="textAreaBottom"/>
              <a:pathLst>
                <a:path w="2487" h="642">
                  <a:moveTo>
                    <a:pt x="0" y="462"/>
                  </a:moveTo>
                  <a:cubicBezTo>
                    <a:pt x="37" y="453"/>
                    <a:pt x="51" y="446"/>
                    <a:pt x="72" y="414"/>
                  </a:cubicBezTo>
                  <a:cubicBezTo>
                    <a:pt x="91" y="339"/>
                    <a:pt x="135" y="396"/>
                    <a:pt x="192" y="358"/>
                  </a:cubicBezTo>
                  <a:cubicBezTo>
                    <a:pt x="220" y="316"/>
                    <a:pt x="252" y="279"/>
                    <a:pt x="280" y="238"/>
                  </a:cubicBezTo>
                  <a:cubicBezTo>
                    <a:pt x="290" y="66"/>
                    <a:pt x="257" y="91"/>
                    <a:pt x="400" y="78"/>
                  </a:cubicBezTo>
                  <a:cubicBezTo>
                    <a:pt x="405" y="70"/>
                    <a:pt x="412" y="63"/>
                    <a:pt x="416" y="54"/>
                  </a:cubicBezTo>
                  <a:cubicBezTo>
                    <a:pt x="423" y="39"/>
                    <a:pt x="432" y="6"/>
                    <a:pt x="432" y="6"/>
                  </a:cubicBezTo>
                  <a:cubicBezTo>
                    <a:pt x="461" y="9"/>
                    <a:pt x="494" y="0"/>
                    <a:pt x="520" y="14"/>
                  </a:cubicBezTo>
                  <a:cubicBezTo>
                    <a:pt x="558" y="34"/>
                    <a:pt x="519" y="87"/>
                    <a:pt x="568" y="102"/>
                  </a:cubicBezTo>
                  <a:cubicBezTo>
                    <a:pt x="586" y="107"/>
                    <a:pt x="605" y="107"/>
                    <a:pt x="624" y="110"/>
                  </a:cubicBezTo>
                  <a:cubicBezTo>
                    <a:pt x="621" y="131"/>
                    <a:pt x="616" y="153"/>
                    <a:pt x="616" y="174"/>
                  </a:cubicBezTo>
                  <a:cubicBezTo>
                    <a:pt x="616" y="347"/>
                    <a:pt x="616" y="278"/>
                    <a:pt x="832" y="286"/>
                  </a:cubicBezTo>
                  <a:cubicBezTo>
                    <a:pt x="848" y="642"/>
                    <a:pt x="860" y="478"/>
                    <a:pt x="1392" y="486"/>
                  </a:cubicBezTo>
                  <a:cubicBezTo>
                    <a:pt x="1453" y="527"/>
                    <a:pt x="1531" y="510"/>
                    <a:pt x="1600" y="502"/>
                  </a:cubicBezTo>
                  <a:cubicBezTo>
                    <a:pt x="1610" y="471"/>
                    <a:pt x="1630" y="469"/>
                    <a:pt x="1640" y="438"/>
                  </a:cubicBezTo>
                  <a:cubicBezTo>
                    <a:pt x="1656" y="314"/>
                    <a:pt x="1694" y="365"/>
                    <a:pt x="1856" y="358"/>
                  </a:cubicBezTo>
                  <a:cubicBezTo>
                    <a:pt x="1908" y="332"/>
                    <a:pt x="1932" y="319"/>
                    <a:pt x="1992" y="310"/>
                  </a:cubicBezTo>
                  <a:cubicBezTo>
                    <a:pt x="2079" y="281"/>
                    <a:pt x="2168" y="308"/>
                    <a:pt x="2256" y="318"/>
                  </a:cubicBezTo>
                  <a:cubicBezTo>
                    <a:pt x="2259" y="326"/>
                    <a:pt x="2257" y="338"/>
                    <a:pt x="2264" y="342"/>
                  </a:cubicBezTo>
                  <a:cubicBezTo>
                    <a:pt x="2278" y="350"/>
                    <a:pt x="2296" y="346"/>
                    <a:pt x="2312" y="350"/>
                  </a:cubicBezTo>
                  <a:cubicBezTo>
                    <a:pt x="2337" y="356"/>
                    <a:pt x="2338" y="360"/>
                    <a:pt x="2360" y="374"/>
                  </a:cubicBezTo>
                  <a:cubicBezTo>
                    <a:pt x="2365" y="390"/>
                    <a:pt x="2371" y="406"/>
                    <a:pt x="2376" y="422"/>
                  </a:cubicBezTo>
                  <a:cubicBezTo>
                    <a:pt x="2381" y="437"/>
                    <a:pt x="2377" y="455"/>
                    <a:pt x="2384" y="470"/>
                  </a:cubicBezTo>
                  <a:cubicBezTo>
                    <a:pt x="2392" y="486"/>
                    <a:pt x="2428" y="491"/>
                    <a:pt x="2440" y="494"/>
                  </a:cubicBezTo>
                  <a:cubicBezTo>
                    <a:pt x="2444" y="516"/>
                    <a:pt x="2440" y="542"/>
                    <a:pt x="2456" y="558"/>
                  </a:cubicBezTo>
                  <a:cubicBezTo>
                    <a:pt x="2462" y="564"/>
                    <a:pt x="2478" y="558"/>
                    <a:pt x="2480" y="566"/>
                  </a:cubicBezTo>
                  <a:cubicBezTo>
                    <a:pt x="2487" y="589"/>
                    <a:pt x="2480" y="614"/>
                    <a:pt x="2480" y="638"/>
                  </a:cubicBezTo>
                </a:path>
              </a:pathLst>
            </a:custGeom>
            <a:noFill/>
            <a:ln w="76320">
              <a:solidFill>
                <a:srgbClr val="ff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Freeform 8"/>
            <p:cNvSpPr/>
            <p:nvPr/>
          </p:nvSpPr>
          <p:spPr>
            <a:xfrm>
              <a:off x="1547640" y="1041840"/>
              <a:ext cx="682920" cy="715680"/>
            </a:xfrm>
            <a:custGeom>
              <a:avLst/>
              <a:gdLst>
                <a:gd name="textAreaLeft" fmla="*/ 0 w 682920"/>
                <a:gd name="textAreaRight" fmla="*/ 683280 w 682920"/>
                <a:gd name="textAreaTop" fmla="*/ 0 h 715680"/>
                <a:gd name="textAreaBottom" fmla="*/ 716040 h 715680"/>
              </a:gdLst>
              <a:ahLst/>
              <a:rect l="textAreaLeft" t="textAreaTop" r="textAreaRight" b="textAreaBottom"/>
              <a:pathLst>
                <a:path w="1931" h="1837">
                  <a:moveTo>
                    <a:pt x="46" y="1837"/>
                  </a:moveTo>
                  <a:cubicBezTo>
                    <a:pt x="143" y="1831"/>
                    <a:pt x="169" y="1828"/>
                    <a:pt x="246" y="1813"/>
                  </a:cubicBezTo>
                  <a:cubicBezTo>
                    <a:pt x="251" y="1805"/>
                    <a:pt x="259" y="1798"/>
                    <a:pt x="262" y="1789"/>
                  </a:cubicBezTo>
                  <a:cubicBezTo>
                    <a:pt x="267" y="1771"/>
                    <a:pt x="260" y="1749"/>
                    <a:pt x="270" y="1733"/>
                  </a:cubicBezTo>
                  <a:cubicBezTo>
                    <a:pt x="280" y="1717"/>
                    <a:pt x="318" y="1701"/>
                    <a:pt x="318" y="1701"/>
                  </a:cubicBezTo>
                  <a:cubicBezTo>
                    <a:pt x="323" y="1693"/>
                    <a:pt x="333" y="1687"/>
                    <a:pt x="334" y="1677"/>
                  </a:cubicBezTo>
                  <a:cubicBezTo>
                    <a:pt x="341" y="1610"/>
                    <a:pt x="317" y="1617"/>
                    <a:pt x="270" y="1605"/>
                  </a:cubicBezTo>
                  <a:cubicBezTo>
                    <a:pt x="267" y="1581"/>
                    <a:pt x="273" y="1555"/>
                    <a:pt x="262" y="1533"/>
                  </a:cubicBezTo>
                  <a:cubicBezTo>
                    <a:pt x="257" y="1523"/>
                    <a:pt x="241" y="1528"/>
                    <a:pt x="230" y="1525"/>
                  </a:cubicBezTo>
                  <a:cubicBezTo>
                    <a:pt x="166" y="1506"/>
                    <a:pt x="101" y="1490"/>
                    <a:pt x="38" y="1469"/>
                  </a:cubicBezTo>
                  <a:cubicBezTo>
                    <a:pt x="23" y="1447"/>
                    <a:pt x="0" y="1417"/>
                    <a:pt x="22" y="1389"/>
                  </a:cubicBezTo>
                  <a:cubicBezTo>
                    <a:pt x="27" y="1382"/>
                    <a:pt x="38" y="1385"/>
                    <a:pt x="46" y="1381"/>
                  </a:cubicBezTo>
                  <a:cubicBezTo>
                    <a:pt x="55" y="1377"/>
                    <a:pt x="62" y="1370"/>
                    <a:pt x="70" y="1365"/>
                  </a:cubicBezTo>
                  <a:cubicBezTo>
                    <a:pt x="123" y="1383"/>
                    <a:pt x="76" y="1376"/>
                    <a:pt x="110" y="1301"/>
                  </a:cubicBezTo>
                  <a:cubicBezTo>
                    <a:pt x="115" y="1289"/>
                    <a:pt x="147" y="1280"/>
                    <a:pt x="158" y="1277"/>
                  </a:cubicBezTo>
                  <a:cubicBezTo>
                    <a:pt x="192" y="1267"/>
                    <a:pt x="230" y="1269"/>
                    <a:pt x="262" y="1253"/>
                  </a:cubicBezTo>
                  <a:cubicBezTo>
                    <a:pt x="314" y="1227"/>
                    <a:pt x="257" y="1248"/>
                    <a:pt x="310" y="1213"/>
                  </a:cubicBezTo>
                  <a:cubicBezTo>
                    <a:pt x="370" y="1173"/>
                    <a:pt x="286" y="1269"/>
                    <a:pt x="382" y="1173"/>
                  </a:cubicBezTo>
                  <a:cubicBezTo>
                    <a:pt x="403" y="1152"/>
                    <a:pt x="425" y="1127"/>
                    <a:pt x="454" y="1117"/>
                  </a:cubicBezTo>
                  <a:cubicBezTo>
                    <a:pt x="505" y="1100"/>
                    <a:pt x="548" y="1078"/>
                    <a:pt x="598" y="1061"/>
                  </a:cubicBezTo>
                  <a:cubicBezTo>
                    <a:pt x="641" y="1047"/>
                    <a:pt x="689" y="1056"/>
                    <a:pt x="734" y="1053"/>
                  </a:cubicBezTo>
                  <a:cubicBezTo>
                    <a:pt x="798" y="1010"/>
                    <a:pt x="721" y="1066"/>
                    <a:pt x="774" y="1013"/>
                  </a:cubicBezTo>
                  <a:cubicBezTo>
                    <a:pt x="801" y="986"/>
                    <a:pt x="793" y="1005"/>
                    <a:pt x="822" y="989"/>
                  </a:cubicBezTo>
                  <a:cubicBezTo>
                    <a:pt x="874" y="960"/>
                    <a:pt x="924" y="919"/>
                    <a:pt x="966" y="877"/>
                  </a:cubicBezTo>
                  <a:cubicBezTo>
                    <a:pt x="970" y="855"/>
                    <a:pt x="979" y="835"/>
                    <a:pt x="982" y="813"/>
                  </a:cubicBezTo>
                  <a:cubicBezTo>
                    <a:pt x="987" y="773"/>
                    <a:pt x="969" y="722"/>
                    <a:pt x="998" y="693"/>
                  </a:cubicBezTo>
                  <a:cubicBezTo>
                    <a:pt x="1012" y="679"/>
                    <a:pt x="1030" y="672"/>
                    <a:pt x="1046" y="661"/>
                  </a:cubicBezTo>
                  <a:cubicBezTo>
                    <a:pt x="1079" y="639"/>
                    <a:pt x="1091" y="618"/>
                    <a:pt x="1110" y="589"/>
                  </a:cubicBezTo>
                  <a:cubicBezTo>
                    <a:pt x="1117" y="531"/>
                    <a:pt x="1112" y="511"/>
                    <a:pt x="1166" y="493"/>
                  </a:cubicBezTo>
                  <a:cubicBezTo>
                    <a:pt x="1303" y="510"/>
                    <a:pt x="1449" y="529"/>
                    <a:pt x="1582" y="485"/>
                  </a:cubicBezTo>
                  <a:cubicBezTo>
                    <a:pt x="1611" y="456"/>
                    <a:pt x="1633" y="427"/>
                    <a:pt x="1646" y="389"/>
                  </a:cubicBezTo>
                  <a:cubicBezTo>
                    <a:pt x="1641" y="324"/>
                    <a:pt x="1656" y="286"/>
                    <a:pt x="1606" y="253"/>
                  </a:cubicBezTo>
                  <a:cubicBezTo>
                    <a:pt x="1587" y="196"/>
                    <a:pt x="1599" y="219"/>
                    <a:pt x="1574" y="181"/>
                  </a:cubicBezTo>
                  <a:cubicBezTo>
                    <a:pt x="1577" y="160"/>
                    <a:pt x="1565" y="131"/>
                    <a:pt x="1582" y="117"/>
                  </a:cubicBezTo>
                  <a:cubicBezTo>
                    <a:pt x="1603" y="100"/>
                    <a:pt x="1637" y="117"/>
                    <a:pt x="1662" y="109"/>
                  </a:cubicBezTo>
                  <a:cubicBezTo>
                    <a:pt x="1687" y="101"/>
                    <a:pt x="1683" y="45"/>
                    <a:pt x="1694" y="29"/>
                  </a:cubicBezTo>
                  <a:cubicBezTo>
                    <a:pt x="1703" y="16"/>
                    <a:pt x="1728" y="10"/>
                    <a:pt x="1742" y="5"/>
                  </a:cubicBezTo>
                  <a:cubicBezTo>
                    <a:pt x="1771" y="8"/>
                    <a:pt x="1804" y="0"/>
                    <a:pt x="1830" y="13"/>
                  </a:cubicBezTo>
                  <a:cubicBezTo>
                    <a:pt x="1931" y="63"/>
                    <a:pt x="1753" y="53"/>
                    <a:pt x="1870" y="53"/>
                  </a:cubicBezTo>
                </a:path>
              </a:pathLst>
            </a:custGeom>
            <a:noFill/>
            <a:ln w="57240">
              <a:solidFill>
                <a:srgbClr val="ff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46" dur="2000"/>
                                        <p:tgtEl>
                                          <p:spTgt spid="10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7" name="Group 3"/>
          <p:cNvGrpSpPr/>
          <p:nvPr/>
        </p:nvGrpSpPr>
        <p:grpSpPr>
          <a:xfrm>
            <a:off x="250920" y="404640"/>
            <a:ext cx="1979640" cy="1366920"/>
            <a:chOff x="250920" y="404640"/>
            <a:chExt cx="1979640" cy="1366920"/>
          </a:xfrm>
        </p:grpSpPr>
        <p:sp>
          <p:nvSpPr>
            <p:cNvPr id="1078" name="Freeform 4"/>
            <p:cNvSpPr/>
            <p:nvPr/>
          </p:nvSpPr>
          <p:spPr>
            <a:xfrm>
              <a:off x="250920" y="407520"/>
              <a:ext cx="1502640" cy="308880"/>
            </a:xfrm>
            <a:custGeom>
              <a:avLst/>
              <a:gdLst>
                <a:gd name="textAreaLeft" fmla="*/ 0 w 1502640"/>
                <a:gd name="textAreaRight" fmla="*/ 1503000 w 1502640"/>
                <a:gd name="textAreaTop" fmla="*/ 0 h 308880"/>
                <a:gd name="textAreaBottom" fmla="*/ 308880 h 308880"/>
              </a:gdLst>
              <a:ahLst/>
              <a:rect l="textAreaLeft" t="textAreaTop" r="textAreaRight" b="textAreaBottom"/>
              <a:pathLst>
                <a:path w="4248" h="793">
                  <a:moveTo>
                    <a:pt x="0" y="704"/>
                  </a:moveTo>
                  <a:cubicBezTo>
                    <a:pt x="29" y="701"/>
                    <a:pt x="60" y="704"/>
                    <a:pt x="88" y="696"/>
                  </a:cubicBezTo>
                  <a:cubicBezTo>
                    <a:pt x="101" y="692"/>
                    <a:pt x="166" y="598"/>
                    <a:pt x="104" y="680"/>
                  </a:cubicBezTo>
                  <a:cubicBezTo>
                    <a:pt x="161" y="699"/>
                    <a:pt x="146" y="663"/>
                    <a:pt x="192" y="648"/>
                  </a:cubicBezTo>
                  <a:cubicBezTo>
                    <a:pt x="205" y="651"/>
                    <a:pt x="224" y="645"/>
                    <a:pt x="232" y="656"/>
                  </a:cubicBezTo>
                  <a:cubicBezTo>
                    <a:pt x="248" y="678"/>
                    <a:pt x="239" y="710"/>
                    <a:pt x="248" y="736"/>
                  </a:cubicBezTo>
                  <a:cubicBezTo>
                    <a:pt x="407" y="730"/>
                    <a:pt x="452" y="787"/>
                    <a:pt x="488" y="680"/>
                  </a:cubicBezTo>
                  <a:cubicBezTo>
                    <a:pt x="520" y="453"/>
                    <a:pt x="471" y="670"/>
                    <a:pt x="1000" y="616"/>
                  </a:cubicBezTo>
                  <a:cubicBezTo>
                    <a:pt x="1023" y="614"/>
                    <a:pt x="1062" y="547"/>
                    <a:pt x="1096" y="536"/>
                  </a:cubicBezTo>
                  <a:cubicBezTo>
                    <a:pt x="1115" y="508"/>
                    <a:pt x="1139" y="459"/>
                    <a:pt x="1168" y="440"/>
                  </a:cubicBezTo>
                  <a:cubicBezTo>
                    <a:pt x="1200" y="419"/>
                    <a:pt x="1276" y="419"/>
                    <a:pt x="1304" y="416"/>
                  </a:cubicBezTo>
                  <a:cubicBezTo>
                    <a:pt x="1327" y="381"/>
                    <a:pt x="1326" y="301"/>
                    <a:pt x="1360" y="296"/>
                  </a:cubicBezTo>
                  <a:cubicBezTo>
                    <a:pt x="1405" y="289"/>
                    <a:pt x="1451" y="291"/>
                    <a:pt x="1496" y="288"/>
                  </a:cubicBezTo>
                  <a:cubicBezTo>
                    <a:pt x="1538" y="274"/>
                    <a:pt x="1525" y="252"/>
                    <a:pt x="1560" y="232"/>
                  </a:cubicBezTo>
                  <a:cubicBezTo>
                    <a:pt x="1584" y="218"/>
                    <a:pt x="1614" y="217"/>
                    <a:pt x="1640" y="208"/>
                  </a:cubicBezTo>
                  <a:cubicBezTo>
                    <a:pt x="1648" y="205"/>
                    <a:pt x="1664" y="200"/>
                    <a:pt x="1664" y="200"/>
                  </a:cubicBezTo>
                  <a:cubicBezTo>
                    <a:pt x="1680" y="184"/>
                    <a:pt x="1696" y="168"/>
                    <a:pt x="1712" y="152"/>
                  </a:cubicBezTo>
                  <a:cubicBezTo>
                    <a:pt x="1720" y="144"/>
                    <a:pt x="1736" y="128"/>
                    <a:pt x="1736" y="128"/>
                  </a:cubicBezTo>
                  <a:cubicBezTo>
                    <a:pt x="1760" y="55"/>
                    <a:pt x="1725" y="69"/>
                    <a:pt x="1824" y="80"/>
                  </a:cubicBezTo>
                  <a:cubicBezTo>
                    <a:pt x="1835" y="83"/>
                    <a:pt x="1849" y="80"/>
                    <a:pt x="1856" y="88"/>
                  </a:cubicBezTo>
                  <a:cubicBezTo>
                    <a:pt x="1867" y="100"/>
                    <a:pt x="1878" y="182"/>
                    <a:pt x="1888" y="192"/>
                  </a:cubicBezTo>
                  <a:cubicBezTo>
                    <a:pt x="1896" y="200"/>
                    <a:pt x="1909" y="197"/>
                    <a:pt x="1920" y="200"/>
                  </a:cubicBezTo>
                  <a:cubicBezTo>
                    <a:pt x="1949" y="208"/>
                    <a:pt x="1942" y="206"/>
                    <a:pt x="1968" y="224"/>
                  </a:cubicBezTo>
                  <a:cubicBezTo>
                    <a:pt x="1971" y="232"/>
                    <a:pt x="1976" y="240"/>
                    <a:pt x="1976" y="248"/>
                  </a:cubicBezTo>
                  <a:cubicBezTo>
                    <a:pt x="1976" y="256"/>
                    <a:pt x="1965" y="264"/>
                    <a:pt x="1968" y="272"/>
                  </a:cubicBezTo>
                  <a:cubicBezTo>
                    <a:pt x="1979" y="299"/>
                    <a:pt x="2066" y="294"/>
                    <a:pt x="2088" y="296"/>
                  </a:cubicBezTo>
                  <a:cubicBezTo>
                    <a:pt x="2134" y="307"/>
                    <a:pt x="2178" y="325"/>
                    <a:pt x="2224" y="336"/>
                  </a:cubicBezTo>
                  <a:cubicBezTo>
                    <a:pt x="2244" y="377"/>
                    <a:pt x="2265" y="385"/>
                    <a:pt x="2296" y="416"/>
                  </a:cubicBezTo>
                  <a:cubicBezTo>
                    <a:pt x="2332" y="452"/>
                    <a:pt x="2289" y="432"/>
                    <a:pt x="2336" y="448"/>
                  </a:cubicBezTo>
                  <a:cubicBezTo>
                    <a:pt x="2341" y="464"/>
                    <a:pt x="2347" y="480"/>
                    <a:pt x="2352" y="496"/>
                  </a:cubicBezTo>
                  <a:cubicBezTo>
                    <a:pt x="2355" y="504"/>
                    <a:pt x="2360" y="520"/>
                    <a:pt x="2360" y="520"/>
                  </a:cubicBezTo>
                  <a:cubicBezTo>
                    <a:pt x="2354" y="538"/>
                    <a:pt x="2325" y="612"/>
                    <a:pt x="2352" y="624"/>
                  </a:cubicBezTo>
                  <a:cubicBezTo>
                    <a:pt x="2389" y="640"/>
                    <a:pt x="2432" y="629"/>
                    <a:pt x="2472" y="632"/>
                  </a:cubicBezTo>
                  <a:cubicBezTo>
                    <a:pt x="2488" y="637"/>
                    <a:pt x="2504" y="643"/>
                    <a:pt x="2520" y="648"/>
                  </a:cubicBezTo>
                  <a:cubicBezTo>
                    <a:pt x="2528" y="651"/>
                    <a:pt x="2544" y="656"/>
                    <a:pt x="2544" y="656"/>
                  </a:cubicBezTo>
                  <a:cubicBezTo>
                    <a:pt x="2572" y="677"/>
                    <a:pt x="2591" y="701"/>
                    <a:pt x="2624" y="712"/>
                  </a:cubicBezTo>
                  <a:cubicBezTo>
                    <a:pt x="2642" y="785"/>
                    <a:pt x="2622" y="764"/>
                    <a:pt x="2664" y="792"/>
                  </a:cubicBezTo>
                  <a:cubicBezTo>
                    <a:pt x="2707" y="789"/>
                    <a:pt x="2750" y="793"/>
                    <a:pt x="2792" y="784"/>
                  </a:cubicBezTo>
                  <a:cubicBezTo>
                    <a:pt x="2819" y="778"/>
                    <a:pt x="2832" y="712"/>
                    <a:pt x="2832" y="712"/>
                  </a:cubicBezTo>
                  <a:cubicBezTo>
                    <a:pt x="2839" y="646"/>
                    <a:pt x="2839" y="590"/>
                    <a:pt x="2896" y="552"/>
                  </a:cubicBezTo>
                  <a:cubicBezTo>
                    <a:pt x="2916" y="522"/>
                    <a:pt x="2946" y="476"/>
                    <a:pt x="2976" y="456"/>
                  </a:cubicBezTo>
                  <a:cubicBezTo>
                    <a:pt x="2989" y="447"/>
                    <a:pt x="3042" y="441"/>
                    <a:pt x="3048" y="440"/>
                  </a:cubicBezTo>
                  <a:cubicBezTo>
                    <a:pt x="3064" y="429"/>
                    <a:pt x="3080" y="419"/>
                    <a:pt x="3096" y="408"/>
                  </a:cubicBezTo>
                  <a:cubicBezTo>
                    <a:pt x="3106" y="401"/>
                    <a:pt x="3072" y="416"/>
                    <a:pt x="3064" y="424"/>
                  </a:cubicBezTo>
                  <a:cubicBezTo>
                    <a:pt x="3058" y="430"/>
                    <a:pt x="3081" y="421"/>
                    <a:pt x="3088" y="416"/>
                  </a:cubicBezTo>
                  <a:cubicBezTo>
                    <a:pt x="3096" y="411"/>
                    <a:pt x="3105" y="407"/>
                    <a:pt x="3112" y="400"/>
                  </a:cubicBezTo>
                  <a:cubicBezTo>
                    <a:pt x="3152" y="360"/>
                    <a:pt x="3125" y="379"/>
                    <a:pt x="3200" y="360"/>
                  </a:cubicBezTo>
                  <a:cubicBezTo>
                    <a:pt x="3211" y="357"/>
                    <a:pt x="3232" y="352"/>
                    <a:pt x="3232" y="352"/>
                  </a:cubicBezTo>
                  <a:cubicBezTo>
                    <a:pt x="3251" y="408"/>
                    <a:pt x="3307" y="331"/>
                    <a:pt x="3336" y="312"/>
                  </a:cubicBezTo>
                  <a:cubicBezTo>
                    <a:pt x="3440" y="242"/>
                    <a:pt x="3587" y="307"/>
                    <a:pt x="3712" y="304"/>
                  </a:cubicBezTo>
                  <a:cubicBezTo>
                    <a:pt x="3769" y="266"/>
                    <a:pt x="3829" y="263"/>
                    <a:pt x="3896" y="256"/>
                  </a:cubicBezTo>
                  <a:cubicBezTo>
                    <a:pt x="3908" y="221"/>
                    <a:pt x="3909" y="203"/>
                    <a:pt x="3936" y="176"/>
                  </a:cubicBezTo>
                  <a:cubicBezTo>
                    <a:pt x="3925" y="160"/>
                    <a:pt x="3908" y="147"/>
                    <a:pt x="3904" y="128"/>
                  </a:cubicBezTo>
                  <a:cubicBezTo>
                    <a:pt x="3900" y="108"/>
                    <a:pt x="3933" y="97"/>
                    <a:pt x="3944" y="96"/>
                  </a:cubicBezTo>
                  <a:cubicBezTo>
                    <a:pt x="3989" y="91"/>
                    <a:pt x="4035" y="91"/>
                    <a:pt x="4080" y="88"/>
                  </a:cubicBezTo>
                  <a:cubicBezTo>
                    <a:pt x="4168" y="73"/>
                    <a:pt x="4182" y="66"/>
                    <a:pt x="4248" y="0"/>
                  </a:cubicBezTo>
                </a:path>
              </a:pathLst>
            </a:custGeom>
            <a:noFill/>
            <a:ln w="57240">
              <a:solidFill>
                <a:srgbClr val="ff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Freeform 5"/>
            <p:cNvSpPr/>
            <p:nvPr/>
          </p:nvSpPr>
          <p:spPr>
            <a:xfrm>
              <a:off x="1760040" y="404640"/>
              <a:ext cx="465840" cy="649080"/>
            </a:xfrm>
            <a:custGeom>
              <a:avLst/>
              <a:gdLst>
                <a:gd name="textAreaLeft" fmla="*/ 0 w 465840"/>
                <a:gd name="textAreaRight" fmla="*/ 466200 w 465840"/>
                <a:gd name="textAreaTop" fmla="*/ 0 h 649080"/>
                <a:gd name="textAreaBottom" fmla="*/ 649080 h 649080"/>
              </a:gdLst>
              <a:ahLst/>
              <a:rect l="textAreaLeft" t="textAreaTop" r="textAreaRight" b="textAreaBottom"/>
              <a:pathLst>
                <a:path w="1317" h="1666">
                  <a:moveTo>
                    <a:pt x="5" y="0"/>
                  </a:moveTo>
                  <a:cubicBezTo>
                    <a:pt x="8" y="24"/>
                    <a:pt x="0" y="52"/>
                    <a:pt x="13" y="72"/>
                  </a:cubicBezTo>
                  <a:cubicBezTo>
                    <a:pt x="22" y="86"/>
                    <a:pt x="61" y="88"/>
                    <a:pt x="61" y="88"/>
                  </a:cubicBezTo>
                  <a:cubicBezTo>
                    <a:pt x="67" y="106"/>
                    <a:pt x="90" y="155"/>
                    <a:pt x="101" y="168"/>
                  </a:cubicBezTo>
                  <a:cubicBezTo>
                    <a:pt x="123" y="195"/>
                    <a:pt x="268" y="205"/>
                    <a:pt x="301" y="208"/>
                  </a:cubicBezTo>
                  <a:cubicBezTo>
                    <a:pt x="298" y="216"/>
                    <a:pt x="290" y="224"/>
                    <a:pt x="293" y="232"/>
                  </a:cubicBezTo>
                  <a:cubicBezTo>
                    <a:pt x="297" y="241"/>
                    <a:pt x="311" y="241"/>
                    <a:pt x="317" y="248"/>
                  </a:cubicBezTo>
                  <a:cubicBezTo>
                    <a:pt x="330" y="262"/>
                    <a:pt x="331" y="290"/>
                    <a:pt x="349" y="296"/>
                  </a:cubicBezTo>
                  <a:cubicBezTo>
                    <a:pt x="365" y="301"/>
                    <a:pt x="397" y="312"/>
                    <a:pt x="397" y="312"/>
                  </a:cubicBezTo>
                  <a:cubicBezTo>
                    <a:pt x="417" y="392"/>
                    <a:pt x="387" y="310"/>
                    <a:pt x="429" y="352"/>
                  </a:cubicBezTo>
                  <a:cubicBezTo>
                    <a:pt x="435" y="358"/>
                    <a:pt x="431" y="370"/>
                    <a:pt x="437" y="376"/>
                  </a:cubicBezTo>
                  <a:cubicBezTo>
                    <a:pt x="460" y="399"/>
                    <a:pt x="501" y="388"/>
                    <a:pt x="533" y="392"/>
                  </a:cubicBezTo>
                  <a:cubicBezTo>
                    <a:pt x="588" y="429"/>
                    <a:pt x="563" y="418"/>
                    <a:pt x="605" y="432"/>
                  </a:cubicBezTo>
                  <a:cubicBezTo>
                    <a:pt x="618" y="452"/>
                    <a:pt x="624" y="456"/>
                    <a:pt x="629" y="480"/>
                  </a:cubicBezTo>
                  <a:cubicBezTo>
                    <a:pt x="633" y="498"/>
                    <a:pt x="625" y="522"/>
                    <a:pt x="637" y="536"/>
                  </a:cubicBezTo>
                  <a:cubicBezTo>
                    <a:pt x="648" y="548"/>
                    <a:pt x="669" y="541"/>
                    <a:pt x="685" y="544"/>
                  </a:cubicBezTo>
                  <a:cubicBezTo>
                    <a:pt x="694" y="595"/>
                    <a:pt x="711" y="694"/>
                    <a:pt x="765" y="712"/>
                  </a:cubicBezTo>
                  <a:cubicBezTo>
                    <a:pt x="792" y="822"/>
                    <a:pt x="1029" y="804"/>
                    <a:pt x="1101" y="808"/>
                  </a:cubicBezTo>
                  <a:cubicBezTo>
                    <a:pt x="1095" y="840"/>
                    <a:pt x="1092" y="872"/>
                    <a:pt x="1085" y="904"/>
                  </a:cubicBezTo>
                  <a:cubicBezTo>
                    <a:pt x="1081" y="920"/>
                    <a:pt x="1083" y="943"/>
                    <a:pt x="1069" y="952"/>
                  </a:cubicBezTo>
                  <a:cubicBezTo>
                    <a:pt x="1027" y="980"/>
                    <a:pt x="997" y="1016"/>
                    <a:pt x="981" y="1064"/>
                  </a:cubicBezTo>
                  <a:cubicBezTo>
                    <a:pt x="993" y="1220"/>
                    <a:pt x="978" y="1182"/>
                    <a:pt x="1149" y="1192"/>
                  </a:cubicBezTo>
                  <a:cubicBezTo>
                    <a:pt x="1221" y="1240"/>
                    <a:pt x="1191" y="1277"/>
                    <a:pt x="1181" y="1384"/>
                  </a:cubicBezTo>
                  <a:cubicBezTo>
                    <a:pt x="1178" y="1412"/>
                    <a:pt x="1168" y="1407"/>
                    <a:pt x="1157" y="1432"/>
                  </a:cubicBezTo>
                  <a:cubicBezTo>
                    <a:pt x="1150" y="1447"/>
                    <a:pt x="1141" y="1480"/>
                    <a:pt x="1141" y="1480"/>
                  </a:cubicBezTo>
                  <a:cubicBezTo>
                    <a:pt x="1144" y="1496"/>
                    <a:pt x="1135" y="1520"/>
                    <a:pt x="1149" y="1528"/>
                  </a:cubicBezTo>
                  <a:cubicBezTo>
                    <a:pt x="1177" y="1543"/>
                    <a:pt x="1224" y="1512"/>
                    <a:pt x="1245" y="1536"/>
                  </a:cubicBezTo>
                  <a:cubicBezTo>
                    <a:pt x="1270" y="1564"/>
                    <a:pt x="1238" y="1614"/>
                    <a:pt x="1253" y="1648"/>
                  </a:cubicBezTo>
                  <a:cubicBezTo>
                    <a:pt x="1261" y="1666"/>
                    <a:pt x="1298" y="1664"/>
                    <a:pt x="1317" y="1664"/>
                  </a:cubicBezTo>
                </a:path>
              </a:pathLst>
            </a:custGeom>
            <a:noFill/>
            <a:ln w="57240">
              <a:solidFill>
                <a:srgbClr val="ff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Line 6"/>
            <p:cNvSpPr/>
            <p:nvPr/>
          </p:nvSpPr>
          <p:spPr>
            <a:xfrm>
              <a:off x="253800" y="788760"/>
              <a:ext cx="401040" cy="901800"/>
            </a:xfrm>
            <a:prstGeom prst="line">
              <a:avLst/>
            </a:prstGeom>
            <a:ln w="7632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Freeform 7"/>
            <p:cNvSpPr/>
            <p:nvPr/>
          </p:nvSpPr>
          <p:spPr>
            <a:xfrm>
              <a:off x="663840" y="1521360"/>
              <a:ext cx="879480" cy="250200"/>
            </a:xfrm>
            <a:custGeom>
              <a:avLst/>
              <a:gdLst>
                <a:gd name="textAreaLeft" fmla="*/ 0 w 879480"/>
                <a:gd name="textAreaRight" fmla="*/ 879840 w 879480"/>
                <a:gd name="textAreaTop" fmla="*/ 0 h 250200"/>
                <a:gd name="textAreaBottom" fmla="*/ 250200 h 250200"/>
              </a:gdLst>
              <a:ahLst/>
              <a:rect l="textAreaLeft" t="textAreaTop" r="textAreaRight" b="textAreaBottom"/>
              <a:pathLst>
                <a:path w="2487" h="642">
                  <a:moveTo>
                    <a:pt x="0" y="462"/>
                  </a:moveTo>
                  <a:cubicBezTo>
                    <a:pt x="37" y="453"/>
                    <a:pt x="51" y="446"/>
                    <a:pt x="72" y="414"/>
                  </a:cubicBezTo>
                  <a:cubicBezTo>
                    <a:pt x="91" y="339"/>
                    <a:pt x="135" y="396"/>
                    <a:pt x="192" y="358"/>
                  </a:cubicBezTo>
                  <a:cubicBezTo>
                    <a:pt x="220" y="316"/>
                    <a:pt x="252" y="279"/>
                    <a:pt x="280" y="238"/>
                  </a:cubicBezTo>
                  <a:cubicBezTo>
                    <a:pt x="290" y="66"/>
                    <a:pt x="257" y="91"/>
                    <a:pt x="400" y="78"/>
                  </a:cubicBezTo>
                  <a:cubicBezTo>
                    <a:pt x="405" y="70"/>
                    <a:pt x="412" y="63"/>
                    <a:pt x="416" y="54"/>
                  </a:cubicBezTo>
                  <a:cubicBezTo>
                    <a:pt x="423" y="39"/>
                    <a:pt x="432" y="6"/>
                    <a:pt x="432" y="6"/>
                  </a:cubicBezTo>
                  <a:cubicBezTo>
                    <a:pt x="461" y="9"/>
                    <a:pt x="494" y="0"/>
                    <a:pt x="520" y="14"/>
                  </a:cubicBezTo>
                  <a:cubicBezTo>
                    <a:pt x="558" y="34"/>
                    <a:pt x="519" y="87"/>
                    <a:pt x="568" y="102"/>
                  </a:cubicBezTo>
                  <a:cubicBezTo>
                    <a:pt x="586" y="107"/>
                    <a:pt x="605" y="107"/>
                    <a:pt x="624" y="110"/>
                  </a:cubicBezTo>
                  <a:cubicBezTo>
                    <a:pt x="621" y="131"/>
                    <a:pt x="616" y="153"/>
                    <a:pt x="616" y="174"/>
                  </a:cubicBezTo>
                  <a:cubicBezTo>
                    <a:pt x="616" y="347"/>
                    <a:pt x="616" y="278"/>
                    <a:pt x="832" y="286"/>
                  </a:cubicBezTo>
                  <a:cubicBezTo>
                    <a:pt x="848" y="642"/>
                    <a:pt x="860" y="478"/>
                    <a:pt x="1392" y="486"/>
                  </a:cubicBezTo>
                  <a:cubicBezTo>
                    <a:pt x="1453" y="527"/>
                    <a:pt x="1531" y="510"/>
                    <a:pt x="1600" y="502"/>
                  </a:cubicBezTo>
                  <a:cubicBezTo>
                    <a:pt x="1610" y="471"/>
                    <a:pt x="1630" y="469"/>
                    <a:pt x="1640" y="438"/>
                  </a:cubicBezTo>
                  <a:cubicBezTo>
                    <a:pt x="1656" y="314"/>
                    <a:pt x="1694" y="365"/>
                    <a:pt x="1856" y="358"/>
                  </a:cubicBezTo>
                  <a:cubicBezTo>
                    <a:pt x="1908" y="332"/>
                    <a:pt x="1932" y="319"/>
                    <a:pt x="1992" y="310"/>
                  </a:cubicBezTo>
                  <a:cubicBezTo>
                    <a:pt x="2079" y="281"/>
                    <a:pt x="2168" y="308"/>
                    <a:pt x="2256" y="318"/>
                  </a:cubicBezTo>
                  <a:cubicBezTo>
                    <a:pt x="2259" y="326"/>
                    <a:pt x="2257" y="338"/>
                    <a:pt x="2264" y="342"/>
                  </a:cubicBezTo>
                  <a:cubicBezTo>
                    <a:pt x="2278" y="350"/>
                    <a:pt x="2296" y="346"/>
                    <a:pt x="2312" y="350"/>
                  </a:cubicBezTo>
                  <a:cubicBezTo>
                    <a:pt x="2337" y="356"/>
                    <a:pt x="2338" y="360"/>
                    <a:pt x="2360" y="374"/>
                  </a:cubicBezTo>
                  <a:cubicBezTo>
                    <a:pt x="2365" y="390"/>
                    <a:pt x="2371" y="406"/>
                    <a:pt x="2376" y="422"/>
                  </a:cubicBezTo>
                  <a:cubicBezTo>
                    <a:pt x="2381" y="437"/>
                    <a:pt x="2377" y="455"/>
                    <a:pt x="2384" y="470"/>
                  </a:cubicBezTo>
                  <a:cubicBezTo>
                    <a:pt x="2392" y="486"/>
                    <a:pt x="2428" y="491"/>
                    <a:pt x="2440" y="494"/>
                  </a:cubicBezTo>
                  <a:cubicBezTo>
                    <a:pt x="2444" y="516"/>
                    <a:pt x="2440" y="542"/>
                    <a:pt x="2456" y="558"/>
                  </a:cubicBezTo>
                  <a:cubicBezTo>
                    <a:pt x="2462" y="564"/>
                    <a:pt x="2478" y="558"/>
                    <a:pt x="2480" y="566"/>
                  </a:cubicBezTo>
                  <a:cubicBezTo>
                    <a:pt x="2487" y="589"/>
                    <a:pt x="2480" y="614"/>
                    <a:pt x="2480" y="638"/>
                  </a:cubicBezTo>
                </a:path>
              </a:pathLst>
            </a:custGeom>
            <a:noFill/>
            <a:ln w="76320">
              <a:solidFill>
                <a:srgbClr val="ff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Freeform 8"/>
            <p:cNvSpPr/>
            <p:nvPr/>
          </p:nvSpPr>
          <p:spPr>
            <a:xfrm>
              <a:off x="1547640" y="1041840"/>
              <a:ext cx="682920" cy="715680"/>
            </a:xfrm>
            <a:custGeom>
              <a:avLst/>
              <a:gdLst>
                <a:gd name="textAreaLeft" fmla="*/ 0 w 682920"/>
                <a:gd name="textAreaRight" fmla="*/ 683280 w 682920"/>
                <a:gd name="textAreaTop" fmla="*/ 0 h 715680"/>
                <a:gd name="textAreaBottom" fmla="*/ 716040 h 715680"/>
              </a:gdLst>
              <a:ahLst/>
              <a:rect l="textAreaLeft" t="textAreaTop" r="textAreaRight" b="textAreaBottom"/>
              <a:pathLst>
                <a:path w="1931" h="1837">
                  <a:moveTo>
                    <a:pt x="46" y="1837"/>
                  </a:moveTo>
                  <a:cubicBezTo>
                    <a:pt x="143" y="1831"/>
                    <a:pt x="169" y="1828"/>
                    <a:pt x="246" y="1813"/>
                  </a:cubicBezTo>
                  <a:cubicBezTo>
                    <a:pt x="251" y="1805"/>
                    <a:pt x="259" y="1798"/>
                    <a:pt x="262" y="1789"/>
                  </a:cubicBezTo>
                  <a:cubicBezTo>
                    <a:pt x="267" y="1771"/>
                    <a:pt x="260" y="1749"/>
                    <a:pt x="270" y="1733"/>
                  </a:cubicBezTo>
                  <a:cubicBezTo>
                    <a:pt x="280" y="1717"/>
                    <a:pt x="318" y="1701"/>
                    <a:pt x="318" y="1701"/>
                  </a:cubicBezTo>
                  <a:cubicBezTo>
                    <a:pt x="323" y="1693"/>
                    <a:pt x="333" y="1687"/>
                    <a:pt x="334" y="1677"/>
                  </a:cubicBezTo>
                  <a:cubicBezTo>
                    <a:pt x="341" y="1610"/>
                    <a:pt x="317" y="1617"/>
                    <a:pt x="270" y="1605"/>
                  </a:cubicBezTo>
                  <a:cubicBezTo>
                    <a:pt x="267" y="1581"/>
                    <a:pt x="273" y="1555"/>
                    <a:pt x="262" y="1533"/>
                  </a:cubicBezTo>
                  <a:cubicBezTo>
                    <a:pt x="257" y="1523"/>
                    <a:pt x="241" y="1528"/>
                    <a:pt x="230" y="1525"/>
                  </a:cubicBezTo>
                  <a:cubicBezTo>
                    <a:pt x="166" y="1506"/>
                    <a:pt x="101" y="1490"/>
                    <a:pt x="38" y="1469"/>
                  </a:cubicBezTo>
                  <a:cubicBezTo>
                    <a:pt x="23" y="1447"/>
                    <a:pt x="0" y="1417"/>
                    <a:pt x="22" y="1389"/>
                  </a:cubicBezTo>
                  <a:cubicBezTo>
                    <a:pt x="27" y="1382"/>
                    <a:pt x="38" y="1385"/>
                    <a:pt x="46" y="1381"/>
                  </a:cubicBezTo>
                  <a:cubicBezTo>
                    <a:pt x="55" y="1377"/>
                    <a:pt x="62" y="1370"/>
                    <a:pt x="70" y="1365"/>
                  </a:cubicBezTo>
                  <a:cubicBezTo>
                    <a:pt x="123" y="1383"/>
                    <a:pt x="76" y="1376"/>
                    <a:pt x="110" y="1301"/>
                  </a:cubicBezTo>
                  <a:cubicBezTo>
                    <a:pt x="115" y="1289"/>
                    <a:pt x="147" y="1280"/>
                    <a:pt x="158" y="1277"/>
                  </a:cubicBezTo>
                  <a:cubicBezTo>
                    <a:pt x="192" y="1267"/>
                    <a:pt x="230" y="1269"/>
                    <a:pt x="262" y="1253"/>
                  </a:cubicBezTo>
                  <a:cubicBezTo>
                    <a:pt x="314" y="1227"/>
                    <a:pt x="257" y="1248"/>
                    <a:pt x="310" y="1213"/>
                  </a:cubicBezTo>
                  <a:cubicBezTo>
                    <a:pt x="370" y="1173"/>
                    <a:pt x="286" y="1269"/>
                    <a:pt x="382" y="1173"/>
                  </a:cubicBezTo>
                  <a:cubicBezTo>
                    <a:pt x="403" y="1152"/>
                    <a:pt x="425" y="1127"/>
                    <a:pt x="454" y="1117"/>
                  </a:cubicBezTo>
                  <a:cubicBezTo>
                    <a:pt x="505" y="1100"/>
                    <a:pt x="548" y="1078"/>
                    <a:pt x="598" y="1061"/>
                  </a:cubicBezTo>
                  <a:cubicBezTo>
                    <a:pt x="641" y="1047"/>
                    <a:pt x="689" y="1056"/>
                    <a:pt x="734" y="1053"/>
                  </a:cubicBezTo>
                  <a:cubicBezTo>
                    <a:pt x="798" y="1010"/>
                    <a:pt x="721" y="1066"/>
                    <a:pt x="774" y="1013"/>
                  </a:cubicBezTo>
                  <a:cubicBezTo>
                    <a:pt x="801" y="986"/>
                    <a:pt x="793" y="1005"/>
                    <a:pt x="822" y="989"/>
                  </a:cubicBezTo>
                  <a:cubicBezTo>
                    <a:pt x="874" y="960"/>
                    <a:pt x="924" y="919"/>
                    <a:pt x="966" y="877"/>
                  </a:cubicBezTo>
                  <a:cubicBezTo>
                    <a:pt x="970" y="855"/>
                    <a:pt x="979" y="835"/>
                    <a:pt x="982" y="813"/>
                  </a:cubicBezTo>
                  <a:cubicBezTo>
                    <a:pt x="987" y="773"/>
                    <a:pt x="969" y="722"/>
                    <a:pt x="998" y="693"/>
                  </a:cubicBezTo>
                  <a:cubicBezTo>
                    <a:pt x="1012" y="679"/>
                    <a:pt x="1030" y="672"/>
                    <a:pt x="1046" y="661"/>
                  </a:cubicBezTo>
                  <a:cubicBezTo>
                    <a:pt x="1079" y="639"/>
                    <a:pt x="1091" y="618"/>
                    <a:pt x="1110" y="589"/>
                  </a:cubicBezTo>
                  <a:cubicBezTo>
                    <a:pt x="1117" y="531"/>
                    <a:pt x="1112" y="511"/>
                    <a:pt x="1166" y="493"/>
                  </a:cubicBezTo>
                  <a:cubicBezTo>
                    <a:pt x="1303" y="510"/>
                    <a:pt x="1449" y="529"/>
                    <a:pt x="1582" y="485"/>
                  </a:cubicBezTo>
                  <a:cubicBezTo>
                    <a:pt x="1611" y="456"/>
                    <a:pt x="1633" y="427"/>
                    <a:pt x="1646" y="389"/>
                  </a:cubicBezTo>
                  <a:cubicBezTo>
                    <a:pt x="1641" y="324"/>
                    <a:pt x="1656" y="286"/>
                    <a:pt x="1606" y="253"/>
                  </a:cubicBezTo>
                  <a:cubicBezTo>
                    <a:pt x="1587" y="196"/>
                    <a:pt x="1599" y="219"/>
                    <a:pt x="1574" y="181"/>
                  </a:cubicBezTo>
                  <a:cubicBezTo>
                    <a:pt x="1577" y="160"/>
                    <a:pt x="1565" y="131"/>
                    <a:pt x="1582" y="117"/>
                  </a:cubicBezTo>
                  <a:cubicBezTo>
                    <a:pt x="1603" y="100"/>
                    <a:pt x="1637" y="117"/>
                    <a:pt x="1662" y="109"/>
                  </a:cubicBezTo>
                  <a:cubicBezTo>
                    <a:pt x="1687" y="101"/>
                    <a:pt x="1683" y="45"/>
                    <a:pt x="1694" y="29"/>
                  </a:cubicBezTo>
                  <a:cubicBezTo>
                    <a:pt x="1703" y="16"/>
                    <a:pt x="1728" y="10"/>
                    <a:pt x="1742" y="5"/>
                  </a:cubicBezTo>
                  <a:cubicBezTo>
                    <a:pt x="1771" y="8"/>
                    <a:pt x="1804" y="0"/>
                    <a:pt x="1830" y="13"/>
                  </a:cubicBezTo>
                  <a:cubicBezTo>
                    <a:pt x="1931" y="63"/>
                    <a:pt x="1753" y="53"/>
                    <a:pt x="1870" y="53"/>
                  </a:cubicBezTo>
                </a:path>
              </a:pathLst>
            </a:custGeom>
            <a:noFill/>
            <a:ln w="57240">
              <a:solidFill>
                <a:srgbClr val="ff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83" name="Picture 1" descr=""/>
          <p:cNvPicPr/>
          <p:nvPr/>
        </p:nvPicPr>
        <p:blipFill>
          <a:blip r:embed="rId1"/>
          <a:stretch/>
        </p:blipFill>
        <p:spPr>
          <a:xfrm>
            <a:off x="1488960" y="5950080"/>
            <a:ext cx="6284880" cy="431640"/>
          </a:xfrm>
          <a:prstGeom prst="rect">
            <a:avLst/>
          </a:prstGeom>
          <a:ln w="0">
            <a:noFill/>
          </a:ln>
        </p:spPr>
      </p:pic>
      <p:pic>
        <p:nvPicPr>
          <p:cNvPr id="1084" name="Picture 2" descr=""/>
          <p:cNvPicPr/>
          <p:nvPr/>
        </p:nvPicPr>
        <p:blipFill>
          <a:blip r:embed="rId2"/>
          <a:stretch/>
        </p:blipFill>
        <p:spPr>
          <a:xfrm>
            <a:off x="330120" y="390600"/>
            <a:ext cx="8813880" cy="527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3" dur="2000"/>
                                        <p:tgtEl>
                                          <p:spTgt spid="10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5" name="Group 3"/>
          <p:cNvGrpSpPr/>
          <p:nvPr/>
        </p:nvGrpSpPr>
        <p:grpSpPr>
          <a:xfrm>
            <a:off x="250920" y="404640"/>
            <a:ext cx="1979640" cy="1366920"/>
            <a:chOff x="250920" y="404640"/>
            <a:chExt cx="1979640" cy="1366920"/>
          </a:xfrm>
        </p:grpSpPr>
        <p:sp>
          <p:nvSpPr>
            <p:cNvPr id="1086" name="Freeform 4"/>
            <p:cNvSpPr/>
            <p:nvPr/>
          </p:nvSpPr>
          <p:spPr>
            <a:xfrm>
              <a:off x="250920" y="407520"/>
              <a:ext cx="1502640" cy="308880"/>
            </a:xfrm>
            <a:custGeom>
              <a:avLst/>
              <a:gdLst>
                <a:gd name="textAreaLeft" fmla="*/ 0 w 1502640"/>
                <a:gd name="textAreaRight" fmla="*/ 1503000 w 1502640"/>
                <a:gd name="textAreaTop" fmla="*/ 0 h 308880"/>
                <a:gd name="textAreaBottom" fmla="*/ 308880 h 308880"/>
              </a:gdLst>
              <a:ahLst/>
              <a:rect l="textAreaLeft" t="textAreaTop" r="textAreaRight" b="textAreaBottom"/>
              <a:pathLst>
                <a:path w="4248" h="793">
                  <a:moveTo>
                    <a:pt x="0" y="704"/>
                  </a:moveTo>
                  <a:cubicBezTo>
                    <a:pt x="29" y="701"/>
                    <a:pt x="60" y="704"/>
                    <a:pt x="88" y="696"/>
                  </a:cubicBezTo>
                  <a:cubicBezTo>
                    <a:pt x="101" y="692"/>
                    <a:pt x="166" y="598"/>
                    <a:pt x="104" y="680"/>
                  </a:cubicBezTo>
                  <a:cubicBezTo>
                    <a:pt x="161" y="699"/>
                    <a:pt x="146" y="663"/>
                    <a:pt x="192" y="648"/>
                  </a:cubicBezTo>
                  <a:cubicBezTo>
                    <a:pt x="205" y="651"/>
                    <a:pt x="224" y="645"/>
                    <a:pt x="232" y="656"/>
                  </a:cubicBezTo>
                  <a:cubicBezTo>
                    <a:pt x="248" y="678"/>
                    <a:pt x="239" y="710"/>
                    <a:pt x="248" y="736"/>
                  </a:cubicBezTo>
                  <a:cubicBezTo>
                    <a:pt x="407" y="730"/>
                    <a:pt x="452" y="787"/>
                    <a:pt x="488" y="680"/>
                  </a:cubicBezTo>
                  <a:cubicBezTo>
                    <a:pt x="520" y="453"/>
                    <a:pt x="471" y="670"/>
                    <a:pt x="1000" y="616"/>
                  </a:cubicBezTo>
                  <a:cubicBezTo>
                    <a:pt x="1023" y="614"/>
                    <a:pt x="1062" y="547"/>
                    <a:pt x="1096" y="536"/>
                  </a:cubicBezTo>
                  <a:cubicBezTo>
                    <a:pt x="1115" y="508"/>
                    <a:pt x="1139" y="459"/>
                    <a:pt x="1168" y="440"/>
                  </a:cubicBezTo>
                  <a:cubicBezTo>
                    <a:pt x="1200" y="419"/>
                    <a:pt x="1276" y="419"/>
                    <a:pt x="1304" y="416"/>
                  </a:cubicBezTo>
                  <a:cubicBezTo>
                    <a:pt x="1327" y="381"/>
                    <a:pt x="1326" y="301"/>
                    <a:pt x="1360" y="296"/>
                  </a:cubicBezTo>
                  <a:cubicBezTo>
                    <a:pt x="1405" y="289"/>
                    <a:pt x="1451" y="291"/>
                    <a:pt x="1496" y="288"/>
                  </a:cubicBezTo>
                  <a:cubicBezTo>
                    <a:pt x="1538" y="274"/>
                    <a:pt x="1525" y="252"/>
                    <a:pt x="1560" y="232"/>
                  </a:cubicBezTo>
                  <a:cubicBezTo>
                    <a:pt x="1584" y="218"/>
                    <a:pt x="1614" y="217"/>
                    <a:pt x="1640" y="208"/>
                  </a:cubicBezTo>
                  <a:cubicBezTo>
                    <a:pt x="1648" y="205"/>
                    <a:pt x="1664" y="200"/>
                    <a:pt x="1664" y="200"/>
                  </a:cubicBezTo>
                  <a:cubicBezTo>
                    <a:pt x="1680" y="184"/>
                    <a:pt x="1696" y="168"/>
                    <a:pt x="1712" y="152"/>
                  </a:cubicBezTo>
                  <a:cubicBezTo>
                    <a:pt x="1720" y="144"/>
                    <a:pt x="1736" y="128"/>
                    <a:pt x="1736" y="128"/>
                  </a:cubicBezTo>
                  <a:cubicBezTo>
                    <a:pt x="1760" y="55"/>
                    <a:pt x="1725" y="69"/>
                    <a:pt x="1824" y="80"/>
                  </a:cubicBezTo>
                  <a:cubicBezTo>
                    <a:pt x="1835" y="83"/>
                    <a:pt x="1849" y="80"/>
                    <a:pt x="1856" y="88"/>
                  </a:cubicBezTo>
                  <a:cubicBezTo>
                    <a:pt x="1867" y="100"/>
                    <a:pt x="1878" y="182"/>
                    <a:pt x="1888" y="192"/>
                  </a:cubicBezTo>
                  <a:cubicBezTo>
                    <a:pt x="1896" y="200"/>
                    <a:pt x="1909" y="197"/>
                    <a:pt x="1920" y="200"/>
                  </a:cubicBezTo>
                  <a:cubicBezTo>
                    <a:pt x="1949" y="208"/>
                    <a:pt x="1942" y="206"/>
                    <a:pt x="1968" y="224"/>
                  </a:cubicBezTo>
                  <a:cubicBezTo>
                    <a:pt x="1971" y="232"/>
                    <a:pt x="1976" y="240"/>
                    <a:pt x="1976" y="248"/>
                  </a:cubicBezTo>
                  <a:cubicBezTo>
                    <a:pt x="1976" y="256"/>
                    <a:pt x="1965" y="264"/>
                    <a:pt x="1968" y="272"/>
                  </a:cubicBezTo>
                  <a:cubicBezTo>
                    <a:pt x="1979" y="299"/>
                    <a:pt x="2066" y="294"/>
                    <a:pt x="2088" y="296"/>
                  </a:cubicBezTo>
                  <a:cubicBezTo>
                    <a:pt x="2134" y="307"/>
                    <a:pt x="2178" y="325"/>
                    <a:pt x="2224" y="336"/>
                  </a:cubicBezTo>
                  <a:cubicBezTo>
                    <a:pt x="2244" y="377"/>
                    <a:pt x="2265" y="385"/>
                    <a:pt x="2296" y="416"/>
                  </a:cubicBezTo>
                  <a:cubicBezTo>
                    <a:pt x="2332" y="452"/>
                    <a:pt x="2289" y="432"/>
                    <a:pt x="2336" y="448"/>
                  </a:cubicBezTo>
                  <a:cubicBezTo>
                    <a:pt x="2341" y="464"/>
                    <a:pt x="2347" y="480"/>
                    <a:pt x="2352" y="496"/>
                  </a:cubicBezTo>
                  <a:cubicBezTo>
                    <a:pt x="2355" y="504"/>
                    <a:pt x="2360" y="520"/>
                    <a:pt x="2360" y="520"/>
                  </a:cubicBezTo>
                  <a:cubicBezTo>
                    <a:pt x="2354" y="538"/>
                    <a:pt x="2325" y="612"/>
                    <a:pt x="2352" y="624"/>
                  </a:cubicBezTo>
                  <a:cubicBezTo>
                    <a:pt x="2389" y="640"/>
                    <a:pt x="2432" y="629"/>
                    <a:pt x="2472" y="632"/>
                  </a:cubicBezTo>
                  <a:cubicBezTo>
                    <a:pt x="2488" y="637"/>
                    <a:pt x="2504" y="643"/>
                    <a:pt x="2520" y="648"/>
                  </a:cubicBezTo>
                  <a:cubicBezTo>
                    <a:pt x="2528" y="651"/>
                    <a:pt x="2544" y="656"/>
                    <a:pt x="2544" y="656"/>
                  </a:cubicBezTo>
                  <a:cubicBezTo>
                    <a:pt x="2572" y="677"/>
                    <a:pt x="2591" y="701"/>
                    <a:pt x="2624" y="712"/>
                  </a:cubicBezTo>
                  <a:cubicBezTo>
                    <a:pt x="2642" y="785"/>
                    <a:pt x="2622" y="764"/>
                    <a:pt x="2664" y="792"/>
                  </a:cubicBezTo>
                  <a:cubicBezTo>
                    <a:pt x="2707" y="789"/>
                    <a:pt x="2750" y="793"/>
                    <a:pt x="2792" y="784"/>
                  </a:cubicBezTo>
                  <a:cubicBezTo>
                    <a:pt x="2819" y="778"/>
                    <a:pt x="2832" y="712"/>
                    <a:pt x="2832" y="712"/>
                  </a:cubicBezTo>
                  <a:cubicBezTo>
                    <a:pt x="2839" y="646"/>
                    <a:pt x="2839" y="590"/>
                    <a:pt x="2896" y="552"/>
                  </a:cubicBezTo>
                  <a:cubicBezTo>
                    <a:pt x="2916" y="522"/>
                    <a:pt x="2946" y="476"/>
                    <a:pt x="2976" y="456"/>
                  </a:cubicBezTo>
                  <a:cubicBezTo>
                    <a:pt x="2989" y="447"/>
                    <a:pt x="3042" y="441"/>
                    <a:pt x="3048" y="440"/>
                  </a:cubicBezTo>
                  <a:cubicBezTo>
                    <a:pt x="3064" y="429"/>
                    <a:pt x="3080" y="419"/>
                    <a:pt x="3096" y="408"/>
                  </a:cubicBezTo>
                  <a:cubicBezTo>
                    <a:pt x="3106" y="401"/>
                    <a:pt x="3072" y="416"/>
                    <a:pt x="3064" y="424"/>
                  </a:cubicBezTo>
                  <a:cubicBezTo>
                    <a:pt x="3058" y="430"/>
                    <a:pt x="3081" y="421"/>
                    <a:pt x="3088" y="416"/>
                  </a:cubicBezTo>
                  <a:cubicBezTo>
                    <a:pt x="3096" y="411"/>
                    <a:pt x="3105" y="407"/>
                    <a:pt x="3112" y="400"/>
                  </a:cubicBezTo>
                  <a:cubicBezTo>
                    <a:pt x="3152" y="360"/>
                    <a:pt x="3125" y="379"/>
                    <a:pt x="3200" y="360"/>
                  </a:cubicBezTo>
                  <a:cubicBezTo>
                    <a:pt x="3211" y="357"/>
                    <a:pt x="3232" y="352"/>
                    <a:pt x="3232" y="352"/>
                  </a:cubicBezTo>
                  <a:cubicBezTo>
                    <a:pt x="3251" y="408"/>
                    <a:pt x="3307" y="331"/>
                    <a:pt x="3336" y="312"/>
                  </a:cubicBezTo>
                  <a:cubicBezTo>
                    <a:pt x="3440" y="242"/>
                    <a:pt x="3587" y="307"/>
                    <a:pt x="3712" y="304"/>
                  </a:cubicBezTo>
                  <a:cubicBezTo>
                    <a:pt x="3769" y="266"/>
                    <a:pt x="3829" y="263"/>
                    <a:pt x="3896" y="256"/>
                  </a:cubicBezTo>
                  <a:cubicBezTo>
                    <a:pt x="3908" y="221"/>
                    <a:pt x="3909" y="203"/>
                    <a:pt x="3936" y="176"/>
                  </a:cubicBezTo>
                  <a:cubicBezTo>
                    <a:pt x="3925" y="160"/>
                    <a:pt x="3908" y="147"/>
                    <a:pt x="3904" y="128"/>
                  </a:cubicBezTo>
                  <a:cubicBezTo>
                    <a:pt x="3900" y="108"/>
                    <a:pt x="3933" y="97"/>
                    <a:pt x="3944" y="96"/>
                  </a:cubicBezTo>
                  <a:cubicBezTo>
                    <a:pt x="3989" y="91"/>
                    <a:pt x="4035" y="91"/>
                    <a:pt x="4080" y="88"/>
                  </a:cubicBezTo>
                  <a:cubicBezTo>
                    <a:pt x="4168" y="73"/>
                    <a:pt x="4182" y="66"/>
                    <a:pt x="4248" y="0"/>
                  </a:cubicBezTo>
                </a:path>
              </a:pathLst>
            </a:custGeom>
            <a:noFill/>
            <a:ln w="57240">
              <a:solidFill>
                <a:srgbClr val="ff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Freeform 5"/>
            <p:cNvSpPr/>
            <p:nvPr/>
          </p:nvSpPr>
          <p:spPr>
            <a:xfrm>
              <a:off x="1760040" y="404640"/>
              <a:ext cx="465840" cy="649080"/>
            </a:xfrm>
            <a:custGeom>
              <a:avLst/>
              <a:gdLst>
                <a:gd name="textAreaLeft" fmla="*/ 0 w 465840"/>
                <a:gd name="textAreaRight" fmla="*/ 466200 w 465840"/>
                <a:gd name="textAreaTop" fmla="*/ 0 h 649080"/>
                <a:gd name="textAreaBottom" fmla="*/ 649080 h 649080"/>
              </a:gdLst>
              <a:ahLst/>
              <a:rect l="textAreaLeft" t="textAreaTop" r="textAreaRight" b="textAreaBottom"/>
              <a:pathLst>
                <a:path w="1317" h="1666">
                  <a:moveTo>
                    <a:pt x="5" y="0"/>
                  </a:moveTo>
                  <a:cubicBezTo>
                    <a:pt x="8" y="24"/>
                    <a:pt x="0" y="52"/>
                    <a:pt x="13" y="72"/>
                  </a:cubicBezTo>
                  <a:cubicBezTo>
                    <a:pt x="22" y="86"/>
                    <a:pt x="61" y="88"/>
                    <a:pt x="61" y="88"/>
                  </a:cubicBezTo>
                  <a:cubicBezTo>
                    <a:pt x="67" y="106"/>
                    <a:pt x="90" y="155"/>
                    <a:pt x="101" y="168"/>
                  </a:cubicBezTo>
                  <a:cubicBezTo>
                    <a:pt x="123" y="195"/>
                    <a:pt x="268" y="205"/>
                    <a:pt x="301" y="208"/>
                  </a:cubicBezTo>
                  <a:cubicBezTo>
                    <a:pt x="298" y="216"/>
                    <a:pt x="290" y="224"/>
                    <a:pt x="293" y="232"/>
                  </a:cubicBezTo>
                  <a:cubicBezTo>
                    <a:pt x="297" y="241"/>
                    <a:pt x="311" y="241"/>
                    <a:pt x="317" y="248"/>
                  </a:cubicBezTo>
                  <a:cubicBezTo>
                    <a:pt x="330" y="262"/>
                    <a:pt x="331" y="290"/>
                    <a:pt x="349" y="296"/>
                  </a:cubicBezTo>
                  <a:cubicBezTo>
                    <a:pt x="365" y="301"/>
                    <a:pt x="397" y="312"/>
                    <a:pt x="397" y="312"/>
                  </a:cubicBezTo>
                  <a:cubicBezTo>
                    <a:pt x="417" y="392"/>
                    <a:pt x="387" y="310"/>
                    <a:pt x="429" y="352"/>
                  </a:cubicBezTo>
                  <a:cubicBezTo>
                    <a:pt x="435" y="358"/>
                    <a:pt x="431" y="370"/>
                    <a:pt x="437" y="376"/>
                  </a:cubicBezTo>
                  <a:cubicBezTo>
                    <a:pt x="460" y="399"/>
                    <a:pt x="501" y="388"/>
                    <a:pt x="533" y="392"/>
                  </a:cubicBezTo>
                  <a:cubicBezTo>
                    <a:pt x="588" y="429"/>
                    <a:pt x="563" y="418"/>
                    <a:pt x="605" y="432"/>
                  </a:cubicBezTo>
                  <a:cubicBezTo>
                    <a:pt x="618" y="452"/>
                    <a:pt x="624" y="456"/>
                    <a:pt x="629" y="480"/>
                  </a:cubicBezTo>
                  <a:cubicBezTo>
                    <a:pt x="633" y="498"/>
                    <a:pt x="625" y="522"/>
                    <a:pt x="637" y="536"/>
                  </a:cubicBezTo>
                  <a:cubicBezTo>
                    <a:pt x="648" y="548"/>
                    <a:pt x="669" y="541"/>
                    <a:pt x="685" y="544"/>
                  </a:cubicBezTo>
                  <a:cubicBezTo>
                    <a:pt x="694" y="595"/>
                    <a:pt x="711" y="694"/>
                    <a:pt x="765" y="712"/>
                  </a:cubicBezTo>
                  <a:cubicBezTo>
                    <a:pt x="792" y="822"/>
                    <a:pt x="1029" y="804"/>
                    <a:pt x="1101" y="808"/>
                  </a:cubicBezTo>
                  <a:cubicBezTo>
                    <a:pt x="1095" y="840"/>
                    <a:pt x="1092" y="872"/>
                    <a:pt x="1085" y="904"/>
                  </a:cubicBezTo>
                  <a:cubicBezTo>
                    <a:pt x="1081" y="920"/>
                    <a:pt x="1083" y="943"/>
                    <a:pt x="1069" y="952"/>
                  </a:cubicBezTo>
                  <a:cubicBezTo>
                    <a:pt x="1027" y="980"/>
                    <a:pt x="997" y="1016"/>
                    <a:pt x="981" y="1064"/>
                  </a:cubicBezTo>
                  <a:cubicBezTo>
                    <a:pt x="993" y="1220"/>
                    <a:pt x="978" y="1182"/>
                    <a:pt x="1149" y="1192"/>
                  </a:cubicBezTo>
                  <a:cubicBezTo>
                    <a:pt x="1221" y="1240"/>
                    <a:pt x="1191" y="1277"/>
                    <a:pt x="1181" y="1384"/>
                  </a:cubicBezTo>
                  <a:cubicBezTo>
                    <a:pt x="1178" y="1412"/>
                    <a:pt x="1168" y="1407"/>
                    <a:pt x="1157" y="1432"/>
                  </a:cubicBezTo>
                  <a:cubicBezTo>
                    <a:pt x="1150" y="1447"/>
                    <a:pt x="1141" y="1480"/>
                    <a:pt x="1141" y="1480"/>
                  </a:cubicBezTo>
                  <a:cubicBezTo>
                    <a:pt x="1144" y="1496"/>
                    <a:pt x="1135" y="1520"/>
                    <a:pt x="1149" y="1528"/>
                  </a:cubicBezTo>
                  <a:cubicBezTo>
                    <a:pt x="1177" y="1543"/>
                    <a:pt x="1224" y="1512"/>
                    <a:pt x="1245" y="1536"/>
                  </a:cubicBezTo>
                  <a:cubicBezTo>
                    <a:pt x="1270" y="1564"/>
                    <a:pt x="1238" y="1614"/>
                    <a:pt x="1253" y="1648"/>
                  </a:cubicBezTo>
                  <a:cubicBezTo>
                    <a:pt x="1261" y="1666"/>
                    <a:pt x="1298" y="1664"/>
                    <a:pt x="1317" y="1664"/>
                  </a:cubicBezTo>
                </a:path>
              </a:pathLst>
            </a:custGeom>
            <a:noFill/>
            <a:ln w="57240">
              <a:solidFill>
                <a:srgbClr val="ff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Line 6"/>
            <p:cNvSpPr/>
            <p:nvPr/>
          </p:nvSpPr>
          <p:spPr>
            <a:xfrm>
              <a:off x="253800" y="788760"/>
              <a:ext cx="401040" cy="901800"/>
            </a:xfrm>
            <a:prstGeom prst="line">
              <a:avLst/>
            </a:prstGeom>
            <a:ln w="7632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Freeform 7"/>
            <p:cNvSpPr/>
            <p:nvPr/>
          </p:nvSpPr>
          <p:spPr>
            <a:xfrm>
              <a:off x="663840" y="1521360"/>
              <a:ext cx="879480" cy="250200"/>
            </a:xfrm>
            <a:custGeom>
              <a:avLst/>
              <a:gdLst>
                <a:gd name="textAreaLeft" fmla="*/ 0 w 879480"/>
                <a:gd name="textAreaRight" fmla="*/ 879840 w 879480"/>
                <a:gd name="textAreaTop" fmla="*/ 0 h 250200"/>
                <a:gd name="textAreaBottom" fmla="*/ 250200 h 250200"/>
              </a:gdLst>
              <a:ahLst/>
              <a:rect l="textAreaLeft" t="textAreaTop" r="textAreaRight" b="textAreaBottom"/>
              <a:pathLst>
                <a:path w="2487" h="642">
                  <a:moveTo>
                    <a:pt x="0" y="462"/>
                  </a:moveTo>
                  <a:cubicBezTo>
                    <a:pt x="37" y="453"/>
                    <a:pt x="51" y="446"/>
                    <a:pt x="72" y="414"/>
                  </a:cubicBezTo>
                  <a:cubicBezTo>
                    <a:pt x="91" y="339"/>
                    <a:pt x="135" y="396"/>
                    <a:pt x="192" y="358"/>
                  </a:cubicBezTo>
                  <a:cubicBezTo>
                    <a:pt x="220" y="316"/>
                    <a:pt x="252" y="279"/>
                    <a:pt x="280" y="238"/>
                  </a:cubicBezTo>
                  <a:cubicBezTo>
                    <a:pt x="290" y="66"/>
                    <a:pt x="257" y="91"/>
                    <a:pt x="400" y="78"/>
                  </a:cubicBezTo>
                  <a:cubicBezTo>
                    <a:pt x="405" y="70"/>
                    <a:pt x="412" y="63"/>
                    <a:pt x="416" y="54"/>
                  </a:cubicBezTo>
                  <a:cubicBezTo>
                    <a:pt x="423" y="39"/>
                    <a:pt x="432" y="6"/>
                    <a:pt x="432" y="6"/>
                  </a:cubicBezTo>
                  <a:cubicBezTo>
                    <a:pt x="461" y="9"/>
                    <a:pt x="494" y="0"/>
                    <a:pt x="520" y="14"/>
                  </a:cubicBezTo>
                  <a:cubicBezTo>
                    <a:pt x="558" y="34"/>
                    <a:pt x="519" y="87"/>
                    <a:pt x="568" y="102"/>
                  </a:cubicBezTo>
                  <a:cubicBezTo>
                    <a:pt x="586" y="107"/>
                    <a:pt x="605" y="107"/>
                    <a:pt x="624" y="110"/>
                  </a:cubicBezTo>
                  <a:cubicBezTo>
                    <a:pt x="621" y="131"/>
                    <a:pt x="616" y="153"/>
                    <a:pt x="616" y="174"/>
                  </a:cubicBezTo>
                  <a:cubicBezTo>
                    <a:pt x="616" y="347"/>
                    <a:pt x="616" y="278"/>
                    <a:pt x="832" y="286"/>
                  </a:cubicBezTo>
                  <a:cubicBezTo>
                    <a:pt x="848" y="642"/>
                    <a:pt x="860" y="478"/>
                    <a:pt x="1392" y="486"/>
                  </a:cubicBezTo>
                  <a:cubicBezTo>
                    <a:pt x="1453" y="527"/>
                    <a:pt x="1531" y="510"/>
                    <a:pt x="1600" y="502"/>
                  </a:cubicBezTo>
                  <a:cubicBezTo>
                    <a:pt x="1610" y="471"/>
                    <a:pt x="1630" y="469"/>
                    <a:pt x="1640" y="438"/>
                  </a:cubicBezTo>
                  <a:cubicBezTo>
                    <a:pt x="1656" y="314"/>
                    <a:pt x="1694" y="365"/>
                    <a:pt x="1856" y="358"/>
                  </a:cubicBezTo>
                  <a:cubicBezTo>
                    <a:pt x="1908" y="332"/>
                    <a:pt x="1932" y="319"/>
                    <a:pt x="1992" y="310"/>
                  </a:cubicBezTo>
                  <a:cubicBezTo>
                    <a:pt x="2079" y="281"/>
                    <a:pt x="2168" y="308"/>
                    <a:pt x="2256" y="318"/>
                  </a:cubicBezTo>
                  <a:cubicBezTo>
                    <a:pt x="2259" y="326"/>
                    <a:pt x="2257" y="338"/>
                    <a:pt x="2264" y="342"/>
                  </a:cubicBezTo>
                  <a:cubicBezTo>
                    <a:pt x="2278" y="350"/>
                    <a:pt x="2296" y="346"/>
                    <a:pt x="2312" y="350"/>
                  </a:cubicBezTo>
                  <a:cubicBezTo>
                    <a:pt x="2337" y="356"/>
                    <a:pt x="2338" y="360"/>
                    <a:pt x="2360" y="374"/>
                  </a:cubicBezTo>
                  <a:cubicBezTo>
                    <a:pt x="2365" y="390"/>
                    <a:pt x="2371" y="406"/>
                    <a:pt x="2376" y="422"/>
                  </a:cubicBezTo>
                  <a:cubicBezTo>
                    <a:pt x="2381" y="437"/>
                    <a:pt x="2377" y="455"/>
                    <a:pt x="2384" y="470"/>
                  </a:cubicBezTo>
                  <a:cubicBezTo>
                    <a:pt x="2392" y="486"/>
                    <a:pt x="2428" y="491"/>
                    <a:pt x="2440" y="494"/>
                  </a:cubicBezTo>
                  <a:cubicBezTo>
                    <a:pt x="2444" y="516"/>
                    <a:pt x="2440" y="542"/>
                    <a:pt x="2456" y="558"/>
                  </a:cubicBezTo>
                  <a:cubicBezTo>
                    <a:pt x="2462" y="564"/>
                    <a:pt x="2478" y="558"/>
                    <a:pt x="2480" y="566"/>
                  </a:cubicBezTo>
                  <a:cubicBezTo>
                    <a:pt x="2487" y="589"/>
                    <a:pt x="2480" y="614"/>
                    <a:pt x="2480" y="638"/>
                  </a:cubicBezTo>
                </a:path>
              </a:pathLst>
            </a:custGeom>
            <a:noFill/>
            <a:ln w="76320">
              <a:solidFill>
                <a:srgbClr val="ff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Freeform 8"/>
            <p:cNvSpPr/>
            <p:nvPr/>
          </p:nvSpPr>
          <p:spPr>
            <a:xfrm>
              <a:off x="1547640" y="1041840"/>
              <a:ext cx="682920" cy="715680"/>
            </a:xfrm>
            <a:custGeom>
              <a:avLst/>
              <a:gdLst>
                <a:gd name="textAreaLeft" fmla="*/ 0 w 682920"/>
                <a:gd name="textAreaRight" fmla="*/ 683280 w 682920"/>
                <a:gd name="textAreaTop" fmla="*/ 0 h 715680"/>
                <a:gd name="textAreaBottom" fmla="*/ 716040 h 715680"/>
              </a:gdLst>
              <a:ahLst/>
              <a:rect l="textAreaLeft" t="textAreaTop" r="textAreaRight" b="textAreaBottom"/>
              <a:pathLst>
                <a:path w="1931" h="1837">
                  <a:moveTo>
                    <a:pt x="46" y="1837"/>
                  </a:moveTo>
                  <a:cubicBezTo>
                    <a:pt x="143" y="1831"/>
                    <a:pt x="169" y="1828"/>
                    <a:pt x="246" y="1813"/>
                  </a:cubicBezTo>
                  <a:cubicBezTo>
                    <a:pt x="251" y="1805"/>
                    <a:pt x="259" y="1798"/>
                    <a:pt x="262" y="1789"/>
                  </a:cubicBezTo>
                  <a:cubicBezTo>
                    <a:pt x="267" y="1771"/>
                    <a:pt x="260" y="1749"/>
                    <a:pt x="270" y="1733"/>
                  </a:cubicBezTo>
                  <a:cubicBezTo>
                    <a:pt x="280" y="1717"/>
                    <a:pt x="318" y="1701"/>
                    <a:pt x="318" y="1701"/>
                  </a:cubicBezTo>
                  <a:cubicBezTo>
                    <a:pt x="323" y="1693"/>
                    <a:pt x="333" y="1687"/>
                    <a:pt x="334" y="1677"/>
                  </a:cubicBezTo>
                  <a:cubicBezTo>
                    <a:pt x="341" y="1610"/>
                    <a:pt x="317" y="1617"/>
                    <a:pt x="270" y="1605"/>
                  </a:cubicBezTo>
                  <a:cubicBezTo>
                    <a:pt x="267" y="1581"/>
                    <a:pt x="273" y="1555"/>
                    <a:pt x="262" y="1533"/>
                  </a:cubicBezTo>
                  <a:cubicBezTo>
                    <a:pt x="257" y="1523"/>
                    <a:pt x="241" y="1528"/>
                    <a:pt x="230" y="1525"/>
                  </a:cubicBezTo>
                  <a:cubicBezTo>
                    <a:pt x="166" y="1506"/>
                    <a:pt x="101" y="1490"/>
                    <a:pt x="38" y="1469"/>
                  </a:cubicBezTo>
                  <a:cubicBezTo>
                    <a:pt x="23" y="1447"/>
                    <a:pt x="0" y="1417"/>
                    <a:pt x="22" y="1389"/>
                  </a:cubicBezTo>
                  <a:cubicBezTo>
                    <a:pt x="27" y="1382"/>
                    <a:pt x="38" y="1385"/>
                    <a:pt x="46" y="1381"/>
                  </a:cubicBezTo>
                  <a:cubicBezTo>
                    <a:pt x="55" y="1377"/>
                    <a:pt x="62" y="1370"/>
                    <a:pt x="70" y="1365"/>
                  </a:cubicBezTo>
                  <a:cubicBezTo>
                    <a:pt x="123" y="1383"/>
                    <a:pt x="76" y="1376"/>
                    <a:pt x="110" y="1301"/>
                  </a:cubicBezTo>
                  <a:cubicBezTo>
                    <a:pt x="115" y="1289"/>
                    <a:pt x="147" y="1280"/>
                    <a:pt x="158" y="1277"/>
                  </a:cubicBezTo>
                  <a:cubicBezTo>
                    <a:pt x="192" y="1267"/>
                    <a:pt x="230" y="1269"/>
                    <a:pt x="262" y="1253"/>
                  </a:cubicBezTo>
                  <a:cubicBezTo>
                    <a:pt x="314" y="1227"/>
                    <a:pt x="257" y="1248"/>
                    <a:pt x="310" y="1213"/>
                  </a:cubicBezTo>
                  <a:cubicBezTo>
                    <a:pt x="370" y="1173"/>
                    <a:pt x="286" y="1269"/>
                    <a:pt x="382" y="1173"/>
                  </a:cubicBezTo>
                  <a:cubicBezTo>
                    <a:pt x="403" y="1152"/>
                    <a:pt x="425" y="1127"/>
                    <a:pt x="454" y="1117"/>
                  </a:cubicBezTo>
                  <a:cubicBezTo>
                    <a:pt x="505" y="1100"/>
                    <a:pt x="548" y="1078"/>
                    <a:pt x="598" y="1061"/>
                  </a:cubicBezTo>
                  <a:cubicBezTo>
                    <a:pt x="641" y="1047"/>
                    <a:pt x="689" y="1056"/>
                    <a:pt x="734" y="1053"/>
                  </a:cubicBezTo>
                  <a:cubicBezTo>
                    <a:pt x="798" y="1010"/>
                    <a:pt x="721" y="1066"/>
                    <a:pt x="774" y="1013"/>
                  </a:cubicBezTo>
                  <a:cubicBezTo>
                    <a:pt x="801" y="986"/>
                    <a:pt x="793" y="1005"/>
                    <a:pt x="822" y="989"/>
                  </a:cubicBezTo>
                  <a:cubicBezTo>
                    <a:pt x="874" y="960"/>
                    <a:pt x="924" y="919"/>
                    <a:pt x="966" y="877"/>
                  </a:cubicBezTo>
                  <a:cubicBezTo>
                    <a:pt x="970" y="855"/>
                    <a:pt x="979" y="835"/>
                    <a:pt x="982" y="813"/>
                  </a:cubicBezTo>
                  <a:cubicBezTo>
                    <a:pt x="987" y="773"/>
                    <a:pt x="969" y="722"/>
                    <a:pt x="998" y="693"/>
                  </a:cubicBezTo>
                  <a:cubicBezTo>
                    <a:pt x="1012" y="679"/>
                    <a:pt x="1030" y="672"/>
                    <a:pt x="1046" y="661"/>
                  </a:cubicBezTo>
                  <a:cubicBezTo>
                    <a:pt x="1079" y="639"/>
                    <a:pt x="1091" y="618"/>
                    <a:pt x="1110" y="589"/>
                  </a:cubicBezTo>
                  <a:cubicBezTo>
                    <a:pt x="1117" y="531"/>
                    <a:pt x="1112" y="511"/>
                    <a:pt x="1166" y="493"/>
                  </a:cubicBezTo>
                  <a:cubicBezTo>
                    <a:pt x="1303" y="510"/>
                    <a:pt x="1449" y="529"/>
                    <a:pt x="1582" y="485"/>
                  </a:cubicBezTo>
                  <a:cubicBezTo>
                    <a:pt x="1611" y="456"/>
                    <a:pt x="1633" y="427"/>
                    <a:pt x="1646" y="389"/>
                  </a:cubicBezTo>
                  <a:cubicBezTo>
                    <a:pt x="1641" y="324"/>
                    <a:pt x="1656" y="286"/>
                    <a:pt x="1606" y="253"/>
                  </a:cubicBezTo>
                  <a:cubicBezTo>
                    <a:pt x="1587" y="196"/>
                    <a:pt x="1599" y="219"/>
                    <a:pt x="1574" y="181"/>
                  </a:cubicBezTo>
                  <a:cubicBezTo>
                    <a:pt x="1577" y="160"/>
                    <a:pt x="1565" y="131"/>
                    <a:pt x="1582" y="117"/>
                  </a:cubicBezTo>
                  <a:cubicBezTo>
                    <a:pt x="1603" y="100"/>
                    <a:pt x="1637" y="117"/>
                    <a:pt x="1662" y="109"/>
                  </a:cubicBezTo>
                  <a:cubicBezTo>
                    <a:pt x="1687" y="101"/>
                    <a:pt x="1683" y="45"/>
                    <a:pt x="1694" y="29"/>
                  </a:cubicBezTo>
                  <a:cubicBezTo>
                    <a:pt x="1703" y="16"/>
                    <a:pt x="1728" y="10"/>
                    <a:pt x="1742" y="5"/>
                  </a:cubicBezTo>
                  <a:cubicBezTo>
                    <a:pt x="1771" y="8"/>
                    <a:pt x="1804" y="0"/>
                    <a:pt x="1830" y="13"/>
                  </a:cubicBezTo>
                  <a:cubicBezTo>
                    <a:pt x="1931" y="63"/>
                    <a:pt x="1753" y="53"/>
                    <a:pt x="1870" y="53"/>
                  </a:cubicBezTo>
                </a:path>
              </a:pathLst>
            </a:custGeom>
            <a:noFill/>
            <a:ln w="57240">
              <a:solidFill>
                <a:srgbClr val="ff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1" name="AutoShape 5"/>
          <p:cNvSpPr/>
          <p:nvPr/>
        </p:nvSpPr>
        <p:spPr>
          <a:xfrm>
            <a:off x="1428840" y="7410600"/>
            <a:ext cx="171360" cy="228600"/>
          </a:xfrm>
          <a:prstGeom prst="flowChartProcess">
            <a:avLst/>
          </a:prstGeom>
          <a:solidFill>
            <a:srgbClr val="6666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AutoShape 6"/>
          <p:cNvSpPr/>
          <p:nvPr/>
        </p:nvSpPr>
        <p:spPr>
          <a:xfrm>
            <a:off x="3943440" y="7410600"/>
            <a:ext cx="228600" cy="228600"/>
          </a:xfrm>
          <a:prstGeom prst="flowChartProcess">
            <a:avLst/>
          </a:prstGeom>
          <a:solidFill>
            <a:srgbClr val="2626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Rectangle 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Rectangle 4"/>
          <p:cNvSpPr/>
          <p:nvPr/>
        </p:nvSpPr>
        <p:spPr>
          <a:xfrm>
            <a:off x="2520" y="326520"/>
            <a:ext cx="948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  <a:ea typeface="Calibri"/>
              </a:rPr>
              <a:t>                  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5" name="Рисунок 14" descr=""/>
          <p:cNvPicPr/>
          <p:nvPr/>
        </p:nvPicPr>
        <p:blipFill>
          <a:blip r:embed="rId1"/>
          <a:stretch/>
        </p:blipFill>
        <p:spPr>
          <a:xfrm>
            <a:off x="250920" y="228600"/>
            <a:ext cx="8497800" cy="644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0" dur="2000"/>
                                        <p:tgtEl>
                                          <p:spTgt spid="10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6" name="Group 3"/>
          <p:cNvGrpSpPr/>
          <p:nvPr/>
        </p:nvGrpSpPr>
        <p:grpSpPr>
          <a:xfrm>
            <a:off x="250920" y="404640"/>
            <a:ext cx="1979640" cy="1366920"/>
            <a:chOff x="250920" y="404640"/>
            <a:chExt cx="1979640" cy="1366920"/>
          </a:xfrm>
        </p:grpSpPr>
        <p:sp>
          <p:nvSpPr>
            <p:cNvPr id="1097" name="Freeform 4"/>
            <p:cNvSpPr/>
            <p:nvPr/>
          </p:nvSpPr>
          <p:spPr>
            <a:xfrm>
              <a:off x="250920" y="407520"/>
              <a:ext cx="1502640" cy="308880"/>
            </a:xfrm>
            <a:custGeom>
              <a:avLst/>
              <a:gdLst>
                <a:gd name="textAreaLeft" fmla="*/ 0 w 1502640"/>
                <a:gd name="textAreaRight" fmla="*/ 1503000 w 1502640"/>
                <a:gd name="textAreaTop" fmla="*/ 0 h 308880"/>
                <a:gd name="textAreaBottom" fmla="*/ 308880 h 308880"/>
              </a:gdLst>
              <a:ahLst/>
              <a:rect l="textAreaLeft" t="textAreaTop" r="textAreaRight" b="textAreaBottom"/>
              <a:pathLst>
                <a:path w="4248" h="793">
                  <a:moveTo>
                    <a:pt x="0" y="704"/>
                  </a:moveTo>
                  <a:cubicBezTo>
                    <a:pt x="29" y="701"/>
                    <a:pt x="60" y="704"/>
                    <a:pt x="88" y="696"/>
                  </a:cubicBezTo>
                  <a:cubicBezTo>
                    <a:pt x="101" y="692"/>
                    <a:pt x="166" y="598"/>
                    <a:pt x="104" y="680"/>
                  </a:cubicBezTo>
                  <a:cubicBezTo>
                    <a:pt x="161" y="699"/>
                    <a:pt x="146" y="663"/>
                    <a:pt x="192" y="648"/>
                  </a:cubicBezTo>
                  <a:cubicBezTo>
                    <a:pt x="205" y="651"/>
                    <a:pt x="224" y="645"/>
                    <a:pt x="232" y="656"/>
                  </a:cubicBezTo>
                  <a:cubicBezTo>
                    <a:pt x="248" y="678"/>
                    <a:pt x="239" y="710"/>
                    <a:pt x="248" y="736"/>
                  </a:cubicBezTo>
                  <a:cubicBezTo>
                    <a:pt x="407" y="730"/>
                    <a:pt x="452" y="787"/>
                    <a:pt x="488" y="680"/>
                  </a:cubicBezTo>
                  <a:cubicBezTo>
                    <a:pt x="520" y="453"/>
                    <a:pt x="471" y="670"/>
                    <a:pt x="1000" y="616"/>
                  </a:cubicBezTo>
                  <a:cubicBezTo>
                    <a:pt x="1023" y="614"/>
                    <a:pt x="1062" y="547"/>
                    <a:pt x="1096" y="536"/>
                  </a:cubicBezTo>
                  <a:cubicBezTo>
                    <a:pt x="1115" y="508"/>
                    <a:pt x="1139" y="459"/>
                    <a:pt x="1168" y="440"/>
                  </a:cubicBezTo>
                  <a:cubicBezTo>
                    <a:pt x="1200" y="419"/>
                    <a:pt x="1276" y="419"/>
                    <a:pt x="1304" y="416"/>
                  </a:cubicBezTo>
                  <a:cubicBezTo>
                    <a:pt x="1327" y="381"/>
                    <a:pt x="1326" y="301"/>
                    <a:pt x="1360" y="296"/>
                  </a:cubicBezTo>
                  <a:cubicBezTo>
                    <a:pt x="1405" y="289"/>
                    <a:pt x="1451" y="291"/>
                    <a:pt x="1496" y="288"/>
                  </a:cubicBezTo>
                  <a:cubicBezTo>
                    <a:pt x="1538" y="274"/>
                    <a:pt x="1525" y="252"/>
                    <a:pt x="1560" y="232"/>
                  </a:cubicBezTo>
                  <a:cubicBezTo>
                    <a:pt x="1584" y="218"/>
                    <a:pt x="1614" y="217"/>
                    <a:pt x="1640" y="208"/>
                  </a:cubicBezTo>
                  <a:cubicBezTo>
                    <a:pt x="1648" y="205"/>
                    <a:pt x="1664" y="200"/>
                    <a:pt x="1664" y="200"/>
                  </a:cubicBezTo>
                  <a:cubicBezTo>
                    <a:pt x="1680" y="184"/>
                    <a:pt x="1696" y="168"/>
                    <a:pt x="1712" y="152"/>
                  </a:cubicBezTo>
                  <a:cubicBezTo>
                    <a:pt x="1720" y="144"/>
                    <a:pt x="1736" y="128"/>
                    <a:pt x="1736" y="128"/>
                  </a:cubicBezTo>
                  <a:cubicBezTo>
                    <a:pt x="1760" y="55"/>
                    <a:pt x="1725" y="69"/>
                    <a:pt x="1824" y="80"/>
                  </a:cubicBezTo>
                  <a:cubicBezTo>
                    <a:pt x="1835" y="83"/>
                    <a:pt x="1849" y="80"/>
                    <a:pt x="1856" y="88"/>
                  </a:cubicBezTo>
                  <a:cubicBezTo>
                    <a:pt x="1867" y="100"/>
                    <a:pt x="1878" y="182"/>
                    <a:pt x="1888" y="192"/>
                  </a:cubicBezTo>
                  <a:cubicBezTo>
                    <a:pt x="1896" y="200"/>
                    <a:pt x="1909" y="197"/>
                    <a:pt x="1920" y="200"/>
                  </a:cubicBezTo>
                  <a:cubicBezTo>
                    <a:pt x="1949" y="208"/>
                    <a:pt x="1942" y="206"/>
                    <a:pt x="1968" y="224"/>
                  </a:cubicBezTo>
                  <a:cubicBezTo>
                    <a:pt x="1971" y="232"/>
                    <a:pt x="1976" y="240"/>
                    <a:pt x="1976" y="248"/>
                  </a:cubicBezTo>
                  <a:cubicBezTo>
                    <a:pt x="1976" y="256"/>
                    <a:pt x="1965" y="264"/>
                    <a:pt x="1968" y="272"/>
                  </a:cubicBezTo>
                  <a:cubicBezTo>
                    <a:pt x="1979" y="299"/>
                    <a:pt x="2066" y="294"/>
                    <a:pt x="2088" y="296"/>
                  </a:cubicBezTo>
                  <a:cubicBezTo>
                    <a:pt x="2134" y="307"/>
                    <a:pt x="2178" y="325"/>
                    <a:pt x="2224" y="336"/>
                  </a:cubicBezTo>
                  <a:cubicBezTo>
                    <a:pt x="2244" y="377"/>
                    <a:pt x="2265" y="385"/>
                    <a:pt x="2296" y="416"/>
                  </a:cubicBezTo>
                  <a:cubicBezTo>
                    <a:pt x="2332" y="452"/>
                    <a:pt x="2289" y="432"/>
                    <a:pt x="2336" y="448"/>
                  </a:cubicBezTo>
                  <a:cubicBezTo>
                    <a:pt x="2341" y="464"/>
                    <a:pt x="2347" y="480"/>
                    <a:pt x="2352" y="496"/>
                  </a:cubicBezTo>
                  <a:cubicBezTo>
                    <a:pt x="2355" y="504"/>
                    <a:pt x="2360" y="520"/>
                    <a:pt x="2360" y="520"/>
                  </a:cubicBezTo>
                  <a:cubicBezTo>
                    <a:pt x="2354" y="538"/>
                    <a:pt x="2325" y="612"/>
                    <a:pt x="2352" y="624"/>
                  </a:cubicBezTo>
                  <a:cubicBezTo>
                    <a:pt x="2389" y="640"/>
                    <a:pt x="2432" y="629"/>
                    <a:pt x="2472" y="632"/>
                  </a:cubicBezTo>
                  <a:cubicBezTo>
                    <a:pt x="2488" y="637"/>
                    <a:pt x="2504" y="643"/>
                    <a:pt x="2520" y="648"/>
                  </a:cubicBezTo>
                  <a:cubicBezTo>
                    <a:pt x="2528" y="651"/>
                    <a:pt x="2544" y="656"/>
                    <a:pt x="2544" y="656"/>
                  </a:cubicBezTo>
                  <a:cubicBezTo>
                    <a:pt x="2572" y="677"/>
                    <a:pt x="2591" y="701"/>
                    <a:pt x="2624" y="712"/>
                  </a:cubicBezTo>
                  <a:cubicBezTo>
                    <a:pt x="2642" y="785"/>
                    <a:pt x="2622" y="764"/>
                    <a:pt x="2664" y="792"/>
                  </a:cubicBezTo>
                  <a:cubicBezTo>
                    <a:pt x="2707" y="789"/>
                    <a:pt x="2750" y="793"/>
                    <a:pt x="2792" y="784"/>
                  </a:cubicBezTo>
                  <a:cubicBezTo>
                    <a:pt x="2819" y="778"/>
                    <a:pt x="2832" y="712"/>
                    <a:pt x="2832" y="712"/>
                  </a:cubicBezTo>
                  <a:cubicBezTo>
                    <a:pt x="2839" y="646"/>
                    <a:pt x="2839" y="590"/>
                    <a:pt x="2896" y="552"/>
                  </a:cubicBezTo>
                  <a:cubicBezTo>
                    <a:pt x="2916" y="522"/>
                    <a:pt x="2946" y="476"/>
                    <a:pt x="2976" y="456"/>
                  </a:cubicBezTo>
                  <a:cubicBezTo>
                    <a:pt x="2989" y="447"/>
                    <a:pt x="3042" y="441"/>
                    <a:pt x="3048" y="440"/>
                  </a:cubicBezTo>
                  <a:cubicBezTo>
                    <a:pt x="3064" y="429"/>
                    <a:pt x="3080" y="419"/>
                    <a:pt x="3096" y="408"/>
                  </a:cubicBezTo>
                  <a:cubicBezTo>
                    <a:pt x="3106" y="401"/>
                    <a:pt x="3072" y="416"/>
                    <a:pt x="3064" y="424"/>
                  </a:cubicBezTo>
                  <a:cubicBezTo>
                    <a:pt x="3058" y="430"/>
                    <a:pt x="3081" y="421"/>
                    <a:pt x="3088" y="416"/>
                  </a:cubicBezTo>
                  <a:cubicBezTo>
                    <a:pt x="3096" y="411"/>
                    <a:pt x="3105" y="407"/>
                    <a:pt x="3112" y="400"/>
                  </a:cubicBezTo>
                  <a:cubicBezTo>
                    <a:pt x="3152" y="360"/>
                    <a:pt x="3125" y="379"/>
                    <a:pt x="3200" y="360"/>
                  </a:cubicBezTo>
                  <a:cubicBezTo>
                    <a:pt x="3211" y="357"/>
                    <a:pt x="3232" y="352"/>
                    <a:pt x="3232" y="352"/>
                  </a:cubicBezTo>
                  <a:cubicBezTo>
                    <a:pt x="3251" y="408"/>
                    <a:pt x="3307" y="331"/>
                    <a:pt x="3336" y="312"/>
                  </a:cubicBezTo>
                  <a:cubicBezTo>
                    <a:pt x="3440" y="242"/>
                    <a:pt x="3587" y="307"/>
                    <a:pt x="3712" y="304"/>
                  </a:cubicBezTo>
                  <a:cubicBezTo>
                    <a:pt x="3769" y="266"/>
                    <a:pt x="3829" y="263"/>
                    <a:pt x="3896" y="256"/>
                  </a:cubicBezTo>
                  <a:cubicBezTo>
                    <a:pt x="3908" y="221"/>
                    <a:pt x="3909" y="203"/>
                    <a:pt x="3936" y="176"/>
                  </a:cubicBezTo>
                  <a:cubicBezTo>
                    <a:pt x="3925" y="160"/>
                    <a:pt x="3908" y="147"/>
                    <a:pt x="3904" y="128"/>
                  </a:cubicBezTo>
                  <a:cubicBezTo>
                    <a:pt x="3900" y="108"/>
                    <a:pt x="3933" y="97"/>
                    <a:pt x="3944" y="96"/>
                  </a:cubicBezTo>
                  <a:cubicBezTo>
                    <a:pt x="3989" y="91"/>
                    <a:pt x="4035" y="91"/>
                    <a:pt x="4080" y="88"/>
                  </a:cubicBezTo>
                  <a:cubicBezTo>
                    <a:pt x="4168" y="73"/>
                    <a:pt x="4182" y="66"/>
                    <a:pt x="4248" y="0"/>
                  </a:cubicBezTo>
                </a:path>
              </a:pathLst>
            </a:custGeom>
            <a:noFill/>
            <a:ln w="57240">
              <a:solidFill>
                <a:srgbClr val="ff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Freeform 5"/>
            <p:cNvSpPr/>
            <p:nvPr/>
          </p:nvSpPr>
          <p:spPr>
            <a:xfrm>
              <a:off x="1760040" y="404640"/>
              <a:ext cx="465840" cy="649080"/>
            </a:xfrm>
            <a:custGeom>
              <a:avLst/>
              <a:gdLst>
                <a:gd name="textAreaLeft" fmla="*/ 0 w 465840"/>
                <a:gd name="textAreaRight" fmla="*/ 466200 w 465840"/>
                <a:gd name="textAreaTop" fmla="*/ 0 h 649080"/>
                <a:gd name="textAreaBottom" fmla="*/ 649080 h 649080"/>
              </a:gdLst>
              <a:ahLst/>
              <a:rect l="textAreaLeft" t="textAreaTop" r="textAreaRight" b="textAreaBottom"/>
              <a:pathLst>
                <a:path w="1317" h="1666">
                  <a:moveTo>
                    <a:pt x="5" y="0"/>
                  </a:moveTo>
                  <a:cubicBezTo>
                    <a:pt x="8" y="24"/>
                    <a:pt x="0" y="52"/>
                    <a:pt x="13" y="72"/>
                  </a:cubicBezTo>
                  <a:cubicBezTo>
                    <a:pt x="22" y="86"/>
                    <a:pt x="61" y="88"/>
                    <a:pt x="61" y="88"/>
                  </a:cubicBezTo>
                  <a:cubicBezTo>
                    <a:pt x="67" y="106"/>
                    <a:pt x="90" y="155"/>
                    <a:pt x="101" y="168"/>
                  </a:cubicBezTo>
                  <a:cubicBezTo>
                    <a:pt x="123" y="195"/>
                    <a:pt x="268" y="205"/>
                    <a:pt x="301" y="208"/>
                  </a:cubicBezTo>
                  <a:cubicBezTo>
                    <a:pt x="298" y="216"/>
                    <a:pt x="290" y="224"/>
                    <a:pt x="293" y="232"/>
                  </a:cubicBezTo>
                  <a:cubicBezTo>
                    <a:pt x="297" y="241"/>
                    <a:pt x="311" y="241"/>
                    <a:pt x="317" y="248"/>
                  </a:cubicBezTo>
                  <a:cubicBezTo>
                    <a:pt x="330" y="262"/>
                    <a:pt x="331" y="290"/>
                    <a:pt x="349" y="296"/>
                  </a:cubicBezTo>
                  <a:cubicBezTo>
                    <a:pt x="365" y="301"/>
                    <a:pt x="397" y="312"/>
                    <a:pt x="397" y="312"/>
                  </a:cubicBezTo>
                  <a:cubicBezTo>
                    <a:pt x="417" y="392"/>
                    <a:pt x="387" y="310"/>
                    <a:pt x="429" y="352"/>
                  </a:cubicBezTo>
                  <a:cubicBezTo>
                    <a:pt x="435" y="358"/>
                    <a:pt x="431" y="370"/>
                    <a:pt x="437" y="376"/>
                  </a:cubicBezTo>
                  <a:cubicBezTo>
                    <a:pt x="460" y="399"/>
                    <a:pt x="501" y="388"/>
                    <a:pt x="533" y="392"/>
                  </a:cubicBezTo>
                  <a:cubicBezTo>
                    <a:pt x="588" y="429"/>
                    <a:pt x="563" y="418"/>
                    <a:pt x="605" y="432"/>
                  </a:cubicBezTo>
                  <a:cubicBezTo>
                    <a:pt x="618" y="452"/>
                    <a:pt x="624" y="456"/>
                    <a:pt x="629" y="480"/>
                  </a:cubicBezTo>
                  <a:cubicBezTo>
                    <a:pt x="633" y="498"/>
                    <a:pt x="625" y="522"/>
                    <a:pt x="637" y="536"/>
                  </a:cubicBezTo>
                  <a:cubicBezTo>
                    <a:pt x="648" y="548"/>
                    <a:pt x="669" y="541"/>
                    <a:pt x="685" y="544"/>
                  </a:cubicBezTo>
                  <a:cubicBezTo>
                    <a:pt x="694" y="595"/>
                    <a:pt x="711" y="694"/>
                    <a:pt x="765" y="712"/>
                  </a:cubicBezTo>
                  <a:cubicBezTo>
                    <a:pt x="792" y="822"/>
                    <a:pt x="1029" y="804"/>
                    <a:pt x="1101" y="808"/>
                  </a:cubicBezTo>
                  <a:cubicBezTo>
                    <a:pt x="1095" y="840"/>
                    <a:pt x="1092" y="872"/>
                    <a:pt x="1085" y="904"/>
                  </a:cubicBezTo>
                  <a:cubicBezTo>
                    <a:pt x="1081" y="920"/>
                    <a:pt x="1083" y="943"/>
                    <a:pt x="1069" y="952"/>
                  </a:cubicBezTo>
                  <a:cubicBezTo>
                    <a:pt x="1027" y="980"/>
                    <a:pt x="997" y="1016"/>
                    <a:pt x="981" y="1064"/>
                  </a:cubicBezTo>
                  <a:cubicBezTo>
                    <a:pt x="993" y="1220"/>
                    <a:pt x="978" y="1182"/>
                    <a:pt x="1149" y="1192"/>
                  </a:cubicBezTo>
                  <a:cubicBezTo>
                    <a:pt x="1221" y="1240"/>
                    <a:pt x="1191" y="1277"/>
                    <a:pt x="1181" y="1384"/>
                  </a:cubicBezTo>
                  <a:cubicBezTo>
                    <a:pt x="1178" y="1412"/>
                    <a:pt x="1168" y="1407"/>
                    <a:pt x="1157" y="1432"/>
                  </a:cubicBezTo>
                  <a:cubicBezTo>
                    <a:pt x="1150" y="1447"/>
                    <a:pt x="1141" y="1480"/>
                    <a:pt x="1141" y="1480"/>
                  </a:cubicBezTo>
                  <a:cubicBezTo>
                    <a:pt x="1144" y="1496"/>
                    <a:pt x="1135" y="1520"/>
                    <a:pt x="1149" y="1528"/>
                  </a:cubicBezTo>
                  <a:cubicBezTo>
                    <a:pt x="1177" y="1543"/>
                    <a:pt x="1224" y="1512"/>
                    <a:pt x="1245" y="1536"/>
                  </a:cubicBezTo>
                  <a:cubicBezTo>
                    <a:pt x="1270" y="1564"/>
                    <a:pt x="1238" y="1614"/>
                    <a:pt x="1253" y="1648"/>
                  </a:cubicBezTo>
                  <a:cubicBezTo>
                    <a:pt x="1261" y="1666"/>
                    <a:pt x="1298" y="1664"/>
                    <a:pt x="1317" y="1664"/>
                  </a:cubicBezTo>
                </a:path>
              </a:pathLst>
            </a:custGeom>
            <a:noFill/>
            <a:ln w="57240">
              <a:solidFill>
                <a:srgbClr val="ff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Line 6"/>
            <p:cNvSpPr/>
            <p:nvPr/>
          </p:nvSpPr>
          <p:spPr>
            <a:xfrm>
              <a:off x="253800" y="788760"/>
              <a:ext cx="401040" cy="901800"/>
            </a:xfrm>
            <a:prstGeom prst="line">
              <a:avLst/>
            </a:prstGeom>
            <a:ln w="7632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Freeform 7"/>
            <p:cNvSpPr/>
            <p:nvPr/>
          </p:nvSpPr>
          <p:spPr>
            <a:xfrm>
              <a:off x="663840" y="1521360"/>
              <a:ext cx="879480" cy="250200"/>
            </a:xfrm>
            <a:custGeom>
              <a:avLst/>
              <a:gdLst>
                <a:gd name="textAreaLeft" fmla="*/ 0 w 879480"/>
                <a:gd name="textAreaRight" fmla="*/ 879840 w 879480"/>
                <a:gd name="textAreaTop" fmla="*/ 0 h 250200"/>
                <a:gd name="textAreaBottom" fmla="*/ 250200 h 250200"/>
              </a:gdLst>
              <a:ahLst/>
              <a:rect l="textAreaLeft" t="textAreaTop" r="textAreaRight" b="textAreaBottom"/>
              <a:pathLst>
                <a:path w="2487" h="642">
                  <a:moveTo>
                    <a:pt x="0" y="462"/>
                  </a:moveTo>
                  <a:cubicBezTo>
                    <a:pt x="37" y="453"/>
                    <a:pt x="51" y="446"/>
                    <a:pt x="72" y="414"/>
                  </a:cubicBezTo>
                  <a:cubicBezTo>
                    <a:pt x="91" y="339"/>
                    <a:pt x="135" y="396"/>
                    <a:pt x="192" y="358"/>
                  </a:cubicBezTo>
                  <a:cubicBezTo>
                    <a:pt x="220" y="316"/>
                    <a:pt x="252" y="279"/>
                    <a:pt x="280" y="238"/>
                  </a:cubicBezTo>
                  <a:cubicBezTo>
                    <a:pt x="290" y="66"/>
                    <a:pt x="257" y="91"/>
                    <a:pt x="400" y="78"/>
                  </a:cubicBezTo>
                  <a:cubicBezTo>
                    <a:pt x="405" y="70"/>
                    <a:pt x="412" y="63"/>
                    <a:pt x="416" y="54"/>
                  </a:cubicBezTo>
                  <a:cubicBezTo>
                    <a:pt x="423" y="39"/>
                    <a:pt x="432" y="6"/>
                    <a:pt x="432" y="6"/>
                  </a:cubicBezTo>
                  <a:cubicBezTo>
                    <a:pt x="461" y="9"/>
                    <a:pt x="494" y="0"/>
                    <a:pt x="520" y="14"/>
                  </a:cubicBezTo>
                  <a:cubicBezTo>
                    <a:pt x="558" y="34"/>
                    <a:pt x="519" y="87"/>
                    <a:pt x="568" y="102"/>
                  </a:cubicBezTo>
                  <a:cubicBezTo>
                    <a:pt x="586" y="107"/>
                    <a:pt x="605" y="107"/>
                    <a:pt x="624" y="110"/>
                  </a:cubicBezTo>
                  <a:cubicBezTo>
                    <a:pt x="621" y="131"/>
                    <a:pt x="616" y="153"/>
                    <a:pt x="616" y="174"/>
                  </a:cubicBezTo>
                  <a:cubicBezTo>
                    <a:pt x="616" y="347"/>
                    <a:pt x="616" y="278"/>
                    <a:pt x="832" y="286"/>
                  </a:cubicBezTo>
                  <a:cubicBezTo>
                    <a:pt x="848" y="642"/>
                    <a:pt x="860" y="478"/>
                    <a:pt x="1392" y="486"/>
                  </a:cubicBezTo>
                  <a:cubicBezTo>
                    <a:pt x="1453" y="527"/>
                    <a:pt x="1531" y="510"/>
                    <a:pt x="1600" y="502"/>
                  </a:cubicBezTo>
                  <a:cubicBezTo>
                    <a:pt x="1610" y="471"/>
                    <a:pt x="1630" y="469"/>
                    <a:pt x="1640" y="438"/>
                  </a:cubicBezTo>
                  <a:cubicBezTo>
                    <a:pt x="1656" y="314"/>
                    <a:pt x="1694" y="365"/>
                    <a:pt x="1856" y="358"/>
                  </a:cubicBezTo>
                  <a:cubicBezTo>
                    <a:pt x="1908" y="332"/>
                    <a:pt x="1932" y="319"/>
                    <a:pt x="1992" y="310"/>
                  </a:cubicBezTo>
                  <a:cubicBezTo>
                    <a:pt x="2079" y="281"/>
                    <a:pt x="2168" y="308"/>
                    <a:pt x="2256" y="318"/>
                  </a:cubicBezTo>
                  <a:cubicBezTo>
                    <a:pt x="2259" y="326"/>
                    <a:pt x="2257" y="338"/>
                    <a:pt x="2264" y="342"/>
                  </a:cubicBezTo>
                  <a:cubicBezTo>
                    <a:pt x="2278" y="350"/>
                    <a:pt x="2296" y="346"/>
                    <a:pt x="2312" y="350"/>
                  </a:cubicBezTo>
                  <a:cubicBezTo>
                    <a:pt x="2337" y="356"/>
                    <a:pt x="2338" y="360"/>
                    <a:pt x="2360" y="374"/>
                  </a:cubicBezTo>
                  <a:cubicBezTo>
                    <a:pt x="2365" y="390"/>
                    <a:pt x="2371" y="406"/>
                    <a:pt x="2376" y="422"/>
                  </a:cubicBezTo>
                  <a:cubicBezTo>
                    <a:pt x="2381" y="437"/>
                    <a:pt x="2377" y="455"/>
                    <a:pt x="2384" y="470"/>
                  </a:cubicBezTo>
                  <a:cubicBezTo>
                    <a:pt x="2392" y="486"/>
                    <a:pt x="2428" y="491"/>
                    <a:pt x="2440" y="494"/>
                  </a:cubicBezTo>
                  <a:cubicBezTo>
                    <a:pt x="2444" y="516"/>
                    <a:pt x="2440" y="542"/>
                    <a:pt x="2456" y="558"/>
                  </a:cubicBezTo>
                  <a:cubicBezTo>
                    <a:pt x="2462" y="564"/>
                    <a:pt x="2478" y="558"/>
                    <a:pt x="2480" y="566"/>
                  </a:cubicBezTo>
                  <a:cubicBezTo>
                    <a:pt x="2487" y="589"/>
                    <a:pt x="2480" y="614"/>
                    <a:pt x="2480" y="638"/>
                  </a:cubicBezTo>
                </a:path>
              </a:pathLst>
            </a:custGeom>
            <a:noFill/>
            <a:ln w="76320">
              <a:solidFill>
                <a:srgbClr val="ff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Freeform 8"/>
            <p:cNvSpPr/>
            <p:nvPr/>
          </p:nvSpPr>
          <p:spPr>
            <a:xfrm>
              <a:off x="1547640" y="1041840"/>
              <a:ext cx="682920" cy="715680"/>
            </a:xfrm>
            <a:custGeom>
              <a:avLst/>
              <a:gdLst>
                <a:gd name="textAreaLeft" fmla="*/ 0 w 682920"/>
                <a:gd name="textAreaRight" fmla="*/ 683280 w 682920"/>
                <a:gd name="textAreaTop" fmla="*/ 0 h 715680"/>
                <a:gd name="textAreaBottom" fmla="*/ 716040 h 715680"/>
              </a:gdLst>
              <a:ahLst/>
              <a:rect l="textAreaLeft" t="textAreaTop" r="textAreaRight" b="textAreaBottom"/>
              <a:pathLst>
                <a:path w="1931" h="1837">
                  <a:moveTo>
                    <a:pt x="46" y="1837"/>
                  </a:moveTo>
                  <a:cubicBezTo>
                    <a:pt x="143" y="1831"/>
                    <a:pt x="169" y="1828"/>
                    <a:pt x="246" y="1813"/>
                  </a:cubicBezTo>
                  <a:cubicBezTo>
                    <a:pt x="251" y="1805"/>
                    <a:pt x="259" y="1798"/>
                    <a:pt x="262" y="1789"/>
                  </a:cubicBezTo>
                  <a:cubicBezTo>
                    <a:pt x="267" y="1771"/>
                    <a:pt x="260" y="1749"/>
                    <a:pt x="270" y="1733"/>
                  </a:cubicBezTo>
                  <a:cubicBezTo>
                    <a:pt x="280" y="1717"/>
                    <a:pt x="318" y="1701"/>
                    <a:pt x="318" y="1701"/>
                  </a:cubicBezTo>
                  <a:cubicBezTo>
                    <a:pt x="323" y="1693"/>
                    <a:pt x="333" y="1687"/>
                    <a:pt x="334" y="1677"/>
                  </a:cubicBezTo>
                  <a:cubicBezTo>
                    <a:pt x="341" y="1610"/>
                    <a:pt x="317" y="1617"/>
                    <a:pt x="270" y="1605"/>
                  </a:cubicBezTo>
                  <a:cubicBezTo>
                    <a:pt x="267" y="1581"/>
                    <a:pt x="273" y="1555"/>
                    <a:pt x="262" y="1533"/>
                  </a:cubicBezTo>
                  <a:cubicBezTo>
                    <a:pt x="257" y="1523"/>
                    <a:pt x="241" y="1528"/>
                    <a:pt x="230" y="1525"/>
                  </a:cubicBezTo>
                  <a:cubicBezTo>
                    <a:pt x="166" y="1506"/>
                    <a:pt x="101" y="1490"/>
                    <a:pt x="38" y="1469"/>
                  </a:cubicBezTo>
                  <a:cubicBezTo>
                    <a:pt x="23" y="1447"/>
                    <a:pt x="0" y="1417"/>
                    <a:pt x="22" y="1389"/>
                  </a:cubicBezTo>
                  <a:cubicBezTo>
                    <a:pt x="27" y="1382"/>
                    <a:pt x="38" y="1385"/>
                    <a:pt x="46" y="1381"/>
                  </a:cubicBezTo>
                  <a:cubicBezTo>
                    <a:pt x="55" y="1377"/>
                    <a:pt x="62" y="1370"/>
                    <a:pt x="70" y="1365"/>
                  </a:cubicBezTo>
                  <a:cubicBezTo>
                    <a:pt x="123" y="1383"/>
                    <a:pt x="76" y="1376"/>
                    <a:pt x="110" y="1301"/>
                  </a:cubicBezTo>
                  <a:cubicBezTo>
                    <a:pt x="115" y="1289"/>
                    <a:pt x="147" y="1280"/>
                    <a:pt x="158" y="1277"/>
                  </a:cubicBezTo>
                  <a:cubicBezTo>
                    <a:pt x="192" y="1267"/>
                    <a:pt x="230" y="1269"/>
                    <a:pt x="262" y="1253"/>
                  </a:cubicBezTo>
                  <a:cubicBezTo>
                    <a:pt x="314" y="1227"/>
                    <a:pt x="257" y="1248"/>
                    <a:pt x="310" y="1213"/>
                  </a:cubicBezTo>
                  <a:cubicBezTo>
                    <a:pt x="370" y="1173"/>
                    <a:pt x="286" y="1269"/>
                    <a:pt x="382" y="1173"/>
                  </a:cubicBezTo>
                  <a:cubicBezTo>
                    <a:pt x="403" y="1152"/>
                    <a:pt x="425" y="1127"/>
                    <a:pt x="454" y="1117"/>
                  </a:cubicBezTo>
                  <a:cubicBezTo>
                    <a:pt x="505" y="1100"/>
                    <a:pt x="548" y="1078"/>
                    <a:pt x="598" y="1061"/>
                  </a:cubicBezTo>
                  <a:cubicBezTo>
                    <a:pt x="641" y="1047"/>
                    <a:pt x="689" y="1056"/>
                    <a:pt x="734" y="1053"/>
                  </a:cubicBezTo>
                  <a:cubicBezTo>
                    <a:pt x="798" y="1010"/>
                    <a:pt x="721" y="1066"/>
                    <a:pt x="774" y="1013"/>
                  </a:cubicBezTo>
                  <a:cubicBezTo>
                    <a:pt x="801" y="986"/>
                    <a:pt x="793" y="1005"/>
                    <a:pt x="822" y="989"/>
                  </a:cubicBezTo>
                  <a:cubicBezTo>
                    <a:pt x="874" y="960"/>
                    <a:pt x="924" y="919"/>
                    <a:pt x="966" y="877"/>
                  </a:cubicBezTo>
                  <a:cubicBezTo>
                    <a:pt x="970" y="855"/>
                    <a:pt x="979" y="835"/>
                    <a:pt x="982" y="813"/>
                  </a:cubicBezTo>
                  <a:cubicBezTo>
                    <a:pt x="987" y="773"/>
                    <a:pt x="969" y="722"/>
                    <a:pt x="998" y="693"/>
                  </a:cubicBezTo>
                  <a:cubicBezTo>
                    <a:pt x="1012" y="679"/>
                    <a:pt x="1030" y="672"/>
                    <a:pt x="1046" y="661"/>
                  </a:cubicBezTo>
                  <a:cubicBezTo>
                    <a:pt x="1079" y="639"/>
                    <a:pt x="1091" y="618"/>
                    <a:pt x="1110" y="589"/>
                  </a:cubicBezTo>
                  <a:cubicBezTo>
                    <a:pt x="1117" y="531"/>
                    <a:pt x="1112" y="511"/>
                    <a:pt x="1166" y="493"/>
                  </a:cubicBezTo>
                  <a:cubicBezTo>
                    <a:pt x="1303" y="510"/>
                    <a:pt x="1449" y="529"/>
                    <a:pt x="1582" y="485"/>
                  </a:cubicBezTo>
                  <a:cubicBezTo>
                    <a:pt x="1611" y="456"/>
                    <a:pt x="1633" y="427"/>
                    <a:pt x="1646" y="389"/>
                  </a:cubicBezTo>
                  <a:cubicBezTo>
                    <a:pt x="1641" y="324"/>
                    <a:pt x="1656" y="286"/>
                    <a:pt x="1606" y="253"/>
                  </a:cubicBezTo>
                  <a:cubicBezTo>
                    <a:pt x="1587" y="196"/>
                    <a:pt x="1599" y="219"/>
                    <a:pt x="1574" y="181"/>
                  </a:cubicBezTo>
                  <a:cubicBezTo>
                    <a:pt x="1577" y="160"/>
                    <a:pt x="1565" y="131"/>
                    <a:pt x="1582" y="117"/>
                  </a:cubicBezTo>
                  <a:cubicBezTo>
                    <a:pt x="1603" y="100"/>
                    <a:pt x="1637" y="117"/>
                    <a:pt x="1662" y="109"/>
                  </a:cubicBezTo>
                  <a:cubicBezTo>
                    <a:pt x="1687" y="101"/>
                    <a:pt x="1683" y="45"/>
                    <a:pt x="1694" y="29"/>
                  </a:cubicBezTo>
                  <a:cubicBezTo>
                    <a:pt x="1703" y="16"/>
                    <a:pt x="1728" y="10"/>
                    <a:pt x="1742" y="5"/>
                  </a:cubicBezTo>
                  <a:cubicBezTo>
                    <a:pt x="1771" y="8"/>
                    <a:pt x="1804" y="0"/>
                    <a:pt x="1830" y="13"/>
                  </a:cubicBezTo>
                  <a:cubicBezTo>
                    <a:pt x="1931" y="63"/>
                    <a:pt x="1753" y="53"/>
                    <a:pt x="1870" y="53"/>
                  </a:cubicBezTo>
                </a:path>
              </a:pathLst>
            </a:custGeom>
            <a:noFill/>
            <a:ln w="57240">
              <a:solidFill>
                <a:srgbClr val="ff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2" name="Прямоугольник 7"/>
          <p:cNvSpPr/>
          <p:nvPr/>
        </p:nvSpPr>
        <p:spPr>
          <a:xfrm>
            <a:off x="0" y="404640"/>
            <a:ext cx="8964720" cy="53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          </a:t>
            </a:r>
            <a:r>
              <a:rPr b="1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Основные принципы РД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енаправленности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ности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рессивности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риториальной дифференцированност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лгосрочности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окой затрат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1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1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1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1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1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3" name="Group 3"/>
          <p:cNvGrpSpPr/>
          <p:nvPr/>
        </p:nvGrpSpPr>
        <p:grpSpPr>
          <a:xfrm>
            <a:off x="250920" y="404640"/>
            <a:ext cx="1979640" cy="1366920"/>
            <a:chOff x="250920" y="404640"/>
            <a:chExt cx="1979640" cy="1366920"/>
          </a:xfrm>
        </p:grpSpPr>
        <p:sp>
          <p:nvSpPr>
            <p:cNvPr id="1104" name="Freeform 4"/>
            <p:cNvSpPr/>
            <p:nvPr/>
          </p:nvSpPr>
          <p:spPr>
            <a:xfrm>
              <a:off x="250920" y="407520"/>
              <a:ext cx="1502640" cy="308880"/>
            </a:xfrm>
            <a:custGeom>
              <a:avLst/>
              <a:gdLst>
                <a:gd name="textAreaLeft" fmla="*/ 0 w 1502640"/>
                <a:gd name="textAreaRight" fmla="*/ 1503000 w 1502640"/>
                <a:gd name="textAreaTop" fmla="*/ 0 h 308880"/>
                <a:gd name="textAreaBottom" fmla="*/ 308880 h 308880"/>
              </a:gdLst>
              <a:ahLst/>
              <a:rect l="textAreaLeft" t="textAreaTop" r="textAreaRight" b="textAreaBottom"/>
              <a:pathLst>
                <a:path w="4248" h="793">
                  <a:moveTo>
                    <a:pt x="0" y="704"/>
                  </a:moveTo>
                  <a:cubicBezTo>
                    <a:pt x="29" y="701"/>
                    <a:pt x="60" y="704"/>
                    <a:pt x="88" y="696"/>
                  </a:cubicBezTo>
                  <a:cubicBezTo>
                    <a:pt x="101" y="692"/>
                    <a:pt x="166" y="598"/>
                    <a:pt x="104" y="680"/>
                  </a:cubicBezTo>
                  <a:cubicBezTo>
                    <a:pt x="161" y="699"/>
                    <a:pt x="146" y="663"/>
                    <a:pt x="192" y="648"/>
                  </a:cubicBezTo>
                  <a:cubicBezTo>
                    <a:pt x="205" y="651"/>
                    <a:pt x="224" y="645"/>
                    <a:pt x="232" y="656"/>
                  </a:cubicBezTo>
                  <a:cubicBezTo>
                    <a:pt x="248" y="678"/>
                    <a:pt x="239" y="710"/>
                    <a:pt x="248" y="736"/>
                  </a:cubicBezTo>
                  <a:cubicBezTo>
                    <a:pt x="407" y="730"/>
                    <a:pt x="452" y="787"/>
                    <a:pt x="488" y="680"/>
                  </a:cubicBezTo>
                  <a:cubicBezTo>
                    <a:pt x="520" y="453"/>
                    <a:pt x="471" y="670"/>
                    <a:pt x="1000" y="616"/>
                  </a:cubicBezTo>
                  <a:cubicBezTo>
                    <a:pt x="1023" y="614"/>
                    <a:pt x="1062" y="547"/>
                    <a:pt x="1096" y="536"/>
                  </a:cubicBezTo>
                  <a:cubicBezTo>
                    <a:pt x="1115" y="508"/>
                    <a:pt x="1139" y="459"/>
                    <a:pt x="1168" y="440"/>
                  </a:cubicBezTo>
                  <a:cubicBezTo>
                    <a:pt x="1200" y="419"/>
                    <a:pt x="1276" y="419"/>
                    <a:pt x="1304" y="416"/>
                  </a:cubicBezTo>
                  <a:cubicBezTo>
                    <a:pt x="1327" y="381"/>
                    <a:pt x="1326" y="301"/>
                    <a:pt x="1360" y="296"/>
                  </a:cubicBezTo>
                  <a:cubicBezTo>
                    <a:pt x="1405" y="289"/>
                    <a:pt x="1451" y="291"/>
                    <a:pt x="1496" y="288"/>
                  </a:cubicBezTo>
                  <a:cubicBezTo>
                    <a:pt x="1538" y="274"/>
                    <a:pt x="1525" y="252"/>
                    <a:pt x="1560" y="232"/>
                  </a:cubicBezTo>
                  <a:cubicBezTo>
                    <a:pt x="1584" y="218"/>
                    <a:pt x="1614" y="217"/>
                    <a:pt x="1640" y="208"/>
                  </a:cubicBezTo>
                  <a:cubicBezTo>
                    <a:pt x="1648" y="205"/>
                    <a:pt x="1664" y="200"/>
                    <a:pt x="1664" y="200"/>
                  </a:cubicBezTo>
                  <a:cubicBezTo>
                    <a:pt x="1680" y="184"/>
                    <a:pt x="1696" y="168"/>
                    <a:pt x="1712" y="152"/>
                  </a:cubicBezTo>
                  <a:cubicBezTo>
                    <a:pt x="1720" y="144"/>
                    <a:pt x="1736" y="128"/>
                    <a:pt x="1736" y="128"/>
                  </a:cubicBezTo>
                  <a:cubicBezTo>
                    <a:pt x="1760" y="55"/>
                    <a:pt x="1725" y="69"/>
                    <a:pt x="1824" y="80"/>
                  </a:cubicBezTo>
                  <a:cubicBezTo>
                    <a:pt x="1835" y="83"/>
                    <a:pt x="1849" y="80"/>
                    <a:pt x="1856" y="88"/>
                  </a:cubicBezTo>
                  <a:cubicBezTo>
                    <a:pt x="1867" y="100"/>
                    <a:pt x="1878" y="182"/>
                    <a:pt x="1888" y="192"/>
                  </a:cubicBezTo>
                  <a:cubicBezTo>
                    <a:pt x="1896" y="200"/>
                    <a:pt x="1909" y="197"/>
                    <a:pt x="1920" y="200"/>
                  </a:cubicBezTo>
                  <a:cubicBezTo>
                    <a:pt x="1949" y="208"/>
                    <a:pt x="1942" y="206"/>
                    <a:pt x="1968" y="224"/>
                  </a:cubicBezTo>
                  <a:cubicBezTo>
                    <a:pt x="1971" y="232"/>
                    <a:pt x="1976" y="240"/>
                    <a:pt x="1976" y="248"/>
                  </a:cubicBezTo>
                  <a:cubicBezTo>
                    <a:pt x="1976" y="256"/>
                    <a:pt x="1965" y="264"/>
                    <a:pt x="1968" y="272"/>
                  </a:cubicBezTo>
                  <a:cubicBezTo>
                    <a:pt x="1979" y="299"/>
                    <a:pt x="2066" y="294"/>
                    <a:pt x="2088" y="296"/>
                  </a:cubicBezTo>
                  <a:cubicBezTo>
                    <a:pt x="2134" y="307"/>
                    <a:pt x="2178" y="325"/>
                    <a:pt x="2224" y="336"/>
                  </a:cubicBezTo>
                  <a:cubicBezTo>
                    <a:pt x="2244" y="377"/>
                    <a:pt x="2265" y="385"/>
                    <a:pt x="2296" y="416"/>
                  </a:cubicBezTo>
                  <a:cubicBezTo>
                    <a:pt x="2332" y="452"/>
                    <a:pt x="2289" y="432"/>
                    <a:pt x="2336" y="448"/>
                  </a:cubicBezTo>
                  <a:cubicBezTo>
                    <a:pt x="2341" y="464"/>
                    <a:pt x="2347" y="480"/>
                    <a:pt x="2352" y="496"/>
                  </a:cubicBezTo>
                  <a:cubicBezTo>
                    <a:pt x="2355" y="504"/>
                    <a:pt x="2360" y="520"/>
                    <a:pt x="2360" y="520"/>
                  </a:cubicBezTo>
                  <a:cubicBezTo>
                    <a:pt x="2354" y="538"/>
                    <a:pt x="2325" y="612"/>
                    <a:pt x="2352" y="624"/>
                  </a:cubicBezTo>
                  <a:cubicBezTo>
                    <a:pt x="2389" y="640"/>
                    <a:pt x="2432" y="629"/>
                    <a:pt x="2472" y="632"/>
                  </a:cubicBezTo>
                  <a:cubicBezTo>
                    <a:pt x="2488" y="637"/>
                    <a:pt x="2504" y="643"/>
                    <a:pt x="2520" y="648"/>
                  </a:cubicBezTo>
                  <a:cubicBezTo>
                    <a:pt x="2528" y="651"/>
                    <a:pt x="2544" y="656"/>
                    <a:pt x="2544" y="656"/>
                  </a:cubicBezTo>
                  <a:cubicBezTo>
                    <a:pt x="2572" y="677"/>
                    <a:pt x="2591" y="701"/>
                    <a:pt x="2624" y="712"/>
                  </a:cubicBezTo>
                  <a:cubicBezTo>
                    <a:pt x="2642" y="785"/>
                    <a:pt x="2622" y="764"/>
                    <a:pt x="2664" y="792"/>
                  </a:cubicBezTo>
                  <a:cubicBezTo>
                    <a:pt x="2707" y="789"/>
                    <a:pt x="2750" y="793"/>
                    <a:pt x="2792" y="784"/>
                  </a:cubicBezTo>
                  <a:cubicBezTo>
                    <a:pt x="2819" y="778"/>
                    <a:pt x="2832" y="712"/>
                    <a:pt x="2832" y="712"/>
                  </a:cubicBezTo>
                  <a:cubicBezTo>
                    <a:pt x="2839" y="646"/>
                    <a:pt x="2839" y="590"/>
                    <a:pt x="2896" y="552"/>
                  </a:cubicBezTo>
                  <a:cubicBezTo>
                    <a:pt x="2916" y="522"/>
                    <a:pt x="2946" y="476"/>
                    <a:pt x="2976" y="456"/>
                  </a:cubicBezTo>
                  <a:cubicBezTo>
                    <a:pt x="2989" y="447"/>
                    <a:pt x="3042" y="441"/>
                    <a:pt x="3048" y="440"/>
                  </a:cubicBezTo>
                  <a:cubicBezTo>
                    <a:pt x="3064" y="429"/>
                    <a:pt x="3080" y="419"/>
                    <a:pt x="3096" y="408"/>
                  </a:cubicBezTo>
                  <a:cubicBezTo>
                    <a:pt x="3106" y="401"/>
                    <a:pt x="3072" y="416"/>
                    <a:pt x="3064" y="424"/>
                  </a:cubicBezTo>
                  <a:cubicBezTo>
                    <a:pt x="3058" y="430"/>
                    <a:pt x="3081" y="421"/>
                    <a:pt x="3088" y="416"/>
                  </a:cubicBezTo>
                  <a:cubicBezTo>
                    <a:pt x="3096" y="411"/>
                    <a:pt x="3105" y="407"/>
                    <a:pt x="3112" y="400"/>
                  </a:cubicBezTo>
                  <a:cubicBezTo>
                    <a:pt x="3152" y="360"/>
                    <a:pt x="3125" y="379"/>
                    <a:pt x="3200" y="360"/>
                  </a:cubicBezTo>
                  <a:cubicBezTo>
                    <a:pt x="3211" y="357"/>
                    <a:pt x="3232" y="352"/>
                    <a:pt x="3232" y="352"/>
                  </a:cubicBezTo>
                  <a:cubicBezTo>
                    <a:pt x="3251" y="408"/>
                    <a:pt x="3307" y="331"/>
                    <a:pt x="3336" y="312"/>
                  </a:cubicBezTo>
                  <a:cubicBezTo>
                    <a:pt x="3440" y="242"/>
                    <a:pt x="3587" y="307"/>
                    <a:pt x="3712" y="304"/>
                  </a:cubicBezTo>
                  <a:cubicBezTo>
                    <a:pt x="3769" y="266"/>
                    <a:pt x="3829" y="263"/>
                    <a:pt x="3896" y="256"/>
                  </a:cubicBezTo>
                  <a:cubicBezTo>
                    <a:pt x="3908" y="221"/>
                    <a:pt x="3909" y="203"/>
                    <a:pt x="3936" y="176"/>
                  </a:cubicBezTo>
                  <a:cubicBezTo>
                    <a:pt x="3925" y="160"/>
                    <a:pt x="3908" y="147"/>
                    <a:pt x="3904" y="128"/>
                  </a:cubicBezTo>
                  <a:cubicBezTo>
                    <a:pt x="3900" y="108"/>
                    <a:pt x="3933" y="97"/>
                    <a:pt x="3944" y="96"/>
                  </a:cubicBezTo>
                  <a:cubicBezTo>
                    <a:pt x="3989" y="91"/>
                    <a:pt x="4035" y="91"/>
                    <a:pt x="4080" y="88"/>
                  </a:cubicBezTo>
                  <a:cubicBezTo>
                    <a:pt x="4168" y="73"/>
                    <a:pt x="4182" y="66"/>
                    <a:pt x="4248" y="0"/>
                  </a:cubicBezTo>
                </a:path>
              </a:pathLst>
            </a:custGeom>
            <a:noFill/>
            <a:ln w="57240">
              <a:solidFill>
                <a:srgbClr val="ff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5" name="Freeform 5"/>
            <p:cNvSpPr/>
            <p:nvPr/>
          </p:nvSpPr>
          <p:spPr>
            <a:xfrm>
              <a:off x="1760040" y="404640"/>
              <a:ext cx="465840" cy="649080"/>
            </a:xfrm>
            <a:custGeom>
              <a:avLst/>
              <a:gdLst>
                <a:gd name="textAreaLeft" fmla="*/ 0 w 465840"/>
                <a:gd name="textAreaRight" fmla="*/ 466200 w 465840"/>
                <a:gd name="textAreaTop" fmla="*/ 0 h 649080"/>
                <a:gd name="textAreaBottom" fmla="*/ 649080 h 649080"/>
              </a:gdLst>
              <a:ahLst/>
              <a:rect l="textAreaLeft" t="textAreaTop" r="textAreaRight" b="textAreaBottom"/>
              <a:pathLst>
                <a:path w="1317" h="1666">
                  <a:moveTo>
                    <a:pt x="5" y="0"/>
                  </a:moveTo>
                  <a:cubicBezTo>
                    <a:pt x="8" y="24"/>
                    <a:pt x="0" y="52"/>
                    <a:pt x="13" y="72"/>
                  </a:cubicBezTo>
                  <a:cubicBezTo>
                    <a:pt x="22" y="86"/>
                    <a:pt x="61" y="88"/>
                    <a:pt x="61" y="88"/>
                  </a:cubicBezTo>
                  <a:cubicBezTo>
                    <a:pt x="67" y="106"/>
                    <a:pt x="90" y="155"/>
                    <a:pt x="101" y="168"/>
                  </a:cubicBezTo>
                  <a:cubicBezTo>
                    <a:pt x="123" y="195"/>
                    <a:pt x="268" y="205"/>
                    <a:pt x="301" y="208"/>
                  </a:cubicBezTo>
                  <a:cubicBezTo>
                    <a:pt x="298" y="216"/>
                    <a:pt x="290" y="224"/>
                    <a:pt x="293" y="232"/>
                  </a:cubicBezTo>
                  <a:cubicBezTo>
                    <a:pt x="297" y="241"/>
                    <a:pt x="311" y="241"/>
                    <a:pt x="317" y="248"/>
                  </a:cubicBezTo>
                  <a:cubicBezTo>
                    <a:pt x="330" y="262"/>
                    <a:pt x="331" y="290"/>
                    <a:pt x="349" y="296"/>
                  </a:cubicBezTo>
                  <a:cubicBezTo>
                    <a:pt x="365" y="301"/>
                    <a:pt x="397" y="312"/>
                    <a:pt x="397" y="312"/>
                  </a:cubicBezTo>
                  <a:cubicBezTo>
                    <a:pt x="417" y="392"/>
                    <a:pt x="387" y="310"/>
                    <a:pt x="429" y="352"/>
                  </a:cubicBezTo>
                  <a:cubicBezTo>
                    <a:pt x="435" y="358"/>
                    <a:pt x="431" y="370"/>
                    <a:pt x="437" y="376"/>
                  </a:cubicBezTo>
                  <a:cubicBezTo>
                    <a:pt x="460" y="399"/>
                    <a:pt x="501" y="388"/>
                    <a:pt x="533" y="392"/>
                  </a:cubicBezTo>
                  <a:cubicBezTo>
                    <a:pt x="588" y="429"/>
                    <a:pt x="563" y="418"/>
                    <a:pt x="605" y="432"/>
                  </a:cubicBezTo>
                  <a:cubicBezTo>
                    <a:pt x="618" y="452"/>
                    <a:pt x="624" y="456"/>
                    <a:pt x="629" y="480"/>
                  </a:cubicBezTo>
                  <a:cubicBezTo>
                    <a:pt x="633" y="498"/>
                    <a:pt x="625" y="522"/>
                    <a:pt x="637" y="536"/>
                  </a:cubicBezTo>
                  <a:cubicBezTo>
                    <a:pt x="648" y="548"/>
                    <a:pt x="669" y="541"/>
                    <a:pt x="685" y="544"/>
                  </a:cubicBezTo>
                  <a:cubicBezTo>
                    <a:pt x="694" y="595"/>
                    <a:pt x="711" y="694"/>
                    <a:pt x="765" y="712"/>
                  </a:cubicBezTo>
                  <a:cubicBezTo>
                    <a:pt x="792" y="822"/>
                    <a:pt x="1029" y="804"/>
                    <a:pt x="1101" y="808"/>
                  </a:cubicBezTo>
                  <a:cubicBezTo>
                    <a:pt x="1095" y="840"/>
                    <a:pt x="1092" y="872"/>
                    <a:pt x="1085" y="904"/>
                  </a:cubicBezTo>
                  <a:cubicBezTo>
                    <a:pt x="1081" y="920"/>
                    <a:pt x="1083" y="943"/>
                    <a:pt x="1069" y="952"/>
                  </a:cubicBezTo>
                  <a:cubicBezTo>
                    <a:pt x="1027" y="980"/>
                    <a:pt x="997" y="1016"/>
                    <a:pt x="981" y="1064"/>
                  </a:cubicBezTo>
                  <a:cubicBezTo>
                    <a:pt x="993" y="1220"/>
                    <a:pt x="978" y="1182"/>
                    <a:pt x="1149" y="1192"/>
                  </a:cubicBezTo>
                  <a:cubicBezTo>
                    <a:pt x="1221" y="1240"/>
                    <a:pt x="1191" y="1277"/>
                    <a:pt x="1181" y="1384"/>
                  </a:cubicBezTo>
                  <a:cubicBezTo>
                    <a:pt x="1178" y="1412"/>
                    <a:pt x="1168" y="1407"/>
                    <a:pt x="1157" y="1432"/>
                  </a:cubicBezTo>
                  <a:cubicBezTo>
                    <a:pt x="1150" y="1447"/>
                    <a:pt x="1141" y="1480"/>
                    <a:pt x="1141" y="1480"/>
                  </a:cubicBezTo>
                  <a:cubicBezTo>
                    <a:pt x="1144" y="1496"/>
                    <a:pt x="1135" y="1520"/>
                    <a:pt x="1149" y="1528"/>
                  </a:cubicBezTo>
                  <a:cubicBezTo>
                    <a:pt x="1177" y="1543"/>
                    <a:pt x="1224" y="1512"/>
                    <a:pt x="1245" y="1536"/>
                  </a:cubicBezTo>
                  <a:cubicBezTo>
                    <a:pt x="1270" y="1564"/>
                    <a:pt x="1238" y="1614"/>
                    <a:pt x="1253" y="1648"/>
                  </a:cubicBezTo>
                  <a:cubicBezTo>
                    <a:pt x="1261" y="1666"/>
                    <a:pt x="1298" y="1664"/>
                    <a:pt x="1317" y="1664"/>
                  </a:cubicBezTo>
                </a:path>
              </a:pathLst>
            </a:custGeom>
            <a:noFill/>
            <a:ln w="57240">
              <a:solidFill>
                <a:srgbClr val="ff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" name="Line 6"/>
            <p:cNvSpPr/>
            <p:nvPr/>
          </p:nvSpPr>
          <p:spPr>
            <a:xfrm>
              <a:off x="253800" y="788760"/>
              <a:ext cx="401040" cy="901800"/>
            </a:xfrm>
            <a:prstGeom prst="line">
              <a:avLst/>
            </a:prstGeom>
            <a:ln w="7632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7" name="Freeform 7"/>
            <p:cNvSpPr/>
            <p:nvPr/>
          </p:nvSpPr>
          <p:spPr>
            <a:xfrm>
              <a:off x="663840" y="1521360"/>
              <a:ext cx="879480" cy="250200"/>
            </a:xfrm>
            <a:custGeom>
              <a:avLst/>
              <a:gdLst>
                <a:gd name="textAreaLeft" fmla="*/ 0 w 879480"/>
                <a:gd name="textAreaRight" fmla="*/ 879840 w 879480"/>
                <a:gd name="textAreaTop" fmla="*/ 0 h 250200"/>
                <a:gd name="textAreaBottom" fmla="*/ 250200 h 250200"/>
              </a:gdLst>
              <a:ahLst/>
              <a:rect l="textAreaLeft" t="textAreaTop" r="textAreaRight" b="textAreaBottom"/>
              <a:pathLst>
                <a:path w="2487" h="642">
                  <a:moveTo>
                    <a:pt x="0" y="462"/>
                  </a:moveTo>
                  <a:cubicBezTo>
                    <a:pt x="37" y="453"/>
                    <a:pt x="51" y="446"/>
                    <a:pt x="72" y="414"/>
                  </a:cubicBezTo>
                  <a:cubicBezTo>
                    <a:pt x="91" y="339"/>
                    <a:pt x="135" y="396"/>
                    <a:pt x="192" y="358"/>
                  </a:cubicBezTo>
                  <a:cubicBezTo>
                    <a:pt x="220" y="316"/>
                    <a:pt x="252" y="279"/>
                    <a:pt x="280" y="238"/>
                  </a:cubicBezTo>
                  <a:cubicBezTo>
                    <a:pt x="290" y="66"/>
                    <a:pt x="257" y="91"/>
                    <a:pt x="400" y="78"/>
                  </a:cubicBezTo>
                  <a:cubicBezTo>
                    <a:pt x="405" y="70"/>
                    <a:pt x="412" y="63"/>
                    <a:pt x="416" y="54"/>
                  </a:cubicBezTo>
                  <a:cubicBezTo>
                    <a:pt x="423" y="39"/>
                    <a:pt x="432" y="6"/>
                    <a:pt x="432" y="6"/>
                  </a:cubicBezTo>
                  <a:cubicBezTo>
                    <a:pt x="461" y="9"/>
                    <a:pt x="494" y="0"/>
                    <a:pt x="520" y="14"/>
                  </a:cubicBezTo>
                  <a:cubicBezTo>
                    <a:pt x="558" y="34"/>
                    <a:pt x="519" y="87"/>
                    <a:pt x="568" y="102"/>
                  </a:cubicBezTo>
                  <a:cubicBezTo>
                    <a:pt x="586" y="107"/>
                    <a:pt x="605" y="107"/>
                    <a:pt x="624" y="110"/>
                  </a:cubicBezTo>
                  <a:cubicBezTo>
                    <a:pt x="621" y="131"/>
                    <a:pt x="616" y="153"/>
                    <a:pt x="616" y="174"/>
                  </a:cubicBezTo>
                  <a:cubicBezTo>
                    <a:pt x="616" y="347"/>
                    <a:pt x="616" y="278"/>
                    <a:pt x="832" y="286"/>
                  </a:cubicBezTo>
                  <a:cubicBezTo>
                    <a:pt x="848" y="642"/>
                    <a:pt x="860" y="478"/>
                    <a:pt x="1392" y="486"/>
                  </a:cubicBezTo>
                  <a:cubicBezTo>
                    <a:pt x="1453" y="527"/>
                    <a:pt x="1531" y="510"/>
                    <a:pt x="1600" y="502"/>
                  </a:cubicBezTo>
                  <a:cubicBezTo>
                    <a:pt x="1610" y="471"/>
                    <a:pt x="1630" y="469"/>
                    <a:pt x="1640" y="438"/>
                  </a:cubicBezTo>
                  <a:cubicBezTo>
                    <a:pt x="1656" y="314"/>
                    <a:pt x="1694" y="365"/>
                    <a:pt x="1856" y="358"/>
                  </a:cubicBezTo>
                  <a:cubicBezTo>
                    <a:pt x="1908" y="332"/>
                    <a:pt x="1932" y="319"/>
                    <a:pt x="1992" y="310"/>
                  </a:cubicBezTo>
                  <a:cubicBezTo>
                    <a:pt x="2079" y="281"/>
                    <a:pt x="2168" y="308"/>
                    <a:pt x="2256" y="318"/>
                  </a:cubicBezTo>
                  <a:cubicBezTo>
                    <a:pt x="2259" y="326"/>
                    <a:pt x="2257" y="338"/>
                    <a:pt x="2264" y="342"/>
                  </a:cubicBezTo>
                  <a:cubicBezTo>
                    <a:pt x="2278" y="350"/>
                    <a:pt x="2296" y="346"/>
                    <a:pt x="2312" y="350"/>
                  </a:cubicBezTo>
                  <a:cubicBezTo>
                    <a:pt x="2337" y="356"/>
                    <a:pt x="2338" y="360"/>
                    <a:pt x="2360" y="374"/>
                  </a:cubicBezTo>
                  <a:cubicBezTo>
                    <a:pt x="2365" y="390"/>
                    <a:pt x="2371" y="406"/>
                    <a:pt x="2376" y="422"/>
                  </a:cubicBezTo>
                  <a:cubicBezTo>
                    <a:pt x="2381" y="437"/>
                    <a:pt x="2377" y="455"/>
                    <a:pt x="2384" y="470"/>
                  </a:cubicBezTo>
                  <a:cubicBezTo>
                    <a:pt x="2392" y="486"/>
                    <a:pt x="2428" y="491"/>
                    <a:pt x="2440" y="494"/>
                  </a:cubicBezTo>
                  <a:cubicBezTo>
                    <a:pt x="2444" y="516"/>
                    <a:pt x="2440" y="542"/>
                    <a:pt x="2456" y="558"/>
                  </a:cubicBezTo>
                  <a:cubicBezTo>
                    <a:pt x="2462" y="564"/>
                    <a:pt x="2478" y="558"/>
                    <a:pt x="2480" y="566"/>
                  </a:cubicBezTo>
                  <a:cubicBezTo>
                    <a:pt x="2487" y="589"/>
                    <a:pt x="2480" y="614"/>
                    <a:pt x="2480" y="638"/>
                  </a:cubicBezTo>
                </a:path>
              </a:pathLst>
            </a:custGeom>
            <a:noFill/>
            <a:ln w="76320">
              <a:solidFill>
                <a:srgbClr val="ff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Freeform 8"/>
            <p:cNvSpPr/>
            <p:nvPr/>
          </p:nvSpPr>
          <p:spPr>
            <a:xfrm>
              <a:off x="1547640" y="1041840"/>
              <a:ext cx="682920" cy="715680"/>
            </a:xfrm>
            <a:custGeom>
              <a:avLst/>
              <a:gdLst>
                <a:gd name="textAreaLeft" fmla="*/ 0 w 682920"/>
                <a:gd name="textAreaRight" fmla="*/ 683280 w 682920"/>
                <a:gd name="textAreaTop" fmla="*/ 0 h 715680"/>
                <a:gd name="textAreaBottom" fmla="*/ 716040 h 715680"/>
              </a:gdLst>
              <a:ahLst/>
              <a:rect l="textAreaLeft" t="textAreaTop" r="textAreaRight" b="textAreaBottom"/>
              <a:pathLst>
                <a:path w="1931" h="1837">
                  <a:moveTo>
                    <a:pt x="46" y="1837"/>
                  </a:moveTo>
                  <a:cubicBezTo>
                    <a:pt x="143" y="1831"/>
                    <a:pt x="169" y="1828"/>
                    <a:pt x="246" y="1813"/>
                  </a:cubicBezTo>
                  <a:cubicBezTo>
                    <a:pt x="251" y="1805"/>
                    <a:pt x="259" y="1798"/>
                    <a:pt x="262" y="1789"/>
                  </a:cubicBezTo>
                  <a:cubicBezTo>
                    <a:pt x="267" y="1771"/>
                    <a:pt x="260" y="1749"/>
                    <a:pt x="270" y="1733"/>
                  </a:cubicBezTo>
                  <a:cubicBezTo>
                    <a:pt x="280" y="1717"/>
                    <a:pt x="318" y="1701"/>
                    <a:pt x="318" y="1701"/>
                  </a:cubicBezTo>
                  <a:cubicBezTo>
                    <a:pt x="323" y="1693"/>
                    <a:pt x="333" y="1687"/>
                    <a:pt x="334" y="1677"/>
                  </a:cubicBezTo>
                  <a:cubicBezTo>
                    <a:pt x="341" y="1610"/>
                    <a:pt x="317" y="1617"/>
                    <a:pt x="270" y="1605"/>
                  </a:cubicBezTo>
                  <a:cubicBezTo>
                    <a:pt x="267" y="1581"/>
                    <a:pt x="273" y="1555"/>
                    <a:pt x="262" y="1533"/>
                  </a:cubicBezTo>
                  <a:cubicBezTo>
                    <a:pt x="257" y="1523"/>
                    <a:pt x="241" y="1528"/>
                    <a:pt x="230" y="1525"/>
                  </a:cubicBezTo>
                  <a:cubicBezTo>
                    <a:pt x="166" y="1506"/>
                    <a:pt x="101" y="1490"/>
                    <a:pt x="38" y="1469"/>
                  </a:cubicBezTo>
                  <a:cubicBezTo>
                    <a:pt x="23" y="1447"/>
                    <a:pt x="0" y="1417"/>
                    <a:pt x="22" y="1389"/>
                  </a:cubicBezTo>
                  <a:cubicBezTo>
                    <a:pt x="27" y="1382"/>
                    <a:pt x="38" y="1385"/>
                    <a:pt x="46" y="1381"/>
                  </a:cubicBezTo>
                  <a:cubicBezTo>
                    <a:pt x="55" y="1377"/>
                    <a:pt x="62" y="1370"/>
                    <a:pt x="70" y="1365"/>
                  </a:cubicBezTo>
                  <a:cubicBezTo>
                    <a:pt x="123" y="1383"/>
                    <a:pt x="76" y="1376"/>
                    <a:pt x="110" y="1301"/>
                  </a:cubicBezTo>
                  <a:cubicBezTo>
                    <a:pt x="115" y="1289"/>
                    <a:pt x="147" y="1280"/>
                    <a:pt x="158" y="1277"/>
                  </a:cubicBezTo>
                  <a:cubicBezTo>
                    <a:pt x="192" y="1267"/>
                    <a:pt x="230" y="1269"/>
                    <a:pt x="262" y="1253"/>
                  </a:cubicBezTo>
                  <a:cubicBezTo>
                    <a:pt x="314" y="1227"/>
                    <a:pt x="257" y="1248"/>
                    <a:pt x="310" y="1213"/>
                  </a:cubicBezTo>
                  <a:cubicBezTo>
                    <a:pt x="370" y="1173"/>
                    <a:pt x="286" y="1269"/>
                    <a:pt x="382" y="1173"/>
                  </a:cubicBezTo>
                  <a:cubicBezTo>
                    <a:pt x="403" y="1152"/>
                    <a:pt x="425" y="1127"/>
                    <a:pt x="454" y="1117"/>
                  </a:cubicBezTo>
                  <a:cubicBezTo>
                    <a:pt x="505" y="1100"/>
                    <a:pt x="548" y="1078"/>
                    <a:pt x="598" y="1061"/>
                  </a:cubicBezTo>
                  <a:cubicBezTo>
                    <a:pt x="641" y="1047"/>
                    <a:pt x="689" y="1056"/>
                    <a:pt x="734" y="1053"/>
                  </a:cubicBezTo>
                  <a:cubicBezTo>
                    <a:pt x="798" y="1010"/>
                    <a:pt x="721" y="1066"/>
                    <a:pt x="774" y="1013"/>
                  </a:cubicBezTo>
                  <a:cubicBezTo>
                    <a:pt x="801" y="986"/>
                    <a:pt x="793" y="1005"/>
                    <a:pt x="822" y="989"/>
                  </a:cubicBezTo>
                  <a:cubicBezTo>
                    <a:pt x="874" y="960"/>
                    <a:pt x="924" y="919"/>
                    <a:pt x="966" y="877"/>
                  </a:cubicBezTo>
                  <a:cubicBezTo>
                    <a:pt x="970" y="855"/>
                    <a:pt x="979" y="835"/>
                    <a:pt x="982" y="813"/>
                  </a:cubicBezTo>
                  <a:cubicBezTo>
                    <a:pt x="987" y="773"/>
                    <a:pt x="969" y="722"/>
                    <a:pt x="998" y="693"/>
                  </a:cubicBezTo>
                  <a:cubicBezTo>
                    <a:pt x="1012" y="679"/>
                    <a:pt x="1030" y="672"/>
                    <a:pt x="1046" y="661"/>
                  </a:cubicBezTo>
                  <a:cubicBezTo>
                    <a:pt x="1079" y="639"/>
                    <a:pt x="1091" y="618"/>
                    <a:pt x="1110" y="589"/>
                  </a:cubicBezTo>
                  <a:cubicBezTo>
                    <a:pt x="1117" y="531"/>
                    <a:pt x="1112" y="511"/>
                    <a:pt x="1166" y="493"/>
                  </a:cubicBezTo>
                  <a:cubicBezTo>
                    <a:pt x="1303" y="510"/>
                    <a:pt x="1449" y="529"/>
                    <a:pt x="1582" y="485"/>
                  </a:cubicBezTo>
                  <a:cubicBezTo>
                    <a:pt x="1611" y="456"/>
                    <a:pt x="1633" y="427"/>
                    <a:pt x="1646" y="389"/>
                  </a:cubicBezTo>
                  <a:cubicBezTo>
                    <a:pt x="1641" y="324"/>
                    <a:pt x="1656" y="286"/>
                    <a:pt x="1606" y="253"/>
                  </a:cubicBezTo>
                  <a:cubicBezTo>
                    <a:pt x="1587" y="196"/>
                    <a:pt x="1599" y="219"/>
                    <a:pt x="1574" y="181"/>
                  </a:cubicBezTo>
                  <a:cubicBezTo>
                    <a:pt x="1577" y="160"/>
                    <a:pt x="1565" y="131"/>
                    <a:pt x="1582" y="117"/>
                  </a:cubicBezTo>
                  <a:cubicBezTo>
                    <a:pt x="1603" y="100"/>
                    <a:pt x="1637" y="117"/>
                    <a:pt x="1662" y="109"/>
                  </a:cubicBezTo>
                  <a:cubicBezTo>
                    <a:pt x="1687" y="101"/>
                    <a:pt x="1683" y="45"/>
                    <a:pt x="1694" y="29"/>
                  </a:cubicBezTo>
                  <a:cubicBezTo>
                    <a:pt x="1703" y="16"/>
                    <a:pt x="1728" y="10"/>
                    <a:pt x="1742" y="5"/>
                  </a:cubicBezTo>
                  <a:cubicBezTo>
                    <a:pt x="1771" y="8"/>
                    <a:pt x="1804" y="0"/>
                    <a:pt x="1830" y="13"/>
                  </a:cubicBezTo>
                  <a:cubicBezTo>
                    <a:pt x="1931" y="63"/>
                    <a:pt x="1753" y="53"/>
                    <a:pt x="1870" y="53"/>
                  </a:cubicBezTo>
                </a:path>
              </a:pathLst>
            </a:custGeom>
            <a:noFill/>
            <a:ln w="57240">
              <a:solidFill>
                <a:srgbClr val="ff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9" name="AutoShape 5"/>
          <p:cNvSpPr/>
          <p:nvPr/>
        </p:nvSpPr>
        <p:spPr>
          <a:xfrm>
            <a:off x="1428840" y="7410600"/>
            <a:ext cx="171360" cy="228600"/>
          </a:xfrm>
          <a:prstGeom prst="flowChartProcess">
            <a:avLst/>
          </a:prstGeom>
          <a:solidFill>
            <a:srgbClr val="6666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AutoShape 6"/>
          <p:cNvSpPr/>
          <p:nvPr/>
        </p:nvSpPr>
        <p:spPr>
          <a:xfrm>
            <a:off x="3943440" y="7410600"/>
            <a:ext cx="228600" cy="228600"/>
          </a:xfrm>
          <a:prstGeom prst="flowChartProcess">
            <a:avLst/>
          </a:prstGeom>
          <a:solidFill>
            <a:srgbClr val="2626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Rectangle 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Rectangle 4"/>
          <p:cNvSpPr/>
          <p:nvPr/>
        </p:nvSpPr>
        <p:spPr>
          <a:xfrm>
            <a:off x="2520" y="326520"/>
            <a:ext cx="948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  <a:ea typeface="Calibri"/>
              </a:rPr>
              <a:t>                  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3" name="Рисунок 14" descr=""/>
          <p:cNvPicPr/>
          <p:nvPr/>
        </p:nvPicPr>
        <p:blipFill>
          <a:blip r:embed="rId1"/>
          <a:stretch/>
        </p:blipFill>
        <p:spPr>
          <a:xfrm>
            <a:off x="250920" y="228600"/>
            <a:ext cx="8497800" cy="644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6" dur="2000"/>
                                        <p:tgtEl>
                                          <p:spTgt spid="1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4" name="Group 3"/>
          <p:cNvGrpSpPr/>
          <p:nvPr/>
        </p:nvGrpSpPr>
        <p:grpSpPr>
          <a:xfrm>
            <a:off x="250920" y="404640"/>
            <a:ext cx="1979640" cy="1366920"/>
            <a:chOff x="250920" y="404640"/>
            <a:chExt cx="1979640" cy="1366920"/>
          </a:xfrm>
        </p:grpSpPr>
        <p:sp>
          <p:nvSpPr>
            <p:cNvPr id="1115" name="Freeform 4"/>
            <p:cNvSpPr/>
            <p:nvPr/>
          </p:nvSpPr>
          <p:spPr>
            <a:xfrm>
              <a:off x="250920" y="407520"/>
              <a:ext cx="1502640" cy="308880"/>
            </a:xfrm>
            <a:custGeom>
              <a:avLst/>
              <a:gdLst>
                <a:gd name="textAreaLeft" fmla="*/ 0 w 1502640"/>
                <a:gd name="textAreaRight" fmla="*/ 1503000 w 1502640"/>
                <a:gd name="textAreaTop" fmla="*/ 0 h 308880"/>
                <a:gd name="textAreaBottom" fmla="*/ 308880 h 308880"/>
              </a:gdLst>
              <a:ahLst/>
              <a:rect l="textAreaLeft" t="textAreaTop" r="textAreaRight" b="textAreaBottom"/>
              <a:pathLst>
                <a:path w="4248" h="793">
                  <a:moveTo>
                    <a:pt x="0" y="704"/>
                  </a:moveTo>
                  <a:cubicBezTo>
                    <a:pt x="29" y="701"/>
                    <a:pt x="60" y="704"/>
                    <a:pt x="88" y="696"/>
                  </a:cubicBezTo>
                  <a:cubicBezTo>
                    <a:pt x="101" y="692"/>
                    <a:pt x="166" y="598"/>
                    <a:pt x="104" y="680"/>
                  </a:cubicBezTo>
                  <a:cubicBezTo>
                    <a:pt x="161" y="699"/>
                    <a:pt x="146" y="663"/>
                    <a:pt x="192" y="648"/>
                  </a:cubicBezTo>
                  <a:cubicBezTo>
                    <a:pt x="205" y="651"/>
                    <a:pt x="224" y="645"/>
                    <a:pt x="232" y="656"/>
                  </a:cubicBezTo>
                  <a:cubicBezTo>
                    <a:pt x="248" y="678"/>
                    <a:pt x="239" y="710"/>
                    <a:pt x="248" y="736"/>
                  </a:cubicBezTo>
                  <a:cubicBezTo>
                    <a:pt x="407" y="730"/>
                    <a:pt x="452" y="787"/>
                    <a:pt x="488" y="680"/>
                  </a:cubicBezTo>
                  <a:cubicBezTo>
                    <a:pt x="520" y="453"/>
                    <a:pt x="471" y="670"/>
                    <a:pt x="1000" y="616"/>
                  </a:cubicBezTo>
                  <a:cubicBezTo>
                    <a:pt x="1023" y="614"/>
                    <a:pt x="1062" y="547"/>
                    <a:pt x="1096" y="536"/>
                  </a:cubicBezTo>
                  <a:cubicBezTo>
                    <a:pt x="1115" y="508"/>
                    <a:pt x="1139" y="459"/>
                    <a:pt x="1168" y="440"/>
                  </a:cubicBezTo>
                  <a:cubicBezTo>
                    <a:pt x="1200" y="419"/>
                    <a:pt x="1276" y="419"/>
                    <a:pt x="1304" y="416"/>
                  </a:cubicBezTo>
                  <a:cubicBezTo>
                    <a:pt x="1327" y="381"/>
                    <a:pt x="1326" y="301"/>
                    <a:pt x="1360" y="296"/>
                  </a:cubicBezTo>
                  <a:cubicBezTo>
                    <a:pt x="1405" y="289"/>
                    <a:pt x="1451" y="291"/>
                    <a:pt x="1496" y="288"/>
                  </a:cubicBezTo>
                  <a:cubicBezTo>
                    <a:pt x="1538" y="274"/>
                    <a:pt x="1525" y="252"/>
                    <a:pt x="1560" y="232"/>
                  </a:cubicBezTo>
                  <a:cubicBezTo>
                    <a:pt x="1584" y="218"/>
                    <a:pt x="1614" y="217"/>
                    <a:pt x="1640" y="208"/>
                  </a:cubicBezTo>
                  <a:cubicBezTo>
                    <a:pt x="1648" y="205"/>
                    <a:pt x="1664" y="200"/>
                    <a:pt x="1664" y="200"/>
                  </a:cubicBezTo>
                  <a:cubicBezTo>
                    <a:pt x="1680" y="184"/>
                    <a:pt x="1696" y="168"/>
                    <a:pt x="1712" y="152"/>
                  </a:cubicBezTo>
                  <a:cubicBezTo>
                    <a:pt x="1720" y="144"/>
                    <a:pt x="1736" y="128"/>
                    <a:pt x="1736" y="128"/>
                  </a:cubicBezTo>
                  <a:cubicBezTo>
                    <a:pt x="1760" y="55"/>
                    <a:pt x="1725" y="69"/>
                    <a:pt x="1824" y="80"/>
                  </a:cubicBezTo>
                  <a:cubicBezTo>
                    <a:pt x="1835" y="83"/>
                    <a:pt x="1849" y="80"/>
                    <a:pt x="1856" y="88"/>
                  </a:cubicBezTo>
                  <a:cubicBezTo>
                    <a:pt x="1867" y="100"/>
                    <a:pt x="1878" y="182"/>
                    <a:pt x="1888" y="192"/>
                  </a:cubicBezTo>
                  <a:cubicBezTo>
                    <a:pt x="1896" y="200"/>
                    <a:pt x="1909" y="197"/>
                    <a:pt x="1920" y="200"/>
                  </a:cubicBezTo>
                  <a:cubicBezTo>
                    <a:pt x="1949" y="208"/>
                    <a:pt x="1942" y="206"/>
                    <a:pt x="1968" y="224"/>
                  </a:cubicBezTo>
                  <a:cubicBezTo>
                    <a:pt x="1971" y="232"/>
                    <a:pt x="1976" y="240"/>
                    <a:pt x="1976" y="248"/>
                  </a:cubicBezTo>
                  <a:cubicBezTo>
                    <a:pt x="1976" y="256"/>
                    <a:pt x="1965" y="264"/>
                    <a:pt x="1968" y="272"/>
                  </a:cubicBezTo>
                  <a:cubicBezTo>
                    <a:pt x="1979" y="299"/>
                    <a:pt x="2066" y="294"/>
                    <a:pt x="2088" y="296"/>
                  </a:cubicBezTo>
                  <a:cubicBezTo>
                    <a:pt x="2134" y="307"/>
                    <a:pt x="2178" y="325"/>
                    <a:pt x="2224" y="336"/>
                  </a:cubicBezTo>
                  <a:cubicBezTo>
                    <a:pt x="2244" y="377"/>
                    <a:pt x="2265" y="385"/>
                    <a:pt x="2296" y="416"/>
                  </a:cubicBezTo>
                  <a:cubicBezTo>
                    <a:pt x="2332" y="452"/>
                    <a:pt x="2289" y="432"/>
                    <a:pt x="2336" y="448"/>
                  </a:cubicBezTo>
                  <a:cubicBezTo>
                    <a:pt x="2341" y="464"/>
                    <a:pt x="2347" y="480"/>
                    <a:pt x="2352" y="496"/>
                  </a:cubicBezTo>
                  <a:cubicBezTo>
                    <a:pt x="2355" y="504"/>
                    <a:pt x="2360" y="520"/>
                    <a:pt x="2360" y="520"/>
                  </a:cubicBezTo>
                  <a:cubicBezTo>
                    <a:pt x="2354" y="538"/>
                    <a:pt x="2325" y="612"/>
                    <a:pt x="2352" y="624"/>
                  </a:cubicBezTo>
                  <a:cubicBezTo>
                    <a:pt x="2389" y="640"/>
                    <a:pt x="2432" y="629"/>
                    <a:pt x="2472" y="632"/>
                  </a:cubicBezTo>
                  <a:cubicBezTo>
                    <a:pt x="2488" y="637"/>
                    <a:pt x="2504" y="643"/>
                    <a:pt x="2520" y="648"/>
                  </a:cubicBezTo>
                  <a:cubicBezTo>
                    <a:pt x="2528" y="651"/>
                    <a:pt x="2544" y="656"/>
                    <a:pt x="2544" y="656"/>
                  </a:cubicBezTo>
                  <a:cubicBezTo>
                    <a:pt x="2572" y="677"/>
                    <a:pt x="2591" y="701"/>
                    <a:pt x="2624" y="712"/>
                  </a:cubicBezTo>
                  <a:cubicBezTo>
                    <a:pt x="2642" y="785"/>
                    <a:pt x="2622" y="764"/>
                    <a:pt x="2664" y="792"/>
                  </a:cubicBezTo>
                  <a:cubicBezTo>
                    <a:pt x="2707" y="789"/>
                    <a:pt x="2750" y="793"/>
                    <a:pt x="2792" y="784"/>
                  </a:cubicBezTo>
                  <a:cubicBezTo>
                    <a:pt x="2819" y="778"/>
                    <a:pt x="2832" y="712"/>
                    <a:pt x="2832" y="712"/>
                  </a:cubicBezTo>
                  <a:cubicBezTo>
                    <a:pt x="2839" y="646"/>
                    <a:pt x="2839" y="590"/>
                    <a:pt x="2896" y="552"/>
                  </a:cubicBezTo>
                  <a:cubicBezTo>
                    <a:pt x="2916" y="522"/>
                    <a:pt x="2946" y="476"/>
                    <a:pt x="2976" y="456"/>
                  </a:cubicBezTo>
                  <a:cubicBezTo>
                    <a:pt x="2989" y="447"/>
                    <a:pt x="3042" y="441"/>
                    <a:pt x="3048" y="440"/>
                  </a:cubicBezTo>
                  <a:cubicBezTo>
                    <a:pt x="3064" y="429"/>
                    <a:pt x="3080" y="419"/>
                    <a:pt x="3096" y="408"/>
                  </a:cubicBezTo>
                  <a:cubicBezTo>
                    <a:pt x="3106" y="401"/>
                    <a:pt x="3072" y="416"/>
                    <a:pt x="3064" y="424"/>
                  </a:cubicBezTo>
                  <a:cubicBezTo>
                    <a:pt x="3058" y="430"/>
                    <a:pt x="3081" y="421"/>
                    <a:pt x="3088" y="416"/>
                  </a:cubicBezTo>
                  <a:cubicBezTo>
                    <a:pt x="3096" y="411"/>
                    <a:pt x="3105" y="407"/>
                    <a:pt x="3112" y="400"/>
                  </a:cubicBezTo>
                  <a:cubicBezTo>
                    <a:pt x="3152" y="360"/>
                    <a:pt x="3125" y="379"/>
                    <a:pt x="3200" y="360"/>
                  </a:cubicBezTo>
                  <a:cubicBezTo>
                    <a:pt x="3211" y="357"/>
                    <a:pt x="3232" y="352"/>
                    <a:pt x="3232" y="352"/>
                  </a:cubicBezTo>
                  <a:cubicBezTo>
                    <a:pt x="3251" y="408"/>
                    <a:pt x="3307" y="331"/>
                    <a:pt x="3336" y="312"/>
                  </a:cubicBezTo>
                  <a:cubicBezTo>
                    <a:pt x="3440" y="242"/>
                    <a:pt x="3587" y="307"/>
                    <a:pt x="3712" y="304"/>
                  </a:cubicBezTo>
                  <a:cubicBezTo>
                    <a:pt x="3769" y="266"/>
                    <a:pt x="3829" y="263"/>
                    <a:pt x="3896" y="256"/>
                  </a:cubicBezTo>
                  <a:cubicBezTo>
                    <a:pt x="3908" y="221"/>
                    <a:pt x="3909" y="203"/>
                    <a:pt x="3936" y="176"/>
                  </a:cubicBezTo>
                  <a:cubicBezTo>
                    <a:pt x="3925" y="160"/>
                    <a:pt x="3908" y="147"/>
                    <a:pt x="3904" y="128"/>
                  </a:cubicBezTo>
                  <a:cubicBezTo>
                    <a:pt x="3900" y="108"/>
                    <a:pt x="3933" y="97"/>
                    <a:pt x="3944" y="96"/>
                  </a:cubicBezTo>
                  <a:cubicBezTo>
                    <a:pt x="3989" y="91"/>
                    <a:pt x="4035" y="91"/>
                    <a:pt x="4080" y="88"/>
                  </a:cubicBezTo>
                  <a:cubicBezTo>
                    <a:pt x="4168" y="73"/>
                    <a:pt x="4182" y="66"/>
                    <a:pt x="4248" y="0"/>
                  </a:cubicBezTo>
                </a:path>
              </a:pathLst>
            </a:custGeom>
            <a:noFill/>
            <a:ln w="57240">
              <a:solidFill>
                <a:srgbClr val="ff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Freeform 5"/>
            <p:cNvSpPr/>
            <p:nvPr/>
          </p:nvSpPr>
          <p:spPr>
            <a:xfrm>
              <a:off x="1760040" y="404640"/>
              <a:ext cx="465840" cy="649080"/>
            </a:xfrm>
            <a:custGeom>
              <a:avLst/>
              <a:gdLst>
                <a:gd name="textAreaLeft" fmla="*/ 0 w 465840"/>
                <a:gd name="textAreaRight" fmla="*/ 466200 w 465840"/>
                <a:gd name="textAreaTop" fmla="*/ 0 h 649080"/>
                <a:gd name="textAreaBottom" fmla="*/ 649080 h 649080"/>
              </a:gdLst>
              <a:ahLst/>
              <a:rect l="textAreaLeft" t="textAreaTop" r="textAreaRight" b="textAreaBottom"/>
              <a:pathLst>
                <a:path w="1317" h="1666">
                  <a:moveTo>
                    <a:pt x="5" y="0"/>
                  </a:moveTo>
                  <a:cubicBezTo>
                    <a:pt x="8" y="24"/>
                    <a:pt x="0" y="52"/>
                    <a:pt x="13" y="72"/>
                  </a:cubicBezTo>
                  <a:cubicBezTo>
                    <a:pt x="22" y="86"/>
                    <a:pt x="61" y="88"/>
                    <a:pt x="61" y="88"/>
                  </a:cubicBezTo>
                  <a:cubicBezTo>
                    <a:pt x="67" y="106"/>
                    <a:pt x="90" y="155"/>
                    <a:pt x="101" y="168"/>
                  </a:cubicBezTo>
                  <a:cubicBezTo>
                    <a:pt x="123" y="195"/>
                    <a:pt x="268" y="205"/>
                    <a:pt x="301" y="208"/>
                  </a:cubicBezTo>
                  <a:cubicBezTo>
                    <a:pt x="298" y="216"/>
                    <a:pt x="290" y="224"/>
                    <a:pt x="293" y="232"/>
                  </a:cubicBezTo>
                  <a:cubicBezTo>
                    <a:pt x="297" y="241"/>
                    <a:pt x="311" y="241"/>
                    <a:pt x="317" y="248"/>
                  </a:cubicBezTo>
                  <a:cubicBezTo>
                    <a:pt x="330" y="262"/>
                    <a:pt x="331" y="290"/>
                    <a:pt x="349" y="296"/>
                  </a:cubicBezTo>
                  <a:cubicBezTo>
                    <a:pt x="365" y="301"/>
                    <a:pt x="397" y="312"/>
                    <a:pt x="397" y="312"/>
                  </a:cubicBezTo>
                  <a:cubicBezTo>
                    <a:pt x="417" y="392"/>
                    <a:pt x="387" y="310"/>
                    <a:pt x="429" y="352"/>
                  </a:cubicBezTo>
                  <a:cubicBezTo>
                    <a:pt x="435" y="358"/>
                    <a:pt x="431" y="370"/>
                    <a:pt x="437" y="376"/>
                  </a:cubicBezTo>
                  <a:cubicBezTo>
                    <a:pt x="460" y="399"/>
                    <a:pt x="501" y="388"/>
                    <a:pt x="533" y="392"/>
                  </a:cubicBezTo>
                  <a:cubicBezTo>
                    <a:pt x="588" y="429"/>
                    <a:pt x="563" y="418"/>
                    <a:pt x="605" y="432"/>
                  </a:cubicBezTo>
                  <a:cubicBezTo>
                    <a:pt x="618" y="452"/>
                    <a:pt x="624" y="456"/>
                    <a:pt x="629" y="480"/>
                  </a:cubicBezTo>
                  <a:cubicBezTo>
                    <a:pt x="633" y="498"/>
                    <a:pt x="625" y="522"/>
                    <a:pt x="637" y="536"/>
                  </a:cubicBezTo>
                  <a:cubicBezTo>
                    <a:pt x="648" y="548"/>
                    <a:pt x="669" y="541"/>
                    <a:pt x="685" y="544"/>
                  </a:cubicBezTo>
                  <a:cubicBezTo>
                    <a:pt x="694" y="595"/>
                    <a:pt x="711" y="694"/>
                    <a:pt x="765" y="712"/>
                  </a:cubicBezTo>
                  <a:cubicBezTo>
                    <a:pt x="792" y="822"/>
                    <a:pt x="1029" y="804"/>
                    <a:pt x="1101" y="808"/>
                  </a:cubicBezTo>
                  <a:cubicBezTo>
                    <a:pt x="1095" y="840"/>
                    <a:pt x="1092" y="872"/>
                    <a:pt x="1085" y="904"/>
                  </a:cubicBezTo>
                  <a:cubicBezTo>
                    <a:pt x="1081" y="920"/>
                    <a:pt x="1083" y="943"/>
                    <a:pt x="1069" y="952"/>
                  </a:cubicBezTo>
                  <a:cubicBezTo>
                    <a:pt x="1027" y="980"/>
                    <a:pt x="997" y="1016"/>
                    <a:pt x="981" y="1064"/>
                  </a:cubicBezTo>
                  <a:cubicBezTo>
                    <a:pt x="993" y="1220"/>
                    <a:pt x="978" y="1182"/>
                    <a:pt x="1149" y="1192"/>
                  </a:cubicBezTo>
                  <a:cubicBezTo>
                    <a:pt x="1221" y="1240"/>
                    <a:pt x="1191" y="1277"/>
                    <a:pt x="1181" y="1384"/>
                  </a:cubicBezTo>
                  <a:cubicBezTo>
                    <a:pt x="1178" y="1412"/>
                    <a:pt x="1168" y="1407"/>
                    <a:pt x="1157" y="1432"/>
                  </a:cubicBezTo>
                  <a:cubicBezTo>
                    <a:pt x="1150" y="1447"/>
                    <a:pt x="1141" y="1480"/>
                    <a:pt x="1141" y="1480"/>
                  </a:cubicBezTo>
                  <a:cubicBezTo>
                    <a:pt x="1144" y="1496"/>
                    <a:pt x="1135" y="1520"/>
                    <a:pt x="1149" y="1528"/>
                  </a:cubicBezTo>
                  <a:cubicBezTo>
                    <a:pt x="1177" y="1543"/>
                    <a:pt x="1224" y="1512"/>
                    <a:pt x="1245" y="1536"/>
                  </a:cubicBezTo>
                  <a:cubicBezTo>
                    <a:pt x="1270" y="1564"/>
                    <a:pt x="1238" y="1614"/>
                    <a:pt x="1253" y="1648"/>
                  </a:cubicBezTo>
                  <a:cubicBezTo>
                    <a:pt x="1261" y="1666"/>
                    <a:pt x="1298" y="1664"/>
                    <a:pt x="1317" y="1664"/>
                  </a:cubicBezTo>
                </a:path>
              </a:pathLst>
            </a:custGeom>
            <a:noFill/>
            <a:ln w="57240">
              <a:solidFill>
                <a:srgbClr val="ff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Line 6"/>
            <p:cNvSpPr/>
            <p:nvPr/>
          </p:nvSpPr>
          <p:spPr>
            <a:xfrm>
              <a:off x="253800" y="788760"/>
              <a:ext cx="401040" cy="901800"/>
            </a:xfrm>
            <a:prstGeom prst="line">
              <a:avLst/>
            </a:prstGeom>
            <a:ln w="7632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Freeform 7"/>
            <p:cNvSpPr/>
            <p:nvPr/>
          </p:nvSpPr>
          <p:spPr>
            <a:xfrm>
              <a:off x="663840" y="1521360"/>
              <a:ext cx="879480" cy="250200"/>
            </a:xfrm>
            <a:custGeom>
              <a:avLst/>
              <a:gdLst>
                <a:gd name="textAreaLeft" fmla="*/ 0 w 879480"/>
                <a:gd name="textAreaRight" fmla="*/ 879840 w 879480"/>
                <a:gd name="textAreaTop" fmla="*/ 0 h 250200"/>
                <a:gd name="textAreaBottom" fmla="*/ 250200 h 250200"/>
              </a:gdLst>
              <a:ahLst/>
              <a:rect l="textAreaLeft" t="textAreaTop" r="textAreaRight" b="textAreaBottom"/>
              <a:pathLst>
                <a:path w="2487" h="642">
                  <a:moveTo>
                    <a:pt x="0" y="462"/>
                  </a:moveTo>
                  <a:cubicBezTo>
                    <a:pt x="37" y="453"/>
                    <a:pt x="51" y="446"/>
                    <a:pt x="72" y="414"/>
                  </a:cubicBezTo>
                  <a:cubicBezTo>
                    <a:pt x="91" y="339"/>
                    <a:pt x="135" y="396"/>
                    <a:pt x="192" y="358"/>
                  </a:cubicBezTo>
                  <a:cubicBezTo>
                    <a:pt x="220" y="316"/>
                    <a:pt x="252" y="279"/>
                    <a:pt x="280" y="238"/>
                  </a:cubicBezTo>
                  <a:cubicBezTo>
                    <a:pt x="290" y="66"/>
                    <a:pt x="257" y="91"/>
                    <a:pt x="400" y="78"/>
                  </a:cubicBezTo>
                  <a:cubicBezTo>
                    <a:pt x="405" y="70"/>
                    <a:pt x="412" y="63"/>
                    <a:pt x="416" y="54"/>
                  </a:cubicBezTo>
                  <a:cubicBezTo>
                    <a:pt x="423" y="39"/>
                    <a:pt x="432" y="6"/>
                    <a:pt x="432" y="6"/>
                  </a:cubicBezTo>
                  <a:cubicBezTo>
                    <a:pt x="461" y="9"/>
                    <a:pt x="494" y="0"/>
                    <a:pt x="520" y="14"/>
                  </a:cubicBezTo>
                  <a:cubicBezTo>
                    <a:pt x="558" y="34"/>
                    <a:pt x="519" y="87"/>
                    <a:pt x="568" y="102"/>
                  </a:cubicBezTo>
                  <a:cubicBezTo>
                    <a:pt x="586" y="107"/>
                    <a:pt x="605" y="107"/>
                    <a:pt x="624" y="110"/>
                  </a:cubicBezTo>
                  <a:cubicBezTo>
                    <a:pt x="621" y="131"/>
                    <a:pt x="616" y="153"/>
                    <a:pt x="616" y="174"/>
                  </a:cubicBezTo>
                  <a:cubicBezTo>
                    <a:pt x="616" y="347"/>
                    <a:pt x="616" y="278"/>
                    <a:pt x="832" y="286"/>
                  </a:cubicBezTo>
                  <a:cubicBezTo>
                    <a:pt x="848" y="642"/>
                    <a:pt x="860" y="478"/>
                    <a:pt x="1392" y="486"/>
                  </a:cubicBezTo>
                  <a:cubicBezTo>
                    <a:pt x="1453" y="527"/>
                    <a:pt x="1531" y="510"/>
                    <a:pt x="1600" y="502"/>
                  </a:cubicBezTo>
                  <a:cubicBezTo>
                    <a:pt x="1610" y="471"/>
                    <a:pt x="1630" y="469"/>
                    <a:pt x="1640" y="438"/>
                  </a:cubicBezTo>
                  <a:cubicBezTo>
                    <a:pt x="1656" y="314"/>
                    <a:pt x="1694" y="365"/>
                    <a:pt x="1856" y="358"/>
                  </a:cubicBezTo>
                  <a:cubicBezTo>
                    <a:pt x="1908" y="332"/>
                    <a:pt x="1932" y="319"/>
                    <a:pt x="1992" y="310"/>
                  </a:cubicBezTo>
                  <a:cubicBezTo>
                    <a:pt x="2079" y="281"/>
                    <a:pt x="2168" y="308"/>
                    <a:pt x="2256" y="318"/>
                  </a:cubicBezTo>
                  <a:cubicBezTo>
                    <a:pt x="2259" y="326"/>
                    <a:pt x="2257" y="338"/>
                    <a:pt x="2264" y="342"/>
                  </a:cubicBezTo>
                  <a:cubicBezTo>
                    <a:pt x="2278" y="350"/>
                    <a:pt x="2296" y="346"/>
                    <a:pt x="2312" y="350"/>
                  </a:cubicBezTo>
                  <a:cubicBezTo>
                    <a:pt x="2337" y="356"/>
                    <a:pt x="2338" y="360"/>
                    <a:pt x="2360" y="374"/>
                  </a:cubicBezTo>
                  <a:cubicBezTo>
                    <a:pt x="2365" y="390"/>
                    <a:pt x="2371" y="406"/>
                    <a:pt x="2376" y="422"/>
                  </a:cubicBezTo>
                  <a:cubicBezTo>
                    <a:pt x="2381" y="437"/>
                    <a:pt x="2377" y="455"/>
                    <a:pt x="2384" y="470"/>
                  </a:cubicBezTo>
                  <a:cubicBezTo>
                    <a:pt x="2392" y="486"/>
                    <a:pt x="2428" y="491"/>
                    <a:pt x="2440" y="494"/>
                  </a:cubicBezTo>
                  <a:cubicBezTo>
                    <a:pt x="2444" y="516"/>
                    <a:pt x="2440" y="542"/>
                    <a:pt x="2456" y="558"/>
                  </a:cubicBezTo>
                  <a:cubicBezTo>
                    <a:pt x="2462" y="564"/>
                    <a:pt x="2478" y="558"/>
                    <a:pt x="2480" y="566"/>
                  </a:cubicBezTo>
                  <a:cubicBezTo>
                    <a:pt x="2487" y="589"/>
                    <a:pt x="2480" y="614"/>
                    <a:pt x="2480" y="638"/>
                  </a:cubicBezTo>
                </a:path>
              </a:pathLst>
            </a:custGeom>
            <a:noFill/>
            <a:ln w="76320">
              <a:solidFill>
                <a:srgbClr val="ff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Freeform 8"/>
            <p:cNvSpPr/>
            <p:nvPr/>
          </p:nvSpPr>
          <p:spPr>
            <a:xfrm>
              <a:off x="1547640" y="1041840"/>
              <a:ext cx="682920" cy="715680"/>
            </a:xfrm>
            <a:custGeom>
              <a:avLst/>
              <a:gdLst>
                <a:gd name="textAreaLeft" fmla="*/ 0 w 682920"/>
                <a:gd name="textAreaRight" fmla="*/ 683280 w 682920"/>
                <a:gd name="textAreaTop" fmla="*/ 0 h 715680"/>
                <a:gd name="textAreaBottom" fmla="*/ 716040 h 715680"/>
              </a:gdLst>
              <a:ahLst/>
              <a:rect l="textAreaLeft" t="textAreaTop" r="textAreaRight" b="textAreaBottom"/>
              <a:pathLst>
                <a:path w="1931" h="1837">
                  <a:moveTo>
                    <a:pt x="46" y="1837"/>
                  </a:moveTo>
                  <a:cubicBezTo>
                    <a:pt x="143" y="1831"/>
                    <a:pt x="169" y="1828"/>
                    <a:pt x="246" y="1813"/>
                  </a:cubicBezTo>
                  <a:cubicBezTo>
                    <a:pt x="251" y="1805"/>
                    <a:pt x="259" y="1798"/>
                    <a:pt x="262" y="1789"/>
                  </a:cubicBezTo>
                  <a:cubicBezTo>
                    <a:pt x="267" y="1771"/>
                    <a:pt x="260" y="1749"/>
                    <a:pt x="270" y="1733"/>
                  </a:cubicBezTo>
                  <a:cubicBezTo>
                    <a:pt x="280" y="1717"/>
                    <a:pt x="318" y="1701"/>
                    <a:pt x="318" y="1701"/>
                  </a:cubicBezTo>
                  <a:cubicBezTo>
                    <a:pt x="323" y="1693"/>
                    <a:pt x="333" y="1687"/>
                    <a:pt x="334" y="1677"/>
                  </a:cubicBezTo>
                  <a:cubicBezTo>
                    <a:pt x="341" y="1610"/>
                    <a:pt x="317" y="1617"/>
                    <a:pt x="270" y="1605"/>
                  </a:cubicBezTo>
                  <a:cubicBezTo>
                    <a:pt x="267" y="1581"/>
                    <a:pt x="273" y="1555"/>
                    <a:pt x="262" y="1533"/>
                  </a:cubicBezTo>
                  <a:cubicBezTo>
                    <a:pt x="257" y="1523"/>
                    <a:pt x="241" y="1528"/>
                    <a:pt x="230" y="1525"/>
                  </a:cubicBezTo>
                  <a:cubicBezTo>
                    <a:pt x="166" y="1506"/>
                    <a:pt x="101" y="1490"/>
                    <a:pt x="38" y="1469"/>
                  </a:cubicBezTo>
                  <a:cubicBezTo>
                    <a:pt x="23" y="1447"/>
                    <a:pt x="0" y="1417"/>
                    <a:pt x="22" y="1389"/>
                  </a:cubicBezTo>
                  <a:cubicBezTo>
                    <a:pt x="27" y="1382"/>
                    <a:pt x="38" y="1385"/>
                    <a:pt x="46" y="1381"/>
                  </a:cubicBezTo>
                  <a:cubicBezTo>
                    <a:pt x="55" y="1377"/>
                    <a:pt x="62" y="1370"/>
                    <a:pt x="70" y="1365"/>
                  </a:cubicBezTo>
                  <a:cubicBezTo>
                    <a:pt x="123" y="1383"/>
                    <a:pt x="76" y="1376"/>
                    <a:pt x="110" y="1301"/>
                  </a:cubicBezTo>
                  <a:cubicBezTo>
                    <a:pt x="115" y="1289"/>
                    <a:pt x="147" y="1280"/>
                    <a:pt x="158" y="1277"/>
                  </a:cubicBezTo>
                  <a:cubicBezTo>
                    <a:pt x="192" y="1267"/>
                    <a:pt x="230" y="1269"/>
                    <a:pt x="262" y="1253"/>
                  </a:cubicBezTo>
                  <a:cubicBezTo>
                    <a:pt x="314" y="1227"/>
                    <a:pt x="257" y="1248"/>
                    <a:pt x="310" y="1213"/>
                  </a:cubicBezTo>
                  <a:cubicBezTo>
                    <a:pt x="370" y="1173"/>
                    <a:pt x="286" y="1269"/>
                    <a:pt x="382" y="1173"/>
                  </a:cubicBezTo>
                  <a:cubicBezTo>
                    <a:pt x="403" y="1152"/>
                    <a:pt x="425" y="1127"/>
                    <a:pt x="454" y="1117"/>
                  </a:cubicBezTo>
                  <a:cubicBezTo>
                    <a:pt x="505" y="1100"/>
                    <a:pt x="548" y="1078"/>
                    <a:pt x="598" y="1061"/>
                  </a:cubicBezTo>
                  <a:cubicBezTo>
                    <a:pt x="641" y="1047"/>
                    <a:pt x="689" y="1056"/>
                    <a:pt x="734" y="1053"/>
                  </a:cubicBezTo>
                  <a:cubicBezTo>
                    <a:pt x="798" y="1010"/>
                    <a:pt x="721" y="1066"/>
                    <a:pt x="774" y="1013"/>
                  </a:cubicBezTo>
                  <a:cubicBezTo>
                    <a:pt x="801" y="986"/>
                    <a:pt x="793" y="1005"/>
                    <a:pt x="822" y="989"/>
                  </a:cubicBezTo>
                  <a:cubicBezTo>
                    <a:pt x="874" y="960"/>
                    <a:pt x="924" y="919"/>
                    <a:pt x="966" y="877"/>
                  </a:cubicBezTo>
                  <a:cubicBezTo>
                    <a:pt x="970" y="855"/>
                    <a:pt x="979" y="835"/>
                    <a:pt x="982" y="813"/>
                  </a:cubicBezTo>
                  <a:cubicBezTo>
                    <a:pt x="987" y="773"/>
                    <a:pt x="969" y="722"/>
                    <a:pt x="998" y="693"/>
                  </a:cubicBezTo>
                  <a:cubicBezTo>
                    <a:pt x="1012" y="679"/>
                    <a:pt x="1030" y="672"/>
                    <a:pt x="1046" y="661"/>
                  </a:cubicBezTo>
                  <a:cubicBezTo>
                    <a:pt x="1079" y="639"/>
                    <a:pt x="1091" y="618"/>
                    <a:pt x="1110" y="589"/>
                  </a:cubicBezTo>
                  <a:cubicBezTo>
                    <a:pt x="1117" y="531"/>
                    <a:pt x="1112" y="511"/>
                    <a:pt x="1166" y="493"/>
                  </a:cubicBezTo>
                  <a:cubicBezTo>
                    <a:pt x="1303" y="510"/>
                    <a:pt x="1449" y="529"/>
                    <a:pt x="1582" y="485"/>
                  </a:cubicBezTo>
                  <a:cubicBezTo>
                    <a:pt x="1611" y="456"/>
                    <a:pt x="1633" y="427"/>
                    <a:pt x="1646" y="389"/>
                  </a:cubicBezTo>
                  <a:cubicBezTo>
                    <a:pt x="1641" y="324"/>
                    <a:pt x="1656" y="286"/>
                    <a:pt x="1606" y="253"/>
                  </a:cubicBezTo>
                  <a:cubicBezTo>
                    <a:pt x="1587" y="196"/>
                    <a:pt x="1599" y="219"/>
                    <a:pt x="1574" y="181"/>
                  </a:cubicBezTo>
                  <a:cubicBezTo>
                    <a:pt x="1577" y="160"/>
                    <a:pt x="1565" y="131"/>
                    <a:pt x="1582" y="117"/>
                  </a:cubicBezTo>
                  <a:cubicBezTo>
                    <a:pt x="1603" y="100"/>
                    <a:pt x="1637" y="117"/>
                    <a:pt x="1662" y="109"/>
                  </a:cubicBezTo>
                  <a:cubicBezTo>
                    <a:pt x="1687" y="101"/>
                    <a:pt x="1683" y="45"/>
                    <a:pt x="1694" y="29"/>
                  </a:cubicBezTo>
                  <a:cubicBezTo>
                    <a:pt x="1703" y="16"/>
                    <a:pt x="1728" y="10"/>
                    <a:pt x="1742" y="5"/>
                  </a:cubicBezTo>
                  <a:cubicBezTo>
                    <a:pt x="1771" y="8"/>
                    <a:pt x="1804" y="0"/>
                    <a:pt x="1830" y="13"/>
                  </a:cubicBezTo>
                  <a:cubicBezTo>
                    <a:pt x="1931" y="63"/>
                    <a:pt x="1753" y="53"/>
                    <a:pt x="1870" y="53"/>
                  </a:cubicBezTo>
                </a:path>
              </a:pathLst>
            </a:custGeom>
            <a:noFill/>
            <a:ln w="57240">
              <a:solidFill>
                <a:srgbClr val="ff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0" name="Прямоугольник 7"/>
          <p:cNvSpPr/>
          <p:nvPr/>
        </p:nvSpPr>
        <p:spPr>
          <a:xfrm>
            <a:off x="2286000" y="-243000"/>
            <a:ext cx="6678720" cy="64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писок используемых источни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ремин, А.А. Демографическая ситуация в Алтайском крае а начале </a:t>
            </a:r>
            <a:r>
              <a:rPr b="1" lang="en-US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XXI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века. А.А Еремин Известия Алтайского государственного университета. – 2010. - № 3/1 (67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ремин, А.А. Динамика численности городского и сельского населения Алтайского края на современном этап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ремин, А.А. к вопросу о возможной будущей динамике численности населения городов и районов Алтайского края до 2013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ремин, А.А. Прогнозирование численности населения городов и районов Алтайского края до 2013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ремин, А.А. Оценка демографической политики российской Федерации и Алтайского кра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1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1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1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1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1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Oval 2"/>
          <p:cNvSpPr/>
          <p:nvPr/>
        </p:nvSpPr>
        <p:spPr>
          <a:xfrm>
            <a:off x="395280" y="3284640"/>
            <a:ext cx="1295280" cy="1224000"/>
          </a:xfrm>
          <a:prstGeom prst="ellipse">
            <a:avLst/>
          </a:prstGeom>
          <a:gradFill rotWithShape="0">
            <a:gsLst>
              <a:gs pos="0">
                <a:srgbClr val="ff9900"/>
              </a:gs>
              <a:gs pos="100000">
                <a:srgbClr val="7647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omic Sans MS"/>
              </a:rPr>
              <a:t>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Oval 3"/>
          <p:cNvSpPr/>
          <p:nvPr/>
        </p:nvSpPr>
        <p:spPr>
          <a:xfrm>
            <a:off x="1116000" y="1989000"/>
            <a:ext cx="1297080" cy="1224000"/>
          </a:xfrm>
          <a:prstGeom prst="ellipse">
            <a:avLst/>
          </a:prstGeom>
          <a:gradFill rotWithShape="0">
            <a:gsLst>
              <a:gs pos="0">
                <a:srgbClr val="bbe0e3"/>
              </a:gs>
              <a:gs pos="100000">
                <a:srgbClr val="57686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omic Sans MS"/>
              </a:rPr>
              <a:t>п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Oval 4"/>
          <p:cNvSpPr/>
          <p:nvPr/>
        </p:nvSpPr>
        <p:spPr>
          <a:xfrm>
            <a:off x="2411280" y="1197000"/>
            <a:ext cx="1297080" cy="1224000"/>
          </a:xfrm>
          <a:prstGeom prst="ellipse">
            <a:avLst/>
          </a:prstGeom>
          <a:gradFill rotWithShape="0">
            <a:gsLst>
              <a:gs pos="0">
                <a:srgbClr val="ff00ff"/>
              </a:gs>
              <a:gs pos="100000">
                <a:srgbClr val="76007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Oval 5"/>
          <p:cNvSpPr/>
          <p:nvPr/>
        </p:nvSpPr>
        <p:spPr>
          <a:xfrm>
            <a:off x="3924360" y="907920"/>
            <a:ext cx="1295280" cy="1224000"/>
          </a:xfrm>
          <a:prstGeom prst="ellipse">
            <a:avLst/>
          </a:prstGeom>
          <a:gradFill rotWithShape="0">
            <a:gsLst>
              <a:gs pos="0">
                <a:srgbClr val="00ffff"/>
              </a:gs>
              <a:gs pos="100000">
                <a:srgbClr val="00767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omic Sans MS"/>
              </a:rPr>
              <a:t>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Oval 6"/>
          <p:cNvSpPr/>
          <p:nvPr/>
        </p:nvSpPr>
        <p:spPr>
          <a:xfrm>
            <a:off x="5435640" y="1052640"/>
            <a:ext cx="1224000" cy="136836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100000">
                <a:srgbClr val="00474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omic Sans MS"/>
              </a:rPr>
              <a:t>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Oval 7"/>
          <p:cNvSpPr/>
          <p:nvPr/>
        </p:nvSpPr>
        <p:spPr>
          <a:xfrm>
            <a:off x="7451640" y="3068640"/>
            <a:ext cx="1295640" cy="1224000"/>
          </a:xfrm>
          <a:prstGeom prst="ellipse">
            <a:avLst/>
          </a:prstGeom>
          <a:gradFill rotWithShape="0">
            <a:gsLst>
              <a:gs pos="0">
                <a:srgbClr val="3399ff"/>
              </a:gs>
              <a:gs pos="100000">
                <a:srgbClr val="18477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omic Sans MS"/>
              </a:rPr>
              <a:t>о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Oval 8"/>
          <p:cNvSpPr/>
          <p:nvPr/>
        </p:nvSpPr>
        <p:spPr>
          <a:xfrm>
            <a:off x="6659640" y="1773360"/>
            <a:ext cx="1224000" cy="122400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475e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omic Sans MS"/>
              </a:rPr>
              <a:t>б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Text Box 9"/>
          <p:cNvSpPr/>
          <p:nvPr/>
        </p:nvSpPr>
        <p:spPr>
          <a:xfrm>
            <a:off x="3070800" y="4724280"/>
            <a:ext cx="3050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omic Sans MS"/>
              </a:rPr>
              <a:t>В С Е М !!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4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54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6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6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7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8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8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1" name="Group 3"/>
          <p:cNvGrpSpPr/>
          <p:nvPr/>
        </p:nvGrpSpPr>
        <p:grpSpPr>
          <a:xfrm>
            <a:off x="250920" y="404640"/>
            <a:ext cx="1979640" cy="1366920"/>
            <a:chOff x="250920" y="404640"/>
            <a:chExt cx="1979640" cy="1366920"/>
          </a:xfrm>
        </p:grpSpPr>
        <p:sp>
          <p:nvSpPr>
            <p:cNvPr id="992" name="Freeform 4"/>
            <p:cNvSpPr/>
            <p:nvPr/>
          </p:nvSpPr>
          <p:spPr>
            <a:xfrm>
              <a:off x="250920" y="407520"/>
              <a:ext cx="1502640" cy="308880"/>
            </a:xfrm>
            <a:custGeom>
              <a:avLst/>
              <a:gdLst>
                <a:gd name="textAreaLeft" fmla="*/ 0 w 1502640"/>
                <a:gd name="textAreaRight" fmla="*/ 1503000 w 1502640"/>
                <a:gd name="textAreaTop" fmla="*/ 0 h 308880"/>
                <a:gd name="textAreaBottom" fmla="*/ 308880 h 308880"/>
              </a:gdLst>
              <a:ahLst/>
              <a:rect l="textAreaLeft" t="textAreaTop" r="textAreaRight" b="textAreaBottom"/>
              <a:pathLst>
                <a:path w="4248" h="793">
                  <a:moveTo>
                    <a:pt x="0" y="704"/>
                  </a:moveTo>
                  <a:cubicBezTo>
                    <a:pt x="29" y="701"/>
                    <a:pt x="60" y="704"/>
                    <a:pt x="88" y="696"/>
                  </a:cubicBezTo>
                  <a:cubicBezTo>
                    <a:pt x="101" y="692"/>
                    <a:pt x="166" y="598"/>
                    <a:pt x="104" y="680"/>
                  </a:cubicBezTo>
                  <a:cubicBezTo>
                    <a:pt x="161" y="699"/>
                    <a:pt x="146" y="663"/>
                    <a:pt x="192" y="648"/>
                  </a:cubicBezTo>
                  <a:cubicBezTo>
                    <a:pt x="205" y="651"/>
                    <a:pt x="224" y="645"/>
                    <a:pt x="232" y="656"/>
                  </a:cubicBezTo>
                  <a:cubicBezTo>
                    <a:pt x="248" y="678"/>
                    <a:pt x="239" y="710"/>
                    <a:pt x="248" y="736"/>
                  </a:cubicBezTo>
                  <a:cubicBezTo>
                    <a:pt x="407" y="730"/>
                    <a:pt x="452" y="787"/>
                    <a:pt x="488" y="680"/>
                  </a:cubicBezTo>
                  <a:cubicBezTo>
                    <a:pt x="520" y="453"/>
                    <a:pt x="471" y="670"/>
                    <a:pt x="1000" y="616"/>
                  </a:cubicBezTo>
                  <a:cubicBezTo>
                    <a:pt x="1023" y="614"/>
                    <a:pt x="1062" y="547"/>
                    <a:pt x="1096" y="536"/>
                  </a:cubicBezTo>
                  <a:cubicBezTo>
                    <a:pt x="1115" y="508"/>
                    <a:pt x="1139" y="459"/>
                    <a:pt x="1168" y="440"/>
                  </a:cubicBezTo>
                  <a:cubicBezTo>
                    <a:pt x="1200" y="419"/>
                    <a:pt x="1276" y="419"/>
                    <a:pt x="1304" y="416"/>
                  </a:cubicBezTo>
                  <a:cubicBezTo>
                    <a:pt x="1327" y="381"/>
                    <a:pt x="1326" y="301"/>
                    <a:pt x="1360" y="296"/>
                  </a:cubicBezTo>
                  <a:cubicBezTo>
                    <a:pt x="1405" y="289"/>
                    <a:pt x="1451" y="291"/>
                    <a:pt x="1496" y="288"/>
                  </a:cubicBezTo>
                  <a:cubicBezTo>
                    <a:pt x="1538" y="274"/>
                    <a:pt x="1525" y="252"/>
                    <a:pt x="1560" y="232"/>
                  </a:cubicBezTo>
                  <a:cubicBezTo>
                    <a:pt x="1584" y="218"/>
                    <a:pt x="1614" y="217"/>
                    <a:pt x="1640" y="208"/>
                  </a:cubicBezTo>
                  <a:cubicBezTo>
                    <a:pt x="1648" y="205"/>
                    <a:pt x="1664" y="200"/>
                    <a:pt x="1664" y="200"/>
                  </a:cubicBezTo>
                  <a:cubicBezTo>
                    <a:pt x="1680" y="184"/>
                    <a:pt x="1696" y="168"/>
                    <a:pt x="1712" y="152"/>
                  </a:cubicBezTo>
                  <a:cubicBezTo>
                    <a:pt x="1720" y="144"/>
                    <a:pt x="1736" y="128"/>
                    <a:pt x="1736" y="128"/>
                  </a:cubicBezTo>
                  <a:cubicBezTo>
                    <a:pt x="1760" y="55"/>
                    <a:pt x="1725" y="69"/>
                    <a:pt x="1824" y="80"/>
                  </a:cubicBezTo>
                  <a:cubicBezTo>
                    <a:pt x="1835" y="83"/>
                    <a:pt x="1849" y="80"/>
                    <a:pt x="1856" y="88"/>
                  </a:cubicBezTo>
                  <a:cubicBezTo>
                    <a:pt x="1867" y="100"/>
                    <a:pt x="1878" y="182"/>
                    <a:pt x="1888" y="192"/>
                  </a:cubicBezTo>
                  <a:cubicBezTo>
                    <a:pt x="1896" y="200"/>
                    <a:pt x="1909" y="197"/>
                    <a:pt x="1920" y="200"/>
                  </a:cubicBezTo>
                  <a:cubicBezTo>
                    <a:pt x="1949" y="208"/>
                    <a:pt x="1942" y="206"/>
                    <a:pt x="1968" y="224"/>
                  </a:cubicBezTo>
                  <a:cubicBezTo>
                    <a:pt x="1971" y="232"/>
                    <a:pt x="1976" y="240"/>
                    <a:pt x="1976" y="248"/>
                  </a:cubicBezTo>
                  <a:cubicBezTo>
                    <a:pt x="1976" y="256"/>
                    <a:pt x="1965" y="264"/>
                    <a:pt x="1968" y="272"/>
                  </a:cubicBezTo>
                  <a:cubicBezTo>
                    <a:pt x="1979" y="299"/>
                    <a:pt x="2066" y="294"/>
                    <a:pt x="2088" y="296"/>
                  </a:cubicBezTo>
                  <a:cubicBezTo>
                    <a:pt x="2134" y="307"/>
                    <a:pt x="2178" y="325"/>
                    <a:pt x="2224" y="336"/>
                  </a:cubicBezTo>
                  <a:cubicBezTo>
                    <a:pt x="2244" y="377"/>
                    <a:pt x="2265" y="385"/>
                    <a:pt x="2296" y="416"/>
                  </a:cubicBezTo>
                  <a:cubicBezTo>
                    <a:pt x="2332" y="452"/>
                    <a:pt x="2289" y="432"/>
                    <a:pt x="2336" y="448"/>
                  </a:cubicBezTo>
                  <a:cubicBezTo>
                    <a:pt x="2341" y="464"/>
                    <a:pt x="2347" y="480"/>
                    <a:pt x="2352" y="496"/>
                  </a:cubicBezTo>
                  <a:cubicBezTo>
                    <a:pt x="2355" y="504"/>
                    <a:pt x="2360" y="520"/>
                    <a:pt x="2360" y="520"/>
                  </a:cubicBezTo>
                  <a:cubicBezTo>
                    <a:pt x="2354" y="538"/>
                    <a:pt x="2325" y="612"/>
                    <a:pt x="2352" y="624"/>
                  </a:cubicBezTo>
                  <a:cubicBezTo>
                    <a:pt x="2389" y="640"/>
                    <a:pt x="2432" y="629"/>
                    <a:pt x="2472" y="632"/>
                  </a:cubicBezTo>
                  <a:cubicBezTo>
                    <a:pt x="2488" y="637"/>
                    <a:pt x="2504" y="643"/>
                    <a:pt x="2520" y="648"/>
                  </a:cubicBezTo>
                  <a:cubicBezTo>
                    <a:pt x="2528" y="651"/>
                    <a:pt x="2544" y="656"/>
                    <a:pt x="2544" y="656"/>
                  </a:cubicBezTo>
                  <a:cubicBezTo>
                    <a:pt x="2572" y="677"/>
                    <a:pt x="2591" y="701"/>
                    <a:pt x="2624" y="712"/>
                  </a:cubicBezTo>
                  <a:cubicBezTo>
                    <a:pt x="2642" y="785"/>
                    <a:pt x="2622" y="764"/>
                    <a:pt x="2664" y="792"/>
                  </a:cubicBezTo>
                  <a:cubicBezTo>
                    <a:pt x="2707" y="789"/>
                    <a:pt x="2750" y="793"/>
                    <a:pt x="2792" y="784"/>
                  </a:cubicBezTo>
                  <a:cubicBezTo>
                    <a:pt x="2819" y="778"/>
                    <a:pt x="2832" y="712"/>
                    <a:pt x="2832" y="712"/>
                  </a:cubicBezTo>
                  <a:cubicBezTo>
                    <a:pt x="2839" y="646"/>
                    <a:pt x="2839" y="590"/>
                    <a:pt x="2896" y="552"/>
                  </a:cubicBezTo>
                  <a:cubicBezTo>
                    <a:pt x="2916" y="522"/>
                    <a:pt x="2946" y="476"/>
                    <a:pt x="2976" y="456"/>
                  </a:cubicBezTo>
                  <a:cubicBezTo>
                    <a:pt x="2989" y="447"/>
                    <a:pt x="3042" y="441"/>
                    <a:pt x="3048" y="440"/>
                  </a:cubicBezTo>
                  <a:cubicBezTo>
                    <a:pt x="3064" y="429"/>
                    <a:pt x="3080" y="419"/>
                    <a:pt x="3096" y="408"/>
                  </a:cubicBezTo>
                  <a:cubicBezTo>
                    <a:pt x="3106" y="401"/>
                    <a:pt x="3072" y="416"/>
                    <a:pt x="3064" y="424"/>
                  </a:cubicBezTo>
                  <a:cubicBezTo>
                    <a:pt x="3058" y="430"/>
                    <a:pt x="3081" y="421"/>
                    <a:pt x="3088" y="416"/>
                  </a:cubicBezTo>
                  <a:cubicBezTo>
                    <a:pt x="3096" y="411"/>
                    <a:pt x="3105" y="407"/>
                    <a:pt x="3112" y="400"/>
                  </a:cubicBezTo>
                  <a:cubicBezTo>
                    <a:pt x="3152" y="360"/>
                    <a:pt x="3125" y="379"/>
                    <a:pt x="3200" y="360"/>
                  </a:cubicBezTo>
                  <a:cubicBezTo>
                    <a:pt x="3211" y="357"/>
                    <a:pt x="3232" y="352"/>
                    <a:pt x="3232" y="352"/>
                  </a:cubicBezTo>
                  <a:cubicBezTo>
                    <a:pt x="3251" y="408"/>
                    <a:pt x="3307" y="331"/>
                    <a:pt x="3336" y="312"/>
                  </a:cubicBezTo>
                  <a:cubicBezTo>
                    <a:pt x="3440" y="242"/>
                    <a:pt x="3587" y="307"/>
                    <a:pt x="3712" y="304"/>
                  </a:cubicBezTo>
                  <a:cubicBezTo>
                    <a:pt x="3769" y="266"/>
                    <a:pt x="3829" y="263"/>
                    <a:pt x="3896" y="256"/>
                  </a:cubicBezTo>
                  <a:cubicBezTo>
                    <a:pt x="3908" y="221"/>
                    <a:pt x="3909" y="203"/>
                    <a:pt x="3936" y="176"/>
                  </a:cubicBezTo>
                  <a:cubicBezTo>
                    <a:pt x="3925" y="160"/>
                    <a:pt x="3908" y="147"/>
                    <a:pt x="3904" y="128"/>
                  </a:cubicBezTo>
                  <a:cubicBezTo>
                    <a:pt x="3900" y="108"/>
                    <a:pt x="3933" y="97"/>
                    <a:pt x="3944" y="96"/>
                  </a:cubicBezTo>
                  <a:cubicBezTo>
                    <a:pt x="3989" y="91"/>
                    <a:pt x="4035" y="91"/>
                    <a:pt x="4080" y="88"/>
                  </a:cubicBezTo>
                  <a:cubicBezTo>
                    <a:pt x="4168" y="73"/>
                    <a:pt x="4182" y="66"/>
                    <a:pt x="4248" y="0"/>
                  </a:cubicBezTo>
                </a:path>
              </a:pathLst>
            </a:custGeom>
            <a:noFill/>
            <a:ln w="57240">
              <a:solidFill>
                <a:srgbClr val="ff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Freeform 5"/>
            <p:cNvSpPr/>
            <p:nvPr/>
          </p:nvSpPr>
          <p:spPr>
            <a:xfrm>
              <a:off x="1760040" y="404640"/>
              <a:ext cx="465840" cy="649080"/>
            </a:xfrm>
            <a:custGeom>
              <a:avLst/>
              <a:gdLst>
                <a:gd name="textAreaLeft" fmla="*/ 0 w 465840"/>
                <a:gd name="textAreaRight" fmla="*/ 466200 w 465840"/>
                <a:gd name="textAreaTop" fmla="*/ 0 h 649080"/>
                <a:gd name="textAreaBottom" fmla="*/ 649080 h 649080"/>
              </a:gdLst>
              <a:ahLst/>
              <a:rect l="textAreaLeft" t="textAreaTop" r="textAreaRight" b="textAreaBottom"/>
              <a:pathLst>
                <a:path w="1317" h="1666">
                  <a:moveTo>
                    <a:pt x="5" y="0"/>
                  </a:moveTo>
                  <a:cubicBezTo>
                    <a:pt x="8" y="24"/>
                    <a:pt x="0" y="52"/>
                    <a:pt x="13" y="72"/>
                  </a:cubicBezTo>
                  <a:cubicBezTo>
                    <a:pt x="22" y="86"/>
                    <a:pt x="61" y="88"/>
                    <a:pt x="61" y="88"/>
                  </a:cubicBezTo>
                  <a:cubicBezTo>
                    <a:pt x="67" y="106"/>
                    <a:pt x="90" y="155"/>
                    <a:pt x="101" y="168"/>
                  </a:cubicBezTo>
                  <a:cubicBezTo>
                    <a:pt x="123" y="195"/>
                    <a:pt x="268" y="205"/>
                    <a:pt x="301" y="208"/>
                  </a:cubicBezTo>
                  <a:cubicBezTo>
                    <a:pt x="298" y="216"/>
                    <a:pt x="290" y="224"/>
                    <a:pt x="293" y="232"/>
                  </a:cubicBezTo>
                  <a:cubicBezTo>
                    <a:pt x="297" y="241"/>
                    <a:pt x="311" y="241"/>
                    <a:pt x="317" y="248"/>
                  </a:cubicBezTo>
                  <a:cubicBezTo>
                    <a:pt x="330" y="262"/>
                    <a:pt x="331" y="290"/>
                    <a:pt x="349" y="296"/>
                  </a:cubicBezTo>
                  <a:cubicBezTo>
                    <a:pt x="365" y="301"/>
                    <a:pt x="397" y="312"/>
                    <a:pt x="397" y="312"/>
                  </a:cubicBezTo>
                  <a:cubicBezTo>
                    <a:pt x="417" y="392"/>
                    <a:pt x="387" y="310"/>
                    <a:pt x="429" y="352"/>
                  </a:cubicBezTo>
                  <a:cubicBezTo>
                    <a:pt x="435" y="358"/>
                    <a:pt x="431" y="370"/>
                    <a:pt x="437" y="376"/>
                  </a:cubicBezTo>
                  <a:cubicBezTo>
                    <a:pt x="460" y="399"/>
                    <a:pt x="501" y="388"/>
                    <a:pt x="533" y="392"/>
                  </a:cubicBezTo>
                  <a:cubicBezTo>
                    <a:pt x="588" y="429"/>
                    <a:pt x="563" y="418"/>
                    <a:pt x="605" y="432"/>
                  </a:cubicBezTo>
                  <a:cubicBezTo>
                    <a:pt x="618" y="452"/>
                    <a:pt x="624" y="456"/>
                    <a:pt x="629" y="480"/>
                  </a:cubicBezTo>
                  <a:cubicBezTo>
                    <a:pt x="633" y="498"/>
                    <a:pt x="625" y="522"/>
                    <a:pt x="637" y="536"/>
                  </a:cubicBezTo>
                  <a:cubicBezTo>
                    <a:pt x="648" y="548"/>
                    <a:pt x="669" y="541"/>
                    <a:pt x="685" y="544"/>
                  </a:cubicBezTo>
                  <a:cubicBezTo>
                    <a:pt x="694" y="595"/>
                    <a:pt x="711" y="694"/>
                    <a:pt x="765" y="712"/>
                  </a:cubicBezTo>
                  <a:cubicBezTo>
                    <a:pt x="792" y="822"/>
                    <a:pt x="1029" y="804"/>
                    <a:pt x="1101" y="808"/>
                  </a:cubicBezTo>
                  <a:cubicBezTo>
                    <a:pt x="1095" y="840"/>
                    <a:pt x="1092" y="872"/>
                    <a:pt x="1085" y="904"/>
                  </a:cubicBezTo>
                  <a:cubicBezTo>
                    <a:pt x="1081" y="920"/>
                    <a:pt x="1083" y="943"/>
                    <a:pt x="1069" y="952"/>
                  </a:cubicBezTo>
                  <a:cubicBezTo>
                    <a:pt x="1027" y="980"/>
                    <a:pt x="997" y="1016"/>
                    <a:pt x="981" y="1064"/>
                  </a:cubicBezTo>
                  <a:cubicBezTo>
                    <a:pt x="993" y="1220"/>
                    <a:pt x="978" y="1182"/>
                    <a:pt x="1149" y="1192"/>
                  </a:cubicBezTo>
                  <a:cubicBezTo>
                    <a:pt x="1221" y="1240"/>
                    <a:pt x="1191" y="1277"/>
                    <a:pt x="1181" y="1384"/>
                  </a:cubicBezTo>
                  <a:cubicBezTo>
                    <a:pt x="1178" y="1412"/>
                    <a:pt x="1168" y="1407"/>
                    <a:pt x="1157" y="1432"/>
                  </a:cubicBezTo>
                  <a:cubicBezTo>
                    <a:pt x="1150" y="1447"/>
                    <a:pt x="1141" y="1480"/>
                    <a:pt x="1141" y="1480"/>
                  </a:cubicBezTo>
                  <a:cubicBezTo>
                    <a:pt x="1144" y="1496"/>
                    <a:pt x="1135" y="1520"/>
                    <a:pt x="1149" y="1528"/>
                  </a:cubicBezTo>
                  <a:cubicBezTo>
                    <a:pt x="1177" y="1543"/>
                    <a:pt x="1224" y="1512"/>
                    <a:pt x="1245" y="1536"/>
                  </a:cubicBezTo>
                  <a:cubicBezTo>
                    <a:pt x="1270" y="1564"/>
                    <a:pt x="1238" y="1614"/>
                    <a:pt x="1253" y="1648"/>
                  </a:cubicBezTo>
                  <a:cubicBezTo>
                    <a:pt x="1261" y="1666"/>
                    <a:pt x="1298" y="1664"/>
                    <a:pt x="1317" y="1664"/>
                  </a:cubicBezTo>
                </a:path>
              </a:pathLst>
            </a:custGeom>
            <a:noFill/>
            <a:ln w="57240">
              <a:solidFill>
                <a:srgbClr val="ff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Line 6"/>
            <p:cNvSpPr/>
            <p:nvPr/>
          </p:nvSpPr>
          <p:spPr>
            <a:xfrm>
              <a:off x="253800" y="788760"/>
              <a:ext cx="401040" cy="901800"/>
            </a:xfrm>
            <a:prstGeom prst="line">
              <a:avLst/>
            </a:prstGeom>
            <a:ln w="7632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Freeform 7"/>
            <p:cNvSpPr/>
            <p:nvPr/>
          </p:nvSpPr>
          <p:spPr>
            <a:xfrm>
              <a:off x="663840" y="1521360"/>
              <a:ext cx="879480" cy="250200"/>
            </a:xfrm>
            <a:custGeom>
              <a:avLst/>
              <a:gdLst>
                <a:gd name="textAreaLeft" fmla="*/ 0 w 879480"/>
                <a:gd name="textAreaRight" fmla="*/ 879840 w 879480"/>
                <a:gd name="textAreaTop" fmla="*/ 0 h 250200"/>
                <a:gd name="textAreaBottom" fmla="*/ 250200 h 250200"/>
              </a:gdLst>
              <a:ahLst/>
              <a:rect l="textAreaLeft" t="textAreaTop" r="textAreaRight" b="textAreaBottom"/>
              <a:pathLst>
                <a:path w="2487" h="642">
                  <a:moveTo>
                    <a:pt x="0" y="462"/>
                  </a:moveTo>
                  <a:cubicBezTo>
                    <a:pt x="37" y="453"/>
                    <a:pt x="51" y="446"/>
                    <a:pt x="72" y="414"/>
                  </a:cubicBezTo>
                  <a:cubicBezTo>
                    <a:pt x="91" y="339"/>
                    <a:pt x="135" y="396"/>
                    <a:pt x="192" y="358"/>
                  </a:cubicBezTo>
                  <a:cubicBezTo>
                    <a:pt x="220" y="316"/>
                    <a:pt x="252" y="279"/>
                    <a:pt x="280" y="238"/>
                  </a:cubicBezTo>
                  <a:cubicBezTo>
                    <a:pt x="290" y="66"/>
                    <a:pt x="257" y="91"/>
                    <a:pt x="400" y="78"/>
                  </a:cubicBezTo>
                  <a:cubicBezTo>
                    <a:pt x="405" y="70"/>
                    <a:pt x="412" y="63"/>
                    <a:pt x="416" y="54"/>
                  </a:cubicBezTo>
                  <a:cubicBezTo>
                    <a:pt x="423" y="39"/>
                    <a:pt x="432" y="6"/>
                    <a:pt x="432" y="6"/>
                  </a:cubicBezTo>
                  <a:cubicBezTo>
                    <a:pt x="461" y="9"/>
                    <a:pt x="494" y="0"/>
                    <a:pt x="520" y="14"/>
                  </a:cubicBezTo>
                  <a:cubicBezTo>
                    <a:pt x="558" y="34"/>
                    <a:pt x="519" y="87"/>
                    <a:pt x="568" y="102"/>
                  </a:cubicBezTo>
                  <a:cubicBezTo>
                    <a:pt x="586" y="107"/>
                    <a:pt x="605" y="107"/>
                    <a:pt x="624" y="110"/>
                  </a:cubicBezTo>
                  <a:cubicBezTo>
                    <a:pt x="621" y="131"/>
                    <a:pt x="616" y="153"/>
                    <a:pt x="616" y="174"/>
                  </a:cubicBezTo>
                  <a:cubicBezTo>
                    <a:pt x="616" y="347"/>
                    <a:pt x="616" y="278"/>
                    <a:pt x="832" y="286"/>
                  </a:cubicBezTo>
                  <a:cubicBezTo>
                    <a:pt x="848" y="642"/>
                    <a:pt x="860" y="478"/>
                    <a:pt x="1392" y="486"/>
                  </a:cubicBezTo>
                  <a:cubicBezTo>
                    <a:pt x="1453" y="527"/>
                    <a:pt x="1531" y="510"/>
                    <a:pt x="1600" y="502"/>
                  </a:cubicBezTo>
                  <a:cubicBezTo>
                    <a:pt x="1610" y="471"/>
                    <a:pt x="1630" y="469"/>
                    <a:pt x="1640" y="438"/>
                  </a:cubicBezTo>
                  <a:cubicBezTo>
                    <a:pt x="1656" y="314"/>
                    <a:pt x="1694" y="365"/>
                    <a:pt x="1856" y="358"/>
                  </a:cubicBezTo>
                  <a:cubicBezTo>
                    <a:pt x="1908" y="332"/>
                    <a:pt x="1932" y="319"/>
                    <a:pt x="1992" y="310"/>
                  </a:cubicBezTo>
                  <a:cubicBezTo>
                    <a:pt x="2079" y="281"/>
                    <a:pt x="2168" y="308"/>
                    <a:pt x="2256" y="318"/>
                  </a:cubicBezTo>
                  <a:cubicBezTo>
                    <a:pt x="2259" y="326"/>
                    <a:pt x="2257" y="338"/>
                    <a:pt x="2264" y="342"/>
                  </a:cubicBezTo>
                  <a:cubicBezTo>
                    <a:pt x="2278" y="350"/>
                    <a:pt x="2296" y="346"/>
                    <a:pt x="2312" y="350"/>
                  </a:cubicBezTo>
                  <a:cubicBezTo>
                    <a:pt x="2337" y="356"/>
                    <a:pt x="2338" y="360"/>
                    <a:pt x="2360" y="374"/>
                  </a:cubicBezTo>
                  <a:cubicBezTo>
                    <a:pt x="2365" y="390"/>
                    <a:pt x="2371" y="406"/>
                    <a:pt x="2376" y="422"/>
                  </a:cubicBezTo>
                  <a:cubicBezTo>
                    <a:pt x="2381" y="437"/>
                    <a:pt x="2377" y="455"/>
                    <a:pt x="2384" y="470"/>
                  </a:cubicBezTo>
                  <a:cubicBezTo>
                    <a:pt x="2392" y="486"/>
                    <a:pt x="2428" y="491"/>
                    <a:pt x="2440" y="494"/>
                  </a:cubicBezTo>
                  <a:cubicBezTo>
                    <a:pt x="2444" y="516"/>
                    <a:pt x="2440" y="542"/>
                    <a:pt x="2456" y="558"/>
                  </a:cubicBezTo>
                  <a:cubicBezTo>
                    <a:pt x="2462" y="564"/>
                    <a:pt x="2478" y="558"/>
                    <a:pt x="2480" y="566"/>
                  </a:cubicBezTo>
                  <a:cubicBezTo>
                    <a:pt x="2487" y="589"/>
                    <a:pt x="2480" y="614"/>
                    <a:pt x="2480" y="638"/>
                  </a:cubicBezTo>
                </a:path>
              </a:pathLst>
            </a:custGeom>
            <a:noFill/>
            <a:ln w="76320">
              <a:solidFill>
                <a:srgbClr val="ff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Freeform 8"/>
            <p:cNvSpPr/>
            <p:nvPr/>
          </p:nvSpPr>
          <p:spPr>
            <a:xfrm>
              <a:off x="1547640" y="1041840"/>
              <a:ext cx="682920" cy="715680"/>
            </a:xfrm>
            <a:custGeom>
              <a:avLst/>
              <a:gdLst>
                <a:gd name="textAreaLeft" fmla="*/ 0 w 682920"/>
                <a:gd name="textAreaRight" fmla="*/ 683280 w 682920"/>
                <a:gd name="textAreaTop" fmla="*/ 0 h 715680"/>
                <a:gd name="textAreaBottom" fmla="*/ 716040 h 715680"/>
              </a:gdLst>
              <a:ahLst/>
              <a:rect l="textAreaLeft" t="textAreaTop" r="textAreaRight" b="textAreaBottom"/>
              <a:pathLst>
                <a:path w="1931" h="1837">
                  <a:moveTo>
                    <a:pt x="46" y="1837"/>
                  </a:moveTo>
                  <a:cubicBezTo>
                    <a:pt x="143" y="1831"/>
                    <a:pt x="169" y="1828"/>
                    <a:pt x="246" y="1813"/>
                  </a:cubicBezTo>
                  <a:cubicBezTo>
                    <a:pt x="251" y="1805"/>
                    <a:pt x="259" y="1798"/>
                    <a:pt x="262" y="1789"/>
                  </a:cubicBezTo>
                  <a:cubicBezTo>
                    <a:pt x="267" y="1771"/>
                    <a:pt x="260" y="1749"/>
                    <a:pt x="270" y="1733"/>
                  </a:cubicBezTo>
                  <a:cubicBezTo>
                    <a:pt x="280" y="1717"/>
                    <a:pt x="318" y="1701"/>
                    <a:pt x="318" y="1701"/>
                  </a:cubicBezTo>
                  <a:cubicBezTo>
                    <a:pt x="323" y="1693"/>
                    <a:pt x="333" y="1687"/>
                    <a:pt x="334" y="1677"/>
                  </a:cubicBezTo>
                  <a:cubicBezTo>
                    <a:pt x="341" y="1610"/>
                    <a:pt x="317" y="1617"/>
                    <a:pt x="270" y="1605"/>
                  </a:cubicBezTo>
                  <a:cubicBezTo>
                    <a:pt x="267" y="1581"/>
                    <a:pt x="273" y="1555"/>
                    <a:pt x="262" y="1533"/>
                  </a:cubicBezTo>
                  <a:cubicBezTo>
                    <a:pt x="257" y="1523"/>
                    <a:pt x="241" y="1528"/>
                    <a:pt x="230" y="1525"/>
                  </a:cubicBezTo>
                  <a:cubicBezTo>
                    <a:pt x="166" y="1506"/>
                    <a:pt x="101" y="1490"/>
                    <a:pt x="38" y="1469"/>
                  </a:cubicBezTo>
                  <a:cubicBezTo>
                    <a:pt x="23" y="1447"/>
                    <a:pt x="0" y="1417"/>
                    <a:pt x="22" y="1389"/>
                  </a:cubicBezTo>
                  <a:cubicBezTo>
                    <a:pt x="27" y="1382"/>
                    <a:pt x="38" y="1385"/>
                    <a:pt x="46" y="1381"/>
                  </a:cubicBezTo>
                  <a:cubicBezTo>
                    <a:pt x="55" y="1377"/>
                    <a:pt x="62" y="1370"/>
                    <a:pt x="70" y="1365"/>
                  </a:cubicBezTo>
                  <a:cubicBezTo>
                    <a:pt x="123" y="1383"/>
                    <a:pt x="76" y="1376"/>
                    <a:pt x="110" y="1301"/>
                  </a:cubicBezTo>
                  <a:cubicBezTo>
                    <a:pt x="115" y="1289"/>
                    <a:pt x="147" y="1280"/>
                    <a:pt x="158" y="1277"/>
                  </a:cubicBezTo>
                  <a:cubicBezTo>
                    <a:pt x="192" y="1267"/>
                    <a:pt x="230" y="1269"/>
                    <a:pt x="262" y="1253"/>
                  </a:cubicBezTo>
                  <a:cubicBezTo>
                    <a:pt x="314" y="1227"/>
                    <a:pt x="257" y="1248"/>
                    <a:pt x="310" y="1213"/>
                  </a:cubicBezTo>
                  <a:cubicBezTo>
                    <a:pt x="370" y="1173"/>
                    <a:pt x="286" y="1269"/>
                    <a:pt x="382" y="1173"/>
                  </a:cubicBezTo>
                  <a:cubicBezTo>
                    <a:pt x="403" y="1152"/>
                    <a:pt x="425" y="1127"/>
                    <a:pt x="454" y="1117"/>
                  </a:cubicBezTo>
                  <a:cubicBezTo>
                    <a:pt x="505" y="1100"/>
                    <a:pt x="548" y="1078"/>
                    <a:pt x="598" y="1061"/>
                  </a:cubicBezTo>
                  <a:cubicBezTo>
                    <a:pt x="641" y="1047"/>
                    <a:pt x="689" y="1056"/>
                    <a:pt x="734" y="1053"/>
                  </a:cubicBezTo>
                  <a:cubicBezTo>
                    <a:pt x="798" y="1010"/>
                    <a:pt x="721" y="1066"/>
                    <a:pt x="774" y="1013"/>
                  </a:cubicBezTo>
                  <a:cubicBezTo>
                    <a:pt x="801" y="986"/>
                    <a:pt x="793" y="1005"/>
                    <a:pt x="822" y="989"/>
                  </a:cubicBezTo>
                  <a:cubicBezTo>
                    <a:pt x="874" y="960"/>
                    <a:pt x="924" y="919"/>
                    <a:pt x="966" y="877"/>
                  </a:cubicBezTo>
                  <a:cubicBezTo>
                    <a:pt x="970" y="855"/>
                    <a:pt x="979" y="835"/>
                    <a:pt x="982" y="813"/>
                  </a:cubicBezTo>
                  <a:cubicBezTo>
                    <a:pt x="987" y="773"/>
                    <a:pt x="969" y="722"/>
                    <a:pt x="998" y="693"/>
                  </a:cubicBezTo>
                  <a:cubicBezTo>
                    <a:pt x="1012" y="679"/>
                    <a:pt x="1030" y="672"/>
                    <a:pt x="1046" y="661"/>
                  </a:cubicBezTo>
                  <a:cubicBezTo>
                    <a:pt x="1079" y="639"/>
                    <a:pt x="1091" y="618"/>
                    <a:pt x="1110" y="589"/>
                  </a:cubicBezTo>
                  <a:cubicBezTo>
                    <a:pt x="1117" y="531"/>
                    <a:pt x="1112" y="511"/>
                    <a:pt x="1166" y="493"/>
                  </a:cubicBezTo>
                  <a:cubicBezTo>
                    <a:pt x="1303" y="510"/>
                    <a:pt x="1449" y="529"/>
                    <a:pt x="1582" y="485"/>
                  </a:cubicBezTo>
                  <a:cubicBezTo>
                    <a:pt x="1611" y="456"/>
                    <a:pt x="1633" y="427"/>
                    <a:pt x="1646" y="389"/>
                  </a:cubicBezTo>
                  <a:cubicBezTo>
                    <a:pt x="1641" y="324"/>
                    <a:pt x="1656" y="286"/>
                    <a:pt x="1606" y="253"/>
                  </a:cubicBezTo>
                  <a:cubicBezTo>
                    <a:pt x="1587" y="196"/>
                    <a:pt x="1599" y="219"/>
                    <a:pt x="1574" y="181"/>
                  </a:cubicBezTo>
                  <a:cubicBezTo>
                    <a:pt x="1577" y="160"/>
                    <a:pt x="1565" y="131"/>
                    <a:pt x="1582" y="117"/>
                  </a:cubicBezTo>
                  <a:cubicBezTo>
                    <a:pt x="1603" y="100"/>
                    <a:pt x="1637" y="117"/>
                    <a:pt x="1662" y="109"/>
                  </a:cubicBezTo>
                  <a:cubicBezTo>
                    <a:pt x="1687" y="101"/>
                    <a:pt x="1683" y="45"/>
                    <a:pt x="1694" y="29"/>
                  </a:cubicBezTo>
                  <a:cubicBezTo>
                    <a:pt x="1703" y="16"/>
                    <a:pt x="1728" y="10"/>
                    <a:pt x="1742" y="5"/>
                  </a:cubicBezTo>
                  <a:cubicBezTo>
                    <a:pt x="1771" y="8"/>
                    <a:pt x="1804" y="0"/>
                    <a:pt x="1830" y="13"/>
                  </a:cubicBezTo>
                  <a:cubicBezTo>
                    <a:pt x="1931" y="63"/>
                    <a:pt x="1753" y="53"/>
                    <a:pt x="1870" y="53"/>
                  </a:cubicBezTo>
                </a:path>
              </a:pathLst>
            </a:custGeom>
            <a:noFill/>
            <a:ln w="57240">
              <a:solidFill>
                <a:srgbClr val="ff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7" name="Прямоугольник 9"/>
          <p:cNvSpPr/>
          <p:nvPr/>
        </p:nvSpPr>
        <p:spPr>
          <a:xfrm>
            <a:off x="453960" y="789120"/>
            <a:ext cx="8366040" cy="429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7030a0"/>
                </a:solidFill>
                <a:latin typeface="Times New Roman"/>
                <a:ea typeface="Calibri"/>
              </a:rPr>
              <a:t>Демографическая ситуация в Алтайском кра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9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9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9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9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8" name="Group 3"/>
          <p:cNvGrpSpPr/>
          <p:nvPr/>
        </p:nvGrpSpPr>
        <p:grpSpPr>
          <a:xfrm>
            <a:off x="250920" y="404640"/>
            <a:ext cx="1979640" cy="1366920"/>
            <a:chOff x="250920" y="404640"/>
            <a:chExt cx="1979640" cy="1366920"/>
          </a:xfrm>
        </p:grpSpPr>
        <p:sp>
          <p:nvSpPr>
            <p:cNvPr id="999" name="Freeform 4"/>
            <p:cNvSpPr/>
            <p:nvPr/>
          </p:nvSpPr>
          <p:spPr>
            <a:xfrm>
              <a:off x="250920" y="407520"/>
              <a:ext cx="1502640" cy="308880"/>
            </a:xfrm>
            <a:custGeom>
              <a:avLst/>
              <a:gdLst>
                <a:gd name="textAreaLeft" fmla="*/ 0 w 1502640"/>
                <a:gd name="textAreaRight" fmla="*/ 1503000 w 1502640"/>
                <a:gd name="textAreaTop" fmla="*/ 0 h 308880"/>
                <a:gd name="textAreaBottom" fmla="*/ 308880 h 308880"/>
              </a:gdLst>
              <a:ahLst/>
              <a:rect l="textAreaLeft" t="textAreaTop" r="textAreaRight" b="textAreaBottom"/>
              <a:pathLst>
                <a:path w="4248" h="793">
                  <a:moveTo>
                    <a:pt x="0" y="704"/>
                  </a:moveTo>
                  <a:cubicBezTo>
                    <a:pt x="29" y="701"/>
                    <a:pt x="60" y="704"/>
                    <a:pt x="88" y="696"/>
                  </a:cubicBezTo>
                  <a:cubicBezTo>
                    <a:pt x="101" y="692"/>
                    <a:pt x="166" y="598"/>
                    <a:pt x="104" y="680"/>
                  </a:cubicBezTo>
                  <a:cubicBezTo>
                    <a:pt x="161" y="699"/>
                    <a:pt x="146" y="663"/>
                    <a:pt x="192" y="648"/>
                  </a:cubicBezTo>
                  <a:cubicBezTo>
                    <a:pt x="205" y="651"/>
                    <a:pt x="224" y="645"/>
                    <a:pt x="232" y="656"/>
                  </a:cubicBezTo>
                  <a:cubicBezTo>
                    <a:pt x="248" y="678"/>
                    <a:pt x="239" y="710"/>
                    <a:pt x="248" y="736"/>
                  </a:cubicBezTo>
                  <a:cubicBezTo>
                    <a:pt x="407" y="730"/>
                    <a:pt x="452" y="787"/>
                    <a:pt x="488" y="680"/>
                  </a:cubicBezTo>
                  <a:cubicBezTo>
                    <a:pt x="520" y="453"/>
                    <a:pt x="471" y="670"/>
                    <a:pt x="1000" y="616"/>
                  </a:cubicBezTo>
                  <a:cubicBezTo>
                    <a:pt x="1023" y="614"/>
                    <a:pt x="1062" y="547"/>
                    <a:pt x="1096" y="536"/>
                  </a:cubicBezTo>
                  <a:cubicBezTo>
                    <a:pt x="1115" y="508"/>
                    <a:pt x="1139" y="459"/>
                    <a:pt x="1168" y="440"/>
                  </a:cubicBezTo>
                  <a:cubicBezTo>
                    <a:pt x="1200" y="419"/>
                    <a:pt x="1276" y="419"/>
                    <a:pt x="1304" y="416"/>
                  </a:cubicBezTo>
                  <a:cubicBezTo>
                    <a:pt x="1327" y="381"/>
                    <a:pt x="1326" y="301"/>
                    <a:pt x="1360" y="296"/>
                  </a:cubicBezTo>
                  <a:cubicBezTo>
                    <a:pt x="1405" y="289"/>
                    <a:pt x="1451" y="291"/>
                    <a:pt x="1496" y="288"/>
                  </a:cubicBezTo>
                  <a:cubicBezTo>
                    <a:pt x="1538" y="274"/>
                    <a:pt x="1525" y="252"/>
                    <a:pt x="1560" y="232"/>
                  </a:cubicBezTo>
                  <a:cubicBezTo>
                    <a:pt x="1584" y="218"/>
                    <a:pt x="1614" y="217"/>
                    <a:pt x="1640" y="208"/>
                  </a:cubicBezTo>
                  <a:cubicBezTo>
                    <a:pt x="1648" y="205"/>
                    <a:pt x="1664" y="200"/>
                    <a:pt x="1664" y="200"/>
                  </a:cubicBezTo>
                  <a:cubicBezTo>
                    <a:pt x="1680" y="184"/>
                    <a:pt x="1696" y="168"/>
                    <a:pt x="1712" y="152"/>
                  </a:cubicBezTo>
                  <a:cubicBezTo>
                    <a:pt x="1720" y="144"/>
                    <a:pt x="1736" y="128"/>
                    <a:pt x="1736" y="128"/>
                  </a:cubicBezTo>
                  <a:cubicBezTo>
                    <a:pt x="1760" y="55"/>
                    <a:pt x="1725" y="69"/>
                    <a:pt x="1824" y="80"/>
                  </a:cubicBezTo>
                  <a:cubicBezTo>
                    <a:pt x="1835" y="83"/>
                    <a:pt x="1849" y="80"/>
                    <a:pt x="1856" y="88"/>
                  </a:cubicBezTo>
                  <a:cubicBezTo>
                    <a:pt x="1867" y="100"/>
                    <a:pt x="1878" y="182"/>
                    <a:pt x="1888" y="192"/>
                  </a:cubicBezTo>
                  <a:cubicBezTo>
                    <a:pt x="1896" y="200"/>
                    <a:pt x="1909" y="197"/>
                    <a:pt x="1920" y="200"/>
                  </a:cubicBezTo>
                  <a:cubicBezTo>
                    <a:pt x="1949" y="208"/>
                    <a:pt x="1942" y="206"/>
                    <a:pt x="1968" y="224"/>
                  </a:cubicBezTo>
                  <a:cubicBezTo>
                    <a:pt x="1971" y="232"/>
                    <a:pt x="1976" y="240"/>
                    <a:pt x="1976" y="248"/>
                  </a:cubicBezTo>
                  <a:cubicBezTo>
                    <a:pt x="1976" y="256"/>
                    <a:pt x="1965" y="264"/>
                    <a:pt x="1968" y="272"/>
                  </a:cubicBezTo>
                  <a:cubicBezTo>
                    <a:pt x="1979" y="299"/>
                    <a:pt x="2066" y="294"/>
                    <a:pt x="2088" y="296"/>
                  </a:cubicBezTo>
                  <a:cubicBezTo>
                    <a:pt x="2134" y="307"/>
                    <a:pt x="2178" y="325"/>
                    <a:pt x="2224" y="336"/>
                  </a:cubicBezTo>
                  <a:cubicBezTo>
                    <a:pt x="2244" y="377"/>
                    <a:pt x="2265" y="385"/>
                    <a:pt x="2296" y="416"/>
                  </a:cubicBezTo>
                  <a:cubicBezTo>
                    <a:pt x="2332" y="452"/>
                    <a:pt x="2289" y="432"/>
                    <a:pt x="2336" y="448"/>
                  </a:cubicBezTo>
                  <a:cubicBezTo>
                    <a:pt x="2341" y="464"/>
                    <a:pt x="2347" y="480"/>
                    <a:pt x="2352" y="496"/>
                  </a:cubicBezTo>
                  <a:cubicBezTo>
                    <a:pt x="2355" y="504"/>
                    <a:pt x="2360" y="520"/>
                    <a:pt x="2360" y="520"/>
                  </a:cubicBezTo>
                  <a:cubicBezTo>
                    <a:pt x="2354" y="538"/>
                    <a:pt x="2325" y="612"/>
                    <a:pt x="2352" y="624"/>
                  </a:cubicBezTo>
                  <a:cubicBezTo>
                    <a:pt x="2389" y="640"/>
                    <a:pt x="2432" y="629"/>
                    <a:pt x="2472" y="632"/>
                  </a:cubicBezTo>
                  <a:cubicBezTo>
                    <a:pt x="2488" y="637"/>
                    <a:pt x="2504" y="643"/>
                    <a:pt x="2520" y="648"/>
                  </a:cubicBezTo>
                  <a:cubicBezTo>
                    <a:pt x="2528" y="651"/>
                    <a:pt x="2544" y="656"/>
                    <a:pt x="2544" y="656"/>
                  </a:cubicBezTo>
                  <a:cubicBezTo>
                    <a:pt x="2572" y="677"/>
                    <a:pt x="2591" y="701"/>
                    <a:pt x="2624" y="712"/>
                  </a:cubicBezTo>
                  <a:cubicBezTo>
                    <a:pt x="2642" y="785"/>
                    <a:pt x="2622" y="764"/>
                    <a:pt x="2664" y="792"/>
                  </a:cubicBezTo>
                  <a:cubicBezTo>
                    <a:pt x="2707" y="789"/>
                    <a:pt x="2750" y="793"/>
                    <a:pt x="2792" y="784"/>
                  </a:cubicBezTo>
                  <a:cubicBezTo>
                    <a:pt x="2819" y="778"/>
                    <a:pt x="2832" y="712"/>
                    <a:pt x="2832" y="712"/>
                  </a:cubicBezTo>
                  <a:cubicBezTo>
                    <a:pt x="2839" y="646"/>
                    <a:pt x="2839" y="590"/>
                    <a:pt x="2896" y="552"/>
                  </a:cubicBezTo>
                  <a:cubicBezTo>
                    <a:pt x="2916" y="522"/>
                    <a:pt x="2946" y="476"/>
                    <a:pt x="2976" y="456"/>
                  </a:cubicBezTo>
                  <a:cubicBezTo>
                    <a:pt x="2989" y="447"/>
                    <a:pt x="3042" y="441"/>
                    <a:pt x="3048" y="440"/>
                  </a:cubicBezTo>
                  <a:cubicBezTo>
                    <a:pt x="3064" y="429"/>
                    <a:pt x="3080" y="419"/>
                    <a:pt x="3096" y="408"/>
                  </a:cubicBezTo>
                  <a:cubicBezTo>
                    <a:pt x="3106" y="401"/>
                    <a:pt x="3072" y="416"/>
                    <a:pt x="3064" y="424"/>
                  </a:cubicBezTo>
                  <a:cubicBezTo>
                    <a:pt x="3058" y="430"/>
                    <a:pt x="3081" y="421"/>
                    <a:pt x="3088" y="416"/>
                  </a:cubicBezTo>
                  <a:cubicBezTo>
                    <a:pt x="3096" y="411"/>
                    <a:pt x="3105" y="407"/>
                    <a:pt x="3112" y="400"/>
                  </a:cubicBezTo>
                  <a:cubicBezTo>
                    <a:pt x="3152" y="360"/>
                    <a:pt x="3125" y="379"/>
                    <a:pt x="3200" y="360"/>
                  </a:cubicBezTo>
                  <a:cubicBezTo>
                    <a:pt x="3211" y="357"/>
                    <a:pt x="3232" y="352"/>
                    <a:pt x="3232" y="352"/>
                  </a:cubicBezTo>
                  <a:cubicBezTo>
                    <a:pt x="3251" y="408"/>
                    <a:pt x="3307" y="331"/>
                    <a:pt x="3336" y="312"/>
                  </a:cubicBezTo>
                  <a:cubicBezTo>
                    <a:pt x="3440" y="242"/>
                    <a:pt x="3587" y="307"/>
                    <a:pt x="3712" y="304"/>
                  </a:cubicBezTo>
                  <a:cubicBezTo>
                    <a:pt x="3769" y="266"/>
                    <a:pt x="3829" y="263"/>
                    <a:pt x="3896" y="256"/>
                  </a:cubicBezTo>
                  <a:cubicBezTo>
                    <a:pt x="3908" y="221"/>
                    <a:pt x="3909" y="203"/>
                    <a:pt x="3936" y="176"/>
                  </a:cubicBezTo>
                  <a:cubicBezTo>
                    <a:pt x="3925" y="160"/>
                    <a:pt x="3908" y="147"/>
                    <a:pt x="3904" y="128"/>
                  </a:cubicBezTo>
                  <a:cubicBezTo>
                    <a:pt x="3900" y="108"/>
                    <a:pt x="3933" y="97"/>
                    <a:pt x="3944" y="96"/>
                  </a:cubicBezTo>
                  <a:cubicBezTo>
                    <a:pt x="3989" y="91"/>
                    <a:pt x="4035" y="91"/>
                    <a:pt x="4080" y="88"/>
                  </a:cubicBezTo>
                  <a:cubicBezTo>
                    <a:pt x="4168" y="73"/>
                    <a:pt x="4182" y="66"/>
                    <a:pt x="4248" y="0"/>
                  </a:cubicBezTo>
                </a:path>
              </a:pathLst>
            </a:custGeom>
            <a:noFill/>
            <a:ln w="57240">
              <a:solidFill>
                <a:srgbClr val="ff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Freeform 5"/>
            <p:cNvSpPr/>
            <p:nvPr/>
          </p:nvSpPr>
          <p:spPr>
            <a:xfrm>
              <a:off x="1760040" y="404640"/>
              <a:ext cx="465840" cy="649080"/>
            </a:xfrm>
            <a:custGeom>
              <a:avLst/>
              <a:gdLst>
                <a:gd name="textAreaLeft" fmla="*/ 0 w 465840"/>
                <a:gd name="textAreaRight" fmla="*/ 466200 w 465840"/>
                <a:gd name="textAreaTop" fmla="*/ 0 h 649080"/>
                <a:gd name="textAreaBottom" fmla="*/ 649080 h 649080"/>
              </a:gdLst>
              <a:ahLst/>
              <a:rect l="textAreaLeft" t="textAreaTop" r="textAreaRight" b="textAreaBottom"/>
              <a:pathLst>
                <a:path w="1317" h="1666">
                  <a:moveTo>
                    <a:pt x="5" y="0"/>
                  </a:moveTo>
                  <a:cubicBezTo>
                    <a:pt x="8" y="24"/>
                    <a:pt x="0" y="52"/>
                    <a:pt x="13" y="72"/>
                  </a:cubicBezTo>
                  <a:cubicBezTo>
                    <a:pt x="22" y="86"/>
                    <a:pt x="61" y="88"/>
                    <a:pt x="61" y="88"/>
                  </a:cubicBezTo>
                  <a:cubicBezTo>
                    <a:pt x="67" y="106"/>
                    <a:pt x="90" y="155"/>
                    <a:pt x="101" y="168"/>
                  </a:cubicBezTo>
                  <a:cubicBezTo>
                    <a:pt x="123" y="195"/>
                    <a:pt x="268" y="205"/>
                    <a:pt x="301" y="208"/>
                  </a:cubicBezTo>
                  <a:cubicBezTo>
                    <a:pt x="298" y="216"/>
                    <a:pt x="290" y="224"/>
                    <a:pt x="293" y="232"/>
                  </a:cubicBezTo>
                  <a:cubicBezTo>
                    <a:pt x="297" y="241"/>
                    <a:pt x="311" y="241"/>
                    <a:pt x="317" y="248"/>
                  </a:cubicBezTo>
                  <a:cubicBezTo>
                    <a:pt x="330" y="262"/>
                    <a:pt x="331" y="290"/>
                    <a:pt x="349" y="296"/>
                  </a:cubicBezTo>
                  <a:cubicBezTo>
                    <a:pt x="365" y="301"/>
                    <a:pt x="397" y="312"/>
                    <a:pt x="397" y="312"/>
                  </a:cubicBezTo>
                  <a:cubicBezTo>
                    <a:pt x="417" y="392"/>
                    <a:pt x="387" y="310"/>
                    <a:pt x="429" y="352"/>
                  </a:cubicBezTo>
                  <a:cubicBezTo>
                    <a:pt x="435" y="358"/>
                    <a:pt x="431" y="370"/>
                    <a:pt x="437" y="376"/>
                  </a:cubicBezTo>
                  <a:cubicBezTo>
                    <a:pt x="460" y="399"/>
                    <a:pt x="501" y="388"/>
                    <a:pt x="533" y="392"/>
                  </a:cubicBezTo>
                  <a:cubicBezTo>
                    <a:pt x="588" y="429"/>
                    <a:pt x="563" y="418"/>
                    <a:pt x="605" y="432"/>
                  </a:cubicBezTo>
                  <a:cubicBezTo>
                    <a:pt x="618" y="452"/>
                    <a:pt x="624" y="456"/>
                    <a:pt x="629" y="480"/>
                  </a:cubicBezTo>
                  <a:cubicBezTo>
                    <a:pt x="633" y="498"/>
                    <a:pt x="625" y="522"/>
                    <a:pt x="637" y="536"/>
                  </a:cubicBezTo>
                  <a:cubicBezTo>
                    <a:pt x="648" y="548"/>
                    <a:pt x="669" y="541"/>
                    <a:pt x="685" y="544"/>
                  </a:cubicBezTo>
                  <a:cubicBezTo>
                    <a:pt x="694" y="595"/>
                    <a:pt x="711" y="694"/>
                    <a:pt x="765" y="712"/>
                  </a:cubicBezTo>
                  <a:cubicBezTo>
                    <a:pt x="792" y="822"/>
                    <a:pt x="1029" y="804"/>
                    <a:pt x="1101" y="808"/>
                  </a:cubicBezTo>
                  <a:cubicBezTo>
                    <a:pt x="1095" y="840"/>
                    <a:pt x="1092" y="872"/>
                    <a:pt x="1085" y="904"/>
                  </a:cubicBezTo>
                  <a:cubicBezTo>
                    <a:pt x="1081" y="920"/>
                    <a:pt x="1083" y="943"/>
                    <a:pt x="1069" y="952"/>
                  </a:cubicBezTo>
                  <a:cubicBezTo>
                    <a:pt x="1027" y="980"/>
                    <a:pt x="997" y="1016"/>
                    <a:pt x="981" y="1064"/>
                  </a:cubicBezTo>
                  <a:cubicBezTo>
                    <a:pt x="993" y="1220"/>
                    <a:pt x="978" y="1182"/>
                    <a:pt x="1149" y="1192"/>
                  </a:cubicBezTo>
                  <a:cubicBezTo>
                    <a:pt x="1221" y="1240"/>
                    <a:pt x="1191" y="1277"/>
                    <a:pt x="1181" y="1384"/>
                  </a:cubicBezTo>
                  <a:cubicBezTo>
                    <a:pt x="1178" y="1412"/>
                    <a:pt x="1168" y="1407"/>
                    <a:pt x="1157" y="1432"/>
                  </a:cubicBezTo>
                  <a:cubicBezTo>
                    <a:pt x="1150" y="1447"/>
                    <a:pt x="1141" y="1480"/>
                    <a:pt x="1141" y="1480"/>
                  </a:cubicBezTo>
                  <a:cubicBezTo>
                    <a:pt x="1144" y="1496"/>
                    <a:pt x="1135" y="1520"/>
                    <a:pt x="1149" y="1528"/>
                  </a:cubicBezTo>
                  <a:cubicBezTo>
                    <a:pt x="1177" y="1543"/>
                    <a:pt x="1224" y="1512"/>
                    <a:pt x="1245" y="1536"/>
                  </a:cubicBezTo>
                  <a:cubicBezTo>
                    <a:pt x="1270" y="1564"/>
                    <a:pt x="1238" y="1614"/>
                    <a:pt x="1253" y="1648"/>
                  </a:cubicBezTo>
                  <a:cubicBezTo>
                    <a:pt x="1261" y="1666"/>
                    <a:pt x="1298" y="1664"/>
                    <a:pt x="1317" y="1664"/>
                  </a:cubicBezTo>
                </a:path>
              </a:pathLst>
            </a:custGeom>
            <a:noFill/>
            <a:ln w="57240">
              <a:solidFill>
                <a:srgbClr val="ff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Line 6"/>
            <p:cNvSpPr/>
            <p:nvPr/>
          </p:nvSpPr>
          <p:spPr>
            <a:xfrm>
              <a:off x="253800" y="788760"/>
              <a:ext cx="401040" cy="901800"/>
            </a:xfrm>
            <a:prstGeom prst="line">
              <a:avLst/>
            </a:prstGeom>
            <a:ln w="7632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Freeform 7"/>
            <p:cNvSpPr/>
            <p:nvPr/>
          </p:nvSpPr>
          <p:spPr>
            <a:xfrm>
              <a:off x="663840" y="1521360"/>
              <a:ext cx="879480" cy="250200"/>
            </a:xfrm>
            <a:custGeom>
              <a:avLst/>
              <a:gdLst>
                <a:gd name="textAreaLeft" fmla="*/ 0 w 879480"/>
                <a:gd name="textAreaRight" fmla="*/ 879840 w 879480"/>
                <a:gd name="textAreaTop" fmla="*/ 0 h 250200"/>
                <a:gd name="textAreaBottom" fmla="*/ 250200 h 250200"/>
              </a:gdLst>
              <a:ahLst/>
              <a:rect l="textAreaLeft" t="textAreaTop" r="textAreaRight" b="textAreaBottom"/>
              <a:pathLst>
                <a:path w="2487" h="642">
                  <a:moveTo>
                    <a:pt x="0" y="462"/>
                  </a:moveTo>
                  <a:cubicBezTo>
                    <a:pt x="37" y="453"/>
                    <a:pt x="51" y="446"/>
                    <a:pt x="72" y="414"/>
                  </a:cubicBezTo>
                  <a:cubicBezTo>
                    <a:pt x="91" y="339"/>
                    <a:pt x="135" y="396"/>
                    <a:pt x="192" y="358"/>
                  </a:cubicBezTo>
                  <a:cubicBezTo>
                    <a:pt x="220" y="316"/>
                    <a:pt x="252" y="279"/>
                    <a:pt x="280" y="238"/>
                  </a:cubicBezTo>
                  <a:cubicBezTo>
                    <a:pt x="290" y="66"/>
                    <a:pt x="257" y="91"/>
                    <a:pt x="400" y="78"/>
                  </a:cubicBezTo>
                  <a:cubicBezTo>
                    <a:pt x="405" y="70"/>
                    <a:pt x="412" y="63"/>
                    <a:pt x="416" y="54"/>
                  </a:cubicBezTo>
                  <a:cubicBezTo>
                    <a:pt x="423" y="39"/>
                    <a:pt x="432" y="6"/>
                    <a:pt x="432" y="6"/>
                  </a:cubicBezTo>
                  <a:cubicBezTo>
                    <a:pt x="461" y="9"/>
                    <a:pt x="494" y="0"/>
                    <a:pt x="520" y="14"/>
                  </a:cubicBezTo>
                  <a:cubicBezTo>
                    <a:pt x="558" y="34"/>
                    <a:pt x="519" y="87"/>
                    <a:pt x="568" y="102"/>
                  </a:cubicBezTo>
                  <a:cubicBezTo>
                    <a:pt x="586" y="107"/>
                    <a:pt x="605" y="107"/>
                    <a:pt x="624" y="110"/>
                  </a:cubicBezTo>
                  <a:cubicBezTo>
                    <a:pt x="621" y="131"/>
                    <a:pt x="616" y="153"/>
                    <a:pt x="616" y="174"/>
                  </a:cubicBezTo>
                  <a:cubicBezTo>
                    <a:pt x="616" y="347"/>
                    <a:pt x="616" y="278"/>
                    <a:pt x="832" y="286"/>
                  </a:cubicBezTo>
                  <a:cubicBezTo>
                    <a:pt x="848" y="642"/>
                    <a:pt x="860" y="478"/>
                    <a:pt x="1392" y="486"/>
                  </a:cubicBezTo>
                  <a:cubicBezTo>
                    <a:pt x="1453" y="527"/>
                    <a:pt x="1531" y="510"/>
                    <a:pt x="1600" y="502"/>
                  </a:cubicBezTo>
                  <a:cubicBezTo>
                    <a:pt x="1610" y="471"/>
                    <a:pt x="1630" y="469"/>
                    <a:pt x="1640" y="438"/>
                  </a:cubicBezTo>
                  <a:cubicBezTo>
                    <a:pt x="1656" y="314"/>
                    <a:pt x="1694" y="365"/>
                    <a:pt x="1856" y="358"/>
                  </a:cubicBezTo>
                  <a:cubicBezTo>
                    <a:pt x="1908" y="332"/>
                    <a:pt x="1932" y="319"/>
                    <a:pt x="1992" y="310"/>
                  </a:cubicBezTo>
                  <a:cubicBezTo>
                    <a:pt x="2079" y="281"/>
                    <a:pt x="2168" y="308"/>
                    <a:pt x="2256" y="318"/>
                  </a:cubicBezTo>
                  <a:cubicBezTo>
                    <a:pt x="2259" y="326"/>
                    <a:pt x="2257" y="338"/>
                    <a:pt x="2264" y="342"/>
                  </a:cubicBezTo>
                  <a:cubicBezTo>
                    <a:pt x="2278" y="350"/>
                    <a:pt x="2296" y="346"/>
                    <a:pt x="2312" y="350"/>
                  </a:cubicBezTo>
                  <a:cubicBezTo>
                    <a:pt x="2337" y="356"/>
                    <a:pt x="2338" y="360"/>
                    <a:pt x="2360" y="374"/>
                  </a:cubicBezTo>
                  <a:cubicBezTo>
                    <a:pt x="2365" y="390"/>
                    <a:pt x="2371" y="406"/>
                    <a:pt x="2376" y="422"/>
                  </a:cubicBezTo>
                  <a:cubicBezTo>
                    <a:pt x="2381" y="437"/>
                    <a:pt x="2377" y="455"/>
                    <a:pt x="2384" y="470"/>
                  </a:cubicBezTo>
                  <a:cubicBezTo>
                    <a:pt x="2392" y="486"/>
                    <a:pt x="2428" y="491"/>
                    <a:pt x="2440" y="494"/>
                  </a:cubicBezTo>
                  <a:cubicBezTo>
                    <a:pt x="2444" y="516"/>
                    <a:pt x="2440" y="542"/>
                    <a:pt x="2456" y="558"/>
                  </a:cubicBezTo>
                  <a:cubicBezTo>
                    <a:pt x="2462" y="564"/>
                    <a:pt x="2478" y="558"/>
                    <a:pt x="2480" y="566"/>
                  </a:cubicBezTo>
                  <a:cubicBezTo>
                    <a:pt x="2487" y="589"/>
                    <a:pt x="2480" y="614"/>
                    <a:pt x="2480" y="638"/>
                  </a:cubicBezTo>
                </a:path>
              </a:pathLst>
            </a:custGeom>
            <a:noFill/>
            <a:ln w="76320">
              <a:solidFill>
                <a:srgbClr val="ff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Freeform 8"/>
            <p:cNvSpPr/>
            <p:nvPr/>
          </p:nvSpPr>
          <p:spPr>
            <a:xfrm>
              <a:off x="1547640" y="1041840"/>
              <a:ext cx="682920" cy="715680"/>
            </a:xfrm>
            <a:custGeom>
              <a:avLst/>
              <a:gdLst>
                <a:gd name="textAreaLeft" fmla="*/ 0 w 682920"/>
                <a:gd name="textAreaRight" fmla="*/ 683280 w 682920"/>
                <a:gd name="textAreaTop" fmla="*/ 0 h 715680"/>
                <a:gd name="textAreaBottom" fmla="*/ 716040 h 715680"/>
              </a:gdLst>
              <a:ahLst/>
              <a:rect l="textAreaLeft" t="textAreaTop" r="textAreaRight" b="textAreaBottom"/>
              <a:pathLst>
                <a:path w="1931" h="1837">
                  <a:moveTo>
                    <a:pt x="46" y="1837"/>
                  </a:moveTo>
                  <a:cubicBezTo>
                    <a:pt x="143" y="1831"/>
                    <a:pt x="169" y="1828"/>
                    <a:pt x="246" y="1813"/>
                  </a:cubicBezTo>
                  <a:cubicBezTo>
                    <a:pt x="251" y="1805"/>
                    <a:pt x="259" y="1798"/>
                    <a:pt x="262" y="1789"/>
                  </a:cubicBezTo>
                  <a:cubicBezTo>
                    <a:pt x="267" y="1771"/>
                    <a:pt x="260" y="1749"/>
                    <a:pt x="270" y="1733"/>
                  </a:cubicBezTo>
                  <a:cubicBezTo>
                    <a:pt x="280" y="1717"/>
                    <a:pt x="318" y="1701"/>
                    <a:pt x="318" y="1701"/>
                  </a:cubicBezTo>
                  <a:cubicBezTo>
                    <a:pt x="323" y="1693"/>
                    <a:pt x="333" y="1687"/>
                    <a:pt x="334" y="1677"/>
                  </a:cubicBezTo>
                  <a:cubicBezTo>
                    <a:pt x="341" y="1610"/>
                    <a:pt x="317" y="1617"/>
                    <a:pt x="270" y="1605"/>
                  </a:cubicBezTo>
                  <a:cubicBezTo>
                    <a:pt x="267" y="1581"/>
                    <a:pt x="273" y="1555"/>
                    <a:pt x="262" y="1533"/>
                  </a:cubicBezTo>
                  <a:cubicBezTo>
                    <a:pt x="257" y="1523"/>
                    <a:pt x="241" y="1528"/>
                    <a:pt x="230" y="1525"/>
                  </a:cubicBezTo>
                  <a:cubicBezTo>
                    <a:pt x="166" y="1506"/>
                    <a:pt x="101" y="1490"/>
                    <a:pt x="38" y="1469"/>
                  </a:cubicBezTo>
                  <a:cubicBezTo>
                    <a:pt x="23" y="1447"/>
                    <a:pt x="0" y="1417"/>
                    <a:pt x="22" y="1389"/>
                  </a:cubicBezTo>
                  <a:cubicBezTo>
                    <a:pt x="27" y="1382"/>
                    <a:pt x="38" y="1385"/>
                    <a:pt x="46" y="1381"/>
                  </a:cubicBezTo>
                  <a:cubicBezTo>
                    <a:pt x="55" y="1377"/>
                    <a:pt x="62" y="1370"/>
                    <a:pt x="70" y="1365"/>
                  </a:cubicBezTo>
                  <a:cubicBezTo>
                    <a:pt x="123" y="1383"/>
                    <a:pt x="76" y="1376"/>
                    <a:pt x="110" y="1301"/>
                  </a:cubicBezTo>
                  <a:cubicBezTo>
                    <a:pt x="115" y="1289"/>
                    <a:pt x="147" y="1280"/>
                    <a:pt x="158" y="1277"/>
                  </a:cubicBezTo>
                  <a:cubicBezTo>
                    <a:pt x="192" y="1267"/>
                    <a:pt x="230" y="1269"/>
                    <a:pt x="262" y="1253"/>
                  </a:cubicBezTo>
                  <a:cubicBezTo>
                    <a:pt x="314" y="1227"/>
                    <a:pt x="257" y="1248"/>
                    <a:pt x="310" y="1213"/>
                  </a:cubicBezTo>
                  <a:cubicBezTo>
                    <a:pt x="370" y="1173"/>
                    <a:pt x="286" y="1269"/>
                    <a:pt x="382" y="1173"/>
                  </a:cubicBezTo>
                  <a:cubicBezTo>
                    <a:pt x="403" y="1152"/>
                    <a:pt x="425" y="1127"/>
                    <a:pt x="454" y="1117"/>
                  </a:cubicBezTo>
                  <a:cubicBezTo>
                    <a:pt x="505" y="1100"/>
                    <a:pt x="548" y="1078"/>
                    <a:pt x="598" y="1061"/>
                  </a:cubicBezTo>
                  <a:cubicBezTo>
                    <a:pt x="641" y="1047"/>
                    <a:pt x="689" y="1056"/>
                    <a:pt x="734" y="1053"/>
                  </a:cubicBezTo>
                  <a:cubicBezTo>
                    <a:pt x="798" y="1010"/>
                    <a:pt x="721" y="1066"/>
                    <a:pt x="774" y="1013"/>
                  </a:cubicBezTo>
                  <a:cubicBezTo>
                    <a:pt x="801" y="986"/>
                    <a:pt x="793" y="1005"/>
                    <a:pt x="822" y="989"/>
                  </a:cubicBezTo>
                  <a:cubicBezTo>
                    <a:pt x="874" y="960"/>
                    <a:pt x="924" y="919"/>
                    <a:pt x="966" y="877"/>
                  </a:cubicBezTo>
                  <a:cubicBezTo>
                    <a:pt x="970" y="855"/>
                    <a:pt x="979" y="835"/>
                    <a:pt x="982" y="813"/>
                  </a:cubicBezTo>
                  <a:cubicBezTo>
                    <a:pt x="987" y="773"/>
                    <a:pt x="969" y="722"/>
                    <a:pt x="998" y="693"/>
                  </a:cubicBezTo>
                  <a:cubicBezTo>
                    <a:pt x="1012" y="679"/>
                    <a:pt x="1030" y="672"/>
                    <a:pt x="1046" y="661"/>
                  </a:cubicBezTo>
                  <a:cubicBezTo>
                    <a:pt x="1079" y="639"/>
                    <a:pt x="1091" y="618"/>
                    <a:pt x="1110" y="589"/>
                  </a:cubicBezTo>
                  <a:cubicBezTo>
                    <a:pt x="1117" y="531"/>
                    <a:pt x="1112" y="511"/>
                    <a:pt x="1166" y="493"/>
                  </a:cubicBezTo>
                  <a:cubicBezTo>
                    <a:pt x="1303" y="510"/>
                    <a:pt x="1449" y="529"/>
                    <a:pt x="1582" y="485"/>
                  </a:cubicBezTo>
                  <a:cubicBezTo>
                    <a:pt x="1611" y="456"/>
                    <a:pt x="1633" y="427"/>
                    <a:pt x="1646" y="389"/>
                  </a:cubicBezTo>
                  <a:cubicBezTo>
                    <a:pt x="1641" y="324"/>
                    <a:pt x="1656" y="286"/>
                    <a:pt x="1606" y="253"/>
                  </a:cubicBezTo>
                  <a:cubicBezTo>
                    <a:pt x="1587" y="196"/>
                    <a:pt x="1599" y="219"/>
                    <a:pt x="1574" y="181"/>
                  </a:cubicBezTo>
                  <a:cubicBezTo>
                    <a:pt x="1577" y="160"/>
                    <a:pt x="1565" y="131"/>
                    <a:pt x="1582" y="117"/>
                  </a:cubicBezTo>
                  <a:cubicBezTo>
                    <a:pt x="1603" y="100"/>
                    <a:pt x="1637" y="117"/>
                    <a:pt x="1662" y="109"/>
                  </a:cubicBezTo>
                  <a:cubicBezTo>
                    <a:pt x="1687" y="101"/>
                    <a:pt x="1683" y="45"/>
                    <a:pt x="1694" y="29"/>
                  </a:cubicBezTo>
                  <a:cubicBezTo>
                    <a:pt x="1703" y="16"/>
                    <a:pt x="1728" y="10"/>
                    <a:pt x="1742" y="5"/>
                  </a:cubicBezTo>
                  <a:cubicBezTo>
                    <a:pt x="1771" y="8"/>
                    <a:pt x="1804" y="0"/>
                    <a:pt x="1830" y="13"/>
                  </a:cubicBezTo>
                  <a:cubicBezTo>
                    <a:pt x="1931" y="63"/>
                    <a:pt x="1753" y="53"/>
                    <a:pt x="1870" y="53"/>
                  </a:cubicBezTo>
                </a:path>
              </a:pathLst>
            </a:custGeom>
            <a:noFill/>
            <a:ln w="57240">
              <a:solidFill>
                <a:srgbClr val="ff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4" name="Прямоугольник 7"/>
          <p:cNvSpPr/>
          <p:nvPr/>
        </p:nvSpPr>
        <p:spPr>
          <a:xfrm>
            <a:off x="453960" y="561960"/>
            <a:ext cx="7934400" cy="16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            </a:t>
            </a:r>
            <a:r>
              <a:rPr b="1" lang="ru-RU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Объект исследования </a:t>
            </a:r>
            <a:r>
              <a:rPr b="0" lang="ru-RU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-         </a:t>
            </a:r>
            <a:r>
              <a:rPr b="0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население Алтайского края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Прямоугольник 8"/>
          <p:cNvSpPr/>
          <p:nvPr/>
        </p:nvSpPr>
        <p:spPr>
          <a:xfrm>
            <a:off x="453960" y="2637000"/>
            <a:ext cx="815040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едмет исследования </a:t>
            </a: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демографическая ситуация в Алтайском крае, ее динамика и территориальная дифференциац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" dur="2000"/>
                                        <p:tgtEl>
                                          <p:spTgt spid="10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10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0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0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0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6" name="Group 3"/>
          <p:cNvGrpSpPr/>
          <p:nvPr/>
        </p:nvGrpSpPr>
        <p:grpSpPr>
          <a:xfrm>
            <a:off x="250920" y="404640"/>
            <a:ext cx="1979640" cy="1366920"/>
            <a:chOff x="250920" y="404640"/>
            <a:chExt cx="1979640" cy="1366920"/>
          </a:xfrm>
        </p:grpSpPr>
        <p:sp>
          <p:nvSpPr>
            <p:cNvPr id="1007" name="Freeform 4"/>
            <p:cNvSpPr/>
            <p:nvPr/>
          </p:nvSpPr>
          <p:spPr>
            <a:xfrm>
              <a:off x="250920" y="407520"/>
              <a:ext cx="1502640" cy="308880"/>
            </a:xfrm>
            <a:custGeom>
              <a:avLst/>
              <a:gdLst>
                <a:gd name="textAreaLeft" fmla="*/ 0 w 1502640"/>
                <a:gd name="textAreaRight" fmla="*/ 1503000 w 1502640"/>
                <a:gd name="textAreaTop" fmla="*/ 0 h 308880"/>
                <a:gd name="textAreaBottom" fmla="*/ 308880 h 308880"/>
              </a:gdLst>
              <a:ahLst/>
              <a:rect l="textAreaLeft" t="textAreaTop" r="textAreaRight" b="textAreaBottom"/>
              <a:pathLst>
                <a:path w="4248" h="793">
                  <a:moveTo>
                    <a:pt x="0" y="704"/>
                  </a:moveTo>
                  <a:cubicBezTo>
                    <a:pt x="29" y="701"/>
                    <a:pt x="60" y="704"/>
                    <a:pt x="88" y="696"/>
                  </a:cubicBezTo>
                  <a:cubicBezTo>
                    <a:pt x="101" y="692"/>
                    <a:pt x="166" y="598"/>
                    <a:pt x="104" y="680"/>
                  </a:cubicBezTo>
                  <a:cubicBezTo>
                    <a:pt x="161" y="699"/>
                    <a:pt x="146" y="663"/>
                    <a:pt x="192" y="648"/>
                  </a:cubicBezTo>
                  <a:cubicBezTo>
                    <a:pt x="205" y="651"/>
                    <a:pt x="224" y="645"/>
                    <a:pt x="232" y="656"/>
                  </a:cubicBezTo>
                  <a:cubicBezTo>
                    <a:pt x="248" y="678"/>
                    <a:pt x="239" y="710"/>
                    <a:pt x="248" y="736"/>
                  </a:cubicBezTo>
                  <a:cubicBezTo>
                    <a:pt x="407" y="730"/>
                    <a:pt x="452" y="787"/>
                    <a:pt x="488" y="680"/>
                  </a:cubicBezTo>
                  <a:cubicBezTo>
                    <a:pt x="520" y="453"/>
                    <a:pt x="471" y="670"/>
                    <a:pt x="1000" y="616"/>
                  </a:cubicBezTo>
                  <a:cubicBezTo>
                    <a:pt x="1023" y="614"/>
                    <a:pt x="1062" y="547"/>
                    <a:pt x="1096" y="536"/>
                  </a:cubicBezTo>
                  <a:cubicBezTo>
                    <a:pt x="1115" y="508"/>
                    <a:pt x="1139" y="459"/>
                    <a:pt x="1168" y="440"/>
                  </a:cubicBezTo>
                  <a:cubicBezTo>
                    <a:pt x="1200" y="419"/>
                    <a:pt x="1276" y="419"/>
                    <a:pt x="1304" y="416"/>
                  </a:cubicBezTo>
                  <a:cubicBezTo>
                    <a:pt x="1327" y="381"/>
                    <a:pt x="1326" y="301"/>
                    <a:pt x="1360" y="296"/>
                  </a:cubicBezTo>
                  <a:cubicBezTo>
                    <a:pt x="1405" y="289"/>
                    <a:pt x="1451" y="291"/>
                    <a:pt x="1496" y="288"/>
                  </a:cubicBezTo>
                  <a:cubicBezTo>
                    <a:pt x="1538" y="274"/>
                    <a:pt x="1525" y="252"/>
                    <a:pt x="1560" y="232"/>
                  </a:cubicBezTo>
                  <a:cubicBezTo>
                    <a:pt x="1584" y="218"/>
                    <a:pt x="1614" y="217"/>
                    <a:pt x="1640" y="208"/>
                  </a:cubicBezTo>
                  <a:cubicBezTo>
                    <a:pt x="1648" y="205"/>
                    <a:pt x="1664" y="200"/>
                    <a:pt x="1664" y="200"/>
                  </a:cubicBezTo>
                  <a:cubicBezTo>
                    <a:pt x="1680" y="184"/>
                    <a:pt x="1696" y="168"/>
                    <a:pt x="1712" y="152"/>
                  </a:cubicBezTo>
                  <a:cubicBezTo>
                    <a:pt x="1720" y="144"/>
                    <a:pt x="1736" y="128"/>
                    <a:pt x="1736" y="128"/>
                  </a:cubicBezTo>
                  <a:cubicBezTo>
                    <a:pt x="1760" y="55"/>
                    <a:pt x="1725" y="69"/>
                    <a:pt x="1824" y="80"/>
                  </a:cubicBezTo>
                  <a:cubicBezTo>
                    <a:pt x="1835" y="83"/>
                    <a:pt x="1849" y="80"/>
                    <a:pt x="1856" y="88"/>
                  </a:cubicBezTo>
                  <a:cubicBezTo>
                    <a:pt x="1867" y="100"/>
                    <a:pt x="1878" y="182"/>
                    <a:pt x="1888" y="192"/>
                  </a:cubicBezTo>
                  <a:cubicBezTo>
                    <a:pt x="1896" y="200"/>
                    <a:pt x="1909" y="197"/>
                    <a:pt x="1920" y="200"/>
                  </a:cubicBezTo>
                  <a:cubicBezTo>
                    <a:pt x="1949" y="208"/>
                    <a:pt x="1942" y="206"/>
                    <a:pt x="1968" y="224"/>
                  </a:cubicBezTo>
                  <a:cubicBezTo>
                    <a:pt x="1971" y="232"/>
                    <a:pt x="1976" y="240"/>
                    <a:pt x="1976" y="248"/>
                  </a:cubicBezTo>
                  <a:cubicBezTo>
                    <a:pt x="1976" y="256"/>
                    <a:pt x="1965" y="264"/>
                    <a:pt x="1968" y="272"/>
                  </a:cubicBezTo>
                  <a:cubicBezTo>
                    <a:pt x="1979" y="299"/>
                    <a:pt x="2066" y="294"/>
                    <a:pt x="2088" y="296"/>
                  </a:cubicBezTo>
                  <a:cubicBezTo>
                    <a:pt x="2134" y="307"/>
                    <a:pt x="2178" y="325"/>
                    <a:pt x="2224" y="336"/>
                  </a:cubicBezTo>
                  <a:cubicBezTo>
                    <a:pt x="2244" y="377"/>
                    <a:pt x="2265" y="385"/>
                    <a:pt x="2296" y="416"/>
                  </a:cubicBezTo>
                  <a:cubicBezTo>
                    <a:pt x="2332" y="452"/>
                    <a:pt x="2289" y="432"/>
                    <a:pt x="2336" y="448"/>
                  </a:cubicBezTo>
                  <a:cubicBezTo>
                    <a:pt x="2341" y="464"/>
                    <a:pt x="2347" y="480"/>
                    <a:pt x="2352" y="496"/>
                  </a:cubicBezTo>
                  <a:cubicBezTo>
                    <a:pt x="2355" y="504"/>
                    <a:pt x="2360" y="520"/>
                    <a:pt x="2360" y="520"/>
                  </a:cubicBezTo>
                  <a:cubicBezTo>
                    <a:pt x="2354" y="538"/>
                    <a:pt x="2325" y="612"/>
                    <a:pt x="2352" y="624"/>
                  </a:cubicBezTo>
                  <a:cubicBezTo>
                    <a:pt x="2389" y="640"/>
                    <a:pt x="2432" y="629"/>
                    <a:pt x="2472" y="632"/>
                  </a:cubicBezTo>
                  <a:cubicBezTo>
                    <a:pt x="2488" y="637"/>
                    <a:pt x="2504" y="643"/>
                    <a:pt x="2520" y="648"/>
                  </a:cubicBezTo>
                  <a:cubicBezTo>
                    <a:pt x="2528" y="651"/>
                    <a:pt x="2544" y="656"/>
                    <a:pt x="2544" y="656"/>
                  </a:cubicBezTo>
                  <a:cubicBezTo>
                    <a:pt x="2572" y="677"/>
                    <a:pt x="2591" y="701"/>
                    <a:pt x="2624" y="712"/>
                  </a:cubicBezTo>
                  <a:cubicBezTo>
                    <a:pt x="2642" y="785"/>
                    <a:pt x="2622" y="764"/>
                    <a:pt x="2664" y="792"/>
                  </a:cubicBezTo>
                  <a:cubicBezTo>
                    <a:pt x="2707" y="789"/>
                    <a:pt x="2750" y="793"/>
                    <a:pt x="2792" y="784"/>
                  </a:cubicBezTo>
                  <a:cubicBezTo>
                    <a:pt x="2819" y="778"/>
                    <a:pt x="2832" y="712"/>
                    <a:pt x="2832" y="712"/>
                  </a:cubicBezTo>
                  <a:cubicBezTo>
                    <a:pt x="2839" y="646"/>
                    <a:pt x="2839" y="590"/>
                    <a:pt x="2896" y="552"/>
                  </a:cubicBezTo>
                  <a:cubicBezTo>
                    <a:pt x="2916" y="522"/>
                    <a:pt x="2946" y="476"/>
                    <a:pt x="2976" y="456"/>
                  </a:cubicBezTo>
                  <a:cubicBezTo>
                    <a:pt x="2989" y="447"/>
                    <a:pt x="3042" y="441"/>
                    <a:pt x="3048" y="440"/>
                  </a:cubicBezTo>
                  <a:cubicBezTo>
                    <a:pt x="3064" y="429"/>
                    <a:pt x="3080" y="419"/>
                    <a:pt x="3096" y="408"/>
                  </a:cubicBezTo>
                  <a:cubicBezTo>
                    <a:pt x="3106" y="401"/>
                    <a:pt x="3072" y="416"/>
                    <a:pt x="3064" y="424"/>
                  </a:cubicBezTo>
                  <a:cubicBezTo>
                    <a:pt x="3058" y="430"/>
                    <a:pt x="3081" y="421"/>
                    <a:pt x="3088" y="416"/>
                  </a:cubicBezTo>
                  <a:cubicBezTo>
                    <a:pt x="3096" y="411"/>
                    <a:pt x="3105" y="407"/>
                    <a:pt x="3112" y="400"/>
                  </a:cubicBezTo>
                  <a:cubicBezTo>
                    <a:pt x="3152" y="360"/>
                    <a:pt x="3125" y="379"/>
                    <a:pt x="3200" y="360"/>
                  </a:cubicBezTo>
                  <a:cubicBezTo>
                    <a:pt x="3211" y="357"/>
                    <a:pt x="3232" y="352"/>
                    <a:pt x="3232" y="352"/>
                  </a:cubicBezTo>
                  <a:cubicBezTo>
                    <a:pt x="3251" y="408"/>
                    <a:pt x="3307" y="331"/>
                    <a:pt x="3336" y="312"/>
                  </a:cubicBezTo>
                  <a:cubicBezTo>
                    <a:pt x="3440" y="242"/>
                    <a:pt x="3587" y="307"/>
                    <a:pt x="3712" y="304"/>
                  </a:cubicBezTo>
                  <a:cubicBezTo>
                    <a:pt x="3769" y="266"/>
                    <a:pt x="3829" y="263"/>
                    <a:pt x="3896" y="256"/>
                  </a:cubicBezTo>
                  <a:cubicBezTo>
                    <a:pt x="3908" y="221"/>
                    <a:pt x="3909" y="203"/>
                    <a:pt x="3936" y="176"/>
                  </a:cubicBezTo>
                  <a:cubicBezTo>
                    <a:pt x="3925" y="160"/>
                    <a:pt x="3908" y="147"/>
                    <a:pt x="3904" y="128"/>
                  </a:cubicBezTo>
                  <a:cubicBezTo>
                    <a:pt x="3900" y="108"/>
                    <a:pt x="3933" y="97"/>
                    <a:pt x="3944" y="96"/>
                  </a:cubicBezTo>
                  <a:cubicBezTo>
                    <a:pt x="3989" y="91"/>
                    <a:pt x="4035" y="91"/>
                    <a:pt x="4080" y="88"/>
                  </a:cubicBezTo>
                  <a:cubicBezTo>
                    <a:pt x="4168" y="73"/>
                    <a:pt x="4182" y="66"/>
                    <a:pt x="4248" y="0"/>
                  </a:cubicBezTo>
                </a:path>
              </a:pathLst>
            </a:custGeom>
            <a:noFill/>
            <a:ln w="57240">
              <a:solidFill>
                <a:srgbClr val="ff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Freeform 5"/>
            <p:cNvSpPr/>
            <p:nvPr/>
          </p:nvSpPr>
          <p:spPr>
            <a:xfrm>
              <a:off x="1760040" y="404640"/>
              <a:ext cx="465840" cy="649080"/>
            </a:xfrm>
            <a:custGeom>
              <a:avLst/>
              <a:gdLst>
                <a:gd name="textAreaLeft" fmla="*/ 0 w 465840"/>
                <a:gd name="textAreaRight" fmla="*/ 466200 w 465840"/>
                <a:gd name="textAreaTop" fmla="*/ 0 h 649080"/>
                <a:gd name="textAreaBottom" fmla="*/ 649080 h 649080"/>
              </a:gdLst>
              <a:ahLst/>
              <a:rect l="textAreaLeft" t="textAreaTop" r="textAreaRight" b="textAreaBottom"/>
              <a:pathLst>
                <a:path w="1317" h="1666">
                  <a:moveTo>
                    <a:pt x="5" y="0"/>
                  </a:moveTo>
                  <a:cubicBezTo>
                    <a:pt x="8" y="24"/>
                    <a:pt x="0" y="52"/>
                    <a:pt x="13" y="72"/>
                  </a:cubicBezTo>
                  <a:cubicBezTo>
                    <a:pt x="22" y="86"/>
                    <a:pt x="61" y="88"/>
                    <a:pt x="61" y="88"/>
                  </a:cubicBezTo>
                  <a:cubicBezTo>
                    <a:pt x="67" y="106"/>
                    <a:pt x="90" y="155"/>
                    <a:pt x="101" y="168"/>
                  </a:cubicBezTo>
                  <a:cubicBezTo>
                    <a:pt x="123" y="195"/>
                    <a:pt x="268" y="205"/>
                    <a:pt x="301" y="208"/>
                  </a:cubicBezTo>
                  <a:cubicBezTo>
                    <a:pt x="298" y="216"/>
                    <a:pt x="290" y="224"/>
                    <a:pt x="293" y="232"/>
                  </a:cubicBezTo>
                  <a:cubicBezTo>
                    <a:pt x="297" y="241"/>
                    <a:pt x="311" y="241"/>
                    <a:pt x="317" y="248"/>
                  </a:cubicBezTo>
                  <a:cubicBezTo>
                    <a:pt x="330" y="262"/>
                    <a:pt x="331" y="290"/>
                    <a:pt x="349" y="296"/>
                  </a:cubicBezTo>
                  <a:cubicBezTo>
                    <a:pt x="365" y="301"/>
                    <a:pt x="397" y="312"/>
                    <a:pt x="397" y="312"/>
                  </a:cubicBezTo>
                  <a:cubicBezTo>
                    <a:pt x="417" y="392"/>
                    <a:pt x="387" y="310"/>
                    <a:pt x="429" y="352"/>
                  </a:cubicBezTo>
                  <a:cubicBezTo>
                    <a:pt x="435" y="358"/>
                    <a:pt x="431" y="370"/>
                    <a:pt x="437" y="376"/>
                  </a:cubicBezTo>
                  <a:cubicBezTo>
                    <a:pt x="460" y="399"/>
                    <a:pt x="501" y="388"/>
                    <a:pt x="533" y="392"/>
                  </a:cubicBezTo>
                  <a:cubicBezTo>
                    <a:pt x="588" y="429"/>
                    <a:pt x="563" y="418"/>
                    <a:pt x="605" y="432"/>
                  </a:cubicBezTo>
                  <a:cubicBezTo>
                    <a:pt x="618" y="452"/>
                    <a:pt x="624" y="456"/>
                    <a:pt x="629" y="480"/>
                  </a:cubicBezTo>
                  <a:cubicBezTo>
                    <a:pt x="633" y="498"/>
                    <a:pt x="625" y="522"/>
                    <a:pt x="637" y="536"/>
                  </a:cubicBezTo>
                  <a:cubicBezTo>
                    <a:pt x="648" y="548"/>
                    <a:pt x="669" y="541"/>
                    <a:pt x="685" y="544"/>
                  </a:cubicBezTo>
                  <a:cubicBezTo>
                    <a:pt x="694" y="595"/>
                    <a:pt x="711" y="694"/>
                    <a:pt x="765" y="712"/>
                  </a:cubicBezTo>
                  <a:cubicBezTo>
                    <a:pt x="792" y="822"/>
                    <a:pt x="1029" y="804"/>
                    <a:pt x="1101" y="808"/>
                  </a:cubicBezTo>
                  <a:cubicBezTo>
                    <a:pt x="1095" y="840"/>
                    <a:pt x="1092" y="872"/>
                    <a:pt x="1085" y="904"/>
                  </a:cubicBezTo>
                  <a:cubicBezTo>
                    <a:pt x="1081" y="920"/>
                    <a:pt x="1083" y="943"/>
                    <a:pt x="1069" y="952"/>
                  </a:cubicBezTo>
                  <a:cubicBezTo>
                    <a:pt x="1027" y="980"/>
                    <a:pt x="997" y="1016"/>
                    <a:pt x="981" y="1064"/>
                  </a:cubicBezTo>
                  <a:cubicBezTo>
                    <a:pt x="993" y="1220"/>
                    <a:pt x="978" y="1182"/>
                    <a:pt x="1149" y="1192"/>
                  </a:cubicBezTo>
                  <a:cubicBezTo>
                    <a:pt x="1221" y="1240"/>
                    <a:pt x="1191" y="1277"/>
                    <a:pt x="1181" y="1384"/>
                  </a:cubicBezTo>
                  <a:cubicBezTo>
                    <a:pt x="1178" y="1412"/>
                    <a:pt x="1168" y="1407"/>
                    <a:pt x="1157" y="1432"/>
                  </a:cubicBezTo>
                  <a:cubicBezTo>
                    <a:pt x="1150" y="1447"/>
                    <a:pt x="1141" y="1480"/>
                    <a:pt x="1141" y="1480"/>
                  </a:cubicBezTo>
                  <a:cubicBezTo>
                    <a:pt x="1144" y="1496"/>
                    <a:pt x="1135" y="1520"/>
                    <a:pt x="1149" y="1528"/>
                  </a:cubicBezTo>
                  <a:cubicBezTo>
                    <a:pt x="1177" y="1543"/>
                    <a:pt x="1224" y="1512"/>
                    <a:pt x="1245" y="1536"/>
                  </a:cubicBezTo>
                  <a:cubicBezTo>
                    <a:pt x="1270" y="1564"/>
                    <a:pt x="1238" y="1614"/>
                    <a:pt x="1253" y="1648"/>
                  </a:cubicBezTo>
                  <a:cubicBezTo>
                    <a:pt x="1261" y="1666"/>
                    <a:pt x="1298" y="1664"/>
                    <a:pt x="1317" y="1664"/>
                  </a:cubicBezTo>
                </a:path>
              </a:pathLst>
            </a:custGeom>
            <a:noFill/>
            <a:ln w="57240">
              <a:solidFill>
                <a:srgbClr val="ff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Line 6"/>
            <p:cNvSpPr/>
            <p:nvPr/>
          </p:nvSpPr>
          <p:spPr>
            <a:xfrm>
              <a:off x="253800" y="788760"/>
              <a:ext cx="401040" cy="901800"/>
            </a:xfrm>
            <a:prstGeom prst="line">
              <a:avLst/>
            </a:prstGeom>
            <a:ln w="7632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Freeform 7"/>
            <p:cNvSpPr/>
            <p:nvPr/>
          </p:nvSpPr>
          <p:spPr>
            <a:xfrm>
              <a:off x="663840" y="1521360"/>
              <a:ext cx="879480" cy="250200"/>
            </a:xfrm>
            <a:custGeom>
              <a:avLst/>
              <a:gdLst>
                <a:gd name="textAreaLeft" fmla="*/ 0 w 879480"/>
                <a:gd name="textAreaRight" fmla="*/ 879840 w 879480"/>
                <a:gd name="textAreaTop" fmla="*/ 0 h 250200"/>
                <a:gd name="textAreaBottom" fmla="*/ 250200 h 250200"/>
              </a:gdLst>
              <a:ahLst/>
              <a:rect l="textAreaLeft" t="textAreaTop" r="textAreaRight" b="textAreaBottom"/>
              <a:pathLst>
                <a:path w="2487" h="642">
                  <a:moveTo>
                    <a:pt x="0" y="462"/>
                  </a:moveTo>
                  <a:cubicBezTo>
                    <a:pt x="37" y="453"/>
                    <a:pt x="51" y="446"/>
                    <a:pt x="72" y="414"/>
                  </a:cubicBezTo>
                  <a:cubicBezTo>
                    <a:pt x="91" y="339"/>
                    <a:pt x="135" y="396"/>
                    <a:pt x="192" y="358"/>
                  </a:cubicBezTo>
                  <a:cubicBezTo>
                    <a:pt x="220" y="316"/>
                    <a:pt x="252" y="279"/>
                    <a:pt x="280" y="238"/>
                  </a:cubicBezTo>
                  <a:cubicBezTo>
                    <a:pt x="290" y="66"/>
                    <a:pt x="257" y="91"/>
                    <a:pt x="400" y="78"/>
                  </a:cubicBezTo>
                  <a:cubicBezTo>
                    <a:pt x="405" y="70"/>
                    <a:pt x="412" y="63"/>
                    <a:pt x="416" y="54"/>
                  </a:cubicBezTo>
                  <a:cubicBezTo>
                    <a:pt x="423" y="39"/>
                    <a:pt x="432" y="6"/>
                    <a:pt x="432" y="6"/>
                  </a:cubicBezTo>
                  <a:cubicBezTo>
                    <a:pt x="461" y="9"/>
                    <a:pt x="494" y="0"/>
                    <a:pt x="520" y="14"/>
                  </a:cubicBezTo>
                  <a:cubicBezTo>
                    <a:pt x="558" y="34"/>
                    <a:pt x="519" y="87"/>
                    <a:pt x="568" y="102"/>
                  </a:cubicBezTo>
                  <a:cubicBezTo>
                    <a:pt x="586" y="107"/>
                    <a:pt x="605" y="107"/>
                    <a:pt x="624" y="110"/>
                  </a:cubicBezTo>
                  <a:cubicBezTo>
                    <a:pt x="621" y="131"/>
                    <a:pt x="616" y="153"/>
                    <a:pt x="616" y="174"/>
                  </a:cubicBezTo>
                  <a:cubicBezTo>
                    <a:pt x="616" y="347"/>
                    <a:pt x="616" y="278"/>
                    <a:pt x="832" y="286"/>
                  </a:cubicBezTo>
                  <a:cubicBezTo>
                    <a:pt x="848" y="642"/>
                    <a:pt x="860" y="478"/>
                    <a:pt x="1392" y="486"/>
                  </a:cubicBezTo>
                  <a:cubicBezTo>
                    <a:pt x="1453" y="527"/>
                    <a:pt x="1531" y="510"/>
                    <a:pt x="1600" y="502"/>
                  </a:cubicBezTo>
                  <a:cubicBezTo>
                    <a:pt x="1610" y="471"/>
                    <a:pt x="1630" y="469"/>
                    <a:pt x="1640" y="438"/>
                  </a:cubicBezTo>
                  <a:cubicBezTo>
                    <a:pt x="1656" y="314"/>
                    <a:pt x="1694" y="365"/>
                    <a:pt x="1856" y="358"/>
                  </a:cubicBezTo>
                  <a:cubicBezTo>
                    <a:pt x="1908" y="332"/>
                    <a:pt x="1932" y="319"/>
                    <a:pt x="1992" y="310"/>
                  </a:cubicBezTo>
                  <a:cubicBezTo>
                    <a:pt x="2079" y="281"/>
                    <a:pt x="2168" y="308"/>
                    <a:pt x="2256" y="318"/>
                  </a:cubicBezTo>
                  <a:cubicBezTo>
                    <a:pt x="2259" y="326"/>
                    <a:pt x="2257" y="338"/>
                    <a:pt x="2264" y="342"/>
                  </a:cubicBezTo>
                  <a:cubicBezTo>
                    <a:pt x="2278" y="350"/>
                    <a:pt x="2296" y="346"/>
                    <a:pt x="2312" y="350"/>
                  </a:cubicBezTo>
                  <a:cubicBezTo>
                    <a:pt x="2337" y="356"/>
                    <a:pt x="2338" y="360"/>
                    <a:pt x="2360" y="374"/>
                  </a:cubicBezTo>
                  <a:cubicBezTo>
                    <a:pt x="2365" y="390"/>
                    <a:pt x="2371" y="406"/>
                    <a:pt x="2376" y="422"/>
                  </a:cubicBezTo>
                  <a:cubicBezTo>
                    <a:pt x="2381" y="437"/>
                    <a:pt x="2377" y="455"/>
                    <a:pt x="2384" y="470"/>
                  </a:cubicBezTo>
                  <a:cubicBezTo>
                    <a:pt x="2392" y="486"/>
                    <a:pt x="2428" y="491"/>
                    <a:pt x="2440" y="494"/>
                  </a:cubicBezTo>
                  <a:cubicBezTo>
                    <a:pt x="2444" y="516"/>
                    <a:pt x="2440" y="542"/>
                    <a:pt x="2456" y="558"/>
                  </a:cubicBezTo>
                  <a:cubicBezTo>
                    <a:pt x="2462" y="564"/>
                    <a:pt x="2478" y="558"/>
                    <a:pt x="2480" y="566"/>
                  </a:cubicBezTo>
                  <a:cubicBezTo>
                    <a:pt x="2487" y="589"/>
                    <a:pt x="2480" y="614"/>
                    <a:pt x="2480" y="638"/>
                  </a:cubicBezTo>
                </a:path>
              </a:pathLst>
            </a:custGeom>
            <a:noFill/>
            <a:ln w="76320">
              <a:solidFill>
                <a:srgbClr val="ff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Freeform 8"/>
            <p:cNvSpPr/>
            <p:nvPr/>
          </p:nvSpPr>
          <p:spPr>
            <a:xfrm>
              <a:off x="1547640" y="1041840"/>
              <a:ext cx="682920" cy="715680"/>
            </a:xfrm>
            <a:custGeom>
              <a:avLst/>
              <a:gdLst>
                <a:gd name="textAreaLeft" fmla="*/ 0 w 682920"/>
                <a:gd name="textAreaRight" fmla="*/ 683280 w 682920"/>
                <a:gd name="textAreaTop" fmla="*/ 0 h 715680"/>
                <a:gd name="textAreaBottom" fmla="*/ 716040 h 715680"/>
              </a:gdLst>
              <a:ahLst/>
              <a:rect l="textAreaLeft" t="textAreaTop" r="textAreaRight" b="textAreaBottom"/>
              <a:pathLst>
                <a:path w="1931" h="1837">
                  <a:moveTo>
                    <a:pt x="46" y="1837"/>
                  </a:moveTo>
                  <a:cubicBezTo>
                    <a:pt x="143" y="1831"/>
                    <a:pt x="169" y="1828"/>
                    <a:pt x="246" y="1813"/>
                  </a:cubicBezTo>
                  <a:cubicBezTo>
                    <a:pt x="251" y="1805"/>
                    <a:pt x="259" y="1798"/>
                    <a:pt x="262" y="1789"/>
                  </a:cubicBezTo>
                  <a:cubicBezTo>
                    <a:pt x="267" y="1771"/>
                    <a:pt x="260" y="1749"/>
                    <a:pt x="270" y="1733"/>
                  </a:cubicBezTo>
                  <a:cubicBezTo>
                    <a:pt x="280" y="1717"/>
                    <a:pt x="318" y="1701"/>
                    <a:pt x="318" y="1701"/>
                  </a:cubicBezTo>
                  <a:cubicBezTo>
                    <a:pt x="323" y="1693"/>
                    <a:pt x="333" y="1687"/>
                    <a:pt x="334" y="1677"/>
                  </a:cubicBezTo>
                  <a:cubicBezTo>
                    <a:pt x="341" y="1610"/>
                    <a:pt x="317" y="1617"/>
                    <a:pt x="270" y="1605"/>
                  </a:cubicBezTo>
                  <a:cubicBezTo>
                    <a:pt x="267" y="1581"/>
                    <a:pt x="273" y="1555"/>
                    <a:pt x="262" y="1533"/>
                  </a:cubicBezTo>
                  <a:cubicBezTo>
                    <a:pt x="257" y="1523"/>
                    <a:pt x="241" y="1528"/>
                    <a:pt x="230" y="1525"/>
                  </a:cubicBezTo>
                  <a:cubicBezTo>
                    <a:pt x="166" y="1506"/>
                    <a:pt x="101" y="1490"/>
                    <a:pt x="38" y="1469"/>
                  </a:cubicBezTo>
                  <a:cubicBezTo>
                    <a:pt x="23" y="1447"/>
                    <a:pt x="0" y="1417"/>
                    <a:pt x="22" y="1389"/>
                  </a:cubicBezTo>
                  <a:cubicBezTo>
                    <a:pt x="27" y="1382"/>
                    <a:pt x="38" y="1385"/>
                    <a:pt x="46" y="1381"/>
                  </a:cubicBezTo>
                  <a:cubicBezTo>
                    <a:pt x="55" y="1377"/>
                    <a:pt x="62" y="1370"/>
                    <a:pt x="70" y="1365"/>
                  </a:cubicBezTo>
                  <a:cubicBezTo>
                    <a:pt x="123" y="1383"/>
                    <a:pt x="76" y="1376"/>
                    <a:pt x="110" y="1301"/>
                  </a:cubicBezTo>
                  <a:cubicBezTo>
                    <a:pt x="115" y="1289"/>
                    <a:pt x="147" y="1280"/>
                    <a:pt x="158" y="1277"/>
                  </a:cubicBezTo>
                  <a:cubicBezTo>
                    <a:pt x="192" y="1267"/>
                    <a:pt x="230" y="1269"/>
                    <a:pt x="262" y="1253"/>
                  </a:cubicBezTo>
                  <a:cubicBezTo>
                    <a:pt x="314" y="1227"/>
                    <a:pt x="257" y="1248"/>
                    <a:pt x="310" y="1213"/>
                  </a:cubicBezTo>
                  <a:cubicBezTo>
                    <a:pt x="370" y="1173"/>
                    <a:pt x="286" y="1269"/>
                    <a:pt x="382" y="1173"/>
                  </a:cubicBezTo>
                  <a:cubicBezTo>
                    <a:pt x="403" y="1152"/>
                    <a:pt x="425" y="1127"/>
                    <a:pt x="454" y="1117"/>
                  </a:cubicBezTo>
                  <a:cubicBezTo>
                    <a:pt x="505" y="1100"/>
                    <a:pt x="548" y="1078"/>
                    <a:pt x="598" y="1061"/>
                  </a:cubicBezTo>
                  <a:cubicBezTo>
                    <a:pt x="641" y="1047"/>
                    <a:pt x="689" y="1056"/>
                    <a:pt x="734" y="1053"/>
                  </a:cubicBezTo>
                  <a:cubicBezTo>
                    <a:pt x="798" y="1010"/>
                    <a:pt x="721" y="1066"/>
                    <a:pt x="774" y="1013"/>
                  </a:cubicBezTo>
                  <a:cubicBezTo>
                    <a:pt x="801" y="986"/>
                    <a:pt x="793" y="1005"/>
                    <a:pt x="822" y="989"/>
                  </a:cubicBezTo>
                  <a:cubicBezTo>
                    <a:pt x="874" y="960"/>
                    <a:pt x="924" y="919"/>
                    <a:pt x="966" y="877"/>
                  </a:cubicBezTo>
                  <a:cubicBezTo>
                    <a:pt x="970" y="855"/>
                    <a:pt x="979" y="835"/>
                    <a:pt x="982" y="813"/>
                  </a:cubicBezTo>
                  <a:cubicBezTo>
                    <a:pt x="987" y="773"/>
                    <a:pt x="969" y="722"/>
                    <a:pt x="998" y="693"/>
                  </a:cubicBezTo>
                  <a:cubicBezTo>
                    <a:pt x="1012" y="679"/>
                    <a:pt x="1030" y="672"/>
                    <a:pt x="1046" y="661"/>
                  </a:cubicBezTo>
                  <a:cubicBezTo>
                    <a:pt x="1079" y="639"/>
                    <a:pt x="1091" y="618"/>
                    <a:pt x="1110" y="589"/>
                  </a:cubicBezTo>
                  <a:cubicBezTo>
                    <a:pt x="1117" y="531"/>
                    <a:pt x="1112" y="511"/>
                    <a:pt x="1166" y="493"/>
                  </a:cubicBezTo>
                  <a:cubicBezTo>
                    <a:pt x="1303" y="510"/>
                    <a:pt x="1449" y="529"/>
                    <a:pt x="1582" y="485"/>
                  </a:cubicBezTo>
                  <a:cubicBezTo>
                    <a:pt x="1611" y="456"/>
                    <a:pt x="1633" y="427"/>
                    <a:pt x="1646" y="389"/>
                  </a:cubicBezTo>
                  <a:cubicBezTo>
                    <a:pt x="1641" y="324"/>
                    <a:pt x="1656" y="286"/>
                    <a:pt x="1606" y="253"/>
                  </a:cubicBezTo>
                  <a:cubicBezTo>
                    <a:pt x="1587" y="196"/>
                    <a:pt x="1599" y="219"/>
                    <a:pt x="1574" y="181"/>
                  </a:cubicBezTo>
                  <a:cubicBezTo>
                    <a:pt x="1577" y="160"/>
                    <a:pt x="1565" y="131"/>
                    <a:pt x="1582" y="117"/>
                  </a:cubicBezTo>
                  <a:cubicBezTo>
                    <a:pt x="1603" y="100"/>
                    <a:pt x="1637" y="117"/>
                    <a:pt x="1662" y="109"/>
                  </a:cubicBezTo>
                  <a:cubicBezTo>
                    <a:pt x="1687" y="101"/>
                    <a:pt x="1683" y="45"/>
                    <a:pt x="1694" y="29"/>
                  </a:cubicBezTo>
                  <a:cubicBezTo>
                    <a:pt x="1703" y="16"/>
                    <a:pt x="1728" y="10"/>
                    <a:pt x="1742" y="5"/>
                  </a:cubicBezTo>
                  <a:cubicBezTo>
                    <a:pt x="1771" y="8"/>
                    <a:pt x="1804" y="0"/>
                    <a:pt x="1830" y="13"/>
                  </a:cubicBezTo>
                  <a:cubicBezTo>
                    <a:pt x="1931" y="63"/>
                    <a:pt x="1753" y="53"/>
                    <a:pt x="1870" y="53"/>
                  </a:cubicBezTo>
                </a:path>
              </a:pathLst>
            </a:custGeom>
            <a:noFill/>
            <a:ln w="57240">
              <a:solidFill>
                <a:srgbClr val="ff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2" name="Прямоугольник 7"/>
          <p:cNvSpPr/>
          <p:nvPr/>
        </p:nvSpPr>
        <p:spPr>
          <a:xfrm>
            <a:off x="250920" y="260280"/>
            <a:ext cx="8569080" cy="60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  </a:t>
            </a:r>
            <a:r>
              <a:rPr b="0" lang="ru-RU" sz="8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Цель  работы</a:t>
            </a:r>
            <a:r>
              <a:rPr b="1" lang="ru-RU" sz="8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: </a:t>
            </a:r>
            <a:r>
              <a:rPr b="0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комплексное изучении демографической ситуации в Алтайском крае на современном этапе для обоснования актуальных направлений корректировки региональной демографической политик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0" dur="20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3" name="Group 3"/>
          <p:cNvGrpSpPr/>
          <p:nvPr/>
        </p:nvGrpSpPr>
        <p:grpSpPr>
          <a:xfrm>
            <a:off x="250920" y="404640"/>
            <a:ext cx="1979640" cy="1366920"/>
            <a:chOff x="250920" y="404640"/>
            <a:chExt cx="1979640" cy="1366920"/>
          </a:xfrm>
        </p:grpSpPr>
        <p:sp>
          <p:nvSpPr>
            <p:cNvPr id="1014" name="Freeform 4"/>
            <p:cNvSpPr/>
            <p:nvPr/>
          </p:nvSpPr>
          <p:spPr>
            <a:xfrm>
              <a:off x="250920" y="407520"/>
              <a:ext cx="1502640" cy="308880"/>
            </a:xfrm>
            <a:custGeom>
              <a:avLst/>
              <a:gdLst>
                <a:gd name="textAreaLeft" fmla="*/ 0 w 1502640"/>
                <a:gd name="textAreaRight" fmla="*/ 1503000 w 1502640"/>
                <a:gd name="textAreaTop" fmla="*/ 0 h 308880"/>
                <a:gd name="textAreaBottom" fmla="*/ 308880 h 308880"/>
              </a:gdLst>
              <a:ahLst/>
              <a:rect l="textAreaLeft" t="textAreaTop" r="textAreaRight" b="textAreaBottom"/>
              <a:pathLst>
                <a:path w="4248" h="793">
                  <a:moveTo>
                    <a:pt x="0" y="704"/>
                  </a:moveTo>
                  <a:cubicBezTo>
                    <a:pt x="29" y="701"/>
                    <a:pt x="60" y="704"/>
                    <a:pt x="88" y="696"/>
                  </a:cubicBezTo>
                  <a:cubicBezTo>
                    <a:pt x="101" y="692"/>
                    <a:pt x="166" y="598"/>
                    <a:pt x="104" y="680"/>
                  </a:cubicBezTo>
                  <a:cubicBezTo>
                    <a:pt x="161" y="699"/>
                    <a:pt x="146" y="663"/>
                    <a:pt x="192" y="648"/>
                  </a:cubicBezTo>
                  <a:cubicBezTo>
                    <a:pt x="205" y="651"/>
                    <a:pt x="224" y="645"/>
                    <a:pt x="232" y="656"/>
                  </a:cubicBezTo>
                  <a:cubicBezTo>
                    <a:pt x="248" y="678"/>
                    <a:pt x="239" y="710"/>
                    <a:pt x="248" y="736"/>
                  </a:cubicBezTo>
                  <a:cubicBezTo>
                    <a:pt x="407" y="730"/>
                    <a:pt x="452" y="787"/>
                    <a:pt x="488" y="680"/>
                  </a:cubicBezTo>
                  <a:cubicBezTo>
                    <a:pt x="520" y="453"/>
                    <a:pt x="471" y="670"/>
                    <a:pt x="1000" y="616"/>
                  </a:cubicBezTo>
                  <a:cubicBezTo>
                    <a:pt x="1023" y="614"/>
                    <a:pt x="1062" y="547"/>
                    <a:pt x="1096" y="536"/>
                  </a:cubicBezTo>
                  <a:cubicBezTo>
                    <a:pt x="1115" y="508"/>
                    <a:pt x="1139" y="459"/>
                    <a:pt x="1168" y="440"/>
                  </a:cubicBezTo>
                  <a:cubicBezTo>
                    <a:pt x="1200" y="419"/>
                    <a:pt x="1276" y="419"/>
                    <a:pt x="1304" y="416"/>
                  </a:cubicBezTo>
                  <a:cubicBezTo>
                    <a:pt x="1327" y="381"/>
                    <a:pt x="1326" y="301"/>
                    <a:pt x="1360" y="296"/>
                  </a:cubicBezTo>
                  <a:cubicBezTo>
                    <a:pt x="1405" y="289"/>
                    <a:pt x="1451" y="291"/>
                    <a:pt x="1496" y="288"/>
                  </a:cubicBezTo>
                  <a:cubicBezTo>
                    <a:pt x="1538" y="274"/>
                    <a:pt x="1525" y="252"/>
                    <a:pt x="1560" y="232"/>
                  </a:cubicBezTo>
                  <a:cubicBezTo>
                    <a:pt x="1584" y="218"/>
                    <a:pt x="1614" y="217"/>
                    <a:pt x="1640" y="208"/>
                  </a:cubicBezTo>
                  <a:cubicBezTo>
                    <a:pt x="1648" y="205"/>
                    <a:pt x="1664" y="200"/>
                    <a:pt x="1664" y="200"/>
                  </a:cubicBezTo>
                  <a:cubicBezTo>
                    <a:pt x="1680" y="184"/>
                    <a:pt x="1696" y="168"/>
                    <a:pt x="1712" y="152"/>
                  </a:cubicBezTo>
                  <a:cubicBezTo>
                    <a:pt x="1720" y="144"/>
                    <a:pt x="1736" y="128"/>
                    <a:pt x="1736" y="128"/>
                  </a:cubicBezTo>
                  <a:cubicBezTo>
                    <a:pt x="1760" y="55"/>
                    <a:pt x="1725" y="69"/>
                    <a:pt x="1824" y="80"/>
                  </a:cubicBezTo>
                  <a:cubicBezTo>
                    <a:pt x="1835" y="83"/>
                    <a:pt x="1849" y="80"/>
                    <a:pt x="1856" y="88"/>
                  </a:cubicBezTo>
                  <a:cubicBezTo>
                    <a:pt x="1867" y="100"/>
                    <a:pt x="1878" y="182"/>
                    <a:pt x="1888" y="192"/>
                  </a:cubicBezTo>
                  <a:cubicBezTo>
                    <a:pt x="1896" y="200"/>
                    <a:pt x="1909" y="197"/>
                    <a:pt x="1920" y="200"/>
                  </a:cubicBezTo>
                  <a:cubicBezTo>
                    <a:pt x="1949" y="208"/>
                    <a:pt x="1942" y="206"/>
                    <a:pt x="1968" y="224"/>
                  </a:cubicBezTo>
                  <a:cubicBezTo>
                    <a:pt x="1971" y="232"/>
                    <a:pt x="1976" y="240"/>
                    <a:pt x="1976" y="248"/>
                  </a:cubicBezTo>
                  <a:cubicBezTo>
                    <a:pt x="1976" y="256"/>
                    <a:pt x="1965" y="264"/>
                    <a:pt x="1968" y="272"/>
                  </a:cubicBezTo>
                  <a:cubicBezTo>
                    <a:pt x="1979" y="299"/>
                    <a:pt x="2066" y="294"/>
                    <a:pt x="2088" y="296"/>
                  </a:cubicBezTo>
                  <a:cubicBezTo>
                    <a:pt x="2134" y="307"/>
                    <a:pt x="2178" y="325"/>
                    <a:pt x="2224" y="336"/>
                  </a:cubicBezTo>
                  <a:cubicBezTo>
                    <a:pt x="2244" y="377"/>
                    <a:pt x="2265" y="385"/>
                    <a:pt x="2296" y="416"/>
                  </a:cubicBezTo>
                  <a:cubicBezTo>
                    <a:pt x="2332" y="452"/>
                    <a:pt x="2289" y="432"/>
                    <a:pt x="2336" y="448"/>
                  </a:cubicBezTo>
                  <a:cubicBezTo>
                    <a:pt x="2341" y="464"/>
                    <a:pt x="2347" y="480"/>
                    <a:pt x="2352" y="496"/>
                  </a:cubicBezTo>
                  <a:cubicBezTo>
                    <a:pt x="2355" y="504"/>
                    <a:pt x="2360" y="520"/>
                    <a:pt x="2360" y="520"/>
                  </a:cubicBezTo>
                  <a:cubicBezTo>
                    <a:pt x="2354" y="538"/>
                    <a:pt x="2325" y="612"/>
                    <a:pt x="2352" y="624"/>
                  </a:cubicBezTo>
                  <a:cubicBezTo>
                    <a:pt x="2389" y="640"/>
                    <a:pt x="2432" y="629"/>
                    <a:pt x="2472" y="632"/>
                  </a:cubicBezTo>
                  <a:cubicBezTo>
                    <a:pt x="2488" y="637"/>
                    <a:pt x="2504" y="643"/>
                    <a:pt x="2520" y="648"/>
                  </a:cubicBezTo>
                  <a:cubicBezTo>
                    <a:pt x="2528" y="651"/>
                    <a:pt x="2544" y="656"/>
                    <a:pt x="2544" y="656"/>
                  </a:cubicBezTo>
                  <a:cubicBezTo>
                    <a:pt x="2572" y="677"/>
                    <a:pt x="2591" y="701"/>
                    <a:pt x="2624" y="712"/>
                  </a:cubicBezTo>
                  <a:cubicBezTo>
                    <a:pt x="2642" y="785"/>
                    <a:pt x="2622" y="764"/>
                    <a:pt x="2664" y="792"/>
                  </a:cubicBezTo>
                  <a:cubicBezTo>
                    <a:pt x="2707" y="789"/>
                    <a:pt x="2750" y="793"/>
                    <a:pt x="2792" y="784"/>
                  </a:cubicBezTo>
                  <a:cubicBezTo>
                    <a:pt x="2819" y="778"/>
                    <a:pt x="2832" y="712"/>
                    <a:pt x="2832" y="712"/>
                  </a:cubicBezTo>
                  <a:cubicBezTo>
                    <a:pt x="2839" y="646"/>
                    <a:pt x="2839" y="590"/>
                    <a:pt x="2896" y="552"/>
                  </a:cubicBezTo>
                  <a:cubicBezTo>
                    <a:pt x="2916" y="522"/>
                    <a:pt x="2946" y="476"/>
                    <a:pt x="2976" y="456"/>
                  </a:cubicBezTo>
                  <a:cubicBezTo>
                    <a:pt x="2989" y="447"/>
                    <a:pt x="3042" y="441"/>
                    <a:pt x="3048" y="440"/>
                  </a:cubicBezTo>
                  <a:cubicBezTo>
                    <a:pt x="3064" y="429"/>
                    <a:pt x="3080" y="419"/>
                    <a:pt x="3096" y="408"/>
                  </a:cubicBezTo>
                  <a:cubicBezTo>
                    <a:pt x="3106" y="401"/>
                    <a:pt x="3072" y="416"/>
                    <a:pt x="3064" y="424"/>
                  </a:cubicBezTo>
                  <a:cubicBezTo>
                    <a:pt x="3058" y="430"/>
                    <a:pt x="3081" y="421"/>
                    <a:pt x="3088" y="416"/>
                  </a:cubicBezTo>
                  <a:cubicBezTo>
                    <a:pt x="3096" y="411"/>
                    <a:pt x="3105" y="407"/>
                    <a:pt x="3112" y="400"/>
                  </a:cubicBezTo>
                  <a:cubicBezTo>
                    <a:pt x="3152" y="360"/>
                    <a:pt x="3125" y="379"/>
                    <a:pt x="3200" y="360"/>
                  </a:cubicBezTo>
                  <a:cubicBezTo>
                    <a:pt x="3211" y="357"/>
                    <a:pt x="3232" y="352"/>
                    <a:pt x="3232" y="352"/>
                  </a:cubicBezTo>
                  <a:cubicBezTo>
                    <a:pt x="3251" y="408"/>
                    <a:pt x="3307" y="331"/>
                    <a:pt x="3336" y="312"/>
                  </a:cubicBezTo>
                  <a:cubicBezTo>
                    <a:pt x="3440" y="242"/>
                    <a:pt x="3587" y="307"/>
                    <a:pt x="3712" y="304"/>
                  </a:cubicBezTo>
                  <a:cubicBezTo>
                    <a:pt x="3769" y="266"/>
                    <a:pt x="3829" y="263"/>
                    <a:pt x="3896" y="256"/>
                  </a:cubicBezTo>
                  <a:cubicBezTo>
                    <a:pt x="3908" y="221"/>
                    <a:pt x="3909" y="203"/>
                    <a:pt x="3936" y="176"/>
                  </a:cubicBezTo>
                  <a:cubicBezTo>
                    <a:pt x="3925" y="160"/>
                    <a:pt x="3908" y="147"/>
                    <a:pt x="3904" y="128"/>
                  </a:cubicBezTo>
                  <a:cubicBezTo>
                    <a:pt x="3900" y="108"/>
                    <a:pt x="3933" y="97"/>
                    <a:pt x="3944" y="96"/>
                  </a:cubicBezTo>
                  <a:cubicBezTo>
                    <a:pt x="3989" y="91"/>
                    <a:pt x="4035" y="91"/>
                    <a:pt x="4080" y="88"/>
                  </a:cubicBezTo>
                  <a:cubicBezTo>
                    <a:pt x="4168" y="73"/>
                    <a:pt x="4182" y="66"/>
                    <a:pt x="4248" y="0"/>
                  </a:cubicBezTo>
                </a:path>
              </a:pathLst>
            </a:custGeom>
            <a:noFill/>
            <a:ln w="57240">
              <a:solidFill>
                <a:srgbClr val="ff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Freeform 5"/>
            <p:cNvSpPr/>
            <p:nvPr/>
          </p:nvSpPr>
          <p:spPr>
            <a:xfrm>
              <a:off x="1760040" y="404640"/>
              <a:ext cx="465840" cy="649080"/>
            </a:xfrm>
            <a:custGeom>
              <a:avLst/>
              <a:gdLst>
                <a:gd name="textAreaLeft" fmla="*/ 0 w 465840"/>
                <a:gd name="textAreaRight" fmla="*/ 466200 w 465840"/>
                <a:gd name="textAreaTop" fmla="*/ 0 h 649080"/>
                <a:gd name="textAreaBottom" fmla="*/ 649080 h 649080"/>
              </a:gdLst>
              <a:ahLst/>
              <a:rect l="textAreaLeft" t="textAreaTop" r="textAreaRight" b="textAreaBottom"/>
              <a:pathLst>
                <a:path w="1317" h="1666">
                  <a:moveTo>
                    <a:pt x="5" y="0"/>
                  </a:moveTo>
                  <a:cubicBezTo>
                    <a:pt x="8" y="24"/>
                    <a:pt x="0" y="52"/>
                    <a:pt x="13" y="72"/>
                  </a:cubicBezTo>
                  <a:cubicBezTo>
                    <a:pt x="22" y="86"/>
                    <a:pt x="61" y="88"/>
                    <a:pt x="61" y="88"/>
                  </a:cubicBezTo>
                  <a:cubicBezTo>
                    <a:pt x="67" y="106"/>
                    <a:pt x="90" y="155"/>
                    <a:pt x="101" y="168"/>
                  </a:cubicBezTo>
                  <a:cubicBezTo>
                    <a:pt x="123" y="195"/>
                    <a:pt x="268" y="205"/>
                    <a:pt x="301" y="208"/>
                  </a:cubicBezTo>
                  <a:cubicBezTo>
                    <a:pt x="298" y="216"/>
                    <a:pt x="290" y="224"/>
                    <a:pt x="293" y="232"/>
                  </a:cubicBezTo>
                  <a:cubicBezTo>
                    <a:pt x="297" y="241"/>
                    <a:pt x="311" y="241"/>
                    <a:pt x="317" y="248"/>
                  </a:cubicBezTo>
                  <a:cubicBezTo>
                    <a:pt x="330" y="262"/>
                    <a:pt x="331" y="290"/>
                    <a:pt x="349" y="296"/>
                  </a:cubicBezTo>
                  <a:cubicBezTo>
                    <a:pt x="365" y="301"/>
                    <a:pt x="397" y="312"/>
                    <a:pt x="397" y="312"/>
                  </a:cubicBezTo>
                  <a:cubicBezTo>
                    <a:pt x="417" y="392"/>
                    <a:pt x="387" y="310"/>
                    <a:pt x="429" y="352"/>
                  </a:cubicBezTo>
                  <a:cubicBezTo>
                    <a:pt x="435" y="358"/>
                    <a:pt x="431" y="370"/>
                    <a:pt x="437" y="376"/>
                  </a:cubicBezTo>
                  <a:cubicBezTo>
                    <a:pt x="460" y="399"/>
                    <a:pt x="501" y="388"/>
                    <a:pt x="533" y="392"/>
                  </a:cubicBezTo>
                  <a:cubicBezTo>
                    <a:pt x="588" y="429"/>
                    <a:pt x="563" y="418"/>
                    <a:pt x="605" y="432"/>
                  </a:cubicBezTo>
                  <a:cubicBezTo>
                    <a:pt x="618" y="452"/>
                    <a:pt x="624" y="456"/>
                    <a:pt x="629" y="480"/>
                  </a:cubicBezTo>
                  <a:cubicBezTo>
                    <a:pt x="633" y="498"/>
                    <a:pt x="625" y="522"/>
                    <a:pt x="637" y="536"/>
                  </a:cubicBezTo>
                  <a:cubicBezTo>
                    <a:pt x="648" y="548"/>
                    <a:pt x="669" y="541"/>
                    <a:pt x="685" y="544"/>
                  </a:cubicBezTo>
                  <a:cubicBezTo>
                    <a:pt x="694" y="595"/>
                    <a:pt x="711" y="694"/>
                    <a:pt x="765" y="712"/>
                  </a:cubicBezTo>
                  <a:cubicBezTo>
                    <a:pt x="792" y="822"/>
                    <a:pt x="1029" y="804"/>
                    <a:pt x="1101" y="808"/>
                  </a:cubicBezTo>
                  <a:cubicBezTo>
                    <a:pt x="1095" y="840"/>
                    <a:pt x="1092" y="872"/>
                    <a:pt x="1085" y="904"/>
                  </a:cubicBezTo>
                  <a:cubicBezTo>
                    <a:pt x="1081" y="920"/>
                    <a:pt x="1083" y="943"/>
                    <a:pt x="1069" y="952"/>
                  </a:cubicBezTo>
                  <a:cubicBezTo>
                    <a:pt x="1027" y="980"/>
                    <a:pt x="997" y="1016"/>
                    <a:pt x="981" y="1064"/>
                  </a:cubicBezTo>
                  <a:cubicBezTo>
                    <a:pt x="993" y="1220"/>
                    <a:pt x="978" y="1182"/>
                    <a:pt x="1149" y="1192"/>
                  </a:cubicBezTo>
                  <a:cubicBezTo>
                    <a:pt x="1221" y="1240"/>
                    <a:pt x="1191" y="1277"/>
                    <a:pt x="1181" y="1384"/>
                  </a:cubicBezTo>
                  <a:cubicBezTo>
                    <a:pt x="1178" y="1412"/>
                    <a:pt x="1168" y="1407"/>
                    <a:pt x="1157" y="1432"/>
                  </a:cubicBezTo>
                  <a:cubicBezTo>
                    <a:pt x="1150" y="1447"/>
                    <a:pt x="1141" y="1480"/>
                    <a:pt x="1141" y="1480"/>
                  </a:cubicBezTo>
                  <a:cubicBezTo>
                    <a:pt x="1144" y="1496"/>
                    <a:pt x="1135" y="1520"/>
                    <a:pt x="1149" y="1528"/>
                  </a:cubicBezTo>
                  <a:cubicBezTo>
                    <a:pt x="1177" y="1543"/>
                    <a:pt x="1224" y="1512"/>
                    <a:pt x="1245" y="1536"/>
                  </a:cubicBezTo>
                  <a:cubicBezTo>
                    <a:pt x="1270" y="1564"/>
                    <a:pt x="1238" y="1614"/>
                    <a:pt x="1253" y="1648"/>
                  </a:cubicBezTo>
                  <a:cubicBezTo>
                    <a:pt x="1261" y="1666"/>
                    <a:pt x="1298" y="1664"/>
                    <a:pt x="1317" y="1664"/>
                  </a:cubicBezTo>
                </a:path>
              </a:pathLst>
            </a:custGeom>
            <a:noFill/>
            <a:ln w="57240">
              <a:solidFill>
                <a:srgbClr val="ff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Line 6"/>
            <p:cNvSpPr/>
            <p:nvPr/>
          </p:nvSpPr>
          <p:spPr>
            <a:xfrm>
              <a:off x="253800" y="788760"/>
              <a:ext cx="401040" cy="901800"/>
            </a:xfrm>
            <a:prstGeom prst="line">
              <a:avLst/>
            </a:prstGeom>
            <a:ln w="7632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Freeform 7"/>
            <p:cNvSpPr/>
            <p:nvPr/>
          </p:nvSpPr>
          <p:spPr>
            <a:xfrm>
              <a:off x="663840" y="1521360"/>
              <a:ext cx="879480" cy="250200"/>
            </a:xfrm>
            <a:custGeom>
              <a:avLst/>
              <a:gdLst>
                <a:gd name="textAreaLeft" fmla="*/ 0 w 879480"/>
                <a:gd name="textAreaRight" fmla="*/ 879840 w 879480"/>
                <a:gd name="textAreaTop" fmla="*/ 0 h 250200"/>
                <a:gd name="textAreaBottom" fmla="*/ 250200 h 250200"/>
              </a:gdLst>
              <a:ahLst/>
              <a:rect l="textAreaLeft" t="textAreaTop" r="textAreaRight" b="textAreaBottom"/>
              <a:pathLst>
                <a:path w="2487" h="642">
                  <a:moveTo>
                    <a:pt x="0" y="462"/>
                  </a:moveTo>
                  <a:cubicBezTo>
                    <a:pt x="37" y="453"/>
                    <a:pt x="51" y="446"/>
                    <a:pt x="72" y="414"/>
                  </a:cubicBezTo>
                  <a:cubicBezTo>
                    <a:pt x="91" y="339"/>
                    <a:pt x="135" y="396"/>
                    <a:pt x="192" y="358"/>
                  </a:cubicBezTo>
                  <a:cubicBezTo>
                    <a:pt x="220" y="316"/>
                    <a:pt x="252" y="279"/>
                    <a:pt x="280" y="238"/>
                  </a:cubicBezTo>
                  <a:cubicBezTo>
                    <a:pt x="290" y="66"/>
                    <a:pt x="257" y="91"/>
                    <a:pt x="400" y="78"/>
                  </a:cubicBezTo>
                  <a:cubicBezTo>
                    <a:pt x="405" y="70"/>
                    <a:pt x="412" y="63"/>
                    <a:pt x="416" y="54"/>
                  </a:cubicBezTo>
                  <a:cubicBezTo>
                    <a:pt x="423" y="39"/>
                    <a:pt x="432" y="6"/>
                    <a:pt x="432" y="6"/>
                  </a:cubicBezTo>
                  <a:cubicBezTo>
                    <a:pt x="461" y="9"/>
                    <a:pt x="494" y="0"/>
                    <a:pt x="520" y="14"/>
                  </a:cubicBezTo>
                  <a:cubicBezTo>
                    <a:pt x="558" y="34"/>
                    <a:pt x="519" y="87"/>
                    <a:pt x="568" y="102"/>
                  </a:cubicBezTo>
                  <a:cubicBezTo>
                    <a:pt x="586" y="107"/>
                    <a:pt x="605" y="107"/>
                    <a:pt x="624" y="110"/>
                  </a:cubicBezTo>
                  <a:cubicBezTo>
                    <a:pt x="621" y="131"/>
                    <a:pt x="616" y="153"/>
                    <a:pt x="616" y="174"/>
                  </a:cubicBezTo>
                  <a:cubicBezTo>
                    <a:pt x="616" y="347"/>
                    <a:pt x="616" y="278"/>
                    <a:pt x="832" y="286"/>
                  </a:cubicBezTo>
                  <a:cubicBezTo>
                    <a:pt x="848" y="642"/>
                    <a:pt x="860" y="478"/>
                    <a:pt x="1392" y="486"/>
                  </a:cubicBezTo>
                  <a:cubicBezTo>
                    <a:pt x="1453" y="527"/>
                    <a:pt x="1531" y="510"/>
                    <a:pt x="1600" y="502"/>
                  </a:cubicBezTo>
                  <a:cubicBezTo>
                    <a:pt x="1610" y="471"/>
                    <a:pt x="1630" y="469"/>
                    <a:pt x="1640" y="438"/>
                  </a:cubicBezTo>
                  <a:cubicBezTo>
                    <a:pt x="1656" y="314"/>
                    <a:pt x="1694" y="365"/>
                    <a:pt x="1856" y="358"/>
                  </a:cubicBezTo>
                  <a:cubicBezTo>
                    <a:pt x="1908" y="332"/>
                    <a:pt x="1932" y="319"/>
                    <a:pt x="1992" y="310"/>
                  </a:cubicBezTo>
                  <a:cubicBezTo>
                    <a:pt x="2079" y="281"/>
                    <a:pt x="2168" y="308"/>
                    <a:pt x="2256" y="318"/>
                  </a:cubicBezTo>
                  <a:cubicBezTo>
                    <a:pt x="2259" y="326"/>
                    <a:pt x="2257" y="338"/>
                    <a:pt x="2264" y="342"/>
                  </a:cubicBezTo>
                  <a:cubicBezTo>
                    <a:pt x="2278" y="350"/>
                    <a:pt x="2296" y="346"/>
                    <a:pt x="2312" y="350"/>
                  </a:cubicBezTo>
                  <a:cubicBezTo>
                    <a:pt x="2337" y="356"/>
                    <a:pt x="2338" y="360"/>
                    <a:pt x="2360" y="374"/>
                  </a:cubicBezTo>
                  <a:cubicBezTo>
                    <a:pt x="2365" y="390"/>
                    <a:pt x="2371" y="406"/>
                    <a:pt x="2376" y="422"/>
                  </a:cubicBezTo>
                  <a:cubicBezTo>
                    <a:pt x="2381" y="437"/>
                    <a:pt x="2377" y="455"/>
                    <a:pt x="2384" y="470"/>
                  </a:cubicBezTo>
                  <a:cubicBezTo>
                    <a:pt x="2392" y="486"/>
                    <a:pt x="2428" y="491"/>
                    <a:pt x="2440" y="494"/>
                  </a:cubicBezTo>
                  <a:cubicBezTo>
                    <a:pt x="2444" y="516"/>
                    <a:pt x="2440" y="542"/>
                    <a:pt x="2456" y="558"/>
                  </a:cubicBezTo>
                  <a:cubicBezTo>
                    <a:pt x="2462" y="564"/>
                    <a:pt x="2478" y="558"/>
                    <a:pt x="2480" y="566"/>
                  </a:cubicBezTo>
                  <a:cubicBezTo>
                    <a:pt x="2487" y="589"/>
                    <a:pt x="2480" y="614"/>
                    <a:pt x="2480" y="638"/>
                  </a:cubicBezTo>
                </a:path>
              </a:pathLst>
            </a:custGeom>
            <a:noFill/>
            <a:ln w="76320">
              <a:solidFill>
                <a:srgbClr val="ff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Freeform 8"/>
            <p:cNvSpPr/>
            <p:nvPr/>
          </p:nvSpPr>
          <p:spPr>
            <a:xfrm>
              <a:off x="1547640" y="1041840"/>
              <a:ext cx="682920" cy="715680"/>
            </a:xfrm>
            <a:custGeom>
              <a:avLst/>
              <a:gdLst>
                <a:gd name="textAreaLeft" fmla="*/ 0 w 682920"/>
                <a:gd name="textAreaRight" fmla="*/ 683280 w 682920"/>
                <a:gd name="textAreaTop" fmla="*/ 0 h 715680"/>
                <a:gd name="textAreaBottom" fmla="*/ 716040 h 715680"/>
              </a:gdLst>
              <a:ahLst/>
              <a:rect l="textAreaLeft" t="textAreaTop" r="textAreaRight" b="textAreaBottom"/>
              <a:pathLst>
                <a:path w="1931" h="1837">
                  <a:moveTo>
                    <a:pt x="46" y="1837"/>
                  </a:moveTo>
                  <a:cubicBezTo>
                    <a:pt x="143" y="1831"/>
                    <a:pt x="169" y="1828"/>
                    <a:pt x="246" y="1813"/>
                  </a:cubicBezTo>
                  <a:cubicBezTo>
                    <a:pt x="251" y="1805"/>
                    <a:pt x="259" y="1798"/>
                    <a:pt x="262" y="1789"/>
                  </a:cubicBezTo>
                  <a:cubicBezTo>
                    <a:pt x="267" y="1771"/>
                    <a:pt x="260" y="1749"/>
                    <a:pt x="270" y="1733"/>
                  </a:cubicBezTo>
                  <a:cubicBezTo>
                    <a:pt x="280" y="1717"/>
                    <a:pt x="318" y="1701"/>
                    <a:pt x="318" y="1701"/>
                  </a:cubicBezTo>
                  <a:cubicBezTo>
                    <a:pt x="323" y="1693"/>
                    <a:pt x="333" y="1687"/>
                    <a:pt x="334" y="1677"/>
                  </a:cubicBezTo>
                  <a:cubicBezTo>
                    <a:pt x="341" y="1610"/>
                    <a:pt x="317" y="1617"/>
                    <a:pt x="270" y="1605"/>
                  </a:cubicBezTo>
                  <a:cubicBezTo>
                    <a:pt x="267" y="1581"/>
                    <a:pt x="273" y="1555"/>
                    <a:pt x="262" y="1533"/>
                  </a:cubicBezTo>
                  <a:cubicBezTo>
                    <a:pt x="257" y="1523"/>
                    <a:pt x="241" y="1528"/>
                    <a:pt x="230" y="1525"/>
                  </a:cubicBezTo>
                  <a:cubicBezTo>
                    <a:pt x="166" y="1506"/>
                    <a:pt x="101" y="1490"/>
                    <a:pt x="38" y="1469"/>
                  </a:cubicBezTo>
                  <a:cubicBezTo>
                    <a:pt x="23" y="1447"/>
                    <a:pt x="0" y="1417"/>
                    <a:pt x="22" y="1389"/>
                  </a:cubicBezTo>
                  <a:cubicBezTo>
                    <a:pt x="27" y="1382"/>
                    <a:pt x="38" y="1385"/>
                    <a:pt x="46" y="1381"/>
                  </a:cubicBezTo>
                  <a:cubicBezTo>
                    <a:pt x="55" y="1377"/>
                    <a:pt x="62" y="1370"/>
                    <a:pt x="70" y="1365"/>
                  </a:cubicBezTo>
                  <a:cubicBezTo>
                    <a:pt x="123" y="1383"/>
                    <a:pt x="76" y="1376"/>
                    <a:pt x="110" y="1301"/>
                  </a:cubicBezTo>
                  <a:cubicBezTo>
                    <a:pt x="115" y="1289"/>
                    <a:pt x="147" y="1280"/>
                    <a:pt x="158" y="1277"/>
                  </a:cubicBezTo>
                  <a:cubicBezTo>
                    <a:pt x="192" y="1267"/>
                    <a:pt x="230" y="1269"/>
                    <a:pt x="262" y="1253"/>
                  </a:cubicBezTo>
                  <a:cubicBezTo>
                    <a:pt x="314" y="1227"/>
                    <a:pt x="257" y="1248"/>
                    <a:pt x="310" y="1213"/>
                  </a:cubicBezTo>
                  <a:cubicBezTo>
                    <a:pt x="370" y="1173"/>
                    <a:pt x="286" y="1269"/>
                    <a:pt x="382" y="1173"/>
                  </a:cubicBezTo>
                  <a:cubicBezTo>
                    <a:pt x="403" y="1152"/>
                    <a:pt x="425" y="1127"/>
                    <a:pt x="454" y="1117"/>
                  </a:cubicBezTo>
                  <a:cubicBezTo>
                    <a:pt x="505" y="1100"/>
                    <a:pt x="548" y="1078"/>
                    <a:pt x="598" y="1061"/>
                  </a:cubicBezTo>
                  <a:cubicBezTo>
                    <a:pt x="641" y="1047"/>
                    <a:pt x="689" y="1056"/>
                    <a:pt x="734" y="1053"/>
                  </a:cubicBezTo>
                  <a:cubicBezTo>
                    <a:pt x="798" y="1010"/>
                    <a:pt x="721" y="1066"/>
                    <a:pt x="774" y="1013"/>
                  </a:cubicBezTo>
                  <a:cubicBezTo>
                    <a:pt x="801" y="986"/>
                    <a:pt x="793" y="1005"/>
                    <a:pt x="822" y="989"/>
                  </a:cubicBezTo>
                  <a:cubicBezTo>
                    <a:pt x="874" y="960"/>
                    <a:pt x="924" y="919"/>
                    <a:pt x="966" y="877"/>
                  </a:cubicBezTo>
                  <a:cubicBezTo>
                    <a:pt x="970" y="855"/>
                    <a:pt x="979" y="835"/>
                    <a:pt x="982" y="813"/>
                  </a:cubicBezTo>
                  <a:cubicBezTo>
                    <a:pt x="987" y="773"/>
                    <a:pt x="969" y="722"/>
                    <a:pt x="998" y="693"/>
                  </a:cubicBezTo>
                  <a:cubicBezTo>
                    <a:pt x="1012" y="679"/>
                    <a:pt x="1030" y="672"/>
                    <a:pt x="1046" y="661"/>
                  </a:cubicBezTo>
                  <a:cubicBezTo>
                    <a:pt x="1079" y="639"/>
                    <a:pt x="1091" y="618"/>
                    <a:pt x="1110" y="589"/>
                  </a:cubicBezTo>
                  <a:cubicBezTo>
                    <a:pt x="1117" y="531"/>
                    <a:pt x="1112" y="511"/>
                    <a:pt x="1166" y="493"/>
                  </a:cubicBezTo>
                  <a:cubicBezTo>
                    <a:pt x="1303" y="510"/>
                    <a:pt x="1449" y="529"/>
                    <a:pt x="1582" y="485"/>
                  </a:cubicBezTo>
                  <a:cubicBezTo>
                    <a:pt x="1611" y="456"/>
                    <a:pt x="1633" y="427"/>
                    <a:pt x="1646" y="389"/>
                  </a:cubicBezTo>
                  <a:cubicBezTo>
                    <a:pt x="1641" y="324"/>
                    <a:pt x="1656" y="286"/>
                    <a:pt x="1606" y="253"/>
                  </a:cubicBezTo>
                  <a:cubicBezTo>
                    <a:pt x="1587" y="196"/>
                    <a:pt x="1599" y="219"/>
                    <a:pt x="1574" y="181"/>
                  </a:cubicBezTo>
                  <a:cubicBezTo>
                    <a:pt x="1577" y="160"/>
                    <a:pt x="1565" y="131"/>
                    <a:pt x="1582" y="117"/>
                  </a:cubicBezTo>
                  <a:cubicBezTo>
                    <a:pt x="1603" y="100"/>
                    <a:pt x="1637" y="117"/>
                    <a:pt x="1662" y="109"/>
                  </a:cubicBezTo>
                  <a:cubicBezTo>
                    <a:pt x="1687" y="101"/>
                    <a:pt x="1683" y="45"/>
                    <a:pt x="1694" y="29"/>
                  </a:cubicBezTo>
                  <a:cubicBezTo>
                    <a:pt x="1703" y="16"/>
                    <a:pt x="1728" y="10"/>
                    <a:pt x="1742" y="5"/>
                  </a:cubicBezTo>
                  <a:cubicBezTo>
                    <a:pt x="1771" y="8"/>
                    <a:pt x="1804" y="0"/>
                    <a:pt x="1830" y="13"/>
                  </a:cubicBezTo>
                  <a:cubicBezTo>
                    <a:pt x="1931" y="63"/>
                    <a:pt x="1753" y="53"/>
                    <a:pt x="1870" y="53"/>
                  </a:cubicBezTo>
                </a:path>
              </a:pathLst>
            </a:custGeom>
            <a:noFill/>
            <a:ln w="57240">
              <a:solidFill>
                <a:srgbClr val="ff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9" name="Прямоугольник 7"/>
          <p:cNvSpPr/>
          <p:nvPr/>
        </p:nvSpPr>
        <p:spPr>
          <a:xfrm>
            <a:off x="453960" y="115920"/>
            <a:ext cx="851076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адачи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SzPct val="72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обобщить и уточнить теоретико-методологические аспекты комплексного изучения региональной демографической ситуаци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SzPct val="72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роследить динамику численности и трансформацию половозрастной структуры населения Алтайского края, его городов и районов на современном этап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SzPct val="72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роанализировать динамику и территориальную дифференциацию процессов естественного и механического воспроизводства населения в регионе в конце XX - начале XXI век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SzPct val="72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осуществить комплексное оценивание территориальной дифференциа­ции региональной демографической ситуации в начале XXI век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SzPct val="72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ровести многовариантное комплексное демографическое прогнозирование для региона на среднесрочную перспективу и краткосрочное аналитиче­ское прогнозирование численности населения муниципальных образований кра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SzPct val="72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изучить состояние демографической политики в Алтайском крае и предложить направления ее оптимиза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7" dur="500"/>
                                        <p:tgtEl>
                                          <p:spTgt spid="10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2" dur="2000"/>
                                        <p:tgtEl>
                                          <p:spTgt spid="10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5" dur="2000"/>
                                        <p:tgtEl>
                                          <p:spTgt spid="10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8" dur="2000"/>
                                        <p:tgtEl>
                                          <p:spTgt spid="10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1" dur="2000"/>
                                        <p:tgtEl>
                                          <p:spTgt spid="10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4" dur="2000"/>
                                        <p:tgtEl>
                                          <p:spTgt spid="10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7" dur="2000"/>
                                        <p:tgtEl>
                                          <p:spTgt spid="10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0" name="Group 3"/>
          <p:cNvGrpSpPr/>
          <p:nvPr/>
        </p:nvGrpSpPr>
        <p:grpSpPr>
          <a:xfrm>
            <a:off x="254160" y="358920"/>
            <a:ext cx="1979280" cy="1366200"/>
            <a:chOff x="254160" y="358920"/>
            <a:chExt cx="1979280" cy="1366200"/>
          </a:xfrm>
        </p:grpSpPr>
        <p:sp>
          <p:nvSpPr>
            <p:cNvPr id="1021" name="Freeform 4"/>
            <p:cNvSpPr/>
            <p:nvPr/>
          </p:nvSpPr>
          <p:spPr>
            <a:xfrm>
              <a:off x="254160" y="361800"/>
              <a:ext cx="1502280" cy="308880"/>
            </a:xfrm>
            <a:custGeom>
              <a:avLst/>
              <a:gdLst>
                <a:gd name="textAreaLeft" fmla="*/ 0 w 1502280"/>
                <a:gd name="textAreaRight" fmla="*/ 1502640 w 1502280"/>
                <a:gd name="textAreaTop" fmla="*/ 0 h 308880"/>
                <a:gd name="textAreaBottom" fmla="*/ 308880 h 308880"/>
              </a:gdLst>
              <a:ahLst/>
              <a:rect l="textAreaLeft" t="textAreaTop" r="textAreaRight" b="textAreaBottom"/>
              <a:pathLst>
                <a:path w="4248" h="793">
                  <a:moveTo>
                    <a:pt x="0" y="704"/>
                  </a:moveTo>
                  <a:cubicBezTo>
                    <a:pt x="29" y="701"/>
                    <a:pt x="60" y="704"/>
                    <a:pt x="88" y="696"/>
                  </a:cubicBezTo>
                  <a:cubicBezTo>
                    <a:pt x="101" y="692"/>
                    <a:pt x="166" y="598"/>
                    <a:pt x="104" y="680"/>
                  </a:cubicBezTo>
                  <a:cubicBezTo>
                    <a:pt x="161" y="699"/>
                    <a:pt x="146" y="663"/>
                    <a:pt x="192" y="648"/>
                  </a:cubicBezTo>
                  <a:cubicBezTo>
                    <a:pt x="205" y="651"/>
                    <a:pt x="224" y="645"/>
                    <a:pt x="232" y="656"/>
                  </a:cubicBezTo>
                  <a:cubicBezTo>
                    <a:pt x="248" y="678"/>
                    <a:pt x="239" y="710"/>
                    <a:pt x="248" y="736"/>
                  </a:cubicBezTo>
                  <a:cubicBezTo>
                    <a:pt x="407" y="730"/>
                    <a:pt x="452" y="787"/>
                    <a:pt x="488" y="680"/>
                  </a:cubicBezTo>
                  <a:cubicBezTo>
                    <a:pt x="520" y="453"/>
                    <a:pt x="471" y="670"/>
                    <a:pt x="1000" y="616"/>
                  </a:cubicBezTo>
                  <a:cubicBezTo>
                    <a:pt x="1023" y="614"/>
                    <a:pt x="1062" y="547"/>
                    <a:pt x="1096" y="536"/>
                  </a:cubicBezTo>
                  <a:cubicBezTo>
                    <a:pt x="1115" y="508"/>
                    <a:pt x="1139" y="459"/>
                    <a:pt x="1168" y="440"/>
                  </a:cubicBezTo>
                  <a:cubicBezTo>
                    <a:pt x="1200" y="419"/>
                    <a:pt x="1276" y="419"/>
                    <a:pt x="1304" y="416"/>
                  </a:cubicBezTo>
                  <a:cubicBezTo>
                    <a:pt x="1327" y="381"/>
                    <a:pt x="1326" y="301"/>
                    <a:pt x="1360" y="296"/>
                  </a:cubicBezTo>
                  <a:cubicBezTo>
                    <a:pt x="1405" y="289"/>
                    <a:pt x="1451" y="291"/>
                    <a:pt x="1496" y="288"/>
                  </a:cubicBezTo>
                  <a:cubicBezTo>
                    <a:pt x="1538" y="274"/>
                    <a:pt x="1525" y="252"/>
                    <a:pt x="1560" y="232"/>
                  </a:cubicBezTo>
                  <a:cubicBezTo>
                    <a:pt x="1584" y="218"/>
                    <a:pt x="1614" y="217"/>
                    <a:pt x="1640" y="208"/>
                  </a:cubicBezTo>
                  <a:cubicBezTo>
                    <a:pt x="1648" y="205"/>
                    <a:pt x="1664" y="200"/>
                    <a:pt x="1664" y="200"/>
                  </a:cubicBezTo>
                  <a:cubicBezTo>
                    <a:pt x="1680" y="184"/>
                    <a:pt x="1696" y="168"/>
                    <a:pt x="1712" y="152"/>
                  </a:cubicBezTo>
                  <a:cubicBezTo>
                    <a:pt x="1720" y="144"/>
                    <a:pt x="1736" y="128"/>
                    <a:pt x="1736" y="128"/>
                  </a:cubicBezTo>
                  <a:cubicBezTo>
                    <a:pt x="1760" y="55"/>
                    <a:pt x="1725" y="69"/>
                    <a:pt x="1824" y="80"/>
                  </a:cubicBezTo>
                  <a:cubicBezTo>
                    <a:pt x="1835" y="83"/>
                    <a:pt x="1849" y="80"/>
                    <a:pt x="1856" y="88"/>
                  </a:cubicBezTo>
                  <a:cubicBezTo>
                    <a:pt x="1867" y="100"/>
                    <a:pt x="1878" y="182"/>
                    <a:pt x="1888" y="192"/>
                  </a:cubicBezTo>
                  <a:cubicBezTo>
                    <a:pt x="1896" y="200"/>
                    <a:pt x="1909" y="197"/>
                    <a:pt x="1920" y="200"/>
                  </a:cubicBezTo>
                  <a:cubicBezTo>
                    <a:pt x="1949" y="208"/>
                    <a:pt x="1942" y="206"/>
                    <a:pt x="1968" y="224"/>
                  </a:cubicBezTo>
                  <a:cubicBezTo>
                    <a:pt x="1971" y="232"/>
                    <a:pt x="1976" y="240"/>
                    <a:pt x="1976" y="248"/>
                  </a:cubicBezTo>
                  <a:cubicBezTo>
                    <a:pt x="1976" y="256"/>
                    <a:pt x="1965" y="264"/>
                    <a:pt x="1968" y="272"/>
                  </a:cubicBezTo>
                  <a:cubicBezTo>
                    <a:pt x="1979" y="299"/>
                    <a:pt x="2066" y="294"/>
                    <a:pt x="2088" y="296"/>
                  </a:cubicBezTo>
                  <a:cubicBezTo>
                    <a:pt x="2134" y="307"/>
                    <a:pt x="2178" y="325"/>
                    <a:pt x="2224" y="336"/>
                  </a:cubicBezTo>
                  <a:cubicBezTo>
                    <a:pt x="2244" y="377"/>
                    <a:pt x="2265" y="385"/>
                    <a:pt x="2296" y="416"/>
                  </a:cubicBezTo>
                  <a:cubicBezTo>
                    <a:pt x="2332" y="452"/>
                    <a:pt x="2289" y="432"/>
                    <a:pt x="2336" y="448"/>
                  </a:cubicBezTo>
                  <a:cubicBezTo>
                    <a:pt x="2341" y="464"/>
                    <a:pt x="2347" y="480"/>
                    <a:pt x="2352" y="496"/>
                  </a:cubicBezTo>
                  <a:cubicBezTo>
                    <a:pt x="2355" y="504"/>
                    <a:pt x="2360" y="520"/>
                    <a:pt x="2360" y="520"/>
                  </a:cubicBezTo>
                  <a:cubicBezTo>
                    <a:pt x="2354" y="538"/>
                    <a:pt x="2325" y="612"/>
                    <a:pt x="2352" y="624"/>
                  </a:cubicBezTo>
                  <a:cubicBezTo>
                    <a:pt x="2389" y="640"/>
                    <a:pt x="2432" y="629"/>
                    <a:pt x="2472" y="632"/>
                  </a:cubicBezTo>
                  <a:cubicBezTo>
                    <a:pt x="2488" y="637"/>
                    <a:pt x="2504" y="643"/>
                    <a:pt x="2520" y="648"/>
                  </a:cubicBezTo>
                  <a:cubicBezTo>
                    <a:pt x="2528" y="651"/>
                    <a:pt x="2544" y="656"/>
                    <a:pt x="2544" y="656"/>
                  </a:cubicBezTo>
                  <a:cubicBezTo>
                    <a:pt x="2572" y="677"/>
                    <a:pt x="2591" y="701"/>
                    <a:pt x="2624" y="712"/>
                  </a:cubicBezTo>
                  <a:cubicBezTo>
                    <a:pt x="2642" y="785"/>
                    <a:pt x="2622" y="764"/>
                    <a:pt x="2664" y="792"/>
                  </a:cubicBezTo>
                  <a:cubicBezTo>
                    <a:pt x="2707" y="789"/>
                    <a:pt x="2750" y="793"/>
                    <a:pt x="2792" y="784"/>
                  </a:cubicBezTo>
                  <a:cubicBezTo>
                    <a:pt x="2819" y="778"/>
                    <a:pt x="2832" y="712"/>
                    <a:pt x="2832" y="712"/>
                  </a:cubicBezTo>
                  <a:cubicBezTo>
                    <a:pt x="2839" y="646"/>
                    <a:pt x="2839" y="590"/>
                    <a:pt x="2896" y="552"/>
                  </a:cubicBezTo>
                  <a:cubicBezTo>
                    <a:pt x="2916" y="522"/>
                    <a:pt x="2946" y="476"/>
                    <a:pt x="2976" y="456"/>
                  </a:cubicBezTo>
                  <a:cubicBezTo>
                    <a:pt x="2989" y="447"/>
                    <a:pt x="3042" y="441"/>
                    <a:pt x="3048" y="440"/>
                  </a:cubicBezTo>
                  <a:cubicBezTo>
                    <a:pt x="3064" y="429"/>
                    <a:pt x="3080" y="419"/>
                    <a:pt x="3096" y="408"/>
                  </a:cubicBezTo>
                  <a:cubicBezTo>
                    <a:pt x="3106" y="401"/>
                    <a:pt x="3072" y="416"/>
                    <a:pt x="3064" y="424"/>
                  </a:cubicBezTo>
                  <a:cubicBezTo>
                    <a:pt x="3058" y="430"/>
                    <a:pt x="3081" y="421"/>
                    <a:pt x="3088" y="416"/>
                  </a:cubicBezTo>
                  <a:cubicBezTo>
                    <a:pt x="3096" y="411"/>
                    <a:pt x="3105" y="407"/>
                    <a:pt x="3112" y="400"/>
                  </a:cubicBezTo>
                  <a:cubicBezTo>
                    <a:pt x="3152" y="360"/>
                    <a:pt x="3125" y="379"/>
                    <a:pt x="3200" y="360"/>
                  </a:cubicBezTo>
                  <a:cubicBezTo>
                    <a:pt x="3211" y="357"/>
                    <a:pt x="3232" y="352"/>
                    <a:pt x="3232" y="352"/>
                  </a:cubicBezTo>
                  <a:cubicBezTo>
                    <a:pt x="3251" y="408"/>
                    <a:pt x="3307" y="331"/>
                    <a:pt x="3336" y="312"/>
                  </a:cubicBezTo>
                  <a:cubicBezTo>
                    <a:pt x="3440" y="242"/>
                    <a:pt x="3587" y="307"/>
                    <a:pt x="3712" y="304"/>
                  </a:cubicBezTo>
                  <a:cubicBezTo>
                    <a:pt x="3769" y="266"/>
                    <a:pt x="3829" y="263"/>
                    <a:pt x="3896" y="256"/>
                  </a:cubicBezTo>
                  <a:cubicBezTo>
                    <a:pt x="3908" y="221"/>
                    <a:pt x="3909" y="203"/>
                    <a:pt x="3936" y="176"/>
                  </a:cubicBezTo>
                  <a:cubicBezTo>
                    <a:pt x="3925" y="160"/>
                    <a:pt x="3908" y="147"/>
                    <a:pt x="3904" y="128"/>
                  </a:cubicBezTo>
                  <a:cubicBezTo>
                    <a:pt x="3900" y="108"/>
                    <a:pt x="3933" y="97"/>
                    <a:pt x="3944" y="96"/>
                  </a:cubicBezTo>
                  <a:cubicBezTo>
                    <a:pt x="3989" y="91"/>
                    <a:pt x="4035" y="91"/>
                    <a:pt x="4080" y="88"/>
                  </a:cubicBezTo>
                  <a:cubicBezTo>
                    <a:pt x="4168" y="73"/>
                    <a:pt x="4182" y="66"/>
                    <a:pt x="4248" y="0"/>
                  </a:cubicBezTo>
                </a:path>
              </a:pathLst>
            </a:custGeom>
            <a:noFill/>
            <a:ln w="57240">
              <a:solidFill>
                <a:srgbClr val="ff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Freeform 5"/>
            <p:cNvSpPr/>
            <p:nvPr/>
          </p:nvSpPr>
          <p:spPr>
            <a:xfrm>
              <a:off x="1763280" y="358920"/>
              <a:ext cx="465480" cy="649080"/>
            </a:xfrm>
            <a:custGeom>
              <a:avLst/>
              <a:gdLst>
                <a:gd name="textAreaLeft" fmla="*/ 0 w 465480"/>
                <a:gd name="textAreaRight" fmla="*/ 465840 w 465480"/>
                <a:gd name="textAreaTop" fmla="*/ 0 h 649080"/>
                <a:gd name="textAreaBottom" fmla="*/ 649080 h 649080"/>
              </a:gdLst>
              <a:ahLst/>
              <a:rect l="textAreaLeft" t="textAreaTop" r="textAreaRight" b="textAreaBottom"/>
              <a:pathLst>
                <a:path w="1317" h="1666">
                  <a:moveTo>
                    <a:pt x="5" y="0"/>
                  </a:moveTo>
                  <a:cubicBezTo>
                    <a:pt x="8" y="24"/>
                    <a:pt x="0" y="52"/>
                    <a:pt x="13" y="72"/>
                  </a:cubicBezTo>
                  <a:cubicBezTo>
                    <a:pt x="22" y="86"/>
                    <a:pt x="61" y="88"/>
                    <a:pt x="61" y="88"/>
                  </a:cubicBezTo>
                  <a:cubicBezTo>
                    <a:pt x="67" y="106"/>
                    <a:pt x="90" y="155"/>
                    <a:pt x="101" y="168"/>
                  </a:cubicBezTo>
                  <a:cubicBezTo>
                    <a:pt x="123" y="195"/>
                    <a:pt x="268" y="205"/>
                    <a:pt x="301" y="208"/>
                  </a:cubicBezTo>
                  <a:cubicBezTo>
                    <a:pt x="298" y="216"/>
                    <a:pt x="290" y="224"/>
                    <a:pt x="293" y="232"/>
                  </a:cubicBezTo>
                  <a:cubicBezTo>
                    <a:pt x="297" y="241"/>
                    <a:pt x="311" y="241"/>
                    <a:pt x="317" y="248"/>
                  </a:cubicBezTo>
                  <a:cubicBezTo>
                    <a:pt x="330" y="262"/>
                    <a:pt x="331" y="290"/>
                    <a:pt x="349" y="296"/>
                  </a:cubicBezTo>
                  <a:cubicBezTo>
                    <a:pt x="365" y="301"/>
                    <a:pt x="397" y="312"/>
                    <a:pt x="397" y="312"/>
                  </a:cubicBezTo>
                  <a:cubicBezTo>
                    <a:pt x="417" y="392"/>
                    <a:pt x="387" y="310"/>
                    <a:pt x="429" y="352"/>
                  </a:cubicBezTo>
                  <a:cubicBezTo>
                    <a:pt x="435" y="358"/>
                    <a:pt x="431" y="370"/>
                    <a:pt x="437" y="376"/>
                  </a:cubicBezTo>
                  <a:cubicBezTo>
                    <a:pt x="460" y="399"/>
                    <a:pt x="501" y="388"/>
                    <a:pt x="533" y="392"/>
                  </a:cubicBezTo>
                  <a:cubicBezTo>
                    <a:pt x="588" y="429"/>
                    <a:pt x="563" y="418"/>
                    <a:pt x="605" y="432"/>
                  </a:cubicBezTo>
                  <a:cubicBezTo>
                    <a:pt x="618" y="452"/>
                    <a:pt x="624" y="456"/>
                    <a:pt x="629" y="480"/>
                  </a:cubicBezTo>
                  <a:cubicBezTo>
                    <a:pt x="633" y="498"/>
                    <a:pt x="625" y="522"/>
                    <a:pt x="637" y="536"/>
                  </a:cubicBezTo>
                  <a:cubicBezTo>
                    <a:pt x="648" y="548"/>
                    <a:pt x="669" y="541"/>
                    <a:pt x="685" y="544"/>
                  </a:cubicBezTo>
                  <a:cubicBezTo>
                    <a:pt x="694" y="595"/>
                    <a:pt x="711" y="694"/>
                    <a:pt x="765" y="712"/>
                  </a:cubicBezTo>
                  <a:cubicBezTo>
                    <a:pt x="792" y="822"/>
                    <a:pt x="1029" y="804"/>
                    <a:pt x="1101" y="808"/>
                  </a:cubicBezTo>
                  <a:cubicBezTo>
                    <a:pt x="1095" y="840"/>
                    <a:pt x="1092" y="872"/>
                    <a:pt x="1085" y="904"/>
                  </a:cubicBezTo>
                  <a:cubicBezTo>
                    <a:pt x="1081" y="920"/>
                    <a:pt x="1083" y="943"/>
                    <a:pt x="1069" y="952"/>
                  </a:cubicBezTo>
                  <a:cubicBezTo>
                    <a:pt x="1027" y="980"/>
                    <a:pt x="997" y="1016"/>
                    <a:pt x="981" y="1064"/>
                  </a:cubicBezTo>
                  <a:cubicBezTo>
                    <a:pt x="993" y="1220"/>
                    <a:pt x="978" y="1182"/>
                    <a:pt x="1149" y="1192"/>
                  </a:cubicBezTo>
                  <a:cubicBezTo>
                    <a:pt x="1221" y="1240"/>
                    <a:pt x="1191" y="1277"/>
                    <a:pt x="1181" y="1384"/>
                  </a:cubicBezTo>
                  <a:cubicBezTo>
                    <a:pt x="1178" y="1412"/>
                    <a:pt x="1168" y="1407"/>
                    <a:pt x="1157" y="1432"/>
                  </a:cubicBezTo>
                  <a:cubicBezTo>
                    <a:pt x="1150" y="1447"/>
                    <a:pt x="1141" y="1480"/>
                    <a:pt x="1141" y="1480"/>
                  </a:cubicBezTo>
                  <a:cubicBezTo>
                    <a:pt x="1144" y="1496"/>
                    <a:pt x="1135" y="1520"/>
                    <a:pt x="1149" y="1528"/>
                  </a:cubicBezTo>
                  <a:cubicBezTo>
                    <a:pt x="1177" y="1543"/>
                    <a:pt x="1224" y="1512"/>
                    <a:pt x="1245" y="1536"/>
                  </a:cubicBezTo>
                  <a:cubicBezTo>
                    <a:pt x="1270" y="1564"/>
                    <a:pt x="1238" y="1614"/>
                    <a:pt x="1253" y="1648"/>
                  </a:cubicBezTo>
                  <a:cubicBezTo>
                    <a:pt x="1261" y="1666"/>
                    <a:pt x="1298" y="1664"/>
                    <a:pt x="1317" y="1664"/>
                  </a:cubicBezTo>
                </a:path>
              </a:pathLst>
            </a:custGeom>
            <a:noFill/>
            <a:ln w="57240">
              <a:solidFill>
                <a:srgbClr val="ff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Line 6"/>
            <p:cNvSpPr/>
            <p:nvPr/>
          </p:nvSpPr>
          <p:spPr>
            <a:xfrm>
              <a:off x="257040" y="743040"/>
              <a:ext cx="401040" cy="901440"/>
            </a:xfrm>
            <a:prstGeom prst="line">
              <a:avLst/>
            </a:prstGeom>
            <a:ln w="7632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Freeform 7"/>
            <p:cNvSpPr/>
            <p:nvPr/>
          </p:nvSpPr>
          <p:spPr>
            <a:xfrm>
              <a:off x="667080" y="1475280"/>
              <a:ext cx="879480" cy="249840"/>
            </a:xfrm>
            <a:custGeom>
              <a:avLst/>
              <a:gdLst>
                <a:gd name="textAreaLeft" fmla="*/ 0 w 879480"/>
                <a:gd name="textAreaRight" fmla="*/ 879840 w 879480"/>
                <a:gd name="textAreaTop" fmla="*/ 0 h 249840"/>
                <a:gd name="textAreaBottom" fmla="*/ 250200 h 249840"/>
              </a:gdLst>
              <a:ahLst/>
              <a:rect l="textAreaLeft" t="textAreaTop" r="textAreaRight" b="textAreaBottom"/>
              <a:pathLst>
                <a:path w="2487" h="642">
                  <a:moveTo>
                    <a:pt x="0" y="462"/>
                  </a:moveTo>
                  <a:cubicBezTo>
                    <a:pt x="37" y="453"/>
                    <a:pt x="51" y="446"/>
                    <a:pt x="72" y="414"/>
                  </a:cubicBezTo>
                  <a:cubicBezTo>
                    <a:pt x="91" y="339"/>
                    <a:pt x="135" y="396"/>
                    <a:pt x="192" y="358"/>
                  </a:cubicBezTo>
                  <a:cubicBezTo>
                    <a:pt x="220" y="316"/>
                    <a:pt x="252" y="279"/>
                    <a:pt x="280" y="238"/>
                  </a:cubicBezTo>
                  <a:cubicBezTo>
                    <a:pt x="290" y="66"/>
                    <a:pt x="257" y="91"/>
                    <a:pt x="400" y="78"/>
                  </a:cubicBezTo>
                  <a:cubicBezTo>
                    <a:pt x="405" y="70"/>
                    <a:pt x="412" y="63"/>
                    <a:pt x="416" y="54"/>
                  </a:cubicBezTo>
                  <a:cubicBezTo>
                    <a:pt x="423" y="39"/>
                    <a:pt x="432" y="6"/>
                    <a:pt x="432" y="6"/>
                  </a:cubicBezTo>
                  <a:cubicBezTo>
                    <a:pt x="461" y="9"/>
                    <a:pt x="494" y="0"/>
                    <a:pt x="520" y="14"/>
                  </a:cubicBezTo>
                  <a:cubicBezTo>
                    <a:pt x="558" y="34"/>
                    <a:pt x="519" y="87"/>
                    <a:pt x="568" y="102"/>
                  </a:cubicBezTo>
                  <a:cubicBezTo>
                    <a:pt x="586" y="107"/>
                    <a:pt x="605" y="107"/>
                    <a:pt x="624" y="110"/>
                  </a:cubicBezTo>
                  <a:cubicBezTo>
                    <a:pt x="621" y="131"/>
                    <a:pt x="616" y="153"/>
                    <a:pt x="616" y="174"/>
                  </a:cubicBezTo>
                  <a:cubicBezTo>
                    <a:pt x="616" y="347"/>
                    <a:pt x="616" y="278"/>
                    <a:pt x="832" y="286"/>
                  </a:cubicBezTo>
                  <a:cubicBezTo>
                    <a:pt x="848" y="642"/>
                    <a:pt x="860" y="478"/>
                    <a:pt x="1392" y="486"/>
                  </a:cubicBezTo>
                  <a:cubicBezTo>
                    <a:pt x="1453" y="527"/>
                    <a:pt x="1531" y="510"/>
                    <a:pt x="1600" y="502"/>
                  </a:cubicBezTo>
                  <a:cubicBezTo>
                    <a:pt x="1610" y="471"/>
                    <a:pt x="1630" y="469"/>
                    <a:pt x="1640" y="438"/>
                  </a:cubicBezTo>
                  <a:cubicBezTo>
                    <a:pt x="1656" y="314"/>
                    <a:pt x="1694" y="365"/>
                    <a:pt x="1856" y="358"/>
                  </a:cubicBezTo>
                  <a:cubicBezTo>
                    <a:pt x="1908" y="332"/>
                    <a:pt x="1932" y="319"/>
                    <a:pt x="1992" y="310"/>
                  </a:cubicBezTo>
                  <a:cubicBezTo>
                    <a:pt x="2079" y="281"/>
                    <a:pt x="2168" y="308"/>
                    <a:pt x="2256" y="318"/>
                  </a:cubicBezTo>
                  <a:cubicBezTo>
                    <a:pt x="2259" y="326"/>
                    <a:pt x="2257" y="338"/>
                    <a:pt x="2264" y="342"/>
                  </a:cubicBezTo>
                  <a:cubicBezTo>
                    <a:pt x="2278" y="350"/>
                    <a:pt x="2296" y="346"/>
                    <a:pt x="2312" y="350"/>
                  </a:cubicBezTo>
                  <a:cubicBezTo>
                    <a:pt x="2337" y="356"/>
                    <a:pt x="2338" y="360"/>
                    <a:pt x="2360" y="374"/>
                  </a:cubicBezTo>
                  <a:cubicBezTo>
                    <a:pt x="2365" y="390"/>
                    <a:pt x="2371" y="406"/>
                    <a:pt x="2376" y="422"/>
                  </a:cubicBezTo>
                  <a:cubicBezTo>
                    <a:pt x="2381" y="437"/>
                    <a:pt x="2377" y="455"/>
                    <a:pt x="2384" y="470"/>
                  </a:cubicBezTo>
                  <a:cubicBezTo>
                    <a:pt x="2392" y="486"/>
                    <a:pt x="2428" y="491"/>
                    <a:pt x="2440" y="494"/>
                  </a:cubicBezTo>
                  <a:cubicBezTo>
                    <a:pt x="2444" y="516"/>
                    <a:pt x="2440" y="542"/>
                    <a:pt x="2456" y="558"/>
                  </a:cubicBezTo>
                  <a:cubicBezTo>
                    <a:pt x="2462" y="564"/>
                    <a:pt x="2478" y="558"/>
                    <a:pt x="2480" y="566"/>
                  </a:cubicBezTo>
                  <a:cubicBezTo>
                    <a:pt x="2487" y="589"/>
                    <a:pt x="2480" y="614"/>
                    <a:pt x="2480" y="638"/>
                  </a:cubicBezTo>
                </a:path>
              </a:pathLst>
            </a:custGeom>
            <a:noFill/>
            <a:ln w="76320">
              <a:solidFill>
                <a:srgbClr val="ff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Freeform 8"/>
            <p:cNvSpPr/>
            <p:nvPr/>
          </p:nvSpPr>
          <p:spPr>
            <a:xfrm>
              <a:off x="1550520" y="995760"/>
              <a:ext cx="682920" cy="715680"/>
            </a:xfrm>
            <a:custGeom>
              <a:avLst/>
              <a:gdLst>
                <a:gd name="textAreaLeft" fmla="*/ 0 w 682920"/>
                <a:gd name="textAreaRight" fmla="*/ 683280 w 682920"/>
                <a:gd name="textAreaTop" fmla="*/ 0 h 715680"/>
                <a:gd name="textAreaBottom" fmla="*/ 716040 h 715680"/>
              </a:gdLst>
              <a:ahLst/>
              <a:rect l="textAreaLeft" t="textAreaTop" r="textAreaRight" b="textAreaBottom"/>
              <a:pathLst>
                <a:path w="1931" h="1837">
                  <a:moveTo>
                    <a:pt x="46" y="1837"/>
                  </a:moveTo>
                  <a:cubicBezTo>
                    <a:pt x="143" y="1831"/>
                    <a:pt x="169" y="1828"/>
                    <a:pt x="246" y="1813"/>
                  </a:cubicBezTo>
                  <a:cubicBezTo>
                    <a:pt x="251" y="1805"/>
                    <a:pt x="259" y="1798"/>
                    <a:pt x="262" y="1789"/>
                  </a:cubicBezTo>
                  <a:cubicBezTo>
                    <a:pt x="267" y="1771"/>
                    <a:pt x="260" y="1749"/>
                    <a:pt x="270" y="1733"/>
                  </a:cubicBezTo>
                  <a:cubicBezTo>
                    <a:pt x="280" y="1717"/>
                    <a:pt x="318" y="1701"/>
                    <a:pt x="318" y="1701"/>
                  </a:cubicBezTo>
                  <a:cubicBezTo>
                    <a:pt x="323" y="1693"/>
                    <a:pt x="333" y="1687"/>
                    <a:pt x="334" y="1677"/>
                  </a:cubicBezTo>
                  <a:cubicBezTo>
                    <a:pt x="341" y="1610"/>
                    <a:pt x="317" y="1617"/>
                    <a:pt x="270" y="1605"/>
                  </a:cubicBezTo>
                  <a:cubicBezTo>
                    <a:pt x="267" y="1581"/>
                    <a:pt x="273" y="1555"/>
                    <a:pt x="262" y="1533"/>
                  </a:cubicBezTo>
                  <a:cubicBezTo>
                    <a:pt x="257" y="1523"/>
                    <a:pt x="241" y="1528"/>
                    <a:pt x="230" y="1525"/>
                  </a:cubicBezTo>
                  <a:cubicBezTo>
                    <a:pt x="166" y="1506"/>
                    <a:pt x="101" y="1490"/>
                    <a:pt x="38" y="1469"/>
                  </a:cubicBezTo>
                  <a:cubicBezTo>
                    <a:pt x="23" y="1447"/>
                    <a:pt x="0" y="1417"/>
                    <a:pt x="22" y="1389"/>
                  </a:cubicBezTo>
                  <a:cubicBezTo>
                    <a:pt x="27" y="1382"/>
                    <a:pt x="38" y="1385"/>
                    <a:pt x="46" y="1381"/>
                  </a:cubicBezTo>
                  <a:cubicBezTo>
                    <a:pt x="55" y="1377"/>
                    <a:pt x="62" y="1370"/>
                    <a:pt x="70" y="1365"/>
                  </a:cubicBezTo>
                  <a:cubicBezTo>
                    <a:pt x="123" y="1383"/>
                    <a:pt x="76" y="1376"/>
                    <a:pt x="110" y="1301"/>
                  </a:cubicBezTo>
                  <a:cubicBezTo>
                    <a:pt x="115" y="1289"/>
                    <a:pt x="147" y="1280"/>
                    <a:pt x="158" y="1277"/>
                  </a:cubicBezTo>
                  <a:cubicBezTo>
                    <a:pt x="192" y="1267"/>
                    <a:pt x="230" y="1269"/>
                    <a:pt x="262" y="1253"/>
                  </a:cubicBezTo>
                  <a:cubicBezTo>
                    <a:pt x="314" y="1227"/>
                    <a:pt x="257" y="1248"/>
                    <a:pt x="310" y="1213"/>
                  </a:cubicBezTo>
                  <a:cubicBezTo>
                    <a:pt x="370" y="1173"/>
                    <a:pt x="286" y="1269"/>
                    <a:pt x="382" y="1173"/>
                  </a:cubicBezTo>
                  <a:cubicBezTo>
                    <a:pt x="403" y="1152"/>
                    <a:pt x="425" y="1127"/>
                    <a:pt x="454" y="1117"/>
                  </a:cubicBezTo>
                  <a:cubicBezTo>
                    <a:pt x="505" y="1100"/>
                    <a:pt x="548" y="1078"/>
                    <a:pt x="598" y="1061"/>
                  </a:cubicBezTo>
                  <a:cubicBezTo>
                    <a:pt x="641" y="1047"/>
                    <a:pt x="689" y="1056"/>
                    <a:pt x="734" y="1053"/>
                  </a:cubicBezTo>
                  <a:cubicBezTo>
                    <a:pt x="798" y="1010"/>
                    <a:pt x="721" y="1066"/>
                    <a:pt x="774" y="1013"/>
                  </a:cubicBezTo>
                  <a:cubicBezTo>
                    <a:pt x="801" y="986"/>
                    <a:pt x="793" y="1005"/>
                    <a:pt x="822" y="989"/>
                  </a:cubicBezTo>
                  <a:cubicBezTo>
                    <a:pt x="874" y="960"/>
                    <a:pt x="924" y="919"/>
                    <a:pt x="966" y="877"/>
                  </a:cubicBezTo>
                  <a:cubicBezTo>
                    <a:pt x="970" y="855"/>
                    <a:pt x="979" y="835"/>
                    <a:pt x="982" y="813"/>
                  </a:cubicBezTo>
                  <a:cubicBezTo>
                    <a:pt x="987" y="773"/>
                    <a:pt x="969" y="722"/>
                    <a:pt x="998" y="693"/>
                  </a:cubicBezTo>
                  <a:cubicBezTo>
                    <a:pt x="1012" y="679"/>
                    <a:pt x="1030" y="672"/>
                    <a:pt x="1046" y="661"/>
                  </a:cubicBezTo>
                  <a:cubicBezTo>
                    <a:pt x="1079" y="639"/>
                    <a:pt x="1091" y="618"/>
                    <a:pt x="1110" y="589"/>
                  </a:cubicBezTo>
                  <a:cubicBezTo>
                    <a:pt x="1117" y="531"/>
                    <a:pt x="1112" y="511"/>
                    <a:pt x="1166" y="493"/>
                  </a:cubicBezTo>
                  <a:cubicBezTo>
                    <a:pt x="1303" y="510"/>
                    <a:pt x="1449" y="529"/>
                    <a:pt x="1582" y="485"/>
                  </a:cubicBezTo>
                  <a:cubicBezTo>
                    <a:pt x="1611" y="456"/>
                    <a:pt x="1633" y="427"/>
                    <a:pt x="1646" y="389"/>
                  </a:cubicBezTo>
                  <a:cubicBezTo>
                    <a:pt x="1641" y="324"/>
                    <a:pt x="1656" y="286"/>
                    <a:pt x="1606" y="253"/>
                  </a:cubicBezTo>
                  <a:cubicBezTo>
                    <a:pt x="1587" y="196"/>
                    <a:pt x="1599" y="219"/>
                    <a:pt x="1574" y="181"/>
                  </a:cubicBezTo>
                  <a:cubicBezTo>
                    <a:pt x="1577" y="160"/>
                    <a:pt x="1565" y="131"/>
                    <a:pt x="1582" y="117"/>
                  </a:cubicBezTo>
                  <a:cubicBezTo>
                    <a:pt x="1603" y="100"/>
                    <a:pt x="1637" y="117"/>
                    <a:pt x="1662" y="109"/>
                  </a:cubicBezTo>
                  <a:cubicBezTo>
                    <a:pt x="1687" y="101"/>
                    <a:pt x="1683" y="45"/>
                    <a:pt x="1694" y="29"/>
                  </a:cubicBezTo>
                  <a:cubicBezTo>
                    <a:pt x="1703" y="16"/>
                    <a:pt x="1728" y="10"/>
                    <a:pt x="1742" y="5"/>
                  </a:cubicBezTo>
                  <a:cubicBezTo>
                    <a:pt x="1771" y="8"/>
                    <a:pt x="1804" y="0"/>
                    <a:pt x="1830" y="13"/>
                  </a:cubicBezTo>
                  <a:cubicBezTo>
                    <a:pt x="1931" y="63"/>
                    <a:pt x="1753" y="53"/>
                    <a:pt x="1870" y="53"/>
                  </a:cubicBezTo>
                </a:path>
              </a:pathLst>
            </a:custGeom>
            <a:noFill/>
            <a:ln w="57240">
              <a:solidFill>
                <a:srgbClr val="ff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6" name="Прямоугольник 7"/>
          <p:cNvSpPr/>
          <p:nvPr/>
        </p:nvSpPr>
        <p:spPr>
          <a:xfrm>
            <a:off x="453960" y="-372960"/>
            <a:ext cx="8510760" cy="666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Times New Roman"/>
                <a:ea typeface="Calibri"/>
              </a:rPr>
              <a:t>План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Calibri"/>
              </a:rPr>
              <a:t>Введ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Calibri"/>
              </a:rPr>
              <a:t>2.  Демографического ситуация Алтайского кр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Calibri"/>
              </a:rPr>
              <a:t>2.1. Современные этапы демографического развит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Calibri"/>
              </a:rPr>
              <a:t>2.2. Трансформация половозрастной структуры населе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Calibri"/>
              </a:rPr>
              <a:t>2.3. Естественное и механическое движение насе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Calibri"/>
              </a:rPr>
              <a:t>2.4. Миграционные процесс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Calibri"/>
              </a:rPr>
              <a:t>2.5. Демографическая ситуация в городах и районах кр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Calibri"/>
              </a:rPr>
              <a:t>3.   Заключение.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Calibri"/>
              </a:rPr>
              <a:t>4.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писок используемых источников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5. Прилож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Прямоугольник 1"/>
          <p:cNvSpPr/>
          <p:nvPr/>
        </p:nvSpPr>
        <p:spPr>
          <a:xfrm>
            <a:off x="1835280" y="620640"/>
            <a:ext cx="7200720" cy="57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Хронологические рамки  </a:t>
            </a:r>
            <a:r>
              <a:rPr b="1" i="1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овременный этап демографического развития Алтайского края, </a:t>
            </a:r>
            <a:r>
              <a:rPr b="1" i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следнее десятилетие XX - начало XXI века (1990-2012 гг.)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8" name="Group 3"/>
          <p:cNvGrpSpPr/>
          <p:nvPr/>
        </p:nvGrpSpPr>
        <p:grpSpPr>
          <a:xfrm>
            <a:off x="250920" y="404640"/>
            <a:ext cx="1979640" cy="1366920"/>
            <a:chOff x="250920" y="404640"/>
            <a:chExt cx="1979640" cy="1366920"/>
          </a:xfrm>
        </p:grpSpPr>
        <p:sp>
          <p:nvSpPr>
            <p:cNvPr id="1029" name="Freeform 4"/>
            <p:cNvSpPr/>
            <p:nvPr/>
          </p:nvSpPr>
          <p:spPr>
            <a:xfrm>
              <a:off x="250920" y="407520"/>
              <a:ext cx="1502640" cy="308880"/>
            </a:xfrm>
            <a:custGeom>
              <a:avLst/>
              <a:gdLst>
                <a:gd name="textAreaLeft" fmla="*/ 0 w 1502640"/>
                <a:gd name="textAreaRight" fmla="*/ 1503000 w 1502640"/>
                <a:gd name="textAreaTop" fmla="*/ 0 h 308880"/>
                <a:gd name="textAreaBottom" fmla="*/ 308880 h 308880"/>
              </a:gdLst>
              <a:ahLst/>
              <a:rect l="textAreaLeft" t="textAreaTop" r="textAreaRight" b="textAreaBottom"/>
              <a:pathLst>
                <a:path w="4248" h="793">
                  <a:moveTo>
                    <a:pt x="0" y="704"/>
                  </a:moveTo>
                  <a:cubicBezTo>
                    <a:pt x="29" y="701"/>
                    <a:pt x="60" y="704"/>
                    <a:pt x="88" y="696"/>
                  </a:cubicBezTo>
                  <a:cubicBezTo>
                    <a:pt x="101" y="692"/>
                    <a:pt x="166" y="598"/>
                    <a:pt x="104" y="680"/>
                  </a:cubicBezTo>
                  <a:cubicBezTo>
                    <a:pt x="161" y="699"/>
                    <a:pt x="146" y="663"/>
                    <a:pt x="192" y="648"/>
                  </a:cubicBezTo>
                  <a:cubicBezTo>
                    <a:pt x="205" y="651"/>
                    <a:pt x="224" y="645"/>
                    <a:pt x="232" y="656"/>
                  </a:cubicBezTo>
                  <a:cubicBezTo>
                    <a:pt x="248" y="678"/>
                    <a:pt x="239" y="710"/>
                    <a:pt x="248" y="736"/>
                  </a:cubicBezTo>
                  <a:cubicBezTo>
                    <a:pt x="407" y="730"/>
                    <a:pt x="452" y="787"/>
                    <a:pt x="488" y="680"/>
                  </a:cubicBezTo>
                  <a:cubicBezTo>
                    <a:pt x="520" y="453"/>
                    <a:pt x="471" y="670"/>
                    <a:pt x="1000" y="616"/>
                  </a:cubicBezTo>
                  <a:cubicBezTo>
                    <a:pt x="1023" y="614"/>
                    <a:pt x="1062" y="547"/>
                    <a:pt x="1096" y="536"/>
                  </a:cubicBezTo>
                  <a:cubicBezTo>
                    <a:pt x="1115" y="508"/>
                    <a:pt x="1139" y="459"/>
                    <a:pt x="1168" y="440"/>
                  </a:cubicBezTo>
                  <a:cubicBezTo>
                    <a:pt x="1200" y="419"/>
                    <a:pt x="1276" y="419"/>
                    <a:pt x="1304" y="416"/>
                  </a:cubicBezTo>
                  <a:cubicBezTo>
                    <a:pt x="1327" y="381"/>
                    <a:pt x="1326" y="301"/>
                    <a:pt x="1360" y="296"/>
                  </a:cubicBezTo>
                  <a:cubicBezTo>
                    <a:pt x="1405" y="289"/>
                    <a:pt x="1451" y="291"/>
                    <a:pt x="1496" y="288"/>
                  </a:cubicBezTo>
                  <a:cubicBezTo>
                    <a:pt x="1538" y="274"/>
                    <a:pt x="1525" y="252"/>
                    <a:pt x="1560" y="232"/>
                  </a:cubicBezTo>
                  <a:cubicBezTo>
                    <a:pt x="1584" y="218"/>
                    <a:pt x="1614" y="217"/>
                    <a:pt x="1640" y="208"/>
                  </a:cubicBezTo>
                  <a:cubicBezTo>
                    <a:pt x="1648" y="205"/>
                    <a:pt x="1664" y="200"/>
                    <a:pt x="1664" y="200"/>
                  </a:cubicBezTo>
                  <a:cubicBezTo>
                    <a:pt x="1680" y="184"/>
                    <a:pt x="1696" y="168"/>
                    <a:pt x="1712" y="152"/>
                  </a:cubicBezTo>
                  <a:cubicBezTo>
                    <a:pt x="1720" y="144"/>
                    <a:pt x="1736" y="128"/>
                    <a:pt x="1736" y="128"/>
                  </a:cubicBezTo>
                  <a:cubicBezTo>
                    <a:pt x="1760" y="55"/>
                    <a:pt x="1725" y="69"/>
                    <a:pt x="1824" y="80"/>
                  </a:cubicBezTo>
                  <a:cubicBezTo>
                    <a:pt x="1835" y="83"/>
                    <a:pt x="1849" y="80"/>
                    <a:pt x="1856" y="88"/>
                  </a:cubicBezTo>
                  <a:cubicBezTo>
                    <a:pt x="1867" y="100"/>
                    <a:pt x="1878" y="182"/>
                    <a:pt x="1888" y="192"/>
                  </a:cubicBezTo>
                  <a:cubicBezTo>
                    <a:pt x="1896" y="200"/>
                    <a:pt x="1909" y="197"/>
                    <a:pt x="1920" y="200"/>
                  </a:cubicBezTo>
                  <a:cubicBezTo>
                    <a:pt x="1949" y="208"/>
                    <a:pt x="1942" y="206"/>
                    <a:pt x="1968" y="224"/>
                  </a:cubicBezTo>
                  <a:cubicBezTo>
                    <a:pt x="1971" y="232"/>
                    <a:pt x="1976" y="240"/>
                    <a:pt x="1976" y="248"/>
                  </a:cubicBezTo>
                  <a:cubicBezTo>
                    <a:pt x="1976" y="256"/>
                    <a:pt x="1965" y="264"/>
                    <a:pt x="1968" y="272"/>
                  </a:cubicBezTo>
                  <a:cubicBezTo>
                    <a:pt x="1979" y="299"/>
                    <a:pt x="2066" y="294"/>
                    <a:pt x="2088" y="296"/>
                  </a:cubicBezTo>
                  <a:cubicBezTo>
                    <a:pt x="2134" y="307"/>
                    <a:pt x="2178" y="325"/>
                    <a:pt x="2224" y="336"/>
                  </a:cubicBezTo>
                  <a:cubicBezTo>
                    <a:pt x="2244" y="377"/>
                    <a:pt x="2265" y="385"/>
                    <a:pt x="2296" y="416"/>
                  </a:cubicBezTo>
                  <a:cubicBezTo>
                    <a:pt x="2332" y="452"/>
                    <a:pt x="2289" y="432"/>
                    <a:pt x="2336" y="448"/>
                  </a:cubicBezTo>
                  <a:cubicBezTo>
                    <a:pt x="2341" y="464"/>
                    <a:pt x="2347" y="480"/>
                    <a:pt x="2352" y="496"/>
                  </a:cubicBezTo>
                  <a:cubicBezTo>
                    <a:pt x="2355" y="504"/>
                    <a:pt x="2360" y="520"/>
                    <a:pt x="2360" y="520"/>
                  </a:cubicBezTo>
                  <a:cubicBezTo>
                    <a:pt x="2354" y="538"/>
                    <a:pt x="2325" y="612"/>
                    <a:pt x="2352" y="624"/>
                  </a:cubicBezTo>
                  <a:cubicBezTo>
                    <a:pt x="2389" y="640"/>
                    <a:pt x="2432" y="629"/>
                    <a:pt x="2472" y="632"/>
                  </a:cubicBezTo>
                  <a:cubicBezTo>
                    <a:pt x="2488" y="637"/>
                    <a:pt x="2504" y="643"/>
                    <a:pt x="2520" y="648"/>
                  </a:cubicBezTo>
                  <a:cubicBezTo>
                    <a:pt x="2528" y="651"/>
                    <a:pt x="2544" y="656"/>
                    <a:pt x="2544" y="656"/>
                  </a:cubicBezTo>
                  <a:cubicBezTo>
                    <a:pt x="2572" y="677"/>
                    <a:pt x="2591" y="701"/>
                    <a:pt x="2624" y="712"/>
                  </a:cubicBezTo>
                  <a:cubicBezTo>
                    <a:pt x="2642" y="785"/>
                    <a:pt x="2622" y="764"/>
                    <a:pt x="2664" y="792"/>
                  </a:cubicBezTo>
                  <a:cubicBezTo>
                    <a:pt x="2707" y="789"/>
                    <a:pt x="2750" y="793"/>
                    <a:pt x="2792" y="784"/>
                  </a:cubicBezTo>
                  <a:cubicBezTo>
                    <a:pt x="2819" y="778"/>
                    <a:pt x="2832" y="712"/>
                    <a:pt x="2832" y="712"/>
                  </a:cubicBezTo>
                  <a:cubicBezTo>
                    <a:pt x="2839" y="646"/>
                    <a:pt x="2839" y="590"/>
                    <a:pt x="2896" y="552"/>
                  </a:cubicBezTo>
                  <a:cubicBezTo>
                    <a:pt x="2916" y="522"/>
                    <a:pt x="2946" y="476"/>
                    <a:pt x="2976" y="456"/>
                  </a:cubicBezTo>
                  <a:cubicBezTo>
                    <a:pt x="2989" y="447"/>
                    <a:pt x="3042" y="441"/>
                    <a:pt x="3048" y="440"/>
                  </a:cubicBezTo>
                  <a:cubicBezTo>
                    <a:pt x="3064" y="429"/>
                    <a:pt x="3080" y="419"/>
                    <a:pt x="3096" y="408"/>
                  </a:cubicBezTo>
                  <a:cubicBezTo>
                    <a:pt x="3106" y="401"/>
                    <a:pt x="3072" y="416"/>
                    <a:pt x="3064" y="424"/>
                  </a:cubicBezTo>
                  <a:cubicBezTo>
                    <a:pt x="3058" y="430"/>
                    <a:pt x="3081" y="421"/>
                    <a:pt x="3088" y="416"/>
                  </a:cubicBezTo>
                  <a:cubicBezTo>
                    <a:pt x="3096" y="411"/>
                    <a:pt x="3105" y="407"/>
                    <a:pt x="3112" y="400"/>
                  </a:cubicBezTo>
                  <a:cubicBezTo>
                    <a:pt x="3152" y="360"/>
                    <a:pt x="3125" y="379"/>
                    <a:pt x="3200" y="360"/>
                  </a:cubicBezTo>
                  <a:cubicBezTo>
                    <a:pt x="3211" y="357"/>
                    <a:pt x="3232" y="352"/>
                    <a:pt x="3232" y="352"/>
                  </a:cubicBezTo>
                  <a:cubicBezTo>
                    <a:pt x="3251" y="408"/>
                    <a:pt x="3307" y="331"/>
                    <a:pt x="3336" y="312"/>
                  </a:cubicBezTo>
                  <a:cubicBezTo>
                    <a:pt x="3440" y="242"/>
                    <a:pt x="3587" y="307"/>
                    <a:pt x="3712" y="304"/>
                  </a:cubicBezTo>
                  <a:cubicBezTo>
                    <a:pt x="3769" y="266"/>
                    <a:pt x="3829" y="263"/>
                    <a:pt x="3896" y="256"/>
                  </a:cubicBezTo>
                  <a:cubicBezTo>
                    <a:pt x="3908" y="221"/>
                    <a:pt x="3909" y="203"/>
                    <a:pt x="3936" y="176"/>
                  </a:cubicBezTo>
                  <a:cubicBezTo>
                    <a:pt x="3925" y="160"/>
                    <a:pt x="3908" y="147"/>
                    <a:pt x="3904" y="128"/>
                  </a:cubicBezTo>
                  <a:cubicBezTo>
                    <a:pt x="3900" y="108"/>
                    <a:pt x="3933" y="97"/>
                    <a:pt x="3944" y="96"/>
                  </a:cubicBezTo>
                  <a:cubicBezTo>
                    <a:pt x="3989" y="91"/>
                    <a:pt x="4035" y="91"/>
                    <a:pt x="4080" y="88"/>
                  </a:cubicBezTo>
                  <a:cubicBezTo>
                    <a:pt x="4168" y="73"/>
                    <a:pt x="4182" y="66"/>
                    <a:pt x="4248" y="0"/>
                  </a:cubicBezTo>
                </a:path>
              </a:pathLst>
            </a:custGeom>
            <a:noFill/>
            <a:ln w="57240">
              <a:solidFill>
                <a:srgbClr val="ff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Freeform 5"/>
            <p:cNvSpPr/>
            <p:nvPr/>
          </p:nvSpPr>
          <p:spPr>
            <a:xfrm>
              <a:off x="1760040" y="404640"/>
              <a:ext cx="465840" cy="649080"/>
            </a:xfrm>
            <a:custGeom>
              <a:avLst/>
              <a:gdLst>
                <a:gd name="textAreaLeft" fmla="*/ 0 w 465840"/>
                <a:gd name="textAreaRight" fmla="*/ 466200 w 465840"/>
                <a:gd name="textAreaTop" fmla="*/ 0 h 649080"/>
                <a:gd name="textAreaBottom" fmla="*/ 649080 h 649080"/>
              </a:gdLst>
              <a:ahLst/>
              <a:rect l="textAreaLeft" t="textAreaTop" r="textAreaRight" b="textAreaBottom"/>
              <a:pathLst>
                <a:path w="1317" h="1666">
                  <a:moveTo>
                    <a:pt x="5" y="0"/>
                  </a:moveTo>
                  <a:cubicBezTo>
                    <a:pt x="8" y="24"/>
                    <a:pt x="0" y="52"/>
                    <a:pt x="13" y="72"/>
                  </a:cubicBezTo>
                  <a:cubicBezTo>
                    <a:pt x="22" y="86"/>
                    <a:pt x="61" y="88"/>
                    <a:pt x="61" y="88"/>
                  </a:cubicBezTo>
                  <a:cubicBezTo>
                    <a:pt x="67" y="106"/>
                    <a:pt x="90" y="155"/>
                    <a:pt x="101" y="168"/>
                  </a:cubicBezTo>
                  <a:cubicBezTo>
                    <a:pt x="123" y="195"/>
                    <a:pt x="268" y="205"/>
                    <a:pt x="301" y="208"/>
                  </a:cubicBezTo>
                  <a:cubicBezTo>
                    <a:pt x="298" y="216"/>
                    <a:pt x="290" y="224"/>
                    <a:pt x="293" y="232"/>
                  </a:cubicBezTo>
                  <a:cubicBezTo>
                    <a:pt x="297" y="241"/>
                    <a:pt x="311" y="241"/>
                    <a:pt x="317" y="248"/>
                  </a:cubicBezTo>
                  <a:cubicBezTo>
                    <a:pt x="330" y="262"/>
                    <a:pt x="331" y="290"/>
                    <a:pt x="349" y="296"/>
                  </a:cubicBezTo>
                  <a:cubicBezTo>
                    <a:pt x="365" y="301"/>
                    <a:pt x="397" y="312"/>
                    <a:pt x="397" y="312"/>
                  </a:cubicBezTo>
                  <a:cubicBezTo>
                    <a:pt x="417" y="392"/>
                    <a:pt x="387" y="310"/>
                    <a:pt x="429" y="352"/>
                  </a:cubicBezTo>
                  <a:cubicBezTo>
                    <a:pt x="435" y="358"/>
                    <a:pt x="431" y="370"/>
                    <a:pt x="437" y="376"/>
                  </a:cubicBezTo>
                  <a:cubicBezTo>
                    <a:pt x="460" y="399"/>
                    <a:pt x="501" y="388"/>
                    <a:pt x="533" y="392"/>
                  </a:cubicBezTo>
                  <a:cubicBezTo>
                    <a:pt x="588" y="429"/>
                    <a:pt x="563" y="418"/>
                    <a:pt x="605" y="432"/>
                  </a:cubicBezTo>
                  <a:cubicBezTo>
                    <a:pt x="618" y="452"/>
                    <a:pt x="624" y="456"/>
                    <a:pt x="629" y="480"/>
                  </a:cubicBezTo>
                  <a:cubicBezTo>
                    <a:pt x="633" y="498"/>
                    <a:pt x="625" y="522"/>
                    <a:pt x="637" y="536"/>
                  </a:cubicBezTo>
                  <a:cubicBezTo>
                    <a:pt x="648" y="548"/>
                    <a:pt x="669" y="541"/>
                    <a:pt x="685" y="544"/>
                  </a:cubicBezTo>
                  <a:cubicBezTo>
                    <a:pt x="694" y="595"/>
                    <a:pt x="711" y="694"/>
                    <a:pt x="765" y="712"/>
                  </a:cubicBezTo>
                  <a:cubicBezTo>
                    <a:pt x="792" y="822"/>
                    <a:pt x="1029" y="804"/>
                    <a:pt x="1101" y="808"/>
                  </a:cubicBezTo>
                  <a:cubicBezTo>
                    <a:pt x="1095" y="840"/>
                    <a:pt x="1092" y="872"/>
                    <a:pt x="1085" y="904"/>
                  </a:cubicBezTo>
                  <a:cubicBezTo>
                    <a:pt x="1081" y="920"/>
                    <a:pt x="1083" y="943"/>
                    <a:pt x="1069" y="952"/>
                  </a:cubicBezTo>
                  <a:cubicBezTo>
                    <a:pt x="1027" y="980"/>
                    <a:pt x="997" y="1016"/>
                    <a:pt x="981" y="1064"/>
                  </a:cubicBezTo>
                  <a:cubicBezTo>
                    <a:pt x="993" y="1220"/>
                    <a:pt x="978" y="1182"/>
                    <a:pt x="1149" y="1192"/>
                  </a:cubicBezTo>
                  <a:cubicBezTo>
                    <a:pt x="1221" y="1240"/>
                    <a:pt x="1191" y="1277"/>
                    <a:pt x="1181" y="1384"/>
                  </a:cubicBezTo>
                  <a:cubicBezTo>
                    <a:pt x="1178" y="1412"/>
                    <a:pt x="1168" y="1407"/>
                    <a:pt x="1157" y="1432"/>
                  </a:cubicBezTo>
                  <a:cubicBezTo>
                    <a:pt x="1150" y="1447"/>
                    <a:pt x="1141" y="1480"/>
                    <a:pt x="1141" y="1480"/>
                  </a:cubicBezTo>
                  <a:cubicBezTo>
                    <a:pt x="1144" y="1496"/>
                    <a:pt x="1135" y="1520"/>
                    <a:pt x="1149" y="1528"/>
                  </a:cubicBezTo>
                  <a:cubicBezTo>
                    <a:pt x="1177" y="1543"/>
                    <a:pt x="1224" y="1512"/>
                    <a:pt x="1245" y="1536"/>
                  </a:cubicBezTo>
                  <a:cubicBezTo>
                    <a:pt x="1270" y="1564"/>
                    <a:pt x="1238" y="1614"/>
                    <a:pt x="1253" y="1648"/>
                  </a:cubicBezTo>
                  <a:cubicBezTo>
                    <a:pt x="1261" y="1666"/>
                    <a:pt x="1298" y="1664"/>
                    <a:pt x="1317" y="1664"/>
                  </a:cubicBezTo>
                </a:path>
              </a:pathLst>
            </a:custGeom>
            <a:noFill/>
            <a:ln w="57240">
              <a:solidFill>
                <a:srgbClr val="ff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Line 6"/>
            <p:cNvSpPr/>
            <p:nvPr/>
          </p:nvSpPr>
          <p:spPr>
            <a:xfrm>
              <a:off x="253800" y="788760"/>
              <a:ext cx="401040" cy="901800"/>
            </a:xfrm>
            <a:prstGeom prst="line">
              <a:avLst/>
            </a:prstGeom>
            <a:ln w="7632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Freeform 7"/>
            <p:cNvSpPr/>
            <p:nvPr/>
          </p:nvSpPr>
          <p:spPr>
            <a:xfrm>
              <a:off x="663840" y="1521360"/>
              <a:ext cx="879480" cy="250200"/>
            </a:xfrm>
            <a:custGeom>
              <a:avLst/>
              <a:gdLst>
                <a:gd name="textAreaLeft" fmla="*/ 0 w 879480"/>
                <a:gd name="textAreaRight" fmla="*/ 879840 w 879480"/>
                <a:gd name="textAreaTop" fmla="*/ 0 h 250200"/>
                <a:gd name="textAreaBottom" fmla="*/ 250200 h 250200"/>
              </a:gdLst>
              <a:ahLst/>
              <a:rect l="textAreaLeft" t="textAreaTop" r="textAreaRight" b="textAreaBottom"/>
              <a:pathLst>
                <a:path w="2487" h="642">
                  <a:moveTo>
                    <a:pt x="0" y="462"/>
                  </a:moveTo>
                  <a:cubicBezTo>
                    <a:pt x="37" y="453"/>
                    <a:pt x="51" y="446"/>
                    <a:pt x="72" y="414"/>
                  </a:cubicBezTo>
                  <a:cubicBezTo>
                    <a:pt x="91" y="339"/>
                    <a:pt x="135" y="396"/>
                    <a:pt x="192" y="358"/>
                  </a:cubicBezTo>
                  <a:cubicBezTo>
                    <a:pt x="220" y="316"/>
                    <a:pt x="252" y="279"/>
                    <a:pt x="280" y="238"/>
                  </a:cubicBezTo>
                  <a:cubicBezTo>
                    <a:pt x="290" y="66"/>
                    <a:pt x="257" y="91"/>
                    <a:pt x="400" y="78"/>
                  </a:cubicBezTo>
                  <a:cubicBezTo>
                    <a:pt x="405" y="70"/>
                    <a:pt x="412" y="63"/>
                    <a:pt x="416" y="54"/>
                  </a:cubicBezTo>
                  <a:cubicBezTo>
                    <a:pt x="423" y="39"/>
                    <a:pt x="432" y="6"/>
                    <a:pt x="432" y="6"/>
                  </a:cubicBezTo>
                  <a:cubicBezTo>
                    <a:pt x="461" y="9"/>
                    <a:pt x="494" y="0"/>
                    <a:pt x="520" y="14"/>
                  </a:cubicBezTo>
                  <a:cubicBezTo>
                    <a:pt x="558" y="34"/>
                    <a:pt x="519" y="87"/>
                    <a:pt x="568" y="102"/>
                  </a:cubicBezTo>
                  <a:cubicBezTo>
                    <a:pt x="586" y="107"/>
                    <a:pt x="605" y="107"/>
                    <a:pt x="624" y="110"/>
                  </a:cubicBezTo>
                  <a:cubicBezTo>
                    <a:pt x="621" y="131"/>
                    <a:pt x="616" y="153"/>
                    <a:pt x="616" y="174"/>
                  </a:cubicBezTo>
                  <a:cubicBezTo>
                    <a:pt x="616" y="347"/>
                    <a:pt x="616" y="278"/>
                    <a:pt x="832" y="286"/>
                  </a:cubicBezTo>
                  <a:cubicBezTo>
                    <a:pt x="848" y="642"/>
                    <a:pt x="860" y="478"/>
                    <a:pt x="1392" y="486"/>
                  </a:cubicBezTo>
                  <a:cubicBezTo>
                    <a:pt x="1453" y="527"/>
                    <a:pt x="1531" y="510"/>
                    <a:pt x="1600" y="502"/>
                  </a:cubicBezTo>
                  <a:cubicBezTo>
                    <a:pt x="1610" y="471"/>
                    <a:pt x="1630" y="469"/>
                    <a:pt x="1640" y="438"/>
                  </a:cubicBezTo>
                  <a:cubicBezTo>
                    <a:pt x="1656" y="314"/>
                    <a:pt x="1694" y="365"/>
                    <a:pt x="1856" y="358"/>
                  </a:cubicBezTo>
                  <a:cubicBezTo>
                    <a:pt x="1908" y="332"/>
                    <a:pt x="1932" y="319"/>
                    <a:pt x="1992" y="310"/>
                  </a:cubicBezTo>
                  <a:cubicBezTo>
                    <a:pt x="2079" y="281"/>
                    <a:pt x="2168" y="308"/>
                    <a:pt x="2256" y="318"/>
                  </a:cubicBezTo>
                  <a:cubicBezTo>
                    <a:pt x="2259" y="326"/>
                    <a:pt x="2257" y="338"/>
                    <a:pt x="2264" y="342"/>
                  </a:cubicBezTo>
                  <a:cubicBezTo>
                    <a:pt x="2278" y="350"/>
                    <a:pt x="2296" y="346"/>
                    <a:pt x="2312" y="350"/>
                  </a:cubicBezTo>
                  <a:cubicBezTo>
                    <a:pt x="2337" y="356"/>
                    <a:pt x="2338" y="360"/>
                    <a:pt x="2360" y="374"/>
                  </a:cubicBezTo>
                  <a:cubicBezTo>
                    <a:pt x="2365" y="390"/>
                    <a:pt x="2371" y="406"/>
                    <a:pt x="2376" y="422"/>
                  </a:cubicBezTo>
                  <a:cubicBezTo>
                    <a:pt x="2381" y="437"/>
                    <a:pt x="2377" y="455"/>
                    <a:pt x="2384" y="470"/>
                  </a:cubicBezTo>
                  <a:cubicBezTo>
                    <a:pt x="2392" y="486"/>
                    <a:pt x="2428" y="491"/>
                    <a:pt x="2440" y="494"/>
                  </a:cubicBezTo>
                  <a:cubicBezTo>
                    <a:pt x="2444" y="516"/>
                    <a:pt x="2440" y="542"/>
                    <a:pt x="2456" y="558"/>
                  </a:cubicBezTo>
                  <a:cubicBezTo>
                    <a:pt x="2462" y="564"/>
                    <a:pt x="2478" y="558"/>
                    <a:pt x="2480" y="566"/>
                  </a:cubicBezTo>
                  <a:cubicBezTo>
                    <a:pt x="2487" y="589"/>
                    <a:pt x="2480" y="614"/>
                    <a:pt x="2480" y="638"/>
                  </a:cubicBezTo>
                </a:path>
              </a:pathLst>
            </a:custGeom>
            <a:noFill/>
            <a:ln w="76320">
              <a:solidFill>
                <a:srgbClr val="ff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Freeform 8"/>
            <p:cNvSpPr/>
            <p:nvPr/>
          </p:nvSpPr>
          <p:spPr>
            <a:xfrm>
              <a:off x="1547640" y="1041840"/>
              <a:ext cx="682920" cy="715680"/>
            </a:xfrm>
            <a:custGeom>
              <a:avLst/>
              <a:gdLst>
                <a:gd name="textAreaLeft" fmla="*/ 0 w 682920"/>
                <a:gd name="textAreaRight" fmla="*/ 683280 w 682920"/>
                <a:gd name="textAreaTop" fmla="*/ 0 h 715680"/>
                <a:gd name="textAreaBottom" fmla="*/ 716040 h 715680"/>
              </a:gdLst>
              <a:ahLst/>
              <a:rect l="textAreaLeft" t="textAreaTop" r="textAreaRight" b="textAreaBottom"/>
              <a:pathLst>
                <a:path w="1931" h="1837">
                  <a:moveTo>
                    <a:pt x="46" y="1837"/>
                  </a:moveTo>
                  <a:cubicBezTo>
                    <a:pt x="143" y="1831"/>
                    <a:pt x="169" y="1828"/>
                    <a:pt x="246" y="1813"/>
                  </a:cubicBezTo>
                  <a:cubicBezTo>
                    <a:pt x="251" y="1805"/>
                    <a:pt x="259" y="1798"/>
                    <a:pt x="262" y="1789"/>
                  </a:cubicBezTo>
                  <a:cubicBezTo>
                    <a:pt x="267" y="1771"/>
                    <a:pt x="260" y="1749"/>
                    <a:pt x="270" y="1733"/>
                  </a:cubicBezTo>
                  <a:cubicBezTo>
                    <a:pt x="280" y="1717"/>
                    <a:pt x="318" y="1701"/>
                    <a:pt x="318" y="1701"/>
                  </a:cubicBezTo>
                  <a:cubicBezTo>
                    <a:pt x="323" y="1693"/>
                    <a:pt x="333" y="1687"/>
                    <a:pt x="334" y="1677"/>
                  </a:cubicBezTo>
                  <a:cubicBezTo>
                    <a:pt x="341" y="1610"/>
                    <a:pt x="317" y="1617"/>
                    <a:pt x="270" y="1605"/>
                  </a:cubicBezTo>
                  <a:cubicBezTo>
                    <a:pt x="267" y="1581"/>
                    <a:pt x="273" y="1555"/>
                    <a:pt x="262" y="1533"/>
                  </a:cubicBezTo>
                  <a:cubicBezTo>
                    <a:pt x="257" y="1523"/>
                    <a:pt x="241" y="1528"/>
                    <a:pt x="230" y="1525"/>
                  </a:cubicBezTo>
                  <a:cubicBezTo>
                    <a:pt x="166" y="1506"/>
                    <a:pt x="101" y="1490"/>
                    <a:pt x="38" y="1469"/>
                  </a:cubicBezTo>
                  <a:cubicBezTo>
                    <a:pt x="23" y="1447"/>
                    <a:pt x="0" y="1417"/>
                    <a:pt x="22" y="1389"/>
                  </a:cubicBezTo>
                  <a:cubicBezTo>
                    <a:pt x="27" y="1382"/>
                    <a:pt x="38" y="1385"/>
                    <a:pt x="46" y="1381"/>
                  </a:cubicBezTo>
                  <a:cubicBezTo>
                    <a:pt x="55" y="1377"/>
                    <a:pt x="62" y="1370"/>
                    <a:pt x="70" y="1365"/>
                  </a:cubicBezTo>
                  <a:cubicBezTo>
                    <a:pt x="123" y="1383"/>
                    <a:pt x="76" y="1376"/>
                    <a:pt x="110" y="1301"/>
                  </a:cubicBezTo>
                  <a:cubicBezTo>
                    <a:pt x="115" y="1289"/>
                    <a:pt x="147" y="1280"/>
                    <a:pt x="158" y="1277"/>
                  </a:cubicBezTo>
                  <a:cubicBezTo>
                    <a:pt x="192" y="1267"/>
                    <a:pt x="230" y="1269"/>
                    <a:pt x="262" y="1253"/>
                  </a:cubicBezTo>
                  <a:cubicBezTo>
                    <a:pt x="314" y="1227"/>
                    <a:pt x="257" y="1248"/>
                    <a:pt x="310" y="1213"/>
                  </a:cubicBezTo>
                  <a:cubicBezTo>
                    <a:pt x="370" y="1173"/>
                    <a:pt x="286" y="1269"/>
                    <a:pt x="382" y="1173"/>
                  </a:cubicBezTo>
                  <a:cubicBezTo>
                    <a:pt x="403" y="1152"/>
                    <a:pt x="425" y="1127"/>
                    <a:pt x="454" y="1117"/>
                  </a:cubicBezTo>
                  <a:cubicBezTo>
                    <a:pt x="505" y="1100"/>
                    <a:pt x="548" y="1078"/>
                    <a:pt x="598" y="1061"/>
                  </a:cubicBezTo>
                  <a:cubicBezTo>
                    <a:pt x="641" y="1047"/>
                    <a:pt x="689" y="1056"/>
                    <a:pt x="734" y="1053"/>
                  </a:cubicBezTo>
                  <a:cubicBezTo>
                    <a:pt x="798" y="1010"/>
                    <a:pt x="721" y="1066"/>
                    <a:pt x="774" y="1013"/>
                  </a:cubicBezTo>
                  <a:cubicBezTo>
                    <a:pt x="801" y="986"/>
                    <a:pt x="793" y="1005"/>
                    <a:pt x="822" y="989"/>
                  </a:cubicBezTo>
                  <a:cubicBezTo>
                    <a:pt x="874" y="960"/>
                    <a:pt x="924" y="919"/>
                    <a:pt x="966" y="877"/>
                  </a:cubicBezTo>
                  <a:cubicBezTo>
                    <a:pt x="970" y="855"/>
                    <a:pt x="979" y="835"/>
                    <a:pt x="982" y="813"/>
                  </a:cubicBezTo>
                  <a:cubicBezTo>
                    <a:pt x="987" y="773"/>
                    <a:pt x="969" y="722"/>
                    <a:pt x="998" y="693"/>
                  </a:cubicBezTo>
                  <a:cubicBezTo>
                    <a:pt x="1012" y="679"/>
                    <a:pt x="1030" y="672"/>
                    <a:pt x="1046" y="661"/>
                  </a:cubicBezTo>
                  <a:cubicBezTo>
                    <a:pt x="1079" y="639"/>
                    <a:pt x="1091" y="618"/>
                    <a:pt x="1110" y="589"/>
                  </a:cubicBezTo>
                  <a:cubicBezTo>
                    <a:pt x="1117" y="531"/>
                    <a:pt x="1112" y="511"/>
                    <a:pt x="1166" y="493"/>
                  </a:cubicBezTo>
                  <a:cubicBezTo>
                    <a:pt x="1303" y="510"/>
                    <a:pt x="1449" y="529"/>
                    <a:pt x="1582" y="485"/>
                  </a:cubicBezTo>
                  <a:cubicBezTo>
                    <a:pt x="1611" y="456"/>
                    <a:pt x="1633" y="427"/>
                    <a:pt x="1646" y="389"/>
                  </a:cubicBezTo>
                  <a:cubicBezTo>
                    <a:pt x="1641" y="324"/>
                    <a:pt x="1656" y="286"/>
                    <a:pt x="1606" y="253"/>
                  </a:cubicBezTo>
                  <a:cubicBezTo>
                    <a:pt x="1587" y="196"/>
                    <a:pt x="1599" y="219"/>
                    <a:pt x="1574" y="181"/>
                  </a:cubicBezTo>
                  <a:cubicBezTo>
                    <a:pt x="1577" y="160"/>
                    <a:pt x="1565" y="131"/>
                    <a:pt x="1582" y="117"/>
                  </a:cubicBezTo>
                  <a:cubicBezTo>
                    <a:pt x="1603" y="100"/>
                    <a:pt x="1637" y="117"/>
                    <a:pt x="1662" y="109"/>
                  </a:cubicBezTo>
                  <a:cubicBezTo>
                    <a:pt x="1687" y="101"/>
                    <a:pt x="1683" y="45"/>
                    <a:pt x="1694" y="29"/>
                  </a:cubicBezTo>
                  <a:cubicBezTo>
                    <a:pt x="1703" y="16"/>
                    <a:pt x="1728" y="10"/>
                    <a:pt x="1742" y="5"/>
                  </a:cubicBezTo>
                  <a:cubicBezTo>
                    <a:pt x="1771" y="8"/>
                    <a:pt x="1804" y="0"/>
                    <a:pt x="1830" y="13"/>
                  </a:cubicBezTo>
                  <a:cubicBezTo>
                    <a:pt x="1931" y="63"/>
                    <a:pt x="1753" y="53"/>
                    <a:pt x="1870" y="53"/>
                  </a:cubicBezTo>
                </a:path>
              </a:pathLst>
            </a:custGeom>
            <a:noFill/>
            <a:ln w="57240">
              <a:solidFill>
                <a:srgbClr val="ff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4" name="Group 3"/>
          <p:cNvGrpSpPr/>
          <p:nvPr/>
        </p:nvGrpSpPr>
        <p:grpSpPr>
          <a:xfrm>
            <a:off x="250920" y="404640"/>
            <a:ext cx="1979640" cy="1366920"/>
            <a:chOff x="250920" y="404640"/>
            <a:chExt cx="1979640" cy="1366920"/>
          </a:xfrm>
        </p:grpSpPr>
        <p:sp>
          <p:nvSpPr>
            <p:cNvPr id="1035" name="Freeform 4"/>
            <p:cNvSpPr/>
            <p:nvPr/>
          </p:nvSpPr>
          <p:spPr>
            <a:xfrm>
              <a:off x="250920" y="407520"/>
              <a:ext cx="1502640" cy="308880"/>
            </a:xfrm>
            <a:custGeom>
              <a:avLst/>
              <a:gdLst>
                <a:gd name="textAreaLeft" fmla="*/ 0 w 1502640"/>
                <a:gd name="textAreaRight" fmla="*/ 1503000 w 1502640"/>
                <a:gd name="textAreaTop" fmla="*/ 0 h 308880"/>
                <a:gd name="textAreaBottom" fmla="*/ 308880 h 308880"/>
              </a:gdLst>
              <a:ahLst/>
              <a:rect l="textAreaLeft" t="textAreaTop" r="textAreaRight" b="textAreaBottom"/>
              <a:pathLst>
                <a:path w="4248" h="793">
                  <a:moveTo>
                    <a:pt x="0" y="704"/>
                  </a:moveTo>
                  <a:cubicBezTo>
                    <a:pt x="29" y="701"/>
                    <a:pt x="60" y="704"/>
                    <a:pt x="88" y="696"/>
                  </a:cubicBezTo>
                  <a:cubicBezTo>
                    <a:pt x="101" y="692"/>
                    <a:pt x="166" y="598"/>
                    <a:pt x="104" y="680"/>
                  </a:cubicBezTo>
                  <a:cubicBezTo>
                    <a:pt x="161" y="699"/>
                    <a:pt x="146" y="663"/>
                    <a:pt x="192" y="648"/>
                  </a:cubicBezTo>
                  <a:cubicBezTo>
                    <a:pt x="205" y="651"/>
                    <a:pt x="224" y="645"/>
                    <a:pt x="232" y="656"/>
                  </a:cubicBezTo>
                  <a:cubicBezTo>
                    <a:pt x="248" y="678"/>
                    <a:pt x="239" y="710"/>
                    <a:pt x="248" y="736"/>
                  </a:cubicBezTo>
                  <a:cubicBezTo>
                    <a:pt x="407" y="730"/>
                    <a:pt x="452" y="787"/>
                    <a:pt x="488" y="680"/>
                  </a:cubicBezTo>
                  <a:cubicBezTo>
                    <a:pt x="520" y="453"/>
                    <a:pt x="471" y="670"/>
                    <a:pt x="1000" y="616"/>
                  </a:cubicBezTo>
                  <a:cubicBezTo>
                    <a:pt x="1023" y="614"/>
                    <a:pt x="1062" y="547"/>
                    <a:pt x="1096" y="536"/>
                  </a:cubicBezTo>
                  <a:cubicBezTo>
                    <a:pt x="1115" y="508"/>
                    <a:pt x="1139" y="459"/>
                    <a:pt x="1168" y="440"/>
                  </a:cubicBezTo>
                  <a:cubicBezTo>
                    <a:pt x="1200" y="419"/>
                    <a:pt x="1276" y="419"/>
                    <a:pt x="1304" y="416"/>
                  </a:cubicBezTo>
                  <a:cubicBezTo>
                    <a:pt x="1327" y="381"/>
                    <a:pt x="1326" y="301"/>
                    <a:pt x="1360" y="296"/>
                  </a:cubicBezTo>
                  <a:cubicBezTo>
                    <a:pt x="1405" y="289"/>
                    <a:pt x="1451" y="291"/>
                    <a:pt x="1496" y="288"/>
                  </a:cubicBezTo>
                  <a:cubicBezTo>
                    <a:pt x="1538" y="274"/>
                    <a:pt x="1525" y="252"/>
                    <a:pt x="1560" y="232"/>
                  </a:cubicBezTo>
                  <a:cubicBezTo>
                    <a:pt x="1584" y="218"/>
                    <a:pt x="1614" y="217"/>
                    <a:pt x="1640" y="208"/>
                  </a:cubicBezTo>
                  <a:cubicBezTo>
                    <a:pt x="1648" y="205"/>
                    <a:pt x="1664" y="200"/>
                    <a:pt x="1664" y="200"/>
                  </a:cubicBezTo>
                  <a:cubicBezTo>
                    <a:pt x="1680" y="184"/>
                    <a:pt x="1696" y="168"/>
                    <a:pt x="1712" y="152"/>
                  </a:cubicBezTo>
                  <a:cubicBezTo>
                    <a:pt x="1720" y="144"/>
                    <a:pt x="1736" y="128"/>
                    <a:pt x="1736" y="128"/>
                  </a:cubicBezTo>
                  <a:cubicBezTo>
                    <a:pt x="1760" y="55"/>
                    <a:pt x="1725" y="69"/>
                    <a:pt x="1824" y="80"/>
                  </a:cubicBezTo>
                  <a:cubicBezTo>
                    <a:pt x="1835" y="83"/>
                    <a:pt x="1849" y="80"/>
                    <a:pt x="1856" y="88"/>
                  </a:cubicBezTo>
                  <a:cubicBezTo>
                    <a:pt x="1867" y="100"/>
                    <a:pt x="1878" y="182"/>
                    <a:pt x="1888" y="192"/>
                  </a:cubicBezTo>
                  <a:cubicBezTo>
                    <a:pt x="1896" y="200"/>
                    <a:pt x="1909" y="197"/>
                    <a:pt x="1920" y="200"/>
                  </a:cubicBezTo>
                  <a:cubicBezTo>
                    <a:pt x="1949" y="208"/>
                    <a:pt x="1942" y="206"/>
                    <a:pt x="1968" y="224"/>
                  </a:cubicBezTo>
                  <a:cubicBezTo>
                    <a:pt x="1971" y="232"/>
                    <a:pt x="1976" y="240"/>
                    <a:pt x="1976" y="248"/>
                  </a:cubicBezTo>
                  <a:cubicBezTo>
                    <a:pt x="1976" y="256"/>
                    <a:pt x="1965" y="264"/>
                    <a:pt x="1968" y="272"/>
                  </a:cubicBezTo>
                  <a:cubicBezTo>
                    <a:pt x="1979" y="299"/>
                    <a:pt x="2066" y="294"/>
                    <a:pt x="2088" y="296"/>
                  </a:cubicBezTo>
                  <a:cubicBezTo>
                    <a:pt x="2134" y="307"/>
                    <a:pt x="2178" y="325"/>
                    <a:pt x="2224" y="336"/>
                  </a:cubicBezTo>
                  <a:cubicBezTo>
                    <a:pt x="2244" y="377"/>
                    <a:pt x="2265" y="385"/>
                    <a:pt x="2296" y="416"/>
                  </a:cubicBezTo>
                  <a:cubicBezTo>
                    <a:pt x="2332" y="452"/>
                    <a:pt x="2289" y="432"/>
                    <a:pt x="2336" y="448"/>
                  </a:cubicBezTo>
                  <a:cubicBezTo>
                    <a:pt x="2341" y="464"/>
                    <a:pt x="2347" y="480"/>
                    <a:pt x="2352" y="496"/>
                  </a:cubicBezTo>
                  <a:cubicBezTo>
                    <a:pt x="2355" y="504"/>
                    <a:pt x="2360" y="520"/>
                    <a:pt x="2360" y="520"/>
                  </a:cubicBezTo>
                  <a:cubicBezTo>
                    <a:pt x="2354" y="538"/>
                    <a:pt x="2325" y="612"/>
                    <a:pt x="2352" y="624"/>
                  </a:cubicBezTo>
                  <a:cubicBezTo>
                    <a:pt x="2389" y="640"/>
                    <a:pt x="2432" y="629"/>
                    <a:pt x="2472" y="632"/>
                  </a:cubicBezTo>
                  <a:cubicBezTo>
                    <a:pt x="2488" y="637"/>
                    <a:pt x="2504" y="643"/>
                    <a:pt x="2520" y="648"/>
                  </a:cubicBezTo>
                  <a:cubicBezTo>
                    <a:pt x="2528" y="651"/>
                    <a:pt x="2544" y="656"/>
                    <a:pt x="2544" y="656"/>
                  </a:cubicBezTo>
                  <a:cubicBezTo>
                    <a:pt x="2572" y="677"/>
                    <a:pt x="2591" y="701"/>
                    <a:pt x="2624" y="712"/>
                  </a:cubicBezTo>
                  <a:cubicBezTo>
                    <a:pt x="2642" y="785"/>
                    <a:pt x="2622" y="764"/>
                    <a:pt x="2664" y="792"/>
                  </a:cubicBezTo>
                  <a:cubicBezTo>
                    <a:pt x="2707" y="789"/>
                    <a:pt x="2750" y="793"/>
                    <a:pt x="2792" y="784"/>
                  </a:cubicBezTo>
                  <a:cubicBezTo>
                    <a:pt x="2819" y="778"/>
                    <a:pt x="2832" y="712"/>
                    <a:pt x="2832" y="712"/>
                  </a:cubicBezTo>
                  <a:cubicBezTo>
                    <a:pt x="2839" y="646"/>
                    <a:pt x="2839" y="590"/>
                    <a:pt x="2896" y="552"/>
                  </a:cubicBezTo>
                  <a:cubicBezTo>
                    <a:pt x="2916" y="522"/>
                    <a:pt x="2946" y="476"/>
                    <a:pt x="2976" y="456"/>
                  </a:cubicBezTo>
                  <a:cubicBezTo>
                    <a:pt x="2989" y="447"/>
                    <a:pt x="3042" y="441"/>
                    <a:pt x="3048" y="440"/>
                  </a:cubicBezTo>
                  <a:cubicBezTo>
                    <a:pt x="3064" y="429"/>
                    <a:pt x="3080" y="419"/>
                    <a:pt x="3096" y="408"/>
                  </a:cubicBezTo>
                  <a:cubicBezTo>
                    <a:pt x="3106" y="401"/>
                    <a:pt x="3072" y="416"/>
                    <a:pt x="3064" y="424"/>
                  </a:cubicBezTo>
                  <a:cubicBezTo>
                    <a:pt x="3058" y="430"/>
                    <a:pt x="3081" y="421"/>
                    <a:pt x="3088" y="416"/>
                  </a:cubicBezTo>
                  <a:cubicBezTo>
                    <a:pt x="3096" y="411"/>
                    <a:pt x="3105" y="407"/>
                    <a:pt x="3112" y="400"/>
                  </a:cubicBezTo>
                  <a:cubicBezTo>
                    <a:pt x="3152" y="360"/>
                    <a:pt x="3125" y="379"/>
                    <a:pt x="3200" y="360"/>
                  </a:cubicBezTo>
                  <a:cubicBezTo>
                    <a:pt x="3211" y="357"/>
                    <a:pt x="3232" y="352"/>
                    <a:pt x="3232" y="352"/>
                  </a:cubicBezTo>
                  <a:cubicBezTo>
                    <a:pt x="3251" y="408"/>
                    <a:pt x="3307" y="331"/>
                    <a:pt x="3336" y="312"/>
                  </a:cubicBezTo>
                  <a:cubicBezTo>
                    <a:pt x="3440" y="242"/>
                    <a:pt x="3587" y="307"/>
                    <a:pt x="3712" y="304"/>
                  </a:cubicBezTo>
                  <a:cubicBezTo>
                    <a:pt x="3769" y="266"/>
                    <a:pt x="3829" y="263"/>
                    <a:pt x="3896" y="256"/>
                  </a:cubicBezTo>
                  <a:cubicBezTo>
                    <a:pt x="3908" y="221"/>
                    <a:pt x="3909" y="203"/>
                    <a:pt x="3936" y="176"/>
                  </a:cubicBezTo>
                  <a:cubicBezTo>
                    <a:pt x="3925" y="160"/>
                    <a:pt x="3908" y="147"/>
                    <a:pt x="3904" y="128"/>
                  </a:cubicBezTo>
                  <a:cubicBezTo>
                    <a:pt x="3900" y="108"/>
                    <a:pt x="3933" y="97"/>
                    <a:pt x="3944" y="96"/>
                  </a:cubicBezTo>
                  <a:cubicBezTo>
                    <a:pt x="3989" y="91"/>
                    <a:pt x="4035" y="91"/>
                    <a:pt x="4080" y="88"/>
                  </a:cubicBezTo>
                  <a:cubicBezTo>
                    <a:pt x="4168" y="73"/>
                    <a:pt x="4182" y="66"/>
                    <a:pt x="4248" y="0"/>
                  </a:cubicBezTo>
                </a:path>
              </a:pathLst>
            </a:custGeom>
            <a:noFill/>
            <a:ln w="57240">
              <a:solidFill>
                <a:srgbClr val="ff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Freeform 5"/>
            <p:cNvSpPr/>
            <p:nvPr/>
          </p:nvSpPr>
          <p:spPr>
            <a:xfrm>
              <a:off x="1760040" y="404640"/>
              <a:ext cx="465840" cy="649080"/>
            </a:xfrm>
            <a:custGeom>
              <a:avLst/>
              <a:gdLst>
                <a:gd name="textAreaLeft" fmla="*/ 0 w 465840"/>
                <a:gd name="textAreaRight" fmla="*/ 466200 w 465840"/>
                <a:gd name="textAreaTop" fmla="*/ 0 h 649080"/>
                <a:gd name="textAreaBottom" fmla="*/ 649080 h 649080"/>
              </a:gdLst>
              <a:ahLst/>
              <a:rect l="textAreaLeft" t="textAreaTop" r="textAreaRight" b="textAreaBottom"/>
              <a:pathLst>
                <a:path w="1317" h="1666">
                  <a:moveTo>
                    <a:pt x="5" y="0"/>
                  </a:moveTo>
                  <a:cubicBezTo>
                    <a:pt x="8" y="24"/>
                    <a:pt x="0" y="52"/>
                    <a:pt x="13" y="72"/>
                  </a:cubicBezTo>
                  <a:cubicBezTo>
                    <a:pt x="22" y="86"/>
                    <a:pt x="61" y="88"/>
                    <a:pt x="61" y="88"/>
                  </a:cubicBezTo>
                  <a:cubicBezTo>
                    <a:pt x="67" y="106"/>
                    <a:pt x="90" y="155"/>
                    <a:pt x="101" y="168"/>
                  </a:cubicBezTo>
                  <a:cubicBezTo>
                    <a:pt x="123" y="195"/>
                    <a:pt x="268" y="205"/>
                    <a:pt x="301" y="208"/>
                  </a:cubicBezTo>
                  <a:cubicBezTo>
                    <a:pt x="298" y="216"/>
                    <a:pt x="290" y="224"/>
                    <a:pt x="293" y="232"/>
                  </a:cubicBezTo>
                  <a:cubicBezTo>
                    <a:pt x="297" y="241"/>
                    <a:pt x="311" y="241"/>
                    <a:pt x="317" y="248"/>
                  </a:cubicBezTo>
                  <a:cubicBezTo>
                    <a:pt x="330" y="262"/>
                    <a:pt x="331" y="290"/>
                    <a:pt x="349" y="296"/>
                  </a:cubicBezTo>
                  <a:cubicBezTo>
                    <a:pt x="365" y="301"/>
                    <a:pt x="397" y="312"/>
                    <a:pt x="397" y="312"/>
                  </a:cubicBezTo>
                  <a:cubicBezTo>
                    <a:pt x="417" y="392"/>
                    <a:pt x="387" y="310"/>
                    <a:pt x="429" y="352"/>
                  </a:cubicBezTo>
                  <a:cubicBezTo>
                    <a:pt x="435" y="358"/>
                    <a:pt x="431" y="370"/>
                    <a:pt x="437" y="376"/>
                  </a:cubicBezTo>
                  <a:cubicBezTo>
                    <a:pt x="460" y="399"/>
                    <a:pt x="501" y="388"/>
                    <a:pt x="533" y="392"/>
                  </a:cubicBezTo>
                  <a:cubicBezTo>
                    <a:pt x="588" y="429"/>
                    <a:pt x="563" y="418"/>
                    <a:pt x="605" y="432"/>
                  </a:cubicBezTo>
                  <a:cubicBezTo>
                    <a:pt x="618" y="452"/>
                    <a:pt x="624" y="456"/>
                    <a:pt x="629" y="480"/>
                  </a:cubicBezTo>
                  <a:cubicBezTo>
                    <a:pt x="633" y="498"/>
                    <a:pt x="625" y="522"/>
                    <a:pt x="637" y="536"/>
                  </a:cubicBezTo>
                  <a:cubicBezTo>
                    <a:pt x="648" y="548"/>
                    <a:pt x="669" y="541"/>
                    <a:pt x="685" y="544"/>
                  </a:cubicBezTo>
                  <a:cubicBezTo>
                    <a:pt x="694" y="595"/>
                    <a:pt x="711" y="694"/>
                    <a:pt x="765" y="712"/>
                  </a:cubicBezTo>
                  <a:cubicBezTo>
                    <a:pt x="792" y="822"/>
                    <a:pt x="1029" y="804"/>
                    <a:pt x="1101" y="808"/>
                  </a:cubicBezTo>
                  <a:cubicBezTo>
                    <a:pt x="1095" y="840"/>
                    <a:pt x="1092" y="872"/>
                    <a:pt x="1085" y="904"/>
                  </a:cubicBezTo>
                  <a:cubicBezTo>
                    <a:pt x="1081" y="920"/>
                    <a:pt x="1083" y="943"/>
                    <a:pt x="1069" y="952"/>
                  </a:cubicBezTo>
                  <a:cubicBezTo>
                    <a:pt x="1027" y="980"/>
                    <a:pt x="997" y="1016"/>
                    <a:pt x="981" y="1064"/>
                  </a:cubicBezTo>
                  <a:cubicBezTo>
                    <a:pt x="993" y="1220"/>
                    <a:pt x="978" y="1182"/>
                    <a:pt x="1149" y="1192"/>
                  </a:cubicBezTo>
                  <a:cubicBezTo>
                    <a:pt x="1221" y="1240"/>
                    <a:pt x="1191" y="1277"/>
                    <a:pt x="1181" y="1384"/>
                  </a:cubicBezTo>
                  <a:cubicBezTo>
                    <a:pt x="1178" y="1412"/>
                    <a:pt x="1168" y="1407"/>
                    <a:pt x="1157" y="1432"/>
                  </a:cubicBezTo>
                  <a:cubicBezTo>
                    <a:pt x="1150" y="1447"/>
                    <a:pt x="1141" y="1480"/>
                    <a:pt x="1141" y="1480"/>
                  </a:cubicBezTo>
                  <a:cubicBezTo>
                    <a:pt x="1144" y="1496"/>
                    <a:pt x="1135" y="1520"/>
                    <a:pt x="1149" y="1528"/>
                  </a:cubicBezTo>
                  <a:cubicBezTo>
                    <a:pt x="1177" y="1543"/>
                    <a:pt x="1224" y="1512"/>
                    <a:pt x="1245" y="1536"/>
                  </a:cubicBezTo>
                  <a:cubicBezTo>
                    <a:pt x="1270" y="1564"/>
                    <a:pt x="1238" y="1614"/>
                    <a:pt x="1253" y="1648"/>
                  </a:cubicBezTo>
                  <a:cubicBezTo>
                    <a:pt x="1261" y="1666"/>
                    <a:pt x="1298" y="1664"/>
                    <a:pt x="1317" y="1664"/>
                  </a:cubicBezTo>
                </a:path>
              </a:pathLst>
            </a:custGeom>
            <a:noFill/>
            <a:ln w="57240">
              <a:solidFill>
                <a:srgbClr val="ff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Line 6"/>
            <p:cNvSpPr/>
            <p:nvPr/>
          </p:nvSpPr>
          <p:spPr>
            <a:xfrm>
              <a:off x="253800" y="788760"/>
              <a:ext cx="401040" cy="901800"/>
            </a:xfrm>
            <a:prstGeom prst="line">
              <a:avLst/>
            </a:prstGeom>
            <a:ln w="7632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Freeform 7"/>
            <p:cNvSpPr/>
            <p:nvPr/>
          </p:nvSpPr>
          <p:spPr>
            <a:xfrm>
              <a:off x="663840" y="1521360"/>
              <a:ext cx="879480" cy="250200"/>
            </a:xfrm>
            <a:custGeom>
              <a:avLst/>
              <a:gdLst>
                <a:gd name="textAreaLeft" fmla="*/ 0 w 879480"/>
                <a:gd name="textAreaRight" fmla="*/ 879840 w 879480"/>
                <a:gd name="textAreaTop" fmla="*/ 0 h 250200"/>
                <a:gd name="textAreaBottom" fmla="*/ 250200 h 250200"/>
              </a:gdLst>
              <a:ahLst/>
              <a:rect l="textAreaLeft" t="textAreaTop" r="textAreaRight" b="textAreaBottom"/>
              <a:pathLst>
                <a:path w="2487" h="642">
                  <a:moveTo>
                    <a:pt x="0" y="462"/>
                  </a:moveTo>
                  <a:cubicBezTo>
                    <a:pt x="37" y="453"/>
                    <a:pt x="51" y="446"/>
                    <a:pt x="72" y="414"/>
                  </a:cubicBezTo>
                  <a:cubicBezTo>
                    <a:pt x="91" y="339"/>
                    <a:pt x="135" y="396"/>
                    <a:pt x="192" y="358"/>
                  </a:cubicBezTo>
                  <a:cubicBezTo>
                    <a:pt x="220" y="316"/>
                    <a:pt x="252" y="279"/>
                    <a:pt x="280" y="238"/>
                  </a:cubicBezTo>
                  <a:cubicBezTo>
                    <a:pt x="290" y="66"/>
                    <a:pt x="257" y="91"/>
                    <a:pt x="400" y="78"/>
                  </a:cubicBezTo>
                  <a:cubicBezTo>
                    <a:pt x="405" y="70"/>
                    <a:pt x="412" y="63"/>
                    <a:pt x="416" y="54"/>
                  </a:cubicBezTo>
                  <a:cubicBezTo>
                    <a:pt x="423" y="39"/>
                    <a:pt x="432" y="6"/>
                    <a:pt x="432" y="6"/>
                  </a:cubicBezTo>
                  <a:cubicBezTo>
                    <a:pt x="461" y="9"/>
                    <a:pt x="494" y="0"/>
                    <a:pt x="520" y="14"/>
                  </a:cubicBezTo>
                  <a:cubicBezTo>
                    <a:pt x="558" y="34"/>
                    <a:pt x="519" y="87"/>
                    <a:pt x="568" y="102"/>
                  </a:cubicBezTo>
                  <a:cubicBezTo>
                    <a:pt x="586" y="107"/>
                    <a:pt x="605" y="107"/>
                    <a:pt x="624" y="110"/>
                  </a:cubicBezTo>
                  <a:cubicBezTo>
                    <a:pt x="621" y="131"/>
                    <a:pt x="616" y="153"/>
                    <a:pt x="616" y="174"/>
                  </a:cubicBezTo>
                  <a:cubicBezTo>
                    <a:pt x="616" y="347"/>
                    <a:pt x="616" y="278"/>
                    <a:pt x="832" y="286"/>
                  </a:cubicBezTo>
                  <a:cubicBezTo>
                    <a:pt x="848" y="642"/>
                    <a:pt x="860" y="478"/>
                    <a:pt x="1392" y="486"/>
                  </a:cubicBezTo>
                  <a:cubicBezTo>
                    <a:pt x="1453" y="527"/>
                    <a:pt x="1531" y="510"/>
                    <a:pt x="1600" y="502"/>
                  </a:cubicBezTo>
                  <a:cubicBezTo>
                    <a:pt x="1610" y="471"/>
                    <a:pt x="1630" y="469"/>
                    <a:pt x="1640" y="438"/>
                  </a:cubicBezTo>
                  <a:cubicBezTo>
                    <a:pt x="1656" y="314"/>
                    <a:pt x="1694" y="365"/>
                    <a:pt x="1856" y="358"/>
                  </a:cubicBezTo>
                  <a:cubicBezTo>
                    <a:pt x="1908" y="332"/>
                    <a:pt x="1932" y="319"/>
                    <a:pt x="1992" y="310"/>
                  </a:cubicBezTo>
                  <a:cubicBezTo>
                    <a:pt x="2079" y="281"/>
                    <a:pt x="2168" y="308"/>
                    <a:pt x="2256" y="318"/>
                  </a:cubicBezTo>
                  <a:cubicBezTo>
                    <a:pt x="2259" y="326"/>
                    <a:pt x="2257" y="338"/>
                    <a:pt x="2264" y="342"/>
                  </a:cubicBezTo>
                  <a:cubicBezTo>
                    <a:pt x="2278" y="350"/>
                    <a:pt x="2296" y="346"/>
                    <a:pt x="2312" y="350"/>
                  </a:cubicBezTo>
                  <a:cubicBezTo>
                    <a:pt x="2337" y="356"/>
                    <a:pt x="2338" y="360"/>
                    <a:pt x="2360" y="374"/>
                  </a:cubicBezTo>
                  <a:cubicBezTo>
                    <a:pt x="2365" y="390"/>
                    <a:pt x="2371" y="406"/>
                    <a:pt x="2376" y="422"/>
                  </a:cubicBezTo>
                  <a:cubicBezTo>
                    <a:pt x="2381" y="437"/>
                    <a:pt x="2377" y="455"/>
                    <a:pt x="2384" y="470"/>
                  </a:cubicBezTo>
                  <a:cubicBezTo>
                    <a:pt x="2392" y="486"/>
                    <a:pt x="2428" y="491"/>
                    <a:pt x="2440" y="494"/>
                  </a:cubicBezTo>
                  <a:cubicBezTo>
                    <a:pt x="2444" y="516"/>
                    <a:pt x="2440" y="542"/>
                    <a:pt x="2456" y="558"/>
                  </a:cubicBezTo>
                  <a:cubicBezTo>
                    <a:pt x="2462" y="564"/>
                    <a:pt x="2478" y="558"/>
                    <a:pt x="2480" y="566"/>
                  </a:cubicBezTo>
                  <a:cubicBezTo>
                    <a:pt x="2487" y="589"/>
                    <a:pt x="2480" y="614"/>
                    <a:pt x="2480" y="638"/>
                  </a:cubicBezTo>
                </a:path>
              </a:pathLst>
            </a:custGeom>
            <a:noFill/>
            <a:ln w="76320">
              <a:solidFill>
                <a:srgbClr val="ff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Freeform 8"/>
            <p:cNvSpPr/>
            <p:nvPr/>
          </p:nvSpPr>
          <p:spPr>
            <a:xfrm>
              <a:off x="1547640" y="1041840"/>
              <a:ext cx="682920" cy="715680"/>
            </a:xfrm>
            <a:custGeom>
              <a:avLst/>
              <a:gdLst>
                <a:gd name="textAreaLeft" fmla="*/ 0 w 682920"/>
                <a:gd name="textAreaRight" fmla="*/ 683280 w 682920"/>
                <a:gd name="textAreaTop" fmla="*/ 0 h 715680"/>
                <a:gd name="textAreaBottom" fmla="*/ 716040 h 715680"/>
              </a:gdLst>
              <a:ahLst/>
              <a:rect l="textAreaLeft" t="textAreaTop" r="textAreaRight" b="textAreaBottom"/>
              <a:pathLst>
                <a:path w="1931" h="1837">
                  <a:moveTo>
                    <a:pt x="46" y="1837"/>
                  </a:moveTo>
                  <a:cubicBezTo>
                    <a:pt x="143" y="1831"/>
                    <a:pt x="169" y="1828"/>
                    <a:pt x="246" y="1813"/>
                  </a:cubicBezTo>
                  <a:cubicBezTo>
                    <a:pt x="251" y="1805"/>
                    <a:pt x="259" y="1798"/>
                    <a:pt x="262" y="1789"/>
                  </a:cubicBezTo>
                  <a:cubicBezTo>
                    <a:pt x="267" y="1771"/>
                    <a:pt x="260" y="1749"/>
                    <a:pt x="270" y="1733"/>
                  </a:cubicBezTo>
                  <a:cubicBezTo>
                    <a:pt x="280" y="1717"/>
                    <a:pt x="318" y="1701"/>
                    <a:pt x="318" y="1701"/>
                  </a:cubicBezTo>
                  <a:cubicBezTo>
                    <a:pt x="323" y="1693"/>
                    <a:pt x="333" y="1687"/>
                    <a:pt x="334" y="1677"/>
                  </a:cubicBezTo>
                  <a:cubicBezTo>
                    <a:pt x="341" y="1610"/>
                    <a:pt x="317" y="1617"/>
                    <a:pt x="270" y="1605"/>
                  </a:cubicBezTo>
                  <a:cubicBezTo>
                    <a:pt x="267" y="1581"/>
                    <a:pt x="273" y="1555"/>
                    <a:pt x="262" y="1533"/>
                  </a:cubicBezTo>
                  <a:cubicBezTo>
                    <a:pt x="257" y="1523"/>
                    <a:pt x="241" y="1528"/>
                    <a:pt x="230" y="1525"/>
                  </a:cubicBezTo>
                  <a:cubicBezTo>
                    <a:pt x="166" y="1506"/>
                    <a:pt x="101" y="1490"/>
                    <a:pt x="38" y="1469"/>
                  </a:cubicBezTo>
                  <a:cubicBezTo>
                    <a:pt x="23" y="1447"/>
                    <a:pt x="0" y="1417"/>
                    <a:pt x="22" y="1389"/>
                  </a:cubicBezTo>
                  <a:cubicBezTo>
                    <a:pt x="27" y="1382"/>
                    <a:pt x="38" y="1385"/>
                    <a:pt x="46" y="1381"/>
                  </a:cubicBezTo>
                  <a:cubicBezTo>
                    <a:pt x="55" y="1377"/>
                    <a:pt x="62" y="1370"/>
                    <a:pt x="70" y="1365"/>
                  </a:cubicBezTo>
                  <a:cubicBezTo>
                    <a:pt x="123" y="1383"/>
                    <a:pt x="76" y="1376"/>
                    <a:pt x="110" y="1301"/>
                  </a:cubicBezTo>
                  <a:cubicBezTo>
                    <a:pt x="115" y="1289"/>
                    <a:pt x="147" y="1280"/>
                    <a:pt x="158" y="1277"/>
                  </a:cubicBezTo>
                  <a:cubicBezTo>
                    <a:pt x="192" y="1267"/>
                    <a:pt x="230" y="1269"/>
                    <a:pt x="262" y="1253"/>
                  </a:cubicBezTo>
                  <a:cubicBezTo>
                    <a:pt x="314" y="1227"/>
                    <a:pt x="257" y="1248"/>
                    <a:pt x="310" y="1213"/>
                  </a:cubicBezTo>
                  <a:cubicBezTo>
                    <a:pt x="370" y="1173"/>
                    <a:pt x="286" y="1269"/>
                    <a:pt x="382" y="1173"/>
                  </a:cubicBezTo>
                  <a:cubicBezTo>
                    <a:pt x="403" y="1152"/>
                    <a:pt x="425" y="1127"/>
                    <a:pt x="454" y="1117"/>
                  </a:cubicBezTo>
                  <a:cubicBezTo>
                    <a:pt x="505" y="1100"/>
                    <a:pt x="548" y="1078"/>
                    <a:pt x="598" y="1061"/>
                  </a:cubicBezTo>
                  <a:cubicBezTo>
                    <a:pt x="641" y="1047"/>
                    <a:pt x="689" y="1056"/>
                    <a:pt x="734" y="1053"/>
                  </a:cubicBezTo>
                  <a:cubicBezTo>
                    <a:pt x="798" y="1010"/>
                    <a:pt x="721" y="1066"/>
                    <a:pt x="774" y="1013"/>
                  </a:cubicBezTo>
                  <a:cubicBezTo>
                    <a:pt x="801" y="986"/>
                    <a:pt x="793" y="1005"/>
                    <a:pt x="822" y="989"/>
                  </a:cubicBezTo>
                  <a:cubicBezTo>
                    <a:pt x="874" y="960"/>
                    <a:pt x="924" y="919"/>
                    <a:pt x="966" y="877"/>
                  </a:cubicBezTo>
                  <a:cubicBezTo>
                    <a:pt x="970" y="855"/>
                    <a:pt x="979" y="835"/>
                    <a:pt x="982" y="813"/>
                  </a:cubicBezTo>
                  <a:cubicBezTo>
                    <a:pt x="987" y="773"/>
                    <a:pt x="969" y="722"/>
                    <a:pt x="998" y="693"/>
                  </a:cubicBezTo>
                  <a:cubicBezTo>
                    <a:pt x="1012" y="679"/>
                    <a:pt x="1030" y="672"/>
                    <a:pt x="1046" y="661"/>
                  </a:cubicBezTo>
                  <a:cubicBezTo>
                    <a:pt x="1079" y="639"/>
                    <a:pt x="1091" y="618"/>
                    <a:pt x="1110" y="589"/>
                  </a:cubicBezTo>
                  <a:cubicBezTo>
                    <a:pt x="1117" y="531"/>
                    <a:pt x="1112" y="511"/>
                    <a:pt x="1166" y="493"/>
                  </a:cubicBezTo>
                  <a:cubicBezTo>
                    <a:pt x="1303" y="510"/>
                    <a:pt x="1449" y="529"/>
                    <a:pt x="1582" y="485"/>
                  </a:cubicBezTo>
                  <a:cubicBezTo>
                    <a:pt x="1611" y="456"/>
                    <a:pt x="1633" y="427"/>
                    <a:pt x="1646" y="389"/>
                  </a:cubicBezTo>
                  <a:cubicBezTo>
                    <a:pt x="1641" y="324"/>
                    <a:pt x="1656" y="286"/>
                    <a:pt x="1606" y="253"/>
                  </a:cubicBezTo>
                  <a:cubicBezTo>
                    <a:pt x="1587" y="196"/>
                    <a:pt x="1599" y="219"/>
                    <a:pt x="1574" y="181"/>
                  </a:cubicBezTo>
                  <a:cubicBezTo>
                    <a:pt x="1577" y="160"/>
                    <a:pt x="1565" y="131"/>
                    <a:pt x="1582" y="117"/>
                  </a:cubicBezTo>
                  <a:cubicBezTo>
                    <a:pt x="1603" y="100"/>
                    <a:pt x="1637" y="117"/>
                    <a:pt x="1662" y="109"/>
                  </a:cubicBezTo>
                  <a:cubicBezTo>
                    <a:pt x="1687" y="101"/>
                    <a:pt x="1683" y="45"/>
                    <a:pt x="1694" y="29"/>
                  </a:cubicBezTo>
                  <a:cubicBezTo>
                    <a:pt x="1703" y="16"/>
                    <a:pt x="1728" y="10"/>
                    <a:pt x="1742" y="5"/>
                  </a:cubicBezTo>
                  <a:cubicBezTo>
                    <a:pt x="1771" y="8"/>
                    <a:pt x="1804" y="0"/>
                    <a:pt x="1830" y="13"/>
                  </a:cubicBezTo>
                  <a:cubicBezTo>
                    <a:pt x="1931" y="63"/>
                    <a:pt x="1753" y="53"/>
                    <a:pt x="1870" y="53"/>
                  </a:cubicBezTo>
                </a:path>
              </a:pathLst>
            </a:custGeom>
            <a:noFill/>
            <a:ln w="57240">
              <a:solidFill>
                <a:srgbClr val="ff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0" name="Прямоугольник 7"/>
          <p:cNvSpPr/>
          <p:nvPr/>
        </p:nvSpPr>
        <p:spPr>
          <a:xfrm>
            <a:off x="108000" y="115920"/>
            <a:ext cx="8712000" cy="347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ru-RU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1 период (1990—1991 гг.)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           </a:t>
            </a:r>
            <a:r>
              <a:rPr b="0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характеризуется положительными величинами как естественного, так и механического движения населения, в крае наблюдается общий прирост населения</a:t>
            </a:r>
            <a:r>
              <a:rPr b="0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Прямоугольник 8"/>
          <p:cNvSpPr/>
          <p:nvPr/>
        </p:nvSpPr>
        <p:spPr>
          <a:xfrm>
            <a:off x="453960" y="1928880"/>
            <a:ext cx="843912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2 период (1992-1994 гг.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ознаменован превышением числа умерших над числом родившихся, но естественная убыль населения протекает на фоне роста миграционного притока в край, в результате числен­ность населения края растет, но все меньшими темп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10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0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0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0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0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0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10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0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0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10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0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0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Прямоугольник 1"/>
          <p:cNvSpPr/>
          <p:nvPr/>
        </p:nvSpPr>
        <p:spPr>
          <a:xfrm>
            <a:off x="285840" y="214200"/>
            <a:ext cx="8638920" cy="49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            </a:t>
            </a:r>
            <a:r>
              <a:rPr b="1" i="1" lang="ru-RU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3 период (1995-2000 гг.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        </a:t>
            </a:r>
            <a:r>
              <a:rPr b="1" i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ри  сокращающемся положительном сальдо миграции и немного варьирующей естественной убыли общий прирост населения становится отрицательны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4 период (2001 г. - настоящее время):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сокращение численности населения края является результатом как естественной, так и механической убы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3" name="Group 3"/>
          <p:cNvGrpSpPr/>
          <p:nvPr/>
        </p:nvGrpSpPr>
        <p:grpSpPr>
          <a:xfrm>
            <a:off x="254160" y="555480"/>
            <a:ext cx="1979280" cy="1366920"/>
            <a:chOff x="254160" y="555480"/>
            <a:chExt cx="1979280" cy="1366920"/>
          </a:xfrm>
        </p:grpSpPr>
        <p:sp>
          <p:nvSpPr>
            <p:cNvPr id="1044" name="Freeform 4"/>
            <p:cNvSpPr/>
            <p:nvPr/>
          </p:nvSpPr>
          <p:spPr>
            <a:xfrm>
              <a:off x="254160" y="558360"/>
              <a:ext cx="1502280" cy="308880"/>
            </a:xfrm>
            <a:custGeom>
              <a:avLst/>
              <a:gdLst>
                <a:gd name="textAreaLeft" fmla="*/ 0 w 1502280"/>
                <a:gd name="textAreaRight" fmla="*/ 1502640 w 1502280"/>
                <a:gd name="textAreaTop" fmla="*/ 0 h 308880"/>
                <a:gd name="textAreaBottom" fmla="*/ 308880 h 308880"/>
              </a:gdLst>
              <a:ahLst/>
              <a:rect l="textAreaLeft" t="textAreaTop" r="textAreaRight" b="textAreaBottom"/>
              <a:pathLst>
                <a:path w="4248" h="793">
                  <a:moveTo>
                    <a:pt x="0" y="704"/>
                  </a:moveTo>
                  <a:cubicBezTo>
                    <a:pt x="29" y="701"/>
                    <a:pt x="60" y="704"/>
                    <a:pt x="88" y="696"/>
                  </a:cubicBezTo>
                  <a:cubicBezTo>
                    <a:pt x="101" y="692"/>
                    <a:pt x="166" y="598"/>
                    <a:pt x="104" y="680"/>
                  </a:cubicBezTo>
                  <a:cubicBezTo>
                    <a:pt x="161" y="699"/>
                    <a:pt x="146" y="663"/>
                    <a:pt x="192" y="648"/>
                  </a:cubicBezTo>
                  <a:cubicBezTo>
                    <a:pt x="205" y="651"/>
                    <a:pt x="224" y="645"/>
                    <a:pt x="232" y="656"/>
                  </a:cubicBezTo>
                  <a:cubicBezTo>
                    <a:pt x="248" y="678"/>
                    <a:pt x="239" y="710"/>
                    <a:pt x="248" y="736"/>
                  </a:cubicBezTo>
                  <a:cubicBezTo>
                    <a:pt x="407" y="730"/>
                    <a:pt x="452" y="787"/>
                    <a:pt x="488" y="680"/>
                  </a:cubicBezTo>
                  <a:cubicBezTo>
                    <a:pt x="520" y="453"/>
                    <a:pt x="471" y="670"/>
                    <a:pt x="1000" y="616"/>
                  </a:cubicBezTo>
                  <a:cubicBezTo>
                    <a:pt x="1023" y="614"/>
                    <a:pt x="1062" y="547"/>
                    <a:pt x="1096" y="536"/>
                  </a:cubicBezTo>
                  <a:cubicBezTo>
                    <a:pt x="1115" y="508"/>
                    <a:pt x="1139" y="459"/>
                    <a:pt x="1168" y="440"/>
                  </a:cubicBezTo>
                  <a:cubicBezTo>
                    <a:pt x="1200" y="419"/>
                    <a:pt x="1276" y="419"/>
                    <a:pt x="1304" y="416"/>
                  </a:cubicBezTo>
                  <a:cubicBezTo>
                    <a:pt x="1327" y="381"/>
                    <a:pt x="1326" y="301"/>
                    <a:pt x="1360" y="296"/>
                  </a:cubicBezTo>
                  <a:cubicBezTo>
                    <a:pt x="1405" y="289"/>
                    <a:pt x="1451" y="291"/>
                    <a:pt x="1496" y="288"/>
                  </a:cubicBezTo>
                  <a:cubicBezTo>
                    <a:pt x="1538" y="274"/>
                    <a:pt x="1525" y="252"/>
                    <a:pt x="1560" y="232"/>
                  </a:cubicBezTo>
                  <a:cubicBezTo>
                    <a:pt x="1584" y="218"/>
                    <a:pt x="1614" y="217"/>
                    <a:pt x="1640" y="208"/>
                  </a:cubicBezTo>
                  <a:cubicBezTo>
                    <a:pt x="1648" y="205"/>
                    <a:pt x="1664" y="200"/>
                    <a:pt x="1664" y="200"/>
                  </a:cubicBezTo>
                  <a:cubicBezTo>
                    <a:pt x="1680" y="184"/>
                    <a:pt x="1696" y="168"/>
                    <a:pt x="1712" y="152"/>
                  </a:cubicBezTo>
                  <a:cubicBezTo>
                    <a:pt x="1720" y="144"/>
                    <a:pt x="1736" y="128"/>
                    <a:pt x="1736" y="128"/>
                  </a:cubicBezTo>
                  <a:cubicBezTo>
                    <a:pt x="1760" y="55"/>
                    <a:pt x="1725" y="69"/>
                    <a:pt x="1824" y="80"/>
                  </a:cubicBezTo>
                  <a:cubicBezTo>
                    <a:pt x="1835" y="83"/>
                    <a:pt x="1849" y="80"/>
                    <a:pt x="1856" y="88"/>
                  </a:cubicBezTo>
                  <a:cubicBezTo>
                    <a:pt x="1867" y="100"/>
                    <a:pt x="1878" y="182"/>
                    <a:pt x="1888" y="192"/>
                  </a:cubicBezTo>
                  <a:cubicBezTo>
                    <a:pt x="1896" y="200"/>
                    <a:pt x="1909" y="197"/>
                    <a:pt x="1920" y="200"/>
                  </a:cubicBezTo>
                  <a:cubicBezTo>
                    <a:pt x="1949" y="208"/>
                    <a:pt x="1942" y="206"/>
                    <a:pt x="1968" y="224"/>
                  </a:cubicBezTo>
                  <a:cubicBezTo>
                    <a:pt x="1971" y="232"/>
                    <a:pt x="1976" y="240"/>
                    <a:pt x="1976" y="248"/>
                  </a:cubicBezTo>
                  <a:cubicBezTo>
                    <a:pt x="1976" y="256"/>
                    <a:pt x="1965" y="264"/>
                    <a:pt x="1968" y="272"/>
                  </a:cubicBezTo>
                  <a:cubicBezTo>
                    <a:pt x="1979" y="299"/>
                    <a:pt x="2066" y="294"/>
                    <a:pt x="2088" y="296"/>
                  </a:cubicBezTo>
                  <a:cubicBezTo>
                    <a:pt x="2134" y="307"/>
                    <a:pt x="2178" y="325"/>
                    <a:pt x="2224" y="336"/>
                  </a:cubicBezTo>
                  <a:cubicBezTo>
                    <a:pt x="2244" y="377"/>
                    <a:pt x="2265" y="385"/>
                    <a:pt x="2296" y="416"/>
                  </a:cubicBezTo>
                  <a:cubicBezTo>
                    <a:pt x="2332" y="452"/>
                    <a:pt x="2289" y="432"/>
                    <a:pt x="2336" y="448"/>
                  </a:cubicBezTo>
                  <a:cubicBezTo>
                    <a:pt x="2341" y="464"/>
                    <a:pt x="2347" y="480"/>
                    <a:pt x="2352" y="496"/>
                  </a:cubicBezTo>
                  <a:cubicBezTo>
                    <a:pt x="2355" y="504"/>
                    <a:pt x="2360" y="520"/>
                    <a:pt x="2360" y="520"/>
                  </a:cubicBezTo>
                  <a:cubicBezTo>
                    <a:pt x="2354" y="538"/>
                    <a:pt x="2325" y="612"/>
                    <a:pt x="2352" y="624"/>
                  </a:cubicBezTo>
                  <a:cubicBezTo>
                    <a:pt x="2389" y="640"/>
                    <a:pt x="2432" y="629"/>
                    <a:pt x="2472" y="632"/>
                  </a:cubicBezTo>
                  <a:cubicBezTo>
                    <a:pt x="2488" y="637"/>
                    <a:pt x="2504" y="643"/>
                    <a:pt x="2520" y="648"/>
                  </a:cubicBezTo>
                  <a:cubicBezTo>
                    <a:pt x="2528" y="651"/>
                    <a:pt x="2544" y="656"/>
                    <a:pt x="2544" y="656"/>
                  </a:cubicBezTo>
                  <a:cubicBezTo>
                    <a:pt x="2572" y="677"/>
                    <a:pt x="2591" y="701"/>
                    <a:pt x="2624" y="712"/>
                  </a:cubicBezTo>
                  <a:cubicBezTo>
                    <a:pt x="2642" y="785"/>
                    <a:pt x="2622" y="764"/>
                    <a:pt x="2664" y="792"/>
                  </a:cubicBezTo>
                  <a:cubicBezTo>
                    <a:pt x="2707" y="789"/>
                    <a:pt x="2750" y="793"/>
                    <a:pt x="2792" y="784"/>
                  </a:cubicBezTo>
                  <a:cubicBezTo>
                    <a:pt x="2819" y="778"/>
                    <a:pt x="2832" y="712"/>
                    <a:pt x="2832" y="712"/>
                  </a:cubicBezTo>
                  <a:cubicBezTo>
                    <a:pt x="2839" y="646"/>
                    <a:pt x="2839" y="590"/>
                    <a:pt x="2896" y="552"/>
                  </a:cubicBezTo>
                  <a:cubicBezTo>
                    <a:pt x="2916" y="522"/>
                    <a:pt x="2946" y="476"/>
                    <a:pt x="2976" y="456"/>
                  </a:cubicBezTo>
                  <a:cubicBezTo>
                    <a:pt x="2989" y="447"/>
                    <a:pt x="3042" y="441"/>
                    <a:pt x="3048" y="440"/>
                  </a:cubicBezTo>
                  <a:cubicBezTo>
                    <a:pt x="3064" y="429"/>
                    <a:pt x="3080" y="419"/>
                    <a:pt x="3096" y="408"/>
                  </a:cubicBezTo>
                  <a:cubicBezTo>
                    <a:pt x="3106" y="401"/>
                    <a:pt x="3072" y="416"/>
                    <a:pt x="3064" y="424"/>
                  </a:cubicBezTo>
                  <a:cubicBezTo>
                    <a:pt x="3058" y="430"/>
                    <a:pt x="3081" y="421"/>
                    <a:pt x="3088" y="416"/>
                  </a:cubicBezTo>
                  <a:cubicBezTo>
                    <a:pt x="3096" y="411"/>
                    <a:pt x="3105" y="407"/>
                    <a:pt x="3112" y="400"/>
                  </a:cubicBezTo>
                  <a:cubicBezTo>
                    <a:pt x="3152" y="360"/>
                    <a:pt x="3125" y="379"/>
                    <a:pt x="3200" y="360"/>
                  </a:cubicBezTo>
                  <a:cubicBezTo>
                    <a:pt x="3211" y="357"/>
                    <a:pt x="3232" y="352"/>
                    <a:pt x="3232" y="352"/>
                  </a:cubicBezTo>
                  <a:cubicBezTo>
                    <a:pt x="3251" y="408"/>
                    <a:pt x="3307" y="331"/>
                    <a:pt x="3336" y="312"/>
                  </a:cubicBezTo>
                  <a:cubicBezTo>
                    <a:pt x="3440" y="242"/>
                    <a:pt x="3587" y="307"/>
                    <a:pt x="3712" y="304"/>
                  </a:cubicBezTo>
                  <a:cubicBezTo>
                    <a:pt x="3769" y="266"/>
                    <a:pt x="3829" y="263"/>
                    <a:pt x="3896" y="256"/>
                  </a:cubicBezTo>
                  <a:cubicBezTo>
                    <a:pt x="3908" y="221"/>
                    <a:pt x="3909" y="203"/>
                    <a:pt x="3936" y="176"/>
                  </a:cubicBezTo>
                  <a:cubicBezTo>
                    <a:pt x="3925" y="160"/>
                    <a:pt x="3908" y="147"/>
                    <a:pt x="3904" y="128"/>
                  </a:cubicBezTo>
                  <a:cubicBezTo>
                    <a:pt x="3900" y="108"/>
                    <a:pt x="3933" y="97"/>
                    <a:pt x="3944" y="96"/>
                  </a:cubicBezTo>
                  <a:cubicBezTo>
                    <a:pt x="3989" y="91"/>
                    <a:pt x="4035" y="91"/>
                    <a:pt x="4080" y="88"/>
                  </a:cubicBezTo>
                  <a:cubicBezTo>
                    <a:pt x="4168" y="73"/>
                    <a:pt x="4182" y="66"/>
                    <a:pt x="4248" y="0"/>
                  </a:cubicBezTo>
                </a:path>
              </a:pathLst>
            </a:custGeom>
            <a:noFill/>
            <a:ln w="57240">
              <a:solidFill>
                <a:srgbClr val="ff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Freeform 5"/>
            <p:cNvSpPr/>
            <p:nvPr/>
          </p:nvSpPr>
          <p:spPr>
            <a:xfrm>
              <a:off x="1763280" y="555480"/>
              <a:ext cx="465480" cy="649080"/>
            </a:xfrm>
            <a:custGeom>
              <a:avLst/>
              <a:gdLst>
                <a:gd name="textAreaLeft" fmla="*/ 0 w 465480"/>
                <a:gd name="textAreaRight" fmla="*/ 465840 w 465480"/>
                <a:gd name="textAreaTop" fmla="*/ 0 h 649080"/>
                <a:gd name="textAreaBottom" fmla="*/ 649080 h 649080"/>
              </a:gdLst>
              <a:ahLst/>
              <a:rect l="textAreaLeft" t="textAreaTop" r="textAreaRight" b="textAreaBottom"/>
              <a:pathLst>
                <a:path w="1317" h="1666">
                  <a:moveTo>
                    <a:pt x="5" y="0"/>
                  </a:moveTo>
                  <a:cubicBezTo>
                    <a:pt x="8" y="24"/>
                    <a:pt x="0" y="52"/>
                    <a:pt x="13" y="72"/>
                  </a:cubicBezTo>
                  <a:cubicBezTo>
                    <a:pt x="22" y="86"/>
                    <a:pt x="61" y="88"/>
                    <a:pt x="61" y="88"/>
                  </a:cubicBezTo>
                  <a:cubicBezTo>
                    <a:pt x="67" y="106"/>
                    <a:pt x="90" y="155"/>
                    <a:pt x="101" y="168"/>
                  </a:cubicBezTo>
                  <a:cubicBezTo>
                    <a:pt x="123" y="195"/>
                    <a:pt x="268" y="205"/>
                    <a:pt x="301" y="208"/>
                  </a:cubicBezTo>
                  <a:cubicBezTo>
                    <a:pt x="298" y="216"/>
                    <a:pt x="290" y="224"/>
                    <a:pt x="293" y="232"/>
                  </a:cubicBezTo>
                  <a:cubicBezTo>
                    <a:pt x="297" y="241"/>
                    <a:pt x="311" y="241"/>
                    <a:pt x="317" y="248"/>
                  </a:cubicBezTo>
                  <a:cubicBezTo>
                    <a:pt x="330" y="262"/>
                    <a:pt x="331" y="290"/>
                    <a:pt x="349" y="296"/>
                  </a:cubicBezTo>
                  <a:cubicBezTo>
                    <a:pt x="365" y="301"/>
                    <a:pt x="397" y="312"/>
                    <a:pt x="397" y="312"/>
                  </a:cubicBezTo>
                  <a:cubicBezTo>
                    <a:pt x="417" y="392"/>
                    <a:pt x="387" y="310"/>
                    <a:pt x="429" y="352"/>
                  </a:cubicBezTo>
                  <a:cubicBezTo>
                    <a:pt x="435" y="358"/>
                    <a:pt x="431" y="370"/>
                    <a:pt x="437" y="376"/>
                  </a:cubicBezTo>
                  <a:cubicBezTo>
                    <a:pt x="460" y="399"/>
                    <a:pt x="501" y="388"/>
                    <a:pt x="533" y="392"/>
                  </a:cubicBezTo>
                  <a:cubicBezTo>
                    <a:pt x="588" y="429"/>
                    <a:pt x="563" y="418"/>
                    <a:pt x="605" y="432"/>
                  </a:cubicBezTo>
                  <a:cubicBezTo>
                    <a:pt x="618" y="452"/>
                    <a:pt x="624" y="456"/>
                    <a:pt x="629" y="480"/>
                  </a:cubicBezTo>
                  <a:cubicBezTo>
                    <a:pt x="633" y="498"/>
                    <a:pt x="625" y="522"/>
                    <a:pt x="637" y="536"/>
                  </a:cubicBezTo>
                  <a:cubicBezTo>
                    <a:pt x="648" y="548"/>
                    <a:pt x="669" y="541"/>
                    <a:pt x="685" y="544"/>
                  </a:cubicBezTo>
                  <a:cubicBezTo>
                    <a:pt x="694" y="595"/>
                    <a:pt x="711" y="694"/>
                    <a:pt x="765" y="712"/>
                  </a:cubicBezTo>
                  <a:cubicBezTo>
                    <a:pt x="792" y="822"/>
                    <a:pt x="1029" y="804"/>
                    <a:pt x="1101" y="808"/>
                  </a:cubicBezTo>
                  <a:cubicBezTo>
                    <a:pt x="1095" y="840"/>
                    <a:pt x="1092" y="872"/>
                    <a:pt x="1085" y="904"/>
                  </a:cubicBezTo>
                  <a:cubicBezTo>
                    <a:pt x="1081" y="920"/>
                    <a:pt x="1083" y="943"/>
                    <a:pt x="1069" y="952"/>
                  </a:cubicBezTo>
                  <a:cubicBezTo>
                    <a:pt x="1027" y="980"/>
                    <a:pt x="997" y="1016"/>
                    <a:pt x="981" y="1064"/>
                  </a:cubicBezTo>
                  <a:cubicBezTo>
                    <a:pt x="993" y="1220"/>
                    <a:pt x="978" y="1182"/>
                    <a:pt x="1149" y="1192"/>
                  </a:cubicBezTo>
                  <a:cubicBezTo>
                    <a:pt x="1221" y="1240"/>
                    <a:pt x="1191" y="1277"/>
                    <a:pt x="1181" y="1384"/>
                  </a:cubicBezTo>
                  <a:cubicBezTo>
                    <a:pt x="1178" y="1412"/>
                    <a:pt x="1168" y="1407"/>
                    <a:pt x="1157" y="1432"/>
                  </a:cubicBezTo>
                  <a:cubicBezTo>
                    <a:pt x="1150" y="1447"/>
                    <a:pt x="1141" y="1480"/>
                    <a:pt x="1141" y="1480"/>
                  </a:cubicBezTo>
                  <a:cubicBezTo>
                    <a:pt x="1144" y="1496"/>
                    <a:pt x="1135" y="1520"/>
                    <a:pt x="1149" y="1528"/>
                  </a:cubicBezTo>
                  <a:cubicBezTo>
                    <a:pt x="1177" y="1543"/>
                    <a:pt x="1224" y="1512"/>
                    <a:pt x="1245" y="1536"/>
                  </a:cubicBezTo>
                  <a:cubicBezTo>
                    <a:pt x="1270" y="1564"/>
                    <a:pt x="1238" y="1614"/>
                    <a:pt x="1253" y="1648"/>
                  </a:cubicBezTo>
                  <a:cubicBezTo>
                    <a:pt x="1261" y="1666"/>
                    <a:pt x="1298" y="1664"/>
                    <a:pt x="1317" y="1664"/>
                  </a:cubicBezTo>
                </a:path>
              </a:pathLst>
            </a:custGeom>
            <a:noFill/>
            <a:ln w="57240">
              <a:solidFill>
                <a:srgbClr val="ff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Line 6"/>
            <p:cNvSpPr/>
            <p:nvPr/>
          </p:nvSpPr>
          <p:spPr>
            <a:xfrm>
              <a:off x="257040" y="939600"/>
              <a:ext cx="401040" cy="901800"/>
            </a:xfrm>
            <a:prstGeom prst="line">
              <a:avLst/>
            </a:prstGeom>
            <a:ln w="7632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Freeform 7"/>
            <p:cNvSpPr/>
            <p:nvPr/>
          </p:nvSpPr>
          <p:spPr>
            <a:xfrm>
              <a:off x="667080" y="1672200"/>
              <a:ext cx="879480" cy="250200"/>
            </a:xfrm>
            <a:custGeom>
              <a:avLst/>
              <a:gdLst>
                <a:gd name="textAreaLeft" fmla="*/ 0 w 879480"/>
                <a:gd name="textAreaRight" fmla="*/ 879840 w 879480"/>
                <a:gd name="textAreaTop" fmla="*/ 0 h 250200"/>
                <a:gd name="textAreaBottom" fmla="*/ 250200 h 250200"/>
              </a:gdLst>
              <a:ahLst/>
              <a:rect l="textAreaLeft" t="textAreaTop" r="textAreaRight" b="textAreaBottom"/>
              <a:pathLst>
                <a:path w="2487" h="642">
                  <a:moveTo>
                    <a:pt x="0" y="462"/>
                  </a:moveTo>
                  <a:cubicBezTo>
                    <a:pt x="37" y="453"/>
                    <a:pt x="51" y="446"/>
                    <a:pt x="72" y="414"/>
                  </a:cubicBezTo>
                  <a:cubicBezTo>
                    <a:pt x="91" y="339"/>
                    <a:pt x="135" y="396"/>
                    <a:pt x="192" y="358"/>
                  </a:cubicBezTo>
                  <a:cubicBezTo>
                    <a:pt x="220" y="316"/>
                    <a:pt x="252" y="279"/>
                    <a:pt x="280" y="238"/>
                  </a:cubicBezTo>
                  <a:cubicBezTo>
                    <a:pt x="290" y="66"/>
                    <a:pt x="257" y="91"/>
                    <a:pt x="400" y="78"/>
                  </a:cubicBezTo>
                  <a:cubicBezTo>
                    <a:pt x="405" y="70"/>
                    <a:pt x="412" y="63"/>
                    <a:pt x="416" y="54"/>
                  </a:cubicBezTo>
                  <a:cubicBezTo>
                    <a:pt x="423" y="39"/>
                    <a:pt x="432" y="6"/>
                    <a:pt x="432" y="6"/>
                  </a:cubicBezTo>
                  <a:cubicBezTo>
                    <a:pt x="461" y="9"/>
                    <a:pt x="494" y="0"/>
                    <a:pt x="520" y="14"/>
                  </a:cubicBezTo>
                  <a:cubicBezTo>
                    <a:pt x="558" y="34"/>
                    <a:pt x="519" y="87"/>
                    <a:pt x="568" y="102"/>
                  </a:cubicBezTo>
                  <a:cubicBezTo>
                    <a:pt x="586" y="107"/>
                    <a:pt x="605" y="107"/>
                    <a:pt x="624" y="110"/>
                  </a:cubicBezTo>
                  <a:cubicBezTo>
                    <a:pt x="621" y="131"/>
                    <a:pt x="616" y="153"/>
                    <a:pt x="616" y="174"/>
                  </a:cubicBezTo>
                  <a:cubicBezTo>
                    <a:pt x="616" y="347"/>
                    <a:pt x="616" y="278"/>
                    <a:pt x="832" y="286"/>
                  </a:cubicBezTo>
                  <a:cubicBezTo>
                    <a:pt x="848" y="642"/>
                    <a:pt x="860" y="478"/>
                    <a:pt x="1392" y="486"/>
                  </a:cubicBezTo>
                  <a:cubicBezTo>
                    <a:pt x="1453" y="527"/>
                    <a:pt x="1531" y="510"/>
                    <a:pt x="1600" y="502"/>
                  </a:cubicBezTo>
                  <a:cubicBezTo>
                    <a:pt x="1610" y="471"/>
                    <a:pt x="1630" y="469"/>
                    <a:pt x="1640" y="438"/>
                  </a:cubicBezTo>
                  <a:cubicBezTo>
                    <a:pt x="1656" y="314"/>
                    <a:pt x="1694" y="365"/>
                    <a:pt x="1856" y="358"/>
                  </a:cubicBezTo>
                  <a:cubicBezTo>
                    <a:pt x="1908" y="332"/>
                    <a:pt x="1932" y="319"/>
                    <a:pt x="1992" y="310"/>
                  </a:cubicBezTo>
                  <a:cubicBezTo>
                    <a:pt x="2079" y="281"/>
                    <a:pt x="2168" y="308"/>
                    <a:pt x="2256" y="318"/>
                  </a:cubicBezTo>
                  <a:cubicBezTo>
                    <a:pt x="2259" y="326"/>
                    <a:pt x="2257" y="338"/>
                    <a:pt x="2264" y="342"/>
                  </a:cubicBezTo>
                  <a:cubicBezTo>
                    <a:pt x="2278" y="350"/>
                    <a:pt x="2296" y="346"/>
                    <a:pt x="2312" y="350"/>
                  </a:cubicBezTo>
                  <a:cubicBezTo>
                    <a:pt x="2337" y="356"/>
                    <a:pt x="2338" y="360"/>
                    <a:pt x="2360" y="374"/>
                  </a:cubicBezTo>
                  <a:cubicBezTo>
                    <a:pt x="2365" y="390"/>
                    <a:pt x="2371" y="406"/>
                    <a:pt x="2376" y="422"/>
                  </a:cubicBezTo>
                  <a:cubicBezTo>
                    <a:pt x="2381" y="437"/>
                    <a:pt x="2377" y="455"/>
                    <a:pt x="2384" y="470"/>
                  </a:cubicBezTo>
                  <a:cubicBezTo>
                    <a:pt x="2392" y="486"/>
                    <a:pt x="2428" y="491"/>
                    <a:pt x="2440" y="494"/>
                  </a:cubicBezTo>
                  <a:cubicBezTo>
                    <a:pt x="2444" y="516"/>
                    <a:pt x="2440" y="542"/>
                    <a:pt x="2456" y="558"/>
                  </a:cubicBezTo>
                  <a:cubicBezTo>
                    <a:pt x="2462" y="564"/>
                    <a:pt x="2478" y="558"/>
                    <a:pt x="2480" y="566"/>
                  </a:cubicBezTo>
                  <a:cubicBezTo>
                    <a:pt x="2487" y="589"/>
                    <a:pt x="2480" y="614"/>
                    <a:pt x="2480" y="638"/>
                  </a:cubicBezTo>
                </a:path>
              </a:pathLst>
            </a:custGeom>
            <a:noFill/>
            <a:ln w="76320">
              <a:solidFill>
                <a:srgbClr val="ff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Freeform 8"/>
            <p:cNvSpPr/>
            <p:nvPr/>
          </p:nvSpPr>
          <p:spPr>
            <a:xfrm>
              <a:off x="1550520" y="1192680"/>
              <a:ext cx="682920" cy="715680"/>
            </a:xfrm>
            <a:custGeom>
              <a:avLst/>
              <a:gdLst>
                <a:gd name="textAreaLeft" fmla="*/ 0 w 682920"/>
                <a:gd name="textAreaRight" fmla="*/ 683280 w 682920"/>
                <a:gd name="textAreaTop" fmla="*/ 0 h 715680"/>
                <a:gd name="textAreaBottom" fmla="*/ 716040 h 715680"/>
              </a:gdLst>
              <a:ahLst/>
              <a:rect l="textAreaLeft" t="textAreaTop" r="textAreaRight" b="textAreaBottom"/>
              <a:pathLst>
                <a:path w="1931" h="1837">
                  <a:moveTo>
                    <a:pt x="46" y="1837"/>
                  </a:moveTo>
                  <a:cubicBezTo>
                    <a:pt x="143" y="1831"/>
                    <a:pt x="169" y="1828"/>
                    <a:pt x="246" y="1813"/>
                  </a:cubicBezTo>
                  <a:cubicBezTo>
                    <a:pt x="251" y="1805"/>
                    <a:pt x="259" y="1798"/>
                    <a:pt x="262" y="1789"/>
                  </a:cubicBezTo>
                  <a:cubicBezTo>
                    <a:pt x="267" y="1771"/>
                    <a:pt x="260" y="1749"/>
                    <a:pt x="270" y="1733"/>
                  </a:cubicBezTo>
                  <a:cubicBezTo>
                    <a:pt x="280" y="1717"/>
                    <a:pt x="318" y="1701"/>
                    <a:pt x="318" y="1701"/>
                  </a:cubicBezTo>
                  <a:cubicBezTo>
                    <a:pt x="323" y="1693"/>
                    <a:pt x="333" y="1687"/>
                    <a:pt x="334" y="1677"/>
                  </a:cubicBezTo>
                  <a:cubicBezTo>
                    <a:pt x="341" y="1610"/>
                    <a:pt x="317" y="1617"/>
                    <a:pt x="270" y="1605"/>
                  </a:cubicBezTo>
                  <a:cubicBezTo>
                    <a:pt x="267" y="1581"/>
                    <a:pt x="273" y="1555"/>
                    <a:pt x="262" y="1533"/>
                  </a:cubicBezTo>
                  <a:cubicBezTo>
                    <a:pt x="257" y="1523"/>
                    <a:pt x="241" y="1528"/>
                    <a:pt x="230" y="1525"/>
                  </a:cubicBezTo>
                  <a:cubicBezTo>
                    <a:pt x="166" y="1506"/>
                    <a:pt x="101" y="1490"/>
                    <a:pt x="38" y="1469"/>
                  </a:cubicBezTo>
                  <a:cubicBezTo>
                    <a:pt x="23" y="1447"/>
                    <a:pt x="0" y="1417"/>
                    <a:pt x="22" y="1389"/>
                  </a:cubicBezTo>
                  <a:cubicBezTo>
                    <a:pt x="27" y="1382"/>
                    <a:pt x="38" y="1385"/>
                    <a:pt x="46" y="1381"/>
                  </a:cubicBezTo>
                  <a:cubicBezTo>
                    <a:pt x="55" y="1377"/>
                    <a:pt x="62" y="1370"/>
                    <a:pt x="70" y="1365"/>
                  </a:cubicBezTo>
                  <a:cubicBezTo>
                    <a:pt x="123" y="1383"/>
                    <a:pt x="76" y="1376"/>
                    <a:pt x="110" y="1301"/>
                  </a:cubicBezTo>
                  <a:cubicBezTo>
                    <a:pt x="115" y="1289"/>
                    <a:pt x="147" y="1280"/>
                    <a:pt x="158" y="1277"/>
                  </a:cubicBezTo>
                  <a:cubicBezTo>
                    <a:pt x="192" y="1267"/>
                    <a:pt x="230" y="1269"/>
                    <a:pt x="262" y="1253"/>
                  </a:cubicBezTo>
                  <a:cubicBezTo>
                    <a:pt x="314" y="1227"/>
                    <a:pt x="257" y="1248"/>
                    <a:pt x="310" y="1213"/>
                  </a:cubicBezTo>
                  <a:cubicBezTo>
                    <a:pt x="370" y="1173"/>
                    <a:pt x="286" y="1269"/>
                    <a:pt x="382" y="1173"/>
                  </a:cubicBezTo>
                  <a:cubicBezTo>
                    <a:pt x="403" y="1152"/>
                    <a:pt x="425" y="1127"/>
                    <a:pt x="454" y="1117"/>
                  </a:cubicBezTo>
                  <a:cubicBezTo>
                    <a:pt x="505" y="1100"/>
                    <a:pt x="548" y="1078"/>
                    <a:pt x="598" y="1061"/>
                  </a:cubicBezTo>
                  <a:cubicBezTo>
                    <a:pt x="641" y="1047"/>
                    <a:pt x="689" y="1056"/>
                    <a:pt x="734" y="1053"/>
                  </a:cubicBezTo>
                  <a:cubicBezTo>
                    <a:pt x="798" y="1010"/>
                    <a:pt x="721" y="1066"/>
                    <a:pt x="774" y="1013"/>
                  </a:cubicBezTo>
                  <a:cubicBezTo>
                    <a:pt x="801" y="986"/>
                    <a:pt x="793" y="1005"/>
                    <a:pt x="822" y="989"/>
                  </a:cubicBezTo>
                  <a:cubicBezTo>
                    <a:pt x="874" y="960"/>
                    <a:pt x="924" y="919"/>
                    <a:pt x="966" y="877"/>
                  </a:cubicBezTo>
                  <a:cubicBezTo>
                    <a:pt x="970" y="855"/>
                    <a:pt x="979" y="835"/>
                    <a:pt x="982" y="813"/>
                  </a:cubicBezTo>
                  <a:cubicBezTo>
                    <a:pt x="987" y="773"/>
                    <a:pt x="969" y="722"/>
                    <a:pt x="998" y="693"/>
                  </a:cubicBezTo>
                  <a:cubicBezTo>
                    <a:pt x="1012" y="679"/>
                    <a:pt x="1030" y="672"/>
                    <a:pt x="1046" y="661"/>
                  </a:cubicBezTo>
                  <a:cubicBezTo>
                    <a:pt x="1079" y="639"/>
                    <a:pt x="1091" y="618"/>
                    <a:pt x="1110" y="589"/>
                  </a:cubicBezTo>
                  <a:cubicBezTo>
                    <a:pt x="1117" y="531"/>
                    <a:pt x="1112" y="511"/>
                    <a:pt x="1166" y="493"/>
                  </a:cubicBezTo>
                  <a:cubicBezTo>
                    <a:pt x="1303" y="510"/>
                    <a:pt x="1449" y="529"/>
                    <a:pt x="1582" y="485"/>
                  </a:cubicBezTo>
                  <a:cubicBezTo>
                    <a:pt x="1611" y="456"/>
                    <a:pt x="1633" y="427"/>
                    <a:pt x="1646" y="389"/>
                  </a:cubicBezTo>
                  <a:cubicBezTo>
                    <a:pt x="1641" y="324"/>
                    <a:pt x="1656" y="286"/>
                    <a:pt x="1606" y="253"/>
                  </a:cubicBezTo>
                  <a:cubicBezTo>
                    <a:pt x="1587" y="196"/>
                    <a:pt x="1599" y="219"/>
                    <a:pt x="1574" y="181"/>
                  </a:cubicBezTo>
                  <a:cubicBezTo>
                    <a:pt x="1577" y="160"/>
                    <a:pt x="1565" y="131"/>
                    <a:pt x="1582" y="117"/>
                  </a:cubicBezTo>
                  <a:cubicBezTo>
                    <a:pt x="1603" y="100"/>
                    <a:pt x="1637" y="117"/>
                    <a:pt x="1662" y="109"/>
                  </a:cubicBezTo>
                  <a:cubicBezTo>
                    <a:pt x="1687" y="101"/>
                    <a:pt x="1683" y="45"/>
                    <a:pt x="1694" y="29"/>
                  </a:cubicBezTo>
                  <a:cubicBezTo>
                    <a:pt x="1703" y="16"/>
                    <a:pt x="1728" y="10"/>
                    <a:pt x="1742" y="5"/>
                  </a:cubicBezTo>
                  <a:cubicBezTo>
                    <a:pt x="1771" y="8"/>
                    <a:pt x="1804" y="0"/>
                    <a:pt x="1830" y="13"/>
                  </a:cubicBezTo>
                  <a:cubicBezTo>
                    <a:pt x="1931" y="63"/>
                    <a:pt x="1753" y="53"/>
                    <a:pt x="1870" y="53"/>
                  </a:cubicBezTo>
                </a:path>
              </a:pathLst>
            </a:custGeom>
            <a:noFill/>
            <a:ln w="57240">
              <a:solidFill>
                <a:srgbClr val="ff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0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0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0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10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0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0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2" dur="2000"/>
                                        <p:tgtEl>
                                          <p:spTgt spid="10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5" dur="2000"/>
                                        <p:tgtEl>
                                          <p:spTgt spid="10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1T15:06:55Z</dcterms:created>
  <dc:creator>User7</dc:creator>
  <dc:description/>
  <dc:language>en-US</dc:language>
  <cp:lastModifiedBy>PC</cp:lastModifiedBy>
  <dcterms:modified xsi:type="dcterms:W3CDTF">2015-01-09T11:07:25Z</dcterms:modified>
  <cp:revision>31</cp:revision>
  <dc:subject/>
  <dc:title>Презентация PowerPoint</dc:title>
</cp:coreProperties>
</file>