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E4D-10C0-43A1-97E1-72132B51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8A7-D9F2-467C-83F4-9ECBD433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ADF97-8050-4EDE-991D-849C0A9D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DA1E5-151B-42F5-9347-DB4C32C3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2C264-AEF1-4980-9F88-BC6B5398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B9C2A-42E5-480E-B04D-719DF9F9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0A566-7A40-4E33-ABED-DF18BFC0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AFB18-BA59-4212-9F27-2136258D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DC0BC-E698-406D-B22F-998D8C5A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B9D69-8120-45ED-8E36-2F64C8D0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3D009-6DF4-4FE3-96A4-6AE0FE12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DBCD3-FB94-43AD-8FBC-140F8A7D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92A-FB70-47B4-BA88-1F4CE79F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C0684-A07A-48FD-8502-266A1DE1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9C839-9FA5-4923-8934-EB754663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C0F09-6616-477E-9578-FA5589EB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C60C8-B246-43B5-84C0-B44DD4F9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4C07D-ADBE-4EB6-BA82-50625110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05DB2-BAE7-4417-93D3-FB918C3E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9F9E8-71E8-4C59-A46E-34E7A36C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30C1F-6378-4633-93FA-08A986EB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8DDA2-7DFF-43A1-A138-62C86B92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DB7EF-14C7-4866-9622-88F79479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951-250A-4E9D-81FF-1D3DF745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79613-D579-4CF2-9D34-E9658BB9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F0FC0-6B35-4BD9-B7B3-009E896B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6BFFD-6EA1-457F-9AF0-008CE00B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C5729-0D30-48C7-8440-6487A52E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2E9D2-FCC4-4E9B-8CA7-33925D3A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1781B-C34B-4129-B5FC-D55D4795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01C5A-92D7-4C90-B7AB-373A261E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87B9C-CC25-4068-934F-969361F1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ACB0D-A716-4092-80DF-3A0AC436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3D500-FC66-49F3-B0CD-58816B2B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1311-3ECA-427C-AB6F-0B866D98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6EA9A-50DD-4DEC-8BAC-E8DD72ED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5B885-F865-4B1C-8ECA-460CB214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61373-8977-49B5-BE1D-617CCF48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D0911-9C7D-4390-8BE4-6911D4B4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B5988-3766-41D9-8D3D-5DD750EA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0B0D4-4FE0-4E3E-BF4B-33E1E963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6F30B-0EBB-483F-802D-0CB7C30E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3C312-0DD3-43AF-B706-BA9E01F0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7EDFC-476C-489B-AFD6-13494F8E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3D4C8-DEE9-4004-9945-1495EC40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0B62-4C2F-4C6A-9A1D-D6F7392B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A2389-5953-40B1-A943-72940FAE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B9D56-5125-4BF2-836B-D26E3CD9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DE335-C505-4913-9CA1-36755A1E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ABF25-3048-4F55-A928-F2445EB9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CE55D-D9C9-4D72-B160-F08B14BA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FD97B-AE0F-43FE-98AF-6C7EE21E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22DF1-66B0-4971-BF4E-E282B0C9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0604C-AE9B-4A8F-888B-B4753DFF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6AAC7-67F8-4A43-AAA8-66C80092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FEBFF-5AE1-40F5-8834-2E128BA7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F0EF-918B-49EF-83A1-87D4DF5D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23201-0D5A-4413-A318-B40D15FA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BC208-9BCF-4FC3-A52A-A589413E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80D7B-982F-4239-A2F1-029D3B83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79748-857C-4DAC-9303-7576FC2A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AB4912-6F2B-4FF1-B9E3-A3BE0809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4A8324-85F3-4E8C-90B7-E621F4A6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E85E0-DF63-4AD5-9E41-8DC1042C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9BC2AE-D44F-4563-BCCE-4589AF79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5EF2B9-E842-46C7-AC31-16583E24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1A533E-E79A-4005-A234-608996A0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2878-4F1E-4DF0-B60C-B2BFACEE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BD18B8-1581-481E-B42F-83D54ACC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A88285-94A6-4330-B214-817E217E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4C1AEC-FE03-4DE8-AEE3-344EEAF2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68476-28C0-499E-BF3C-E596ED1C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BFCC7-08E2-4555-9C39-EE97B2A7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A0C993-8AC1-441E-852C-BDDFD815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A4C0B8-CA97-4D07-87D4-7720C29F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D7ED10-2699-46D4-A379-0C18944C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85F0EB-8C5E-4F2D-B74E-829EDCAA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67225D-4E1D-4D93-AE3D-BEA7841E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BF98-B91C-44EA-8503-34A77C7E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3C061-51A0-4EF4-9DA9-50494221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8EDE46-696B-42AA-B2F6-C3074E7C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3DE650-04E0-4E8E-924F-61AB7588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DF68CE-07A7-4C37-84D3-40B3B271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7203E4-A39E-4ED5-89B3-57EF25D6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039C2A-9A1C-411E-9C23-E7AB28E1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1A6047-2B05-43BB-A673-3A6F1F69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69956E-1613-4281-812A-A78A1F39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87C736-CD1F-4E61-849F-45A0975A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50AB48-32A5-44DE-BC73-88BB6E07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FA0F-68C8-46FE-A67C-E3A0453F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320BD2-5C7F-4502-A214-58608313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09CB46-F2ED-4659-8B6B-152A2024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EF2AE1-D9AF-40D9-8840-45E27041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583BCF-66AD-4B0F-8CFB-D1677707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0CA94C-0181-44AD-BA27-56F06FD4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F1780A-FF2F-43A9-9892-E1AF3DF2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0429C8-2A87-4DEB-9563-DDF8B6A0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37F880-FC19-4A4E-9FD8-60E4EE1B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C3F44C-CF8E-4CDC-8D82-FA228F59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11C1E3-A2D5-4556-B095-772EFD3B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DB3B-5D50-4E13-96F2-7036A969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F0B421-EAF4-4146-B36B-0A8753E4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5C6D06-345F-4D09-A907-5D7EFE07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130C56-DFDC-4317-BAA9-BE0E8B6E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C5DD2E-9785-40A4-BEB6-F7C70196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C55B45-FC47-4DAB-BD9D-F90D7E79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F09F9F-E1CA-48B2-A2E9-6201935C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76E3DA-4F3F-4DB1-9646-33622A33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5C562A-608B-4116-B6B5-C708001D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BAAFE6-75B5-4E42-AFAB-61284180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6523FB-AD9D-44FC-BBED-386A6C2D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879-05B4-42F6-8ED8-0F26EE78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4B16-83CB-4EF5-937F-72896350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891DCF-9CFA-4884-82EC-8B20A712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099632-C1D9-4924-9735-BD707133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7C228C-6441-4F94-B0EB-1F11298A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75FF2C-BC45-40F5-89A4-A4ADCA64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3DE37F-9EAF-40D6-8CD8-877F9410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919AEA-837A-43E4-8E39-C2F5EBED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6E051C-ED61-452D-8A57-525E2624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91EC16-50F0-412F-B6E5-96A27D53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DB15D5-06AE-4C29-B48C-02B5E014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ABE187-49B2-49CB-9290-4C3D0D29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ACDA-C769-4B52-9B28-70C95731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4AC534-7A3E-4175-BF47-B17F13AA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D1BAD4-8E3B-4488-929E-94A733E6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3EB2AC-4284-44C2-843D-75EFB841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B8F60C-C93A-4EF7-B331-92B81166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F74D8-5350-484E-A87E-504F8D09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4A4494-D30A-4178-AA2F-7538F384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B03E46-0E20-42B7-AF41-F3C4F41E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EB2CA0-B724-4C70-9849-90C2560C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58F994-2B29-4EF4-9238-43F8BE09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262A57-4E46-4CC4-9460-F04FA270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1A6F-AFFE-4FFB-8423-BF0BE86C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5C3CA4-33CE-4959-BC10-AA1A3CA5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E2876C-527B-4192-9F5A-885313D4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28BA9E-6D2A-4234-B16C-168DECC1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D14A6B-53EA-453D-AFDC-298F1C19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B2B49F-D3F7-48E0-805D-CF50C062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6E606B-CDF8-46D1-936E-54EB93C9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E1CA0E-E8CE-40C2-AB28-7B58027C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AF4A95-1C82-4060-9DB6-61458089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B86A03-ADDE-4DE7-AE0A-D27EB474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7C89F2-6FAF-4154-B099-2D6C8AC8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2563-3223-46EE-8C14-A4A87013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746537-70C9-487A-98F3-FE76B1EB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8C9DC5-BAB4-4D84-9D06-B1899FD9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583200-BC7C-4547-9F13-517758A6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829A47-CECA-4CC5-99C4-018A0D62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663382-E586-4545-BA36-25647EF6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0CDFF3-9966-40B7-938A-DA480CD4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5F0550-2B38-469C-9C92-834C69D7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CD1096-2C6E-473B-BA45-E8AB6E82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432DF2-4BA4-4E9F-9FBB-5AC4D6B8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ED4C1F-0BB0-4372-A39A-4A114648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11AC-B39F-4340-B2BC-27700E8A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33BE9C-241B-485E-B180-81F2EF98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7AD0FB-905C-47B9-B66E-88EAED3C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659AB7-683B-4A62-82D6-530BB61D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300849-E156-4538-AB72-398D0ED7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0F70AB-2DFD-42FD-9A50-D88813E4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C8814A-2368-4951-A945-3362579D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80A0B3-B651-4986-BFD7-79D0C39C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A7F966-42D9-4533-B531-28E2F348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B75FDA-6657-4BD6-86DC-74660498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4D2FB1-50B5-4F7B-AA0B-FB8E9D3A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F64AC-304E-4F49-A492-54627861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04A039-FBE2-400A-B6E6-1B20F43A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40BBFC-D35D-4612-97A8-36B2D17B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49DDF9-5961-46CB-ADA9-6C8A6557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E3830C-09F8-4CBF-94B9-7E4F4E5F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6FADF1-67E4-4FC4-8EFE-3D8376C9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A2B892-8864-4274-9F6C-EFBBD9BA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EF73F8-D90C-40D1-9359-3B5A2F9A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5E8D01-56A2-463C-A6FA-201F3CD1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209DB7-8A2E-43C8-AD46-55AC6200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6FC330-69C6-43F5-AA32-55E00207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AB49F-A9EC-481A-B803-E73E54B8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D148AD-00CF-4B69-9055-DD77D949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C505A9-9178-4395-8AD4-CFBBB668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9FE549-C7FD-4CCB-9E44-1E1F6998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1F1FF7-509C-4973-A1DF-F70F13F7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7A6E2C-1A18-4673-AF30-9FEB0FA0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EDD313-D95A-4CF3-9C6B-A52D3945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C588CD-47AA-4DAE-912F-C214571D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4C0FDA-37FC-4FAE-B3F2-378913A9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96F96E-CFED-4C4D-B084-35CC5708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290C3C-6959-4591-A2C9-071340F5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9CF2D-10EA-45B8-B405-8988FFF2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C32C53-5F0F-4FCE-B200-EC767976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75C3A7-A90D-482D-A79C-D83CAB2F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A7FB2C-1A70-452B-88FC-293BCBB4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D8F353-7D4B-40C0-88CC-5F4622F4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883C6F-76BF-4FE1-A5DF-BECA38AE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9C9AF9-688F-40CA-B165-93B9583A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A23A9A-D55F-4586-BA5A-FC65ADEA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49E532-2605-4E12-A84D-10D8C8DF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985C0E-F1D3-4F7A-85DC-D501A496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41DE7B-2FF0-4B14-8B19-2DBFF087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8DF9B-AF27-4891-902C-10BF5CF8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053B56-6144-47BC-BC5D-979939B7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78F837-E7CC-437B-A2BF-B36E5570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0A56E6-8FE2-4722-9443-BF53F327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78111E-80BA-4C03-AAE6-3A287B24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6E4091-5139-40F8-A92F-27EAC38D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DFBF5F-D704-4187-8785-50277877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002968-B089-4C79-904B-A0ED429B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81456C-2C84-411D-AEBF-AF9AF04B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A24FF9-7357-47BF-AF77-4263C9E6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C6FFA-567C-4230-9884-92EDFFE6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3A93-313F-46A8-9456-B71270CE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133AA-6CF8-41C1-9DB6-710E5ADF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51121-219D-48A6-816B-93A934F5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D4030-A3DB-4462-BF2C-45092A25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A18BD-5212-47C5-9D47-10949D3E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3EF22-F772-4283-A710-E52A184D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710D9-9A46-49EF-817F-64208AC1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FC89-A0F9-4EC8-8E4B-756E1365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33B81-1125-4E3A-BB9A-0D091267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E5A15-1513-44D5-89B2-841860E3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675BC-D947-4A63-B1CA-C6EB00AE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B2E-12A7-49D1-8548-B26E5F49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1E274-9320-4124-9ABF-3C38C90A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3D0B1-55CC-4E0B-A601-8E280837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4C852-0C95-4E95-80C9-239167C4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F1076-529E-4747-AD82-D63AF01C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88648-6D58-40A8-B1D4-0E36A304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53E14-7965-464D-A44F-70A0E6AC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CA577-EB28-43FA-A526-9168C667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36A69-188D-4F94-BCE2-EC4DA7C2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DB1A5-9525-4CA2-B278-5251D610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5BE29-68E6-4B26-A487-E2D37384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B13-A98E-478C-85F2-8FABC4F9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133FB-889E-418D-8D1C-89E21BA4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877E2-58BB-4ECA-B910-7033E576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E9817-C876-4A89-B423-5D2875DE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9A3DA-FF50-408B-865A-0BA8952E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C23D3-6F6F-4840-A602-9500BC33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A9627-64C8-4D4D-A156-83079852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5D18D-DEA5-45BE-AD59-4E184E03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03701-DE3B-4DD6-AAB5-9FCC9EDB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676C1-9FD7-4C74-AB8E-171FF488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76524-1F60-4B7C-B8B8-B55E21C8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0A96-0508-4F2C-BB40-BB966621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85387-30C8-463F-BA09-621034DD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46BE9-CFF8-416C-90D8-37A798A7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05529-78A8-4CCC-90B6-F5E44704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67EB7-89D8-4FC2-A00C-31564362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22703-2399-478B-BD8E-DC6C6DFC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2908F-E4A9-4042-92DD-FD7CF644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D4F7C-F44B-4172-968A-A655163D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8C7B1-135E-4A67-8833-28ED7C90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A72ED-E1A2-4D22-9A25-2105D492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30EF1-15B8-466E-9DDE-A8BFAA72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6A7-4744-439A-9312-8774D40B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80A1D-EDEC-41DF-B86C-FEA13CFA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ED1AD-B450-4B82-83E7-2D132B1D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76D88-AE7B-4772-A79D-16AB18C1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B4E7D-D19C-4CB1-864A-66793EA0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ECC73-1CA6-43D4-90C5-53A6F475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CC527-16CC-4FEA-B135-4B71E860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9E8D0-87CF-4598-AB20-EE3CD24E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1533B-E7C0-4D5C-A82D-D2AFF1E0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3842D-2DFC-483B-B61C-83A56902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9C5B9-16CF-44AB-835A-65DC6193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203B-53D0-46FC-8BF5-6BBDEB09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01A5F-CEC1-4F30-AE63-D9838387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EA5CA-FF84-425F-941F-CFEE5D2F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45EF0-0DD8-4954-874F-749921DC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5687E-3125-4170-AFE3-BE5ED7FC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20828-4125-4C57-AC5B-2FD90780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9D378-5664-4B3D-A2B2-47166B4D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CF743-5F8A-494E-9555-860D46E2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67431-1279-49F5-A490-512AE25E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805F2-EE5A-4DD2-BBAF-983B0B46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87896-0C1C-4595-AA56-8BBFD6F6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490-6074-4CCE-9804-B6A5281E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5EA63-7654-4E30-9628-DFB582F3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A8CFA-399A-4254-A192-D9F9AB37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0CCA0-283B-4F68-8EA0-6E257A5D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4FD21-B219-449E-A180-10F022A9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6C84C-B982-4777-A0F0-EE47ED18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9C0A4-35A3-4035-B6F6-6B91B49D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9AC2B-1518-4785-9E93-1E03D08E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E77ED-55EB-475E-88C1-979A748A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3E07C-02D1-44BA-B0E1-21BB789E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266B2-118F-4DB1-BBE2-96595B1A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A8DA-D6A4-44C0-B05E-DA114A32F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8320-EEF8-4984-A2D9-CE631FC51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673A-09FB-4C40-9B0E-D21DAA4D8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B08F-0222-4CBB-995B-419B513E6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0AC0-B1EC-412B-A50A-6CE1CE8F5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644B-05D0-4C0A-9662-C584BB4A1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D529-F181-4ED9-8C01-36678D7B4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DD40-AEFE-46DF-9DFA-B8D64DF32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4153-A025-4DD5-90B8-E5BA00C13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3531-07C5-4B91-B3CE-1BA7CE03F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4E8C-B3E4-4D3D-91E3-1687D6176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0082-A904-464B-986D-8BD5A3174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E7CA-65FC-47F7-A688-C53E2489F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9CBD-2EA9-4C0F-911B-7CE69220B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9E7E-379F-4ECB-9E60-D7EE3AB14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B290-9441-40E0-B751-E2A293800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3692-E1D7-4B86-AB04-9FA58C13E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6EF1-246A-4857-8F1F-1B1CED24C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7B11-29B5-4AEC-B1AF-7AD60D183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477D-B3DD-4A9C-BB31-D2A29133C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23E4-E122-4462-B706-20A6C2195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8FAF-54DD-4611-8582-65AC9BD3A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40D6-C52F-4281-B535-F24146DAB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ACC4-C702-4DEC-9796-C6689AA7D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985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Прямоугольник 1"/>
          <p:cNvSpPr/>
          <p:nvPr/>
        </p:nvSpPr>
        <p:spPr>
          <a:xfrm>
            <a:off x="1103400" y="407880"/>
            <a:ext cx="7645320" cy="59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Плёсо – Курьинская средняя общеобразовательная школ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  <a:ea typeface="Calibri"/>
              </a:rPr>
              <a:t>I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Calibri"/>
              </a:rPr>
              <a:t> научно – практическая конфере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щийся 11кла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гнер Вад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9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50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5" name="Диаграмма 7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57736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57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Прямоугольник 7"/>
          <p:cNvSpPr/>
          <p:nvPr/>
        </p:nvSpPr>
        <p:spPr>
          <a:xfrm>
            <a:off x="254160" y="260280"/>
            <a:ext cx="8710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            </a:t>
            </a:r>
            <a:r>
              <a:rPr b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Численность     населения в Алтайском крае на 1 января 2010 г. составила около </a:t>
            </a:r>
            <a:r>
              <a:rPr b="1" i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2490,7 тыс</a:t>
            </a:r>
            <a:r>
              <a:rPr b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. человек (</a:t>
            </a:r>
            <a:r>
              <a:rPr b="1" i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12,73%</a:t>
            </a:r>
            <a:r>
              <a:rPr b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 населения и </a:t>
            </a:r>
            <a:r>
              <a:rPr b="1" i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5</a:t>
            </a:r>
            <a:r>
              <a:rPr b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 место в СФО, </a:t>
            </a:r>
            <a:r>
              <a:rPr b="1" i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1,76%</a:t>
            </a:r>
            <a:r>
              <a:rPr b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 и </a:t>
            </a:r>
            <a:r>
              <a:rPr b="1" i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22</a:t>
            </a:r>
            <a:r>
              <a:rPr b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 место в РФ).</a:t>
            </a:r>
            <a:r>
              <a:rPr b="1" lang="ru-RU" sz="5400" spc="-1" strike="noStrike" u="sng">
                <a:solidFill>
                  <a:srgbClr val="7030a0"/>
                </a:solidFill>
                <a:uFillTx/>
                <a:latin typeface="Times New Roman"/>
                <a:ea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200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64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Рисунок 7" descr=""/>
          <p:cNvPicPr/>
          <p:nvPr/>
        </p:nvPicPr>
        <p:blipFill>
          <a:blip r:embed="rId1"/>
          <a:stretch/>
        </p:blipFill>
        <p:spPr>
          <a:xfrm>
            <a:off x="25416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Диаграмма 3" descr=""/>
          <p:cNvPicPr/>
          <p:nvPr/>
        </p:nvPicPr>
        <p:blipFill>
          <a:blip r:embed="rId1"/>
          <a:stretch/>
        </p:blipFill>
        <p:spPr>
          <a:xfrm>
            <a:off x="682560" y="835200"/>
            <a:ext cx="7705800" cy="5546520"/>
          </a:xfrm>
          <a:prstGeom prst="rect">
            <a:avLst/>
          </a:prstGeom>
          <a:ln w="0">
            <a:noFill/>
          </a:ln>
        </p:spPr>
      </p:pic>
      <p:grpSp>
        <p:nvGrpSpPr>
          <p:cNvPr id="1071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72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78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3" name="Picture 1" descr=""/>
          <p:cNvPicPr/>
          <p:nvPr/>
        </p:nvPicPr>
        <p:blipFill>
          <a:blip r:embed="rId1"/>
          <a:stretch/>
        </p:blipFill>
        <p:spPr>
          <a:xfrm>
            <a:off x="1488960" y="5950080"/>
            <a:ext cx="6284880" cy="4316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2" descr=""/>
          <p:cNvPicPr/>
          <p:nvPr/>
        </p:nvPicPr>
        <p:blipFill>
          <a:blip r:embed="rId2"/>
          <a:stretch/>
        </p:blipFill>
        <p:spPr>
          <a:xfrm>
            <a:off x="330120" y="390600"/>
            <a:ext cx="881388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86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AutoShape 5"/>
          <p:cNvSpPr/>
          <p:nvPr/>
        </p:nvSpPr>
        <p:spPr>
          <a:xfrm>
            <a:off x="1428840" y="7410600"/>
            <a:ext cx="171360" cy="228600"/>
          </a:xfrm>
          <a:prstGeom prst="flowChartProcess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AutoShape 6"/>
          <p:cNvSpPr/>
          <p:nvPr/>
        </p:nvSpPr>
        <p:spPr>
          <a:xfrm>
            <a:off x="3943440" y="7410600"/>
            <a:ext cx="228600" cy="228600"/>
          </a:xfrm>
          <a:prstGeom prst="flowChartProcess">
            <a:avLst/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4"/>
          <p:cNvSpPr/>
          <p:nvPr/>
        </p:nvSpPr>
        <p:spPr>
          <a:xfrm>
            <a:off x="2520" y="326520"/>
            <a:ext cx="94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Рисунок 14" descr=""/>
          <p:cNvPicPr/>
          <p:nvPr/>
        </p:nvPicPr>
        <p:blipFill>
          <a:blip r:embed="rId1"/>
          <a:stretch/>
        </p:blipFill>
        <p:spPr>
          <a:xfrm>
            <a:off x="250920" y="228600"/>
            <a:ext cx="84978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97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Прямоугольник 7"/>
          <p:cNvSpPr/>
          <p:nvPr/>
        </p:nvSpPr>
        <p:spPr>
          <a:xfrm>
            <a:off x="0" y="404640"/>
            <a:ext cx="8964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новные принципы РД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направлен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ессив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альной дифференцирован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сроч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й затра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3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104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9" name="AutoShape 5"/>
          <p:cNvSpPr/>
          <p:nvPr/>
        </p:nvSpPr>
        <p:spPr>
          <a:xfrm>
            <a:off x="1428840" y="7410600"/>
            <a:ext cx="171360" cy="228600"/>
          </a:xfrm>
          <a:prstGeom prst="flowChartProcess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AutoShape 6"/>
          <p:cNvSpPr/>
          <p:nvPr/>
        </p:nvSpPr>
        <p:spPr>
          <a:xfrm>
            <a:off x="3943440" y="7410600"/>
            <a:ext cx="228600" cy="228600"/>
          </a:xfrm>
          <a:prstGeom prst="flowChartProcess">
            <a:avLst/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4"/>
          <p:cNvSpPr/>
          <p:nvPr/>
        </p:nvSpPr>
        <p:spPr>
          <a:xfrm>
            <a:off x="2520" y="326520"/>
            <a:ext cx="94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Рисунок 14" descr=""/>
          <p:cNvPicPr/>
          <p:nvPr/>
        </p:nvPicPr>
        <p:blipFill>
          <a:blip r:embed="rId1"/>
          <a:stretch/>
        </p:blipFill>
        <p:spPr>
          <a:xfrm>
            <a:off x="250920" y="228600"/>
            <a:ext cx="84978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4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115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Прямоугольник 7"/>
          <p:cNvSpPr/>
          <p:nvPr/>
        </p:nvSpPr>
        <p:spPr>
          <a:xfrm>
            <a:off x="2286000" y="-243000"/>
            <a:ext cx="6678720" cy="64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уемых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ремин, А.А. Демографическая ситуация в Алтайском крае а начале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XXI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ека. А.А Еремин Известия Алтайского государственного университета. – 2010. - № 3/1 (67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ремин, А.А. Динамика численности городского и сельского населения Алтайского края на современном эта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ремин, А.А. к вопросу о возможной будущей динамике численности населения городов и районов Алтайского края до 201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ремин, А.А. Прогнозирование численности населения городов и районов Алтайского края до 201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ремин, А.А. Оценка демографической политики российской Федерации и Алтайско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Oval 2"/>
          <p:cNvSpPr/>
          <p:nvPr/>
        </p:nvSpPr>
        <p:spPr>
          <a:xfrm>
            <a:off x="395280" y="3284640"/>
            <a:ext cx="1295280" cy="1224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3"/>
          <p:cNvSpPr/>
          <p:nvPr/>
        </p:nvSpPr>
        <p:spPr>
          <a:xfrm>
            <a:off x="1116000" y="1989000"/>
            <a:ext cx="129708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Oval 4"/>
          <p:cNvSpPr/>
          <p:nvPr/>
        </p:nvSpPr>
        <p:spPr>
          <a:xfrm>
            <a:off x="2411280" y="1197000"/>
            <a:ext cx="1297080" cy="122400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Oval 5"/>
          <p:cNvSpPr/>
          <p:nvPr/>
        </p:nvSpPr>
        <p:spPr>
          <a:xfrm>
            <a:off x="3924360" y="907920"/>
            <a:ext cx="1295280" cy="12240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Oval 6"/>
          <p:cNvSpPr/>
          <p:nvPr/>
        </p:nvSpPr>
        <p:spPr>
          <a:xfrm>
            <a:off x="5435640" y="1052640"/>
            <a:ext cx="1224000" cy="136836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Oval 7"/>
          <p:cNvSpPr/>
          <p:nvPr/>
        </p:nvSpPr>
        <p:spPr>
          <a:xfrm>
            <a:off x="7451640" y="3068640"/>
            <a:ext cx="1295640" cy="1224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18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Oval 8"/>
          <p:cNvSpPr/>
          <p:nvPr/>
        </p:nvSpPr>
        <p:spPr>
          <a:xfrm>
            <a:off x="6659640" y="1773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9"/>
          <p:cNvSpPr/>
          <p:nvPr/>
        </p:nvSpPr>
        <p:spPr>
          <a:xfrm>
            <a:off x="3070800" y="4724280"/>
            <a:ext cx="305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 С Е М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1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992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Прямоугольник 9"/>
          <p:cNvSpPr/>
          <p:nvPr/>
        </p:nvSpPr>
        <p:spPr>
          <a:xfrm>
            <a:off x="453960" y="789120"/>
            <a:ext cx="8366040" cy="42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Times New Roman"/>
                <a:ea typeface="Calibri"/>
              </a:rPr>
              <a:t>Демографическая ситуация в Алтайском кра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999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4" name="Прямоугольник 7"/>
          <p:cNvSpPr/>
          <p:nvPr/>
        </p:nvSpPr>
        <p:spPr>
          <a:xfrm>
            <a:off x="453960" y="561960"/>
            <a:ext cx="79344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ъект исследования </a:t>
            </a: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       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селение Алтайского кр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Прямоугольник 8"/>
          <p:cNvSpPr/>
          <p:nvPr/>
        </p:nvSpPr>
        <p:spPr>
          <a:xfrm>
            <a:off x="453960" y="2637000"/>
            <a:ext cx="8150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 исследования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демографическая ситуация в Алтайском крае, ее динамика и территориальная дифференци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6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07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Прямоугольник 7"/>
          <p:cNvSpPr/>
          <p:nvPr/>
        </p:nvSpPr>
        <p:spPr>
          <a:xfrm>
            <a:off x="250920" y="260280"/>
            <a:ext cx="856908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 работы</a:t>
            </a: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плексное изучении демографической ситуации в Алтайском крае на современном этапе для обоснования актуальных направлений корректировки региональной демографической полит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14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Прямоугольник 7"/>
          <p:cNvSpPr/>
          <p:nvPr/>
        </p:nvSpPr>
        <p:spPr>
          <a:xfrm>
            <a:off x="453960" y="115920"/>
            <a:ext cx="85107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72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общить и уточнить теоретико-методологические аспекты комплексного изучения региональной демографической ситу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72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следить динамику численности и трансформацию половозрастной структуры населения Алтайского края, его городов и районов на современном этап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72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анализировать динамику и территориальную дифференциацию процессов естественного и механического воспроизводства населения в регионе в конце XX - начале XXI 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72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уществить комплексное оценивание территориальной дифференциа­ции региональной демографической ситуации в начале XXI 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72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сти многовариантное комплексное демографическое прогнозирование для региона на среднесрочную перспективу и краткосрочное аналитиче­ское прогнозирование численности населения муниципальных образований кр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72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учить состояние демографической политики в Алтайском крае и предложить направления ее оптим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1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0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0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0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0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0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0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3"/>
          <p:cNvGrpSpPr/>
          <p:nvPr/>
        </p:nvGrpSpPr>
        <p:grpSpPr>
          <a:xfrm>
            <a:off x="254160" y="358920"/>
            <a:ext cx="1979280" cy="1366200"/>
            <a:chOff x="254160" y="358920"/>
            <a:chExt cx="1979280" cy="1366200"/>
          </a:xfrm>
        </p:grpSpPr>
        <p:sp>
          <p:nvSpPr>
            <p:cNvPr id="1021" name="Freeform 4"/>
            <p:cNvSpPr/>
            <p:nvPr/>
          </p:nvSpPr>
          <p:spPr>
            <a:xfrm>
              <a:off x="254160" y="361800"/>
              <a:ext cx="1502280" cy="308880"/>
            </a:xfrm>
            <a:custGeom>
              <a:avLst/>
              <a:gdLst>
                <a:gd name="textAreaLeft" fmla="*/ 0 w 1502280"/>
                <a:gd name="textAreaRight" fmla="*/ 1502640 w 150228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5"/>
            <p:cNvSpPr/>
            <p:nvPr/>
          </p:nvSpPr>
          <p:spPr>
            <a:xfrm>
              <a:off x="1763280" y="358920"/>
              <a:ext cx="465480" cy="64908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6"/>
            <p:cNvSpPr/>
            <p:nvPr/>
          </p:nvSpPr>
          <p:spPr>
            <a:xfrm>
              <a:off x="257040" y="743040"/>
              <a:ext cx="401040" cy="90144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7"/>
            <p:cNvSpPr/>
            <p:nvPr/>
          </p:nvSpPr>
          <p:spPr>
            <a:xfrm>
              <a:off x="667080" y="1475280"/>
              <a:ext cx="879480" cy="2498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8"/>
            <p:cNvSpPr/>
            <p:nvPr/>
          </p:nvSpPr>
          <p:spPr>
            <a:xfrm>
              <a:off x="1550520" y="99576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Прямоугольник 7"/>
          <p:cNvSpPr/>
          <p:nvPr/>
        </p:nvSpPr>
        <p:spPr>
          <a:xfrm>
            <a:off x="453960" y="-372960"/>
            <a:ext cx="8510760" cy="66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Calibri"/>
              </a:rPr>
              <a:t>Пла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В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2.  Демографического ситуация Алтайского кр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2.1. Современные этапы демографического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2.2. Трансформация половозрастной структуры нас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2.3. Естественное и механическое движение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2.4. Миграционные проце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2.5. Демографическая ситуация в городах и районах кр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3.   Заключение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4.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исок используемых источник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При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Прямоугольник 1"/>
          <p:cNvSpPr/>
          <p:nvPr/>
        </p:nvSpPr>
        <p:spPr>
          <a:xfrm>
            <a:off x="1835280" y="620640"/>
            <a:ext cx="720072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ронологические рамки  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временный этап демографического развития Алтайского края,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леднее десятилетие XX - начало XXI века (1990-2012 гг.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29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35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Прямоугольник 7"/>
          <p:cNvSpPr/>
          <p:nvPr/>
        </p:nvSpPr>
        <p:spPr>
          <a:xfrm>
            <a:off x="108000" y="115920"/>
            <a:ext cx="871200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 период (1990—1991 гг.)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характеризуется положительными величинами как естественного, так и механического движения населения, в крае наблюдается общий прирост населения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Прямоугольник 8"/>
          <p:cNvSpPr/>
          <p:nvPr/>
        </p:nvSpPr>
        <p:spPr>
          <a:xfrm>
            <a:off x="453960" y="1928880"/>
            <a:ext cx="84391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 период (1992-1994 гг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знаменован превышением числа умерших над числом родившихся, но естественная убыль населения протекает на фоне роста миграционного притока в край, в результате числен­ность населения края растет, но все меньшими темп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Прямоугольник 1"/>
          <p:cNvSpPr/>
          <p:nvPr/>
        </p:nvSpPr>
        <p:spPr>
          <a:xfrm>
            <a:off x="285840" y="214200"/>
            <a:ext cx="8638920" cy="49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период (1995-2000 гг.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  сокращающемся положительном сальдо миграции и немного варьирующей естественной убыли общий прирост населения становится отрица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 период (2001 г. - настоящее время)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кращение численности населения края является результатом как естественной, так и механической убы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Group 3"/>
          <p:cNvGrpSpPr/>
          <p:nvPr/>
        </p:nvGrpSpPr>
        <p:grpSpPr>
          <a:xfrm>
            <a:off x="254160" y="555480"/>
            <a:ext cx="1979280" cy="1366920"/>
            <a:chOff x="254160" y="555480"/>
            <a:chExt cx="1979280" cy="1366920"/>
          </a:xfrm>
        </p:grpSpPr>
        <p:sp>
          <p:nvSpPr>
            <p:cNvPr id="1044" name="Freeform 4"/>
            <p:cNvSpPr/>
            <p:nvPr/>
          </p:nvSpPr>
          <p:spPr>
            <a:xfrm>
              <a:off x="254160" y="558360"/>
              <a:ext cx="1502280" cy="308880"/>
            </a:xfrm>
            <a:custGeom>
              <a:avLst/>
              <a:gdLst>
                <a:gd name="textAreaLeft" fmla="*/ 0 w 1502280"/>
                <a:gd name="textAreaRight" fmla="*/ 1502640 w 150228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5"/>
            <p:cNvSpPr/>
            <p:nvPr/>
          </p:nvSpPr>
          <p:spPr>
            <a:xfrm>
              <a:off x="1763280" y="555480"/>
              <a:ext cx="465480" cy="64908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6"/>
            <p:cNvSpPr/>
            <p:nvPr/>
          </p:nvSpPr>
          <p:spPr>
            <a:xfrm>
              <a:off x="257040" y="93960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7"/>
            <p:cNvSpPr/>
            <p:nvPr/>
          </p:nvSpPr>
          <p:spPr>
            <a:xfrm>
              <a:off x="667080" y="167220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8"/>
            <p:cNvSpPr/>
            <p:nvPr/>
          </p:nvSpPr>
          <p:spPr>
            <a:xfrm>
              <a:off x="1550520" y="119268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5:06:55Z</dcterms:created>
  <dc:creator>User7</dc:creator>
  <dc:description/>
  <dc:language>en-US</dc:language>
  <cp:lastModifiedBy>PC</cp:lastModifiedBy>
  <dcterms:modified xsi:type="dcterms:W3CDTF">2015-01-09T11:07:25Z</dcterms:modified>
  <cp:revision>31</cp:revision>
  <dc:subject/>
  <dc:title>Презентация PowerPoint</dc:title>
</cp:coreProperties>
</file>