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25D-008C-41F7-A0FD-AC4D9A1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A97-CBDE-4F75-8FE5-B726F80D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76DB2-D3EF-4478-98C8-22CC2856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A8F4A-F955-4E6B-85CD-36602493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7BFFB-3C96-4327-A656-BC0A5BAE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D9F93-4A94-44C3-AA09-5A9F363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9F366-B1C5-47A4-963E-951FEF0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83821-D2FB-4B9F-A170-BC60EF7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674C-E08B-44B3-A3C9-727E280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251E4-32A4-49D1-9317-2EC1EA1D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1B3C-3B33-49CA-8377-92B233C5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B2238-A508-4FDB-88C0-B7C1FF14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355-AC69-4C8D-853D-0B90E7CD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B0B4-5A3E-4BB3-99B8-BBB8D0E5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1E1E-0708-4815-A671-68C2C62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3F74E-20CC-4905-A4A0-45524D4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B9DDB-8FDD-4210-B9FA-7287B09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6DA47-1FE1-44A8-9B8B-2A64801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07580-2B29-47F6-B919-147E996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15014-EA1B-47BF-8CAB-062BFB35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0C964-5A2E-4F6A-B931-ECE037EE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6041B-0D0E-4082-A44D-9E9DBED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E81DC-9C48-4F1B-90AA-7A46A07D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150-D6A5-4EE9-A014-34A786AE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477DD-49CF-4415-8B6E-82E70419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E6E99-E298-41E8-9B92-080B172A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35900-D1B7-487D-BF3D-64CC7927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1744C-7CB6-4C68-B499-F1CFB13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F6FF9-92F2-4CE6-BD2A-7D5ACCCC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C706-5084-462B-8B0A-1361B1D6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871D2-DC77-4DBE-8320-21B5ED55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C2F10-9638-4196-969E-5A536733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0325-C789-45F8-AD5D-31FDBDB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F231C-395C-436A-8B9F-EA5B21F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8B73-0343-4CC9-9D8B-CCF7255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0CE5C-3E62-4A72-A0F5-9DFFE258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E4519-AD71-41D4-B598-1FD5035D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639B5-B581-4668-804E-38D1401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13744-4229-4F0D-A2E5-356DACA7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D60F9-FCC2-4DD8-ACC0-2E991D74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43A43-2006-4115-9279-77A404BD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60C87-412E-4867-8F49-89999C7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11865-9A55-4224-9718-ADAA9C5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04A07-3CA3-4A8D-B753-62A1587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B4648-C5DF-4224-90B6-E406FFE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5F75-1E60-4352-9477-A2A3B78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6CE2-1CC5-41BE-AE23-781FD9A5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03F8-F91A-4331-BBA0-0D60446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75E6E-8E1A-41A8-A864-951B0A81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1DFE4-3404-4B85-9405-22393B5E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A660E-40BB-4A9B-9306-6B33732D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59D4F-7C98-4E51-B1D1-B37C752E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3BDFF-220E-4A3B-BE52-1B566FD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CBCEA-3175-40FD-A564-668FA9A5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0BBD3-B0A7-4A9D-AE97-CA54768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6A98A-044D-45F0-8AA0-C27F7FCC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B2C-C9A2-460D-9EE7-5343946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40626-77D8-4A56-8807-3B3468F4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B1BAE-6C60-4AB1-806F-6C02537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91C12-7DFE-434D-AF97-D44274DC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FDF6C-210A-4AED-B081-DC9C3E0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B8224-7288-42DE-AB0E-A36F8CB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E037D-A32C-4B4B-8B75-66319ED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52B53-1585-40DB-BD05-FC1D0295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19985-08CB-45C8-AE3D-9F812DDF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A2E16-E08B-4A75-9A07-7DD2BADE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06FB1-099D-43C6-A97A-CAC75075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4853-A407-4A49-8D03-8C24B5CA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EE225-3639-4DA0-8C6D-281C72B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12338-16E0-4B90-94E0-01B8DD00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A1D77-70B5-4785-9135-2B835B99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B93C4-5303-49D8-9FA3-89455B3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9C430-BCBB-4BD9-83F6-248120C3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03456-93DD-4CC4-A2D5-FA80303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E4D21-B0EE-4827-B874-E5FD39B7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005BD-5266-48DB-9623-35C41CC9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075CD-B10F-4BF7-8233-B845B958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95E2F-C908-420D-B7AC-D7ACBDB6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C33-C46C-48D2-B1A0-8F013931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D78C7-F619-489B-ABDF-8ABBE4EA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05EF0-3F69-4D36-BDFD-687A5F4B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A7633-D9C1-4AC3-98BB-EEAD29CC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1A220-0D6C-49E3-A7E2-DCDD967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1E076-FAC3-495E-B7F6-D57918C9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18916-609D-4C6D-B0FD-798AD705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1CDC5-0BE7-4D45-AD81-6FCE0690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0B050-871F-410A-99F8-6484F88E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AC2E1-995D-4B1A-9976-DAD4CD6F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2D51E-8F48-4355-9ED3-6B216DE4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4BA-80E7-49A7-96CD-F88BAA26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EF7A7-0A65-4AA4-9B2A-734D039B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BC8A4-FEE9-413A-BBCF-D9C6F8E3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3094A-2E2E-499B-A172-96EEA3A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21C84-FA23-4F90-8BF5-6C146FC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C2C26-FAFE-48D0-8B86-D1EC16F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CAD99-C3B0-4248-9FB3-EA529547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E8795-15DB-42B0-82A4-124BCF0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D4961-A009-4185-8AC5-6338BCB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9C26E-7B42-421E-9DE5-E8F0657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8E9C4-6AA4-49F7-AA4D-0CFB7FA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1D3-D5E8-4A37-8A0F-172BAB8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711F5-7E3B-41E3-AC78-DCEF13C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1BD4B-0E5E-447E-87D9-713CB99C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9C045-B105-406C-8482-5B74A14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0FA48-56EE-4912-95AE-B7D86047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AB794-A9F7-4478-8A3F-7FB617F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E0A13-4FAF-46DE-BEEE-78769C16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0AE20-5F3C-450C-BF8E-4101E75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44EB1-7568-4481-B032-D2A317D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2BB85-82ED-4A5D-A4EE-F89B3B6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F5D1D-DAC2-484D-B8CC-A1CAE49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405-CE97-4899-B822-C67A024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3CAD-E70B-4F42-9AD4-9616426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B0A7C-E52D-4950-8B27-42D7B1EB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3F33D-FD96-406F-980F-558CC039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78FCE-E406-4291-8279-43F5F64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403EA-B8CF-4213-A807-89256363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AE0F0-BF85-4AA2-A45B-7E4B5219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212FC-E7C8-4634-8F04-D71481ED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7473B-9C4D-43F4-B989-A9CF6E51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358BB-F5B5-4807-B4F2-19368E5B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E3130-F577-44EF-8856-C347189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462CD-711F-4405-803E-B5CDA7B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B6E-0100-43CF-80D6-A3C7617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6C223-E790-46B0-A264-C5997FD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3A959-FF0B-4801-A68C-E24BA88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18800-358E-4ABB-9313-E4C8EBF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D46DE-5D9E-413B-8ABB-4672019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31CC7-9F69-49E1-9912-F570B86E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05AE54-0AEE-423D-842D-F0C6B4D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9E961-9B22-4D64-AFE5-EE2D354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CD5515-20D3-40CD-B830-1E298809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EF9B2-8BC6-4D12-82DD-AB7010F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11A51C-FC0C-4F3E-9E2E-04F67A1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13BC-5AE2-45F2-A53C-7AB1516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962597-DD28-4835-994C-C0738937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8905A-2C40-44EC-91F3-5D35E9F3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F619B-CA66-4CC9-BEB6-1B5333C5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A2D48-585D-4953-A2E1-153C3A0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0420A-967A-4B4E-B43E-284B6415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DE49A-7311-4585-9662-1D5A720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37A08-6D44-4E1F-B89A-124B9D87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09743-D8BB-4C9B-9150-6D4F02E3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F0ED8-F8B0-4F9A-9A3B-B1138E32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0F709-C0AB-4233-9A79-E4BADEA0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1078-9E12-4729-A1A6-7EB9A05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593DF-D5CE-4C1E-9CB1-7CC64F3E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770BA-45F1-49FC-8416-AE145A53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AC79F-9935-419B-99C3-CFAC063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B620E-5E92-46FA-9BA8-2F96111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D9B31-879C-458E-9287-E587EFBF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2FDD0-1F64-40C5-8CC3-A8DE4D32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D5592-DA8C-44D2-A2A3-F47FA91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258DC-DDF8-41B6-B10F-B3C7649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FA5BF-6A96-4506-BBC8-8969CEC9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13E6B7-B809-41DE-8407-A517B73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9B11-26B2-4433-A452-4EE46A94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275B4-A566-49E6-8648-C812A83B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C8DA4-A630-4940-BF86-A74A58EB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FEF0F-4878-411C-84DE-028C776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9CD9D-878D-4497-8894-3D2B2F4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18D9B-7F98-403A-A11B-BB1D0BF3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F9DCEE-2EB1-47F5-8BF7-94405E9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6BFE6-4B01-4084-A57E-7649A08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CAC47-B440-45CA-847E-DA164FEC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86EB4-7828-46BB-80F0-C320122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9C32D-BD54-4157-B27A-9B2EA25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85DB-74DE-4C34-8BB3-07C9C23E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EFE74-18CC-486A-BF98-6DC9083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45DF9-5D69-485F-B459-E5EEB992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22108-BFDF-439C-92EB-77C9EE01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A7DB59-594C-43FE-948C-479B989D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2D8DB3-474D-4E30-8601-613B95BF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139F15-DCDE-4DEA-B0A0-112E5D98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0A57D-F40A-4D53-86E4-AB95549D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78E86-877C-4C59-9F85-79019BB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E47D13-D244-42FF-AEF7-12DAECB3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04F9F-725F-4B3E-97C8-6CF16BF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E89E-5320-404C-82EB-2C142DB2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34EF0A-AE07-40EC-A09E-208FE41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C95C55-FC95-44C3-91F8-B5DFA70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A5A3F-237A-49EC-A9E3-0772BA3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7A8EB-4A03-4DD9-B0FF-1CB413F1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DF913E-2562-42A5-83CC-A56DD547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263A8-87E0-4762-A59C-8727264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F7305-13C2-41E5-A9D1-848525AC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D5BC5-8715-4707-99C3-9EB5EE52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9401F-2CE5-43C2-84F0-94458DDB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23D90F-0216-450F-9C6B-E13F29B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3DC9-0EF9-4FCD-8045-81CCF3A3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B0248-B516-4F55-A433-25DA3560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18841-654D-449D-9FCD-1381FC5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02EAC-7022-43D9-81B1-39CD293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4E820-BE45-4B91-A6D4-DF7F913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CCC362-EBB3-473A-8CBC-B6D3B9C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9FCBFE-5B48-4AD8-B3CD-9958CE5D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E3145-D5D2-4A53-9D55-6A59F25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8CCF1-F4CA-423D-996F-629BBF3E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B2CBBB-9467-4999-83F8-087FBD3E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E4F6B-D5FB-49E5-9DA6-820CF8F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96A6-075C-443D-AA36-5DEF604F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1A97AF-DB82-4FC7-8D80-AE75083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76F0B-9E71-4CD7-9FB2-617C19B9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0D8AC-6D76-4381-B156-D9B44D61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D4AFC6-349F-4911-86A3-3E548C3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5AA5C5-2B0D-421E-91D0-79657CE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5B09B-F12C-445E-8A4F-A6AFE6D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8D27F5-F24A-4901-A446-5C0DE1C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453858-43FB-46FB-B2B9-AAEBFAE6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1E1025-3491-4109-9C38-C4219D2D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5341-482F-472F-A3A1-4D3C776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AE4-21E1-4871-9B1D-F3143F9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0DE5-0815-4532-A96F-13FBF806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76C9-FE1E-40AC-AD9D-925D8D3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418B-BDC0-4F04-A065-5CD7122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FA8F-8B96-4991-86AC-DC4A4571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BFA2-8E73-46F0-8A6F-31596EBB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2932-1784-41FC-9C7C-B3EB54AD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8481-3790-43FD-BDAB-177243D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1A3B-3317-4C5E-9F4A-37A96D1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4CA9-49D4-4B88-B4DA-98B922D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01B4-FA39-4D34-A432-534C531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739-A62A-4754-B713-210B2E0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9B1E-28CD-4DBD-967A-21CC0E45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ED104-9976-42AE-A5F5-5D5B070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5195-673A-4EAF-A336-B3387219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4672-071B-4C48-8504-35F061D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29CC-3772-4986-B9C2-0E98432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EA0E-C486-4EA0-AEA8-5A26FAC4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BDCB-21C9-49DB-9381-B3EDF19F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5C33-3E0C-4E07-B00E-1A746230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8F85-95F3-472A-B991-15A10982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9264C-0837-4976-BCB0-D7F41C85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EEC-8069-4439-99C5-D934CB8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E1A0-3CD8-44D7-9E43-1D676197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65BE-FE56-45D7-804C-C48AE22F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7674-D420-4393-8778-ACBAAFCE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EB531-D87F-4309-845A-81A513C7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3AF01-3AB1-4EA6-BD6C-2F468DB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0DDE-08B9-415E-A58F-D8F14581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92DF-2C07-44CD-AEE7-A546006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96A9-41EA-4248-A71D-C5DA9138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87859-4D76-4219-8438-07C75CD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8558-7E85-421F-8048-3E594D9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1CA-857E-48CF-AE85-DE7E098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498F-207A-40C7-8AB0-E254FF4C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481D7-942A-4ECE-AC20-DA84CCF6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56F1-A8DB-4067-BF84-EE1E5145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8BAC-88AD-4DEF-B2EE-F607C1F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4E65-F0FA-4F60-B902-7E230FFD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1D8A-0853-407E-B2E6-BA0CB7E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C2E7-F15E-446C-946B-ED3C3016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22AC-7293-4F71-AA49-88DFF81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E2935-EDCE-4774-83DE-6B1748D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13FE-7E23-441B-89C0-D5C5B7F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A4D-0A2C-4F21-B525-1E6F0CE8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FBEA-B453-4576-852E-58BCA86F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976C-AD96-4F52-A17D-08B69099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5E42-7010-49F9-A539-63155FF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86262-6055-4B2C-99C5-DBE25DE9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C7B04-37CD-4791-A377-2A4C105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34F1-E12D-4FBA-B56C-6099AB7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EB06C-32E5-4ABA-A900-6CE5329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EC510-E79A-4536-9633-733B1FC1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0C8AA-282A-4554-AF6C-81024333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4EAF1-D14B-49E9-A786-D18B442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831-E8BB-4594-AEE9-A62749E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B7825-E640-46E7-99DA-6F9D03BE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8277-35BD-46C5-8921-0E8470E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21FC-670D-4806-A466-2ECBC115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30BA-ABBB-4D8A-949F-7F79A3D8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CE94-6DE4-4BE8-8FEE-4D668167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FE415-A326-456C-BAD3-68E1143D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4B096-ABB7-4C5F-9ECA-7424298B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0C5E-1656-46C1-AFE2-DD6BC93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F456-08A0-452D-AD3A-4EA898B9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536D-C43B-4767-80D6-1B9E253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D4F-412D-421B-96DD-085345A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49CF-05A7-4F2B-843A-45D2F9E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F7281-3EE2-423B-80AD-95A0C38F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ABF0C-F0B0-4147-B0DB-D057B84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57EB-951A-4F73-AA1C-C4FC648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D362-1B1B-40CF-B12F-AB727FF3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5929-EB88-4A33-8345-90ED778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581C-24F2-465D-ADAB-ACB69811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57EC4-A3C2-4489-8402-AAF3D6A6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C639D-402E-4F22-B76E-B6998F6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7501-A3B5-43EE-9F0B-AA52D53A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00A3-E170-4172-AB72-E8CFE6D8B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E65-0251-4BDD-B617-2596A1387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75D0-E972-488D-98A5-2F0660B05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B786-CD12-4857-94AC-390AF624C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0973-64C1-400D-835E-75CA1FB6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C9FD-5CF3-4208-8FE1-621914CA5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6F4-CA7D-44EA-9D02-B88B36FFD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2F18-802F-4650-80CF-0D7775302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2536-A9E4-48EB-A9AC-AEAB1349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6F23-9869-483A-87EF-BF47DC0CE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372-1130-4E4C-815D-684B7B728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C23-D95B-4FC3-9994-A15B2BAB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9EB6-142A-4FCC-9F53-333B83631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449-8040-407D-951B-CCEE3C15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1082-8FB5-4ABF-8F43-7B8CFA19C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9E3-4354-45A3-A484-BFA4A4C1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1D13-BC47-4743-955E-E8F9192A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542-ECBA-4633-AD7F-DAC3B8D3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04B-ED3B-4B85-B070-33045656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932E-36B0-4C09-B07E-044795D86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4664-5C20-499D-A626-526D14957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B7A8-4156-482C-B319-69DC52E1A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AD8E-81DA-4B0B-93B6-727992FA9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0622-F068-4D7C-977E-5094E4D6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8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Прямоугольник 1"/>
          <p:cNvSpPr/>
          <p:nvPr/>
        </p:nvSpPr>
        <p:spPr>
          <a:xfrm>
            <a:off x="1103400" y="407880"/>
            <a:ext cx="76453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Плёсо – Курьинская средняя общеобразователь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I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аучно – практическая конфе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йся 11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гнер Ва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0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5" name="Диаграмма 7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57736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5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Прямоугольник 7"/>
          <p:cNvSpPr/>
          <p:nvPr/>
        </p:nvSpPr>
        <p:spPr>
          <a:xfrm>
            <a:off x="254160" y="260280"/>
            <a:ext cx="8710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           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Численность     населения в Алтайском крае на 1 января 2010 г. составила около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490,7 тыс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. человек (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2,73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населения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5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СФО,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1,76%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и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22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  <a:ea typeface="Calibri"/>
              </a:rPr>
              <a:t> место в РФ).</a:t>
            </a:r>
            <a:r>
              <a:rPr b="1" lang="ru-RU" sz="5400" spc="-1" strike="noStrike" u="sng">
                <a:solidFill>
                  <a:srgbClr val="7030a0"/>
                </a:solidFill>
                <a:uFillTx/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6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Рисунок 7" descr=""/>
          <p:cNvPicPr/>
          <p:nvPr/>
        </p:nvPicPr>
        <p:blipFill>
          <a:blip r:embed="rId1"/>
          <a:stretch/>
        </p:blipFill>
        <p:spPr>
          <a:xfrm>
            <a:off x="25416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Диаграмма 3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05800" cy="5546520"/>
          </a:xfrm>
          <a:prstGeom prst="rect">
            <a:avLst/>
          </a:prstGeom>
          <a:ln w="0">
            <a:noFill/>
          </a:ln>
        </p:spPr>
      </p:pic>
      <p:grpSp>
        <p:nvGrpSpPr>
          <p:cNvPr id="107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78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1488960" y="5950080"/>
            <a:ext cx="6284880" cy="4316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"/>
          <p:cNvPicPr/>
          <p:nvPr/>
        </p:nvPicPr>
        <p:blipFill>
          <a:blip r:embed="rId2"/>
          <a:stretch/>
        </p:blipFill>
        <p:spPr>
          <a:xfrm>
            <a:off x="330120" y="390600"/>
            <a:ext cx="881388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86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9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Прямоугольник 7"/>
          <p:cNvSpPr/>
          <p:nvPr/>
        </p:nvSpPr>
        <p:spPr>
          <a:xfrm>
            <a:off x="0" y="404640"/>
            <a:ext cx="8964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принципы Р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в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й дифференцирова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затра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0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AutoShape 5"/>
          <p:cNvSpPr/>
          <p:nvPr/>
        </p:nvSpPr>
        <p:spPr>
          <a:xfrm>
            <a:off x="1428840" y="7410600"/>
            <a:ext cx="171360" cy="228600"/>
          </a:xfrm>
          <a:prstGeom prst="flowChartProcess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3943440" y="7410600"/>
            <a:ext cx="228600" cy="228600"/>
          </a:xfrm>
          <a:prstGeom prst="flowChartProcess">
            <a:avLst/>
          </a:prstGeom>
          <a:solidFill>
            <a:srgbClr val="2626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2520" y="326520"/>
            <a:ext cx="94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Рисунок 14" descr=""/>
          <p:cNvPicPr/>
          <p:nvPr/>
        </p:nvPicPr>
        <p:blipFill>
          <a:blip r:embed="rId1"/>
          <a:stretch/>
        </p:blipFill>
        <p:spPr>
          <a:xfrm>
            <a:off x="250920" y="228600"/>
            <a:ext cx="84978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11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Прямоугольник 7"/>
          <p:cNvSpPr/>
          <p:nvPr/>
        </p:nvSpPr>
        <p:spPr>
          <a:xfrm>
            <a:off x="2286000" y="-243000"/>
            <a:ext cx="6678720" cy="6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емографическая ситуация в Алтайском крае а начале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X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. А.А Еремин Известия Алтайского государственного университета. – 2010. - № 3/1 (6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Динамика численности городского и сельского населения Алтайского края на современном эта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к вопросу о возможной будущей динамик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Прогнозирование численности населения городов и районов Алтайского края до 201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ремин, А.А. Оценка демографической политики российской Федерации и Алтай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Oval 2"/>
          <p:cNvSpPr/>
          <p:nvPr/>
        </p:nvSpPr>
        <p:spPr>
          <a:xfrm>
            <a:off x="395280" y="328464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"/>
          <p:cNvSpPr/>
          <p:nvPr/>
        </p:nvSpPr>
        <p:spPr>
          <a:xfrm>
            <a:off x="1116000" y="1989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4"/>
          <p:cNvSpPr/>
          <p:nvPr/>
        </p:nvSpPr>
        <p:spPr>
          <a:xfrm>
            <a:off x="2411280" y="1197000"/>
            <a:ext cx="1297080" cy="122400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5"/>
          <p:cNvSpPr/>
          <p:nvPr/>
        </p:nvSpPr>
        <p:spPr>
          <a:xfrm>
            <a:off x="3924360" y="907920"/>
            <a:ext cx="1295280" cy="12240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"/>
          <p:cNvSpPr/>
          <p:nvPr/>
        </p:nvSpPr>
        <p:spPr>
          <a:xfrm>
            <a:off x="5435640" y="1052640"/>
            <a:ext cx="1224000" cy="13683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7"/>
          <p:cNvSpPr/>
          <p:nvPr/>
        </p:nvSpPr>
        <p:spPr>
          <a:xfrm>
            <a:off x="7451640" y="3068640"/>
            <a:ext cx="1295640" cy="1224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8"/>
          <p:cNvSpPr/>
          <p:nvPr/>
        </p:nvSpPr>
        <p:spPr>
          <a:xfrm>
            <a:off x="6659640" y="1773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9"/>
          <p:cNvSpPr/>
          <p:nvPr/>
        </p:nvSpPr>
        <p:spPr>
          <a:xfrm>
            <a:off x="3070800" y="4724280"/>
            <a:ext cx="30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 С Е М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2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Прямоугольник 9"/>
          <p:cNvSpPr/>
          <p:nvPr/>
        </p:nvSpPr>
        <p:spPr>
          <a:xfrm>
            <a:off x="453960" y="789120"/>
            <a:ext cx="836604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мографическая ситуация в Алтайском кра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99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Прямоугольник 7"/>
          <p:cNvSpPr/>
          <p:nvPr/>
        </p:nvSpPr>
        <p:spPr>
          <a:xfrm>
            <a:off x="453960" y="561960"/>
            <a:ext cx="79344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    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селение Алтай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8"/>
          <p:cNvSpPr/>
          <p:nvPr/>
        </p:nvSpPr>
        <p:spPr>
          <a:xfrm>
            <a:off x="453960" y="2637000"/>
            <a:ext cx="815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емографическая ситуация в Алтайском крае, ее динамика и территориальная дифференци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07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Прямоугольник 7"/>
          <p:cNvSpPr/>
          <p:nvPr/>
        </p:nvSpPr>
        <p:spPr>
          <a:xfrm>
            <a:off x="250920" y="260280"/>
            <a:ext cx="8569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 работы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мплексное изучении демографической ситуации в Алтайском крае на современном этапе для обоснования актуальных направлений корректировки региональной демографической поли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14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Прямоугольник 7"/>
          <p:cNvSpPr/>
          <p:nvPr/>
        </p:nvSpPr>
        <p:spPr>
          <a:xfrm>
            <a:off x="453960" y="115920"/>
            <a:ext cx="8510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ить и уточнить теоретико-методологические аспекты комплексного изучения региональной демографической ситу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ледить динамику численности и трансформацию половозрастной структуры населения Алтайского края, его городов и районов на современном эта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динамику и территориальную дифференциацию процессов естественного и механического воспроизводства населения в регионе в конце XX -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уществить комплексное оценивание территориальной дифференциа­ции региональной демографической ситуации в начале XXI 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многовариантное комплексное демографическое прогнозирование для региона на среднесрочную перспективу и краткосрочное аналитиче­ское прогнозирование численности населения муниципальных образований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72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ить состояние демографической политики в Алтайском крае и предложить направления ее оптим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0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0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3"/>
          <p:cNvGrpSpPr/>
          <p:nvPr/>
        </p:nvGrpSpPr>
        <p:grpSpPr>
          <a:xfrm>
            <a:off x="254160" y="358920"/>
            <a:ext cx="1979280" cy="1366200"/>
            <a:chOff x="254160" y="358920"/>
            <a:chExt cx="1979280" cy="1366200"/>
          </a:xfrm>
        </p:grpSpPr>
        <p:sp>
          <p:nvSpPr>
            <p:cNvPr id="1021" name="Freeform 4"/>
            <p:cNvSpPr/>
            <p:nvPr/>
          </p:nvSpPr>
          <p:spPr>
            <a:xfrm>
              <a:off x="254160" y="36180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5"/>
            <p:cNvSpPr/>
            <p:nvPr/>
          </p:nvSpPr>
          <p:spPr>
            <a:xfrm>
              <a:off x="1763280" y="35892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"/>
            <p:cNvSpPr/>
            <p:nvPr/>
          </p:nvSpPr>
          <p:spPr>
            <a:xfrm>
              <a:off x="257040" y="743040"/>
              <a:ext cx="401040" cy="90144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7"/>
            <p:cNvSpPr/>
            <p:nvPr/>
          </p:nvSpPr>
          <p:spPr>
            <a:xfrm>
              <a:off x="667080" y="1475280"/>
              <a:ext cx="879480" cy="2498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"/>
            <p:cNvSpPr/>
            <p:nvPr/>
          </p:nvSpPr>
          <p:spPr>
            <a:xfrm>
              <a:off x="1550520" y="99576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7"/>
          <p:cNvSpPr/>
          <p:nvPr/>
        </p:nvSpPr>
        <p:spPr>
          <a:xfrm>
            <a:off x="453960" y="-372960"/>
            <a:ext cx="851076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  Демографического ситуация Алтай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1. Современные этапы демограф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2. Трансформация половозрастной структуры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3. Естественное и механическое движение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4. Миграционны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2.5. Демографическая ситуация в городах и районах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3.   Заключение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4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используемых источн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Прямоугольник 1"/>
          <p:cNvSpPr/>
          <p:nvPr/>
        </p:nvSpPr>
        <p:spPr>
          <a:xfrm>
            <a:off x="1835280" y="620640"/>
            <a:ext cx="7200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нологические рамки 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временный этап демографического развития Алтайского края,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нее десятилетие XX - начало XXI века (1990-2012 гг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29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3"/>
          <p:cNvGrpSpPr/>
          <p:nvPr/>
        </p:nvGrpSpPr>
        <p:grpSpPr>
          <a:xfrm>
            <a:off x="250920" y="404640"/>
            <a:ext cx="1979640" cy="1366920"/>
            <a:chOff x="250920" y="404640"/>
            <a:chExt cx="1979640" cy="1366920"/>
          </a:xfrm>
        </p:grpSpPr>
        <p:sp>
          <p:nvSpPr>
            <p:cNvPr id="1035" name="Freeform 4"/>
            <p:cNvSpPr/>
            <p:nvPr/>
          </p:nvSpPr>
          <p:spPr>
            <a:xfrm>
              <a:off x="250920" y="407520"/>
              <a:ext cx="1502640" cy="30888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5"/>
            <p:cNvSpPr/>
            <p:nvPr/>
          </p:nvSpPr>
          <p:spPr>
            <a:xfrm>
              <a:off x="1760040" y="404640"/>
              <a:ext cx="465840" cy="6490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253800" y="78876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7"/>
            <p:cNvSpPr/>
            <p:nvPr/>
          </p:nvSpPr>
          <p:spPr>
            <a:xfrm>
              <a:off x="663840" y="152136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8"/>
            <p:cNvSpPr/>
            <p:nvPr/>
          </p:nvSpPr>
          <p:spPr>
            <a:xfrm>
              <a:off x="1547640" y="104184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Прямоугольник 7"/>
          <p:cNvSpPr/>
          <p:nvPr/>
        </p:nvSpPr>
        <p:spPr>
          <a:xfrm>
            <a:off x="108000" y="115920"/>
            <a:ext cx="871200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 период (1990—1991 гг.)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рактеризуется положительными величинами как естественного, так и механического движения населения, в крае наблюдается общий прирост населени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Прямоугольник 8"/>
          <p:cNvSpPr/>
          <p:nvPr/>
        </p:nvSpPr>
        <p:spPr>
          <a:xfrm>
            <a:off x="453960" y="1928880"/>
            <a:ext cx="84391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 период (1992-1994 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менован превышением числа умерших над числом родившихся, но естественная убыль населения протекает на фоне роста миграционного притока в край, в результате числен­ность населения края растет, но все меньшими тем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Прямоугольник 1"/>
          <p:cNvSpPr/>
          <p:nvPr/>
        </p:nvSpPr>
        <p:spPr>
          <a:xfrm>
            <a:off x="285840" y="214200"/>
            <a:ext cx="863892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период (1995-2000 гг.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 сокращающемся положительном сальдо миграции и немного варьирующей естественной убыли общий прирост населения становится отриц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период (2001 г. - настоящее время)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кращение численности населения края является результатом как естественной, так и механической у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254160" y="555480"/>
            <a:ext cx="1979280" cy="1366920"/>
            <a:chOff x="254160" y="555480"/>
            <a:chExt cx="1979280" cy="1366920"/>
          </a:xfrm>
        </p:grpSpPr>
        <p:sp>
          <p:nvSpPr>
            <p:cNvPr id="1044" name="Freeform 4"/>
            <p:cNvSpPr/>
            <p:nvPr/>
          </p:nvSpPr>
          <p:spPr>
            <a:xfrm>
              <a:off x="254160" y="558360"/>
              <a:ext cx="1502280" cy="3088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308880"/>
                <a:gd name="textAreaBottom" fmla="*/ 308880 h 308880"/>
              </a:gdLst>
              <a:ahLst/>
              <a:rect l="textAreaLeft" t="textAreaTop" r="textAreaRight" b="textAreaBottom"/>
              <a:pathLst>
                <a:path w="4248" h="793">
                  <a:moveTo>
                    <a:pt x="0" y="704"/>
                  </a:moveTo>
                  <a:cubicBezTo>
                    <a:pt x="29" y="701"/>
                    <a:pt x="60" y="704"/>
                    <a:pt x="88" y="696"/>
                  </a:cubicBezTo>
                  <a:cubicBezTo>
                    <a:pt x="101" y="692"/>
                    <a:pt x="166" y="598"/>
                    <a:pt x="104" y="680"/>
                  </a:cubicBezTo>
                  <a:cubicBezTo>
                    <a:pt x="161" y="699"/>
                    <a:pt x="146" y="663"/>
                    <a:pt x="192" y="648"/>
                  </a:cubicBezTo>
                  <a:cubicBezTo>
                    <a:pt x="205" y="651"/>
                    <a:pt x="224" y="645"/>
                    <a:pt x="232" y="656"/>
                  </a:cubicBezTo>
                  <a:cubicBezTo>
                    <a:pt x="248" y="678"/>
                    <a:pt x="239" y="710"/>
                    <a:pt x="248" y="736"/>
                  </a:cubicBezTo>
                  <a:cubicBezTo>
                    <a:pt x="407" y="730"/>
                    <a:pt x="452" y="787"/>
                    <a:pt x="488" y="680"/>
                  </a:cubicBezTo>
                  <a:cubicBezTo>
                    <a:pt x="520" y="453"/>
                    <a:pt x="471" y="670"/>
                    <a:pt x="1000" y="616"/>
                  </a:cubicBezTo>
                  <a:cubicBezTo>
                    <a:pt x="1023" y="614"/>
                    <a:pt x="1062" y="547"/>
                    <a:pt x="1096" y="536"/>
                  </a:cubicBezTo>
                  <a:cubicBezTo>
                    <a:pt x="1115" y="508"/>
                    <a:pt x="1139" y="459"/>
                    <a:pt x="1168" y="440"/>
                  </a:cubicBezTo>
                  <a:cubicBezTo>
                    <a:pt x="1200" y="419"/>
                    <a:pt x="1276" y="419"/>
                    <a:pt x="1304" y="416"/>
                  </a:cubicBezTo>
                  <a:cubicBezTo>
                    <a:pt x="1327" y="381"/>
                    <a:pt x="1326" y="301"/>
                    <a:pt x="1360" y="296"/>
                  </a:cubicBezTo>
                  <a:cubicBezTo>
                    <a:pt x="1405" y="289"/>
                    <a:pt x="1451" y="291"/>
                    <a:pt x="1496" y="288"/>
                  </a:cubicBezTo>
                  <a:cubicBezTo>
                    <a:pt x="1538" y="274"/>
                    <a:pt x="1525" y="252"/>
                    <a:pt x="1560" y="232"/>
                  </a:cubicBezTo>
                  <a:cubicBezTo>
                    <a:pt x="1584" y="218"/>
                    <a:pt x="1614" y="217"/>
                    <a:pt x="1640" y="208"/>
                  </a:cubicBezTo>
                  <a:cubicBezTo>
                    <a:pt x="1648" y="205"/>
                    <a:pt x="1664" y="200"/>
                    <a:pt x="1664" y="200"/>
                  </a:cubicBezTo>
                  <a:cubicBezTo>
                    <a:pt x="1680" y="184"/>
                    <a:pt x="1696" y="168"/>
                    <a:pt x="1712" y="152"/>
                  </a:cubicBezTo>
                  <a:cubicBezTo>
                    <a:pt x="1720" y="144"/>
                    <a:pt x="1736" y="128"/>
                    <a:pt x="1736" y="128"/>
                  </a:cubicBezTo>
                  <a:cubicBezTo>
                    <a:pt x="1760" y="55"/>
                    <a:pt x="1725" y="69"/>
                    <a:pt x="1824" y="80"/>
                  </a:cubicBezTo>
                  <a:cubicBezTo>
                    <a:pt x="1835" y="83"/>
                    <a:pt x="1849" y="80"/>
                    <a:pt x="1856" y="88"/>
                  </a:cubicBezTo>
                  <a:cubicBezTo>
                    <a:pt x="1867" y="100"/>
                    <a:pt x="1878" y="182"/>
                    <a:pt x="1888" y="192"/>
                  </a:cubicBezTo>
                  <a:cubicBezTo>
                    <a:pt x="1896" y="200"/>
                    <a:pt x="1909" y="197"/>
                    <a:pt x="1920" y="200"/>
                  </a:cubicBezTo>
                  <a:cubicBezTo>
                    <a:pt x="1949" y="208"/>
                    <a:pt x="1942" y="206"/>
                    <a:pt x="1968" y="224"/>
                  </a:cubicBezTo>
                  <a:cubicBezTo>
                    <a:pt x="1971" y="232"/>
                    <a:pt x="1976" y="240"/>
                    <a:pt x="1976" y="248"/>
                  </a:cubicBezTo>
                  <a:cubicBezTo>
                    <a:pt x="1976" y="256"/>
                    <a:pt x="1965" y="264"/>
                    <a:pt x="1968" y="272"/>
                  </a:cubicBezTo>
                  <a:cubicBezTo>
                    <a:pt x="1979" y="299"/>
                    <a:pt x="2066" y="294"/>
                    <a:pt x="2088" y="296"/>
                  </a:cubicBezTo>
                  <a:cubicBezTo>
                    <a:pt x="2134" y="307"/>
                    <a:pt x="2178" y="325"/>
                    <a:pt x="2224" y="336"/>
                  </a:cubicBezTo>
                  <a:cubicBezTo>
                    <a:pt x="2244" y="377"/>
                    <a:pt x="2265" y="385"/>
                    <a:pt x="2296" y="416"/>
                  </a:cubicBezTo>
                  <a:cubicBezTo>
                    <a:pt x="2332" y="452"/>
                    <a:pt x="2289" y="432"/>
                    <a:pt x="2336" y="448"/>
                  </a:cubicBezTo>
                  <a:cubicBezTo>
                    <a:pt x="2341" y="464"/>
                    <a:pt x="2347" y="480"/>
                    <a:pt x="2352" y="496"/>
                  </a:cubicBezTo>
                  <a:cubicBezTo>
                    <a:pt x="2355" y="504"/>
                    <a:pt x="2360" y="520"/>
                    <a:pt x="2360" y="520"/>
                  </a:cubicBezTo>
                  <a:cubicBezTo>
                    <a:pt x="2354" y="538"/>
                    <a:pt x="2325" y="612"/>
                    <a:pt x="2352" y="624"/>
                  </a:cubicBezTo>
                  <a:cubicBezTo>
                    <a:pt x="2389" y="640"/>
                    <a:pt x="2432" y="629"/>
                    <a:pt x="2472" y="632"/>
                  </a:cubicBezTo>
                  <a:cubicBezTo>
                    <a:pt x="2488" y="637"/>
                    <a:pt x="2504" y="643"/>
                    <a:pt x="2520" y="648"/>
                  </a:cubicBezTo>
                  <a:cubicBezTo>
                    <a:pt x="2528" y="651"/>
                    <a:pt x="2544" y="656"/>
                    <a:pt x="2544" y="656"/>
                  </a:cubicBezTo>
                  <a:cubicBezTo>
                    <a:pt x="2572" y="677"/>
                    <a:pt x="2591" y="701"/>
                    <a:pt x="2624" y="712"/>
                  </a:cubicBezTo>
                  <a:cubicBezTo>
                    <a:pt x="2642" y="785"/>
                    <a:pt x="2622" y="764"/>
                    <a:pt x="2664" y="792"/>
                  </a:cubicBezTo>
                  <a:cubicBezTo>
                    <a:pt x="2707" y="789"/>
                    <a:pt x="2750" y="793"/>
                    <a:pt x="2792" y="784"/>
                  </a:cubicBezTo>
                  <a:cubicBezTo>
                    <a:pt x="2819" y="778"/>
                    <a:pt x="2832" y="712"/>
                    <a:pt x="2832" y="712"/>
                  </a:cubicBezTo>
                  <a:cubicBezTo>
                    <a:pt x="2839" y="646"/>
                    <a:pt x="2839" y="590"/>
                    <a:pt x="2896" y="552"/>
                  </a:cubicBezTo>
                  <a:cubicBezTo>
                    <a:pt x="2916" y="522"/>
                    <a:pt x="2946" y="476"/>
                    <a:pt x="2976" y="456"/>
                  </a:cubicBezTo>
                  <a:cubicBezTo>
                    <a:pt x="2989" y="447"/>
                    <a:pt x="3042" y="441"/>
                    <a:pt x="3048" y="440"/>
                  </a:cubicBezTo>
                  <a:cubicBezTo>
                    <a:pt x="3064" y="429"/>
                    <a:pt x="3080" y="419"/>
                    <a:pt x="3096" y="408"/>
                  </a:cubicBezTo>
                  <a:cubicBezTo>
                    <a:pt x="3106" y="401"/>
                    <a:pt x="3072" y="416"/>
                    <a:pt x="3064" y="424"/>
                  </a:cubicBezTo>
                  <a:cubicBezTo>
                    <a:pt x="3058" y="430"/>
                    <a:pt x="3081" y="421"/>
                    <a:pt x="3088" y="416"/>
                  </a:cubicBezTo>
                  <a:cubicBezTo>
                    <a:pt x="3096" y="411"/>
                    <a:pt x="3105" y="407"/>
                    <a:pt x="3112" y="400"/>
                  </a:cubicBezTo>
                  <a:cubicBezTo>
                    <a:pt x="3152" y="360"/>
                    <a:pt x="3125" y="379"/>
                    <a:pt x="3200" y="360"/>
                  </a:cubicBezTo>
                  <a:cubicBezTo>
                    <a:pt x="3211" y="357"/>
                    <a:pt x="3232" y="352"/>
                    <a:pt x="3232" y="352"/>
                  </a:cubicBezTo>
                  <a:cubicBezTo>
                    <a:pt x="3251" y="408"/>
                    <a:pt x="3307" y="331"/>
                    <a:pt x="3336" y="312"/>
                  </a:cubicBezTo>
                  <a:cubicBezTo>
                    <a:pt x="3440" y="242"/>
                    <a:pt x="3587" y="307"/>
                    <a:pt x="3712" y="304"/>
                  </a:cubicBezTo>
                  <a:cubicBezTo>
                    <a:pt x="3769" y="266"/>
                    <a:pt x="3829" y="263"/>
                    <a:pt x="3896" y="256"/>
                  </a:cubicBezTo>
                  <a:cubicBezTo>
                    <a:pt x="3908" y="221"/>
                    <a:pt x="3909" y="203"/>
                    <a:pt x="3936" y="176"/>
                  </a:cubicBezTo>
                  <a:cubicBezTo>
                    <a:pt x="3925" y="160"/>
                    <a:pt x="3908" y="147"/>
                    <a:pt x="3904" y="128"/>
                  </a:cubicBezTo>
                  <a:cubicBezTo>
                    <a:pt x="3900" y="108"/>
                    <a:pt x="3933" y="97"/>
                    <a:pt x="3944" y="96"/>
                  </a:cubicBezTo>
                  <a:cubicBezTo>
                    <a:pt x="3989" y="91"/>
                    <a:pt x="4035" y="91"/>
                    <a:pt x="4080" y="88"/>
                  </a:cubicBezTo>
                  <a:cubicBezTo>
                    <a:pt x="4168" y="73"/>
                    <a:pt x="4182" y="66"/>
                    <a:pt x="4248" y="0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"/>
            <p:cNvSpPr/>
            <p:nvPr/>
          </p:nvSpPr>
          <p:spPr>
            <a:xfrm>
              <a:off x="1763280" y="555480"/>
              <a:ext cx="465480" cy="649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1317" h="1666">
                  <a:moveTo>
                    <a:pt x="5" y="0"/>
                  </a:moveTo>
                  <a:cubicBezTo>
                    <a:pt x="8" y="24"/>
                    <a:pt x="0" y="52"/>
                    <a:pt x="13" y="72"/>
                  </a:cubicBezTo>
                  <a:cubicBezTo>
                    <a:pt x="22" y="86"/>
                    <a:pt x="61" y="88"/>
                    <a:pt x="61" y="88"/>
                  </a:cubicBezTo>
                  <a:cubicBezTo>
                    <a:pt x="67" y="106"/>
                    <a:pt x="90" y="155"/>
                    <a:pt x="101" y="168"/>
                  </a:cubicBezTo>
                  <a:cubicBezTo>
                    <a:pt x="123" y="195"/>
                    <a:pt x="268" y="205"/>
                    <a:pt x="301" y="208"/>
                  </a:cubicBezTo>
                  <a:cubicBezTo>
                    <a:pt x="298" y="216"/>
                    <a:pt x="290" y="224"/>
                    <a:pt x="293" y="232"/>
                  </a:cubicBezTo>
                  <a:cubicBezTo>
                    <a:pt x="297" y="241"/>
                    <a:pt x="311" y="241"/>
                    <a:pt x="317" y="248"/>
                  </a:cubicBezTo>
                  <a:cubicBezTo>
                    <a:pt x="330" y="262"/>
                    <a:pt x="331" y="290"/>
                    <a:pt x="349" y="296"/>
                  </a:cubicBezTo>
                  <a:cubicBezTo>
                    <a:pt x="365" y="301"/>
                    <a:pt x="397" y="312"/>
                    <a:pt x="397" y="312"/>
                  </a:cubicBezTo>
                  <a:cubicBezTo>
                    <a:pt x="417" y="392"/>
                    <a:pt x="387" y="310"/>
                    <a:pt x="429" y="352"/>
                  </a:cubicBezTo>
                  <a:cubicBezTo>
                    <a:pt x="435" y="358"/>
                    <a:pt x="431" y="370"/>
                    <a:pt x="437" y="376"/>
                  </a:cubicBezTo>
                  <a:cubicBezTo>
                    <a:pt x="460" y="399"/>
                    <a:pt x="501" y="388"/>
                    <a:pt x="533" y="392"/>
                  </a:cubicBezTo>
                  <a:cubicBezTo>
                    <a:pt x="588" y="429"/>
                    <a:pt x="563" y="418"/>
                    <a:pt x="605" y="432"/>
                  </a:cubicBezTo>
                  <a:cubicBezTo>
                    <a:pt x="618" y="452"/>
                    <a:pt x="624" y="456"/>
                    <a:pt x="629" y="480"/>
                  </a:cubicBezTo>
                  <a:cubicBezTo>
                    <a:pt x="633" y="498"/>
                    <a:pt x="625" y="522"/>
                    <a:pt x="637" y="536"/>
                  </a:cubicBezTo>
                  <a:cubicBezTo>
                    <a:pt x="648" y="548"/>
                    <a:pt x="669" y="541"/>
                    <a:pt x="685" y="544"/>
                  </a:cubicBezTo>
                  <a:cubicBezTo>
                    <a:pt x="694" y="595"/>
                    <a:pt x="711" y="694"/>
                    <a:pt x="765" y="712"/>
                  </a:cubicBezTo>
                  <a:cubicBezTo>
                    <a:pt x="792" y="822"/>
                    <a:pt x="1029" y="804"/>
                    <a:pt x="1101" y="808"/>
                  </a:cubicBezTo>
                  <a:cubicBezTo>
                    <a:pt x="1095" y="840"/>
                    <a:pt x="1092" y="872"/>
                    <a:pt x="1085" y="904"/>
                  </a:cubicBezTo>
                  <a:cubicBezTo>
                    <a:pt x="1081" y="920"/>
                    <a:pt x="1083" y="943"/>
                    <a:pt x="1069" y="952"/>
                  </a:cubicBezTo>
                  <a:cubicBezTo>
                    <a:pt x="1027" y="980"/>
                    <a:pt x="997" y="1016"/>
                    <a:pt x="981" y="1064"/>
                  </a:cubicBezTo>
                  <a:cubicBezTo>
                    <a:pt x="993" y="1220"/>
                    <a:pt x="978" y="1182"/>
                    <a:pt x="1149" y="1192"/>
                  </a:cubicBezTo>
                  <a:cubicBezTo>
                    <a:pt x="1221" y="1240"/>
                    <a:pt x="1191" y="1277"/>
                    <a:pt x="1181" y="1384"/>
                  </a:cubicBezTo>
                  <a:cubicBezTo>
                    <a:pt x="1178" y="1412"/>
                    <a:pt x="1168" y="1407"/>
                    <a:pt x="1157" y="1432"/>
                  </a:cubicBezTo>
                  <a:cubicBezTo>
                    <a:pt x="1150" y="1447"/>
                    <a:pt x="1141" y="1480"/>
                    <a:pt x="1141" y="1480"/>
                  </a:cubicBezTo>
                  <a:cubicBezTo>
                    <a:pt x="1144" y="1496"/>
                    <a:pt x="1135" y="1520"/>
                    <a:pt x="1149" y="1528"/>
                  </a:cubicBezTo>
                  <a:cubicBezTo>
                    <a:pt x="1177" y="1543"/>
                    <a:pt x="1224" y="1512"/>
                    <a:pt x="1245" y="1536"/>
                  </a:cubicBezTo>
                  <a:cubicBezTo>
                    <a:pt x="1270" y="1564"/>
                    <a:pt x="1238" y="1614"/>
                    <a:pt x="1253" y="1648"/>
                  </a:cubicBezTo>
                  <a:cubicBezTo>
                    <a:pt x="1261" y="1666"/>
                    <a:pt x="1298" y="1664"/>
                    <a:pt x="1317" y="1664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6"/>
            <p:cNvSpPr/>
            <p:nvPr/>
          </p:nvSpPr>
          <p:spPr>
            <a:xfrm>
              <a:off x="257040" y="939600"/>
              <a:ext cx="401040" cy="901800"/>
            </a:xfrm>
            <a:prstGeom prst="line">
              <a:avLst/>
            </a:prstGeom>
            <a:ln w="7632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7"/>
            <p:cNvSpPr/>
            <p:nvPr/>
          </p:nvSpPr>
          <p:spPr>
            <a:xfrm>
              <a:off x="667080" y="1672200"/>
              <a:ext cx="879480" cy="2502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50200"/>
                <a:gd name="textAreaBottom" fmla="*/ 250200 h 250200"/>
              </a:gdLst>
              <a:ahLst/>
              <a:rect l="textAreaLeft" t="textAreaTop" r="textAreaRight" b="textAreaBottom"/>
              <a:pathLst>
                <a:path w="2487" h="642">
                  <a:moveTo>
                    <a:pt x="0" y="462"/>
                  </a:moveTo>
                  <a:cubicBezTo>
                    <a:pt x="37" y="453"/>
                    <a:pt x="51" y="446"/>
                    <a:pt x="72" y="414"/>
                  </a:cubicBezTo>
                  <a:cubicBezTo>
                    <a:pt x="91" y="339"/>
                    <a:pt x="135" y="396"/>
                    <a:pt x="192" y="358"/>
                  </a:cubicBezTo>
                  <a:cubicBezTo>
                    <a:pt x="220" y="316"/>
                    <a:pt x="252" y="279"/>
                    <a:pt x="280" y="238"/>
                  </a:cubicBezTo>
                  <a:cubicBezTo>
                    <a:pt x="290" y="66"/>
                    <a:pt x="257" y="91"/>
                    <a:pt x="400" y="78"/>
                  </a:cubicBezTo>
                  <a:cubicBezTo>
                    <a:pt x="405" y="70"/>
                    <a:pt x="412" y="63"/>
                    <a:pt x="416" y="54"/>
                  </a:cubicBezTo>
                  <a:cubicBezTo>
                    <a:pt x="423" y="39"/>
                    <a:pt x="432" y="6"/>
                    <a:pt x="432" y="6"/>
                  </a:cubicBezTo>
                  <a:cubicBezTo>
                    <a:pt x="461" y="9"/>
                    <a:pt x="494" y="0"/>
                    <a:pt x="520" y="14"/>
                  </a:cubicBezTo>
                  <a:cubicBezTo>
                    <a:pt x="558" y="34"/>
                    <a:pt x="519" y="87"/>
                    <a:pt x="568" y="102"/>
                  </a:cubicBezTo>
                  <a:cubicBezTo>
                    <a:pt x="586" y="107"/>
                    <a:pt x="605" y="107"/>
                    <a:pt x="624" y="110"/>
                  </a:cubicBezTo>
                  <a:cubicBezTo>
                    <a:pt x="621" y="131"/>
                    <a:pt x="616" y="153"/>
                    <a:pt x="616" y="174"/>
                  </a:cubicBezTo>
                  <a:cubicBezTo>
                    <a:pt x="616" y="347"/>
                    <a:pt x="616" y="278"/>
                    <a:pt x="832" y="286"/>
                  </a:cubicBezTo>
                  <a:cubicBezTo>
                    <a:pt x="848" y="642"/>
                    <a:pt x="860" y="478"/>
                    <a:pt x="1392" y="486"/>
                  </a:cubicBezTo>
                  <a:cubicBezTo>
                    <a:pt x="1453" y="527"/>
                    <a:pt x="1531" y="510"/>
                    <a:pt x="1600" y="502"/>
                  </a:cubicBezTo>
                  <a:cubicBezTo>
                    <a:pt x="1610" y="471"/>
                    <a:pt x="1630" y="469"/>
                    <a:pt x="1640" y="438"/>
                  </a:cubicBezTo>
                  <a:cubicBezTo>
                    <a:pt x="1656" y="314"/>
                    <a:pt x="1694" y="365"/>
                    <a:pt x="1856" y="358"/>
                  </a:cubicBezTo>
                  <a:cubicBezTo>
                    <a:pt x="1908" y="332"/>
                    <a:pt x="1932" y="319"/>
                    <a:pt x="1992" y="310"/>
                  </a:cubicBezTo>
                  <a:cubicBezTo>
                    <a:pt x="2079" y="281"/>
                    <a:pt x="2168" y="308"/>
                    <a:pt x="2256" y="318"/>
                  </a:cubicBezTo>
                  <a:cubicBezTo>
                    <a:pt x="2259" y="326"/>
                    <a:pt x="2257" y="338"/>
                    <a:pt x="2264" y="342"/>
                  </a:cubicBezTo>
                  <a:cubicBezTo>
                    <a:pt x="2278" y="350"/>
                    <a:pt x="2296" y="346"/>
                    <a:pt x="2312" y="350"/>
                  </a:cubicBezTo>
                  <a:cubicBezTo>
                    <a:pt x="2337" y="356"/>
                    <a:pt x="2338" y="360"/>
                    <a:pt x="2360" y="374"/>
                  </a:cubicBezTo>
                  <a:cubicBezTo>
                    <a:pt x="2365" y="390"/>
                    <a:pt x="2371" y="406"/>
                    <a:pt x="2376" y="422"/>
                  </a:cubicBezTo>
                  <a:cubicBezTo>
                    <a:pt x="2381" y="437"/>
                    <a:pt x="2377" y="455"/>
                    <a:pt x="2384" y="470"/>
                  </a:cubicBezTo>
                  <a:cubicBezTo>
                    <a:pt x="2392" y="486"/>
                    <a:pt x="2428" y="491"/>
                    <a:pt x="2440" y="494"/>
                  </a:cubicBezTo>
                  <a:cubicBezTo>
                    <a:pt x="2444" y="516"/>
                    <a:pt x="2440" y="542"/>
                    <a:pt x="2456" y="558"/>
                  </a:cubicBezTo>
                  <a:cubicBezTo>
                    <a:pt x="2462" y="564"/>
                    <a:pt x="2478" y="558"/>
                    <a:pt x="2480" y="566"/>
                  </a:cubicBezTo>
                  <a:cubicBezTo>
                    <a:pt x="2487" y="589"/>
                    <a:pt x="2480" y="614"/>
                    <a:pt x="2480" y="638"/>
                  </a:cubicBezTo>
                </a:path>
              </a:pathLst>
            </a:custGeom>
            <a:noFill/>
            <a:ln w="7632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8"/>
            <p:cNvSpPr/>
            <p:nvPr/>
          </p:nvSpPr>
          <p:spPr>
            <a:xfrm>
              <a:off x="1550520" y="1192680"/>
              <a:ext cx="682920" cy="715680"/>
            </a:xfrm>
            <a:custGeom>
              <a:avLst/>
              <a:gdLst>
                <a:gd name="textAreaLeft" fmla="*/ 0 w 682920"/>
                <a:gd name="textAreaRight" fmla="*/ 683280 w 6829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931" h="1837">
                  <a:moveTo>
                    <a:pt x="46" y="1837"/>
                  </a:moveTo>
                  <a:cubicBezTo>
                    <a:pt x="143" y="1831"/>
                    <a:pt x="169" y="1828"/>
                    <a:pt x="246" y="1813"/>
                  </a:cubicBezTo>
                  <a:cubicBezTo>
                    <a:pt x="251" y="1805"/>
                    <a:pt x="259" y="1798"/>
                    <a:pt x="262" y="1789"/>
                  </a:cubicBezTo>
                  <a:cubicBezTo>
                    <a:pt x="267" y="1771"/>
                    <a:pt x="260" y="1749"/>
                    <a:pt x="270" y="1733"/>
                  </a:cubicBezTo>
                  <a:cubicBezTo>
                    <a:pt x="280" y="1717"/>
                    <a:pt x="318" y="1701"/>
                    <a:pt x="318" y="1701"/>
                  </a:cubicBezTo>
                  <a:cubicBezTo>
                    <a:pt x="323" y="1693"/>
                    <a:pt x="333" y="1687"/>
                    <a:pt x="334" y="1677"/>
                  </a:cubicBezTo>
                  <a:cubicBezTo>
                    <a:pt x="341" y="1610"/>
                    <a:pt x="317" y="1617"/>
                    <a:pt x="270" y="1605"/>
                  </a:cubicBezTo>
                  <a:cubicBezTo>
                    <a:pt x="267" y="1581"/>
                    <a:pt x="273" y="1555"/>
                    <a:pt x="262" y="1533"/>
                  </a:cubicBezTo>
                  <a:cubicBezTo>
                    <a:pt x="257" y="1523"/>
                    <a:pt x="241" y="1528"/>
                    <a:pt x="230" y="1525"/>
                  </a:cubicBezTo>
                  <a:cubicBezTo>
                    <a:pt x="166" y="1506"/>
                    <a:pt x="101" y="1490"/>
                    <a:pt x="38" y="1469"/>
                  </a:cubicBezTo>
                  <a:cubicBezTo>
                    <a:pt x="23" y="1447"/>
                    <a:pt x="0" y="1417"/>
                    <a:pt x="22" y="1389"/>
                  </a:cubicBezTo>
                  <a:cubicBezTo>
                    <a:pt x="27" y="1382"/>
                    <a:pt x="38" y="1385"/>
                    <a:pt x="46" y="1381"/>
                  </a:cubicBezTo>
                  <a:cubicBezTo>
                    <a:pt x="55" y="1377"/>
                    <a:pt x="62" y="1370"/>
                    <a:pt x="70" y="1365"/>
                  </a:cubicBezTo>
                  <a:cubicBezTo>
                    <a:pt x="123" y="1383"/>
                    <a:pt x="76" y="1376"/>
                    <a:pt x="110" y="1301"/>
                  </a:cubicBezTo>
                  <a:cubicBezTo>
                    <a:pt x="115" y="1289"/>
                    <a:pt x="147" y="1280"/>
                    <a:pt x="158" y="1277"/>
                  </a:cubicBezTo>
                  <a:cubicBezTo>
                    <a:pt x="192" y="1267"/>
                    <a:pt x="230" y="1269"/>
                    <a:pt x="262" y="1253"/>
                  </a:cubicBezTo>
                  <a:cubicBezTo>
                    <a:pt x="314" y="1227"/>
                    <a:pt x="257" y="1248"/>
                    <a:pt x="310" y="1213"/>
                  </a:cubicBezTo>
                  <a:cubicBezTo>
                    <a:pt x="370" y="1173"/>
                    <a:pt x="286" y="1269"/>
                    <a:pt x="382" y="1173"/>
                  </a:cubicBezTo>
                  <a:cubicBezTo>
                    <a:pt x="403" y="1152"/>
                    <a:pt x="425" y="1127"/>
                    <a:pt x="454" y="1117"/>
                  </a:cubicBezTo>
                  <a:cubicBezTo>
                    <a:pt x="505" y="1100"/>
                    <a:pt x="548" y="1078"/>
                    <a:pt x="598" y="1061"/>
                  </a:cubicBezTo>
                  <a:cubicBezTo>
                    <a:pt x="641" y="1047"/>
                    <a:pt x="689" y="1056"/>
                    <a:pt x="734" y="1053"/>
                  </a:cubicBezTo>
                  <a:cubicBezTo>
                    <a:pt x="798" y="1010"/>
                    <a:pt x="721" y="1066"/>
                    <a:pt x="774" y="1013"/>
                  </a:cubicBezTo>
                  <a:cubicBezTo>
                    <a:pt x="801" y="986"/>
                    <a:pt x="793" y="1005"/>
                    <a:pt x="822" y="989"/>
                  </a:cubicBezTo>
                  <a:cubicBezTo>
                    <a:pt x="874" y="960"/>
                    <a:pt x="924" y="919"/>
                    <a:pt x="966" y="877"/>
                  </a:cubicBezTo>
                  <a:cubicBezTo>
                    <a:pt x="970" y="855"/>
                    <a:pt x="979" y="835"/>
                    <a:pt x="982" y="813"/>
                  </a:cubicBezTo>
                  <a:cubicBezTo>
                    <a:pt x="987" y="773"/>
                    <a:pt x="969" y="722"/>
                    <a:pt x="998" y="693"/>
                  </a:cubicBezTo>
                  <a:cubicBezTo>
                    <a:pt x="1012" y="679"/>
                    <a:pt x="1030" y="672"/>
                    <a:pt x="1046" y="661"/>
                  </a:cubicBezTo>
                  <a:cubicBezTo>
                    <a:pt x="1079" y="639"/>
                    <a:pt x="1091" y="618"/>
                    <a:pt x="1110" y="589"/>
                  </a:cubicBezTo>
                  <a:cubicBezTo>
                    <a:pt x="1117" y="531"/>
                    <a:pt x="1112" y="511"/>
                    <a:pt x="1166" y="493"/>
                  </a:cubicBezTo>
                  <a:cubicBezTo>
                    <a:pt x="1303" y="510"/>
                    <a:pt x="1449" y="529"/>
                    <a:pt x="1582" y="485"/>
                  </a:cubicBezTo>
                  <a:cubicBezTo>
                    <a:pt x="1611" y="456"/>
                    <a:pt x="1633" y="427"/>
                    <a:pt x="1646" y="389"/>
                  </a:cubicBezTo>
                  <a:cubicBezTo>
                    <a:pt x="1641" y="324"/>
                    <a:pt x="1656" y="286"/>
                    <a:pt x="1606" y="253"/>
                  </a:cubicBezTo>
                  <a:cubicBezTo>
                    <a:pt x="1587" y="196"/>
                    <a:pt x="1599" y="219"/>
                    <a:pt x="1574" y="181"/>
                  </a:cubicBezTo>
                  <a:cubicBezTo>
                    <a:pt x="1577" y="160"/>
                    <a:pt x="1565" y="131"/>
                    <a:pt x="1582" y="117"/>
                  </a:cubicBezTo>
                  <a:cubicBezTo>
                    <a:pt x="1603" y="100"/>
                    <a:pt x="1637" y="117"/>
                    <a:pt x="1662" y="109"/>
                  </a:cubicBezTo>
                  <a:cubicBezTo>
                    <a:pt x="1687" y="101"/>
                    <a:pt x="1683" y="45"/>
                    <a:pt x="1694" y="29"/>
                  </a:cubicBezTo>
                  <a:cubicBezTo>
                    <a:pt x="1703" y="16"/>
                    <a:pt x="1728" y="10"/>
                    <a:pt x="1742" y="5"/>
                  </a:cubicBezTo>
                  <a:cubicBezTo>
                    <a:pt x="1771" y="8"/>
                    <a:pt x="1804" y="0"/>
                    <a:pt x="1830" y="13"/>
                  </a:cubicBezTo>
                  <a:cubicBezTo>
                    <a:pt x="1931" y="63"/>
                    <a:pt x="1753" y="53"/>
                    <a:pt x="1870" y="53"/>
                  </a:cubicBezTo>
                </a:path>
              </a:pathLst>
            </a:custGeom>
            <a:noFill/>
            <a:ln w="572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06:55Z</dcterms:created>
  <dc:creator>User7</dc:creator>
  <dc:description/>
  <dc:language>en-US</dc:language>
  <cp:lastModifiedBy>PC</cp:lastModifiedBy>
  <dcterms:modified xsi:type="dcterms:W3CDTF">2015-01-09T11:07:25Z</dcterms:modified>
  <cp:revision>31</cp:revision>
  <dc:subject/>
  <dc:title>Презентация PowerPoint</dc:title>
</cp:coreProperties>
</file>