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1F9-6FBE-482A-AA2C-2ECFF1D3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944-7074-4817-AE84-10D3E95B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729-B41F-4D03-8EFC-54D4A735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42A-B0EF-4DE1-84B5-44FA01AD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331A-0564-4DDB-98EC-52EDE36E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3F39-34B7-49D4-AC9B-452141C5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0A9D-99C9-440D-BD7A-D36C0069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AF59-9140-4B09-A1AF-9FFF4864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AC42-19C0-4D25-84AE-F39A98BD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8937-4E8B-4BDA-844A-EB1545A6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6098-FEDB-4A6D-94AE-9EB76FC2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117-EE13-4811-B6C9-3808EE78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AD96-296A-4C21-8B0A-E10423C1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0A77-1CDB-42B1-8727-ABA1FD69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5644-F129-4D39-BE33-BF9B3D3B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BE34-B2B2-451A-9300-ADA95157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8C0E-95EF-431B-98EA-C6BAC593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85EE4-1A72-4A30-AEEB-64E3673C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445A0-F439-40D5-93A4-110F979D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FF3DB-8F0B-4A95-8323-B9DA906C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326A6-9165-4C4E-98F1-EA30DF48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B85A3-9CE8-4C4B-A342-D23DDFF4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D0E-1643-42C6-8F77-064B3423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65098-7051-4602-8E82-80DF1498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D0CD7-6CF1-4E08-BA16-4FCD71D3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FACD0-DBE6-4A45-9C6C-78A89DB9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6918F-5B7D-4DE7-B8A0-FB3ADC4C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4FCAC-45D6-49F2-B6E2-BAB85440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8121E-8C58-4A3E-9203-F0AB3107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D3891-3FAE-4C6A-893A-33D4DA10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313F1-9006-4AFF-BF15-74E9A516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4FA7E-FA8F-40E3-BA00-09B2D47C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86730-7579-4EF2-A316-80ACAB38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46A-1015-442C-8B99-72712BD7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DB7CE-A082-4745-8279-96E6375B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412B7-5D00-43FC-91D3-8437604F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A686D-6030-45F4-84EB-7256F271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07EEF-E81A-43FE-9A19-A2F5CF6F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BCEB2-D465-46A6-AFAD-ED0E5414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F62E7-931E-4B9A-8218-7E4542DA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079DE-ECC3-4C1E-A1BF-2081E7EC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BA6D6-1401-416A-8757-94981FE4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1973F-D9F8-46F1-96DE-D47409A0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EF8-87F6-4A15-B145-9F6D4E1F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064-761F-4598-880B-27DE9DC5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D4B-F084-444D-B653-D1A68405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24B-5A31-4CA1-B09B-78AB6A61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92F-41CF-444C-9701-9B17C436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00F0-FE80-4AD8-8119-9E5043E50CF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DD0F-DB59-4B5D-A474-B0AE4F5AAC6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61E4-43C5-4A3E-969B-13A5A458B68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A13D-16D3-4BD9-B5DB-FE7C39E4196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#ym_playback=linkmap&amp;ym_cid=26448765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Социальная психологи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Групповая сплоченнос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777840" y="6458040"/>
            <a:ext cx="168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67afbd"/>
                </a:solidFill>
                <a:uFillTx/>
                <a:latin typeface="Arial"/>
                <a:hlinkClick r:id="rId1"/>
              </a:rPr>
              <a:t>Бесплатные презент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prezentacija.biz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пределение поняти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99800"/>
            <a:ext cx="822960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вления, изучаемые в социальной психолог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Выноска со стрелкой вниз 4"/>
          <p:cNvSpPr/>
          <p:nvPr/>
        </p:nvSpPr>
        <p:spPr>
          <a:xfrm>
            <a:off x="642960" y="2286000"/>
            <a:ext cx="8001000" cy="2071800"/>
          </a:xfrm>
          <a:prstGeom prst="downArrowCallout">
            <a:avLst>
              <a:gd name="adj1" fmla="val -23310"/>
              <a:gd name="adj2" fmla="val 24995"/>
              <a:gd name="adj3" fmla="val 25000"/>
              <a:gd name="adj4" fmla="val 6497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Конформность    Конформно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(реакции)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пределение поняти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Конформное поведение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менение поведения или убеждений индивида в ответ на реальное или воображаемое групповое давление в тех ситуациях, когда нет прямого требования соглашаться с группо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Конформность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устойчивое свойство личности, которое проявляется в конформном поведении в разнообразных ситуация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Эксперименты по исследованию конформных реакций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узафер Шериф (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erif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1936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конформность может проявляться в группе, состоящей их незнакомых люд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ля проведения эксперимента использовался 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аутокинетический эффек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иллюзия видимого движения неподвижного источника света, наблюдение за которым ведется в абсолютно темной комна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езультаты эксперимента М.Шериф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4" name="Содержимое 3" descr="sherif-results-2.jpg"/>
          <p:cNvPicPr/>
          <p:nvPr/>
        </p:nvPicPr>
        <p:blipFill>
          <a:blip r:embed="rId1"/>
          <a:stretch/>
        </p:blipFill>
        <p:spPr>
          <a:xfrm>
            <a:off x="2071800" y="2428920"/>
            <a:ext cx="53578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ксперимент С.Аша (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sch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, 1951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71468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является ли конформность по отношению к мнению малознакомых людей, если оцениваемый стимул поддается 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однозначно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нтерпретации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Участник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эксперимента: 8 человек мужского пола (7 – в сговоре с экспериментатором, 1 – «наивный субъект»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Легенд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эксперимент направлен на исследование особенностей визуального оценивани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Эксперимент С.Аша -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тимульный материа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8" name="Рисунок 11" descr="background283.png"/>
          <p:cNvPicPr/>
          <p:nvPr/>
        </p:nvPicPr>
        <p:blipFill>
          <a:blip r:embed="rId1"/>
          <a:stretch/>
        </p:blipFill>
        <p:spPr>
          <a:xfrm>
            <a:off x="7072200" y="1000080"/>
            <a:ext cx="1677960" cy="197964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13" descr="i2.jpg"/>
          <p:cNvPicPr/>
          <p:nvPr/>
        </p:nvPicPr>
        <p:blipFill>
          <a:blip r:embed="rId2"/>
          <a:stretch/>
        </p:blipFill>
        <p:spPr>
          <a:xfrm>
            <a:off x="642960" y="2786040"/>
            <a:ext cx="5799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ксперимент С.Аша: результат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4268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мерно 30% испытуемых давали неверную оценку, совпадающую с оценками «подставной группы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уденты из контрольной группы, отвечавшие на вопрос конфиденциально, практически не допускали ошибок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70% студентов по меньшей мере один раз проявили конформно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олько 25% сохраняли независимость суждений в ситуации группового давл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циальная поддержка: снижение конформности до 6%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чины конформ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ах быть отвергнутым членами групп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емление добиться признания в групп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лание человека соответствовать ожиданиям других люд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еханизмы конформ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99800"/>
            <a:ext cx="822960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Нормативное влиян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мнение, высказываемое большинством, становится 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групповой нормо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торой следуют все члены групп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Информационное влиян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проявляется в тех случаях, когда необходимо вынести суждение относительно сложных (незнакомых) объектов (то есть в ситуациях неопределенности), а члены группы воспринимаются как  эксперт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Факторы конформ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Georgia"/>
              </a:rPr>
              <a:t>Индивидуальные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озрас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л (мужчины считают инакомыслие как способ выражения их компетентности, а женщины – умение сотрудничать и достигать согласия с другими членами группы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нтеллект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Лидерские качества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стойчивость к стрессу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тепень оценки собственной компетентности и восприятие индивидом компетентности большинств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Групповая сплочен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дна их важных характеристик малой группы, от которой зависит устойчивость структуры группы, способность оказывать сопротивление силам, направленным на ослабление внутригрупповых связей, и, в конечном итоге работоспособность группы. Результатом измерения групповой сплоченности являются индексы, которые носят название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эффициентов (индексов) сплоченност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Рисунок 3" descr="i10.jpg"/>
          <p:cNvPicPr/>
          <p:nvPr/>
        </p:nvPicPr>
        <p:blipFill>
          <a:blip r:embed="rId1"/>
          <a:stretch/>
        </p:blipFill>
        <p:spPr>
          <a:xfrm>
            <a:off x="6715080" y="928800"/>
            <a:ext cx="2303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Факторы конформ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Групповы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еличина группы (достаточно 3-4 человек, единодушно выражающих свое мнение, является максимальным при размере группы 5-8 человек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рупповая сплоченно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днородность группы по какому-либо признак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иды конформ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1" name="Содержимое 4" descr=""/>
          <p:cNvPicPr/>
          <p:nvPr/>
        </p:nvPicPr>
        <p:blipFill>
          <a:blip r:embed="rId1"/>
          <a:stretch/>
        </p:blipFill>
        <p:spPr>
          <a:xfrm>
            <a:off x="450720" y="1762200"/>
            <a:ext cx="82551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озитивные функции группового давл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мощь группе в достижении целей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мощь группе в сохранении себя как целого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мощь отдельным членам группы в выработке точки отсчета, с которой в дальнейшем они могут соотносить свои мнения, суждения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мощь членам группы в определении своего отношения к социальному окружению ( это обеспечивает согласованность групповых действий, адаптацию группы в социуме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Групповое давление и эффективность деятельности группы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642760"/>
            <a:ext cx="822960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экстремально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ситуации единство необходимо для сохранения и выживания групп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стабильно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ситуации единогласное принятие групповых норм может стать фактором регресса и развития деструктивных процессов в групп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Нормативное влияние меньшинств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ы в группе, которые обеспечивают развитие, изменение групповых норм и препятствуют возникновению засто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сине-зеленый эксперимент» С.Московичи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Moscovici , Lage , Naffrechoux , 1969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«Сине-зеленый» эксперимент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Группа испытуемы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з 6 человек: 2 «сообщника» и 4 «наивных субъекта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Стимульный материал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слайды голубого цвета, которые сообщники при каждом предъявлении называли зелены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Результат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8,42% выборов в экспериментальной группе – зеленый. В то время как в контрольной группе – 0,25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оведенческий стиль меньшинств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стойчивость повед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веренность в правоте своей пози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ложение и структурирование соответствующих аргумент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группе, где сообщники вместо постоянного ответа «зеленый» в одних случаях говорили «зеленый», а в других – «голубой», показатель их влияния снизился до 1.25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диосинкразический кредит (Е.Холландер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руппа позволяет своим членам тем большее отклонение от групповых норм, чем больший вклад в достижение групповых целей они вносят. Это своеобразное разрешение на девиантное повед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кольку лидер сильнее других членов группы ориентирован на группу, обладает наибольшей компетентностью в групповой задаче, то ему позволено отклоняться от групповых норм, если это способствует достижению групповых цел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плоченность как высокая контактност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акое понимание сплоченности основывается на гипотезе Г.Хоуманса о том, что между количеством, частотой и интенсивностью коммуникаций (взаимодействий) в группе и ее сплоченностью существует прямая связь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Методика измер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схема наблюдения за взаимодействием в группе Р.Бейл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оциометрический подход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основе предположения о связи между групповой сплоченностью и количеством и силой взаимных положительных или отрицательных выборов (Дж. Морено), то есть, сплоченность связана с уровнем развития межличностных отношений и эмоциональной окраской первичных связ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Georgia"/>
              </a:rPr>
              <a:t>Методика измер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 социометрический тес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плоченность как величина привлекательности группы для ее членов (Л.Фестингер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ходя из представления о сплоченности как взаимной симпатии, привлекательности или тяготения членов группы друг к другу, Е.Аронсон и Д.Линдер предлагали членам группы оценить друг друга по 21-балльной шкале от –10 («очень не нравится») до +10 («очень нравится»). Среднее арифметическое оценок всех членов группы и принималось ими за показатель сплоченнос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плоченность как ценностно-ориентационное единство (А.В.Петровский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ценностно-ориентационное единство (ЦОЕ) - совпадение оценок и установок группы по отношению к объектам, значимым для группы в целом и относящимся к существенным сторонам ее совместной целенаправленной деятельности, и осознание этого согласи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оцедура измерения ЦОЕ: членов группы  просят проранжировать ряд качеств (или объектов). Уровень сплоченности группы определяется как мера сходства рядов оценок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Групповые нор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1468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пределяют стандарты поведения в группе и служат регулятором внутригрупповых отношени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ормы есть продукт социального взаимодействия, возникают в процессе жизнедеятельности группы либо вводятся более крупной социальной общностью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ормы формируются лишь относительно действий, имеющих значимость для группы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ормы различаются по степени допускаемой девиантности и диапазону применяемых санкци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пределение поняти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ормиз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ормно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ормное повед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Рисунок 3" descr="i1.jpg"/>
          <p:cNvPicPr/>
          <p:nvPr/>
        </p:nvPicPr>
        <p:blipFill>
          <a:blip r:embed="rId1"/>
          <a:stretch/>
        </p:blipFill>
        <p:spPr>
          <a:xfrm>
            <a:off x="2214720" y="3857760"/>
            <a:ext cx="40240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пределение поняти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4268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Конформиз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от позднелат. conformis —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обный, сообразный), мораль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литический термин, обозначающ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способленчество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ассивное принятие существующего порядка вещей, господствующих мнени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 собственной пози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БСЭ, Кон И.С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Рисунок 3" descr="conformity_115465-e1295477342998.jpg"/>
          <p:cNvPicPr/>
          <p:nvPr/>
        </p:nvPicPr>
        <p:blipFill>
          <a:blip r:embed="rId1"/>
          <a:stretch/>
        </p:blipFill>
        <p:spPr>
          <a:xfrm>
            <a:off x="6000840" y="642960"/>
            <a:ext cx="28875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04:14:43Z</dcterms:created>
  <dc:creator>1</dc:creator>
  <dc:description/>
  <dc:language>en-US</dc:language>
  <cp:lastModifiedBy>nebom zav</cp:lastModifiedBy>
  <dcterms:modified xsi:type="dcterms:W3CDTF">2015-04-16T10:00:57Z</dcterms:modified>
  <cp:revision>27</cp:revision>
  <dc:subject/>
  <dc:title>Социальная психология</dc:title>
</cp:coreProperties>
</file>