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7EB-BA4B-4F9E-8E62-45288F63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61F-0967-4DD1-BE78-490C25A7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1B9-E9A8-40C5-9B43-28B95DE2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EEA-3549-4C4E-9B3D-4730EAE2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7167-DF5D-442D-BC77-A93B47BC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96E9-F518-4FD2-AE14-E476D95B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5289-D579-497C-BE88-8E64A384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2E5F-28FF-4415-8045-E0DF12D8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55C5-367D-4E64-8F79-A1403A74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CD21-A3C8-4EC6-A708-886CD573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3BA8-E02B-4520-84E9-B114FD0F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982-C235-47D6-BD54-B02E9B8F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DA25-9726-4622-A918-C6C77132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A1CA-5A45-435B-BD7B-DB07BFBC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D41E-8021-4224-B15E-62A9322F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3132-E605-420F-9012-6E6D97ED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017A-23C1-4291-A67A-40D62A53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07512-7761-4022-B7CE-2386FB1C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5E938-6431-43E2-B119-9CCF15B2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46CBD-4B77-4014-A2A0-74743A5B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EA2A3-80B5-40C5-8F67-8B8203E3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736E0-9921-47AA-8F51-BB79F9EC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B12-5BB7-4DD8-B7C9-563DCCBB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33C52-1F26-49A1-8BA2-6155F5E1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6FAA8-3A6D-47F5-A325-D1F578B8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20220-F098-455D-8E6A-21B1E657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1269F-2671-4AFB-8F08-7200599A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853F5-54F0-4753-BDFB-F2897BB7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A934B-F38F-4F63-BD25-E4047380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CBCBE-8962-4322-B0EA-C3233C4E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13FCD-4159-45DB-81B2-933B98E1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835AA-FC50-4345-9525-ADA03D34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5CCCC-F4C8-485E-816F-3A8560F6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6F7-33C7-4D54-ABE6-34792185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5DC33-9B9F-4FAB-91E7-E338A221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79388-BD51-482E-8BA6-5F9862CF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C9562-E429-4D9F-A818-F78F2638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6B8FD-9D57-4D75-807F-25ECA282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AAFFE-C8EB-4D5C-8FA2-DFB67653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32DFB-B0A0-4D44-9C71-D6B3A1C8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3C1C5-25A6-4DF9-991F-C5C6861E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847D8-5F68-4909-B76B-0CA96463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C3141-0FFA-4D9B-B8B5-F8EA9830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D12-52F4-4F97-B92F-92413BB8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F11-1DBC-4AFF-9D98-453E608D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C47-EF88-4151-AF94-02489280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DDC-44D4-4DF4-831B-3F752DD6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742-E936-45F6-92CF-B3EFEAD0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EE7F-9021-4E59-AB79-1C9F8A48213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24CD-4421-454E-8640-D36FEAA21E2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B5CE-C887-42A1-AFD9-2B7D47A07F9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70B9-39F3-400A-83F0-0F646261755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#ym_playback=linkmap&amp;ym_cid=26448765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Социальная психологи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Групповая сплоченнос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777840" y="6458040"/>
            <a:ext cx="168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67afbd"/>
                </a:solidFill>
                <a:uFillTx/>
                <a:latin typeface="Arial"/>
                <a:hlinkClick r:id="rId1"/>
              </a:rPr>
              <a:t>Бесплатные презент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prezentacija.biz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пределение поняти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99800"/>
            <a:ext cx="822960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вления, изучаемые в социальной психолог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Выноска со стрелкой вниз 4"/>
          <p:cNvSpPr/>
          <p:nvPr/>
        </p:nvSpPr>
        <p:spPr>
          <a:xfrm>
            <a:off x="642960" y="2286000"/>
            <a:ext cx="8001000" cy="2071800"/>
          </a:xfrm>
          <a:prstGeom prst="downArrowCallout">
            <a:avLst>
              <a:gd name="adj1" fmla="val -23310"/>
              <a:gd name="adj2" fmla="val 24995"/>
              <a:gd name="adj3" fmla="val 25000"/>
              <a:gd name="adj4" fmla="val 6497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Конформность    Конформно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(реакции)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пределение поняти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Конформное поведение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менение поведения или убеждений индивида в ответ на реальное или воображаемое групповое давление в тех ситуациях, когда нет прямого требования соглашаться с группо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Конформность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устойчивое свойство личности, которое проявляется в конформном поведении в разнообразных ситуация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Эксперименты по исследованию конформных реакций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узафер Шериф (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erif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1936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конформность может проявляться в группе, состоящей их незнакомых люд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ля проведения эксперимента использовался 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аутокинетический эффек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иллюзия видимого движения неподвижного источника света, наблюдение за которым ведется в абсолютно темной комна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езультаты эксперимента М.Шериф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4" name="Содержимое 3" descr="sherif-results-2.jpg"/>
          <p:cNvPicPr/>
          <p:nvPr/>
        </p:nvPicPr>
        <p:blipFill>
          <a:blip r:embed="rId1"/>
          <a:stretch/>
        </p:blipFill>
        <p:spPr>
          <a:xfrm>
            <a:off x="2071800" y="2428920"/>
            <a:ext cx="53578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ксперимент С.Аша (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sch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, 1951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71468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является ли конформность по отношению к мнению малознакомых людей, если оцениваемый стимул поддается 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однозначно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нтерпретации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Участник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эксперимента: 8 человек мужского пола (7 – в сговоре с экспериментатором, 1 – «наивный субъект»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Легенд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эксперимент направлен на исследование особенностей визуального оценивани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Эксперимент С.Аша -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тимульный материа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8" name="Рисунок 11" descr="background283.png"/>
          <p:cNvPicPr/>
          <p:nvPr/>
        </p:nvPicPr>
        <p:blipFill>
          <a:blip r:embed="rId1"/>
          <a:stretch/>
        </p:blipFill>
        <p:spPr>
          <a:xfrm>
            <a:off x="7072200" y="1000080"/>
            <a:ext cx="1677960" cy="197964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13" descr="i2.jpg"/>
          <p:cNvPicPr/>
          <p:nvPr/>
        </p:nvPicPr>
        <p:blipFill>
          <a:blip r:embed="rId2"/>
          <a:stretch/>
        </p:blipFill>
        <p:spPr>
          <a:xfrm>
            <a:off x="642960" y="2786040"/>
            <a:ext cx="5799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ксперимент С.Аша: результат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4268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мерно 30% испытуемых давали неверную оценку, совпадающую с оценками «подставной группы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уденты из контрольной группы, отвечавшие на вопрос конфиденциально, практически не допускали ошибок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70% студентов по меньшей мере один раз проявили конформно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олько 25% сохраняли независимость суждений в ситуации группового давл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циальная поддержка: снижение конформности до 6%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чины конформ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ах быть отвергнутым членами групп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емление добиться признания в групп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лание человека соответствовать ожиданиям других люд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еханизмы конформ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99800"/>
            <a:ext cx="822960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Нормативное влиян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мнение, высказываемое большинством, становится 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групповой нормо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торой следуют все члены групп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Информационное влиян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проявляется в тех случаях, когда необходимо вынести суждение относительно сложных (незнакомых) объектов (то есть в ситуациях неопределенности), а члены группы воспринимаются как  эксперт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Факторы конформ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Georgia"/>
              </a:rPr>
              <a:t>Индивидуальные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озрас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л (мужчины считают инакомыслие как способ выражения их компетентности, а женщины – умение сотрудничать и достигать согласия с другими членами группы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нтеллек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Лидерские качеств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стойчивость к стрессу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тепень оценки собственной компетентности и восприятие индивидом компетентности большинств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Групповая сплочен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дна их важных характеристик малой группы, от которой зависит устойчивость структуры группы, способность оказывать сопротивление силам, направленным на ослабление внутригрупповых связей, и, в конечном итоге работоспособность группы. Результатом измерения групповой сплоченности являются индексы, которые носят название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эффициентов (индексов) сплоченност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Рисунок 3" descr="i10.jpg"/>
          <p:cNvPicPr/>
          <p:nvPr/>
        </p:nvPicPr>
        <p:blipFill>
          <a:blip r:embed="rId1"/>
          <a:stretch/>
        </p:blipFill>
        <p:spPr>
          <a:xfrm>
            <a:off x="6715080" y="928800"/>
            <a:ext cx="2303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Факторы конформ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Групповы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еличина группы (достаточно 3-4 человек, единодушно выражающих свое мнение, является максимальным при размере группы 5-8 человек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рупповая сплоченно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днородность группы по какому-либо признак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иды конформ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1" name="Содержимое 4" descr=""/>
          <p:cNvPicPr/>
          <p:nvPr/>
        </p:nvPicPr>
        <p:blipFill>
          <a:blip r:embed="rId1"/>
          <a:stretch/>
        </p:blipFill>
        <p:spPr>
          <a:xfrm>
            <a:off x="450720" y="1762200"/>
            <a:ext cx="82551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озитивные функции группового давл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мощь группе в достижении целей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мощь группе в сохранении себя как целого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мощь отдельным членам группы в выработке точки отсчета, с которой в дальнейшем они могут соотносить свои мнения, суждения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мощь членам группы в определении своего отношения к социальному окружению ( это обеспечивает согласованность групповых действий, адаптацию группы в социуме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Групповое давление и эффективность деятельности группы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642760"/>
            <a:ext cx="822960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экстремально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ситуации единство необходимо для сохранения и выживания групп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стабильно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ситуации единогласное принятие групповых норм может стать фактором регресса и развития деструктивных процессов в групп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Нормативное влияние меньшинств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ы в группе, которые обеспечивают развитие, изменение групповых норм и препятствуют возникновению засто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сине-зеленый эксперимент» С.Московичи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Moscovici , Lage , Naffrechoux , 1969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«Сине-зеленый» эксперимент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Группа испытуемы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з 6 человек: 2 «сообщника» и 4 «наивных субъекта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Стимульный материал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слайды голубого цвета, которые сообщники при каждом предъявлении называли зелены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Результат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8,42% выборов в экспериментальной группе – зеленый. В то время как в контрольной группе – 0,25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оведенческий стиль меньшинств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стойчивость повед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веренность в правоте своей пози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ложение и структурирование соответствующих аргумент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группе, где сообщники вместо постоянного ответа «зеленый» в одних случаях говорили «зеленый», а в других – «голубой», показатель их влияния снизился до 1.25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диосинкразический кредит (Е.Холландер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руппа позволяет своим членам тем большее отклонение от групповых норм, чем больший вклад в достижение групповых целей они вносят. Это своеобразное разрешение на девиантное повед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кольку лидер сильнее других членов группы ориентирован на группу, обладает наибольшей компетентностью в групповой задаче, то ему позволено отклоняться от групповых норм, если это способствует достижению групповых цел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плоченность как высокая контактност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акое понимание сплоченности основывается на гипотезе Г.Хоуманса о том, что между количеством, частотой и интенсивностью коммуникаций (взаимодействий) в группе и ее сплоченностью существует прямая связь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Методика измер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схема наблюдения за взаимодействием в группе Р.Бейл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оциометрический подход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основе предположения о связи между групповой сплоченностью и количеством и силой взаимных положительных или отрицательных выборов (Дж. Морено), то есть, сплоченность связана с уровнем развития межличностных отношений и эмоциональной окраской первичных связ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Методика измер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социометрический тес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плоченность как величина привлекательности группы для ее членов (Л.Фестингер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ходя из представления о сплоченности как взаимной симпатии, привлекательности или тяготения членов группы друг к другу, Е.Аронсон и Д.Линдер предлагали членам группы оценить друг друга по 21-балльной шкале от –10 («очень не нравится») до +10 («очень нравится»). Среднее арифметическое оценок всех членов группы и принималось ими за показатель сплоченнос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плоченность как ценностно-ориентационное единство (А.В.Петровский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ценностно-ориентационное единство (ЦОЕ) - совпадение оценок и установок группы по отношению к объектам, значимым для группы в целом и относящимся к существенным сторонам ее совместной целенаправленной деятельности, и осознание этого согласи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оцедура измерения ЦОЕ: членов группы  просят проранжировать ряд качеств (или объектов). Уровень сплоченности группы определяется как мера сходства рядов оценок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Групповые нор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1468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пределяют стандарты поведения в группе и служат регулятором внутригрупповых отношени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ормы есть продукт социального взаимодействия, возникают в процессе жизнедеятельности группы либо вводятся более крупной социальной общностью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ормы формируются лишь относительно действий, имеющих значимость для группы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ормы различаются по степени допускаемой девиантности и диапазону применяемых санкци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пределение поняти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ормиз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ормно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ормное повед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Рисунок 3" descr="i1.jpg"/>
          <p:cNvPicPr/>
          <p:nvPr/>
        </p:nvPicPr>
        <p:blipFill>
          <a:blip r:embed="rId1"/>
          <a:stretch/>
        </p:blipFill>
        <p:spPr>
          <a:xfrm>
            <a:off x="2214720" y="3857760"/>
            <a:ext cx="40240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пределение поняти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4268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Конформиз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от позднелат. conformis —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обный, сообразный), мораль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литический термин, обозначающ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способленчество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ассивное принятие существующего порядка вещей, господствующих мнени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 собственной пози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БСЭ, Кон И.С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Рисунок 3" descr="conformity_115465-e1295477342998.jpg"/>
          <p:cNvPicPr/>
          <p:nvPr/>
        </p:nvPicPr>
        <p:blipFill>
          <a:blip r:embed="rId1"/>
          <a:stretch/>
        </p:blipFill>
        <p:spPr>
          <a:xfrm>
            <a:off x="6000840" y="642960"/>
            <a:ext cx="28875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04:14:43Z</dcterms:created>
  <dc:creator>1</dc:creator>
  <dc:description/>
  <dc:language>en-US</dc:language>
  <cp:lastModifiedBy>nebom zav</cp:lastModifiedBy>
  <dcterms:modified xsi:type="dcterms:W3CDTF">2015-04-16T10:00:57Z</dcterms:modified>
  <cp:revision>27</cp:revision>
  <dc:subject/>
  <dc:title>Социальная психология</dc:title>
</cp:coreProperties>
</file>