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9FCB-E1A1-4FD4-940F-D52444CB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168-2242-4D13-8FD4-CCD53264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180-A65B-4AEA-80AB-9F12FA14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23B-40DA-43C3-921E-E0028F74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5447-9A75-4343-BBD5-DE892793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FF80-2D26-4173-BA92-B3383D6A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00B7-3D45-441F-9169-41EC73E8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D7A0-C685-4D2C-BFDD-715792A5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7924-055D-4CCD-B51A-5890EC04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5208-2071-42B1-ABD9-6B511EA5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4F0C-A4C9-4C33-B24C-5D148D4D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3BC-BF25-4D8D-B1E1-546A1717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8DE6-A017-4EC8-9535-A167029C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ABA7-0E93-4787-B992-4BD7B8C1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80C0-FBFE-4E72-8D0E-5122DFDF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99C0-A644-4F4C-813C-90E60947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13F2-97DF-49A3-A402-B488F209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10C3C-047C-413E-A01E-AB26686D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68402-012B-436F-8844-DD0FFD07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CED7B-AF1F-4DBF-8638-DF808143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7A20C-9349-4CEE-B8C4-3981E51E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721F7-FBBD-4C0C-8C14-23E5A681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CD6-A20F-4564-96D9-D4CE16ED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FDACF-16A0-4F82-86AA-0E96125D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4CD51-1C43-4D46-99DB-D00FA815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2EE59-AED4-4027-A7EB-583C711F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98A65-CA5A-4789-B83A-D185A2F8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03E04-730D-43D6-AA6A-BEEF3511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88876-454D-4FF7-9A12-2463A7C9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F143F-96CD-40BD-B528-708F0631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177BF-24CB-4D06-A2C6-C90B025A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5B3C5-35F0-4A4A-BE17-BB7C0AEA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7F604-C066-4634-AF09-E5A72456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53FD-CBDE-4210-9CDF-63EA0E1C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773AA-F9CE-4090-96BD-F8D06F69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C52FC-F2F4-45BB-8203-376DB7EA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76450-8B1E-4062-B092-0568642B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F8571-3484-45DF-A2A4-1CFC2DE5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B1776-FBBB-4CB5-BD90-1581ACB3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101CD-84EA-47BE-A622-75A27F8D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17D1D-056E-47AA-BFDC-0B98733B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6D443-E78D-4EAD-84E1-9D33146C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845EF-69B7-4BE7-B987-1E20CA24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5C9-AC3C-4CBE-9B4C-B1381BF3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566-53E7-421C-8881-55AD9376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A63-8FC3-487C-B6D6-94D77416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443-F8C9-48D2-9540-6DA9F930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290-9336-4450-8500-6F140531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B6AB-6108-435C-A23C-5BBDA0B0201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72B6-B91C-4B10-B8C3-C04D1EE8A7D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2237-B023-4C4E-905D-356D39B6EBD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B979-DBE0-4CCF-891F-2082BF5AAB9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#ym_playback=linkmap&amp;ym_cid=26448765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Социальная психологи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Групповая сплоченнос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777840" y="6458040"/>
            <a:ext cx="168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67afbd"/>
                </a:solidFill>
                <a:uFillTx/>
                <a:latin typeface="Arial"/>
                <a:hlinkClick r:id="rId1"/>
              </a:rPr>
              <a:t>Бесплатные презент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prezentacija.biz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пределение поняти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99800"/>
            <a:ext cx="822960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явления, изучаемые в социальной психолог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Выноска со стрелкой вниз 4"/>
          <p:cNvSpPr/>
          <p:nvPr/>
        </p:nvSpPr>
        <p:spPr>
          <a:xfrm>
            <a:off x="642960" y="2286000"/>
            <a:ext cx="8001000" cy="2071800"/>
          </a:xfrm>
          <a:prstGeom prst="downArrowCallout">
            <a:avLst>
              <a:gd name="adj1" fmla="val -23310"/>
              <a:gd name="adj2" fmla="val 24995"/>
              <a:gd name="adj3" fmla="val 25000"/>
              <a:gd name="adj4" fmla="val 6497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Конформность    Конформное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(реакции)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пределение поняти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Конформное поведение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менение поведения или убеждений индивида в ответ на реальное или воображаемое групповое давление в тех ситуациях, когда нет прямого требования соглашаться с группо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Конформность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устойчивое свойство личности, которое проявляется в конформном поведении в разнообразных ситуация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Эксперименты по исследованию конформных реакций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узафер Шериф (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erif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1936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конформность может проявляться в группе, состоящей их незнакомых люд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ля проведения эксперимента использовался 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аутокинетический эффек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иллюзия видимого движения неподвижного источника света, наблюдение за которым ведется в абсолютно темной комна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езультаты эксперимента М.Шериф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4" name="Содержимое 3" descr="sherif-results-2.jpg"/>
          <p:cNvPicPr/>
          <p:nvPr/>
        </p:nvPicPr>
        <p:blipFill>
          <a:blip r:embed="rId1"/>
          <a:stretch/>
        </p:blipFill>
        <p:spPr>
          <a:xfrm>
            <a:off x="2071800" y="2428920"/>
            <a:ext cx="53578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ксперимент С.Аша (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sch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, 1951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71468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является ли конформность по отношению к мнению малознакомых людей, если оцениваемый стимул поддается 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однозначно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нтерпретации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Участник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эксперимента: 8 человек мужского пола (7 – в сговоре с экспериментатором, 1 – «наивный субъект»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Легенд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эксперимент направлен на исследование особенностей визуального оценивани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Эксперимент С.Аша -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тимульный материа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8" name="Рисунок 11" descr="background283.png"/>
          <p:cNvPicPr/>
          <p:nvPr/>
        </p:nvPicPr>
        <p:blipFill>
          <a:blip r:embed="rId1"/>
          <a:stretch/>
        </p:blipFill>
        <p:spPr>
          <a:xfrm>
            <a:off x="7072200" y="1000080"/>
            <a:ext cx="1677960" cy="197964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13" descr="i2.jpg"/>
          <p:cNvPicPr/>
          <p:nvPr/>
        </p:nvPicPr>
        <p:blipFill>
          <a:blip r:embed="rId2"/>
          <a:stretch/>
        </p:blipFill>
        <p:spPr>
          <a:xfrm>
            <a:off x="642960" y="2786040"/>
            <a:ext cx="57992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ксперимент С.Аша: результат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4268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мерно 30% испытуемых давали неверную оценку, совпадающую с оценками «подставной группы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уденты из контрольной группы, отвечавшие на вопрос конфиденциально, практически не допускали ошибок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70% студентов по меньшей мере один раз проявили конформнос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олько 25% сохраняли независимость суждений в ситуации группового давл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циальная поддержка: снижение конформности до 6%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чины конформност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ах быть отвергнутым членами групп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емление добиться признания в групп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лание человека соответствовать ожиданиям других люд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еханизмы конформност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99800"/>
            <a:ext cx="822960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Нормативное влияни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мнение, высказываемое большинством, становится 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групповой нормо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торой следуют все члены групп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Информационное влияни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проявляется в тех случаях, когда необходимо вынести суждение относительно сложных (незнакомых) объектов (то есть в ситуациях неопределенности), а члены группы воспринимаются как  эксперт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Факторы конформност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Georgia"/>
              </a:rPr>
              <a:t>Индивидуальные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озрас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л (мужчины считают инакомыслие как способ выражения их компетентности, а женщины – умение сотрудничать и достигать согласия с другими членами группы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нтеллек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Лидерские качеств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Устойчивость к стрессу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тепень оценки собственной компетентности и восприятие индивидом компетентности большинств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Групповая сплочен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дна их важных характеристик малой группы, от которой зависит устойчивость структуры группы, способность оказывать сопротивление силам, направленным на ослабление внутригрупповых связей, и, в конечном итоге работоспособность группы. Результатом измерения групповой сплоченности являются индексы, которые носят название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эффициентов (индексов) сплоченност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Рисунок 3" descr="i10.jpg"/>
          <p:cNvPicPr/>
          <p:nvPr/>
        </p:nvPicPr>
        <p:blipFill>
          <a:blip r:embed="rId1"/>
          <a:stretch/>
        </p:blipFill>
        <p:spPr>
          <a:xfrm>
            <a:off x="6715080" y="928800"/>
            <a:ext cx="2303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Факторы конформност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Групповы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еличина группы (достаточно 3-4 человек, единодушно выражающих свое мнение, является максимальным при размере группы 5-8 человек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рупповая сплоченно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днородность группы по какому-либо признак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иды конформност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1" name="Содержимое 4" descr=""/>
          <p:cNvPicPr/>
          <p:nvPr/>
        </p:nvPicPr>
        <p:blipFill>
          <a:blip r:embed="rId1"/>
          <a:stretch/>
        </p:blipFill>
        <p:spPr>
          <a:xfrm>
            <a:off x="450720" y="1762200"/>
            <a:ext cx="82551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озитивные функции группового давл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7996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мощь группе в достижении целей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996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мощь группе в сохранении себя как целого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996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мощь отдельным членам группы в выработке точки отсчета, с которой в дальнейшем они могут соотносить свои мнения, суждения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996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мощь членам группы в определении своего отношения к социальному окружению ( это обеспечивает согласованность групповых действий, адаптацию группы в социуме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Групповое давление и эффективность деятельности группы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642760"/>
            <a:ext cx="822960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экстремально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ситуации единство необходимо для сохранения и выживания групп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стабильно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ситуации единогласное принятие групповых норм может стать фактором регресса и развития деструктивных процессов в групп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Нормативное влияние меньшинств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цессы в группе, которые обеспечивают развитие, изменение групповых норм и препятствуют возникновению засто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сине-зеленый эксперимент» С.Московичи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Moscovici , Lage , Naffrechoux , 1969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«Сине-зеленый» эксперимент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Группа испытуемы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з 6 человек: 2 «сообщника» и 4 «наивных субъекта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Стимульный материал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слайды голубого цвета, которые сообщники при каждом предъявлении называли зелены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Результат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8,42% выборов в экспериментальной группе – зеленый. В то время как в контрольной группе – 0,25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оведенческий стиль меньшинств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стойчивость повед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веренность в правоте своей пози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ложение и структурирование соответствующих аргумент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группе, где сообщники вместо постоянного ответа «зеленый» в одних случаях говорили «зеленый», а в других – «голубой», показатель их влияния снизился до 1.25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диосинкразический кредит (Е.Холландер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руппа позволяет своим членам тем большее отклонение от групповых норм, чем больший вклад в достижение групповых целей они вносят. Это своеобразное разрешение на девиантное повед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кольку лидер сильнее других членов группы ориентирован на группу, обладает наибольшей компетентностью в групповой задаче, то ему позволено отклоняться от групповых норм, если это способствует достижению групповых цел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плоченность как высокая контактност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акое понимание сплоченности основывается на гипотезе Г.Хоуманса о том, что между количеством, частотой и интенсивностью коммуникаций (взаимодействий) в группе и ее сплоченностью существует прямая связь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Методика измер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схема наблюдения за взаимодействием в группе Р.Бейлз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оциометрический подход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основе предположения о связи между групповой сплоченностью и количеством и силой взаимных положительных или отрицательных выборов (Дж. Морено), то есть, сплоченность связана с уровнем развития межличностных отношений и эмоциональной окраской первичных связ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Методика измер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социометрический тес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плоченность как величина привлекательности группы для ее членов (Л.Фестингер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ходя из представления о сплоченности как взаимной симпатии, привлекательности или тяготения членов группы друг к другу, Е.Аронсон и Д.Линдер предлагали членам группы оценить друг друга по 21-балльной шкале от –10 («очень не нравится») до +10 («очень нравится»). Среднее арифметическое оценок всех членов группы и принималось ими за показатель сплоченнос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плоченность как ценностно-ориентационное единство (А.В.Петровский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ценностно-ориентационное единство (ЦОЕ) - совпадение оценок и установок группы по отношению к объектам, значимым для группы в целом и относящимся к существенным сторонам ее совместной целенаправленной деятельности, и осознание этого согласи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оцедура измерения ЦОЕ: членов группы  просят проранжировать ряд качеств (или объектов). Уровень сплоченности группы определяется как мера сходства рядов оценок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Групповые норм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71468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пределяют стандарты поведения в группе и служат регулятором внутригрупповых отношени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ормы есть продукт социального взаимодействия, возникают в процессе жизнедеятельности группы либо вводятся более крупной социальной общностью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ормы формируются лишь относительно действий, имеющих значимость для группы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ормы различаются по степени допускаемой девиантности и диапазону применяемых санкци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пределение поняти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формиз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формно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формное повед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Рисунок 3" descr="i1.jpg"/>
          <p:cNvPicPr/>
          <p:nvPr/>
        </p:nvPicPr>
        <p:blipFill>
          <a:blip r:embed="rId1"/>
          <a:stretch/>
        </p:blipFill>
        <p:spPr>
          <a:xfrm>
            <a:off x="2214720" y="3857760"/>
            <a:ext cx="40240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пределение поняти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4268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Конформиз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от позднелат. conformis —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обный, сообразный), мораль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литический термин, обозначающ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способленчество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ассивное принятие существующего порядка вещей, господствующих мнени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 собственной позиц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БСЭ, Кон И.С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Рисунок 3" descr="conformity_115465-e1295477342998.jpg"/>
          <p:cNvPicPr/>
          <p:nvPr/>
        </p:nvPicPr>
        <p:blipFill>
          <a:blip r:embed="rId1"/>
          <a:stretch/>
        </p:blipFill>
        <p:spPr>
          <a:xfrm>
            <a:off x="6000840" y="642960"/>
            <a:ext cx="28875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04:14:43Z</dcterms:created>
  <dc:creator>1</dc:creator>
  <dc:description/>
  <dc:language>en-US</dc:language>
  <cp:lastModifiedBy>nebom zav</cp:lastModifiedBy>
  <dcterms:modified xsi:type="dcterms:W3CDTF">2015-04-16T10:00:57Z</dcterms:modified>
  <cp:revision>27</cp:revision>
  <dc:subject/>
  <dc:title>Социальная психология</dc:title>
</cp:coreProperties>
</file>