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8F3-70C1-4515-B83F-37EC8CCD37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AE0-2BD6-41CF-AEF5-78824D74952A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51E-3475-4F00-A304-BE1DBE36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7D3-690A-4378-AC5F-7093AA9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17C-7521-4B55-B82D-9556DBA5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9EE-06C8-4DDC-9EE9-62F85D32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069-1ACE-458D-964E-51F7A901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C656-898E-408A-ABF5-FABAB40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E08E-E38C-4D67-B0D4-016E7F6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36B1-9C49-42F4-8774-0616CB94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6D72-931A-4881-9792-47264674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8114-30CC-4BCB-AE8E-06048CF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685B-7B7C-4926-A4BB-F9B7393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C1C-74E6-4A1B-83E7-5D51BBE2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771-2AFE-49D4-8E6C-2FA36B50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EA1B-5430-4D53-9AA3-2527A6B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1B2-0D20-4D90-90B8-8240FBA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4E2C-2925-4394-8775-35BF6054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30C-C332-47C4-B0B7-C7D42719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F33-4768-4B14-ADB4-F8D85CC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DCE-FC83-4F10-B0EB-AFF0441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D35-FD30-4DC6-A9FC-6F12E9B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A27-06A6-41AF-882C-4FECDA20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F1B-01B5-40F3-8244-E56ED9B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CB8-6090-4079-9230-D7C5F24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347-F051-4DE1-81A5-D40CA0F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35D8-E634-4B56-86DE-CB66EDECA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DE0E-72CF-4F77-AF01-D108DB92EDE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ssdent.ru/an/?id=25&amp;lang=rus#&#1079;&#1073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69/996.htm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6;&#1083;&#1100;&#1079;&#1072;&amp;action=edit&amp;redlink=1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5145120"/>
            <a:ext cx="302400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улева Т.Г.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У «СОШ №42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.Петрозаводск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Республика Каре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доровье – это вершина, 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на которую каждый должен подняться сам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полости р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едства гигиены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ще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ные паст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жидкие средства    гигиены полости рта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флосы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убочист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жевательные резинки;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рригаторы, ёршики;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3" name="Picture 4" descr="brushing3-"/>
          <p:cNvPicPr/>
          <p:nvPr/>
        </p:nvPicPr>
        <p:blipFill>
          <a:blip r:embed="rId2"/>
          <a:stretch/>
        </p:blipFill>
        <p:spPr>
          <a:xfrm>
            <a:off x="4481640" y="2484360"/>
            <a:ext cx="44780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вторить!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2322360" y="3024360"/>
            <a:ext cx="4229280" cy="1844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971640" y="2573280"/>
            <a:ext cx="6929280" cy="301644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537000" y="3473280"/>
            <a:ext cx="1844640" cy="900360"/>
          </a:xfrm>
          <a:prstGeom prst="flowChartCollat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356000" y="2349360"/>
            <a:ext cx="1305000" cy="117720"/>
          </a:xfrm>
          <a:prstGeom prst="line">
            <a:avLst/>
          </a:prstGeom>
          <a:ln w="19080">
            <a:solidFill>
              <a:srgbClr val="35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3276360" y="2781360"/>
            <a:ext cx="103500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3494160" y="3611520"/>
            <a:ext cx="398520" cy="209520"/>
          </a:xfrm>
          <a:custGeom>
            <a:avLst/>
            <a:gdLst>
              <a:gd name="textAreaLeft" fmla="*/ 0 w 398520"/>
              <a:gd name="textAreaRight" fmla="*/ 398880 w 398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51" h="132">
                <a:moveTo>
                  <a:pt x="251" y="132"/>
                </a:moveTo>
                <a:lnTo>
                  <a:pt x="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5003640" y="3716280"/>
            <a:ext cx="301680" cy="177840"/>
          </a:xfrm>
          <a:custGeom>
            <a:avLst/>
            <a:gdLst>
              <a:gd name="textAreaLeft" fmla="*/ 0 w 301680"/>
              <a:gd name="textAreaRight" fmla="*/ 302040 w 30168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90" h="112">
                <a:moveTo>
                  <a:pt x="0" y="112"/>
                </a:moveTo>
                <a:lnTo>
                  <a:pt x="190" y="0"/>
                </a:lnTo>
              </a:path>
            </a:pathLst>
          </a:custGeom>
          <a:noFill/>
          <a:ln cap="sq" w="12600">
            <a:solidFill>
              <a:srgbClr val="0033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Гигиена питания </a:t>
            </a:r>
            <a:br>
              <a:rPr sz="40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учает проблемы полноценной пищи и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ционального питания здорового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Следует остерегаться желудочно-кишечных расстройств 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заболеваний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льзя грызть ногти, принимать пищу грязными руками, нельзя пить грязную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оду, употреблять в пищу недоброкачественные и необработанные продукты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Чтобы защитить себя от этих болезней, необходимо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предохранять пищу и воду от насекомых, содержать дом в чистот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мыть любые фрукты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не хранить долго продукты перед приготовлением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терилизовать кухонные предметы, лучше в кипяченой воде;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- следить за своевременным удалением отходов и отбросов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</a:rPr>
              <a:t>При рвоте не следует употреблять тяжелую пищ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потребляйте питье маленькими порциями, через равные промежутки време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е солите пищу слишком обильно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етология изучает питание больных и разрабатывает принципы </a:t>
            </a:r>
            <a:br>
              <a:rPr sz="3200"/>
            </a:br>
            <a:r>
              <a:rPr b="0" lang="ru-RU" sz="32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лечебного питания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852280"/>
            <a:ext cx="421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зработ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ационального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анитарный контрол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лактик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ищевых отравлений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68936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серд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26920" y="299736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роккол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Молоко нежирно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Горбуша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Творог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32468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пищеварительный трак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4176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Пшеничная каш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Семечки подсолнечны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Цельнозерновой пшеничный хлеб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Картофель печеный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32480" y="1700280"/>
            <a:ext cx="4341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ммунную систе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3428640"/>
            <a:ext cx="3440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Семе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векла листовая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059280" y="2444760"/>
            <a:ext cx="58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к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3619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Молоко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ворог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Йогур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Сельд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40086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ять суперблюд, защищающих моз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3619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Шпинат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2.Тыква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3.Фасоль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4.Бана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5.Апельсиновый сок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64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596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Гигиена труда и отдых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536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екрасное средств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я работоспособност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профилактики утомления –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ый отдых и физические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пражнения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аксимальный уровень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вигательной активности у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кольников наблюдается в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нтервале 8-12 час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64000" y="2168640"/>
            <a:ext cx="3618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5280" y="152280"/>
            <a:ext cx="730872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ыть здоровым – 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начит жить в радо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11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Знание своего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ел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олости рт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питания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Гигиена труда и отдыха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рофилактика инфекционных заболеваний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Вредные привычки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итание и здоровье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516640" y="1943280"/>
            <a:ext cx="32544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омплекс упражнений физкультурных минуток (Ф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  для улучшения мозгового кровообращения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— сидя на стуле, 1-2 - отвести голову назад и плавно наклони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ад, 3-4 -  голову наклонить вперед, плечи не поднимать. Повторить 4-6 раз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плечевого пояса и рук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 п.-  стоя или сидя, кисти тыльной стороной на поясе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-2  -  свести локти вперед, голову наклонить вперед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  -  локти назад, прогнуться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, затем руки вниз и потрясти расслабленно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ФМ для снятия утомления с туловищ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.п.- стойка ноги врозь, 1-2 - наклон вперед, правая рука скользит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доль ноги вниз, левая, сгибаясь, вдоль тела вверх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3-4 – и.п., 5-8 - то же в другую сторону.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вторить 6-8 раз.   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филактика инфекционных заболеван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лучшение экологической ситуации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ение иммунитет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атуральные продукты питания и правильный рацион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Хорошее медобслуживание и вакцинация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каливание и занятия спортом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каз от вредных привычек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ачественные лекарства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ысокий уровень жизни людей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нижение нагрузки на детей, стрессы;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ём витаминов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дные привычк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—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распространённые действия, которые люди повторяют вновь и вновь, несмотря на то, что они не </a:t>
            </a:r>
            <a:r>
              <a:rPr b="0" lang="ru-RU" sz="2800" spc="-1" strike="noStrike" u="sng">
                <a:solidFill>
                  <a:srgbClr val="556575"/>
                </a:solidFill>
                <a:uFillTx/>
                <a:latin typeface="Times New Roman"/>
                <a:hlinkClick r:id="rId1"/>
              </a:rPr>
              <a:t>полезн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или даже вредны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вредным привычкам относят следующие действия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урение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лкоголиз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ркомания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нос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ногти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ызть карандаш или ручку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Цыкать зубом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Сплевывать на пол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выряние в ушах 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омпьютерная зависимость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Шопоголизм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rcRect l="0" t="0" r="1726" b="0"/>
          <a:stretch/>
        </p:blipFill>
        <p:spPr>
          <a:xfrm>
            <a:off x="4503600" y="2133720"/>
            <a:ext cx="43578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редные привыч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115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тча о таба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чень давно, когда табак только что был завезен в Армению из дальних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ран, у подножия Арарата жил один мудрый старец. Он невзлюбил эт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урманивающее растение и убеждал людей не пользоваться им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днажды он увидел, что вокруг купцов, разложивших товар, собралась толпа. Купцы кричали: «Божественный лист! Средство от всех болезней!»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дошел старец и сказал: «Этот «Божий лист» приносит людям и другую пользу: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 курящему в дом не войдет вор, его не укусит собака, он никогда не состарится»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пцы с радостью смотрели на него. «Ты прав, о мудрый старец!» – сказали о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о откуда ты знаешь о чудесных свойствах «Божественного листа»?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удрец пояснил: «Вор не войдет в дом курящему потому, что тот всю ночь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удет кашлять, а вор не любит входить в дом бодрствующего человека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ерез несколько лет курения человек ослабнет и будет ходить с палкой! И ег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танут бояться собаки. Наконец, он не состарится, ибо умрет в молодости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ошли крестьяне от купцов и задумались…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тание и здоровь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676160"/>
            <a:ext cx="8874000" cy="29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доровье школьников можно укрепить, не только грамотно дозируя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чебные нагрузки, подключив занятия спортом, но и с помощью правильно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рганизованного питания в школьной столовой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олезни органов пищеварения в структуре общей заболеваемости детей стоят на втором месте (после заболеваний органов дыхания)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кольное меню должно соответствовать потребностям детского организма и по составу (баланс белков, жиров, углеводов, витаминов и микроэлементов), и по энергетической насыщенност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3113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омнит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Девять десятых нашего счастья зависит от здоровья. 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Берегите здоровь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Что такое здоровь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полного физического, психического и социального благополучия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Физ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остояние органов и систем органов, жизненных   функций организм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сихическ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состояние психики, характеризующееся общим душевным равновесием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циальное здоровь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система мотивов и ценностей, регулирующих поведе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 здоровье люди думали и в древности, ведь пословицы- это народная мудр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Солнце, воздух и вода – наши лучшие друзья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Здоровье, физкультура и труд рядом иду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556f"/>
                </a:solidFill>
                <a:latin typeface="Times New Roman"/>
              </a:rPr>
              <a:t>Посеешь привычку – пожнешь характер; посеешь характер – пожнешь судьбу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 здоровом теле - здоровый дух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олову держи в холоде, а ноги в тепле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аболел живот, держи закрытым ро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Быстрого и ловкого болезнь не догонит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Землю сушит зной, человека болез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 слабому и болезнь пристает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оработал - отдохни;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Любящий чистоту – будет здоровым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т на свете прекраснее одёжи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м бронза мускулов и свежесть кожи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280" y="152280"/>
            <a:ext cx="7062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доровый образ жизни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– это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1) мировоззрение человека, которое складывается из знаний о здоровье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2) индивидуальная система поведения человека, направленная на сохранение и укрепление здоровья;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3) система жизнедеятельности человека, в которой главным составляющим является отказ от курения, алкоголя и диетическое питание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915920"/>
            <a:ext cx="3708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нание своего тела - знание своих пяти пальцев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4581360"/>
            <a:ext cx="370836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Каждый палец -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это живое существо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На ногтевых пластинах человека отражается состояние  внутренних орга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одольные коричневые полоски говорят о повышенном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одержании железа в организме, а также о гормональных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х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Синеватый и фиолетовый цвет ногтей сигнализирует о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адках в работе сердца, сердечной недостаточност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При заболеваниях щитовидной железы ногти бывают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елесым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Если ногти желтеют, то это грибковые заболевания или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епатит. Или же вы много курите и плохо моете рук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Белые точечки или полоски могут быть связаны с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ушениями в работе пищеварительной системы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Гигиена те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550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- это гармонично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заимодействие,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хранение и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совершенствование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всех систем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нашего 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организма.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524560" y="2276640"/>
            <a:ext cx="361944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Чем больше созидательных сил ты тратишь, тем больше сил тебе прибудет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3780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ые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екции и клубы дл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вершенствования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воего тела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нятия йогой,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портивной или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тяжелой атлетикой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50464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8:14:49Z</dcterms:created>
  <dc:creator>Рулева Т.Г.</dc:creator>
  <dc:description/>
  <cp:keywords>здоровье</cp:keywords>
  <dc:language>en-US</dc:language>
  <cp:lastModifiedBy>ZooM</cp:lastModifiedBy>
  <dcterms:modified xsi:type="dcterms:W3CDTF">2013-12-03T20:26:36Z</dcterms:modified>
  <cp:revision>31</cp:revision>
  <dc:subject>безопасная школа</dc:subject>
  <dc:title>здоровь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  <property fmtid="{D5CDD505-2E9C-101B-9397-08002B2CF9AE}" pid="3" name="здоровье">
    <vt:lpwstr>проект</vt:lpwstr>
  </property>
</Properties>
</file>