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444-C783-4EEB-8437-BA607F869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6A4D-78D2-48E0-B6A6-D500AE23B9E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ACC-FE6F-4814-AFBF-65F6A667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526-7169-4D3A-B19D-69B8610E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E4B-E37D-42CF-889D-6E37090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430-49AC-4F69-879D-ACE07654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2A64-011D-44AC-81C5-0B6EB368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82F-C9A6-480E-93B7-CE25AFD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9A83-ED61-4C5F-820F-AD11440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E49-F26E-4800-A82A-E307C1BE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A1F-8993-43D7-9831-6ACEB32C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D7BB-29CF-45B4-A681-F9E6F7B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BD97-8903-4BE0-8182-B2A9030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35D-D86A-4DEC-810D-55294B65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87A3-EA10-43F7-84BA-BC09B68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368-68F2-4D5B-BFEA-683F6B6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3BA-F9DE-4C0A-B7E6-E705DD54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716-CEF6-49C2-A45F-E04D6F35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2EE-1F83-46C0-A9C2-8A1B05BC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845-9430-4B41-8C2A-244CB30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A3D-3E85-42DA-8290-6D756843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EB9-84E5-4240-9B76-0AFA2DA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F66-8F2F-4603-89BD-25D3AEFC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ACF-0FA0-4287-9DBC-F01AB362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4DC-F177-46FA-AB18-59B0744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340-31F0-43F7-AD0D-9CF6AD0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5A0-993E-4628-8228-33F17034BF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767C-3C45-4244-B77D-8FD1AA8A2BB7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ssdent.ru/an/?id=25&amp;lang=rus#&#1079;&#107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69/996.htm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6;&#1083;&#1100;&#1079;&#1072;&amp;action=edit&amp;redlink=1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5145120"/>
            <a:ext cx="30240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улева Т.Г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У «СОШ №42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.Петрозаводск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доровье – это вершина, 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а которую каждый должен подняться сам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полости р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едства гигиены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ще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паст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жидкие средства    гигиены полости рта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флос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очис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жевательные резинки;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рригаторы, ёрши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3" name="Picture 4" descr="brushing3-"/>
          <p:cNvPicPr/>
          <p:nvPr/>
        </p:nvPicPr>
        <p:blipFill>
          <a:blip r:embed="rId2"/>
          <a:stretch/>
        </p:blipFill>
        <p:spPr>
          <a:xfrm>
            <a:off x="4481640" y="2484360"/>
            <a:ext cx="44780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вторить!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322360" y="3024360"/>
            <a:ext cx="4229280" cy="1844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971640" y="2573280"/>
            <a:ext cx="6929280" cy="301644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537000" y="3473280"/>
            <a:ext cx="1844640" cy="900360"/>
          </a:xfrm>
          <a:prstGeom prst="flowChartCollat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356000" y="2349360"/>
            <a:ext cx="1305000" cy="117720"/>
          </a:xfrm>
          <a:prstGeom prst="line">
            <a:avLst/>
          </a:prstGeom>
          <a:ln w="19080">
            <a:solidFill>
              <a:srgbClr val="35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3276360" y="2781360"/>
            <a:ext cx="103500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3494160" y="3611520"/>
            <a:ext cx="398520" cy="209520"/>
          </a:xfrm>
          <a:custGeom>
            <a:avLst/>
            <a:gdLst>
              <a:gd name="textAreaLeft" fmla="*/ 0 w 398520"/>
              <a:gd name="textAreaRight" fmla="*/ 398880 w 39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51" h="132">
                <a:moveTo>
                  <a:pt x="251" y="132"/>
                </a:move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5003640" y="3716280"/>
            <a:ext cx="301680" cy="177840"/>
          </a:xfrm>
          <a:custGeom>
            <a:avLst/>
            <a:gdLst>
              <a:gd name="textAreaLeft" fmla="*/ 0 w 301680"/>
              <a:gd name="textAreaRight" fmla="*/ 302040 w 3016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90" h="112">
                <a:moveTo>
                  <a:pt x="0" y="112"/>
                </a:moveTo>
                <a:lnTo>
                  <a:pt x="19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игиена питания </a:t>
            </a:r>
            <a:br>
              <a:rPr sz="40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учает проблемы полноценной пищи и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ционального питания здоров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ледует остерегаться желудочно-кишечных расстройств 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заболеваний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льзя грызть ногти, принимать пищу грязными руками, нельзя пить грязную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оду, употреблять в пищу недоброкачественные и необработанные продукт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Чтобы защитить себя от этих болезней, необходимо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редохранять пищу и воду от насекомых, содержать дом в чистот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мыть любые фрукты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не хранить долго продукты перед приготовлением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терилизовать кухонные предметы, лучше в кипяченой вод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ледить за своевременным удалением отходов и отбросов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При рвоте не следует употреблять тяжелую пищ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потребляйте питье маленькими порциями, через равные промежутки време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 солите пищу слишком обильно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етология изучает питание больных и разрабатывает принципы </a:t>
            </a:r>
            <a:br>
              <a:rPr sz="3200"/>
            </a:br>
            <a:r>
              <a:rPr b="0" lang="ru-RU" sz="32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лечебного питания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852280"/>
            <a:ext cx="421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зработ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ционального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анитарный контрол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лакти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ищевых отравлений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68936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серд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6920" y="299736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роккол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Молоко нежирно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Горбуша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Творог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32468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пищеварительный тра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417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Пшеничная каш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Семечки подсолнечны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Цельнозерновой пшеничный хлеб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Картофель печеный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32480" y="1700280"/>
            <a:ext cx="4341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ммунную систе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3428640"/>
            <a:ext cx="3440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Семе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векла листовая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059280" y="2444760"/>
            <a:ext cx="58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к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3619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ворог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Йогур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ельд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4008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моз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361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ыкв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Бана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64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596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труда и отды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36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екрасное средств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я работоспособност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профилактики утомления –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ый отдых и физические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пражнения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ксимальный уровен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вигательной активности у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кольников наблюдается в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нтервале 8-12 час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64000" y="2168640"/>
            <a:ext cx="3618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152280"/>
            <a:ext cx="7308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ыть здоровым – 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чит жить в рад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11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Знание своего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олости рт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руда и отдых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рофилактика инфекционных заболеваний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Вредные привы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итание и здоровь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16640" y="1943280"/>
            <a:ext cx="32544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омплекс упражнений физкультурных минуток (Ф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  для улучшения мозгового кровообращения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— сидя на стуле, 1-2 - отвести голову назад и плавно наклони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ад, 3-4 -  голову наклонить вперед, плечи не поднимать. Повторить 4-6 раз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плечевого пояса и рук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-  стоя или сидя, кисти тыльной стороной на поясе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-2  -  свести локти вперед, голову наклонить вперед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  -  локти назад, прогнуться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, затем руки вниз и потрясти расслабленно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туловищ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п.- стойка ноги врозь, 1-2 - наклон вперед, правая рука скользит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доль ноги вниз, левая, сгибаясь, вдоль тела вверх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 – и.п., 5-8 - то же в другую сторон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.   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филактика инфекционных заболева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лучшение экологической ситуации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е иммунитет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атуральные продукты питания и правильный рацион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Хорошее медобслуживание и вакцинация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каливание и занятия спортом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каз от вредных привычек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ачественные лекарств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ысокий уровень жизни людей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нижение нагрузки на детей, стрессы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ём витамин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дные привыч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—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распространённые действия, которые люди повторяют вновь и вновь, несмотря на то, что они не </a:t>
            </a: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полезн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ли даже вредны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вредным привычкам относят следующие действия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урение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коголиз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ркомания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нос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ногт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карандаш или ручк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Цыкать зубо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плевывать на пол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ушах 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мпьютерная зависимос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Шопоголизм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rcRect l="0" t="0" r="1726" b="0"/>
          <a:stretch/>
        </p:blipFill>
        <p:spPr>
          <a:xfrm>
            <a:off x="4503600" y="2133720"/>
            <a:ext cx="43578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редные привы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тча о таба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чень давно, когда табак только что был завезен в Армению из дальних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ран, у подножия Арарата жил один мудрый старец. Он невзлюбил эт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урманивающее растение и убеждал людей не пользоваться им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нажды он увидел, что вокруг купцов, разложивших товар, собралась толпа. Купцы кричали: «Божественный лист! Средство от всех болезней!»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дошел старец и сказал: «Этот «Божий лист» приносит людям и другую пользу: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 курящему в дом не войдет вор, его не укусит собака, он никогда не состарится»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пцы с радостью смотрели на него. «Ты прав, о мудрый старец!» – сказали о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о откуда ты знаешь о чудесных свойствах «Божественного листа»?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удрец пояснил: «Вор не войдет в дом курящему потому, что тот всю ночь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удет кашлять, а вор не любит входить в дом бодрствующего человека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ерез несколько лет курения человек ослабнет и будет ходить с палкой! И ег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анут бояться собаки. Наконец, он не состарится, ибо умрет в молодости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ошли крестьяне от купцов и задумались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тание и 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676160"/>
            <a:ext cx="8874000" cy="29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доровье школьников можно укрепить, не только грамотно дозируя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чебные нагрузки, подключив занятия спортом, но и с помощью правильн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рганизованного питания в школьной столовой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олезни органов пищеварения в структуре общей заболеваемости детей стоят на втором месте (после заболеваний органов дыхания)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кольное меню должно соответствовать потребностям детского организма и по составу (баланс белков, жиров, углеводов, витаминов и микроэлементов), и по энергетической насыщенност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3113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омнит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Девять десятых нашего счастья зависит от здоровья. 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Берегите здоровь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здоровь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полного физического, психического и социального благополуч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из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органов и систем органов, жизненных   функций организм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сих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состояние психики, характеризующееся общим душевным равновесие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циальн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истема мотивов и ценностей, регулирующих поведе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 здоровье люди думали и в древности, ведь пословицы- это народная мудр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Солнце, воздух и вода – наши лучшие друзья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Здоровье, физкультура и труд рядом иду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Посеешь привычку – пожнешь характер; посеешь характер – пожнешь судьбу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здоровом теле - здоровый дух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олову держи в холоде, а ноги в тепле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болел живот, держи закрытым ро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ыстрого и ловкого болезнь не догони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емлю сушит зной, человека болез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слабому и болезнь пристае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аботал - отдох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Любящий чистоту – будет здоровым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т на свете прекраснее одёжи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м бронза мускулов и свежесть кожи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062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доровый образ жизни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– это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) мировоззрение человека, которое складывается из знаний о здоровье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) индивидуальная система поведения человека, направленная на сохранение и укрепление здоровья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) система жизнедеятельности человека, в которой главным составляющим является отказ от курения, алкоголя и диетическое пита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370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нание своего тела - знание своих пяти пальцев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4581360"/>
            <a:ext cx="370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аждый палец -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это живое существо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а ногтевых пластинах человека отражается состояние  внутренних орга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одольные коричневые полоски говорят о повышенном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держании железа в организме, а также о гормональных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х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Синеватый и фиолетовый цвет ногтей сигнализирует 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адках в работе сердца, сердечной недостаточност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и заболеваниях щитовидной железы ногти бывают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елесым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Если ногти желтеют, то это грибковые заболевания ил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епатит. Или же вы много курите и плохо моете рук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Белые точечки или полоски могут быть связаны с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ми в работе пищеварительной системы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игиена те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50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- это гармонично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заимодействие,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хранение и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вершенствовани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сех систем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нашего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организма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524560" y="2276640"/>
            <a:ext cx="36194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Чем больше созидательных сил ты тратишь, тем больше сил тебе прибуде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378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ые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екции и клубы дл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вершенствовани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воего тел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нятия йогой,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ой ил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яжелой атлетикой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50464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8:14:49Z</dcterms:created>
  <dc:creator>Рулева Т.Г.</dc:creator>
  <dc:description/>
  <cp:keywords>здоровье</cp:keywords>
  <dc:language>en-US</dc:language>
  <cp:lastModifiedBy>ZooM</cp:lastModifiedBy>
  <dcterms:modified xsi:type="dcterms:W3CDTF">2013-12-03T20:26:36Z</dcterms:modified>
  <cp:revision>31</cp:revision>
  <dc:subject>безопасная школа</dc:subject>
  <dc:title>здоров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  <property fmtid="{D5CDD505-2E9C-101B-9397-08002B2CF9AE}" pid="3" name="здоровье">
    <vt:lpwstr>проект</vt:lpwstr>
  </property>
</Properties>
</file>