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7.jpeg" ContentType="image/jpeg"/>
  <Override PartName="/ppt/media/image11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png" ContentType="image/png"/>
  <Override PartName="/ppt/media/image6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4E3E4-38A3-4C96-BFAD-D62A13FF4F2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5F080-1F02-46C0-BEEC-944D8679382B}" type="slidenum"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8418-1D18-47A2-B38F-EEFFB07E9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18960" y="4143960"/>
            <a:ext cx="7391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EDA5-9DA9-424B-86CB-C5BFB2F31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896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0652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8C3C-0BA4-4574-9431-D3F1D288F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18080" y="16761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6840" y="16761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18960" y="41439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18080" y="41439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6840" y="41439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13C1-46A3-4594-A110-24065FA96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4E52A-2AA7-4B80-9744-3F168910F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F0E99-9384-43EC-8147-9004DCC27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1FDF7-4460-4F21-87AB-AE36961BD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7C7D6-B2B5-4E68-A91E-2D73FAAB5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3786C-9646-438F-A2EC-452DC9C48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18960" y="152280"/>
            <a:ext cx="739116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88061-3298-46CF-9798-E321E5E7A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896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49BD3-664F-4AAD-A235-39E65B6E5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BD30-F130-4A22-BFF6-70E582496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0652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4E284-5F03-4AB4-B7F2-C38DE33F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8960" y="4143960"/>
            <a:ext cx="7391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D3448-93F4-4946-BE49-F8450A3AA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8960" y="4143960"/>
            <a:ext cx="7391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7C59D-3633-48FC-BC8F-CEECC2DD0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896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0652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4C802-14AA-44CB-820C-FFC90A1B4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18080" y="16761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6840" y="16761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8960" y="41439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18080" y="41439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6840" y="41439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F6AAC-6D4F-4F8B-A871-23257B5EE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7F56-B56F-48F5-81FC-3959CD19C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5FCD-D0B5-4A1C-B931-C93D4318C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9D8A-73E0-4BAE-A005-6F7D5329C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8960" y="152280"/>
            <a:ext cx="739116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CB89-ED7B-4334-9ACB-C88982663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1896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BDC9-DB28-4B52-9E41-FB1E7A94B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0652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C879-5674-4692-8319-9FB8C85F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18960" y="4143960"/>
            <a:ext cx="7391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980F-1044-404E-9736-3BFFD42E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D5E09-5682-4865-BE0F-AF5EAC4BF1D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5EFA9-D93C-497A-89E5-3CCDA573CA64}" type="slidenum"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tssdent.ru/an/?id=25&amp;lang=rus#&#1079;&#1073;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cultinfo.ru/fulltext/1/001/008/069/996.htm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55;&#1086;&#1083;&#1100;&#1079;&#1072;&amp;action=edit&amp;redlink=1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59280" y="5145120"/>
            <a:ext cx="3024000" cy="132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Рулева Т.Г.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МОУ «СОШ №42»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г.Петрозаводск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Республика Карел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22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Times New Roman"/>
              </a:rPr>
              <a:t>Здоровье – это вершина, </a:t>
            </a:r>
            <a:br>
              <a:rPr sz="4400"/>
            </a:br>
            <a:r>
              <a:rPr b="1" lang="ru-RU" sz="4400" spc="-1" strike="noStrike">
                <a:solidFill>
                  <a:srgbClr val="003366"/>
                </a:solidFill>
                <a:latin typeface="Times New Roman"/>
              </a:rPr>
              <a:t>на которую каждый должен подняться сам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Гигиена полости рт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4346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Средства гигиены: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зубные щетки;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зубные пасты;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жидкие средства    гигиены полости рта;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флосы;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зубочистки;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556575"/>
                </a:solidFill>
                <a:uFillTx/>
                <a:latin typeface="Times New Roman"/>
                <a:hlinkClick r:id="rId1"/>
              </a:rPr>
              <a:t>жевательные резинки;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ирригаторы, ёршики;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13" name="Picture 4" descr="brushing3-"/>
          <p:cNvPicPr/>
          <p:nvPr/>
        </p:nvPicPr>
        <p:blipFill>
          <a:blip r:embed="rId2"/>
          <a:stretch/>
        </p:blipFill>
        <p:spPr>
          <a:xfrm>
            <a:off x="4481640" y="2484360"/>
            <a:ext cx="447804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63280" y="0"/>
            <a:ext cx="738036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Гимнастика для глаз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9280" y="1844280"/>
            <a:ext cx="8785440" cy="475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Повторить!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16" name="Oval 4"/>
          <p:cNvSpPr/>
          <p:nvPr/>
        </p:nvSpPr>
        <p:spPr>
          <a:xfrm>
            <a:off x="2322360" y="3024360"/>
            <a:ext cx="4229280" cy="18446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Oval 5"/>
          <p:cNvSpPr/>
          <p:nvPr/>
        </p:nvSpPr>
        <p:spPr>
          <a:xfrm>
            <a:off x="971640" y="2573280"/>
            <a:ext cx="6929280" cy="3016440"/>
          </a:xfrm>
          <a:prstGeom prst="ellipse">
            <a:avLst/>
          </a:prstGeom>
          <a:noFill/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3537000" y="3473280"/>
            <a:ext cx="1844640" cy="900360"/>
          </a:xfrm>
          <a:prstGeom prst="flowChartCollate">
            <a:avLst/>
          </a:prstGeom>
          <a:solidFill>
            <a:srgbClr val="8eb3c8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Line 7"/>
          <p:cNvSpPr/>
          <p:nvPr/>
        </p:nvSpPr>
        <p:spPr>
          <a:xfrm>
            <a:off x="4356000" y="2349360"/>
            <a:ext cx="1305000" cy="117720"/>
          </a:xfrm>
          <a:prstGeom prst="line">
            <a:avLst/>
          </a:prstGeom>
          <a:ln w="19080">
            <a:solidFill>
              <a:srgbClr val="3558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Line 8"/>
          <p:cNvSpPr/>
          <p:nvPr/>
        </p:nvSpPr>
        <p:spPr>
          <a:xfrm flipH="1">
            <a:off x="3276360" y="2781360"/>
            <a:ext cx="1035000" cy="142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Freeform 10"/>
          <p:cNvSpPr/>
          <p:nvPr/>
        </p:nvSpPr>
        <p:spPr>
          <a:xfrm>
            <a:off x="3494160" y="3611520"/>
            <a:ext cx="398520" cy="209520"/>
          </a:xfrm>
          <a:custGeom>
            <a:avLst/>
            <a:gdLst>
              <a:gd name="textAreaLeft" fmla="*/ 0 w 398520"/>
              <a:gd name="textAreaRight" fmla="*/ 398880 w 39852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251" h="132">
                <a:moveTo>
                  <a:pt x="251" y="132"/>
                </a:moveTo>
                <a:lnTo>
                  <a:pt x="0" y="0"/>
                </a:lnTo>
              </a:path>
            </a:pathLst>
          </a:custGeom>
          <a:noFill/>
          <a:ln cap="sq" w="12600">
            <a:solidFill>
              <a:srgbClr val="003366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Freeform 11"/>
          <p:cNvSpPr/>
          <p:nvPr/>
        </p:nvSpPr>
        <p:spPr>
          <a:xfrm>
            <a:off x="5003640" y="3716280"/>
            <a:ext cx="301680" cy="177840"/>
          </a:xfrm>
          <a:custGeom>
            <a:avLst/>
            <a:gdLst>
              <a:gd name="textAreaLeft" fmla="*/ 0 w 301680"/>
              <a:gd name="textAreaRight" fmla="*/ 302040 w 301680"/>
              <a:gd name="textAreaTop" fmla="*/ 0 h 177840"/>
              <a:gd name="textAreaBottom" fmla="*/ 177840 h 177840"/>
            </a:gdLst>
            <a:ahLst/>
            <a:rect l="textAreaLeft" t="textAreaTop" r="textAreaRight" b="textAreaBottom"/>
            <a:pathLst>
              <a:path w="190" h="112">
                <a:moveTo>
                  <a:pt x="0" y="112"/>
                </a:moveTo>
                <a:lnTo>
                  <a:pt x="190" y="0"/>
                </a:lnTo>
              </a:path>
            </a:pathLst>
          </a:custGeom>
          <a:noFill/>
          <a:ln cap="sq" w="12600">
            <a:solidFill>
              <a:srgbClr val="003366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Гигиена питания </a:t>
            </a:r>
            <a:br>
              <a:rPr sz="4000"/>
            </a:b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изучает проблемы полноценной пищи и 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рационального питания здорового челове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66"/>
                </a:solidFill>
                <a:uFillTx/>
                <a:latin typeface="Times New Roman"/>
              </a:rPr>
              <a:t>Следует остерегаться желудочно-кишечных расстройств и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66"/>
                </a:solidFill>
                <a:uFillTx/>
                <a:latin typeface="Times New Roman"/>
              </a:rPr>
              <a:t>заболеваний.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Нельзя грызть ногти, принимать пищу грязными руками, нельзя пить грязную 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воду, употреблять в пищу недоброкачественные и необработанные продукты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66"/>
                </a:solidFill>
                <a:uFillTx/>
                <a:latin typeface="Times New Roman"/>
              </a:rPr>
              <a:t>Чтобы защитить себя от этих болезней, необходимо: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- предохранять пищу и воду от насекомых, содержать дом в чистоте; 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- мыть любые фрукты; 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- не хранить долго продукты перед приготовлением; 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- стерилизовать кухонные предметы, лучше в кипяченой воде; 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- следить за своевременным удалением отходов и отбросов. 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66"/>
                </a:solidFill>
                <a:uFillTx/>
                <a:latin typeface="Times New Roman"/>
              </a:rPr>
              <a:t>При рвоте не следует употреблять тяжелую пищу.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Употребляйте питье маленькими порциями, через равные промежутки времени. 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Не солите пищу слишком обильно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19280" y="-360"/>
            <a:ext cx="7524720" cy="19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диетология изучает питание больных и разрабатывает принципы </a:t>
            </a:r>
            <a:br>
              <a:rPr sz="3200"/>
            </a:br>
            <a:r>
              <a:rPr b="0" lang="ru-RU" sz="3200" spc="-1" strike="noStrike" u="sng">
                <a:solidFill>
                  <a:srgbClr val="556575"/>
                </a:solidFill>
                <a:uFillTx/>
                <a:latin typeface="Times New Roman"/>
                <a:hlinkClick r:id="rId1"/>
              </a:rPr>
              <a:t>лечебного питания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-360" y="2852280"/>
            <a:ext cx="421164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разработка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рационального питания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санитарный контроль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профилактика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пищевых отравлений</a:t>
            </a: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2"/>
          <a:stretch/>
        </p:blipFill>
        <p:spPr>
          <a:xfrm>
            <a:off x="4284720" y="2276640"/>
            <a:ext cx="4689360" cy="35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Пять суперблюд, защищающих сердц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826920" y="2997360"/>
            <a:ext cx="3240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1.Шпина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2.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Брокколи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3.Молоко нежирное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4.Горбуша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5.Творог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4643280" y="1989000"/>
            <a:ext cx="4324680" cy="39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74072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Пять суперблюд, защищающих пищеварительный трак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4000" y="2707920"/>
            <a:ext cx="417672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1.Пшеничная каша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2.Семечки подсолнечные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3.Цельнозерновой пшеничный хлеб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4.Шпинат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5.Картофель печеный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4632480" y="1700280"/>
            <a:ext cx="434160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Пять суперблюд, защищающих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иммунную систему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3428640"/>
            <a:ext cx="344016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1.Семечки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2.Шпинат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3.Фасоль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4.Молоко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5.Свекла листовая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3059280" y="2444760"/>
            <a:ext cx="58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Пять суперблюд, защищающих кост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00000" y="2852280"/>
            <a:ext cx="361944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1.Молоко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2.Творог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3.Йогурт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4.Апельсиновый сок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5.Сельдь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4932360" y="1700280"/>
            <a:ext cx="400860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92000" y="-360"/>
            <a:ext cx="745164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Пять суперблюд, защищающих мозг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9640" y="2491920"/>
            <a:ext cx="361944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1.Шпинат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2.Тыква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3.Фасоль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4.Банан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5.Апельсиновый сок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4572000" y="1981080"/>
            <a:ext cx="4464000" cy="41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47280" y="152280"/>
            <a:ext cx="7596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Гигиена труда и отдых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536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Прекрасное средство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повышения работоспособности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и профилактики утомления –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активный отдых и физические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упражнения.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Максимальный уровень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двигательной активности у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школьников наблюдается в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интервале 8-12 часов.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5364000" y="2168640"/>
            <a:ext cx="3618000" cy="37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835280" y="152280"/>
            <a:ext cx="7308720" cy="12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Быть здоровым – </a:t>
            </a:r>
            <a:br>
              <a:rPr sz="4400"/>
            </a:b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значит жить в радост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51116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ahoma"/>
              </a:rPr>
              <a:t>Знание своего тела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ahoma"/>
              </a:rPr>
              <a:t>Гигиена тела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ahoma"/>
              </a:rPr>
              <a:t>Гигиена полости рта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ahoma"/>
              </a:rPr>
              <a:t>Гигиена питания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ahoma"/>
              </a:rPr>
              <a:t>Гигиена труда и отдыха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ahoma"/>
              </a:rPr>
              <a:t>Профилактика инфекционных заболеваний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ahoma"/>
              </a:rPr>
              <a:t>Вредные привычки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ahoma"/>
              </a:rPr>
              <a:t>Питание и здоровье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5516640" y="1943280"/>
            <a:ext cx="325440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Комплекс упражнений физкультурных минуток (ФМ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ФМ  для улучшения мозгового кровообращения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И. п.— сидя на стуле, 1-2 - отвести голову назад и плавно наклонить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назад, 3-4 -  голову наклонить вперед, плечи не поднимать. Повторить 4-6 раз.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ФМ для снятия утомления с плечевого пояса и рук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И. п.-  стоя или сидя, кисти тыльной стороной на поясе,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1-2  -  свести локти вперед, голову наклонить вперед,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3-4  -  локти назад, прогнуться.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Повторить 6-8 раз, затем руки вниз и потрясти расслабленно.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ФМ для снятия утомления с туловища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И.п.- стойка ноги врозь, 1-2 - наклон вперед, правая рука скользит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вдоль ноги вниз, левая, сгибаясь, вдоль тела вверх,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3-4 – и.п., 5-8 - то же в другую сторону.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Повторить 6-8 раз.   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47280" y="115560"/>
            <a:ext cx="759636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Профилактика инфекционных заболевани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Улучшение экологической ситуации;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Повышение иммунитета;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Натуральные продукты питания и правильный рацион;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Хорошее медобслуживание и вакцинация;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Закаливание и занятия спортом;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Отказ от вредных привычек;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Качественные лекарства;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Высокий уровень жизни людей;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Снижение нагрузки на детей, стрессы;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Приём витаминов.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редные привычки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—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распространённые действия, которые люди повторяют вновь и вновь, несмотря на то, что они не </a:t>
            </a:r>
            <a:r>
              <a:rPr b="0" lang="ru-RU" sz="2800" spc="-1" strike="noStrike" u="sng">
                <a:solidFill>
                  <a:srgbClr val="556575"/>
                </a:solidFill>
                <a:uFillTx/>
                <a:latin typeface="Times New Roman"/>
                <a:hlinkClick r:id="rId1"/>
              </a:rPr>
              <a:t>полезны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или даже вредны.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9647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К вредным привычкам относят следующие действия: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Курение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Алкоголизм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Наркомания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Ковыряние в носу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Грызть ногти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Грызть карандаш или ручку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Цыкать зубом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Сплевывать на пол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Ковыряние в ушах 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Компьютерная зависимость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Шопоголизм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2"/>
          <a:srcRect l="0" t="0" r="1726" b="0"/>
          <a:stretch/>
        </p:blipFill>
        <p:spPr>
          <a:xfrm>
            <a:off x="4503600" y="2133720"/>
            <a:ext cx="4357800" cy="44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Вредные привыч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752480" y="11556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Притча о табак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ahoma"/>
              </a:rPr>
              <a:t>        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Очень давно, когда табак только что был завезен в Армению из дальних 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стран, у подножия Арарата жил один мудрый старец. Он невзлюбил это 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одурманивающее растение и убеждал людей не пользоваться им. 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Однажды он увидел, что вокруг купцов, разложивших товар, собралась толпа. Купцы кричали: «Божественный лист! Средство от всех болезней!»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Подошел старец и сказал: «Этот «Божий лист» приносит людям и другую пользу: 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к курящему в дом не войдет вор, его не укусит собака, он никогда не состарится»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Купцы с радостью смотрели на него. «Ты прав, о мудрый старец!» – сказали они. 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–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Но откуда ты знаешь о чудесных свойствах «Божественного листа»? 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Мудрец пояснил: «Вор не войдет в дом курящему потому, что тот всю ночь 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будет кашлять, а вор не любит входить в дом бодрствующего человека. 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Через несколько лет курения человек ослабнет и будет ходить с палкой! И его 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станут бояться собаки. Наконец, он не состарится, ибо умрет в молодости… 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        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Отошли крестьяне от купцов и задумались… 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Питание и здоровь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8000" y="1676160"/>
            <a:ext cx="8874000" cy="29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Здоровье школьников можно укрепить, не только грамотно дозируя 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учебные нагрузки, подключив занятия спортом, но и с помощью правильно 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организованного питания в школьной столовой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Болезни органов пищеварения в структуре общей заболеваемости детей стоят на втором месте (после заболеваний органов дыхания). 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Школьное меню должно соответствовать потребностям детского организма и по составу (баланс белков, жиров, углеводов, витаминов и микроэлементов), и по энергетической насыщенности. 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2771640" y="4508640"/>
            <a:ext cx="311328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52480" y="0"/>
            <a:ext cx="739152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Помните!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3366"/>
                </a:solidFill>
                <a:latin typeface="Times New Roman"/>
              </a:rPr>
              <a:t>Девять десятых нашего счастья зависит от здоровья. </a:t>
            </a:r>
            <a:endParaRPr b="0" lang="en-US" sz="60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3366"/>
                </a:solidFill>
                <a:latin typeface="Times New Roman"/>
              </a:rPr>
              <a:t>Берегите здоровье!</a:t>
            </a:r>
            <a:endParaRPr b="0" lang="en-US" sz="60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imes New Roman"/>
              </a:rPr>
              <a:t>Спасибо за внимание!</a:t>
            </a:r>
            <a:endParaRPr b="0" lang="en-US" sz="60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Что такое здоровье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3366"/>
                </a:solidFill>
                <a:uFillTx/>
                <a:latin typeface="Times New Roman"/>
              </a:rPr>
              <a:t>Здоровье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– это состояние полного физического, психического и социального благополучия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Физическое здоровье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– это состояние органов и систем органов, жизненных   функций организма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Психическое здоровье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– состояние психики, характеризующееся общим душевным равновесием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Социальное здоровье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– это система мотивов и ценностей, регулирующих поведение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19280" y="-360"/>
            <a:ext cx="752472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Про здоровье люди думали и в древности, ведь пословицы- это народная мудрос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d556f"/>
                </a:solidFill>
                <a:latin typeface="Times New Roman"/>
              </a:rPr>
              <a:t>Солнце, воздух и вода – наши лучшие друзья;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d556f"/>
                </a:solidFill>
                <a:latin typeface="Times New Roman"/>
              </a:rPr>
              <a:t>Здоровье, физкультура и труд рядом идут;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d556f"/>
                </a:solidFill>
                <a:latin typeface="Times New Roman"/>
              </a:rPr>
              <a:t>Посеешь привычку – пожнешь характер; посеешь характер – пожнешь судьбу;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В здоровом теле - здоровый дух;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Голову держи в холоде, а ноги в тепле;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Заболел живот, держи закрытым рот;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Быстрого и ловкого болезнь не догонит;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Землю сушит зной, человека болезни;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К слабому и болезнь пристает;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Поработал - отдохни;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Любящий чистоту – будет здоровым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Нет на свете прекраснее одёжи,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Чем бронза мускулов и свежесть кожи.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47280" y="152280"/>
            <a:ext cx="70628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Здоровый образ жизни</a:t>
            </a: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3366"/>
                </a:solidFill>
                <a:latin typeface="Times New Roman"/>
              </a:rPr>
              <a:t>– это: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2060640"/>
            <a:ext cx="914400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1) мировоззрение человека, которое складывается из знаний о здоровье;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2) индивидуальная система поведения человека, направленная на сохранение и укрепление здоровья;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3) система жизнедеятельности человека, в которой главным составляющим является отказ от курения, алкоголя и диетическое питание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1915920"/>
            <a:ext cx="370836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Знание своего тела - знание своих пяти пальцев 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-360" y="4581360"/>
            <a:ext cx="3708360" cy="22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Каждый палец - 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это живое существо.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3724200" y="0"/>
            <a:ext cx="5419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19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На ногтевых пластинах человека отражается состояние  внутренних органов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988640"/>
            <a:ext cx="914400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- Продольные коричневые полоски говорят о повышенном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содержании железа в организме, а также о гормональных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нарушениях.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- Синеватый и фиолетовый цвет ногтей сигнализирует о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неполадках в работе сердца, сердечной недостаточности.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- При заболеваниях щитовидной железы ногти бывают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белесыми.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- Если ногти желтеют, то это грибковые заболевания или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гепатит. Или же вы много курите и плохо моете руки.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- Белые точечки или полоски могут быть связаны с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нарушениями в работе пищеварительной системы.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Гигиена тела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5508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Times New Roman"/>
              </a:rPr>
              <a:t>- это гармоничное 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Times New Roman"/>
              </a:rPr>
              <a:t>взаимодействие, 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Times New Roman"/>
              </a:rPr>
              <a:t>сохранение и 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Times New Roman"/>
              </a:rPr>
              <a:t>совершенствование 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Times New Roman"/>
              </a:rPr>
              <a:t>всех систем 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Times New Roman"/>
              </a:rPr>
              <a:t>нашего 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Times New Roman"/>
              </a:rPr>
              <a:t>организма.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5524560" y="2276640"/>
            <a:ext cx="361944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«Чем больше созидательных сил ты тратишь, тем больше сил тебе прибудет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378000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Спортивные 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секции и клубы для 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совершенствования 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своего тела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Занятия йогой, 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спортивной или 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тяжелой атлетикой. 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3851280" y="2133720"/>
            <a:ext cx="5046480" cy="33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4T18:14:49Z</dcterms:created>
  <dc:creator>Рулева Т.Г.</dc:creator>
  <dc:description/>
  <cp:keywords>здоровье</cp:keywords>
  <dc:language>en-US</dc:language>
  <cp:lastModifiedBy>ZooM</cp:lastModifiedBy>
  <dcterms:modified xsi:type="dcterms:W3CDTF">2013-12-03T20:26:36Z</dcterms:modified>
  <cp:revision>31</cp:revision>
  <dc:subject>безопасная школа</dc:subject>
  <dc:title>здоровь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271049</vt:lpwstr>
  </property>
  <property fmtid="{D5CDD505-2E9C-101B-9397-08002B2CF9AE}" pid="3" name="здоровье">
    <vt:lpwstr>проект</vt:lpwstr>
  </property>
</Properties>
</file>