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695-BED6-476E-B6B7-8AFCB8E2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8BF-2560-464B-9A99-D2635F75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A11-4692-4E50-B075-83E988E7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0EF-C9E3-47CF-8237-7CA3AC47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6B64-8D9A-497C-B526-4C475B2F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FECF-D0EE-4D18-A014-846F3578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D9B8-D235-4BB5-A85E-7AE5480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E177-26BE-4F1F-91AA-C836EE9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E453-B49C-4896-8C7B-D045F29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4BE0-24DD-40CA-9778-9477064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18C-7AFA-40CE-8E04-8DD040E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840-EA58-42DA-9781-09879ABB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C4D8-D48A-4717-AFCC-6AA2F734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5F5-5207-4487-8708-46AC0DF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118-6BCE-4301-A942-14F9DB80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270C-DDDA-418B-8F84-367C3042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61C-D0F5-459E-A6E6-1BC38698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F41-12BE-4BD5-84B7-130D583D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0E1-4D11-4907-997F-1531872C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84-F995-4F41-B2BF-CAE9FD78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607-F014-4E6F-A86E-3B42D03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949-D6D5-4F7B-BE66-251F688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404-7AFA-41C8-BBCC-2C6604F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23C-643C-4359-9C94-FB6F0E74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4397-5619-4641-83BB-99DDAF695BA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A15-0711-4FE1-B53A-C042065CD72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92;&#1080;&#1079;&#1084;&#1080;&#1085;&#1091;&#1090;&#1082;&#1072;-&#1095;&#1077;&#1083;&#1086;&#1074;&#1077;&#1082;/&#1055;&#1088;&#1077;&#1079;&#1077;&#1085;&#1090;&#1072;&#1094;&#1080;&#1103;-&#1092;&#1080;&#1079;&#1084;&#1080;&#1085;&#1091;&#1090;&#1082;&#1072;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eec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268200" y="66600"/>
            <a:ext cx="9424800" cy="2543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760" y="2487600"/>
            <a:ext cx="8286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итата из открытого письма президенту Медведе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В этой связи предлагаю проблему деградации здоровья детей в образовательных учрежден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с нашим участием) вынести на заседание Совета безопасности РФ.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азарный В. Ф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927000" y="146160"/>
            <a:ext cx="718668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100008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формат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изкультпаузы, которые я провожу в 10-11 классах, не являются для школы традиционными (как правило, в старших классах их мало кто практикует). Но такие минуты на уроке очень нравятся детям, проводятся всегда с удовольствием, поднимают настроение, снижают утомляемость и повышают познавательную активность. В зависимости от ситуации и степени напряженности работы, провожу на выбор: гимнастику по технологии В. Ф. Базарного, гимнастику для глаз,  просто физкультразминку, музыкальную паузу или даже минутный «сон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р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 воздействию на физическое здоровье во время урока истории относится прежде всего сохранение физических характеристик обучающихся: зрение, слух, осанка. Их сохранению способствует смена деятельности на уроке которую можно осуществить с помощью физкультминутки. Благодаря смене деятельности, урок, во-первых, проходит незаметно, быстро, потому что он интересен и многообразен, пестр по содержанию. Во-вторых, это необходимое условие сохранения здоровья на уроке истор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вестно, что музыка, хоровое пение является важнейшим средством формирования здорового человека, что образование начинается с музы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НАШИ  ДОКУМЕНТЫ\Мама\Фотографии\цветочки\P10204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-360" y="3642840"/>
            <a:ext cx="87296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21560" indent="-316440"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22960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00040" y="1428840"/>
            <a:ext cx="832968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анализ здоровья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организации школьного пит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участии школьников в соревнованиях «Спортивные надежды Кубан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ль физкультминуток на уро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 в периодической печа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здоровьесбережения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35712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15a2"/>
                </a:solidFill>
                <a:latin typeface="Times New Roman"/>
              </a:rPr>
              <a:t>Челове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высшее творение природы. Но для того, чтобы сполна наслаждаться ее сокровищами, он должен отвечать, по крайней мер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дному требованию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ть здоровы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C:\Documents and Settings\Мария\Рабочий стол\CIMG5172.jpg"/>
          <p:cNvPicPr/>
          <p:nvPr/>
        </p:nvPicPr>
        <p:blipFill>
          <a:blip r:embed="rId1"/>
          <a:stretch/>
        </p:blipFill>
        <p:spPr>
          <a:xfrm>
            <a:off x="5477040" y="571680"/>
            <a:ext cx="3666960" cy="5500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0" y="-231840"/>
            <a:ext cx="872964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-1146240" y="858960"/>
            <a:ext cx="1057608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90080" cy="18050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2357280"/>
            <a:ext cx="4714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статочная освещённость класс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хая  проветриваемость школьных помещ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равильная форма и величина школьных стол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а учебными занят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я школьного 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C:\Documents and Settings\Мария\Рабочий стол\DSC00431.jpg"/>
          <p:cNvPicPr/>
          <p:nvPr/>
        </p:nvPicPr>
        <p:blipFill>
          <a:blip r:embed="rId1"/>
          <a:stretch/>
        </p:blipFill>
        <p:spPr>
          <a:xfrm>
            <a:off x="4572000" y="250020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85840" y="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нализ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 «школьных болезней» приводит к заключению о неудовлетворительной организации обучения, приводящей к нарушению здоровья. К этим недостаткам образования, в частности,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-666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7120" y="13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выполнения упражнени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0" y="1714680"/>
            <a:ext cx="82296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желательно выполнять в позе свободного сто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ое упражнение базируетс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рительно-поисковых стимул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процессе зрительного поиска дети совершают сочетание движений головой, глазами туловищ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упражнений 1,5 – 2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выполняются в середине каждого урока, в тот момент, когда наблюдаются первые признаки утомления у школьников ( частая смена поз, отвлечение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Физкультмину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C:\Documents and Settings\Мама\Рабочий стол\Безымянный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186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8548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Использование на уроках физкультминуток позволяет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Включить в урок здоровьесберегающий компонен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Осуществить смену видов деятель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Использовать интеллектуальное наполнение либо «привязку» к теме уро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Documents and Settings\Мария\Рабочий стол\DSC00447.jpg"/>
          <p:cNvPicPr/>
          <p:nvPr/>
        </p:nvPicPr>
        <p:blipFill>
          <a:blip r:embed="rId1"/>
          <a:stretch/>
        </p:blipFill>
        <p:spPr>
          <a:xfrm>
            <a:off x="4788000" y="3679920"/>
            <a:ext cx="4141800" cy="310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7:59:54Z</dcterms:created>
  <dc:creator>Мария</dc:creator>
  <dc:description/>
  <dc:language>en-US</dc:language>
  <cp:lastModifiedBy>ZooM</cp:lastModifiedBy>
  <dcterms:modified xsi:type="dcterms:W3CDTF">2013-12-03T20:29:36Z</dcterms:modified>
  <cp:revision>115</cp:revision>
  <dc:subject/>
  <dc:title>Педсовет: «Здоровьесберегающие технологии в школе»</dc:title>
</cp:coreProperties>
</file>