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132-6228-41C0-8751-07DE4CB1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113-00FE-47B7-A157-EAA8E27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80B-1264-4963-BE4D-1B982DB2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ECF-3D6C-4106-828F-9EDF0728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F4D2-1D72-4581-B359-124D2C3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0B9-F780-4F4D-B0F9-D853550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BEA-A92A-4B88-A1FA-9111521A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2E32-395B-4648-8353-AA59EEC4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ED03-7917-4169-AD33-9475455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C3B-D192-49BE-ADF2-811E54D4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A9C-CAB6-4334-A12A-BFC2B8C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5FA-E9A5-415C-B7D5-202F7B9A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069-CBED-450A-A61E-F07E5DF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2C67-DDAB-4F54-94A5-8B3BFD8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5EE-3901-4B0F-A114-C047FA9E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E22-CB62-49D2-8C6D-AE609FE3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F266-285B-42A4-BB49-96C29D28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36A-6FC0-4D03-8610-98A718AD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363-3BBF-4F0A-BBCD-0E5FD32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CC2-06E7-48A9-A8AA-B5CD354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D02-C636-4A61-A827-6972110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89E-EC80-4944-B178-1B93CA79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2A9-1B1A-416D-8A77-D134AB7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5B2-4A20-4F1D-ADB0-C37A7B4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88D-E206-40D3-8F5E-EDBCA21BCFF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FCA-16F2-4659-BD56-0F6CAC99A2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92;&#1080;&#1079;&#1084;&#1080;&#1085;&#1091;&#1090;&#1082;&#1072;-&#1095;&#1077;&#1083;&#1086;&#1074;&#1077;&#1082;/&#1055;&#1088;&#1077;&#1079;&#1077;&#1085;&#1090;&#1072;&#1094;&#1080;&#1103;-&#1092;&#1080;&#1079;&#1084;&#1080;&#1085;&#1091;&#1090;&#1082;&#1072;.ppt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eec"/>
            </a:gs>
            <a:gs pos="100000">
              <a:srgbClr val="00b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268200" y="66600"/>
            <a:ext cx="9424800" cy="2543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760" y="2487600"/>
            <a:ext cx="8286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итата из открытого письма президенту Медведев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В этой связи предлагаю проблему деградации здоровья детей в образовательных учрежден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(с нашим участием) вынести на заседание Совета безопасности РФ.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азарный В. Ф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927000" y="146160"/>
            <a:ext cx="718668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0" y="100008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формат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изкультпаузы, которые я провожу в 10-11 классах, не являются для школы традиционными (как правило, в старших классах их мало кто практикует). Но такие минуты на уроке очень нравятся детям, проводятся всегда с удовольствием, поднимают настроение, снижают утомляемость и повышают познавательную активность. В зависимости от ситуации и степени напряженности работы, провожу на выбор: гимнастику по технологии В. Ф. Базарного, гимнастику для глаз,  просто физкультразминку, музыкальную паузу или даже минутный «сон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тор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 воздействию на физическое здоровье во время урока истории относится прежде всего сохранение физических характеристик обучающихся: зрение, слух, осанка. Их сохранению способствует смена деятельности на уроке которую можно осуществить с помощью физкультминутки. Благодаря смене деятельности, урок, во-первых, проходит незаметно, быстро, потому что он интересен и многообразен, пестр по содержанию. Во-вторых, это необходимое условие сохранения здоровья на уроке истор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зы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 algn="just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звестно, что музыка, хоровое пение является важнейшим средством формирования здорового человека, что образование начинается с музы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НАШИ  ДОКУМЕНТЫ\Мама\Фотографии\цветочки\P10204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-360" y="3642840"/>
            <a:ext cx="87296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21560" indent="-316440"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fffff"/>
                </a:solidFill>
                <a:latin typeface="Arial"/>
              </a:rPr>
              <a:t>Будьте здоровы!</a:t>
            </a:r>
            <a:endParaRPr b="0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229600" cy="133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00040" y="1428840"/>
            <a:ext cx="832968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анализ здоровья уча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организации школьного пит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 участии школьников в соревнованиях «Спортивные надежды Кубан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ль физкультминуток на уро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доровьесберегающие технологии в периодической печа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здоровьесбережения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357120"/>
            <a:ext cx="53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15a2"/>
                </a:solidFill>
                <a:latin typeface="Times New Roman"/>
              </a:rPr>
              <a:t>Челове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высшее творение природы. Но для того, чтобы сполна наслаждаться ее сокровищами, он должен отвечать, по крайней мере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дному требованию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371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ть здоровым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C:\Documents and Settings\Мария\Рабочий стол\CIMG5172.jpg"/>
          <p:cNvPicPr/>
          <p:nvPr/>
        </p:nvPicPr>
        <p:blipFill>
          <a:blip r:embed="rId1"/>
          <a:stretch/>
        </p:blipFill>
        <p:spPr>
          <a:xfrm>
            <a:off x="5477040" y="571680"/>
            <a:ext cx="3666960" cy="5500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0" y="-231840"/>
            <a:ext cx="8729640" cy="17985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"/>
          <p:cNvPicPr/>
          <p:nvPr/>
        </p:nvPicPr>
        <p:blipFill>
          <a:blip r:embed="rId2"/>
          <a:stretch/>
        </p:blipFill>
        <p:spPr>
          <a:xfrm>
            <a:off x="-1146240" y="858960"/>
            <a:ext cx="1057608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1e0"/>
            </a:gs>
            <a:gs pos="100000">
              <a:srgbClr val="eafb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90080" cy="18050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6284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-360" y="2357280"/>
            <a:ext cx="4714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достаточная освещённость класс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охая  проветриваемость школьных помещ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правильная форма и величина школьных стол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а учебными занят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я школьного 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C:\Documents and Settings\Мария\Рабочий стол\DSC00431.jpg"/>
          <p:cNvPicPr/>
          <p:nvPr/>
        </p:nvPicPr>
        <p:blipFill>
          <a:blip r:embed="rId1"/>
          <a:stretch/>
        </p:blipFill>
        <p:spPr>
          <a:xfrm>
            <a:off x="4572000" y="250020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85840" y="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нализ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чин «школьных болезней» приводит к заключению о неудовлетворительной организации обучения, приводящей к нарушению здоровья. К этим недостаткам образования, в частности,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0" y="-666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7120" y="13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ловия выполнения упражнени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0" y="1714680"/>
            <a:ext cx="822960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желательно выполнять в позе свободного стоя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аждое упражнение базируетс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зрительно-поисковых стимул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процессе зрительного поиска дети совершают сочетание движений головой, глазами туловищ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одолжительность упражнений 1,5 – 2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пражнения выполняются в середине каждого урока, в тот момент, когда наблюдаются первые признаки утомления у школьников ( частая смена поз, отвлечение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Физкультмину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C:\Documents and Settings\Мама\Рабочий стол\Безымянный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186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28548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Times New Roman"/>
              </a:rPr>
              <a:t>Использование на уроках физкультминуток позволяет</a:t>
            </a: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Включить в урок здоровьесберегающий компонент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Осуществить смену видов деятель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"/>
              </a:rPr>
              <a:t>Использовать интеллектуальное наполнение либо «привязку» к теме урок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Documents and Settings\Мария\Рабочий стол\DSC00447.jpg"/>
          <p:cNvPicPr/>
          <p:nvPr/>
        </p:nvPicPr>
        <p:blipFill>
          <a:blip r:embed="rId1"/>
          <a:stretch/>
        </p:blipFill>
        <p:spPr>
          <a:xfrm>
            <a:off x="4788000" y="3679920"/>
            <a:ext cx="4141800" cy="3106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7:59:54Z</dcterms:created>
  <dc:creator>Мария</dc:creator>
  <dc:description/>
  <dc:language>en-US</dc:language>
  <cp:lastModifiedBy>ZooM</cp:lastModifiedBy>
  <dcterms:modified xsi:type="dcterms:W3CDTF">2013-12-03T20:29:36Z</dcterms:modified>
  <cp:revision>115</cp:revision>
  <dc:subject/>
  <dc:title>Педсовет: «Здоровьесберегающие технологии в школе»</dc:title>
</cp:coreProperties>
</file>