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6090-40BD-4131-BC50-05C26AF0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741B-F11D-4001-AC5A-7E0715FB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3E0-3519-4917-890F-589A4D59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B27-7397-41DE-BEE5-4A366FE2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ADB1-F6C5-456E-8774-7BD1011C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C936-D76A-4B9B-977A-B4CA1127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0353-777E-4A39-9CB0-FF031DCD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ADA8-D586-478B-9C30-2982F540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7FA9-36D5-444E-BE46-FECF4411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6806-E979-4F70-BF10-A5E730F9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D3A7-345D-4A55-88D1-7481D51D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48C-24A6-4590-B3A3-F83A03E0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3877-F324-4657-B9D2-3D5E572C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CBC4-E5FA-4F9C-BBD4-25415764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D805-D235-458D-AA6A-77A118D0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F556-1DA7-46C5-8B93-C5A8CB09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2F12-B4AB-40B7-9075-78C01843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F7D-55E0-4D02-A8C1-96CE72D6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44C-093F-4777-BB12-02CD960D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FC0-2B4C-4338-8244-14A0E982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372-45BA-4DC8-95D1-691DCAF1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3CF-FF29-4647-A16B-3F442FD3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2E63-E12C-4E1E-B155-453A571E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029-AD1E-492C-AA32-51D0631F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3643-085D-480A-83B1-21EA08E4CE4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682B-F75E-4BF6-B358-D44465C7BD5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&#1092;&#1080;&#1079;&#1084;&#1080;&#1085;&#1091;&#1090;&#1082;&#1072;-&#1095;&#1077;&#1083;&#1086;&#1074;&#1077;&#1082;/&#1055;&#1088;&#1077;&#1079;&#1077;&#1085;&#1090;&#1072;&#1094;&#1080;&#1103;-&#1092;&#1080;&#1079;&#1084;&#1080;&#1085;&#1091;&#1090;&#1082;&#1072;.ppt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eec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-268200" y="66600"/>
            <a:ext cx="9424800" cy="2543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28760" y="2487600"/>
            <a:ext cx="8286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итата из открытого письма президенту Медведев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В этой связи предлагаю проблему деградации здоровья детей в образовательных учреждения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(с нашим участием) вынести на заседание Совета безопасности РФ.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Базарный В. Ф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927000" y="146160"/>
            <a:ext cx="718668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0" y="100008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нформати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 algn="just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Физкультпаузы, которые я провожу в 10-11 классах, не являются для школы традиционными (как правило, в старших классах их мало кто практикует). Но такие минуты на уроке очень нравятся детям, проводятся всегда с удовольствием, поднимают настроение, снижают утомляемость и повышают познавательную активность. В зависимости от ситуации и степени напряженности работы, провожу на выбор: гимнастику по технологии В. Ф. Базарного, гимнастику для глаз,  просто физкультразминку, музыкальную паузу или даже минутный «сон»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стор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 algn="just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 воздействию на физическое здоровье во время урока истории относится прежде всего сохранение физических характеристик обучающихся: зрение, слух, осанка. Их сохранению способствует смена деятельности на уроке которую можно осуществить с помощью физкультминутки. Благодаря смене деятельности, урок, во-первых, проходит незаметно, быстро, потому что он интересен и многообразен, пестр по содержанию. Во-вторых, это необходимое условие сохранения здоровья на уроке истор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узы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 algn="just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звестно, что музыка, хоровое пение является важнейшим средством формирования здорового человека, что образование начинается с музы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E:\НАШИ  ДОКУМЕНТЫ\Мама\Фотографии\цветочки\P10204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-360" y="3642840"/>
            <a:ext cx="87296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21560" indent="-316440"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ffff"/>
                </a:solidFill>
                <a:latin typeface="Arial"/>
              </a:rPr>
              <a:t>Будьте здоровы!</a:t>
            </a:r>
            <a:endParaRPr b="0" lang="en-US" sz="1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26960" y="285840"/>
            <a:ext cx="8229600" cy="1330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500040" y="1428840"/>
            <a:ext cx="832968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авнительный анализ здоровья учащих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оровьесберегающие технолог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 организации школьного пит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 участии школьников в соревнованиях «Спортивные надежды Кубан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ль физкультминуток на уро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оровьесберегающие технологии в периодической печа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ганизация здоровьесбережения во внеклассной работ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-360" y="357120"/>
            <a:ext cx="53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3715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15a2"/>
                </a:solidFill>
                <a:latin typeface="Times New Roman"/>
              </a:rPr>
              <a:t>Человек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- высшее творение природы. Но для того, чтобы сполна наслаждаться ее сокровищами, он должен отвечать, по крайней мере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3715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дному требованию –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371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быть здоровым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C:\Documents and Settings\Мария\Рабочий стол\CIMG5172.jpg"/>
          <p:cNvPicPr/>
          <p:nvPr/>
        </p:nvPicPr>
        <p:blipFill>
          <a:blip r:embed="rId1"/>
          <a:stretch/>
        </p:blipFill>
        <p:spPr>
          <a:xfrm>
            <a:off x="5477040" y="571680"/>
            <a:ext cx="3666960" cy="55004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1e0"/>
            </a:gs>
            <a:gs pos="100000">
              <a:srgbClr val="eafb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0" y="-231840"/>
            <a:ext cx="8729640" cy="179856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4" descr=""/>
          <p:cNvPicPr/>
          <p:nvPr/>
        </p:nvPicPr>
        <p:blipFill>
          <a:blip r:embed="rId2"/>
          <a:stretch/>
        </p:blipFill>
        <p:spPr>
          <a:xfrm>
            <a:off x="-1146240" y="858960"/>
            <a:ext cx="10576080" cy="6284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1e0"/>
            </a:gs>
            <a:gs pos="100000">
              <a:srgbClr val="eafb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290080" cy="180504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6284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-360" y="2357280"/>
            <a:ext cx="4714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достаточная освещённость класс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лохая  проветриваемость школьных помеще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правильная форма и величина школьных стол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регрузка учебными занятия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рганизация школьного пит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5" descr="C:\Documents and Settings\Мария\Рабочий стол\DSC00431.jpg"/>
          <p:cNvPicPr/>
          <p:nvPr/>
        </p:nvPicPr>
        <p:blipFill>
          <a:blip r:embed="rId1"/>
          <a:stretch/>
        </p:blipFill>
        <p:spPr>
          <a:xfrm>
            <a:off x="4572000" y="2500200"/>
            <a:ext cx="4191120" cy="314352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85840" y="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Анализ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ичин «школьных болезней» приводит к заключению о неудовлетворительной организации обучения, приводящей к нарушению здоровья. К этим недостаткам образования, в частности, относ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0" y="-6660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57120" y="13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словия выполнения упражнений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Содержимое 2"/>
          <p:cNvSpPr/>
          <p:nvPr/>
        </p:nvSpPr>
        <p:spPr>
          <a:xfrm>
            <a:off x="0" y="1714680"/>
            <a:ext cx="822960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пражнения желательно выполнять в позе свободного стоя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аждое упражнение базируется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зрительно-поисковых стимул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процессе зрительного поиска дети совершают сочетание движений головой, глазами туловище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одолжительность упражнений 1,5 – 2 мину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пражнения выполняются в середине каждого урока, в тот момент, когда наблюдаются первые признаки утомления у школьников ( частая смена поз, отвлечение и т.п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Физкультминут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C:\Documents and Settings\Мама\Рабочий стол\Безымянный.JPG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1863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285480"/>
            <a:ext cx="91440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00"/>
                </a:solidFill>
                <a:latin typeface="Times New Roman"/>
              </a:rPr>
              <a:t>Использование на уроках физкультминуток позволяет</a:t>
            </a:r>
            <a:r>
              <a:rPr b="0" lang="ru-RU" sz="3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imes New Roman"/>
              </a:rPr>
              <a:t>Включить в урок здоровьесберегающий компонент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imes New Roman"/>
              </a:rPr>
              <a:t>Осуществить смену видов деятельности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imes New Roman"/>
              </a:rPr>
              <a:t>Использовать интеллектуальное наполнение либо «привязку» к теме урок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C:\Documents and Settings\Мария\Рабочий стол\DSC00447.jpg"/>
          <p:cNvPicPr/>
          <p:nvPr/>
        </p:nvPicPr>
        <p:blipFill>
          <a:blip r:embed="rId1"/>
          <a:stretch/>
        </p:blipFill>
        <p:spPr>
          <a:xfrm>
            <a:off x="4788000" y="3679920"/>
            <a:ext cx="4141800" cy="31068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7:59:54Z</dcterms:created>
  <dc:creator>Мария</dc:creator>
  <dc:description/>
  <dc:language>en-US</dc:language>
  <cp:lastModifiedBy>ZooM</cp:lastModifiedBy>
  <dcterms:modified xsi:type="dcterms:W3CDTF">2013-12-03T20:29:36Z</dcterms:modified>
  <cp:revision>115</cp:revision>
  <dc:subject/>
  <dc:title>Педсовет: «Здоровьесберегающие технологии в школе»</dc:title>
</cp:coreProperties>
</file>