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A0C-E86F-4AA4-908A-1233CB24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C1B5-0D30-4AE4-A219-0CC2B27B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962E-A553-406C-A447-A717E0B9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7C6-5DE9-47EA-B4FC-39993316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B430-FA31-44D4-AF1D-1FBFA666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94A3-6EFC-4D25-ABB5-8A153D6B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AAD6-AB42-4BFE-A913-7AF6268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47D-E7AB-4A34-89C4-587AB4D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6C7F-AB36-4317-BB75-9DB2A032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A900-F7D6-45D9-B39B-9FCE206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914F-2CB9-4BE7-8D84-8F1F1B6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830-BF61-4C27-9B26-C760A3F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7293-28DD-400C-A3C9-B05DCE2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B1B-C6B5-44BF-B3B2-1657D2B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EEA3-ED45-485D-B130-8CA209F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229-23E6-42A9-BCE9-A4F7EE19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DCB-210A-4EBA-BCE8-9819BE1F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478-ECF8-4FEA-B9B8-79C941E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43B-A30E-458E-9259-1AFA6DF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BBD-3F4A-4C08-99E3-591CFCC4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505-839C-4196-87CE-F89306E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50E-0AB8-4518-AA59-08C4AB6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CEE-BC2D-4B87-9525-0550360A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700-A376-4378-95ED-2B0495D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E42-3BAB-4C59-9FA2-730AB6D14F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D1F-D512-470D-AD46-49C95EB000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ext Box 3"/>
          <p:cNvGrpSpPr/>
          <p:nvPr/>
        </p:nvGrpSpPr>
        <p:grpSpPr>
          <a:xfrm>
            <a:off x="1152360" y="536400"/>
            <a:ext cx="6742440" cy="5742000"/>
            <a:chOff x="1152360" y="536400"/>
            <a:chExt cx="6742440" cy="5742000"/>
          </a:xfrm>
        </p:grpSpPr>
        <p:pic>
          <p:nvPicPr>
            <p:cNvPr id="153" name="Text Box 3" descr=""/>
            <p:cNvPicPr/>
            <p:nvPr/>
          </p:nvPicPr>
          <p:blipFill>
            <a:blip r:embed="rId1"/>
            <a:stretch/>
          </p:blipFill>
          <p:spPr>
            <a:xfrm>
              <a:off x="1152360" y="536400"/>
              <a:ext cx="6742440" cy="57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14280" y="571680"/>
              <a:ext cx="6624720" cy="49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Учебная дисциплин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«ЮРИДИЧЕСКАЯ ТЕХНИК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bbd71"/>
                  </a:solidFill>
                  <a:latin typeface="Times New Roman"/>
                </a:rPr>
                <a:t>Кафедра «Теории и истории государства и права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нтерпретационная техник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кование как вид юридической работы: понятие, причины, структура. «Толкование-уяснение» и «толкование-разъяснени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толкования: языковое, логическое, систематическое, специальное, функцион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ЕОФИЦИАЛЬНОЕ толкование: признаки и виды. (обыденное, профессиональное, доктринально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собенности и виды АУТЕНТИЧНОГО толкования. Судебное толков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реализацион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нятие и типы ОСУЩЕСТВЛЕНИЯ права. Правореализационные документы и техника их соз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оговор как основной вид правореализационных документов, его роль в рыночной экономике. Содержание и типовая структура догов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едение договорной работы: субъекты, виды, нормативная регламентация. Стадии договорной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4"/>
          <p:cNvSpPr/>
          <p:nvPr/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применительная техн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АВОПРИМЕНЕНИЕ: понятие, причины, формы и виды. Правоприменительные а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дебная деятельность как разновидность правоприменения. Судебный процесс и его эта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удебное решение и приговор как основные акты правосудия: правила составления, структу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ая техни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овит студентов, как будущих юристов, к практической деятельности, обучает навыкам выполнения юридической работы, формирует аналитическое мышление, умение анализировать и составлять различного рода правовые докумен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дставляет собой отрасль знаний о средствах, приёмах, способах и методах ведения юридической работы и создания в её процессе правовых доку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Юридическая техник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, виды, структура и общие правила юридической тех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формирования содержания и требования к внутренней форме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творческие процед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опубликования нормативных ак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истематизации юридических докум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терпрет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реализацион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применительная 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онятие, виды, структура и общие правила юридической техник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формы юридической деятельности, виды юридических документ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, признаки и структура юридической техники. Её особенности в различных правовых семь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равила (содержание) юридической техники: содержательные, логические, структурные, языковые, формальные (реквизитные), процедур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тво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творчество народа, государственнных органов, кооператив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Законодательство и критерии его кач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шибки в законотворчестве. Экспертиза проектов нормативных а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и содержание законодательной техн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ила формирования содержания нормативных актов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пособы и приёмы формирования содержания н.п.а.: принципы права, правовые дефиниции, декларации, юридические конструкции, правовые презумпции, фикции и аксио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истема логических правил в правотворч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Требования к внутренней форме н.п.а. Общие правила структурных едини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Языковые (лингвистические) средства н.п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а создания корпоративных нормативных правовых а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творчески процедур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ды правотворческих процед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ланирование правотворческой деятельности и её знач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онцепция нормативного акта как модель отражения соци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процедур ведомственного правотворчества и принятия правительственных постанов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тадии законодательного процес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ехника опубликования нормативных ак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публикование нормативных актов: значение, сроки, официальные и неофициальные источн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пособы вступления нормативных актов в си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истематизация </a:t>
            </a:r>
            <a:br>
              <a:rPr sz="3600"/>
            </a:br>
            <a:r>
              <a:rPr b="1" lang="en-US" sz="36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юридических документов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чины и значение систематизации правовых актов. Общие правила и принци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хнико-юридические правила КОДИФИК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о-юридические правила и признаки КОНСОЛИД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НКОРПОРАЦИЯ: цели и субъекты, технико-юридические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ила и способы УЧЁТА правовых а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SStrelnikov</cp:lastModifiedBy>
  <dcterms:modified xsi:type="dcterms:W3CDTF">2012-04-16T08:12:27Z</dcterms:modified>
  <cp:revision>281</cp:revision>
  <dc:subject/>
  <dc:title>Правоведение</dc:title>
</cp:coreProperties>
</file>