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CD1-9C06-4AE2-9201-14F80099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18E-BC7E-4F12-A5A7-7856E3F6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6A3-9C29-4E37-A9E3-E0F101FF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A39-5EAB-4559-B392-F79BA849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9D92-1617-42DC-AC7F-851D9B9C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F625-D839-4356-BEFD-95FC7BCE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D69E-5346-40CD-9AE6-7D8A8A21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675B-C077-4A0E-890D-D126D8FE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736F-CC88-4452-ABB4-4C2C2017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82A9-7052-42AC-89D4-20CD9F0C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C91D-98D2-4792-BBD5-5409F5F1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6F6-FB79-4980-B351-A7ABEBA2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7CE4-CEA3-4705-AFDA-B566C0F9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265C-48F7-466B-BF1E-19FED03E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A463-9D12-46B6-B351-97AAC1BD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E7B3-4255-48B4-A68E-4C56082F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C4A1-F39F-48AC-AEC7-46ABA93C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AC3-5942-4F75-8625-7095DC98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C14-FA13-47B1-A4B7-E93AB743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138-B4EB-4D72-A543-FA25A654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CAB-89D6-48A7-86A7-B80C4E38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9FB-7E99-4E52-BB4E-56D7AA8D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BF6-F960-44C5-838C-36B848EC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1D4-6E09-4656-A44A-C85803C1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BA11-0F14-406F-B86C-535E4C1929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9E39-1748-471A-B14A-0E04918062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Text Box 3"/>
          <p:cNvGrpSpPr/>
          <p:nvPr/>
        </p:nvGrpSpPr>
        <p:grpSpPr>
          <a:xfrm>
            <a:off x="1152360" y="536400"/>
            <a:ext cx="6742440" cy="5742000"/>
            <a:chOff x="1152360" y="536400"/>
            <a:chExt cx="6742440" cy="5742000"/>
          </a:xfrm>
        </p:grpSpPr>
        <p:pic>
          <p:nvPicPr>
            <p:cNvPr id="153" name="Text Box 3" descr=""/>
            <p:cNvPicPr/>
            <p:nvPr/>
          </p:nvPicPr>
          <p:blipFill>
            <a:blip r:embed="rId1"/>
            <a:stretch/>
          </p:blipFill>
          <p:spPr>
            <a:xfrm>
              <a:off x="1152360" y="536400"/>
              <a:ext cx="6742440" cy="574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214280" y="571680"/>
              <a:ext cx="6624720" cy="49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bd71"/>
                  </a:solidFill>
                  <a:latin typeface="Times New Roman"/>
                </a:rPr>
                <a:t>Учебная дисциплина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bd71"/>
                  </a:solidFill>
                  <a:latin typeface="Times New Roman"/>
                </a:rPr>
                <a:t>«ЮРИДИЧЕСКАЯ ТЕХНИКА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bd71"/>
                  </a:solidFill>
                  <a:latin typeface="Times New Roman"/>
                </a:rPr>
                <a:t>Кафедра «Теории и истории государства и права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нтерпретационная техник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кование как вид юридической работы: понятие, причины, структура. «Толкование-уяснение» и «толкование-разъяснени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пособы толкования: языковое, логическое, систематическое, специальное, функциональн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ЕОФИЦИАЛЬНОЕ толкование: признаки и виды. (обыденное, профессиональное, доктринально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собенности и виды АУТЕНТИЧНОГО толкования. Судебное толков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оловок 4"/>
          <p:cNvSpPr/>
          <p:nvPr/>
        </p:nvSpPr>
        <p:spPr>
          <a:xfrm>
            <a:off x="468360" y="18900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реализационная техн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нятие и типы ОСУЩЕСТВЛЕНИЯ права. Правореализационные документы и техника их соз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оговор как основной вид правореализационных документов, его роль в рыночной экономике. Содержание и типовая структура догов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едение договорной работы: субъекты, виды, нормативная регламентация. Стадии договорной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Заголовок 4"/>
          <p:cNvSpPr/>
          <p:nvPr/>
        </p:nvSpPr>
        <p:spPr>
          <a:xfrm>
            <a:off x="468360" y="18900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применительная техн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АВОПРИМЕНЕНИЕ: понятие, причины, формы и виды. Правоприменительные а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удебная деятельность как разновидность правоприменения. Судебный процесс и его эта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удебное решение и приговор как основные акты правосудия: правила составления, структу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Юридическая техни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овит студентов, как будущих юристов, к практической деятельности, обучает навыкам выполнения юридической работы, формирует аналитическое мышление, умение анализировать и составлять различного рода правовые докум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дставляет собой отрасль знаний о средствах, приёмах, способах и методах ведения юридической работы и создания в её процессе правовых доку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2800"/>
            </a:br>
            <a:r>
              <a:rPr b="1" lang="en-US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«Юридическая техника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, виды, структура и общие правила юридической техн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творч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ила формирования содержания и требования к внутренней форме нормативных а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творческие процед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ика опубликования нормативных а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ика систематизации юридических докум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нтерпретационная 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реализационная 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применительная 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онятие, виды, структура и общие правила юридической техник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формы юридической деятельности, виды юридических документ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, признаки и структура юридической техники. Её особенности в различных правовых семь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правила (содержание) юридической техники: содержательные, логические, структурные, языковые, формальные (реквизитные), процедур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творчество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творчество народа, государственнных органов, кооператив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Законодательство и критерии его кач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шибки в законотворчестве. Экспертиза проектов нормативных а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 и содержание законодательной техн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ила формирования содержания нормативных актов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способы и приёмы формирования содержания н.п.а.: принципы права, правовые дефиниции, декларации, юридические конструкции, правовые презумпции, фикции и аксио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истема логических правил в правотворче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ребования к внутренней форме н.п.а. Общие правила структурных едини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Языковые (лингвистические) средства н.п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ика создания корпоративных нормативных правовых а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творчески процедуры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иды правотворческих процеду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ланирование правотворческой деятельности и её знач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нцепция нормативного акта как модель отражения социальной действи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процедур ведомственного правотворчества и принятия правительственных постанов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тадии законодательного проц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Техника опубликования нормативных акт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публикование нормативных актов: значение, сроки, официальные и неофициальные источн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пособы вступления нормативных актов в си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истематизация </a:t>
            </a:r>
            <a:br>
              <a:rPr sz="3600"/>
            </a:br>
            <a:r>
              <a:rPr b="1" lang="en-US" sz="36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юридических документов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чины и значение систематизации правовых актов. Общие правила и принци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ико-юридические правила КОДИФИК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ико-юридические правила и признаки КОНСОЛИД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НКОРПОРАЦИЯ: цели и субъекты, технико-юридические прави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ила и способы УЧЁТА правовых ак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SStrelnikov</cp:lastModifiedBy>
  <dcterms:modified xsi:type="dcterms:W3CDTF">2012-04-16T08:12:27Z</dcterms:modified>
  <cp:revision>281</cp:revision>
  <dc:subject/>
  <dc:title>Правоведение</dc:title>
</cp:coreProperties>
</file>