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C4C-5DDC-4746-B74E-F24C46AB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0C2-F8B8-45BA-ABF9-3DBBCD02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BC8-8FC0-40E6-B56C-1818EF07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7D5-89F8-4D15-B310-CADE6B2E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0381-2D0C-407C-815F-97E261ED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6DBE-9D7D-41EA-B0E0-158586AA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402D-0314-4991-9355-440C057D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FB0A-8F59-4268-82BA-EE448BCE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C2A4-7733-41D3-9D27-93179DA7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0900-E644-47A7-A3B6-378270D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B2E2-71C1-42D4-9666-0D7BBCF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2AC-ED5C-4658-A417-F0433628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DAAA-0975-4596-8D3A-BD23D3C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EF22-5C64-407D-97FF-B469E6E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DC17-0325-4525-AC5D-FA8EC3DD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6DF6-AFE1-4FAE-91B9-77D1EF67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5091-81A8-481C-99A1-10DA4B74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76C-AD27-46AF-BA42-A2C05031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154-8869-4B5D-A9EB-141B10F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379-1B9D-4F4F-8AB6-44E443B1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9F7-9918-4AC2-8EFF-321EF02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6AF-4EFA-4ED7-B294-3D418FA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A6C-8395-4FD5-92A1-4396161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445-F013-44DE-9431-CB40CDD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F923-01D8-4AFF-82C5-02DC46E601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72B0-678C-45B4-B2C6-2AB1F65AB1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Text Box 3"/>
          <p:cNvGrpSpPr/>
          <p:nvPr/>
        </p:nvGrpSpPr>
        <p:grpSpPr>
          <a:xfrm>
            <a:off x="1152360" y="536400"/>
            <a:ext cx="6742440" cy="5742000"/>
            <a:chOff x="1152360" y="536400"/>
            <a:chExt cx="6742440" cy="5742000"/>
          </a:xfrm>
        </p:grpSpPr>
        <p:pic>
          <p:nvPicPr>
            <p:cNvPr id="153" name="Text Box 3" descr=""/>
            <p:cNvPicPr/>
            <p:nvPr/>
          </p:nvPicPr>
          <p:blipFill>
            <a:blip r:embed="rId1"/>
            <a:stretch/>
          </p:blipFill>
          <p:spPr>
            <a:xfrm>
              <a:off x="1152360" y="536400"/>
              <a:ext cx="6742440" cy="57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214280" y="571680"/>
              <a:ext cx="6624720" cy="49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Учебная дисциплин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«ЮРИДИЧЕСКАЯ ТЕХНИКА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Кафедра «Теории и истории государства и права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нтерпретационная техник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кование как вид юридической работы: понятие, причины, структура. «Толкование-уяснение» и «толкование-разъяснени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пособы толкования: языковое, логическое, систематическое, специальное, функциональ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ЕОФИЦИАЛЬНОЕ толкование: признаки и виды. (обыденное, профессиональное, доктринально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собенности и виды АУТЕНТИЧНОГО толкования. Судебное толков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реализацион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нятие и типы ОСУЩЕСТВЛЕНИЯ права. Правореализационные документы и техника их соз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оговор как основной вид правореализационных документов, его роль в рыночной экономике. Содержание и типовая структура догов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дение договорной работы: субъекты, виды, нормативная регламентация. Стадии договорной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оловок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применитель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ОПРИМЕНЕНИЕ: понятие, причины, формы и виды. Правоприменительные а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дебная деятельность как разновидность правоприменения. Судебный процесс и его эта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удебное решение и приговор как основные акты правосудия: правила составления, струк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Юридическая техни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ит студентов, как будущих юристов, к практической деятельности, обучает навыкам выполнения юридической работы, формирует аналитическое мышление, умение анализировать и составлять различного рода правовые доку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дставляет собой отрасль знаний о средствах, приёмах, способах и методах ведения юридической работы и создания в её процессе правовых доку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Юридическая техник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, виды, структура и общие правила юридической тех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творч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ила формирования содержания и требования к внутренней форме нормативных а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творческие процед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опубликования нормативных а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систематизации юридических док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терпретацион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реализацион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применитель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онятие, виды, структура и общие правила юридической техник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формы юридической деятельности, виды юридических документ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, признаки и структура юридической техники. Её особенности в различных правовых семь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правила (содержание) юридической техники: содержательные, логические, структурные, языковые, формальные (реквизитные), процедур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творчество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творчество народа, государственнных органов, кооператив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аконодательство и критерии его кач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шибки в законотворчестве. Экспертиза проектов нормативных а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и содержание законодательной тех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ила формирования содержания нормативных актов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пособы и приёмы формирования содержания н.п.а.: принципы права, правовые дефиниции, декларации, юридические конструкции, правовые презумпции, фикции и аксио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истема логических правил в правотворч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ебования к внутренней форме н.п.а. Общие правила структурных един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зыковые (лингвистические) средства н.п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создания корпоративных нормативных правовых а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творчески процедур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ды правотворческих процед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ланирование правотворческой деятельности и её зна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нцепция нормативного акта как модель отражения социальной действи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процедур ведомственного правотворчества и принятия правительственных постанов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адии законодательного проц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ехника опубликования нормативных акт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убликование нормативных актов: значение, сроки, официальные и неофициальные источн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пособы вступления нормативных актов в си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истематизация </a:t>
            </a:r>
            <a:br>
              <a:rPr sz="3600"/>
            </a:br>
            <a:r>
              <a:rPr b="1" lang="en-US" sz="36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юридических документов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чины и значение систематизации правовых актов. Общие правила и принци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о-юридические правила КОДИФИК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ко-юридические правила и признаки КОНСОЛИД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КОРПОРАЦИЯ: цели и субъекты, технико-юридические прави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ила и способы УЧЁТА правовых а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SStrelnikov</cp:lastModifiedBy>
  <dcterms:modified xsi:type="dcterms:W3CDTF">2012-04-16T08:12:27Z</dcterms:modified>
  <cp:revision>281</cp:revision>
  <dc:subject/>
  <dc:title>Правоведение</dc:title>
</cp:coreProperties>
</file>