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21.gif" ContentType="image/gif"/>
  <Override PartName="/ppt/media/image10.jpeg" ContentType="image/jpeg"/>
  <Override PartName="/ppt/media/image17.png" ContentType="image/png"/>
  <Override PartName="/ppt/media/image32.jpeg" ContentType="image/jpeg"/>
  <Override PartName="/ppt/media/image16.gif" ContentType="image/gif"/>
  <Override PartName="/ppt/media/image28.jpeg" ContentType="image/jpeg"/>
  <Override PartName="/ppt/media/image15.gif" ContentType="image/gif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45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42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2.jpeg" ContentType="image/jpeg"/>
  <Override PartName="/ppt/media/image36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4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5FC-EF19-4CD2-9463-66EA81BB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37B-F467-4E03-B9B2-5841A8E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08A-37E5-4D08-A10F-D65E4032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1D8-F467-48FD-A65E-92AA866F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4BA-231F-4F65-9730-D3A3DE0F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B66-599A-4323-ABA9-4DDA645E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AC4-7B8E-4A79-8A7A-386ADA8D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B96-15F7-43F8-8FEE-DA37868E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8C8-7686-49A1-8CED-E0E808F7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E35-E0AC-4F8D-8C5B-0BEBF6DC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D61-B552-4963-AD61-67473D66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F07-43B6-4C9C-A05A-A6FD207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6953-03D5-4824-8D31-63A90EF05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orum.materinstvo.ru/index.php?showtopic=692618&amp;st=330" TargetMode="External"/><Relationship Id="rId3" Type="http://schemas.openxmlformats.org/officeDocument/2006/relationships/hyperlink" Target="http://forum.materinstvo.ru/index.php?showtopic=692618&amp;st=330" TargetMode="External"/><Relationship Id="rId4" Type="http://schemas.openxmlformats.org/officeDocument/2006/relationships/hyperlink" Target="http://forum.materinstvo.ru/index.php?showtopic=692618&amp;st=330" TargetMode="External"/><Relationship Id="rId5" Type="http://schemas.openxmlformats.org/officeDocument/2006/relationships/hyperlink" Target="http://forum.materinstvo.ru/index.php?showtopic=692618&amp;st=330" TargetMode="External"/><Relationship Id="rId6" Type="http://schemas.openxmlformats.org/officeDocument/2006/relationships/hyperlink" Target="http://www.motto.net.ua/img/3d/1264892448_C2E5F1EDE0203031.html" TargetMode="External"/><Relationship Id="rId7" Type="http://schemas.openxmlformats.org/officeDocument/2006/relationships/hyperlink" Target="http://900igr.net/photo/priroda/1-Vesna-3.files/003-Vesna.html" TargetMode="External"/><Relationship Id="rId8" Type="http://schemas.openxmlformats.org/officeDocument/2006/relationships/hyperlink" Target="http://rostislav.mikryukov.info/photo/2-0-15" TargetMode="External"/><Relationship Id="rId9" Type="http://schemas.openxmlformats.org/officeDocument/2006/relationships/hyperlink" Target="http://moygorod.kiev.ua/journal/journal.php?tema=8" TargetMode="External"/><Relationship Id="rId10" Type="http://schemas.openxmlformats.org/officeDocument/2006/relationships/hyperlink" Target="http://moygorod.kiev.ua/journal/journal.php?tema=8" TargetMode="External"/><Relationship Id="rId11" Type="http://schemas.openxmlformats.org/officeDocument/2006/relationships/hyperlink" Target="http://moygorod.kiev.ua/journal/journal.php?tema=8" TargetMode="External"/><Relationship Id="rId12" Type="http://schemas.openxmlformats.org/officeDocument/2006/relationships/hyperlink" Target="http://www.karaoke.ru/user/Schlager" TargetMode="External"/><Relationship Id="rId13" Type="http://schemas.openxmlformats.org/officeDocument/2006/relationships/hyperlink" Target="http://www.karaoke.ru/user/Schlager" TargetMode="External"/><Relationship Id="rId14" Type="http://schemas.openxmlformats.org/officeDocument/2006/relationships/hyperlink" Target="http://info.sibnet.ru/?id=286829" TargetMode="External"/><Relationship Id="rId15" Type="http://schemas.openxmlformats.org/officeDocument/2006/relationships/hyperlink" Target="http://info.sibnet.ru/?id=286829" TargetMode="External"/><Relationship Id="rId16" Type="http://schemas.openxmlformats.org/officeDocument/2006/relationships/hyperlink" Target="http://info.sibnet.ru/?id=286829" TargetMode="External"/><Relationship Id="rId17" Type="http://schemas.openxmlformats.org/officeDocument/2006/relationships/hyperlink" Target="http://nar-dok.ru/" TargetMode="External"/><Relationship Id="rId18" Type="http://schemas.openxmlformats.org/officeDocument/2006/relationships/hyperlink" Target="http://nar-dok.ru/" TargetMode="External"/><Relationship Id="rId19" Type="http://schemas.openxmlformats.org/officeDocument/2006/relationships/hyperlink" Target="http://nar-dok.ru/" TargetMode="External"/><Relationship Id="rId20" Type="http://schemas.openxmlformats.org/officeDocument/2006/relationships/hyperlink" Target="http://nar-dok.ru/" TargetMode="External"/><Relationship Id="rId21" Type="http://schemas.openxmlformats.org/officeDocument/2006/relationships/hyperlink" Target="http://thememaker.ru/themes-list.model/25/1/25/13871/" TargetMode="External"/><Relationship Id="rId22" Type="http://schemas.openxmlformats.org/officeDocument/2006/relationships/hyperlink" Target="http://thememaker.ru/themes-list.model/25/1/25/13871/" TargetMode="External"/><Relationship Id="rId23" Type="http://schemas.openxmlformats.org/officeDocument/2006/relationships/hyperlink" Target="http://thememaker.ru/themes-list.model/25/1/25/13871/" TargetMode="External"/><Relationship Id="rId24" Type="http://schemas.openxmlformats.org/officeDocument/2006/relationships/hyperlink" Target="http://thememaker.ru/themes-list.model/25/1/25/13871/" TargetMode="External"/><Relationship Id="rId25" Type="http://schemas.openxmlformats.org/officeDocument/2006/relationships/hyperlink" Target="http://thememaker.ru/themes-list.model/25/1/25/13871/" TargetMode="External"/><Relationship Id="rId26" Type="http://schemas.openxmlformats.org/officeDocument/2006/relationships/hyperlink" Target="http://thememaker.ru/themes-list.model/25/1/25/13871/" TargetMode="External"/><Relationship Id="rId27" Type="http://schemas.openxmlformats.org/officeDocument/2006/relationships/hyperlink" Target="http://ru.wikipedia.org/wiki/&#1060;&#1072;&#1081;&#1083;:Anemone_ranunculoides_bgiu.jpg" TargetMode="External"/><Relationship Id="rId28" Type="http://schemas.openxmlformats.org/officeDocument/2006/relationships/hyperlink" Target="http://ru.wikipedia.org/wiki/&#1060;&#1072;&#1081;&#1083;:Anemone_ranunculoides_bgiu.jpg" TargetMode="External"/><Relationship Id="rId29" Type="http://schemas.openxmlformats.org/officeDocument/2006/relationships/hyperlink" Target="http://ru.wikipedia.org/wiki/&#1060;&#1072;&#1081;&#1083;:Anemone_ranunculoides_bgiu.jpg" TargetMode="External"/><Relationship Id="rId30" Type="http://schemas.openxmlformats.org/officeDocument/2006/relationships/hyperlink" Target="http://ru.wikipedia.org/wiki/&#1060;&#1072;&#1081;&#1083;:Anemone_ranunculoides_bgiu.jpg" TargetMode="External"/><Relationship Id="rId31" Type="http://schemas.openxmlformats.org/officeDocument/2006/relationships/hyperlink" Target="http://ru.wikipedia.org/wiki/&#1060;&#1072;&#1081;&#1083;:Anemone_ranunculoides_bgiu.jpg" TargetMode="External"/><Relationship Id="rId32" Type="http://schemas.openxmlformats.org/officeDocument/2006/relationships/hyperlink" Target="http://ru.wikipedia.org/wiki/&#1060;&#1072;&#1081;&#1083;:Anemone_ranunculoides_bgiu.jpg" TargetMode="External"/><Relationship Id="rId33" Type="http://schemas.openxmlformats.org/officeDocument/2006/relationships/hyperlink" Target="http://ru.wikipedia.org/wiki/&#1060;&#1072;&#1081;&#1083;:Anemone_ranunculoides_bgiu.jpg" TargetMode="External"/><Relationship Id="rId34" Type="http://schemas.openxmlformats.org/officeDocument/2006/relationships/hyperlink" Target="http://www.u-lekar.ru/content/view/100/2/" TargetMode="External"/><Relationship Id="rId35" Type="http://schemas.openxmlformats.org/officeDocument/2006/relationships/hyperlink" Target="http://www.u-lekar.ru/content/view/100/2/" TargetMode="External"/><Relationship Id="rId36" Type="http://schemas.openxmlformats.org/officeDocument/2006/relationships/hyperlink" Target="http://www.u-lekar.ru/content/view/100/2/" TargetMode="External"/><Relationship Id="rId37" Type="http://schemas.openxmlformats.org/officeDocument/2006/relationships/hyperlink" Target="http://www.u-lekar.ru/content/view/100/2/" TargetMode="External"/><Relationship Id="rId38" Type="http://schemas.openxmlformats.org/officeDocument/2006/relationships/hyperlink" Target="http://www.u-lekar.ru/content/view/100/2/" TargetMode="External"/><Relationship Id="rId39" Type="http://schemas.openxmlformats.org/officeDocument/2006/relationships/hyperlink" Target="http://www.u-lekar.ru/content/view/100/2/" TargetMode="External"/><Relationship Id="rId40" Type="http://schemas.openxmlformats.org/officeDocument/2006/relationships/hyperlink" Target="http://www.u-lekar.ru/content/view/100/2/" TargetMode="External"/><Relationship Id="rId41" Type="http://schemas.openxmlformats.org/officeDocument/2006/relationships/hyperlink" Target="http://www.u-lekar.ru/content/view/100/2/" TargetMode="External"/><Relationship Id="rId42" Type="http://schemas.openxmlformats.org/officeDocument/2006/relationships/hyperlink" Target="http://ru.wikipedia.org/wiki/&#1060;&#1072;&#1081;&#1083;:Hepatica_nobilis_plant.JPG" TargetMode="External"/><Relationship Id="rId43" Type="http://schemas.openxmlformats.org/officeDocument/2006/relationships/hyperlink" Target="http://ru.wikipedia.org/wiki/&#1060;&#1072;&#1081;&#1083;:Hepatica_nobilis_plant.JPG" TargetMode="External"/><Relationship Id="rId44" Type="http://schemas.openxmlformats.org/officeDocument/2006/relationships/hyperlink" Target="http://ru.wikipedia.org/wiki/&#1060;&#1072;&#1081;&#1083;:Hepatica_nobilis_plant.JPG" TargetMode="External"/><Relationship Id="rId45" Type="http://schemas.openxmlformats.org/officeDocument/2006/relationships/hyperlink" Target="http://ru.wikipedia.org/wiki/&#1060;&#1072;&#1081;&#1083;:Hepatica_nobilis_plant.JPG" TargetMode="External"/><Relationship Id="rId46" Type="http://schemas.openxmlformats.org/officeDocument/2006/relationships/hyperlink" Target="http://ru.wikipedia.org/wiki/&#1060;&#1072;&#1081;&#1083;:Hepatica_nobilis_plant.JPG" TargetMode="External"/><Relationship Id="rId47" Type="http://schemas.openxmlformats.org/officeDocument/2006/relationships/hyperlink" Target="http://ru.wikipedia.org/wiki/&#1060;&#1072;&#1081;&#1083;:Hepatica_nobilis_plant.JPG" TargetMode="External"/><Relationship Id="rId48" Type="http://schemas.openxmlformats.org/officeDocument/2006/relationships/hyperlink" Target="http://ru.wikipedia.org/wiki/&#1060;&#1072;&#1081;&#1083;:Hepatica_nobilis_plant.JPG" TargetMode="External"/><Relationship Id="rId49" Type="http://schemas.openxmlformats.org/officeDocument/2006/relationships/hyperlink" Target="http://www.liveinternet.ru/users/teanika/post98895394/" TargetMode="External"/><Relationship Id="rId50" Type="http://schemas.openxmlformats.org/officeDocument/2006/relationships/hyperlink" Target="http://www.liveinternet.ru/users/teanika/post98895394/" TargetMode="External"/><Relationship Id="rId51" Type="http://schemas.openxmlformats.org/officeDocument/2006/relationships/hyperlink" Target="http://www.liveinternet.ru/users/teanika/post98895394/" TargetMode="External"/><Relationship Id="rId52" Type="http://schemas.openxmlformats.org/officeDocument/2006/relationships/hyperlink" Target="http://www.liveinternet.ru/users/teanika/post98895394/" TargetMode="External"/><Relationship Id="rId53" Type="http://schemas.openxmlformats.org/officeDocument/2006/relationships/hyperlink" Target="http://www.liveinternet.ru/users/teanika/post98895394/" TargetMode="External"/><Relationship Id="rId54" Type="http://schemas.openxmlformats.org/officeDocument/2006/relationships/hyperlink" Target="http://www.liveinternet.ru/users/teanika/post98895394/" TargetMode="External"/><Relationship Id="rId55" Type="http://schemas.openxmlformats.org/officeDocument/2006/relationships/hyperlink" Target="http://www.liveinternet.ru/users/teanika/post98895394/" TargetMode="External"/><Relationship Id="rId56" Type="http://schemas.openxmlformats.org/officeDocument/2006/relationships/hyperlink" Target="http://www.liveinternet.ru/users/teanika/post98895394/" TargetMode="External"/><Relationship Id="rId57" Type="http://schemas.openxmlformats.org/officeDocument/2006/relationships/hyperlink" Target="http://xbt-torrent.ru/browseC.php?&amp;parent=154&amp;page=17" TargetMode="External"/><Relationship Id="rId58" Type="http://schemas.openxmlformats.org/officeDocument/2006/relationships/hyperlink" Target="http://xbt-torrent.ru/browseC.php?&amp;parent=154&amp;page=17" TargetMode="External"/><Relationship Id="rId59" Type="http://schemas.openxmlformats.org/officeDocument/2006/relationships/hyperlink" Target="http://xbt-torrent.ru/browseC.php?&amp;parent=154&amp;page=17" TargetMode="External"/><Relationship Id="rId60" Type="http://schemas.openxmlformats.org/officeDocument/2006/relationships/hyperlink" Target="http://xbt-torrent.ru/browseC.php?&amp;parent=154&amp;page=17" TargetMode="External"/><Relationship Id="rId6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justmedia.ru/news/society?page=110" TargetMode="External"/><Relationship Id="rId3" Type="http://schemas.openxmlformats.org/officeDocument/2006/relationships/hyperlink" Target="http://www.justmedia.ru/news/society?page=110" TargetMode="External"/><Relationship Id="rId4" Type="http://schemas.openxmlformats.org/officeDocument/2006/relationships/hyperlink" Target="http://www.justmedia.ru/news/society?page=110" TargetMode="External"/><Relationship Id="rId5" Type="http://schemas.openxmlformats.org/officeDocument/2006/relationships/hyperlink" Target="http://www.justmedia.ru/news/society?page=110" TargetMode="External"/><Relationship Id="rId6" Type="http://schemas.openxmlformats.org/officeDocument/2006/relationships/hyperlink" Target="http://www.justmedia.ru/news/society?page=110" TargetMode="External"/><Relationship Id="rId7" Type="http://schemas.openxmlformats.org/officeDocument/2006/relationships/hyperlink" Target="http://www.justmedia.ru/news/society?page=110" TargetMode="External"/><Relationship Id="rId8" Type="http://schemas.openxmlformats.org/officeDocument/2006/relationships/hyperlink" Target="http://img.nr2.ru/chel/08/03/11/" TargetMode="External"/><Relationship Id="rId9" Type="http://schemas.openxmlformats.org/officeDocument/2006/relationships/hyperlink" Target="http://img.nr2.ru/chel/08/03/11/" TargetMode="External"/><Relationship Id="rId10" Type="http://schemas.openxmlformats.org/officeDocument/2006/relationships/hyperlink" Target="http://img.nr2.ru/chel/08/03/11/" TargetMode="External"/><Relationship Id="rId11" Type="http://schemas.openxmlformats.org/officeDocument/2006/relationships/hyperlink" Target="http://img.nr2.ru/chel/08/03/11/" TargetMode="External"/><Relationship Id="rId12" Type="http://schemas.openxmlformats.org/officeDocument/2006/relationships/hyperlink" Target="http://oikologia.ucoz.ru/load/vneklassnaja_rabota/golosa_ptic/14" TargetMode="External"/><Relationship Id="rId13" Type="http://schemas.openxmlformats.org/officeDocument/2006/relationships/hyperlink" Target="http://oikologia.ucoz.ru/load/vneklassnaja_rabota/golosa_ptic/14" TargetMode="External"/><Relationship Id="rId14" Type="http://schemas.openxmlformats.org/officeDocument/2006/relationships/hyperlink" Target="http://oikologia.ucoz.ru/load/vneklassnaja_rabota/golosa_ptic/14" TargetMode="External"/><Relationship Id="rId15" Type="http://schemas.openxmlformats.org/officeDocument/2006/relationships/hyperlink" Target="http://oikologia.ucoz.ru/load/vneklassnaja_rabota/golosa_ptic/14" TargetMode="External"/><Relationship Id="rId16" Type="http://schemas.openxmlformats.org/officeDocument/2006/relationships/hyperlink" Target="http://oikologia.ucoz.ru/load/vneklassnaja_rabota/golosa_ptic/14" TargetMode="External"/><Relationship Id="rId17" Type="http://schemas.openxmlformats.org/officeDocument/2006/relationships/hyperlink" Target="http://oikologia.ucoz.ru/load/vneklassnaja_rabota/golosa_ptic/14" TargetMode="External"/><Relationship Id="rId18" Type="http://schemas.openxmlformats.org/officeDocument/2006/relationships/hyperlink" Target="http://oikologia.ucoz.ru/load/vneklassnaja_rabota/golosa_ptic/14" TargetMode="External"/><Relationship Id="rId19" Type="http://schemas.openxmlformats.org/officeDocument/2006/relationships/hyperlink" Target="http://oikologia.ucoz.ru/load/vneklassnaja_rabota/golosa_ptic/14" TargetMode="External"/><Relationship Id="rId20" Type="http://schemas.openxmlformats.org/officeDocument/2006/relationships/hyperlink" Target="http://oikologia.ucoz.ru/load/vneklassnaja_rabota/golosa_ptic/14" TargetMode="External"/><Relationship Id="rId21" Type="http://schemas.openxmlformats.org/officeDocument/2006/relationships/hyperlink" Target="http://oikologia.ucoz.ru/load/vneklassnaja_rabota/golosa_ptic/14" TargetMode="External"/><Relationship Id="rId22" Type="http://schemas.openxmlformats.org/officeDocument/2006/relationships/hyperlink" Target="http://agol.ucoz.ru/publ/4" TargetMode="External"/><Relationship Id="rId23" Type="http://schemas.openxmlformats.org/officeDocument/2006/relationships/hyperlink" Target="http://agol.ucoz.ru/publ/4" TargetMode="External"/><Relationship Id="rId24" Type="http://schemas.openxmlformats.org/officeDocument/2006/relationships/hyperlink" Target="http://agol.ucoz.ru/publ/4" TargetMode="External"/><Relationship Id="rId25" Type="http://schemas.openxmlformats.org/officeDocument/2006/relationships/hyperlink" Target="http://agol.ucoz.ru/publ/4" TargetMode="External"/><Relationship Id="rId26" Type="http://schemas.openxmlformats.org/officeDocument/2006/relationships/hyperlink" Target="http://agol.ucoz.ru/publ/4" TargetMode="External"/><Relationship Id="rId27" Type="http://schemas.openxmlformats.org/officeDocument/2006/relationships/hyperlink" Target="http://agol.ucoz.ru/publ/4" TargetMode="External"/><Relationship Id="rId28" Type="http://schemas.openxmlformats.org/officeDocument/2006/relationships/hyperlink" Target="http://forum.smallgames.ws/index.php?showtopic=8321&amp;st=1600&amp;p=190424" TargetMode="External"/><Relationship Id="rId29" Type="http://schemas.openxmlformats.org/officeDocument/2006/relationships/hyperlink" Target="http://forum.smallgames.ws/index.php?showtopic=8321&amp;st=1600&amp;p=190424" TargetMode="External"/><Relationship Id="rId30" Type="http://schemas.openxmlformats.org/officeDocument/2006/relationships/hyperlink" Target="http://forum.smallgames.ws/index.php?showtopic=8321&amp;st=1600&amp;p=190424" TargetMode="External"/><Relationship Id="rId31" Type="http://schemas.openxmlformats.org/officeDocument/2006/relationships/hyperlink" Target="http://forum.smallgames.ws/index.php?showtopic=8321&amp;st=1600&amp;p=190424" TargetMode="External"/><Relationship Id="rId3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112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115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118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120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йте текст на стр. 8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836800" cy="3745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59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6059520" cy="3629160"/>
          </a:xfrm>
          <a:prstGeom prst="rect">
            <a:avLst/>
          </a:prstGeom>
          <a:solidFill>
            <a:srgbClr val="ffff66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нится ночью па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удо-юдо на с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инный клюв и два кры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летит – плох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кого паук бо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гадали?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168640" cy="266544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050920" y="1268280"/>
            <a:ext cx="5040360" cy="5190120"/>
            <a:chOff x="2050920" y="1268280"/>
            <a:chExt cx="5040360" cy="519012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2050920" y="1268280"/>
              <a:ext cx="5040360" cy="4478400"/>
            </a:xfrm>
            <a:prstGeom prst="rect">
              <a:avLst/>
            </a:prstGeom>
            <a:ln w="38160">
              <a:solidFill>
                <a:srgbClr val="99cc00"/>
              </a:solidFill>
              <a:miter/>
            </a:ln>
          </p:spPr>
        </p:pic>
        <p:sp>
          <p:nvSpPr>
            <p:cNvPr id="152" name=""/>
            <p:cNvSpPr/>
            <p:nvPr/>
          </p:nvSpPr>
          <p:spPr>
            <a:xfrm>
              <a:off x="4017600" y="5877000"/>
              <a:ext cx="141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omic Sans MS"/>
                </a:rPr>
                <a:t>Пт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5129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меняется жизнь пти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приходом вес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4897440" cy="3000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372360" y="1916280"/>
            <a:ext cx="1885680" cy="2233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4000" y="443700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приходом весны возвращают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дные края перелётные птицы. Они строят или ремонтируют гнёзда, откл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ывают яйца и выводят птен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971640" y="476280"/>
            <a:ext cx="71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ы думаешь, почему стали возможны такие изме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жизни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8360" y="765000"/>
            <a:ext cx="8209080" cy="3816360"/>
            <a:chOff x="468360" y="765000"/>
            <a:chExt cx="8209080" cy="38163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68360" y="765000"/>
              <a:ext cx="3816360" cy="3816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4500720" y="765000"/>
              <a:ext cx="4176720" cy="37832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</p:grpSp>
      <p:sp>
        <p:nvSpPr>
          <p:cNvPr id="164" name=""/>
          <p:cNvSpPr/>
          <p:nvPr/>
        </p:nvSpPr>
        <p:spPr>
          <a:xfrm>
            <a:off x="447840" y="4581360"/>
            <a:ext cx="82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есной появляются насекомые (пче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шмель, муравьи, бабочка-крапивни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мухи, комары) и для птиц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танов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больше к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6491520" cy="2476440"/>
          </a:xfrm>
          <a:prstGeom prst="rect">
            <a:avLst/>
          </a:prstGeom>
          <a:solidFill>
            <a:srgbClr val="ffff66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х перелетных птиц чер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тит пашню от чер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зад-вперёд по пашне вска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зовётся птиц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3443400" cy="968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6335640" cy="4608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1403280" y="580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7040" y="436572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59360" y="5950080"/>
            <a:ext cx="62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Март – время прилёта гра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2637000"/>
            <a:ext cx="6265800" cy="2531160"/>
          </a:xfrm>
          <a:prstGeom prst="rect">
            <a:avLst/>
          </a:prstGeom>
          <a:solidFill>
            <a:srgbClr val="66ff9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ы построили вдвоё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гостей весенний д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верней сказать – д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летай скоре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0200" y="407664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908000" y="1197000"/>
            <a:ext cx="5543640" cy="4621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455760" y="5950080"/>
            <a:ext cx="82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Конец марта – время прилёта сквор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40160" y="2637000"/>
            <a:ext cx="5741640" cy="2043720"/>
          </a:xfrm>
          <a:prstGeom prst="rect">
            <a:avLst/>
          </a:prstGeom>
          <a:solidFill>
            <a:srgbClr val="ffcccc"/>
          </a:solidFill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ё гнездо он в поле в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де тянутся рас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го и песня и п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шли в стихотвор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09880" y="494172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ЖАВОР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332000" y="1125360"/>
            <a:ext cx="6192720" cy="46897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-60120" y="5945040"/>
            <a:ext cx="92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ремя прилёта жаворонков – начало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3880" y="2565360"/>
            <a:ext cx="5495040" cy="2043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летает к нам с теп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уть проделав дли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пит домик под ок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 травы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79320" y="501012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ЛАС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332000" y="1197000"/>
            <a:ext cx="6264360" cy="470844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395360" y="595008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Май – время прилёта ласт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87000" y="2637000"/>
            <a:ext cx="5349960" cy="2043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летел к нам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учший наш пе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ни и ночи напр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83000" y="508176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ОЛО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1332000" y="1353960"/>
            <a:ext cx="6432480" cy="45230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603000" y="5877000"/>
            <a:ext cx="75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оловьи прилетают в середине м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92320" y="5084640"/>
            <a:ext cx="6924600" cy="106884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 каком времени года говор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стихотворении А.Ф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6491520" cy="254952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нова птицы летят издалё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берегам, расторгающим 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лнце тёплое ходит выс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душистого ландыш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3888000" cy="1093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477800" cy="1451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55640" y="189000"/>
            <a:ext cx="1293840" cy="1533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24040" y="476280"/>
            <a:ext cx="194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Ве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Как встречают весну звер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сыпаются от зимнего сна мед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арсуки, ежи. У мног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ождаются детёныши. Звери лин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" y="1501920"/>
            <a:ext cx="8496000" cy="3111480"/>
            <a:chOff x="324000" y="1501920"/>
            <a:chExt cx="8496000" cy="31114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3851280" y="1511280"/>
              <a:ext cx="4968720" cy="31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324000" y="1501920"/>
              <a:ext cx="4032000" cy="310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ной животных охраняют особенно тщательно, т.к. они заняты заботой о потомстве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Что вы можете сделать для охраны животных и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3454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29040" y="404640"/>
            <a:ext cx="46400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це выше, чем зи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2200" y="1413000"/>
            <a:ext cx="5841000" cy="52056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ни стали длиннее. Пот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6840" y="2421000"/>
            <a:ext cx="3751200" cy="3020040"/>
          </a:xfrm>
          <a:prstGeom prst="rect">
            <a:avLst/>
          </a:prstGeom>
          <a:solidFill>
            <a:srgbClr val="71da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бо голубое, высо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ака белые, лё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ая 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таивание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98100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16360" y="1989000"/>
            <a:ext cx="43344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8360" cy="1344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651640" y="1989000"/>
            <a:ext cx="28872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63520" y="2421000"/>
            <a:ext cx="3763440" cy="3020040"/>
          </a:xfrm>
          <a:prstGeom prst="rect">
            <a:avLst/>
          </a:prstGeom>
          <a:solidFill>
            <a:srgbClr val="99ff3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ухание п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явление лис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явление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вращение перелё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ых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менения в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3560" y="580536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оставь рассказ «Весна приш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orum.materinstvo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index.php?showtopic=692618&amp;st=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otto.net.ua/img/3d/1264892448_C2E5F1EDE02030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900igr.net/photo/priroda/1-Vesna-3.files/003-Vesn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rostislav.mikryukov.info/photo/2-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oygorod.kiev.ua/journal/journal.php?tema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karaoke.ru/user/Sch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fo.sibnet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?id=286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nar-dok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thememaker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themes-list.mode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25/1/25/1387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u.wikipedia.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ik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Файл:Anemone_ranunculoides_bgiu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www.u-lekar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conten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vie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100/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ru.wikipedia.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wik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Файл:Hepatica_nobilis_plan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www.liveinterne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user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teanik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/post9889539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xbt-torren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/browseC.php?&amp;parent=154&amp;page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justmedi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ew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society?page=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img.nr2.ru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he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08/03/1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ikologia.ucoz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loa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vneklassnaja_rabot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golosa_ptic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agol.ucoz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pub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forum.smallgames.w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index.php?showtopic=8321&amp;st=1600&amp;p=190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club.foto.ru/gallery/photos/recommended.php?page=1&amp;author_id=158814&amp;recommended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logs.mail.ru/inbox/mon_petite/797D2995A1F48C8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etropost.ru/postcards/send/78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ebftour.ru/articles.htm?id=1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log.kp.ru/users/le_soleil82/post123994550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osv.ru/ebooks/Ishimova_Razvitie_rechemisl/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рсональный сай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http://www.panowa-ox.naro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Назовите весенние меся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846360" y="1557360"/>
            <a:ext cx="133740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4400" y="1557360"/>
            <a:ext cx="1811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0640" y="1557360"/>
            <a:ext cx="118044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32360" cy="3921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1990800" cy="3609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Угадай месяц и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назови его призна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5111640" cy="3095640"/>
          </a:xfrm>
          <a:prstGeom prst="rect">
            <a:avLst/>
          </a:prstGeom>
          <a:solidFill>
            <a:srgbClr val="71daff"/>
          </a:solidFill>
          <a:ln w="381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ует тёплый южный вет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ышко всё ярче све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нег худеет, мякнет, 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ач горластый приле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за месяц? Кто узн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5400" y="587700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3152880" cy="476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3000" y="1916280"/>
            <a:ext cx="4556160" cy="350676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ростно река ре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разламывает лё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домик свой сквор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ул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в лесу 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небе жаворонка тр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 же к нам пришё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3097080" cy="480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05840" y="587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6200" y="2133720"/>
            <a:ext cx="4568400" cy="308016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еленеет даль по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певает сол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белый цвет оделся с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чёлы первые ле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ом грохочет. Угад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за месяц это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508720" y="1773360"/>
            <a:ext cx="3419280" cy="489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80520" y="58770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80000" y="1744200"/>
            <a:ext cx="4906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ем вслух текст «Неживая природа весной» на стр. 86-87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000600" cy="3960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56360" y="4292640"/>
            <a:ext cx="1950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Составь рассказ по пла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58920" y="2565360"/>
            <a:ext cx="3035160" cy="355608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до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25160" y="1484280"/>
            <a:ext cx="117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Весенние изменения в неживой прир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04000" y="2997360"/>
            <a:ext cx="1712880" cy="3106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1511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923840" y="404640"/>
            <a:ext cx="5296680" cy="6016680"/>
            <a:chOff x="1923840" y="404640"/>
            <a:chExt cx="5296680" cy="6016680"/>
          </a:xfrm>
        </p:grpSpPr>
        <p:sp>
          <p:nvSpPr>
            <p:cNvPr id="86" name=""/>
            <p:cNvSpPr/>
            <p:nvPr/>
          </p:nvSpPr>
          <p:spPr>
            <a:xfrm>
              <a:off x="1923840" y="404640"/>
              <a:ext cx="529668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Солнце выше, чем зим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1000" y="1413000"/>
              <a:ext cx="4127760" cy="106884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Дни стали длиннее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тепл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75920" y="2914560"/>
              <a:ext cx="4338000" cy="350676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Небо голубое, высо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Облака белые, лёг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Таяние снега, ль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Ледох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оловодь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Осадки: снег, дожд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ервая гро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Оттаива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56000" y="98100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56000" y="249228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164360" y="3645000"/>
            <a:ext cx="13906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те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3:17:51Z</dcterms:created>
  <dc:creator>мама</dc:creator>
  <dc:description/>
  <dc:language>en-US</dc:language>
  <cp:lastModifiedBy>мама</cp:lastModifiedBy>
  <dcterms:modified xsi:type="dcterms:W3CDTF">2011-02-27T13:53:16Z</dcterms:modified>
  <cp:revision>11</cp:revision>
  <dc:subject/>
  <dc:title>Слайд 1</dc:title>
</cp:coreProperties>
</file>