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21.gif" ContentType="image/gif"/>
  <Override PartName="/ppt/media/image10.jpeg" ContentType="image/jpe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15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45.jpeg" ContentType="image/jpeg"/>
  <Override PartName="/ppt/media/image43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4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3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jpeg" ContentType="image/jpeg"/>
  <Override PartName="/ppt/media/image27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2FD-705B-471C-B334-1A43543C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D9F-97D9-493B-B312-44E24C1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BF8-C11E-40B8-AEF2-B59AA2C9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05A-43E5-4529-BCFF-BABC342A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3CC-0DBE-4357-9F36-A9F7164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21F-2919-4A68-8DEC-F3EBBA7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BFD-2EB4-4356-8A76-1565733B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634-26BB-4A64-89F4-4097DA0A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F77-7689-4544-8DE6-FEE4DE25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B6-CC4E-445B-8117-F14F97C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2FB-2941-4777-987B-B8D5087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CC4-BAA2-4132-A186-92F7891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5C3E-5FFB-4618-BE15-65C7DB10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orum.materinstvo.ru/index.php?showtopic=692618&amp;st=330" TargetMode="External"/><Relationship Id="rId3" Type="http://schemas.openxmlformats.org/officeDocument/2006/relationships/hyperlink" Target="http://forum.materinstvo.ru/index.php?showtopic=692618&amp;st=330" TargetMode="External"/><Relationship Id="rId4" Type="http://schemas.openxmlformats.org/officeDocument/2006/relationships/hyperlink" Target="http://forum.materinstvo.ru/index.php?showtopic=692618&amp;st=330" TargetMode="External"/><Relationship Id="rId5" Type="http://schemas.openxmlformats.org/officeDocument/2006/relationships/hyperlink" Target="http://forum.materinstvo.ru/index.php?showtopic=692618&amp;st=330" TargetMode="External"/><Relationship Id="rId6" Type="http://schemas.openxmlformats.org/officeDocument/2006/relationships/hyperlink" Target="http://www.motto.net.ua/img/3d/1264892448_C2E5F1EDE0203031.html" TargetMode="External"/><Relationship Id="rId7" Type="http://schemas.openxmlformats.org/officeDocument/2006/relationships/hyperlink" Target="http://900igr.net/photo/priroda/1-Vesna-3.files/003-Vesna.html" TargetMode="External"/><Relationship Id="rId8" Type="http://schemas.openxmlformats.org/officeDocument/2006/relationships/hyperlink" Target="http://rostislav.mikryukov.info/photo/2-0-15" TargetMode="External"/><Relationship Id="rId9" Type="http://schemas.openxmlformats.org/officeDocument/2006/relationships/hyperlink" Target="http://moygorod.kiev.ua/journal/journal.php?tema=8" TargetMode="External"/><Relationship Id="rId10" Type="http://schemas.openxmlformats.org/officeDocument/2006/relationships/hyperlink" Target="http://moygorod.kiev.ua/journal/journal.php?tema=8" TargetMode="External"/><Relationship Id="rId11" Type="http://schemas.openxmlformats.org/officeDocument/2006/relationships/hyperlink" Target="http://moygorod.kiev.ua/journal/journal.php?tema=8" TargetMode="External"/><Relationship Id="rId12" Type="http://schemas.openxmlformats.org/officeDocument/2006/relationships/hyperlink" Target="http://www.karaoke.ru/user/Schlager" TargetMode="External"/><Relationship Id="rId13" Type="http://schemas.openxmlformats.org/officeDocument/2006/relationships/hyperlink" Target="http://www.karaoke.ru/user/Schlager" TargetMode="External"/><Relationship Id="rId14" Type="http://schemas.openxmlformats.org/officeDocument/2006/relationships/hyperlink" Target="http://info.sibnet.ru/?id=286829" TargetMode="External"/><Relationship Id="rId15" Type="http://schemas.openxmlformats.org/officeDocument/2006/relationships/hyperlink" Target="http://info.sibnet.ru/?id=286829" TargetMode="External"/><Relationship Id="rId16" Type="http://schemas.openxmlformats.org/officeDocument/2006/relationships/hyperlink" Target="http://info.sibnet.ru/?id=286829" TargetMode="External"/><Relationship Id="rId17" Type="http://schemas.openxmlformats.org/officeDocument/2006/relationships/hyperlink" Target="http://nar-dok.ru/" TargetMode="External"/><Relationship Id="rId18" Type="http://schemas.openxmlformats.org/officeDocument/2006/relationships/hyperlink" Target="http://nar-dok.ru/" TargetMode="External"/><Relationship Id="rId19" Type="http://schemas.openxmlformats.org/officeDocument/2006/relationships/hyperlink" Target="http://nar-dok.ru/" TargetMode="External"/><Relationship Id="rId20" Type="http://schemas.openxmlformats.org/officeDocument/2006/relationships/hyperlink" Target="http://nar-dok.ru/" TargetMode="External"/><Relationship Id="rId21" Type="http://schemas.openxmlformats.org/officeDocument/2006/relationships/hyperlink" Target="http://thememaker.ru/themes-list.model/25/1/25/13871/" TargetMode="External"/><Relationship Id="rId22" Type="http://schemas.openxmlformats.org/officeDocument/2006/relationships/hyperlink" Target="http://thememaker.ru/themes-list.model/25/1/25/13871/" TargetMode="External"/><Relationship Id="rId23" Type="http://schemas.openxmlformats.org/officeDocument/2006/relationships/hyperlink" Target="http://thememaker.ru/themes-list.model/25/1/25/13871/" TargetMode="External"/><Relationship Id="rId24" Type="http://schemas.openxmlformats.org/officeDocument/2006/relationships/hyperlink" Target="http://thememaker.ru/themes-list.model/25/1/25/13871/" TargetMode="External"/><Relationship Id="rId25" Type="http://schemas.openxmlformats.org/officeDocument/2006/relationships/hyperlink" Target="http://thememaker.ru/themes-list.model/25/1/25/13871/" TargetMode="External"/><Relationship Id="rId26" Type="http://schemas.openxmlformats.org/officeDocument/2006/relationships/hyperlink" Target="http://thememaker.ru/themes-list.model/25/1/25/13871/" TargetMode="External"/><Relationship Id="rId27" Type="http://schemas.openxmlformats.org/officeDocument/2006/relationships/hyperlink" Target="http://ru.wikipedia.org/wiki/&#1060;&#1072;&#1081;&#1083;:Anemone_ranunculoides_bgiu.jpg" TargetMode="External"/><Relationship Id="rId28" Type="http://schemas.openxmlformats.org/officeDocument/2006/relationships/hyperlink" Target="http://ru.wikipedia.org/wiki/&#1060;&#1072;&#1081;&#1083;:Anemone_ranunculoides_bgiu.jpg" TargetMode="External"/><Relationship Id="rId29" Type="http://schemas.openxmlformats.org/officeDocument/2006/relationships/hyperlink" Target="http://ru.wikipedia.org/wiki/&#1060;&#1072;&#1081;&#1083;:Anemone_ranunculoides_bgiu.jpg" TargetMode="External"/><Relationship Id="rId30" Type="http://schemas.openxmlformats.org/officeDocument/2006/relationships/hyperlink" Target="http://ru.wikipedia.org/wiki/&#1060;&#1072;&#1081;&#1083;:Anemone_ranunculoides_bgiu.jpg" TargetMode="External"/><Relationship Id="rId31" Type="http://schemas.openxmlformats.org/officeDocument/2006/relationships/hyperlink" Target="http://ru.wikipedia.org/wiki/&#1060;&#1072;&#1081;&#1083;:Anemone_ranunculoides_bgiu.jpg" TargetMode="External"/><Relationship Id="rId32" Type="http://schemas.openxmlformats.org/officeDocument/2006/relationships/hyperlink" Target="http://ru.wikipedia.org/wiki/&#1060;&#1072;&#1081;&#1083;:Anemone_ranunculoides_bgiu.jpg" TargetMode="External"/><Relationship Id="rId33" Type="http://schemas.openxmlformats.org/officeDocument/2006/relationships/hyperlink" Target="http://ru.wikipedia.org/wiki/&#1060;&#1072;&#1081;&#1083;:Anemone_ranunculoides_bgiu.jpg" TargetMode="External"/><Relationship Id="rId34" Type="http://schemas.openxmlformats.org/officeDocument/2006/relationships/hyperlink" Target="http://www.u-lekar.ru/content/view/100/2/" TargetMode="External"/><Relationship Id="rId35" Type="http://schemas.openxmlformats.org/officeDocument/2006/relationships/hyperlink" Target="http://www.u-lekar.ru/content/view/100/2/" TargetMode="External"/><Relationship Id="rId36" Type="http://schemas.openxmlformats.org/officeDocument/2006/relationships/hyperlink" Target="http://www.u-lekar.ru/content/view/100/2/" TargetMode="External"/><Relationship Id="rId37" Type="http://schemas.openxmlformats.org/officeDocument/2006/relationships/hyperlink" Target="http://www.u-lekar.ru/content/view/100/2/" TargetMode="External"/><Relationship Id="rId38" Type="http://schemas.openxmlformats.org/officeDocument/2006/relationships/hyperlink" Target="http://www.u-lekar.ru/content/view/100/2/" TargetMode="External"/><Relationship Id="rId39" Type="http://schemas.openxmlformats.org/officeDocument/2006/relationships/hyperlink" Target="http://www.u-lekar.ru/content/view/100/2/" TargetMode="External"/><Relationship Id="rId40" Type="http://schemas.openxmlformats.org/officeDocument/2006/relationships/hyperlink" Target="http://www.u-lekar.ru/content/view/100/2/" TargetMode="External"/><Relationship Id="rId41" Type="http://schemas.openxmlformats.org/officeDocument/2006/relationships/hyperlink" Target="http://www.u-lekar.ru/content/view/100/2/" TargetMode="External"/><Relationship Id="rId42" Type="http://schemas.openxmlformats.org/officeDocument/2006/relationships/hyperlink" Target="http://ru.wikipedia.org/wiki/&#1060;&#1072;&#1081;&#1083;:Hepatica_nobilis_plant.JPG" TargetMode="External"/><Relationship Id="rId43" Type="http://schemas.openxmlformats.org/officeDocument/2006/relationships/hyperlink" Target="http://ru.wikipedia.org/wiki/&#1060;&#1072;&#1081;&#1083;:Hepatica_nobilis_plant.JPG" TargetMode="External"/><Relationship Id="rId44" Type="http://schemas.openxmlformats.org/officeDocument/2006/relationships/hyperlink" Target="http://ru.wikipedia.org/wiki/&#1060;&#1072;&#1081;&#1083;:Hepatica_nobilis_plant.JPG" TargetMode="External"/><Relationship Id="rId45" Type="http://schemas.openxmlformats.org/officeDocument/2006/relationships/hyperlink" Target="http://ru.wikipedia.org/wiki/&#1060;&#1072;&#1081;&#1083;:Hepatica_nobilis_plant.JPG" TargetMode="External"/><Relationship Id="rId46" Type="http://schemas.openxmlformats.org/officeDocument/2006/relationships/hyperlink" Target="http://ru.wikipedia.org/wiki/&#1060;&#1072;&#1081;&#1083;:Hepatica_nobilis_plant.JPG" TargetMode="External"/><Relationship Id="rId47" Type="http://schemas.openxmlformats.org/officeDocument/2006/relationships/hyperlink" Target="http://ru.wikipedia.org/wiki/&#1060;&#1072;&#1081;&#1083;:Hepatica_nobilis_plant.JPG" TargetMode="External"/><Relationship Id="rId48" Type="http://schemas.openxmlformats.org/officeDocument/2006/relationships/hyperlink" Target="http://ru.wikipedia.org/wiki/&#1060;&#1072;&#1081;&#1083;:Hepatica_nobilis_plant.JPG" TargetMode="External"/><Relationship Id="rId49" Type="http://schemas.openxmlformats.org/officeDocument/2006/relationships/hyperlink" Target="http://www.liveinternet.ru/users/teanika/post98895394/" TargetMode="External"/><Relationship Id="rId50" Type="http://schemas.openxmlformats.org/officeDocument/2006/relationships/hyperlink" Target="http://www.liveinternet.ru/users/teanika/post98895394/" TargetMode="External"/><Relationship Id="rId51" Type="http://schemas.openxmlformats.org/officeDocument/2006/relationships/hyperlink" Target="http://www.liveinternet.ru/users/teanika/post98895394/" TargetMode="External"/><Relationship Id="rId52" Type="http://schemas.openxmlformats.org/officeDocument/2006/relationships/hyperlink" Target="http://www.liveinternet.ru/users/teanika/post98895394/" TargetMode="External"/><Relationship Id="rId53" Type="http://schemas.openxmlformats.org/officeDocument/2006/relationships/hyperlink" Target="http://www.liveinternet.ru/users/teanika/post98895394/" TargetMode="External"/><Relationship Id="rId54" Type="http://schemas.openxmlformats.org/officeDocument/2006/relationships/hyperlink" Target="http://www.liveinternet.ru/users/teanika/post98895394/" TargetMode="External"/><Relationship Id="rId55" Type="http://schemas.openxmlformats.org/officeDocument/2006/relationships/hyperlink" Target="http://www.liveinternet.ru/users/teanika/post98895394/" TargetMode="External"/><Relationship Id="rId56" Type="http://schemas.openxmlformats.org/officeDocument/2006/relationships/hyperlink" Target="http://www.liveinternet.ru/users/teanika/post98895394/" TargetMode="External"/><Relationship Id="rId57" Type="http://schemas.openxmlformats.org/officeDocument/2006/relationships/hyperlink" Target="http://xbt-torrent.ru/browseC.php?&amp;parent=154&amp;page=17" TargetMode="External"/><Relationship Id="rId58" Type="http://schemas.openxmlformats.org/officeDocument/2006/relationships/hyperlink" Target="http://xbt-torrent.ru/browseC.php?&amp;parent=154&amp;page=17" TargetMode="External"/><Relationship Id="rId59" Type="http://schemas.openxmlformats.org/officeDocument/2006/relationships/hyperlink" Target="http://xbt-torrent.ru/browseC.php?&amp;parent=154&amp;page=17" TargetMode="External"/><Relationship Id="rId60" Type="http://schemas.openxmlformats.org/officeDocument/2006/relationships/hyperlink" Target="http://xbt-torrent.ru/browseC.php?&amp;parent=154&amp;page=17" TargetMode="External"/><Relationship Id="rId6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stmedia.ru/news/society?page=110" TargetMode="External"/><Relationship Id="rId3" Type="http://schemas.openxmlformats.org/officeDocument/2006/relationships/hyperlink" Target="http://www.justmedia.ru/news/society?page=110" TargetMode="External"/><Relationship Id="rId4" Type="http://schemas.openxmlformats.org/officeDocument/2006/relationships/hyperlink" Target="http://www.justmedia.ru/news/society?page=110" TargetMode="External"/><Relationship Id="rId5" Type="http://schemas.openxmlformats.org/officeDocument/2006/relationships/hyperlink" Target="http://www.justmedia.ru/news/society?page=110" TargetMode="External"/><Relationship Id="rId6" Type="http://schemas.openxmlformats.org/officeDocument/2006/relationships/hyperlink" Target="http://www.justmedia.ru/news/society?page=110" TargetMode="External"/><Relationship Id="rId7" Type="http://schemas.openxmlformats.org/officeDocument/2006/relationships/hyperlink" Target="http://www.justmedia.ru/news/society?page=110" TargetMode="External"/><Relationship Id="rId8" Type="http://schemas.openxmlformats.org/officeDocument/2006/relationships/hyperlink" Target="http://img.nr2.ru/chel/08/03/11/" TargetMode="External"/><Relationship Id="rId9" Type="http://schemas.openxmlformats.org/officeDocument/2006/relationships/hyperlink" Target="http://img.nr2.ru/chel/08/03/11/" TargetMode="External"/><Relationship Id="rId10" Type="http://schemas.openxmlformats.org/officeDocument/2006/relationships/hyperlink" Target="http://img.nr2.ru/chel/08/03/11/" TargetMode="External"/><Relationship Id="rId11" Type="http://schemas.openxmlformats.org/officeDocument/2006/relationships/hyperlink" Target="http://img.nr2.ru/chel/08/03/11/" TargetMode="External"/><Relationship Id="rId12" Type="http://schemas.openxmlformats.org/officeDocument/2006/relationships/hyperlink" Target="http://oikologia.ucoz.ru/load/vneklassnaja_rabota/golosa_ptic/14" TargetMode="External"/><Relationship Id="rId13" Type="http://schemas.openxmlformats.org/officeDocument/2006/relationships/hyperlink" Target="http://oikologia.ucoz.ru/load/vneklassnaja_rabota/golosa_ptic/14" TargetMode="External"/><Relationship Id="rId14" Type="http://schemas.openxmlformats.org/officeDocument/2006/relationships/hyperlink" Target="http://oikologia.ucoz.ru/load/vneklassnaja_rabota/golosa_ptic/14" TargetMode="External"/><Relationship Id="rId15" Type="http://schemas.openxmlformats.org/officeDocument/2006/relationships/hyperlink" Target="http://oikologia.ucoz.ru/load/vneklassnaja_rabota/golosa_ptic/14" TargetMode="External"/><Relationship Id="rId16" Type="http://schemas.openxmlformats.org/officeDocument/2006/relationships/hyperlink" Target="http://oikologia.ucoz.ru/load/vneklassnaja_rabota/golosa_ptic/14" TargetMode="External"/><Relationship Id="rId17" Type="http://schemas.openxmlformats.org/officeDocument/2006/relationships/hyperlink" Target="http://oikologia.ucoz.ru/load/vneklassnaja_rabota/golosa_ptic/14" TargetMode="External"/><Relationship Id="rId18" Type="http://schemas.openxmlformats.org/officeDocument/2006/relationships/hyperlink" Target="http://oikologia.ucoz.ru/load/vneklassnaja_rabota/golosa_ptic/14" TargetMode="External"/><Relationship Id="rId19" Type="http://schemas.openxmlformats.org/officeDocument/2006/relationships/hyperlink" Target="http://oikologia.ucoz.ru/load/vneklassnaja_rabota/golosa_ptic/14" TargetMode="External"/><Relationship Id="rId20" Type="http://schemas.openxmlformats.org/officeDocument/2006/relationships/hyperlink" Target="http://oikologia.ucoz.ru/load/vneklassnaja_rabota/golosa_ptic/14" TargetMode="External"/><Relationship Id="rId21" Type="http://schemas.openxmlformats.org/officeDocument/2006/relationships/hyperlink" Target="http://oikologia.ucoz.ru/load/vneklassnaja_rabota/golosa_ptic/14" TargetMode="External"/><Relationship Id="rId22" Type="http://schemas.openxmlformats.org/officeDocument/2006/relationships/hyperlink" Target="http://agol.ucoz.ru/publ/4" TargetMode="External"/><Relationship Id="rId23" Type="http://schemas.openxmlformats.org/officeDocument/2006/relationships/hyperlink" Target="http://agol.ucoz.ru/publ/4" TargetMode="External"/><Relationship Id="rId24" Type="http://schemas.openxmlformats.org/officeDocument/2006/relationships/hyperlink" Target="http://agol.ucoz.ru/publ/4" TargetMode="External"/><Relationship Id="rId25" Type="http://schemas.openxmlformats.org/officeDocument/2006/relationships/hyperlink" Target="http://agol.ucoz.ru/publ/4" TargetMode="External"/><Relationship Id="rId26" Type="http://schemas.openxmlformats.org/officeDocument/2006/relationships/hyperlink" Target="http://agol.ucoz.ru/publ/4" TargetMode="External"/><Relationship Id="rId27" Type="http://schemas.openxmlformats.org/officeDocument/2006/relationships/hyperlink" Target="http://agol.ucoz.ru/publ/4" TargetMode="External"/><Relationship Id="rId28" Type="http://schemas.openxmlformats.org/officeDocument/2006/relationships/hyperlink" Target="http://forum.smallgames.ws/index.php?showtopic=8321&amp;st=1600&amp;p=190424" TargetMode="External"/><Relationship Id="rId29" Type="http://schemas.openxmlformats.org/officeDocument/2006/relationships/hyperlink" Target="http://forum.smallgames.ws/index.php?showtopic=8321&amp;st=1600&amp;p=190424" TargetMode="External"/><Relationship Id="rId30" Type="http://schemas.openxmlformats.org/officeDocument/2006/relationships/hyperlink" Target="http://forum.smallgames.ws/index.php?showtopic=8321&amp;st=1600&amp;p=190424" TargetMode="External"/><Relationship Id="rId31" Type="http://schemas.openxmlformats.org/officeDocument/2006/relationships/hyperlink" Target="http://forum.smallgames.ws/index.php?showtopic=8321&amp;st=1600&amp;p=190424" TargetMode="External"/><Relationship Id="rId3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2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118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120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текст на стр. 89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836800" cy="3745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59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9280" y="1341000"/>
            <a:ext cx="6059520" cy="362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нится ночью па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удо-юдо на с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инный клюв и два кры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летит – плох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кого паук бо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гадали?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16864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050920" y="1268280"/>
            <a:ext cx="5040360" cy="5190120"/>
            <a:chOff x="2050920" y="1268280"/>
            <a:chExt cx="5040360" cy="51901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2050920" y="1268280"/>
              <a:ext cx="5040360" cy="4478400"/>
            </a:xfrm>
            <a:prstGeom prst="rect">
              <a:avLst/>
            </a:prstGeom>
            <a:ln w="38160">
              <a:solidFill>
                <a:srgbClr val="99cc00"/>
              </a:solidFill>
              <a:miter/>
            </a:ln>
          </p:spPr>
        </p:pic>
        <p:sp>
          <p:nvSpPr>
            <p:cNvPr id="152" name=""/>
            <p:cNvSpPr/>
            <p:nvPr/>
          </p:nvSpPr>
          <p:spPr>
            <a:xfrm>
              <a:off x="4017600" y="5877000"/>
              <a:ext cx="141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 Sans MS"/>
                </a:rPr>
                <a:t>Пт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5129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меняется жизнь пти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приходом вес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4897440" cy="3000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72360" y="1916280"/>
            <a:ext cx="1885680" cy="223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4000" y="4437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приходом весны возвращают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дные края перелётные птицы. Они строят или ремонтируют гнёзда, откл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ывают яйца и выводят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71640" y="476280"/>
            <a:ext cx="7127640" cy="4013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ы думаешь, почему стали возможны такие изме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жизн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765000"/>
            <a:ext cx="8209080" cy="3816360"/>
            <a:chOff x="468360" y="765000"/>
            <a:chExt cx="8209080" cy="3816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68360" y="765000"/>
              <a:ext cx="3816360" cy="3816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4500720" y="765000"/>
              <a:ext cx="4176720" cy="37832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</p:grpSp>
      <p:sp>
        <p:nvSpPr>
          <p:cNvPr id="164" name=""/>
          <p:cNvSpPr/>
          <p:nvPr/>
        </p:nvSpPr>
        <p:spPr>
          <a:xfrm>
            <a:off x="447840" y="4581360"/>
            <a:ext cx="82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есной появляются насекомые (пч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шмель, муравьи, бабочка-крапив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ухи, комары) и для птиц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танов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больше к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Отгадай загад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6491520" cy="247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х перелетных птиц чер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тит пашню от черв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зад-вперёд по пашне вска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зовётся птиц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443400" cy="968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335640" cy="4608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1403280" y="580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7040" y="436572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9360" y="5950080"/>
            <a:ext cx="62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рт – время прилёта гр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637000"/>
            <a:ext cx="6265800" cy="2531160"/>
          </a:xfrm>
          <a:prstGeom prst="rect">
            <a:avLst/>
          </a:prstGeom>
          <a:solidFill>
            <a:srgbClr val="66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ы построили вдвоё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гостей весенний д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верней сказать – д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й скор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0200" y="407664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5543640" cy="462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455760" y="595008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Конец марта – время прилёта сквор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40160" y="2637000"/>
            <a:ext cx="5741640" cy="204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ё гнездо он в поле в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де тянутся рас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го и песня и п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шли в стихотвор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09880" y="4941720"/>
            <a:ext cx="28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ЖАВОР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332000" y="1125360"/>
            <a:ext cx="6192720" cy="46897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-60120" y="5945040"/>
            <a:ext cx="92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ремя прилёта жаворонков – начало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3880" y="2565360"/>
            <a:ext cx="5495040" cy="2043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ает к нам с теп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уть проделав дли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пит домик под ок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травы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9320" y="501012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ЛАС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1332000" y="1197000"/>
            <a:ext cx="6264360" cy="470844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395360" y="5950080"/>
            <a:ext cx="64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Май – время прилёта ласточ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87000" y="2637000"/>
            <a:ext cx="5349960" cy="2043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летел к нам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учший наш пе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ни и ночи напрол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83000" y="50817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1332000" y="1353960"/>
            <a:ext cx="6432480" cy="45230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603000" y="5877000"/>
            <a:ext cx="75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оловьи прилетают в середине м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92320" y="5084640"/>
            <a:ext cx="6924600" cy="106884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 каком времени года говор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стихотворении А.Ф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6491520" cy="254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ова птицы летят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 берегам, расторгающим л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 тёплое ходит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ушистого ландыш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3888000" cy="109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477800" cy="145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5640" y="189000"/>
            <a:ext cx="1293840" cy="1533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24040" y="476280"/>
            <a:ext cx="19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Как встречают весну звер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сыпаются от зимнего сна мед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рсуки, ежи. У мног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ождаются детёныши. Звери лин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1501920"/>
            <a:ext cx="8496000" cy="3111480"/>
            <a:chOff x="324000" y="1501920"/>
            <a:chExt cx="8496000" cy="31114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851280" y="1511280"/>
              <a:ext cx="4968720" cy="31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324000" y="1501920"/>
              <a:ext cx="4032000" cy="310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ной животных охраняют особенно тщательно, т.к. они заняты заботой о потомстве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Что вы можете сделать для охраны животных и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345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29040" y="404640"/>
            <a:ext cx="464004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це выше, чем 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2200" y="1413000"/>
            <a:ext cx="5841000" cy="5205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ни стали длиннее. Пот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6840" y="2421000"/>
            <a:ext cx="3751200" cy="30200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бо голубое, высо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ака белые, лё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ая г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таивание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360" y="1989000"/>
            <a:ext cx="43344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651640" y="1989000"/>
            <a:ext cx="28872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3520" y="2421000"/>
            <a:ext cx="3763440" cy="3020040"/>
          </a:xfrm>
          <a:prstGeom prst="rect">
            <a:avLst/>
          </a:prstGeom>
          <a:solidFill>
            <a:srgbClr val="99ff3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ухание п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явление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вращение перелё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ых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нения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3560" y="580536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оставь рассказ «Весна приш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rum.materinstv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index.php?showtopic=692618&amp;st=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otto.net.ua/img/3d/1264892448_C2E5F1EDE02030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900igr.net/photo/priroda/1-Vesna-3.files/003-Vesn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rostislav.mikryukov.info/photo/2-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moygorod.kiev.ua/journal/journal.php?tema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karaoke.ru/user/Schl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fo.sibnet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?id=286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ar-do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thememake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themes-list.mode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25/1/25/1387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Файл:Anemone_ranunculoides_bgiu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www.u-leka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conten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/100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ru.wikipedia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ik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Файл:Hepatica_nobilis_plan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www.liveinterne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use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teanik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post9889539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xbt-torren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/browseC.php?&amp;parent=154&amp;page=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justmedi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society?page=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img.nr2.ru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he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08/03/1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ikologia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oad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neklassnaja_rabot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olosa_ptic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agol.ucoz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pub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forum.smallgames.w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index.php?showtopic=8321&amp;st=1600&amp;p=190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club.foto.ru/gallery/photos/recommended.php?page=1&amp;author_id=158814&amp;recommended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s.mail.ru/inbox/mon_petite/797D2995A1F48C88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etropost.ru/postcards/send/78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bftour.ru/articles.htm?id=1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blog.kp.ru/users/le_soleil82/post123994550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osv.ru/ebooks/Ishimova_Razvitie_rechemisl/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сональный 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http://www.panowa-ox.naro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Назовите весенние меся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846360" y="1557360"/>
            <a:ext cx="13374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4400" y="1557360"/>
            <a:ext cx="1811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640" y="1557360"/>
            <a:ext cx="118044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32360" cy="3921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1990800" cy="3609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Угадай месяц и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назови его при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5111640" cy="3095640"/>
          </a:xfrm>
          <a:prstGeom prst="rect">
            <a:avLst/>
          </a:prstGeom>
          <a:solidFill>
            <a:srgbClr val="71daff"/>
          </a:solidFill>
          <a:ln w="381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ует тёплый южный вет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лнышко всё ярче све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нег худеет, мякнет, 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ач горластый при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? Кто узн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5400" y="58770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315288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3000" y="1916280"/>
            <a:ext cx="4556160" cy="350676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Яростно река ре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разламывает лё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домик свой сквор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у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 в лесу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небе жаворонка тр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то же к нам пришё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1844640"/>
            <a:ext cx="3097080" cy="480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05840" y="58770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пр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00" y="2133720"/>
            <a:ext cx="4568400" cy="3080160"/>
          </a:xfrm>
          <a:prstGeom prst="rect">
            <a:avLst/>
          </a:prstGeom>
          <a:solidFill>
            <a:srgbClr val="ff99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еленеет даль по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певает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белый цвет оделся с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чёлы первые ле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ом грохочет. Угад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за месяц это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508720" y="1773360"/>
            <a:ext cx="3419280" cy="489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80520" y="5877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0" y="1744200"/>
            <a:ext cx="4906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ем вслух текст «Неживая природа весной» на стр. 86-87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000600" cy="3960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4292640"/>
            <a:ext cx="1950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Составь рассказ по пла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58920" y="2565360"/>
            <a:ext cx="3035160" cy="355608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25160" y="1484280"/>
            <a:ext cx="117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Весенние изменения в неживой природ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1712880" cy="3106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923840" y="404640"/>
            <a:ext cx="5296680" cy="6016680"/>
            <a:chOff x="1923840" y="404640"/>
            <a:chExt cx="5296680" cy="6016680"/>
          </a:xfrm>
        </p:grpSpPr>
        <p:sp>
          <p:nvSpPr>
            <p:cNvPr id="86" name=""/>
            <p:cNvSpPr/>
            <p:nvPr/>
          </p:nvSpPr>
          <p:spPr>
            <a:xfrm>
              <a:off x="1923840" y="404640"/>
              <a:ext cx="529668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Солнце выше, чем зим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1000" y="1413000"/>
              <a:ext cx="4127760" cy="106884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Дни стали длиннее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тепл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75920" y="2914560"/>
              <a:ext cx="4338000" cy="350676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Небо голубое, высо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блака белые, лёг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Таяние снега, ль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Ледо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оловодь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садки: снег, дож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ервая гро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Оттаива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56000" y="98100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6000" y="249228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13906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Работа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те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3:17:51Z</dcterms:created>
  <dc:creator>мама</dc:creator>
  <dc:description/>
  <dc:language>en-US</dc:language>
  <cp:lastModifiedBy>мама</cp:lastModifiedBy>
  <dcterms:modified xsi:type="dcterms:W3CDTF">2011-02-27T13:53:16Z</dcterms:modified>
  <cp:revision>11</cp:revision>
  <dc:subject/>
  <dc:title>Слайд 1</dc:title>
</cp:coreProperties>
</file>