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973-C227-4734-B8FD-B6C4D25E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E3C-B9FD-43C3-8670-C3BC58D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3DF-E19B-4FE5-BEBB-22A6310B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16C-139F-48C1-8906-09A6AA09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0049-AD30-4E94-87B3-0131B8D8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38F7-CC41-4B01-83A7-9004DAD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FB02-9B18-4B80-A3E1-DCB37757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FB6D-9D57-45C9-BE0C-02C2D86F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65D3-F08E-46AF-A61E-BE697A54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371F-9BD0-4BC1-B9EF-1BDAB5F6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18D2-F0A5-4BE0-962E-A2986A8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868-6347-4A00-9927-1B60D9B3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1AFF-F0ED-4619-97BE-FEA1DCDD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94D3-0ECA-44E9-BD9D-965B4E59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D219-D38D-43D0-8FD5-06FD5EC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B896-70FD-4374-8F6D-2DFD3386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E394-4E63-4C09-AFC2-6EEFFC08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0BB-22F9-430C-8451-B565357B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69E-7C80-4358-82E2-81AE7375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D68-74ED-4477-9689-526961ED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289-00E8-4F7A-9A19-250AB855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C13-7A9B-4FB4-BB91-1A4F629B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016-78AB-45C8-B7E7-99327AF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9AE-C3A3-4417-8659-55EF81DD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FC40-2864-4325-8726-6306465CF7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BAD6-A018-4070-B0F7-5D311F53DD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jane.ru/articles/text/?id=623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yjane.ru/articles/text/?id=6232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Урок физической культуры в 10 класс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Тема: Степ-аэроб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Установлено, что за одинаковое время степ-аэробика сжигает больше калорий, чем танцевальная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" name="" descr="Фото: Светлана Созинова /Великая Эпоха"/>
          <p:cNvPicPr/>
          <p:nvPr/>
        </p:nvPicPr>
        <p:blipFill>
          <a:blip r:embed="rId1"/>
          <a:stretch/>
        </p:blipFill>
        <p:spPr>
          <a:xfrm>
            <a:off x="6012000" y="3213000"/>
            <a:ext cx="285732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днако у нее есть существенный минус. Степ-аэробика перегружает коленные и тазобедренные суставы. А это риск травмы для многих людей, страдающих от нехватки кальция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лово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Стретчинг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в переводе с английского - потягивание, вытяжение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" descr="Растяжимые понят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2997360"/>
            <a:ext cx="2054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Библейская мудрость гласит: 'Тело есть храм, в котором живет святой дух'. Естественно, что форма 'храма' должна соответствовать своему внутреннему содержанию. Степ-аэробика дает возможность совместить развитие внутреннего и внешнего облика человека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9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аким образом? Выбирая для упражнений свою любимую музыку, вы заботитесь о пище для души, а выполняя под нее физические упражнения, приводите в движение, а следовательно, заставляете жить свое тело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А теперь к практик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Историческая справка о степ -аэробик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Изобрела ее около 10 лет назад американка Джин Миллер, известный инструктор по аэробике. После травмы колена она для укрепления мышц и ускорения выздоровления приспособила для тренировок... ступеньки крыльца своего дома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987640" y="4432320"/>
            <a:ext cx="3340080" cy="2425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итмичные подъемы и спуски по ступенькам дали такой замечательный результат, что Джин, выздоровев, немедленно приступила к созданию нового вида аэробики, который получил название «Степ-аэробика»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340080" cy="2426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теп аэробика проводится со специальными платформами «степами». Высота которых для начинающих 15 см, 30 см, ширина 50 см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Таким образом степ-аэробика это танцевальные занятия при помощи специальной платформы. На  нее надо подниматься и опускаться под музыку, в сочетании с танцевальными движениям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 "/>
          <p:cNvPicPr/>
          <p:nvPr/>
        </p:nvPicPr>
        <p:blipFill>
          <a:blip r:embed="rId1"/>
          <a:stretch/>
        </p:blipFill>
        <p:spPr>
          <a:xfrm>
            <a:off x="1763640" y="4508640"/>
            <a:ext cx="4537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ри желании такую платформу с можно сделать самим или  взять для занятий удобную и устойчивую скамей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Фото"/>
          <p:cNvPicPr/>
          <p:nvPr/>
        </p:nvPicPr>
        <p:blipFill>
          <a:blip r:embed="rId1"/>
          <a:stretch/>
        </p:blipFill>
        <p:spPr>
          <a:xfrm>
            <a:off x="3276720" y="3429000"/>
            <a:ext cx="285732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Движения в степе просты и подходят для людей разного возраста и разной физической подготовленност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" descr="Step by ste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284640"/>
            <a:ext cx="1333440" cy="1942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700360" y="3141720"/>
            <a:ext cx="15811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теп-аэробика великолепно улучшает фигуру, в особенности форму голени, бедра и ягодиц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3340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есколько правил степ-аэробик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дъем на платформу надо осуществлять за счет ног а не спи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тупни ставить на платформу полность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пину всегда держать прям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делать резких движений, а также движений одной и той же ногой или рукой больше одной мину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22:18:53Z</dcterms:created>
  <dc:creator>XTreme</dc:creator>
  <dc:description/>
  <dc:language>en-US</dc:language>
  <cp:lastModifiedBy>XTreme</cp:lastModifiedBy>
  <dcterms:modified xsi:type="dcterms:W3CDTF">2009-01-19T23:46:03Z</dcterms:modified>
  <cp:revision>2</cp:revision>
  <dc:subject/>
  <dc:title>Урок физической культуры в 10 классе</dc:title>
</cp:coreProperties>
</file>