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4E1-0405-45A6-BEB5-41A65DBA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614-A5E4-411F-B2FF-528EC3BF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780-BA71-46D3-8BA5-F9EC3C6E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EF2-2CC3-4E70-9F4F-5BFBE1F6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E23-4157-40AC-BEBB-B9F9F2D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0315-FBC5-48B4-92CE-2BAF0D5F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378-20D3-4A55-AE11-B2C3349F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3E5-5BEC-433B-A746-78C15A7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3F53-ED8E-449B-AEAA-5E41F49F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4C08-4A41-4D19-A01F-FFE0CA29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A5B-0DD6-4DAF-8B39-9ECEE49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4C4-3DC5-4E15-9AFB-247159C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389A-BBAC-46B4-942C-CD7E11A0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48FA-39C7-493C-A994-EBC6F2DA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7B57-E1A6-472A-B07C-30956C4B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9D7B-2902-42BE-B848-35E30D81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AC6E-F19B-425E-9A0A-ADE57214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CF2-F384-434D-BA78-57642CA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253-0DA0-4CC2-AE15-8236D65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5F0-CB23-4282-8CAF-A926ABDE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3E6-4F00-4EA9-88AF-D6AB064D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BC8-EBAD-4BE1-A7D8-EEC6C99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210-CA4A-4821-8949-BF8CFD3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6A2-950C-4994-97D3-D6A79F6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D316-3559-4BDA-A6F7-A5A3C9686C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F741-4E33-4903-9E07-72570B869E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3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jane.ru/articles/text/?id=6232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рок физической культуры в 10 класс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Тема: Степ-аэроб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Установлено, что за одинаковое время степ-аэробика сжигает больше калорий, чем танцевальная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0" name="" descr="Фото: Светлана Созинова /Великая Эпоха"/>
          <p:cNvPicPr/>
          <p:nvPr/>
        </p:nvPicPr>
        <p:blipFill>
          <a:blip r:embed="rId1"/>
          <a:stretch/>
        </p:blipFill>
        <p:spPr>
          <a:xfrm>
            <a:off x="6012000" y="3213000"/>
            <a:ext cx="285732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днако у нее есть существенный минус. Степ-аэробика перегружает коленные и тазобедренные суставы. А это риск травмы для многих людей, страдающих от нехватки кальция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лово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Стретчинг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в переводе с английского - потягивание, вытяжение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" descr="Растяжимые понят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997360"/>
            <a:ext cx="2054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Библейская мудрость гласит: 'Тело есть храм, в котором живет святой дух'. Естественно, что форма 'храма' должна соответствовать своему внутреннему содержанию. Степ-аэробика дает возможность совместить развитие внутреннего и внешнего облика человека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9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ким образом? Выбирая для упражнений свою любимую музыку, вы заботитесь о пище для души, а выполняя под нее физические упражнения, приводите в движение, а следовательно, заставляете жить свое тело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А теперь к практик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торическая справка о степ -аэробик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Изобрела ее около 10 лет назад американка Джин Миллер, известный инструктор по аэробике. После травмы колена она для укрепления мышц и ускорения выздоровления приспособила для тренировок... ступеньки крыльца своего дома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987640" y="4432320"/>
            <a:ext cx="3340080" cy="24256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итмичные подъемы и спуски по ступенькам дали такой замечательный результат, что Джин, выздоровев, немедленно приступила к созданию нового вида аэробики, который получил название «Степ-аэробика»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340080" cy="2426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 аэробика проводится со специальными платформами «степами». Высота которых для начинающих 15 см, 30 см, ширина 50 см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Таким образом степ-аэробика это танцевальные занятия при помощи специальной платформы. На  нее надо подниматься и опускаться под музыку, в сочетании с танцевальными движениям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" descr=" "/>
          <p:cNvPicPr/>
          <p:nvPr/>
        </p:nvPicPr>
        <p:blipFill>
          <a:blip r:embed="rId1"/>
          <a:stretch/>
        </p:blipFill>
        <p:spPr>
          <a:xfrm>
            <a:off x="1763640" y="4508640"/>
            <a:ext cx="4537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ри желании такую платформу с можно сделать самим или  взять для занятий удобную и устойчивую скамейк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" descr="Фото"/>
          <p:cNvPicPr/>
          <p:nvPr/>
        </p:nvPicPr>
        <p:blipFill>
          <a:blip r:embed="rId1"/>
          <a:stretch/>
        </p:blipFill>
        <p:spPr>
          <a:xfrm>
            <a:off x="3276720" y="3429000"/>
            <a:ext cx="285732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вижения в степе просты и подходят для людей разного возраста и разной физической подготовленност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" descr="Step by ste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284640"/>
            <a:ext cx="1333440" cy="1942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700360" y="3141720"/>
            <a:ext cx="15811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теп-аэробика великолепно улучшает фигуру, в особенности форму голени, бедра и ягодиц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340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Несколько правил степ-аэробик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дъем на платформу надо осуществлять за счет ног а не спи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упни ставить на платформу полностью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пину всегда держать прям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делать резких движений, а также движений одной и той же ногой или рукой больше одной мину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22:18:53Z</dcterms:created>
  <dc:creator>XTreme</dc:creator>
  <dc:description/>
  <dc:language>en-US</dc:language>
  <cp:lastModifiedBy>XTreme</cp:lastModifiedBy>
  <dcterms:modified xsi:type="dcterms:W3CDTF">2009-01-19T23:46:03Z</dcterms:modified>
  <cp:revision>2</cp:revision>
  <dc:subject/>
  <dc:title>Урок физической культуры в 10 классе</dc:title>
</cp:coreProperties>
</file>