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21D-AC5A-4641-AF74-43772361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2AA-C1FF-4B25-AA51-4EEADCC3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190-EA17-4AFE-BAD1-80EEF88D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A66-DC8F-4591-9338-3D5704C3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9FEE-E60A-4C89-B8D1-4EB6AEEC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068A-C74F-4BB8-A92C-0D8F5708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69F3-AB77-4330-A967-45D8735C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919C-B571-451E-92B9-19771ED2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BC52-798B-411A-97BA-79763FC3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E3FC-BC6F-43E8-87D4-14E1C85E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9F02-3BAD-4C0A-80D2-7E6603B6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F59-61CF-451C-BB81-849ABADE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E229-02B1-4C64-8D9B-5ECA09B6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A981-696E-4B01-B644-8D020748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6603-4698-4F5B-B554-800FA280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E132-EB41-4802-9F66-21A1DFDF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3FA9-D81D-4428-A973-AFC58972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B32-D14D-4C3A-9845-E1C7D8B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5F9-CD58-4F1D-8425-BB0FF700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C84-9256-4B1A-B075-4F4E20F4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9B8-5D7E-48CD-B8ED-CC77C7B6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54D-550E-4127-AA2F-097B74DF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6F2-0C3A-4638-8A1C-D519DF40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CFA-B048-42E7-B8D4-EC0AFAC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90B5-F275-4515-B604-1936646856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7B48-9B65-41D8-9024-870044A8B76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jane.ru/articles/text/?id=623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yjane.ru/articles/text/?id=6232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Урок физической культуры в 10 класс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Тема: Степ-аэроб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Установлено, что за одинаковое время степ-аэробика сжигает больше калорий, чем танцевальная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" name="" descr="Фото: Светлана Созинова /Великая Эпоха"/>
          <p:cNvPicPr/>
          <p:nvPr/>
        </p:nvPicPr>
        <p:blipFill>
          <a:blip r:embed="rId1"/>
          <a:stretch/>
        </p:blipFill>
        <p:spPr>
          <a:xfrm>
            <a:off x="6012000" y="3213000"/>
            <a:ext cx="285732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днако у нее есть существенный минус. Степ-аэробика перегружает коленные и тазобедренные суставы. А это риск травмы для многих людей, страдающих от нехватки кальция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лово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Стретчинг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в переводе с английского - потягивание, вытяжение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" descr="Растяжимые понят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2997360"/>
            <a:ext cx="2054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Библейская мудрость гласит: 'Тело есть храм, в котором живет святой дух'. Естественно, что форма 'храма' должна соответствовать своему внутреннему содержанию. Степ-аэробика дает возможность совместить развитие внутреннего и внешнего облика человека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9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аким образом? Выбирая для упражнений свою любимую музыку, вы заботитесь о пище для души, а выполняя под нее физические упражнения, приводите в движение, а следовательно, заставляете жить свое тело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А теперь к практик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Историческая справка о степ -аэробик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Изобрела ее около 10 лет назад американка Джин Миллер, известный инструктор по аэробике. После травмы колена она для укрепления мышц и ускорения выздоровления приспособила для тренировок... ступеньки крыльца своего дома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987640" y="4432320"/>
            <a:ext cx="3340080" cy="2425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итмичные подъемы и спуски по ступенькам дали такой замечательный результат, что Джин, выздоровев, немедленно приступила к созданию нового вида аэробики, который получил название «Степ-аэробика»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340080" cy="2426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теп аэробика проводится со специальными платформами «степами». Высота которых для начинающих 15 см, 30 см, ширина 50 см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Таким образом степ-аэробика это танцевальные занятия при помощи специальной платформы. На  нее надо подниматься и опускаться под музыку, в сочетании с танцевальными движениям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 "/>
          <p:cNvPicPr/>
          <p:nvPr/>
        </p:nvPicPr>
        <p:blipFill>
          <a:blip r:embed="rId1"/>
          <a:stretch/>
        </p:blipFill>
        <p:spPr>
          <a:xfrm>
            <a:off x="1763640" y="4508640"/>
            <a:ext cx="4537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ри желании такую платформу с можно сделать самим или  взять для занятий удобную и устойчивую скамей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Фото"/>
          <p:cNvPicPr/>
          <p:nvPr/>
        </p:nvPicPr>
        <p:blipFill>
          <a:blip r:embed="rId1"/>
          <a:stretch/>
        </p:blipFill>
        <p:spPr>
          <a:xfrm>
            <a:off x="3276720" y="3429000"/>
            <a:ext cx="285732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Движения в степе просты и подходят для людей разного возраста и разной физической подготовленност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" descr="Step by ste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284640"/>
            <a:ext cx="1333440" cy="1942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700360" y="3141720"/>
            <a:ext cx="15811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теп-аэробика великолепно улучшает фигуру, в особенности форму голени, бедра и ягодиц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3340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есколько правил степ-аэробик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дъем на платформу надо осуществлять за счет ног а не спи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тупни ставить на платформу полность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пину всегда держать прям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делать резких движений, а также движений одной и той же ногой или рукой больше одной мину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22:18:53Z</dcterms:created>
  <dc:creator>XTreme</dc:creator>
  <dc:description/>
  <dc:language>en-US</dc:language>
  <cp:lastModifiedBy>XTreme</cp:lastModifiedBy>
  <dcterms:modified xsi:type="dcterms:W3CDTF">2009-01-19T23:46:03Z</dcterms:modified>
  <cp:revision>2</cp:revision>
  <dc:subject/>
  <dc:title>Урок физической культуры в 10 классе</dc:title>
</cp:coreProperties>
</file>