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95FF-3E3A-43E9-A62A-A545551F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4CB0-322C-4BC9-BA56-A5827B88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61C9-5799-4B92-95EC-ECB054F3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DE7-4529-4306-BB71-2F83E4BC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15E-B7AB-49C9-BDA6-A94FCDC0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AE1-130F-4590-94ED-8AF5C68A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BA9-F734-4789-8067-12154F8C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CBB5-F2D2-4A51-B35D-02AA6DA1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457D-0771-4D01-968C-E9A80CC8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243-F705-44A2-8701-78573B98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730-5FF3-40B7-91AB-7DE9227E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941-804E-4516-AA16-C83BF811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D84E-CE6C-4356-8067-7F880E66F3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468360" y="1413000"/>
            <a:ext cx="748836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Н. А. Некрасов и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Костромской край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42" name="AutoShape 11">
            <a:hlinkClick r:id="" action="ppaction://hlinkshowjump?jump=nextslide"/>
          </p:cNvPr>
          <p:cNvSpPr/>
          <p:nvPr/>
        </p:nvSpPr>
        <p:spPr>
          <a:xfrm>
            <a:off x="8532720" y="6597720"/>
            <a:ext cx="611280" cy="260280"/>
          </a:xfrm>
          <a:custGeom>
            <a:avLst/>
            <a:gdLst>
              <a:gd name="textAreaLeft" fmla="*/ 16560 w 611280"/>
              <a:gd name="textAreaRight" fmla="*/ 594720 w 611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0688" h="21600">
                <a:moveTo>
                  <a:pt x="0" y="0"/>
                </a:moveTo>
                <a:lnTo>
                  <a:pt x="50688" y="0"/>
                </a:lnTo>
                <a:lnTo>
                  <a:pt x="50688" y="21600"/>
                </a:lnTo>
                <a:lnTo>
                  <a:pt x="0" y="21600"/>
                </a:lnTo>
                <a:close/>
              </a:path>
              <a:path fill="lightenLess" w="50688" h="21600">
                <a:moveTo>
                  <a:pt x="0" y="0"/>
                </a:moveTo>
                <a:lnTo>
                  <a:pt x="50688" y="0"/>
                </a:lnTo>
                <a:lnTo>
                  <a:pt x="49288" y="1400"/>
                </a:lnTo>
                <a:lnTo>
                  <a:pt x="1400" y="1400"/>
                </a:lnTo>
                <a:close/>
              </a:path>
              <a:path fill="darken" w="50688" h="21600">
                <a:moveTo>
                  <a:pt x="50688" y="0"/>
                </a:moveTo>
                <a:lnTo>
                  <a:pt x="50688" y="21600"/>
                </a:lnTo>
                <a:lnTo>
                  <a:pt x="49288" y="20200"/>
                </a:lnTo>
                <a:lnTo>
                  <a:pt x="49288" y="1400"/>
                </a:lnTo>
                <a:close/>
              </a:path>
              <a:path fill="darkenLess" w="50688" h="21600">
                <a:moveTo>
                  <a:pt x="50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288" y="20200"/>
                </a:lnTo>
                <a:close/>
              </a:path>
              <a:path fill="lighten" w="50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688" h="21600">
                <a:moveTo>
                  <a:pt x="18338" y="3794"/>
                </a:moveTo>
                <a:lnTo>
                  <a:pt x="32351" y="10800"/>
                </a:lnTo>
                <a:lnTo>
                  <a:pt x="183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WordArt 14"/>
          <p:cNvSpPr txBox="1"/>
          <p:nvPr/>
        </p:nvSpPr>
        <p:spPr>
          <a:xfrm>
            <a:off x="1116000" y="189000"/>
            <a:ext cx="6624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ОУ Гридинская основная общеобразовательная школа 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Красносельского района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4" name="WordArt 15"/>
          <p:cNvSpPr txBox="1"/>
          <p:nvPr/>
        </p:nvSpPr>
        <p:spPr>
          <a:xfrm>
            <a:off x="3203640" y="5805360"/>
            <a:ext cx="22320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006 - 2007 уч.год.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1258920" y="620640"/>
            <a:ext cx="597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"Генерал Топтыгин"</a:t>
            </a:r>
            <a:endParaRPr b="1" i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55640" y="220500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39640" y="2060640"/>
            <a:ext cx="7848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Недалеко от родовой усадьбы костромских дворян Корниловых Зиновьево, что за современным поселком Никольское, поэт узнал о проделке ручного медведя, про которого забыли пьяные цыгане. Медведь сел в сани на почтовой станции Дровинки и промчался на тройке до следующей сианции в Антипино. Так родилось стихотворение «Генерал Топтыгин».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13" name="Group 17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14" name="AutoShape 14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5" name="AutoShape 15">
              <a:hlinkClick r:id="rId1" action="ppaction://hlinksldjump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6" name="AutoShape 16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1116000" y="189000"/>
            <a:ext cx="6048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Поэма "Коробейники"</a:t>
            </a:r>
            <a:endParaRPr b="1" i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539640" y="1125360"/>
            <a:ext cx="799164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Поэма «Коробейники» - одно из самых известных костромских произведений поэта. История ее создания довольно необычна. Некрасов был заядлым охотником. Однажды он остановился в гостинице «Лондон»(сейчас здание суда) и увидел из окна мужчину с целой связкой дичи. Удачливым охотником оказался житель костромской деревни Шода Гаврила Яковлевич Захаров. С тех пор они стали близкими друзьями и часто вместе ходили на охоту. Гаврила Захаров рассказал ему историю о коробейниках.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20" name="AutoShape 9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1" name="AutoShape 10">
              <a:hlinkClick r:id="rId1" action="ppaction://hlinksldjump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2" name="AutoShape 11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7"/>
          <p:cNvSpPr txBox="1"/>
          <p:nvPr/>
        </p:nvSpPr>
        <p:spPr>
          <a:xfrm>
            <a:off x="611280" y="333360"/>
            <a:ext cx="799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"Кому на Руси жить хорошо"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39640" y="1700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Многие уголки Костромской земли запечатлел Некрасов в своей поэме: и саму Кострому, и уездный город Буй, и «Корежену» на реке Кореге в его окрестностях, и деревни Мисково, Босово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, в которой «Яким Нагой живет»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25" name="Group 17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26" name="AutoShape 14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7" name="AutoShape 15">
              <a:hlinkClick r:id="rId1" action="ppaction://hlinksldjump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8" name="AutoShape 16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7" descr="IMG1"/>
          <p:cNvPicPr/>
          <p:nvPr/>
        </p:nvPicPr>
        <p:blipFill>
          <a:blip r:embed="rId1"/>
          <a:stretch/>
        </p:blipFill>
        <p:spPr>
          <a:xfrm>
            <a:off x="5697360" y="2681280"/>
            <a:ext cx="3446640" cy="4176720"/>
          </a:xfrm>
          <a:prstGeom prst="rect">
            <a:avLst/>
          </a:prstGeom>
          <a:ln w="0">
            <a:noFill/>
          </a:ln>
        </p:spPr>
      </p:pic>
      <p:sp>
        <p:nvSpPr>
          <p:cNvPr id="130" name="WordArt 19"/>
          <p:cNvSpPr txBox="1"/>
          <p:nvPr/>
        </p:nvSpPr>
        <p:spPr>
          <a:xfrm>
            <a:off x="1187280" y="476280"/>
            <a:ext cx="619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"Крестьянские дети"</a:t>
            </a:r>
            <a:endParaRPr b="1" i="1" lang="en-US" sz="32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179280" y="1557360"/>
            <a:ext cx="705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Стихи Некрасова удивительно музыкальны и понятны по содержанию всякому человеку. А уж кого поэт всегда любил                          и жалел, так это крестьянских               детей. Им он посвятил много стихотворений, в том числе и стихотворение «Крестьянские              дети». 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32" name="Group 28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33" name="AutoShape 24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34" name="AutoShape 25"/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35" name="AutoShape 26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16"/>
          <p:cNvGraphicFramePr/>
          <p:nvPr/>
        </p:nvGraphicFramePr>
        <p:xfrm>
          <a:off x="1258920" y="1197000"/>
          <a:ext cx="705636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97000"/>
                    <a:ext cx="705636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WordArt 7"/>
          <p:cNvSpPr txBox="1"/>
          <p:nvPr/>
        </p:nvSpPr>
        <p:spPr>
          <a:xfrm>
            <a:off x="755640" y="0"/>
            <a:ext cx="770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Опрос населения: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graphicFrame>
        <p:nvGraphicFramePr>
          <p:cNvPr id="139" name="Object 17"/>
          <p:cNvGraphicFramePr/>
          <p:nvPr/>
        </p:nvGraphicFramePr>
        <p:xfrm>
          <a:off x="1187280" y="1111320"/>
          <a:ext cx="7201080" cy="574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1111320"/>
                    <a:ext cx="7201080" cy="57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8"/>
          <p:cNvGraphicFramePr/>
          <p:nvPr/>
        </p:nvGraphicFramePr>
        <p:xfrm>
          <a:off x="1187280" y="1065240"/>
          <a:ext cx="7201080" cy="579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1065240"/>
                    <a:ext cx="720108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Group 20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44" name="AutoShape 21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45" name="AutoShape 22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46" name="AutoShape 23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48" name="AutoShape 5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49" name="AutoShape 6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50" name="AutoShape 7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51" name="WordArt 8"/>
          <p:cNvSpPr txBox="1"/>
          <p:nvPr/>
        </p:nvSpPr>
        <p:spPr>
          <a:xfrm>
            <a:off x="1258920" y="836640"/>
            <a:ext cx="6121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Times New Roman"/>
              </a:rPr>
              <a:t>Результаты исследования: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Times New Roman"/>
              <a:ea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11280" y="234936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Костромская земля, костромской народ оказал огромное влияние на творчество Н.А. Некрасова.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3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8"/>
          <p:cNvSpPr txBox="1"/>
          <p:nvPr/>
        </p:nvSpPr>
        <p:spPr>
          <a:xfrm>
            <a:off x="324000" y="1557360"/>
            <a:ext cx="8569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Times New Roman"/>
              </a:rPr>
              <a:t>ПРЕЗЕНТАЦИЮ ВЫПОЛНИЛИ 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Times New Roman"/>
              </a:rPr>
              <a:t>КРУЖКОВЦЫ.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Times New Roman"/>
              <a:ea typeface="Times New Roman"/>
            </a:endParaRPr>
          </a:p>
        </p:txBody>
      </p:sp>
      <p:grpSp>
        <p:nvGrpSpPr>
          <p:cNvPr id="154" name="Group 9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55" name="AutoShape 10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56" name="AutoShape 11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57" name="AutoShape 12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1619280" y="189000"/>
            <a:ext cx="6337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Цель проекта: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46" name="WordArt 11"/>
          <p:cNvSpPr txBox="1"/>
          <p:nvPr/>
        </p:nvSpPr>
        <p:spPr>
          <a:xfrm>
            <a:off x="468360" y="1989000"/>
            <a:ext cx="770400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Исследовать влияние  Костромской </a:t>
            </a:r>
            <a:endParaRPr b="1" i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земли на  творчество великого</a:t>
            </a:r>
            <a:endParaRPr b="1" i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русского поэта Н.А.Некрасова .</a:t>
            </a:r>
            <a:endParaRPr b="1" i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pSp>
        <p:nvGrpSpPr>
          <p:cNvPr id="47" name="Group 14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48" name="AutoShape 9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" name="AutoShape 12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" name="AutoShape 13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1116000" y="189000"/>
            <a:ext cx="597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дачи проекта: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468360" y="1413000"/>
            <a:ext cx="83516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) Показать как Н.А.Некрасов полно отразил в своем </a:t>
            </a:r>
            <a:endParaRPr b="1" i="1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творчестве быт, нравы, образ жизни костромичей.</a:t>
            </a:r>
            <a:endParaRPr b="1" i="1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10"/>
          <p:cNvSpPr txBox="1"/>
          <p:nvPr/>
        </p:nvSpPr>
        <p:spPr>
          <a:xfrm>
            <a:off x="324000" y="3357720"/>
            <a:ext cx="842472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)Выяснить , какае факты из жизни наших предков стали</a:t>
            </a:r>
            <a:endParaRPr b="1" i="1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достоянием творчества поэта, кто из наших земляков был </a:t>
            </a:r>
            <a:endParaRPr b="1" i="1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избран в качестве прототипов героев поэм и стихов поэта.</a:t>
            </a:r>
            <a:endParaRPr b="1" i="1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pSp>
        <p:nvGrpSpPr>
          <p:cNvPr id="54" name="Group 11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55" name="AutoShape 12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" name="AutoShape 13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7" name="AutoShape 14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6"/>
          <p:cNvSpPr txBox="1"/>
          <p:nvPr/>
        </p:nvSpPr>
        <p:spPr>
          <a:xfrm>
            <a:off x="2484360" y="549360"/>
            <a:ext cx="460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апы проекта: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671480" y="1663560"/>
            <a:ext cx="693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60" name="Group 9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61" name="AutoShape 10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" name="AutoShape 11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3" name="AutoShape 12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64" name="Text Box 13"/>
          <p:cNvSpPr/>
          <p:nvPr/>
        </p:nvSpPr>
        <p:spPr>
          <a:xfrm>
            <a:off x="324000" y="1844640"/>
            <a:ext cx="820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1.Изучение и анализ литературы о жизни и творчестве Н.А. Некрасова.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324000" y="2887560"/>
            <a:ext cx="79930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2.Соцопрос населения о жизни и творчестве поэта.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3.Проведение мероприятия «Некрасовские чтения»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4.Проведение конкурса рисунков по теме «Н.А. Некрасов и Костромской край»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-1568520" y="5516640"/>
            <a:ext cx="125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5.Оформление результатов проекта в виде презентации.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36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84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44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1360"/>
                            </p:stCondLst>
                            <p:childTnLst>
                              <p:par>
                                <p:cTn id="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3456"/>
          <p:cNvPicPr/>
          <p:nvPr/>
        </p:nvPicPr>
        <p:blipFill>
          <a:blip r:embed="rId1"/>
          <a:stretch/>
        </p:blipFill>
        <p:spPr>
          <a:xfrm>
            <a:off x="5796000" y="404640"/>
            <a:ext cx="2909880" cy="4149720"/>
          </a:xfrm>
          <a:prstGeom prst="rect">
            <a:avLst/>
          </a:prstGeom>
          <a:ln w="0">
            <a:noFill/>
          </a:ln>
        </p:spPr>
      </p:pic>
      <p:sp>
        <p:nvSpPr>
          <p:cNvPr id="68" name="WordArt 6"/>
          <p:cNvSpPr txBox="1"/>
          <p:nvPr/>
        </p:nvSpPr>
        <p:spPr>
          <a:xfrm>
            <a:off x="3851280" y="4869000"/>
            <a:ext cx="47530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Н. А. Некрасов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(1821-1878)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69" name="WordArt 7"/>
          <p:cNvSpPr txBox="1"/>
          <p:nvPr/>
        </p:nvSpPr>
        <p:spPr>
          <a:xfrm>
            <a:off x="468360" y="260280"/>
            <a:ext cx="4680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"Я лиру посвятил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народу своему"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grpSp>
        <p:nvGrpSpPr>
          <p:cNvPr id="70" name="Group 10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71" name="AutoShape 11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2" name="AutoShape 12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3" name="AutoShape 13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7"/>
          <p:cNvSpPr txBox="1"/>
          <p:nvPr/>
        </p:nvSpPr>
        <p:spPr>
          <a:xfrm>
            <a:off x="179280" y="260280"/>
            <a:ext cx="6840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Влияние Костромской земли 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на творчество писателя.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24000" y="2565360"/>
            <a:ext cx="88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Monotype Corsiva"/>
              </a:rPr>
              <a:t>Некрасов любил охотиться в лесах и на лугах по берегам р. Костромы. Здесь у него было немало знакомых крестьян: с их слов он записывал местные народные предания, песни, пословицы и поговорки, которые использовал в своем творчестве.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6" name="Picture 10" descr="nekrasov"/>
          <p:cNvPicPr/>
          <p:nvPr/>
        </p:nvPicPr>
        <p:blipFill>
          <a:blip r:embed="rId1"/>
          <a:stretch/>
        </p:blipFill>
        <p:spPr>
          <a:xfrm>
            <a:off x="7077240" y="0"/>
            <a:ext cx="2066760" cy="256536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12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78" name="AutoShape 13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9" name="AutoShape 14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0" name="AutoShape 15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8,-1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16,-17,-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5"/>
          <p:cNvSpPr txBox="1"/>
          <p:nvPr/>
        </p:nvSpPr>
        <p:spPr>
          <a:xfrm>
            <a:off x="250920" y="0"/>
            <a:ext cx="7993080" cy="29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"Хороша наша губерния, славен город 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Кострома"- писал Н. А. Некрасов в 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поэме "Коробейники".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82" name="Picture 10" descr="kost11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14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84" name="AutoShape 15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5" name="AutoShape 16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6" name="AutoShape 17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Organization Chart 47"/>
          <p:cNvGrpSpPr/>
          <p:nvPr/>
        </p:nvGrpSpPr>
        <p:grpSpPr>
          <a:xfrm>
            <a:off x="0" y="189000"/>
            <a:ext cx="8963280" cy="6408360"/>
            <a:chOff x="0" y="189000"/>
            <a:chExt cx="8963280" cy="6408360"/>
          </a:xfrm>
        </p:grpSpPr>
        <p:cxnSp>
          <p:nvCxnSpPr>
            <p:cNvPr id="88" name="_s1028"/>
            <p:cNvCxnSpPr>
              <a:stCxn id="89" idx="3"/>
              <a:endCxn id="90" idx="2"/>
            </p:cNvCxnSpPr>
            <p:nvPr/>
          </p:nvCxnSpPr>
          <p:spPr>
            <a:xfrm flipV="1">
              <a:off x="5377680" y="942120"/>
              <a:ext cx="896760" cy="5277960"/>
            </a:xfrm>
            <a:prstGeom prst="bentConnector2">
              <a:avLst/>
            </a:prstGeom>
            <a:ln w="28440">
              <a:solidFill>
                <a:srgbClr val="ffcc99"/>
              </a:solidFill>
              <a:miter/>
            </a:ln>
          </p:spPr>
        </p:cxnSp>
        <p:cxnSp>
          <p:nvCxnSpPr>
            <p:cNvPr id="91" name="_s1029"/>
            <p:cNvCxnSpPr>
              <a:stCxn id="92" idx="3"/>
              <a:endCxn id="90" idx="2"/>
            </p:cNvCxnSpPr>
            <p:nvPr/>
          </p:nvCxnSpPr>
          <p:spPr>
            <a:xfrm flipV="1">
              <a:off x="5377680" y="942120"/>
              <a:ext cx="896760" cy="4149720"/>
            </a:xfrm>
            <a:prstGeom prst="bentConnector2">
              <a:avLst/>
            </a:prstGeom>
            <a:ln w="28440">
              <a:solidFill>
                <a:srgbClr val="ffcc99"/>
              </a:solidFill>
              <a:miter/>
            </a:ln>
          </p:spPr>
        </p:cxnSp>
        <p:cxnSp>
          <p:nvCxnSpPr>
            <p:cNvPr id="93" name="_s1030"/>
            <p:cNvCxnSpPr>
              <a:stCxn id="94" idx="3"/>
              <a:endCxn id="90" idx="2"/>
            </p:cNvCxnSpPr>
            <p:nvPr/>
          </p:nvCxnSpPr>
          <p:spPr>
            <a:xfrm flipV="1">
              <a:off x="5377680" y="942120"/>
              <a:ext cx="896760" cy="3016440"/>
            </a:xfrm>
            <a:prstGeom prst="bentConnector2">
              <a:avLst/>
            </a:prstGeom>
            <a:ln w="28440">
              <a:solidFill>
                <a:srgbClr val="ffcc99"/>
              </a:solidFill>
              <a:miter/>
            </a:ln>
          </p:spPr>
        </p:cxnSp>
        <p:cxnSp>
          <p:nvCxnSpPr>
            <p:cNvPr id="95" name="_s1031"/>
            <p:cNvCxnSpPr>
              <a:stCxn id="96" idx="3"/>
              <a:endCxn id="90" idx="2"/>
            </p:cNvCxnSpPr>
            <p:nvPr/>
          </p:nvCxnSpPr>
          <p:spPr>
            <a:xfrm flipV="1">
              <a:off x="5377680" y="942120"/>
              <a:ext cx="896760" cy="1885320"/>
            </a:xfrm>
            <a:prstGeom prst="bentConnector2">
              <a:avLst/>
            </a:prstGeom>
            <a:ln w="28440">
              <a:solidFill>
                <a:srgbClr val="ffcc99"/>
              </a:solidFill>
              <a:miter/>
            </a:ln>
          </p:spPr>
        </p:cxnSp>
        <p:cxnSp>
          <p:nvCxnSpPr>
            <p:cNvPr id="97" name="_s1032"/>
            <p:cNvCxnSpPr>
              <a:stCxn id="98" idx="3"/>
              <a:endCxn id="90" idx="2"/>
            </p:cNvCxnSpPr>
            <p:nvPr/>
          </p:nvCxnSpPr>
          <p:spPr>
            <a:xfrm flipV="1">
              <a:off x="5377680" y="942480"/>
              <a:ext cx="896760" cy="754560"/>
            </a:xfrm>
            <a:prstGeom prst="bentConnector2">
              <a:avLst/>
            </a:prstGeom>
            <a:ln w="28440">
              <a:solidFill>
                <a:srgbClr val="ffcc99"/>
              </a:solidFill>
              <a:miter/>
            </a:ln>
          </p:spPr>
        </p:cxnSp>
        <p:sp>
          <p:nvSpPr>
            <p:cNvPr id="90" name="_s1033"/>
            <p:cNvSpPr/>
            <p:nvPr/>
          </p:nvSpPr>
          <p:spPr>
            <a:xfrm>
              <a:off x="3585240" y="189000"/>
              <a:ext cx="5378040" cy="753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50000">
                  <a:srgbClr val="d1c39f"/>
                </a:gs>
                <a:gs pos="100000">
                  <a:srgbClr val="ffefd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b27e5"/>
                  </a:solidFill>
                  <a:latin typeface="Monotype Corsiva"/>
                </a:rPr>
                <a:t>Произведения поэта,</a:t>
              </a:r>
              <a:endParaRPr b="1" lang="en-US" sz="2800" spc="-1" strike="noStrike">
                <a:solidFill>
                  <a:srgbClr val="000000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b27e5"/>
                  </a:solidFill>
                  <a:latin typeface="Monotype Corsiva"/>
                </a:rPr>
                <a:t> </a:t>
              </a:r>
              <a:r>
                <a:rPr b="1" i="1" lang="en-US" sz="2800" spc="-1" strike="noStrike">
                  <a:solidFill>
                    <a:srgbClr val="4b27e5"/>
                  </a:solidFill>
                  <a:latin typeface="Monotype Corsiva"/>
                </a:rPr>
                <a:t>созданные на Костромской земле</a:t>
              </a:r>
              <a:r>
                <a:rPr b="1" i="1" lang="en-US" sz="2300" spc="-1" strike="noStrike">
                  <a:solidFill>
                    <a:srgbClr val="4b27e5"/>
                  </a:solidFill>
                  <a:latin typeface="Monotype Corsiva"/>
                </a:rPr>
                <a:t>.</a:t>
              </a:r>
              <a:endParaRPr b="1" lang="en-US" sz="23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8" name="_s1034">
              <a:hlinkClick r:id="rId1" action="ppaction://hlinksldjump"/>
            </p:cNvPr>
            <p:cNvSpPr/>
            <p:nvPr/>
          </p:nvSpPr>
          <p:spPr>
            <a:xfrm>
              <a:off x="0" y="1319760"/>
              <a:ext cx="5378040" cy="753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50000">
                  <a:srgbClr val="d1c39f"/>
                </a:gs>
                <a:gs pos="100000">
                  <a:srgbClr val="ffefd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4b27e5"/>
                  </a:solidFill>
                  <a:uFillTx/>
                  <a:latin typeface="Monotype Corsiva"/>
                </a:rPr>
                <a:t>«Дедушка Мазай и зайцы»</a:t>
              </a:r>
              <a:r>
                <a:rPr b="1" lang="en-US" sz="3200" spc="-1" strike="noStrike">
                  <a:solidFill>
                    <a:srgbClr val="d660ac"/>
                  </a:solidFill>
                  <a:latin typeface="Monotype Corsiva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6" name="_s1035">
              <a:hlinkClick r:id="rId2" action="ppaction://hlinksldjump"/>
            </p:cNvPr>
            <p:cNvSpPr/>
            <p:nvPr/>
          </p:nvSpPr>
          <p:spPr>
            <a:xfrm>
              <a:off x="0" y="2450520"/>
              <a:ext cx="5378040" cy="753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50000">
                  <a:srgbClr val="d1c39f"/>
                </a:gs>
                <a:gs pos="100000">
                  <a:srgbClr val="ffefd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4b27e5"/>
                  </a:solidFill>
                  <a:uFillTx/>
                  <a:latin typeface="Monotype Corsiva"/>
                </a:rPr>
                <a:t>«Генерал Топтыгин»</a:t>
              </a: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4" name="_s1036">
              <a:hlinkClick r:id="rId3" action="ppaction://hlinksldjump"/>
            </p:cNvPr>
            <p:cNvSpPr/>
            <p:nvPr/>
          </p:nvSpPr>
          <p:spPr>
            <a:xfrm>
              <a:off x="0" y="3581640"/>
              <a:ext cx="5378040" cy="753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50000">
                  <a:srgbClr val="d1c39f"/>
                </a:gs>
                <a:gs pos="100000">
                  <a:srgbClr val="ffefd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4b27e5"/>
                  </a:solidFill>
                  <a:uFillTx/>
                  <a:latin typeface="Monotype Corsiva"/>
                </a:rPr>
                <a:t>«Коробейники»</a:t>
              </a: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2" name="_s1037">
              <a:hlinkClick r:id="rId4" action="ppaction://hlinksldjump"/>
            </p:cNvPr>
            <p:cNvSpPr/>
            <p:nvPr/>
          </p:nvSpPr>
          <p:spPr>
            <a:xfrm>
              <a:off x="0" y="4712400"/>
              <a:ext cx="5378040" cy="753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50000">
                  <a:srgbClr val="d1c39f"/>
                </a:gs>
                <a:gs pos="100000">
                  <a:srgbClr val="ffefd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4b27e5"/>
                  </a:solidFill>
                  <a:uFillTx/>
                  <a:latin typeface="Monotype Corsiva"/>
                </a:rPr>
                <a:t>«Кому на Руси жить хорошо»</a:t>
              </a: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9" name="_s1038">
              <a:hlinkClick r:id="rId5" action="ppaction://hlinksldjump"/>
            </p:cNvPr>
            <p:cNvSpPr/>
            <p:nvPr/>
          </p:nvSpPr>
          <p:spPr>
            <a:xfrm>
              <a:off x="0" y="5843520"/>
              <a:ext cx="5378040" cy="753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50000">
                  <a:srgbClr val="d1c39f"/>
                </a:gs>
                <a:gs pos="100000">
                  <a:srgbClr val="ffefd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4b27e5"/>
                  </a:solidFill>
                  <a:uFillTx/>
                  <a:latin typeface="Monotype Corsiva"/>
                </a:rPr>
                <a:t>«Крестьянские дети»</a:t>
              </a: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99" name="Group 65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00" name="AutoShape 66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1" name="AutoShape 67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2" name="AutoShape 68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8" descr="35"/>
          <p:cNvPicPr/>
          <p:nvPr/>
        </p:nvPicPr>
        <p:blipFill>
          <a:blip r:embed="rId1"/>
          <a:stretch/>
        </p:blipFill>
        <p:spPr>
          <a:xfrm>
            <a:off x="5580000" y="4500720"/>
            <a:ext cx="3564000" cy="2357280"/>
          </a:xfrm>
          <a:prstGeom prst="rect">
            <a:avLst/>
          </a:prstGeom>
          <a:ln w="0">
            <a:noFill/>
          </a:ln>
        </p:spPr>
      </p:pic>
      <p:sp>
        <p:nvSpPr>
          <p:cNvPr id="104" name="WordArt 7"/>
          <p:cNvSpPr txBox="1"/>
          <p:nvPr/>
        </p:nvSpPr>
        <p:spPr>
          <a:xfrm>
            <a:off x="468360" y="333360"/>
            <a:ext cx="8136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"Дедушка Мазай и зайцы"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79280" y="1557360"/>
            <a:ext cx="871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На костромском материале написано стихотворение «Дедушка Мазай и зайцы». Дед Мазай – это не вымышленное лицо. Это костромской крестьянин, приятель Некрасова по охоте. Дедушка Мазай  жил в дер. Малые Вежи в Мисковской волости. Его потомки живут и сейчас в костромском районе под фамилией Мазайкиных.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06" name="Group 14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07" name="AutoShape 15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8" name="AutoShape 16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9" name="AutoShape 17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4:07:07Z</dcterms:created>
  <dc:creator>User</dc:creator>
  <dc:description/>
  <dc:language>en-US</dc:language>
  <cp:lastModifiedBy>Коля</cp:lastModifiedBy>
  <dcterms:modified xsi:type="dcterms:W3CDTF">2013-04-30T12:41:24Z</dcterms:modified>
  <cp:revision>5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Url">
    <vt:lpwstr/>
  </property>
  <property fmtid="{D5CDD505-2E9C-101B-9397-08002B2CF9AE}" pid="3" name="_SourceUrl">
    <vt:lpwstr/>
  </property>
  <property fmtid="{D5CDD505-2E9C-101B-9397-08002B2CF9AE}" pid="4" name="display_urn:schemas-microsoft-com:office:office#Author">
    <vt:lpwstr>Гридинская основная общеобразовательная школа</vt:lpwstr>
  </property>
  <property fmtid="{D5CDD505-2E9C-101B-9397-08002B2CF9AE}" pid="5" name="display_urn:schemas-microsoft-com:office:office#Editor">
    <vt:lpwstr>Гридинская основная общеобразовательная школа</vt:lpwstr>
  </property>
  <property fmtid="{D5CDD505-2E9C-101B-9397-08002B2CF9AE}" pid="6" name="xd_ProgID">
    <vt:lpwstr/>
  </property>
  <property fmtid="{D5CDD505-2E9C-101B-9397-08002B2CF9AE}" pid="7" name="xd_Signature">
    <vt:lpwstr/>
  </property>
</Properties>
</file>