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6F69-3556-4EA6-A59A-E0946DF2E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9EDF-0ADB-4223-BA30-CAB2E9054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2860-E561-40C4-8A38-5979BFA89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9E7D-927D-4E19-8751-3E3D9A1E4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5AE5-64F9-4F41-A93F-5E6A8437B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C568-EB14-41EE-9BB6-B2DC1C415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5F39-70E8-4077-8629-CB425D15D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F9B5-9900-47AE-A452-D886D695C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9BE9-2780-4259-8FFF-0BA32A384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20D8-D8AF-4DC6-B9F4-3E3BA061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A478-4BFA-4D08-AA58-69157396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364C-B81E-4E48-A7BF-2271EEEF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1EE61-2E76-4AF3-8F98-561FB6FFC4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2.xml"/><Relationship Id="rId5" Type="http://schemas.openxmlformats.org/officeDocument/2006/relationships/slide" Target="slide13.xm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8"/>
          <p:cNvSpPr txBox="1"/>
          <p:nvPr/>
        </p:nvSpPr>
        <p:spPr>
          <a:xfrm>
            <a:off x="468360" y="1413000"/>
            <a:ext cx="7488360" cy="38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3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ffefd1"/>
                    </a:gs>
                    <a:gs pos="100000">
                      <a:srgbClr val="ffefd1"/>
                    </a:gs>
                  </a:gsLst>
                  <a:lin ang="18900000"/>
                </a:gradFill>
                <a:latin typeface="Monotype Corsiva"/>
              </a:rPr>
              <a:t>Н. А. Некрасов и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ffefd1"/>
                  </a:gs>
                  <a:gs pos="100000">
                    <a:srgbClr val="ffefd1"/>
                  </a:gs>
                </a:gsLst>
                <a:lin ang="18900000"/>
              </a:gra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ffefd1"/>
                    </a:gs>
                    <a:gs pos="100000">
                      <a:srgbClr val="ffefd1"/>
                    </a:gs>
                  </a:gsLst>
                  <a:lin ang="18900000"/>
                </a:gradFill>
                <a:latin typeface="Monotype Corsiva"/>
              </a:rPr>
              <a:t>Костромской край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ffefd1"/>
                  </a:gs>
                  <a:gs pos="100000">
                    <a:srgbClr val="ffefd1"/>
                  </a:gs>
                </a:gsLst>
                <a:lin ang="18900000"/>
              </a:gradFill>
              <a:latin typeface="Monotype Corsiva"/>
              <a:ea typeface="Monotype Corsiva"/>
            </a:endParaRPr>
          </a:p>
        </p:txBody>
      </p:sp>
      <p:sp>
        <p:nvSpPr>
          <p:cNvPr id="42" name="AutoShape 11">
            <a:hlinkClick r:id="" action="ppaction://hlinkshowjump?jump=nextslide"/>
          </p:cNvPr>
          <p:cNvSpPr/>
          <p:nvPr/>
        </p:nvSpPr>
        <p:spPr>
          <a:xfrm>
            <a:off x="8532720" y="6597720"/>
            <a:ext cx="611280" cy="260280"/>
          </a:xfrm>
          <a:custGeom>
            <a:avLst/>
            <a:gdLst>
              <a:gd name="textAreaLeft" fmla="*/ 16560 w 611280"/>
              <a:gd name="textAreaRight" fmla="*/ 594720 w 61128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50688" h="21600">
                <a:moveTo>
                  <a:pt x="0" y="0"/>
                </a:moveTo>
                <a:lnTo>
                  <a:pt x="50688" y="0"/>
                </a:lnTo>
                <a:lnTo>
                  <a:pt x="50688" y="21600"/>
                </a:lnTo>
                <a:lnTo>
                  <a:pt x="0" y="21600"/>
                </a:lnTo>
                <a:close/>
              </a:path>
              <a:path fill="lightenLess" w="50688" h="21600">
                <a:moveTo>
                  <a:pt x="0" y="0"/>
                </a:moveTo>
                <a:lnTo>
                  <a:pt x="50688" y="0"/>
                </a:lnTo>
                <a:lnTo>
                  <a:pt x="49288" y="1400"/>
                </a:lnTo>
                <a:lnTo>
                  <a:pt x="1400" y="1400"/>
                </a:lnTo>
                <a:close/>
              </a:path>
              <a:path fill="darken" w="50688" h="21600">
                <a:moveTo>
                  <a:pt x="50688" y="0"/>
                </a:moveTo>
                <a:lnTo>
                  <a:pt x="50688" y="21600"/>
                </a:lnTo>
                <a:lnTo>
                  <a:pt x="49288" y="20200"/>
                </a:lnTo>
                <a:lnTo>
                  <a:pt x="49288" y="1400"/>
                </a:lnTo>
                <a:close/>
              </a:path>
              <a:path fill="darkenLess" w="50688" h="21600">
                <a:moveTo>
                  <a:pt x="50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288" y="20200"/>
                </a:lnTo>
                <a:close/>
              </a:path>
              <a:path fill="lighten" w="50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688" h="21600">
                <a:moveTo>
                  <a:pt x="18338" y="3794"/>
                </a:moveTo>
                <a:lnTo>
                  <a:pt x="32351" y="10800"/>
                </a:lnTo>
                <a:lnTo>
                  <a:pt x="18338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3" name="WordArt 14"/>
          <p:cNvSpPr txBox="1"/>
          <p:nvPr/>
        </p:nvSpPr>
        <p:spPr>
          <a:xfrm>
            <a:off x="1116000" y="189000"/>
            <a:ext cx="66247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МОУ Гридинская основная общеобразовательная школа </a:t>
            </a:r>
            <a:endParaRPr b="1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Красносельского района</a:t>
            </a:r>
            <a:endParaRPr b="1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4" name="WordArt 15"/>
          <p:cNvSpPr txBox="1"/>
          <p:nvPr/>
        </p:nvSpPr>
        <p:spPr>
          <a:xfrm>
            <a:off x="3203640" y="5805360"/>
            <a:ext cx="2232000" cy="3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006 - 2007 уч.год.</a:t>
            </a:r>
            <a:endParaRPr b="1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4"/>
          <p:cNvSpPr txBox="1"/>
          <p:nvPr/>
        </p:nvSpPr>
        <p:spPr>
          <a:xfrm>
            <a:off x="1258920" y="620640"/>
            <a:ext cx="5977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ffefd1"/>
                    </a:gs>
                    <a:gs pos="100000">
                      <a:srgbClr val="ffefd1"/>
                    </a:gs>
                  </a:gsLst>
                  <a:lin ang="18900000"/>
                </a:gradFill>
                <a:latin typeface="Monotype Corsiva"/>
              </a:rPr>
              <a:t>"Генерал Топтыгин"</a:t>
            </a:r>
            <a:endParaRPr b="1" i="1" lang="en-US" sz="3200" spc="1" strike="noStrike">
              <a:ln w="0">
                <a:noFill/>
              </a:ln>
              <a:gradFill rotWithShape="0">
                <a:gsLst>
                  <a:gs pos="0">
                    <a:srgbClr val="ffefd1"/>
                  </a:gs>
                  <a:gs pos="100000">
                    <a:srgbClr val="ffefd1"/>
                  </a:gs>
                </a:gsLst>
                <a:lin ang="18900000"/>
              </a:gradFill>
              <a:latin typeface="Monotype Corsiva"/>
              <a:ea typeface="Monotype Corsiva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755640" y="2205000"/>
            <a:ext cx="727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539640" y="2060640"/>
            <a:ext cx="7848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Недалеко от родовой усадьбы костромских дворян Корниловых Зиновьево, что за современным поселком Никольское, поэт узнал о проделке ручного медведя, про которого забыли пьяные цыгане. Медведь сел в сани на почтовой станции Дровинки и промчался на тройке до следующей сианции в Антипино. Так родилось стихотворение «Генерал Топтыгин».</a:t>
            </a:r>
            <a:endParaRPr b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113" name="Group 17"/>
          <p:cNvGrpSpPr/>
          <p:nvPr/>
        </p:nvGrpSpPr>
        <p:grpSpPr>
          <a:xfrm>
            <a:off x="7956720" y="6597720"/>
            <a:ext cx="1187280" cy="260280"/>
            <a:chOff x="7956720" y="6597720"/>
            <a:chExt cx="1187280" cy="260280"/>
          </a:xfrm>
        </p:grpSpPr>
        <p:sp>
          <p:nvSpPr>
            <p:cNvPr id="114" name="AutoShape 14">
              <a:hlinkClick r:id="" action="ppaction://hlinkshowjump?jump=nextslide"/>
            </p:cNvPr>
            <p:cNvSpPr/>
            <p:nvPr/>
          </p:nvSpPr>
          <p:spPr>
            <a:xfrm>
              <a:off x="8820000" y="6597720"/>
              <a:ext cx="324000" cy="260280"/>
            </a:xfrm>
            <a:custGeom>
              <a:avLst/>
              <a:gdLst>
                <a:gd name="textAreaLeft" fmla="*/ 16560 w 324000"/>
                <a:gd name="textAreaRight" fmla="*/ 307440 w 32400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6881" h="21600">
                  <a:moveTo>
                    <a:pt x="0" y="0"/>
                  </a:moveTo>
                  <a:lnTo>
                    <a:pt x="26881" y="0"/>
                  </a:lnTo>
                  <a:lnTo>
                    <a:pt x="26881" y="21600"/>
                  </a:lnTo>
                  <a:lnTo>
                    <a:pt x="0" y="21600"/>
                  </a:lnTo>
                  <a:close/>
                </a:path>
                <a:path fill="lightenLess" w="26881" h="21600">
                  <a:moveTo>
                    <a:pt x="0" y="0"/>
                  </a:moveTo>
                  <a:lnTo>
                    <a:pt x="26881" y="0"/>
                  </a:lnTo>
                  <a:lnTo>
                    <a:pt x="25481" y="1400"/>
                  </a:lnTo>
                  <a:lnTo>
                    <a:pt x="1400" y="1400"/>
                  </a:lnTo>
                  <a:close/>
                </a:path>
                <a:path fill="darken" w="26881" h="21600">
                  <a:moveTo>
                    <a:pt x="26881" y="0"/>
                  </a:moveTo>
                  <a:lnTo>
                    <a:pt x="26881" y="21600"/>
                  </a:lnTo>
                  <a:lnTo>
                    <a:pt x="25481" y="20200"/>
                  </a:lnTo>
                  <a:lnTo>
                    <a:pt x="25481" y="1400"/>
                  </a:lnTo>
                  <a:close/>
                </a:path>
                <a:path fill="darkenLess" w="26881" h="21600">
                  <a:moveTo>
                    <a:pt x="2688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481" y="20200"/>
                  </a:lnTo>
                  <a:close/>
                </a:path>
                <a:path fill="lighten" w="2688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6881" h="21600">
                  <a:moveTo>
                    <a:pt x="6434" y="3794"/>
                  </a:moveTo>
                  <a:lnTo>
                    <a:pt x="20447" y="10800"/>
                  </a:lnTo>
                  <a:lnTo>
                    <a:pt x="6434" y="17806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15" name="AutoShape 15">
              <a:hlinkClick r:id="rId1" action="ppaction://hlinksldjump"/>
            </p:cNvPr>
            <p:cNvSpPr/>
            <p:nvPr/>
          </p:nvSpPr>
          <p:spPr>
            <a:xfrm>
              <a:off x="8388360" y="6597720"/>
              <a:ext cx="360360" cy="260280"/>
            </a:xfrm>
            <a:custGeom>
              <a:avLst/>
              <a:gdLst>
                <a:gd name="textAreaLeft" fmla="*/ 16560 w 360360"/>
                <a:gd name="textAreaRight" fmla="*/ 343800 w 36036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9894" h="21600">
                  <a:moveTo>
                    <a:pt x="0" y="0"/>
                  </a:moveTo>
                  <a:lnTo>
                    <a:pt x="29894" y="0"/>
                  </a:lnTo>
                  <a:lnTo>
                    <a:pt x="29894" y="21600"/>
                  </a:lnTo>
                  <a:lnTo>
                    <a:pt x="0" y="21600"/>
                  </a:lnTo>
                  <a:close/>
                </a:path>
                <a:path fill="lightenLess" w="29894" h="21600">
                  <a:moveTo>
                    <a:pt x="0" y="0"/>
                  </a:moveTo>
                  <a:lnTo>
                    <a:pt x="29894" y="0"/>
                  </a:lnTo>
                  <a:lnTo>
                    <a:pt x="28494" y="1400"/>
                  </a:lnTo>
                  <a:lnTo>
                    <a:pt x="1400" y="1400"/>
                  </a:lnTo>
                  <a:close/>
                </a:path>
                <a:path fill="darken" w="29894" h="21600">
                  <a:moveTo>
                    <a:pt x="29894" y="0"/>
                  </a:moveTo>
                  <a:lnTo>
                    <a:pt x="29894" y="21600"/>
                  </a:lnTo>
                  <a:lnTo>
                    <a:pt x="28494" y="20200"/>
                  </a:lnTo>
                  <a:lnTo>
                    <a:pt x="28494" y="1400"/>
                  </a:lnTo>
                  <a:close/>
                </a:path>
                <a:path fill="darkenLess" w="29894" h="21600">
                  <a:moveTo>
                    <a:pt x="2989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494" y="20200"/>
                  </a:lnTo>
                  <a:close/>
                </a:path>
                <a:path fill="lighten" w="2989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894" h="21600">
                  <a:moveTo>
                    <a:pt x="7940" y="10800"/>
                  </a:moveTo>
                  <a:lnTo>
                    <a:pt x="21953" y="3794"/>
                  </a:lnTo>
                  <a:lnTo>
                    <a:pt x="21953" y="1780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16" name="AutoShape 16">
              <a:hlinkClick r:id="" action="ppaction://hlinkshowjump?jump=firstslide"/>
            </p:cNvPr>
            <p:cNvSpPr/>
            <p:nvPr/>
          </p:nvSpPr>
          <p:spPr>
            <a:xfrm>
              <a:off x="7956720" y="6597720"/>
              <a:ext cx="360360" cy="260280"/>
            </a:xfrm>
            <a:custGeom>
              <a:avLst/>
              <a:gdLst>
                <a:gd name="textAreaLeft" fmla="*/ 16560 w 360360"/>
                <a:gd name="textAreaRight" fmla="*/ 343800 w 36036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9894" h="21600">
                  <a:moveTo>
                    <a:pt x="0" y="0"/>
                  </a:moveTo>
                  <a:lnTo>
                    <a:pt x="29894" y="0"/>
                  </a:lnTo>
                  <a:lnTo>
                    <a:pt x="29894" y="21600"/>
                  </a:lnTo>
                  <a:lnTo>
                    <a:pt x="0" y="21600"/>
                  </a:lnTo>
                  <a:close/>
                </a:path>
                <a:path fill="lightenLess" w="29894" h="21600">
                  <a:moveTo>
                    <a:pt x="0" y="0"/>
                  </a:moveTo>
                  <a:lnTo>
                    <a:pt x="29894" y="0"/>
                  </a:lnTo>
                  <a:lnTo>
                    <a:pt x="28494" y="1400"/>
                  </a:lnTo>
                  <a:lnTo>
                    <a:pt x="1400" y="1400"/>
                  </a:lnTo>
                  <a:close/>
                </a:path>
                <a:path fill="darken" w="29894" h="21600">
                  <a:moveTo>
                    <a:pt x="29894" y="0"/>
                  </a:moveTo>
                  <a:lnTo>
                    <a:pt x="29894" y="21600"/>
                  </a:lnTo>
                  <a:lnTo>
                    <a:pt x="28494" y="20200"/>
                  </a:lnTo>
                  <a:lnTo>
                    <a:pt x="28494" y="1400"/>
                  </a:lnTo>
                  <a:close/>
                </a:path>
                <a:path fill="darkenLess" w="29894" h="21600">
                  <a:moveTo>
                    <a:pt x="2989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494" y="20200"/>
                  </a:lnTo>
                  <a:close/>
                </a:path>
                <a:path fill="lighten" w="2989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894" h="21600">
                  <a:moveTo>
                    <a:pt x="14947" y="3837"/>
                  </a:moveTo>
                  <a:lnTo>
                    <a:pt x="17523" y="6448"/>
                  </a:lnTo>
                  <a:lnTo>
                    <a:pt x="17523" y="4707"/>
                  </a:lnTo>
                  <a:lnTo>
                    <a:pt x="19299" y="4707"/>
                  </a:lnTo>
                  <a:lnTo>
                    <a:pt x="19299" y="8224"/>
                  </a:lnTo>
                  <a:lnTo>
                    <a:pt x="21910" y="10800"/>
                  </a:lnTo>
                  <a:lnTo>
                    <a:pt x="20256" y="10800"/>
                  </a:lnTo>
                  <a:lnTo>
                    <a:pt x="20256" y="17989"/>
                  </a:lnTo>
                  <a:lnTo>
                    <a:pt x="9638" y="17989"/>
                  </a:lnTo>
                  <a:lnTo>
                    <a:pt x="9638" y="10800"/>
                  </a:lnTo>
                  <a:lnTo>
                    <a:pt x="7984" y="10800"/>
                  </a:lnTo>
                  <a:close/>
                </a:path>
                <a:path fill="darkenLess" w="29894" h="21600">
                  <a:moveTo>
                    <a:pt x="17523" y="6448"/>
                  </a:moveTo>
                  <a:lnTo>
                    <a:pt x="17523" y="4707"/>
                  </a:lnTo>
                  <a:lnTo>
                    <a:pt x="19299" y="4707"/>
                  </a:lnTo>
                  <a:lnTo>
                    <a:pt x="19299" y="8224"/>
                  </a:lnTo>
                  <a:close/>
                </a:path>
                <a:path fill="darkenLess" w="29894" h="21600">
                  <a:moveTo>
                    <a:pt x="14024" y="14299"/>
                  </a:moveTo>
                  <a:lnTo>
                    <a:pt x="15870" y="14299"/>
                  </a:lnTo>
                  <a:lnTo>
                    <a:pt x="15870" y="17989"/>
                  </a:lnTo>
                  <a:lnTo>
                    <a:pt x="20256" y="17989"/>
                  </a:lnTo>
                  <a:lnTo>
                    <a:pt x="20256" y="10800"/>
                  </a:lnTo>
                  <a:lnTo>
                    <a:pt x="9638" y="10800"/>
                  </a:lnTo>
                  <a:lnTo>
                    <a:pt x="9638" y="17989"/>
                  </a:lnTo>
                  <a:lnTo>
                    <a:pt x="14024" y="17989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4"/>
          <p:cNvSpPr txBox="1"/>
          <p:nvPr/>
        </p:nvSpPr>
        <p:spPr>
          <a:xfrm>
            <a:off x="1116000" y="189000"/>
            <a:ext cx="6048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ffefd1"/>
                    </a:gs>
                    <a:gs pos="100000">
                      <a:srgbClr val="ffefd1"/>
                    </a:gs>
                  </a:gsLst>
                  <a:lin ang="18900000"/>
                </a:gradFill>
                <a:latin typeface="Monotype Corsiva"/>
              </a:rPr>
              <a:t>Поэма "Коробейники"</a:t>
            </a:r>
            <a:endParaRPr b="1" i="1" lang="en-US" sz="3200" spc="1" strike="noStrike">
              <a:ln w="0">
                <a:noFill/>
              </a:ln>
              <a:gradFill rotWithShape="0">
                <a:gsLst>
                  <a:gs pos="0">
                    <a:srgbClr val="ffefd1"/>
                  </a:gs>
                  <a:gs pos="100000">
                    <a:srgbClr val="ffefd1"/>
                  </a:gs>
                </a:gsLst>
                <a:lin ang="18900000"/>
              </a:gradFill>
              <a:latin typeface="Monotype Corsiva"/>
              <a:ea typeface="Monotype Corsiva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539640" y="1125360"/>
            <a:ext cx="7991640" cy="78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Поэма «Коробейники» - одно из самых известных костромских произведений поэта. История ее создания довольно необычна. Некрасов был заядлым охотником. Однажды он остановился в гостинице «Лондон»(сейчас здание суда) и увидел из окна мужчину с целой связкой дичи. Удачливым охотником оказался житель костромской деревни Шода Гаврила Яковлевич Захаров. С тех пор они стали близкими друзьями и часто вместе ходили на охоту. Гаврила Захаров рассказал ему историю о коробейниках.</a:t>
            </a:r>
            <a:endParaRPr b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119" name="Group 12"/>
          <p:cNvGrpSpPr/>
          <p:nvPr/>
        </p:nvGrpSpPr>
        <p:grpSpPr>
          <a:xfrm>
            <a:off x="7956720" y="6597720"/>
            <a:ext cx="1187280" cy="260280"/>
            <a:chOff x="7956720" y="6597720"/>
            <a:chExt cx="1187280" cy="260280"/>
          </a:xfrm>
        </p:grpSpPr>
        <p:sp>
          <p:nvSpPr>
            <p:cNvPr id="120" name="AutoShape 9">
              <a:hlinkClick r:id="" action="ppaction://hlinkshowjump?jump=nextslide"/>
            </p:cNvPr>
            <p:cNvSpPr/>
            <p:nvPr/>
          </p:nvSpPr>
          <p:spPr>
            <a:xfrm>
              <a:off x="8820000" y="6597720"/>
              <a:ext cx="324000" cy="260280"/>
            </a:xfrm>
            <a:custGeom>
              <a:avLst/>
              <a:gdLst>
                <a:gd name="textAreaLeft" fmla="*/ 16560 w 324000"/>
                <a:gd name="textAreaRight" fmla="*/ 307440 w 32400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6881" h="21600">
                  <a:moveTo>
                    <a:pt x="0" y="0"/>
                  </a:moveTo>
                  <a:lnTo>
                    <a:pt x="26881" y="0"/>
                  </a:lnTo>
                  <a:lnTo>
                    <a:pt x="26881" y="21600"/>
                  </a:lnTo>
                  <a:lnTo>
                    <a:pt x="0" y="21600"/>
                  </a:lnTo>
                  <a:close/>
                </a:path>
                <a:path fill="lightenLess" w="26881" h="21600">
                  <a:moveTo>
                    <a:pt x="0" y="0"/>
                  </a:moveTo>
                  <a:lnTo>
                    <a:pt x="26881" y="0"/>
                  </a:lnTo>
                  <a:lnTo>
                    <a:pt x="25481" y="1400"/>
                  </a:lnTo>
                  <a:lnTo>
                    <a:pt x="1400" y="1400"/>
                  </a:lnTo>
                  <a:close/>
                </a:path>
                <a:path fill="darken" w="26881" h="21600">
                  <a:moveTo>
                    <a:pt x="26881" y="0"/>
                  </a:moveTo>
                  <a:lnTo>
                    <a:pt x="26881" y="21600"/>
                  </a:lnTo>
                  <a:lnTo>
                    <a:pt x="25481" y="20200"/>
                  </a:lnTo>
                  <a:lnTo>
                    <a:pt x="25481" y="1400"/>
                  </a:lnTo>
                  <a:close/>
                </a:path>
                <a:path fill="darkenLess" w="26881" h="21600">
                  <a:moveTo>
                    <a:pt x="2688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481" y="20200"/>
                  </a:lnTo>
                  <a:close/>
                </a:path>
                <a:path fill="lighten" w="2688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6881" h="21600">
                  <a:moveTo>
                    <a:pt x="6434" y="3794"/>
                  </a:moveTo>
                  <a:lnTo>
                    <a:pt x="20447" y="10800"/>
                  </a:lnTo>
                  <a:lnTo>
                    <a:pt x="6434" y="17806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21" name="AutoShape 10">
              <a:hlinkClick r:id="rId1" action="ppaction://hlinksldjump"/>
            </p:cNvPr>
            <p:cNvSpPr/>
            <p:nvPr/>
          </p:nvSpPr>
          <p:spPr>
            <a:xfrm>
              <a:off x="8388360" y="6597720"/>
              <a:ext cx="360360" cy="260280"/>
            </a:xfrm>
            <a:custGeom>
              <a:avLst/>
              <a:gdLst>
                <a:gd name="textAreaLeft" fmla="*/ 16560 w 360360"/>
                <a:gd name="textAreaRight" fmla="*/ 343800 w 36036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9894" h="21600">
                  <a:moveTo>
                    <a:pt x="0" y="0"/>
                  </a:moveTo>
                  <a:lnTo>
                    <a:pt x="29894" y="0"/>
                  </a:lnTo>
                  <a:lnTo>
                    <a:pt x="29894" y="21600"/>
                  </a:lnTo>
                  <a:lnTo>
                    <a:pt x="0" y="21600"/>
                  </a:lnTo>
                  <a:close/>
                </a:path>
                <a:path fill="lightenLess" w="29894" h="21600">
                  <a:moveTo>
                    <a:pt x="0" y="0"/>
                  </a:moveTo>
                  <a:lnTo>
                    <a:pt x="29894" y="0"/>
                  </a:lnTo>
                  <a:lnTo>
                    <a:pt x="28494" y="1400"/>
                  </a:lnTo>
                  <a:lnTo>
                    <a:pt x="1400" y="1400"/>
                  </a:lnTo>
                  <a:close/>
                </a:path>
                <a:path fill="darken" w="29894" h="21600">
                  <a:moveTo>
                    <a:pt x="29894" y="0"/>
                  </a:moveTo>
                  <a:lnTo>
                    <a:pt x="29894" y="21600"/>
                  </a:lnTo>
                  <a:lnTo>
                    <a:pt x="28494" y="20200"/>
                  </a:lnTo>
                  <a:lnTo>
                    <a:pt x="28494" y="1400"/>
                  </a:lnTo>
                  <a:close/>
                </a:path>
                <a:path fill="darkenLess" w="29894" h="21600">
                  <a:moveTo>
                    <a:pt x="2989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494" y="20200"/>
                  </a:lnTo>
                  <a:close/>
                </a:path>
                <a:path fill="lighten" w="2989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894" h="21600">
                  <a:moveTo>
                    <a:pt x="7940" y="10800"/>
                  </a:moveTo>
                  <a:lnTo>
                    <a:pt x="21953" y="3794"/>
                  </a:lnTo>
                  <a:lnTo>
                    <a:pt x="21953" y="1780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22" name="AutoShape 11">
              <a:hlinkClick r:id="" action="ppaction://hlinkshowjump?jump=firstslide"/>
            </p:cNvPr>
            <p:cNvSpPr/>
            <p:nvPr/>
          </p:nvSpPr>
          <p:spPr>
            <a:xfrm>
              <a:off x="7956720" y="6597720"/>
              <a:ext cx="360360" cy="260280"/>
            </a:xfrm>
            <a:custGeom>
              <a:avLst/>
              <a:gdLst>
                <a:gd name="textAreaLeft" fmla="*/ 16560 w 360360"/>
                <a:gd name="textAreaRight" fmla="*/ 343800 w 36036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9894" h="21600">
                  <a:moveTo>
                    <a:pt x="0" y="0"/>
                  </a:moveTo>
                  <a:lnTo>
                    <a:pt x="29894" y="0"/>
                  </a:lnTo>
                  <a:lnTo>
                    <a:pt x="29894" y="21600"/>
                  </a:lnTo>
                  <a:lnTo>
                    <a:pt x="0" y="21600"/>
                  </a:lnTo>
                  <a:close/>
                </a:path>
                <a:path fill="lightenLess" w="29894" h="21600">
                  <a:moveTo>
                    <a:pt x="0" y="0"/>
                  </a:moveTo>
                  <a:lnTo>
                    <a:pt x="29894" y="0"/>
                  </a:lnTo>
                  <a:lnTo>
                    <a:pt x="28494" y="1400"/>
                  </a:lnTo>
                  <a:lnTo>
                    <a:pt x="1400" y="1400"/>
                  </a:lnTo>
                  <a:close/>
                </a:path>
                <a:path fill="darken" w="29894" h="21600">
                  <a:moveTo>
                    <a:pt x="29894" y="0"/>
                  </a:moveTo>
                  <a:lnTo>
                    <a:pt x="29894" y="21600"/>
                  </a:lnTo>
                  <a:lnTo>
                    <a:pt x="28494" y="20200"/>
                  </a:lnTo>
                  <a:lnTo>
                    <a:pt x="28494" y="1400"/>
                  </a:lnTo>
                  <a:close/>
                </a:path>
                <a:path fill="darkenLess" w="29894" h="21600">
                  <a:moveTo>
                    <a:pt x="2989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494" y="20200"/>
                  </a:lnTo>
                  <a:close/>
                </a:path>
                <a:path fill="lighten" w="2989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894" h="21600">
                  <a:moveTo>
                    <a:pt x="14947" y="3837"/>
                  </a:moveTo>
                  <a:lnTo>
                    <a:pt x="17523" y="6448"/>
                  </a:lnTo>
                  <a:lnTo>
                    <a:pt x="17523" y="4707"/>
                  </a:lnTo>
                  <a:lnTo>
                    <a:pt x="19299" y="4707"/>
                  </a:lnTo>
                  <a:lnTo>
                    <a:pt x="19299" y="8224"/>
                  </a:lnTo>
                  <a:lnTo>
                    <a:pt x="21910" y="10800"/>
                  </a:lnTo>
                  <a:lnTo>
                    <a:pt x="20256" y="10800"/>
                  </a:lnTo>
                  <a:lnTo>
                    <a:pt x="20256" y="17989"/>
                  </a:lnTo>
                  <a:lnTo>
                    <a:pt x="9638" y="17989"/>
                  </a:lnTo>
                  <a:lnTo>
                    <a:pt x="9638" y="10800"/>
                  </a:lnTo>
                  <a:lnTo>
                    <a:pt x="7984" y="10800"/>
                  </a:lnTo>
                  <a:close/>
                </a:path>
                <a:path fill="darkenLess" w="29894" h="21600">
                  <a:moveTo>
                    <a:pt x="17523" y="6448"/>
                  </a:moveTo>
                  <a:lnTo>
                    <a:pt x="17523" y="4707"/>
                  </a:lnTo>
                  <a:lnTo>
                    <a:pt x="19299" y="4707"/>
                  </a:lnTo>
                  <a:lnTo>
                    <a:pt x="19299" y="8224"/>
                  </a:lnTo>
                  <a:close/>
                </a:path>
                <a:path fill="darkenLess" w="29894" h="21600">
                  <a:moveTo>
                    <a:pt x="14024" y="14299"/>
                  </a:moveTo>
                  <a:lnTo>
                    <a:pt x="15870" y="14299"/>
                  </a:lnTo>
                  <a:lnTo>
                    <a:pt x="15870" y="17989"/>
                  </a:lnTo>
                  <a:lnTo>
                    <a:pt x="20256" y="17989"/>
                  </a:lnTo>
                  <a:lnTo>
                    <a:pt x="20256" y="10800"/>
                  </a:lnTo>
                  <a:lnTo>
                    <a:pt x="9638" y="10800"/>
                  </a:lnTo>
                  <a:lnTo>
                    <a:pt x="9638" y="17989"/>
                  </a:lnTo>
                  <a:lnTo>
                    <a:pt x="14024" y="17989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7"/>
          <p:cNvSpPr txBox="1"/>
          <p:nvPr/>
        </p:nvSpPr>
        <p:spPr>
          <a:xfrm>
            <a:off x="611280" y="333360"/>
            <a:ext cx="7993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ffefd1"/>
                    </a:gs>
                    <a:gs pos="100000">
                      <a:srgbClr val="ffefd1"/>
                    </a:gs>
                  </a:gsLst>
                  <a:lin ang="18900000"/>
                </a:gradFill>
                <a:latin typeface="Monotype Corsiva"/>
              </a:rPr>
              <a:t>"Кому на Руси жить хорошо"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ffefd1"/>
                  </a:gs>
                  <a:gs pos="100000">
                    <a:srgbClr val="ffefd1"/>
                  </a:gs>
                </a:gsLst>
                <a:lin ang="18900000"/>
              </a:gradFill>
              <a:latin typeface="Monotype Corsiva"/>
              <a:ea typeface="Monotype Corsiva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539640" y="1700280"/>
            <a:ext cx="8136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Многие уголки Костромской земли запечатлел Некрасов в своей поэме: и саму Кострому, и уездный город Буй, и «Корежену» на реке Кореге в его окрестностях, и деревни Мисково, Босово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, в которой «Яким Нагой живет»</a:t>
            </a:r>
            <a:endParaRPr b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125" name="Group 17"/>
          <p:cNvGrpSpPr/>
          <p:nvPr/>
        </p:nvGrpSpPr>
        <p:grpSpPr>
          <a:xfrm>
            <a:off x="7956720" y="6597720"/>
            <a:ext cx="1187280" cy="260280"/>
            <a:chOff x="7956720" y="6597720"/>
            <a:chExt cx="1187280" cy="260280"/>
          </a:xfrm>
        </p:grpSpPr>
        <p:sp>
          <p:nvSpPr>
            <p:cNvPr id="126" name="AutoShape 14">
              <a:hlinkClick r:id="" action="ppaction://hlinkshowjump?jump=nextslide"/>
            </p:cNvPr>
            <p:cNvSpPr/>
            <p:nvPr/>
          </p:nvSpPr>
          <p:spPr>
            <a:xfrm>
              <a:off x="8820000" y="6597720"/>
              <a:ext cx="324000" cy="260280"/>
            </a:xfrm>
            <a:custGeom>
              <a:avLst/>
              <a:gdLst>
                <a:gd name="textAreaLeft" fmla="*/ 16560 w 324000"/>
                <a:gd name="textAreaRight" fmla="*/ 307440 w 32400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6881" h="21600">
                  <a:moveTo>
                    <a:pt x="0" y="0"/>
                  </a:moveTo>
                  <a:lnTo>
                    <a:pt x="26881" y="0"/>
                  </a:lnTo>
                  <a:lnTo>
                    <a:pt x="26881" y="21600"/>
                  </a:lnTo>
                  <a:lnTo>
                    <a:pt x="0" y="21600"/>
                  </a:lnTo>
                  <a:close/>
                </a:path>
                <a:path fill="lightenLess" w="26881" h="21600">
                  <a:moveTo>
                    <a:pt x="0" y="0"/>
                  </a:moveTo>
                  <a:lnTo>
                    <a:pt x="26881" y="0"/>
                  </a:lnTo>
                  <a:lnTo>
                    <a:pt x="25481" y="1400"/>
                  </a:lnTo>
                  <a:lnTo>
                    <a:pt x="1400" y="1400"/>
                  </a:lnTo>
                  <a:close/>
                </a:path>
                <a:path fill="darken" w="26881" h="21600">
                  <a:moveTo>
                    <a:pt x="26881" y="0"/>
                  </a:moveTo>
                  <a:lnTo>
                    <a:pt x="26881" y="21600"/>
                  </a:lnTo>
                  <a:lnTo>
                    <a:pt x="25481" y="20200"/>
                  </a:lnTo>
                  <a:lnTo>
                    <a:pt x="25481" y="1400"/>
                  </a:lnTo>
                  <a:close/>
                </a:path>
                <a:path fill="darkenLess" w="26881" h="21600">
                  <a:moveTo>
                    <a:pt x="2688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481" y="20200"/>
                  </a:lnTo>
                  <a:close/>
                </a:path>
                <a:path fill="lighten" w="2688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6881" h="21600">
                  <a:moveTo>
                    <a:pt x="6434" y="3794"/>
                  </a:moveTo>
                  <a:lnTo>
                    <a:pt x="20447" y="10800"/>
                  </a:lnTo>
                  <a:lnTo>
                    <a:pt x="6434" y="17806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27" name="AutoShape 15">
              <a:hlinkClick r:id="rId1" action="ppaction://hlinksldjump"/>
            </p:cNvPr>
            <p:cNvSpPr/>
            <p:nvPr/>
          </p:nvSpPr>
          <p:spPr>
            <a:xfrm>
              <a:off x="8388360" y="6597720"/>
              <a:ext cx="360360" cy="260280"/>
            </a:xfrm>
            <a:custGeom>
              <a:avLst/>
              <a:gdLst>
                <a:gd name="textAreaLeft" fmla="*/ 16560 w 360360"/>
                <a:gd name="textAreaRight" fmla="*/ 343800 w 36036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9894" h="21600">
                  <a:moveTo>
                    <a:pt x="0" y="0"/>
                  </a:moveTo>
                  <a:lnTo>
                    <a:pt x="29894" y="0"/>
                  </a:lnTo>
                  <a:lnTo>
                    <a:pt x="29894" y="21600"/>
                  </a:lnTo>
                  <a:lnTo>
                    <a:pt x="0" y="21600"/>
                  </a:lnTo>
                  <a:close/>
                </a:path>
                <a:path fill="lightenLess" w="29894" h="21600">
                  <a:moveTo>
                    <a:pt x="0" y="0"/>
                  </a:moveTo>
                  <a:lnTo>
                    <a:pt x="29894" y="0"/>
                  </a:lnTo>
                  <a:lnTo>
                    <a:pt x="28494" y="1400"/>
                  </a:lnTo>
                  <a:lnTo>
                    <a:pt x="1400" y="1400"/>
                  </a:lnTo>
                  <a:close/>
                </a:path>
                <a:path fill="darken" w="29894" h="21600">
                  <a:moveTo>
                    <a:pt x="29894" y="0"/>
                  </a:moveTo>
                  <a:lnTo>
                    <a:pt x="29894" y="21600"/>
                  </a:lnTo>
                  <a:lnTo>
                    <a:pt x="28494" y="20200"/>
                  </a:lnTo>
                  <a:lnTo>
                    <a:pt x="28494" y="1400"/>
                  </a:lnTo>
                  <a:close/>
                </a:path>
                <a:path fill="darkenLess" w="29894" h="21600">
                  <a:moveTo>
                    <a:pt x="2989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494" y="20200"/>
                  </a:lnTo>
                  <a:close/>
                </a:path>
                <a:path fill="lighten" w="2989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894" h="21600">
                  <a:moveTo>
                    <a:pt x="7940" y="10800"/>
                  </a:moveTo>
                  <a:lnTo>
                    <a:pt x="21953" y="3794"/>
                  </a:lnTo>
                  <a:lnTo>
                    <a:pt x="21953" y="1780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28" name="AutoShape 16">
              <a:hlinkClick r:id="" action="ppaction://hlinkshowjump?jump=firstslide"/>
            </p:cNvPr>
            <p:cNvSpPr/>
            <p:nvPr/>
          </p:nvSpPr>
          <p:spPr>
            <a:xfrm>
              <a:off x="7956720" y="6597720"/>
              <a:ext cx="360360" cy="260280"/>
            </a:xfrm>
            <a:custGeom>
              <a:avLst/>
              <a:gdLst>
                <a:gd name="textAreaLeft" fmla="*/ 16560 w 360360"/>
                <a:gd name="textAreaRight" fmla="*/ 343800 w 36036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9894" h="21600">
                  <a:moveTo>
                    <a:pt x="0" y="0"/>
                  </a:moveTo>
                  <a:lnTo>
                    <a:pt x="29894" y="0"/>
                  </a:lnTo>
                  <a:lnTo>
                    <a:pt x="29894" y="21600"/>
                  </a:lnTo>
                  <a:lnTo>
                    <a:pt x="0" y="21600"/>
                  </a:lnTo>
                  <a:close/>
                </a:path>
                <a:path fill="lightenLess" w="29894" h="21600">
                  <a:moveTo>
                    <a:pt x="0" y="0"/>
                  </a:moveTo>
                  <a:lnTo>
                    <a:pt x="29894" y="0"/>
                  </a:lnTo>
                  <a:lnTo>
                    <a:pt x="28494" y="1400"/>
                  </a:lnTo>
                  <a:lnTo>
                    <a:pt x="1400" y="1400"/>
                  </a:lnTo>
                  <a:close/>
                </a:path>
                <a:path fill="darken" w="29894" h="21600">
                  <a:moveTo>
                    <a:pt x="29894" y="0"/>
                  </a:moveTo>
                  <a:lnTo>
                    <a:pt x="29894" y="21600"/>
                  </a:lnTo>
                  <a:lnTo>
                    <a:pt x="28494" y="20200"/>
                  </a:lnTo>
                  <a:lnTo>
                    <a:pt x="28494" y="1400"/>
                  </a:lnTo>
                  <a:close/>
                </a:path>
                <a:path fill="darkenLess" w="29894" h="21600">
                  <a:moveTo>
                    <a:pt x="2989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494" y="20200"/>
                  </a:lnTo>
                  <a:close/>
                </a:path>
                <a:path fill="lighten" w="2989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894" h="21600">
                  <a:moveTo>
                    <a:pt x="14947" y="3837"/>
                  </a:moveTo>
                  <a:lnTo>
                    <a:pt x="17523" y="6448"/>
                  </a:lnTo>
                  <a:lnTo>
                    <a:pt x="17523" y="4707"/>
                  </a:lnTo>
                  <a:lnTo>
                    <a:pt x="19299" y="4707"/>
                  </a:lnTo>
                  <a:lnTo>
                    <a:pt x="19299" y="8224"/>
                  </a:lnTo>
                  <a:lnTo>
                    <a:pt x="21910" y="10800"/>
                  </a:lnTo>
                  <a:lnTo>
                    <a:pt x="20256" y="10800"/>
                  </a:lnTo>
                  <a:lnTo>
                    <a:pt x="20256" y="17989"/>
                  </a:lnTo>
                  <a:lnTo>
                    <a:pt x="9638" y="17989"/>
                  </a:lnTo>
                  <a:lnTo>
                    <a:pt x="9638" y="10800"/>
                  </a:lnTo>
                  <a:lnTo>
                    <a:pt x="7984" y="10800"/>
                  </a:lnTo>
                  <a:close/>
                </a:path>
                <a:path fill="darkenLess" w="29894" h="21600">
                  <a:moveTo>
                    <a:pt x="17523" y="6448"/>
                  </a:moveTo>
                  <a:lnTo>
                    <a:pt x="17523" y="4707"/>
                  </a:lnTo>
                  <a:lnTo>
                    <a:pt x="19299" y="4707"/>
                  </a:lnTo>
                  <a:lnTo>
                    <a:pt x="19299" y="8224"/>
                  </a:lnTo>
                  <a:close/>
                </a:path>
                <a:path fill="darkenLess" w="29894" h="21600">
                  <a:moveTo>
                    <a:pt x="14024" y="14299"/>
                  </a:moveTo>
                  <a:lnTo>
                    <a:pt x="15870" y="14299"/>
                  </a:lnTo>
                  <a:lnTo>
                    <a:pt x="15870" y="17989"/>
                  </a:lnTo>
                  <a:lnTo>
                    <a:pt x="20256" y="17989"/>
                  </a:lnTo>
                  <a:lnTo>
                    <a:pt x="20256" y="10800"/>
                  </a:lnTo>
                  <a:lnTo>
                    <a:pt x="9638" y="10800"/>
                  </a:lnTo>
                  <a:lnTo>
                    <a:pt x="9638" y="17989"/>
                  </a:lnTo>
                  <a:lnTo>
                    <a:pt x="14024" y="17989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7" descr="IMG1"/>
          <p:cNvPicPr/>
          <p:nvPr/>
        </p:nvPicPr>
        <p:blipFill>
          <a:blip r:embed="rId1"/>
          <a:stretch/>
        </p:blipFill>
        <p:spPr>
          <a:xfrm>
            <a:off x="5697360" y="2681280"/>
            <a:ext cx="3446640" cy="4176720"/>
          </a:xfrm>
          <a:prstGeom prst="rect">
            <a:avLst/>
          </a:prstGeom>
          <a:ln w="0">
            <a:noFill/>
          </a:ln>
        </p:spPr>
      </p:pic>
      <p:sp>
        <p:nvSpPr>
          <p:cNvPr id="130" name="WordArt 19"/>
          <p:cNvSpPr txBox="1"/>
          <p:nvPr/>
        </p:nvSpPr>
        <p:spPr>
          <a:xfrm>
            <a:off x="1187280" y="476280"/>
            <a:ext cx="6193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"Крестьянские дети"</a:t>
            </a:r>
            <a:endParaRPr b="1" i="1" lang="en-US" sz="32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1" name="Text Box 22"/>
          <p:cNvSpPr/>
          <p:nvPr/>
        </p:nvSpPr>
        <p:spPr>
          <a:xfrm>
            <a:off x="179280" y="1557360"/>
            <a:ext cx="70581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Стихи Некрасова удивительно музыкальны и понятны по содержанию всякому человеку. А уж кого поэт всегда любил                          и жалел, так это крестьянских               детей. Им он посвятил много стихотворений, в том числе и стихотворение «Крестьянские              дети». </a:t>
            </a:r>
            <a:endParaRPr b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132" name="Group 28"/>
          <p:cNvGrpSpPr/>
          <p:nvPr/>
        </p:nvGrpSpPr>
        <p:grpSpPr>
          <a:xfrm>
            <a:off x="7956720" y="6597720"/>
            <a:ext cx="1187280" cy="260280"/>
            <a:chOff x="7956720" y="6597720"/>
            <a:chExt cx="1187280" cy="260280"/>
          </a:xfrm>
        </p:grpSpPr>
        <p:sp>
          <p:nvSpPr>
            <p:cNvPr id="133" name="AutoShape 24">
              <a:hlinkClick r:id="" action="ppaction://hlinkshowjump?jump=nextslide"/>
            </p:cNvPr>
            <p:cNvSpPr/>
            <p:nvPr/>
          </p:nvSpPr>
          <p:spPr>
            <a:xfrm>
              <a:off x="8820000" y="6597720"/>
              <a:ext cx="324000" cy="260280"/>
            </a:xfrm>
            <a:custGeom>
              <a:avLst/>
              <a:gdLst>
                <a:gd name="textAreaLeft" fmla="*/ 16560 w 324000"/>
                <a:gd name="textAreaRight" fmla="*/ 307440 w 32400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6881" h="21600">
                  <a:moveTo>
                    <a:pt x="0" y="0"/>
                  </a:moveTo>
                  <a:lnTo>
                    <a:pt x="26881" y="0"/>
                  </a:lnTo>
                  <a:lnTo>
                    <a:pt x="26881" y="21600"/>
                  </a:lnTo>
                  <a:lnTo>
                    <a:pt x="0" y="21600"/>
                  </a:lnTo>
                  <a:close/>
                </a:path>
                <a:path fill="lightenLess" w="26881" h="21600">
                  <a:moveTo>
                    <a:pt x="0" y="0"/>
                  </a:moveTo>
                  <a:lnTo>
                    <a:pt x="26881" y="0"/>
                  </a:lnTo>
                  <a:lnTo>
                    <a:pt x="25481" y="1400"/>
                  </a:lnTo>
                  <a:lnTo>
                    <a:pt x="1400" y="1400"/>
                  </a:lnTo>
                  <a:close/>
                </a:path>
                <a:path fill="darken" w="26881" h="21600">
                  <a:moveTo>
                    <a:pt x="26881" y="0"/>
                  </a:moveTo>
                  <a:lnTo>
                    <a:pt x="26881" y="21600"/>
                  </a:lnTo>
                  <a:lnTo>
                    <a:pt x="25481" y="20200"/>
                  </a:lnTo>
                  <a:lnTo>
                    <a:pt x="25481" y="1400"/>
                  </a:lnTo>
                  <a:close/>
                </a:path>
                <a:path fill="darkenLess" w="26881" h="21600">
                  <a:moveTo>
                    <a:pt x="2688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481" y="20200"/>
                  </a:lnTo>
                  <a:close/>
                </a:path>
                <a:path fill="lighten" w="2688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6881" h="21600">
                  <a:moveTo>
                    <a:pt x="6434" y="3794"/>
                  </a:moveTo>
                  <a:lnTo>
                    <a:pt x="20447" y="10800"/>
                  </a:lnTo>
                  <a:lnTo>
                    <a:pt x="6434" y="17806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34" name="AutoShape 25"/>
            <p:cNvSpPr/>
            <p:nvPr/>
          </p:nvSpPr>
          <p:spPr>
            <a:xfrm>
              <a:off x="8388360" y="6597720"/>
              <a:ext cx="360360" cy="260280"/>
            </a:xfrm>
            <a:custGeom>
              <a:avLst/>
              <a:gdLst>
                <a:gd name="textAreaLeft" fmla="*/ 16560 w 360360"/>
                <a:gd name="textAreaRight" fmla="*/ 343800 w 36036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9894" h="21600">
                  <a:moveTo>
                    <a:pt x="0" y="0"/>
                  </a:moveTo>
                  <a:lnTo>
                    <a:pt x="29894" y="0"/>
                  </a:lnTo>
                  <a:lnTo>
                    <a:pt x="29894" y="21600"/>
                  </a:lnTo>
                  <a:lnTo>
                    <a:pt x="0" y="21600"/>
                  </a:lnTo>
                  <a:close/>
                </a:path>
                <a:path fill="lightenLess" w="29894" h="21600">
                  <a:moveTo>
                    <a:pt x="0" y="0"/>
                  </a:moveTo>
                  <a:lnTo>
                    <a:pt x="29894" y="0"/>
                  </a:lnTo>
                  <a:lnTo>
                    <a:pt x="28494" y="1400"/>
                  </a:lnTo>
                  <a:lnTo>
                    <a:pt x="1400" y="1400"/>
                  </a:lnTo>
                  <a:close/>
                </a:path>
                <a:path fill="darken" w="29894" h="21600">
                  <a:moveTo>
                    <a:pt x="29894" y="0"/>
                  </a:moveTo>
                  <a:lnTo>
                    <a:pt x="29894" y="21600"/>
                  </a:lnTo>
                  <a:lnTo>
                    <a:pt x="28494" y="20200"/>
                  </a:lnTo>
                  <a:lnTo>
                    <a:pt x="28494" y="1400"/>
                  </a:lnTo>
                  <a:close/>
                </a:path>
                <a:path fill="darkenLess" w="29894" h="21600">
                  <a:moveTo>
                    <a:pt x="2989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494" y="20200"/>
                  </a:lnTo>
                  <a:close/>
                </a:path>
                <a:path fill="lighten" w="2989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894" h="21600">
                  <a:moveTo>
                    <a:pt x="7940" y="10800"/>
                  </a:moveTo>
                  <a:lnTo>
                    <a:pt x="21953" y="3794"/>
                  </a:lnTo>
                  <a:lnTo>
                    <a:pt x="21953" y="1780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35" name="AutoShape 26">
              <a:hlinkClick r:id="" action="ppaction://hlinkshowjump?jump=firstslide"/>
            </p:cNvPr>
            <p:cNvSpPr/>
            <p:nvPr/>
          </p:nvSpPr>
          <p:spPr>
            <a:xfrm>
              <a:off x="7956720" y="6597720"/>
              <a:ext cx="360360" cy="260280"/>
            </a:xfrm>
            <a:custGeom>
              <a:avLst/>
              <a:gdLst>
                <a:gd name="textAreaLeft" fmla="*/ 16560 w 360360"/>
                <a:gd name="textAreaRight" fmla="*/ 343800 w 36036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9894" h="21600">
                  <a:moveTo>
                    <a:pt x="0" y="0"/>
                  </a:moveTo>
                  <a:lnTo>
                    <a:pt x="29894" y="0"/>
                  </a:lnTo>
                  <a:lnTo>
                    <a:pt x="29894" y="21600"/>
                  </a:lnTo>
                  <a:lnTo>
                    <a:pt x="0" y="21600"/>
                  </a:lnTo>
                  <a:close/>
                </a:path>
                <a:path fill="lightenLess" w="29894" h="21600">
                  <a:moveTo>
                    <a:pt x="0" y="0"/>
                  </a:moveTo>
                  <a:lnTo>
                    <a:pt x="29894" y="0"/>
                  </a:lnTo>
                  <a:lnTo>
                    <a:pt x="28494" y="1400"/>
                  </a:lnTo>
                  <a:lnTo>
                    <a:pt x="1400" y="1400"/>
                  </a:lnTo>
                  <a:close/>
                </a:path>
                <a:path fill="darken" w="29894" h="21600">
                  <a:moveTo>
                    <a:pt x="29894" y="0"/>
                  </a:moveTo>
                  <a:lnTo>
                    <a:pt x="29894" y="21600"/>
                  </a:lnTo>
                  <a:lnTo>
                    <a:pt x="28494" y="20200"/>
                  </a:lnTo>
                  <a:lnTo>
                    <a:pt x="28494" y="1400"/>
                  </a:lnTo>
                  <a:close/>
                </a:path>
                <a:path fill="darkenLess" w="29894" h="21600">
                  <a:moveTo>
                    <a:pt x="2989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494" y="20200"/>
                  </a:lnTo>
                  <a:close/>
                </a:path>
                <a:path fill="lighten" w="2989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894" h="21600">
                  <a:moveTo>
                    <a:pt x="14947" y="3837"/>
                  </a:moveTo>
                  <a:lnTo>
                    <a:pt x="17523" y="6448"/>
                  </a:lnTo>
                  <a:lnTo>
                    <a:pt x="17523" y="4707"/>
                  </a:lnTo>
                  <a:lnTo>
                    <a:pt x="19299" y="4707"/>
                  </a:lnTo>
                  <a:lnTo>
                    <a:pt x="19299" y="8224"/>
                  </a:lnTo>
                  <a:lnTo>
                    <a:pt x="21910" y="10800"/>
                  </a:lnTo>
                  <a:lnTo>
                    <a:pt x="20256" y="10800"/>
                  </a:lnTo>
                  <a:lnTo>
                    <a:pt x="20256" y="17989"/>
                  </a:lnTo>
                  <a:lnTo>
                    <a:pt x="9638" y="17989"/>
                  </a:lnTo>
                  <a:lnTo>
                    <a:pt x="9638" y="10800"/>
                  </a:lnTo>
                  <a:lnTo>
                    <a:pt x="7984" y="10800"/>
                  </a:lnTo>
                  <a:close/>
                </a:path>
                <a:path fill="darkenLess" w="29894" h="21600">
                  <a:moveTo>
                    <a:pt x="17523" y="6448"/>
                  </a:moveTo>
                  <a:lnTo>
                    <a:pt x="17523" y="4707"/>
                  </a:lnTo>
                  <a:lnTo>
                    <a:pt x="19299" y="4707"/>
                  </a:lnTo>
                  <a:lnTo>
                    <a:pt x="19299" y="8224"/>
                  </a:lnTo>
                  <a:close/>
                </a:path>
                <a:path fill="darkenLess" w="29894" h="21600">
                  <a:moveTo>
                    <a:pt x="14024" y="14299"/>
                  </a:moveTo>
                  <a:lnTo>
                    <a:pt x="15870" y="14299"/>
                  </a:lnTo>
                  <a:lnTo>
                    <a:pt x="15870" y="17989"/>
                  </a:lnTo>
                  <a:lnTo>
                    <a:pt x="20256" y="17989"/>
                  </a:lnTo>
                  <a:lnTo>
                    <a:pt x="20256" y="10800"/>
                  </a:lnTo>
                  <a:lnTo>
                    <a:pt x="9638" y="10800"/>
                  </a:lnTo>
                  <a:lnTo>
                    <a:pt x="9638" y="17989"/>
                  </a:lnTo>
                  <a:lnTo>
                    <a:pt x="14024" y="17989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Object 16"/>
          <p:cNvGraphicFramePr/>
          <p:nvPr/>
        </p:nvGraphicFramePr>
        <p:xfrm>
          <a:off x="1258920" y="1197000"/>
          <a:ext cx="7056360" cy="566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197000"/>
                    <a:ext cx="705636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WordArt 7"/>
          <p:cNvSpPr txBox="1"/>
          <p:nvPr/>
        </p:nvSpPr>
        <p:spPr>
          <a:xfrm>
            <a:off x="755640" y="0"/>
            <a:ext cx="7704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ffefd1"/>
                    </a:gs>
                    <a:gs pos="100000">
                      <a:srgbClr val="ffefd1"/>
                    </a:gs>
                  </a:gsLst>
                  <a:lin ang="18900000"/>
                </a:gradFill>
                <a:latin typeface="Monotype Corsiva"/>
              </a:rPr>
              <a:t>Опрос населения: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ffefd1"/>
                  </a:gs>
                  <a:gs pos="100000">
                    <a:srgbClr val="ffefd1"/>
                  </a:gs>
                </a:gsLst>
                <a:lin ang="18900000"/>
              </a:gradFill>
              <a:latin typeface="Monotype Corsiva"/>
              <a:ea typeface="Monotype Corsiva"/>
            </a:endParaRPr>
          </a:p>
        </p:txBody>
      </p:sp>
      <p:graphicFrame>
        <p:nvGraphicFramePr>
          <p:cNvPr id="139" name="Object 17"/>
          <p:cNvGraphicFramePr/>
          <p:nvPr/>
        </p:nvGraphicFramePr>
        <p:xfrm>
          <a:off x="1187280" y="1111320"/>
          <a:ext cx="7201080" cy="574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1111320"/>
                    <a:ext cx="7201080" cy="574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18"/>
          <p:cNvGraphicFramePr/>
          <p:nvPr/>
        </p:nvGraphicFramePr>
        <p:xfrm>
          <a:off x="1187280" y="1065240"/>
          <a:ext cx="7201080" cy="5792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87280" y="1065240"/>
                    <a:ext cx="7201080" cy="57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3" name="Group 20"/>
          <p:cNvGrpSpPr/>
          <p:nvPr/>
        </p:nvGrpSpPr>
        <p:grpSpPr>
          <a:xfrm>
            <a:off x="7956720" y="6597720"/>
            <a:ext cx="1187280" cy="260280"/>
            <a:chOff x="7956720" y="6597720"/>
            <a:chExt cx="1187280" cy="260280"/>
          </a:xfrm>
        </p:grpSpPr>
        <p:sp>
          <p:nvSpPr>
            <p:cNvPr id="144" name="AutoShape 21">
              <a:hlinkClick r:id="" action="ppaction://hlinkshowjump?jump=nextslide"/>
            </p:cNvPr>
            <p:cNvSpPr/>
            <p:nvPr/>
          </p:nvSpPr>
          <p:spPr>
            <a:xfrm>
              <a:off x="8820000" y="6597720"/>
              <a:ext cx="324000" cy="260280"/>
            </a:xfrm>
            <a:custGeom>
              <a:avLst/>
              <a:gdLst>
                <a:gd name="textAreaLeft" fmla="*/ 16560 w 324000"/>
                <a:gd name="textAreaRight" fmla="*/ 307440 w 32400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6881" h="21600">
                  <a:moveTo>
                    <a:pt x="0" y="0"/>
                  </a:moveTo>
                  <a:lnTo>
                    <a:pt x="26881" y="0"/>
                  </a:lnTo>
                  <a:lnTo>
                    <a:pt x="26881" y="21600"/>
                  </a:lnTo>
                  <a:lnTo>
                    <a:pt x="0" y="21600"/>
                  </a:lnTo>
                  <a:close/>
                </a:path>
                <a:path fill="lightenLess" w="26881" h="21600">
                  <a:moveTo>
                    <a:pt x="0" y="0"/>
                  </a:moveTo>
                  <a:lnTo>
                    <a:pt x="26881" y="0"/>
                  </a:lnTo>
                  <a:lnTo>
                    <a:pt x="25481" y="1400"/>
                  </a:lnTo>
                  <a:lnTo>
                    <a:pt x="1400" y="1400"/>
                  </a:lnTo>
                  <a:close/>
                </a:path>
                <a:path fill="darken" w="26881" h="21600">
                  <a:moveTo>
                    <a:pt x="26881" y="0"/>
                  </a:moveTo>
                  <a:lnTo>
                    <a:pt x="26881" y="21600"/>
                  </a:lnTo>
                  <a:lnTo>
                    <a:pt x="25481" y="20200"/>
                  </a:lnTo>
                  <a:lnTo>
                    <a:pt x="25481" y="1400"/>
                  </a:lnTo>
                  <a:close/>
                </a:path>
                <a:path fill="darkenLess" w="26881" h="21600">
                  <a:moveTo>
                    <a:pt x="2688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481" y="20200"/>
                  </a:lnTo>
                  <a:close/>
                </a:path>
                <a:path fill="lighten" w="2688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6881" h="21600">
                  <a:moveTo>
                    <a:pt x="6434" y="3794"/>
                  </a:moveTo>
                  <a:lnTo>
                    <a:pt x="20447" y="10800"/>
                  </a:lnTo>
                  <a:lnTo>
                    <a:pt x="6434" y="17806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45" name="AutoShape 22">
              <a:hlinkClick r:id="" action="ppaction://hlinkshowjump?jump=previousslide"/>
            </p:cNvPr>
            <p:cNvSpPr/>
            <p:nvPr/>
          </p:nvSpPr>
          <p:spPr>
            <a:xfrm>
              <a:off x="8388360" y="6597720"/>
              <a:ext cx="360360" cy="260280"/>
            </a:xfrm>
            <a:custGeom>
              <a:avLst/>
              <a:gdLst>
                <a:gd name="textAreaLeft" fmla="*/ 16560 w 360360"/>
                <a:gd name="textAreaRight" fmla="*/ 343800 w 36036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9894" h="21600">
                  <a:moveTo>
                    <a:pt x="0" y="0"/>
                  </a:moveTo>
                  <a:lnTo>
                    <a:pt x="29894" y="0"/>
                  </a:lnTo>
                  <a:lnTo>
                    <a:pt x="29894" y="21600"/>
                  </a:lnTo>
                  <a:lnTo>
                    <a:pt x="0" y="21600"/>
                  </a:lnTo>
                  <a:close/>
                </a:path>
                <a:path fill="lightenLess" w="29894" h="21600">
                  <a:moveTo>
                    <a:pt x="0" y="0"/>
                  </a:moveTo>
                  <a:lnTo>
                    <a:pt x="29894" y="0"/>
                  </a:lnTo>
                  <a:lnTo>
                    <a:pt x="28494" y="1400"/>
                  </a:lnTo>
                  <a:lnTo>
                    <a:pt x="1400" y="1400"/>
                  </a:lnTo>
                  <a:close/>
                </a:path>
                <a:path fill="darken" w="29894" h="21600">
                  <a:moveTo>
                    <a:pt x="29894" y="0"/>
                  </a:moveTo>
                  <a:lnTo>
                    <a:pt x="29894" y="21600"/>
                  </a:lnTo>
                  <a:lnTo>
                    <a:pt x="28494" y="20200"/>
                  </a:lnTo>
                  <a:lnTo>
                    <a:pt x="28494" y="1400"/>
                  </a:lnTo>
                  <a:close/>
                </a:path>
                <a:path fill="darkenLess" w="29894" h="21600">
                  <a:moveTo>
                    <a:pt x="2989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494" y="20200"/>
                  </a:lnTo>
                  <a:close/>
                </a:path>
                <a:path fill="lighten" w="2989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894" h="21600">
                  <a:moveTo>
                    <a:pt x="7940" y="10800"/>
                  </a:moveTo>
                  <a:lnTo>
                    <a:pt x="21953" y="3794"/>
                  </a:lnTo>
                  <a:lnTo>
                    <a:pt x="21953" y="1780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46" name="AutoShape 23">
              <a:hlinkClick r:id="" action="ppaction://hlinkshowjump?jump=firstslide"/>
            </p:cNvPr>
            <p:cNvSpPr/>
            <p:nvPr/>
          </p:nvSpPr>
          <p:spPr>
            <a:xfrm>
              <a:off x="7956720" y="6597720"/>
              <a:ext cx="360360" cy="260280"/>
            </a:xfrm>
            <a:custGeom>
              <a:avLst/>
              <a:gdLst>
                <a:gd name="textAreaLeft" fmla="*/ 16560 w 360360"/>
                <a:gd name="textAreaRight" fmla="*/ 343800 w 36036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9894" h="21600">
                  <a:moveTo>
                    <a:pt x="0" y="0"/>
                  </a:moveTo>
                  <a:lnTo>
                    <a:pt x="29894" y="0"/>
                  </a:lnTo>
                  <a:lnTo>
                    <a:pt x="29894" y="21600"/>
                  </a:lnTo>
                  <a:lnTo>
                    <a:pt x="0" y="21600"/>
                  </a:lnTo>
                  <a:close/>
                </a:path>
                <a:path fill="lightenLess" w="29894" h="21600">
                  <a:moveTo>
                    <a:pt x="0" y="0"/>
                  </a:moveTo>
                  <a:lnTo>
                    <a:pt x="29894" y="0"/>
                  </a:lnTo>
                  <a:lnTo>
                    <a:pt x="28494" y="1400"/>
                  </a:lnTo>
                  <a:lnTo>
                    <a:pt x="1400" y="1400"/>
                  </a:lnTo>
                  <a:close/>
                </a:path>
                <a:path fill="darken" w="29894" h="21600">
                  <a:moveTo>
                    <a:pt x="29894" y="0"/>
                  </a:moveTo>
                  <a:lnTo>
                    <a:pt x="29894" y="21600"/>
                  </a:lnTo>
                  <a:lnTo>
                    <a:pt x="28494" y="20200"/>
                  </a:lnTo>
                  <a:lnTo>
                    <a:pt x="28494" y="1400"/>
                  </a:lnTo>
                  <a:close/>
                </a:path>
                <a:path fill="darkenLess" w="29894" h="21600">
                  <a:moveTo>
                    <a:pt x="2989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494" y="20200"/>
                  </a:lnTo>
                  <a:close/>
                </a:path>
                <a:path fill="lighten" w="2989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894" h="21600">
                  <a:moveTo>
                    <a:pt x="14947" y="3837"/>
                  </a:moveTo>
                  <a:lnTo>
                    <a:pt x="17523" y="6448"/>
                  </a:lnTo>
                  <a:lnTo>
                    <a:pt x="17523" y="4707"/>
                  </a:lnTo>
                  <a:lnTo>
                    <a:pt x="19299" y="4707"/>
                  </a:lnTo>
                  <a:lnTo>
                    <a:pt x="19299" y="8224"/>
                  </a:lnTo>
                  <a:lnTo>
                    <a:pt x="21910" y="10800"/>
                  </a:lnTo>
                  <a:lnTo>
                    <a:pt x="20256" y="10800"/>
                  </a:lnTo>
                  <a:lnTo>
                    <a:pt x="20256" y="17989"/>
                  </a:lnTo>
                  <a:lnTo>
                    <a:pt x="9638" y="17989"/>
                  </a:lnTo>
                  <a:lnTo>
                    <a:pt x="9638" y="10800"/>
                  </a:lnTo>
                  <a:lnTo>
                    <a:pt x="7984" y="10800"/>
                  </a:lnTo>
                  <a:close/>
                </a:path>
                <a:path fill="darkenLess" w="29894" h="21600">
                  <a:moveTo>
                    <a:pt x="17523" y="6448"/>
                  </a:moveTo>
                  <a:lnTo>
                    <a:pt x="17523" y="4707"/>
                  </a:lnTo>
                  <a:lnTo>
                    <a:pt x="19299" y="4707"/>
                  </a:lnTo>
                  <a:lnTo>
                    <a:pt x="19299" y="8224"/>
                  </a:lnTo>
                  <a:close/>
                </a:path>
                <a:path fill="darkenLess" w="29894" h="21600">
                  <a:moveTo>
                    <a:pt x="14024" y="14299"/>
                  </a:moveTo>
                  <a:lnTo>
                    <a:pt x="15870" y="14299"/>
                  </a:lnTo>
                  <a:lnTo>
                    <a:pt x="15870" y="17989"/>
                  </a:lnTo>
                  <a:lnTo>
                    <a:pt x="20256" y="17989"/>
                  </a:lnTo>
                  <a:lnTo>
                    <a:pt x="20256" y="10800"/>
                  </a:lnTo>
                  <a:lnTo>
                    <a:pt x="9638" y="10800"/>
                  </a:lnTo>
                  <a:lnTo>
                    <a:pt x="9638" y="17989"/>
                  </a:lnTo>
                  <a:lnTo>
                    <a:pt x="14024" y="17989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4"/>
          <p:cNvGrpSpPr/>
          <p:nvPr/>
        </p:nvGrpSpPr>
        <p:grpSpPr>
          <a:xfrm>
            <a:off x="7956720" y="6597720"/>
            <a:ext cx="1187280" cy="260280"/>
            <a:chOff x="7956720" y="6597720"/>
            <a:chExt cx="1187280" cy="260280"/>
          </a:xfrm>
        </p:grpSpPr>
        <p:sp>
          <p:nvSpPr>
            <p:cNvPr id="148" name="AutoShape 5">
              <a:hlinkClick r:id="" action="ppaction://hlinkshowjump?jump=nextslide"/>
            </p:cNvPr>
            <p:cNvSpPr/>
            <p:nvPr/>
          </p:nvSpPr>
          <p:spPr>
            <a:xfrm>
              <a:off x="8820000" y="6597720"/>
              <a:ext cx="324000" cy="260280"/>
            </a:xfrm>
            <a:custGeom>
              <a:avLst/>
              <a:gdLst>
                <a:gd name="textAreaLeft" fmla="*/ 16560 w 324000"/>
                <a:gd name="textAreaRight" fmla="*/ 307440 w 32400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6881" h="21600">
                  <a:moveTo>
                    <a:pt x="0" y="0"/>
                  </a:moveTo>
                  <a:lnTo>
                    <a:pt x="26881" y="0"/>
                  </a:lnTo>
                  <a:lnTo>
                    <a:pt x="26881" y="21600"/>
                  </a:lnTo>
                  <a:lnTo>
                    <a:pt x="0" y="21600"/>
                  </a:lnTo>
                  <a:close/>
                </a:path>
                <a:path fill="lightenLess" w="26881" h="21600">
                  <a:moveTo>
                    <a:pt x="0" y="0"/>
                  </a:moveTo>
                  <a:lnTo>
                    <a:pt x="26881" y="0"/>
                  </a:lnTo>
                  <a:lnTo>
                    <a:pt x="25481" y="1400"/>
                  </a:lnTo>
                  <a:lnTo>
                    <a:pt x="1400" y="1400"/>
                  </a:lnTo>
                  <a:close/>
                </a:path>
                <a:path fill="darken" w="26881" h="21600">
                  <a:moveTo>
                    <a:pt x="26881" y="0"/>
                  </a:moveTo>
                  <a:lnTo>
                    <a:pt x="26881" y="21600"/>
                  </a:lnTo>
                  <a:lnTo>
                    <a:pt x="25481" y="20200"/>
                  </a:lnTo>
                  <a:lnTo>
                    <a:pt x="25481" y="1400"/>
                  </a:lnTo>
                  <a:close/>
                </a:path>
                <a:path fill="darkenLess" w="26881" h="21600">
                  <a:moveTo>
                    <a:pt x="2688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481" y="20200"/>
                  </a:lnTo>
                  <a:close/>
                </a:path>
                <a:path fill="lighten" w="2688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6881" h="21600">
                  <a:moveTo>
                    <a:pt x="6434" y="3794"/>
                  </a:moveTo>
                  <a:lnTo>
                    <a:pt x="20447" y="10800"/>
                  </a:lnTo>
                  <a:lnTo>
                    <a:pt x="6434" y="17806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49" name="AutoShape 6">
              <a:hlinkClick r:id="" action="ppaction://hlinkshowjump?jump=previousslide"/>
            </p:cNvPr>
            <p:cNvSpPr/>
            <p:nvPr/>
          </p:nvSpPr>
          <p:spPr>
            <a:xfrm>
              <a:off x="8388360" y="6597720"/>
              <a:ext cx="360360" cy="260280"/>
            </a:xfrm>
            <a:custGeom>
              <a:avLst/>
              <a:gdLst>
                <a:gd name="textAreaLeft" fmla="*/ 16560 w 360360"/>
                <a:gd name="textAreaRight" fmla="*/ 343800 w 36036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9894" h="21600">
                  <a:moveTo>
                    <a:pt x="0" y="0"/>
                  </a:moveTo>
                  <a:lnTo>
                    <a:pt x="29894" y="0"/>
                  </a:lnTo>
                  <a:lnTo>
                    <a:pt x="29894" y="21600"/>
                  </a:lnTo>
                  <a:lnTo>
                    <a:pt x="0" y="21600"/>
                  </a:lnTo>
                  <a:close/>
                </a:path>
                <a:path fill="lightenLess" w="29894" h="21600">
                  <a:moveTo>
                    <a:pt x="0" y="0"/>
                  </a:moveTo>
                  <a:lnTo>
                    <a:pt x="29894" y="0"/>
                  </a:lnTo>
                  <a:lnTo>
                    <a:pt x="28494" y="1400"/>
                  </a:lnTo>
                  <a:lnTo>
                    <a:pt x="1400" y="1400"/>
                  </a:lnTo>
                  <a:close/>
                </a:path>
                <a:path fill="darken" w="29894" h="21600">
                  <a:moveTo>
                    <a:pt x="29894" y="0"/>
                  </a:moveTo>
                  <a:lnTo>
                    <a:pt x="29894" y="21600"/>
                  </a:lnTo>
                  <a:lnTo>
                    <a:pt x="28494" y="20200"/>
                  </a:lnTo>
                  <a:lnTo>
                    <a:pt x="28494" y="1400"/>
                  </a:lnTo>
                  <a:close/>
                </a:path>
                <a:path fill="darkenLess" w="29894" h="21600">
                  <a:moveTo>
                    <a:pt x="2989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494" y="20200"/>
                  </a:lnTo>
                  <a:close/>
                </a:path>
                <a:path fill="lighten" w="2989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894" h="21600">
                  <a:moveTo>
                    <a:pt x="7940" y="10800"/>
                  </a:moveTo>
                  <a:lnTo>
                    <a:pt x="21953" y="3794"/>
                  </a:lnTo>
                  <a:lnTo>
                    <a:pt x="21953" y="1780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50" name="AutoShape 7">
              <a:hlinkClick r:id="" action="ppaction://hlinkshowjump?jump=firstslide"/>
            </p:cNvPr>
            <p:cNvSpPr/>
            <p:nvPr/>
          </p:nvSpPr>
          <p:spPr>
            <a:xfrm>
              <a:off x="7956720" y="6597720"/>
              <a:ext cx="360360" cy="260280"/>
            </a:xfrm>
            <a:custGeom>
              <a:avLst/>
              <a:gdLst>
                <a:gd name="textAreaLeft" fmla="*/ 16560 w 360360"/>
                <a:gd name="textAreaRight" fmla="*/ 343800 w 36036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9894" h="21600">
                  <a:moveTo>
                    <a:pt x="0" y="0"/>
                  </a:moveTo>
                  <a:lnTo>
                    <a:pt x="29894" y="0"/>
                  </a:lnTo>
                  <a:lnTo>
                    <a:pt x="29894" y="21600"/>
                  </a:lnTo>
                  <a:lnTo>
                    <a:pt x="0" y="21600"/>
                  </a:lnTo>
                  <a:close/>
                </a:path>
                <a:path fill="lightenLess" w="29894" h="21600">
                  <a:moveTo>
                    <a:pt x="0" y="0"/>
                  </a:moveTo>
                  <a:lnTo>
                    <a:pt x="29894" y="0"/>
                  </a:lnTo>
                  <a:lnTo>
                    <a:pt x="28494" y="1400"/>
                  </a:lnTo>
                  <a:lnTo>
                    <a:pt x="1400" y="1400"/>
                  </a:lnTo>
                  <a:close/>
                </a:path>
                <a:path fill="darken" w="29894" h="21600">
                  <a:moveTo>
                    <a:pt x="29894" y="0"/>
                  </a:moveTo>
                  <a:lnTo>
                    <a:pt x="29894" y="21600"/>
                  </a:lnTo>
                  <a:lnTo>
                    <a:pt x="28494" y="20200"/>
                  </a:lnTo>
                  <a:lnTo>
                    <a:pt x="28494" y="1400"/>
                  </a:lnTo>
                  <a:close/>
                </a:path>
                <a:path fill="darkenLess" w="29894" h="21600">
                  <a:moveTo>
                    <a:pt x="2989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494" y="20200"/>
                  </a:lnTo>
                  <a:close/>
                </a:path>
                <a:path fill="lighten" w="2989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894" h="21600">
                  <a:moveTo>
                    <a:pt x="14947" y="3837"/>
                  </a:moveTo>
                  <a:lnTo>
                    <a:pt x="17523" y="6448"/>
                  </a:lnTo>
                  <a:lnTo>
                    <a:pt x="17523" y="4707"/>
                  </a:lnTo>
                  <a:lnTo>
                    <a:pt x="19299" y="4707"/>
                  </a:lnTo>
                  <a:lnTo>
                    <a:pt x="19299" y="8224"/>
                  </a:lnTo>
                  <a:lnTo>
                    <a:pt x="21910" y="10800"/>
                  </a:lnTo>
                  <a:lnTo>
                    <a:pt x="20256" y="10800"/>
                  </a:lnTo>
                  <a:lnTo>
                    <a:pt x="20256" y="17989"/>
                  </a:lnTo>
                  <a:lnTo>
                    <a:pt x="9638" y="17989"/>
                  </a:lnTo>
                  <a:lnTo>
                    <a:pt x="9638" y="10800"/>
                  </a:lnTo>
                  <a:lnTo>
                    <a:pt x="7984" y="10800"/>
                  </a:lnTo>
                  <a:close/>
                </a:path>
                <a:path fill="darkenLess" w="29894" h="21600">
                  <a:moveTo>
                    <a:pt x="17523" y="6448"/>
                  </a:moveTo>
                  <a:lnTo>
                    <a:pt x="17523" y="4707"/>
                  </a:lnTo>
                  <a:lnTo>
                    <a:pt x="19299" y="4707"/>
                  </a:lnTo>
                  <a:lnTo>
                    <a:pt x="19299" y="8224"/>
                  </a:lnTo>
                  <a:close/>
                </a:path>
                <a:path fill="darkenLess" w="29894" h="21600">
                  <a:moveTo>
                    <a:pt x="14024" y="14299"/>
                  </a:moveTo>
                  <a:lnTo>
                    <a:pt x="15870" y="14299"/>
                  </a:lnTo>
                  <a:lnTo>
                    <a:pt x="15870" y="17989"/>
                  </a:lnTo>
                  <a:lnTo>
                    <a:pt x="20256" y="17989"/>
                  </a:lnTo>
                  <a:lnTo>
                    <a:pt x="20256" y="10800"/>
                  </a:lnTo>
                  <a:lnTo>
                    <a:pt x="9638" y="10800"/>
                  </a:lnTo>
                  <a:lnTo>
                    <a:pt x="9638" y="17989"/>
                  </a:lnTo>
                  <a:lnTo>
                    <a:pt x="14024" y="17989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151" name="WordArt 8"/>
          <p:cNvSpPr txBox="1"/>
          <p:nvPr/>
        </p:nvSpPr>
        <p:spPr>
          <a:xfrm>
            <a:off x="1258920" y="836640"/>
            <a:ext cx="61214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efd1"/>
                    </a:gs>
                    <a:gs pos="100000">
                      <a:srgbClr val="ffefd1"/>
                    </a:gs>
                  </a:gsLst>
                  <a:lin ang="18900000"/>
                </a:gradFill>
                <a:latin typeface="Times New Roman"/>
              </a:rPr>
              <a:t>Результаты исследования:</a:t>
            </a:r>
            <a:endParaRPr b="1" i="1" lang="en-US" sz="32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efd1"/>
                  </a:gs>
                  <a:gs pos="100000">
                    <a:srgbClr val="ffefd1"/>
                  </a:gs>
                </a:gsLst>
                <a:lin ang="18900000"/>
              </a:gradFill>
              <a:latin typeface="Times New Roman"/>
              <a:ea typeface="Times New Roman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611280" y="2349360"/>
            <a:ext cx="712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Костромская земля, костромской народ оказал огромное влияние на творчество Н.А. Некрасова.</a:t>
            </a:r>
            <a:endParaRPr b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4240"/>
                            </p:stCondLst>
                            <p:childTnLst>
                              <p:par>
                                <p:cTn id="31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8"/>
          <p:cNvSpPr txBox="1"/>
          <p:nvPr/>
        </p:nvSpPr>
        <p:spPr>
          <a:xfrm>
            <a:off x="324000" y="1557360"/>
            <a:ext cx="856908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ffefd1"/>
                    </a:gs>
                    <a:gs pos="100000">
                      <a:srgbClr val="ffefd1"/>
                    </a:gs>
                  </a:gsLst>
                  <a:lin ang="18900000"/>
                </a:gradFill>
                <a:latin typeface="Times New Roman"/>
              </a:rPr>
              <a:t>ПРЕЗЕНТАЦИЮ ВЫПОЛНИЛИ 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ffefd1"/>
                  </a:gs>
                  <a:gs pos="100000">
                    <a:srgbClr val="ffefd1"/>
                  </a:gs>
                </a:gsLst>
                <a:lin ang="189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ffefd1"/>
                    </a:gs>
                    <a:gs pos="100000">
                      <a:srgbClr val="ffefd1"/>
                    </a:gs>
                  </a:gsLst>
                  <a:lin ang="18900000"/>
                </a:gradFill>
                <a:latin typeface="Times New Roman"/>
              </a:rPr>
              <a:t>КРУЖКОВЦЫ.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ffefd1"/>
                  </a:gs>
                  <a:gs pos="100000">
                    <a:srgbClr val="ffefd1"/>
                  </a:gs>
                </a:gsLst>
                <a:lin ang="18900000"/>
              </a:gradFill>
              <a:latin typeface="Times New Roman"/>
              <a:ea typeface="Times New Roman"/>
            </a:endParaRPr>
          </a:p>
        </p:txBody>
      </p:sp>
      <p:grpSp>
        <p:nvGrpSpPr>
          <p:cNvPr id="154" name="Group 9"/>
          <p:cNvGrpSpPr/>
          <p:nvPr/>
        </p:nvGrpSpPr>
        <p:grpSpPr>
          <a:xfrm>
            <a:off x="7956720" y="6597720"/>
            <a:ext cx="1187280" cy="260280"/>
            <a:chOff x="7956720" y="6597720"/>
            <a:chExt cx="1187280" cy="260280"/>
          </a:xfrm>
        </p:grpSpPr>
        <p:sp>
          <p:nvSpPr>
            <p:cNvPr id="155" name="AutoShape 10">
              <a:hlinkClick r:id="" action="ppaction://hlinkshowjump?jump=nextslide"/>
            </p:cNvPr>
            <p:cNvSpPr/>
            <p:nvPr/>
          </p:nvSpPr>
          <p:spPr>
            <a:xfrm>
              <a:off x="8820000" y="6597720"/>
              <a:ext cx="324000" cy="260280"/>
            </a:xfrm>
            <a:custGeom>
              <a:avLst/>
              <a:gdLst>
                <a:gd name="textAreaLeft" fmla="*/ 16560 w 324000"/>
                <a:gd name="textAreaRight" fmla="*/ 307440 w 32400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6881" h="21600">
                  <a:moveTo>
                    <a:pt x="0" y="0"/>
                  </a:moveTo>
                  <a:lnTo>
                    <a:pt x="26881" y="0"/>
                  </a:lnTo>
                  <a:lnTo>
                    <a:pt x="26881" y="21600"/>
                  </a:lnTo>
                  <a:lnTo>
                    <a:pt x="0" y="21600"/>
                  </a:lnTo>
                  <a:close/>
                </a:path>
                <a:path fill="lightenLess" w="26881" h="21600">
                  <a:moveTo>
                    <a:pt x="0" y="0"/>
                  </a:moveTo>
                  <a:lnTo>
                    <a:pt x="26881" y="0"/>
                  </a:lnTo>
                  <a:lnTo>
                    <a:pt x="25481" y="1400"/>
                  </a:lnTo>
                  <a:lnTo>
                    <a:pt x="1400" y="1400"/>
                  </a:lnTo>
                  <a:close/>
                </a:path>
                <a:path fill="darken" w="26881" h="21600">
                  <a:moveTo>
                    <a:pt x="26881" y="0"/>
                  </a:moveTo>
                  <a:lnTo>
                    <a:pt x="26881" y="21600"/>
                  </a:lnTo>
                  <a:lnTo>
                    <a:pt x="25481" y="20200"/>
                  </a:lnTo>
                  <a:lnTo>
                    <a:pt x="25481" y="1400"/>
                  </a:lnTo>
                  <a:close/>
                </a:path>
                <a:path fill="darkenLess" w="26881" h="21600">
                  <a:moveTo>
                    <a:pt x="2688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481" y="20200"/>
                  </a:lnTo>
                  <a:close/>
                </a:path>
                <a:path fill="lighten" w="2688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6881" h="21600">
                  <a:moveTo>
                    <a:pt x="6434" y="3794"/>
                  </a:moveTo>
                  <a:lnTo>
                    <a:pt x="20447" y="10800"/>
                  </a:lnTo>
                  <a:lnTo>
                    <a:pt x="6434" y="17806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56" name="AutoShape 11">
              <a:hlinkClick r:id="" action="ppaction://hlinkshowjump?jump=previousslide"/>
            </p:cNvPr>
            <p:cNvSpPr/>
            <p:nvPr/>
          </p:nvSpPr>
          <p:spPr>
            <a:xfrm>
              <a:off x="8388360" y="6597720"/>
              <a:ext cx="360360" cy="260280"/>
            </a:xfrm>
            <a:custGeom>
              <a:avLst/>
              <a:gdLst>
                <a:gd name="textAreaLeft" fmla="*/ 16560 w 360360"/>
                <a:gd name="textAreaRight" fmla="*/ 343800 w 36036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9894" h="21600">
                  <a:moveTo>
                    <a:pt x="0" y="0"/>
                  </a:moveTo>
                  <a:lnTo>
                    <a:pt x="29894" y="0"/>
                  </a:lnTo>
                  <a:lnTo>
                    <a:pt x="29894" y="21600"/>
                  </a:lnTo>
                  <a:lnTo>
                    <a:pt x="0" y="21600"/>
                  </a:lnTo>
                  <a:close/>
                </a:path>
                <a:path fill="lightenLess" w="29894" h="21600">
                  <a:moveTo>
                    <a:pt x="0" y="0"/>
                  </a:moveTo>
                  <a:lnTo>
                    <a:pt x="29894" y="0"/>
                  </a:lnTo>
                  <a:lnTo>
                    <a:pt x="28494" y="1400"/>
                  </a:lnTo>
                  <a:lnTo>
                    <a:pt x="1400" y="1400"/>
                  </a:lnTo>
                  <a:close/>
                </a:path>
                <a:path fill="darken" w="29894" h="21600">
                  <a:moveTo>
                    <a:pt x="29894" y="0"/>
                  </a:moveTo>
                  <a:lnTo>
                    <a:pt x="29894" y="21600"/>
                  </a:lnTo>
                  <a:lnTo>
                    <a:pt x="28494" y="20200"/>
                  </a:lnTo>
                  <a:lnTo>
                    <a:pt x="28494" y="1400"/>
                  </a:lnTo>
                  <a:close/>
                </a:path>
                <a:path fill="darkenLess" w="29894" h="21600">
                  <a:moveTo>
                    <a:pt x="2989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494" y="20200"/>
                  </a:lnTo>
                  <a:close/>
                </a:path>
                <a:path fill="lighten" w="2989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894" h="21600">
                  <a:moveTo>
                    <a:pt x="7940" y="10800"/>
                  </a:moveTo>
                  <a:lnTo>
                    <a:pt x="21953" y="3794"/>
                  </a:lnTo>
                  <a:lnTo>
                    <a:pt x="21953" y="1780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57" name="AutoShape 12">
              <a:hlinkClick r:id="" action="ppaction://hlinkshowjump?jump=firstslide"/>
            </p:cNvPr>
            <p:cNvSpPr/>
            <p:nvPr/>
          </p:nvSpPr>
          <p:spPr>
            <a:xfrm>
              <a:off x="7956720" y="6597720"/>
              <a:ext cx="360360" cy="260280"/>
            </a:xfrm>
            <a:custGeom>
              <a:avLst/>
              <a:gdLst>
                <a:gd name="textAreaLeft" fmla="*/ 16560 w 360360"/>
                <a:gd name="textAreaRight" fmla="*/ 343800 w 36036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9894" h="21600">
                  <a:moveTo>
                    <a:pt x="0" y="0"/>
                  </a:moveTo>
                  <a:lnTo>
                    <a:pt x="29894" y="0"/>
                  </a:lnTo>
                  <a:lnTo>
                    <a:pt x="29894" y="21600"/>
                  </a:lnTo>
                  <a:lnTo>
                    <a:pt x="0" y="21600"/>
                  </a:lnTo>
                  <a:close/>
                </a:path>
                <a:path fill="lightenLess" w="29894" h="21600">
                  <a:moveTo>
                    <a:pt x="0" y="0"/>
                  </a:moveTo>
                  <a:lnTo>
                    <a:pt x="29894" y="0"/>
                  </a:lnTo>
                  <a:lnTo>
                    <a:pt x="28494" y="1400"/>
                  </a:lnTo>
                  <a:lnTo>
                    <a:pt x="1400" y="1400"/>
                  </a:lnTo>
                  <a:close/>
                </a:path>
                <a:path fill="darken" w="29894" h="21600">
                  <a:moveTo>
                    <a:pt x="29894" y="0"/>
                  </a:moveTo>
                  <a:lnTo>
                    <a:pt x="29894" y="21600"/>
                  </a:lnTo>
                  <a:lnTo>
                    <a:pt x="28494" y="20200"/>
                  </a:lnTo>
                  <a:lnTo>
                    <a:pt x="28494" y="1400"/>
                  </a:lnTo>
                  <a:close/>
                </a:path>
                <a:path fill="darkenLess" w="29894" h="21600">
                  <a:moveTo>
                    <a:pt x="2989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494" y="20200"/>
                  </a:lnTo>
                  <a:close/>
                </a:path>
                <a:path fill="lighten" w="2989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894" h="21600">
                  <a:moveTo>
                    <a:pt x="14947" y="3837"/>
                  </a:moveTo>
                  <a:lnTo>
                    <a:pt x="17523" y="6448"/>
                  </a:lnTo>
                  <a:lnTo>
                    <a:pt x="17523" y="4707"/>
                  </a:lnTo>
                  <a:lnTo>
                    <a:pt x="19299" y="4707"/>
                  </a:lnTo>
                  <a:lnTo>
                    <a:pt x="19299" y="8224"/>
                  </a:lnTo>
                  <a:lnTo>
                    <a:pt x="21910" y="10800"/>
                  </a:lnTo>
                  <a:lnTo>
                    <a:pt x="20256" y="10800"/>
                  </a:lnTo>
                  <a:lnTo>
                    <a:pt x="20256" y="17989"/>
                  </a:lnTo>
                  <a:lnTo>
                    <a:pt x="9638" y="17989"/>
                  </a:lnTo>
                  <a:lnTo>
                    <a:pt x="9638" y="10800"/>
                  </a:lnTo>
                  <a:lnTo>
                    <a:pt x="7984" y="10800"/>
                  </a:lnTo>
                  <a:close/>
                </a:path>
                <a:path fill="darkenLess" w="29894" h="21600">
                  <a:moveTo>
                    <a:pt x="17523" y="6448"/>
                  </a:moveTo>
                  <a:lnTo>
                    <a:pt x="17523" y="4707"/>
                  </a:lnTo>
                  <a:lnTo>
                    <a:pt x="19299" y="4707"/>
                  </a:lnTo>
                  <a:lnTo>
                    <a:pt x="19299" y="8224"/>
                  </a:lnTo>
                  <a:close/>
                </a:path>
                <a:path fill="darkenLess" w="29894" h="21600">
                  <a:moveTo>
                    <a:pt x="14024" y="14299"/>
                  </a:moveTo>
                  <a:lnTo>
                    <a:pt x="15870" y="14299"/>
                  </a:lnTo>
                  <a:lnTo>
                    <a:pt x="15870" y="17989"/>
                  </a:lnTo>
                  <a:lnTo>
                    <a:pt x="20256" y="17989"/>
                  </a:lnTo>
                  <a:lnTo>
                    <a:pt x="20256" y="10800"/>
                  </a:lnTo>
                  <a:lnTo>
                    <a:pt x="9638" y="10800"/>
                  </a:lnTo>
                  <a:lnTo>
                    <a:pt x="9638" y="17989"/>
                  </a:lnTo>
                  <a:lnTo>
                    <a:pt x="14024" y="17989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5"/>
          <p:cNvSpPr txBox="1"/>
          <p:nvPr/>
        </p:nvSpPr>
        <p:spPr>
          <a:xfrm>
            <a:off x="1619280" y="189000"/>
            <a:ext cx="63374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ffefd1"/>
                    </a:gs>
                    <a:gs pos="100000">
                      <a:srgbClr val="ffefd1"/>
                    </a:gs>
                  </a:gsLst>
                  <a:lin ang="18900000"/>
                </a:gradFill>
                <a:latin typeface="Monotype Corsiva"/>
              </a:rPr>
              <a:t>Цель проекта: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ffefd1"/>
                  </a:gs>
                  <a:gs pos="100000">
                    <a:srgbClr val="ffefd1"/>
                  </a:gs>
                </a:gsLst>
                <a:lin ang="18900000"/>
              </a:gradFill>
              <a:latin typeface="Monotype Corsiva"/>
              <a:ea typeface="Monotype Corsiva"/>
            </a:endParaRPr>
          </a:p>
        </p:txBody>
      </p:sp>
      <p:sp>
        <p:nvSpPr>
          <p:cNvPr id="46" name="WordArt 11"/>
          <p:cNvSpPr txBox="1"/>
          <p:nvPr/>
        </p:nvSpPr>
        <p:spPr>
          <a:xfrm>
            <a:off x="468360" y="1989000"/>
            <a:ext cx="7704000" cy="410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Исследовать влияние  Костромской </a:t>
            </a:r>
            <a:endParaRPr b="1" i="1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земли на  творчество великого</a:t>
            </a:r>
            <a:endParaRPr b="1" i="1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русского поэта Н.А.Некрасова .</a:t>
            </a:r>
            <a:endParaRPr b="1" i="1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grpSp>
        <p:nvGrpSpPr>
          <p:cNvPr id="47" name="Group 14"/>
          <p:cNvGrpSpPr/>
          <p:nvPr/>
        </p:nvGrpSpPr>
        <p:grpSpPr>
          <a:xfrm>
            <a:off x="7956720" y="6597720"/>
            <a:ext cx="1187280" cy="260280"/>
            <a:chOff x="7956720" y="6597720"/>
            <a:chExt cx="1187280" cy="260280"/>
          </a:xfrm>
        </p:grpSpPr>
        <p:sp>
          <p:nvSpPr>
            <p:cNvPr id="48" name="AutoShape 9">
              <a:hlinkClick r:id="" action="ppaction://hlinkshowjump?jump=nextslide"/>
            </p:cNvPr>
            <p:cNvSpPr/>
            <p:nvPr/>
          </p:nvSpPr>
          <p:spPr>
            <a:xfrm>
              <a:off x="8820000" y="6597720"/>
              <a:ext cx="324000" cy="260280"/>
            </a:xfrm>
            <a:custGeom>
              <a:avLst/>
              <a:gdLst>
                <a:gd name="textAreaLeft" fmla="*/ 16560 w 324000"/>
                <a:gd name="textAreaRight" fmla="*/ 307440 w 32400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6881" h="21600">
                  <a:moveTo>
                    <a:pt x="0" y="0"/>
                  </a:moveTo>
                  <a:lnTo>
                    <a:pt x="26881" y="0"/>
                  </a:lnTo>
                  <a:lnTo>
                    <a:pt x="26881" y="21600"/>
                  </a:lnTo>
                  <a:lnTo>
                    <a:pt x="0" y="21600"/>
                  </a:lnTo>
                  <a:close/>
                </a:path>
                <a:path fill="lightenLess" w="26881" h="21600">
                  <a:moveTo>
                    <a:pt x="0" y="0"/>
                  </a:moveTo>
                  <a:lnTo>
                    <a:pt x="26881" y="0"/>
                  </a:lnTo>
                  <a:lnTo>
                    <a:pt x="25481" y="1400"/>
                  </a:lnTo>
                  <a:lnTo>
                    <a:pt x="1400" y="1400"/>
                  </a:lnTo>
                  <a:close/>
                </a:path>
                <a:path fill="darken" w="26881" h="21600">
                  <a:moveTo>
                    <a:pt x="26881" y="0"/>
                  </a:moveTo>
                  <a:lnTo>
                    <a:pt x="26881" y="21600"/>
                  </a:lnTo>
                  <a:lnTo>
                    <a:pt x="25481" y="20200"/>
                  </a:lnTo>
                  <a:lnTo>
                    <a:pt x="25481" y="1400"/>
                  </a:lnTo>
                  <a:close/>
                </a:path>
                <a:path fill="darkenLess" w="26881" h="21600">
                  <a:moveTo>
                    <a:pt x="2688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481" y="20200"/>
                  </a:lnTo>
                  <a:close/>
                </a:path>
                <a:path fill="lighten" w="2688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6881" h="21600">
                  <a:moveTo>
                    <a:pt x="6434" y="3794"/>
                  </a:moveTo>
                  <a:lnTo>
                    <a:pt x="20447" y="10800"/>
                  </a:lnTo>
                  <a:lnTo>
                    <a:pt x="6434" y="17806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9" name="AutoShape 12">
              <a:hlinkClick r:id="" action="ppaction://hlinkshowjump?jump=previousslide"/>
            </p:cNvPr>
            <p:cNvSpPr/>
            <p:nvPr/>
          </p:nvSpPr>
          <p:spPr>
            <a:xfrm>
              <a:off x="8388360" y="6597720"/>
              <a:ext cx="360360" cy="260280"/>
            </a:xfrm>
            <a:custGeom>
              <a:avLst/>
              <a:gdLst>
                <a:gd name="textAreaLeft" fmla="*/ 16560 w 360360"/>
                <a:gd name="textAreaRight" fmla="*/ 343800 w 36036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9894" h="21600">
                  <a:moveTo>
                    <a:pt x="0" y="0"/>
                  </a:moveTo>
                  <a:lnTo>
                    <a:pt x="29894" y="0"/>
                  </a:lnTo>
                  <a:lnTo>
                    <a:pt x="29894" y="21600"/>
                  </a:lnTo>
                  <a:lnTo>
                    <a:pt x="0" y="21600"/>
                  </a:lnTo>
                  <a:close/>
                </a:path>
                <a:path fill="lightenLess" w="29894" h="21600">
                  <a:moveTo>
                    <a:pt x="0" y="0"/>
                  </a:moveTo>
                  <a:lnTo>
                    <a:pt x="29894" y="0"/>
                  </a:lnTo>
                  <a:lnTo>
                    <a:pt x="28494" y="1400"/>
                  </a:lnTo>
                  <a:lnTo>
                    <a:pt x="1400" y="1400"/>
                  </a:lnTo>
                  <a:close/>
                </a:path>
                <a:path fill="darken" w="29894" h="21600">
                  <a:moveTo>
                    <a:pt x="29894" y="0"/>
                  </a:moveTo>
                  <a:lnTo>
                    <a:pt x="29894" y="21600"/>
                  </a:lnTo>
                  <a:lnTo>
                    <a:pt x="28494" y="20200"/>
                  </a:lnTo>
                  <a:lnTo>
                    <a:pt x="28494" y="1400"/>
                  </a:lnTo>
                  <a:close/>
                </a:path>
                <a:path fill="darkenLess" w="29894" h="21600">
                  <a:moveTo>
                    <a:pt x="2989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494" y="20200"/>
                  </a:lnTo>
                  <a:close/>
                </a:path>
                <a:path fill="lighten" w="2989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894" h="21600">
                  <a:moveTo>
                    <a:pt x="7940" y="10800"/>
                  </a:moveTo>
                  <a:lnTo>
                    <a:pt x="21953" y="3794"/>
                  </a:lnTo>
                  <a:lnTo>
                    <a:pt x="21953" y="1780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0" name="AutoShape 13">
              <a:hlinkClick r:id="" action="ppaction://hlinkshowjump?jump=firstslide"/>
            </p:cNvPr>
            <p:cNvSpPr/>
            <p:nvPr/>
          </p:nvSpPr>
          <p:spPr>
            <a:xfrm>
              <a:off x="7956720" y="6597720"/>
              <a:ext cx="360360" cy="260280"/>
            </a:xfrm>
            <a:custGeom>
              <a:avLst/>
              <a:gdLst>
                <a:gd name="textAreaLeft" fmla="*/ 16560 w 360360"/>
                <a:gd name="textAreaRight" fmla="*/ 343800 w 36036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9894" h="21600">
                  <a:moveTo>
                    <a:pt x="0" y="0"/>
                  </a:moveTo>
                  <a:lnTo>
                    <a:pt x="29894" y="0"/>
                  </a:lnTo>
                  <a:lnTo>
                    <a:pt x="29894" y="21600"/>
                  </a:lnTo>
                  <a:lnTo>
                    <a:pt x="0" y="21600"/>
                  </a:lnTo>
                  <a:close/>
                </a:path>
                <a:path fill="lightenLess" w="29894" h="21600">
                  <a:moveTo>
                    <a:pt x="0" y="0"/>
                  </a:moveTo>
                  <a:lnTo>
                    <a:pt x="29894" y="0"/>
                  </a:lnTo>
                  <a:lnTo>
                    <a:pt x="28494" y="1400"/>
                  </a:lnTo>
                  <a:lnTo>
                    <a:pt x="1400" y="1400"/>
                  </a:lnTo>
                  <a:close/>
                </a:path>
                <a:path fill="darken" w="29894" h="21600">
                  <a:moveTo>
                    <a:pt x="29894" y="0"/>
                  </a:moveTo>
                  <a:lnTo>
                    <a:pt x="29894" y="21600"/>
                  </a:lnTo>
                  <a:lnTo>
                    <a:pt x="28494" y="20200"/>
                  </a:lnTo>
                  <a:lnTo>
                    <a:pt x="28494" y="1400"/>
                  </a:lnTo>
                  <a:close/>
                </a:path>
                <a:path fill="darkenLess" w="29894" h="21600">
                  <a:moveTo>
                    <a:pt x="2989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494" y="20200"/>
                  </a:lnTo>
                  <a:close/>
                </a:path>
                <a:path fill="lighten" w="2989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894" h="21600">
                  <a:moveTo>
                    <a:pt x="14947" y="3837"/>
                  </a:moveTo>
                  <a:lnTo>
                    <a:pt x="17523" y="6448"/>
                  </a:lnTo>
                  <a:lnTo>
                    <a:pt x="17523" y="4707"/>
                  </a:lnTo>
                  <a:lnTo>
                    <a:pt x="19299" y="4707"/>
                  </a:lnTo>
                  <a:lnTo>
                    <a:pt x="19299" y="8224"/>
                  </a:lnTo>
                  <a:lnTo>
                    <a:pt x="21910" y="10800"/>
                  </a:lnTo>
                  <a:lnTo>
                    <a:pt x="20256" y="10800"/>
                  </a:lnTo>
                  <a:lnTo>
                    <a:pt x="20256" y="17989"/>
                  </a:lnTo>
                  <a:lnTo>
                    <a:pt x="9638" y="17989"/>
                  </a:lnTo>
                  <a:lnTo>
                    <a:pt x="9638" y="10800"/>
                  </a:lnTo>
                  <a:lnTo>
                    <a:pt x="7984" y="10800"/>
                  </a:lnTo>
                  <a:close/>
                </a:path>
                <a:path fill="darkenLess" w="29894" h="21600">
                  <a:moveTo>
                    <a:pt x="17523" y="6448"/>
                  </a:moveTo>
                  <a:lnTo>
                    <a:pt x="17523" y="4707"/>
                  </a:lnTo>
                  <a:lnTo>
                    <a:pt x="19299" y="4707"/>
                  </a:lnTo>
                  <a:lnTo>
                    <a:pt x="19299" y="8224"/>
                  </a:lnTo>
                  <a:close/>
                </a:path>
                <a:path fill="darkenLess" w="29894" h="21600">
                  <a:moveTo>
                    <a:pt x="14024" y="14299"/>
                  </a:moveTo>
                  <a:lnTo>
                    <a:pt x="15870" y="14299"/>
                  </a:lnTo>
                  <a:lnTo>
                    <a:pt x="15870" y="17989"/>
                  </a:lnTo>
                  <a:lnTo>
                    <a:pt x="20256" y="17989"/>
                  </a:lnTo>
                  <a:lnTo>
                    <a:pt x="20256" y="10800"/>
                  </a:lnTo>
                  <a:lnTo>
                    <a:pt x="9638" y="10800"/>
                  </a:lnTo>
                  <a:lnTo>
                    <a:pt x="9638" y="17989"/>
                  </a:lnTo>
                  <a:lnTo>
                    <a:pt x="14024" y="17989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5"/>
          <p:cNvSpPr txBox="1"/>
          <p:nvPr/>
        </p:nvSpPr>
        <p:spPr>
          <a:xfrm>
            <a:off x="1116000" y="189000"/>
            <a:ext cx="5977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ffefd1"/>
                    </a:gs>
                    <a:gs pos="100000">
                      <a:srgbClr val="ffefd1"/>
                    </a:gs>
                  </a:gsLst>
                  <a:lin ang="189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Задачи проекта: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ffefd1"/>
                  </a:gs>
                  <a:gs pos="100000">
                    <a:srgbClr val="ffefd1"/>
                  </a:gs>
                </a:gsLst>
                <a:lin ang="189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52" name="WordArt 9"/>
          <p:cNvSpPr txBox="1"/>
          <p:nvPr/>
        </p:nvSpPr>
        <p:spPr>
          <a:xfrm>
            <a:off x="468360" y="1413000"/>
            <a:ext cx="835164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1) Показать как Н.А.Некрасов полно отразил в своем </a:t>
            </a:r>
            <a:endParaRPr b="1" i="1" lang="en-US" sz="16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творчестве быт, нравы, образ жизни костромичей.</a:t>
            </a:r>
            <a:endParaRPr b="1" i="1" lang="en-US" sz="16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3" name="WordArt 10"/>
          <p:cNvSpPr txBox="1"/>
          <p:nvPr/>
        </p:nvSpPr>
        <p:spPr>
          <a:xfrm>
            <a:off x="324000" y="3357720"/>
            <a:ext cx="8424720" cy="29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)Выяснить , какае факты из жизни наших предков стали</a:t>
            </a:r>
            <a:endParaRPr b="1" i="1" lang="en-US" sz="16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1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достоянием творчества поэта, кто из наших земляков был </a:t>
            </a:r>
            <a:endParaRPr b="1" i="1" lang="en-US" sz="16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избран в качестве прототипов героев поэм и стихов поэта.</a:t>
            </a:r>
            <a:endParaRPr b="1" i="1" lang="en-US" sz="16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grpSp>
        <p:nvGrpSpPr>
          <p:cNvPr id="54" name="Group 11"/>
          <p:cNvGrpSpPr/>
          <p:nvPr/>
        </p:nvGrpSpPr>
        <p:grpSpPr>
          <a:xfrm>
            <a:off x="7956720" y="6597720"/>
            <a:ext cx="1187280" cy="260280"/>
            <a:chOff x="7956720" y="6597720"/>
            <a:chExt cx="1187280" cy="260280"/>
          </a:xfrm>
        </p:grpSpPr>
        <p:sp>
          <p:nvSpPr>
            <p:cNvPr id="55" name="AutoShape 12">
              <a:hlinkClick r:id="" action="ppaction://hlinkshowjump?jump=nextslide"/>
            </p:cNvPr>
            <p:cNvSpPr/>
            <p:nvPr/>
          </p:nvSpPr>
          <p:spPr>
            <a:xfrm>
              <a:off x="8820000" y="6597720"/>
              <a:ext cx="324000" cy="260280"/>
            </a:xfrm>
            <a:custGeom>
              <a:avLst/>
              <a:gdLst>
                <a:gd name="textAreaLeft" fmla="*/ 16560 w 324000"/>
                <a:gd name="textAreaRight" fmla="*/ 307440 w 32400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6881" h="21600">
                  <a:moveTo>
                    <a:pt x="0" y="0"/>
                  </a:moveTo>
                  <a:lnTo>
                    <a:pt x="26881" y="0"/>
                  </a:lnTo>
                  <a:lnTo>
                    <a:pt x="26881" y="21600"/>
                  </a:lnTo>
                  <a:lnTo>
                    <a:pt x="0" y="21600"/>
                  </a:lnTo>
                  <a:close/>
                </a:path>
                <a:path fill="lightenLess" w="26881" h="21600">
                  <a:moveTo>
                    <a:pt x="0" y="0"/>
                  </a:moveTo>
                  <a:lnTo>
                    <a:pt x="26881" y="0"/>
                  </a:lnTo>
                  <a:lnTo>
                    <a:pt x="25481" y="1400"/>
                  </a:lnTo>
                  <a:lnTo>
                    <a:pt x="1400" y="1400"/>
                  </a:lnTo>
                  <a:close/>
                </a:path>
                <a:path fill="darken" w="26881" h="21600">
                  <a:moveTo>
                    <a:pt x="26881" y="0"/>
                  </a:moveTo>
                  <a:lnTo>
                    <a:pt x="26881" y="21600"/>
                  </a:lnTo>
                  <a:lnTo>
                    <a:pt x="25481" y="20200"/>
                  </a:lnTo>
                  <a:lnTo>
                    <a:pt x="25481" y="1400"/>
                  </a:lnTo>
                  <a:close/>
                </a:path>
                <a:path fill="darkenLess" w="26881" h="21600">
                  <a:moveTo>
                    <a:pt x="2688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481" y="20200"/>
                  </a:lnTo>
                  <a:close/>
                </a:path>
                <a:path fill="lighten" w="2688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6881" h="21600">
                  <a:moveTo>
                    <a:pt x="6434" y="3794"/>
                  </a:moveTo>
                  <a:lnTo>
                    <a:pt x="20447" y="10800"/>
                  </a:lnTo>
                  <a:lnTo>
                    <a:pt x="6434" y="17806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6" name="AutoShape 13">
              <a:hlinkClick r:id="" action="ppaction://hlinkshowjump?jump=previousslide"/>
            </p:cNvPr>
            <p:cNvSpPr/>
            <p:nvPr/>
          </p:nvSpPr>
          <p:spPr>
            <a:xfrm>
              <a:off x="8388360" y="6597720"/>
              <a:ext cx="360360" cy="260280"/>
            </a:xfrm>
            <a:custGeom>
              <a:avLst/>
              <a:gdLst>
                <a:gd name="textAreaLeft" fmla="*/ 16560 w 360360"/>
                <a:gd name="textAreaRight" fmla="*/ 343800 w 36036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9894" h="21600">
                  <a:moveTo>
                    <a:pt x="0" y="0"/>
                  </a:moveTo>
                  <a:lnTo>
                    <a:pt x="29894" y="0"/>
                  </a:lnTo>
                  <a:lnTo>
                    <a:pt x="29894" y="21600"/>
                  </a:lnTo>
                  <a:lnTo>
                    <a:pt x="0" y="21600"/>
                  </a:lnTo>
                  <a:close/>
                </a:path>
                <a:path fill="lightenLess" w="29894" h="21600">
                  <a:moveTo>
                    <a:pt x="0" y="0"/>
                  </a:moveTo>
                  <a:lnTo>
                    <a:pt x="29894" y="0"/>
                  </a:lnTo>
                  <a:lnTo>
                    <a:pt x="28494" y="1400"/>
                  </a:lnTo>
                  <a:lnTo>
                    <a:pt x="1400" y="1400"/>
                  </a:lnTo>
                  <a:close/>
                </a:path>
                <a:path fill="darken" w="29894" h="21600">
                  <a:moveTo>
                    <a:pt x="29894" y="0"/>
                  </a:moveTo>
                  <a:lnTo>
                    <a:pt x="29894" y="21600"/>
                  </a:lnTo>
                  <a:lnTo>
                    <a:pt x="28494" y="20200"/>
                  </a:lnTo>
                  <a:lnTo>
                    <a:pt x="28494" y="1400"/>
                  </a:lnTo>
                  <a:close/>
                </a:path>
                <a:path fill="darkenLess" w="29894" h="21600">
                  <a:moveTo>
                    <a:pt x="2989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494" y="20200"/>
                  </a:lnTo>
                  <a:close/>
                </a:path>
                <a:path fill="lighten" w="2989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894" h="21600">
                  <a:moveTo>
                    <a:pt x="7940" y="10800"/>
                  </a:moveTo>
                  <a:lnTo>
                    <a:pt x="21953" y="3794"/>
                  </a:lnTo>
                  <a:lnTo>
                    <a:pt x="21953" y="1780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7" name="AutoShape 14">
              <a:hlinkClick r:id="" action="ppaction://hlinkshowjump?jump=firstslide"/>
            </p:cNvPr>
            <p:cNvSpPr/>
            <p:nvPr/>
          </p:nvSpPr>
          <p:spPr>
            <a:xfrm>
              <a:off x="7956720" y="6597720"/>
              <a:ext cx="360360" cy="260280"/>
            </a:xfrm>
            <a:custGeom>
              <a:avLst/>
              <a:gdLst>
                <a:gd name="textAreaLeft" fmla="*/ 16560 w 360360"/>
                <a:gd name="textAreaRight" fmla="*/ 343800 w 36036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9894" h="21600">
                  <a:moveTo>
                    <a:pt x="0" y="0"/>
                  </a:moveTo>
                  <a:lnTo>
                    <a:pt x="29894" y="0"/>
                  </a:lnTo>
                  <a:lnTo>
                    <a:pt x="29894" y="21600"/>
                  </a:lnTo>
                  <a:lnTo>
                    <a:pt x="0" y="21600"/>
                  </a:lnTo>
                  <a:close/>
                </a:path>
                <a:path fill="lightenLess" w="29894" h="21600">
                  <a:moveTo>
                    <a:pt x="0" y="0"/>
                  </a:moveTo>
                  <a:lnTo>
                    <a:pt x="29894" y="0"/>
                  </a:lnTo>
                  <a:lnTo>
                    <a:pt x="28494" y="1400"/>
                  </a:lnTo>
                  <a:lnTo>
                    <a:pt x="1400" y="1400"/>
                  </a:lnTo>
                  <a:close/>
                </a:path>
                <a:path fill="darken" w="29894" h="21600">
                  <a:moveTo>
                    <a:pt x="29894" y="0"/>
                  </a:moveTo>
                  <a:lnTo>
                    <a:pt x="29894" y="21600"/>
                  </a:lnTo>
                  <a:lnTo>
                    <a:pt x="28494" y="20200"/>
                  </a:lnTo>
                  <a:lnTo>
                    <a:pt x="28494" y="1400"/>
                  </a:lnTo>
                  <a:close/>
                </a:path>
                <a:path fill="darkenLess" w="29894" h="21600">
                  <a:moveTo>
                    <a:pt x="2989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494" y="20200"/>
                  </a:lnTo>
                  <a:close/>
                </a:path>
                <a:path fill="lighten" w="2989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894" h="21600">
                  <a:moveTo>
                    <a:pt x="14947" y="3837"/>
                  </a:moveTo>
                  <a:lnTo>
                    <a:pt x="17523" y="6448"/>
                  </a:lnTo>
                  <a:lnTo>
                    <a:pt x="17523" y="4707"/>
                  </a:lnTo>
                  <a:lnTo>
                    <a:pt x="19299" y="4707"/>
                  </a:lnTo>
                  <a:lnTo>
                    <a:pt x="19299" y="8224"/>
                  </a:lnTo>
                  <a:lnTo>
                    <a:pt x="21910" y="10800"/>
                  </a:lnTo>
                  <a:lnTo>
                    <a:pt x="20256" y="10800"/>
                  </a:lnTo>
                  <a:lnTo>
                    <a:pt x="20256" y="17989"/>
                  </a:lnTo>
                  <a:lnTo>
                    <a:pt x="9638" y="17989"/>
                  </a:lnTo>
                  <a:lnTo>
                    <a:pt x="9638" y="10800"/>
                  </a:lnTo>
                  <a:lnTo>
                    <a:pt x="7984" y="10800"/>
                  </a:lnTo>
                  <a:close/>
                </a:path>
                <a:path fill="darkenLess" w="29894" h="21600">
                  <a:moveTo>
                    <a:pt x="17523" y="6448"/>
                  </a:moveTo>
                  <a:lnTo>
                    <a:pt x="17523" y="4707"/>
                  </a:lnTo>
                  <a:lnTo>
                    <a:pt x="19299" y="4707"/>
                  </a:lnTo>
                  <a:lnTo>
                    <a:pt x="19299" y="8224"/>
                  </a:lnTo>
                  <a:close/>
                </a:path>
                <a:path fill="darkenLess" w="29894" h="21600">
                  <a:moveTo>
                    <a:pt x="14024" y="14299"/>
                  </a:moveTo>
                  <a:lnTo>
                    <a:pt x="15870" y="14299"/>
                  </a:lnTo>
                  <a:lnTo>
                    <a:pt x="15870" y="17989"/>
                  </a:lnTo>
                  <a:lnTo>
                    <a:pt x="20256" y="17989"/>
                  </a:lnTo>
                  <a:lnTo>
                    <a:pt x="20256" y="10800"/>
                  </a:lnTo>
                  <a:lnTo>
                    <a:pt x="9638" y="10800"/>
                  </a:lnTo>
                  <a:lnTo>
                    <a:pt x="9638" y="17989"/>
                  </a:lnTo>
                  <a:lnTo>
                    <a:pt x="14024" y="17989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6"/>
          <p:cNvSpPr txBox="1"/>
          <p:nvPr/>
        </p:nvSpPr>
        <p:spPr>
          <a:xfrm>
            <a:off x="2484360" y="549360"/>
            <a:ext cx="4608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efd1"/>
                    </a:gs>
                    <a:gs pos="100000">
                      <a:srgbClr val="ffefd1"/>
                    </a:gs>
                  </a:gsLst>
                  <a:lin ang="189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Этапы проекта:</a:t>
            </a:r>
            <a:endParaRPr b="1" lang="en-US" sz="32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efd1"/>
                  </a:gs>
                  <a:gs pos="100000">
                    <a:srgbClr val="ffefd1"/>
                  </a:gs>
                </a:gsLst>
                <a:lin ang="189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1671480" y="1663560"/>
            <a:ext cx="693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60" name="Group 9"/>
          <p:cNvGrpSpPr/>
          <p:nvPr/>
        </p:nvGrpSpPr>
        <p:grpSpPr>
          <a:xfrm>
            <a:off x="7956720" y="6597720"/>
            <a:ext cx="1187280" cy="260280"/>
            <a:chOff x="7956720" y="6597720"/>
            <a:chExt cx="1187280" cy="260280"/>
          </a:xfrm>
        </p:grpSpPr>
        <p:sp>
          <p:nvSpPr>
            <p:cNvPr id="61" name="AutoShape 10">
              <a:hlinkClick r:id="" action="ppaction://hlinkshowjump?jump=nextslide"/>
            </p:cNvPr>
            <p:cNvSpPr/>
            <p:nvPr/>
          </p:nvSpPr>
          <p:spPr>
            <a:xfrm>
              <a:off x="8820000" y="6597720"/>
              <a:ext cx="324000" cy="260280"/>
            </a:xfrm>
            <a:custGeom>
              <a:avLst/>
              <a:gdLst>
                <a:gd name="textAreaLeft" fmla="*/ 16560 w 324000"/>
                <a:gd name="textAreaRight" fmla="*/ 307440 w 32400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6881" h="21600">
                  <a:moveTo>
                    <a:pt x="0" y="0"/>
                  </a:moveTo>
                  <a:lnTo>
                    <a:pt x="26881" y="0"/>
                  </a:lnTo>
                  <a:lnTo>
                    <a:pt x="26881" y="21600"/>
                  </a:lnTo>
                  <a:lnTo>
                    <a:pt x="0" y="21600"/>
                  </a:lnTo>
                  <a:close/>
                </a:path>
                <a:path fill="lightenLess" w="26881" h="21600">
                  <a:moveTo>
                    <a:pt x="0" y="0"/>
                  </a:moveTo>
                  <a:lnTo>
                    <a:pt x="26881" y="0"/>
                  </a:lnTo>
                  <a:lnTo>
                    <a:pt x="25481" y="1400"/>
                  </a:lnTo>
                  <a:lnTo>
                    <a:pt x="1400" y="1400"/>
                  </a:lnTo>
                  <a:close/>
                </a:path>
                <a:path fill="darken" w="26881" h="21600">
                  <a:moveTo>
                    <a:pt x="26881" y="0"/>
                  </a:moveTo>
                  <a:lnTo>
                    <a:pt x="26881" y="21600"/>
                  </a:lnTo>
                  <a:lnTo>
                    <a:pt x="25481" y="20200"/>
                  </a:lnTo>
                  <a:lnTo>
                    <a:pt x="25481" y="1400"/>
                  </a:lnTo>
                  <a:close/>
                </a:path>
                <a:path fill="darkenLess" w="26881" h="21600">
                  <a:moveTo>
                    <a:pt x="2688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481" y="20200"/>
                  </a:lnTo>
                  <a:close/>
                </a:path>
                <a:path fill="lighten" w="2688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6881" h="21600">
                  <a:moveTo>
                    <a:pt x="6434" y="3794"/>
                  </a:moveTo>
                  <a:lnTo>
                    <a:pt x="20447" y="10800"/>
                  </a:lnTo>
                  <a:lnTo>
                    <a:pt x="6434" y="17806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62" name="AutoShape 11">
              <a:hlinkClick r:id="" action="ppaction://hlinkshowjump?jump=previousslide"/>
            </p:cNvPr>
            <p:cNvSpPr/>
            <p:nvPr/>
          </p:nvSpPr>
          <p:spPr>
            <a:xfrm>
              <a:off x="8388360" y="6597720"/>
              <a:ext cx="360360" cy="260280"/>
            </a:xfrm>
            <a:custGeom>
              <a:avLst/>
              <a:gdLst>
                <a:gd name="textAreaLeft" fmla="*/ 16560 w 360360"/>
                <a:gd name="textAreaRight" fmla="*/ 343800 w 36036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9894" h="21600">
                  <a:moveTo>
                    <a:pt x="0" y="0"/>
                  </a:moveTo>
                  <a:lnTo>
                    <a:pt x="29894" y="0"/>
                  </a:lnTo>
                  <a:lnTo>
                    <a:pt x="29894" y="21600"/>
                  </a:lnTo>
                  <a:lnTo>
                    <a:pt x="0" y="21600"/>
                  </a:lnTo>
                  <a:close/>
                </a:path>
                <a:path fill="lightenLess" w="29894" h="21600">
                  <a:moveTo>
                    <a:pt x="0" y="0"/>
                  </a:moveTo>
                  <a:lnTo>
                    <a:pt x="29894" y="0"/>
                  </a:lnTo>
                  <a:lnTo>
                    <a:pt x="28494" y="1400"/>
                  </a:lnTo>
                  <a:lnTo>
                    <a:pt x="1400" y="1400"/>
                  </a:lnTo>
                  <a:close/>
                </a:path>
                <a:path fill="darken" w="29894" h="21600">
                  <a:moveTo>
                    <a:pt x="29894" y="0"/>
                  </a:moveTo>
                  <a:lnTo>
                    <a:pt x="29894" y="21600"/>
                  </a:lnTo>
                  <a:lnTo>
                    <a:pt x="28494" y="20200"/>
                  </a:lnTo>
                  <a:lnTo>
                    <a:pt x="28494" y="1400"/>
                  </a:lnTo>
                  <a:close/>
                </a:path>
                <a:path fill="darkenLess" w="29894" h="21600">
                  <a:moveTo>
                    <a:pt x="2989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494" y="20200"/>
                  </a:lnTo>
                  <a:close/>
                </a:path>
                <a:path fill="lighten" w="2989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894" h="21600">
                  <a:moveTo>
                    <a:pt x="7940" y="10800"/>
                  </a:moveTo>
                  <a:lnTo>
                    <a:pt x="21953" y="3794"/>
                  </a:lnTo>
                  <a:lnTo>
                    <a:pt x="21953" y="1780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63" name="AutoShape 12">
              <a:hlinkClick r:id="" action="ppaction://hlinkshowjump?jump=firstslide"/>
            </p:cNvPr>
            <p:cNvSpPr/>
            <p:nvPr/>
          </p:nvSpPr>
          <p:spPr>
            <a:xfrm>
              <a:off x="7956720" y="6597720"/>
              <a:ext cx="360360" cy="260280"/>
            </a:xfrm>
            <a:custGeom>
              <a:avLst/>
              <a:gdLst>
                <a:gd name="textAreaLeft" fmla="*/ 16560 w 360360"/>
                <a:gd name="textAreaRight" fmla="*/ 343800 w 36036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9894" h="21600">
                  <a:moveTo>
                    <a:pt x="0" y="0"/>
                  </a:moveTo>
                  <a:lnTo>
                    <a:pt x="29894" y="0"/>
                  </a:lnTo>
                  <a:lnTo>
                    <a:pt x="29894" y="21600"/>
                  </a:lnTo>
                  <a:lnTo>
                    <a:pt x="0" y="21600"/>
                  </a:lnTo>
                  <a:close/>
                </a:path>
                <a:path fill="lightenLess" w="29894" h="21600">
                  <a:moveTo>
                    <a:pt x="0" y="0"/>
                  </a:moveTo>
                  <a:lnTo>
                    <a:pt x="29894" y="0"/>
                  </a:lnTo>
                  <a:lnTo>
                    <a:pt x="28494" y="1400"/>
                  </a:lnTo>
                  <a:lnTo>
                    <a:pt x="1400" y="1400"/>
                  </a:lnTo>
                  <a:close/>
                </a:path>
                <a:path fill="darken" w="29894" h="21600">
                  <a:moveTo>
                    <a:pt x="29894" y="0"/>
                  </a:moveTo>
                  <a:lnTo>
                    <a:pt x="29894" y="21600"/>
                  </a:lnTo>
                  <a:lnTo>
                    <a:pt x="28494" y="20200"/>
                  </a:lnTo>
                  <a:lnTo>
                    <a:pt x="28494" y="1400"/>
                  </a:lnTo>
                  <a:close/>
                </a:path>
                <a:path fill="darkenLess" w="29894" h="21600">
                  <a:moveTo>
                    <a:pt x="2989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494" y="20200"/>
                  </a:lnTo>
                  <a:close/>
                </a:path>
                <a:path fill="lighten" w="2989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894" h="21600">
                  <a:moveTo>
                    <a:pt x="14947" y="3837"/>
                  </a:moveTo>
                  <a:lnTo>
                    <a:pt x="17523" y="6448"/>
                  </a:lnTo>
                  <a:lnTo>
                    <a:pt x="17523" y="4707"/>
                  </a:lnTo>
                  <a:lnTo>
                    <a:pt x="19299" y="4707"/>
                  </a:lnTo>
                  <a:lnTo>
                    <a:pt x="19299" y="8224"/>
                  </a:lnTo>
                  <a:lnTo>
                    <a:pt x="21910" y="10800"/>
                  </a:lnTo>
                  <a:lnTo>
                    <a:pt x="20256" y="10800"/>
                  </a:lnTo>
                  <a:lnTo>
                    <a:pt x="20256" y="17989"/>
                  </a:lnTo>
                  <a:lnTo>
                    <a:pt x="9638" y="17989"/>
                  </a:lnTo>
                  <a:lnTo>
                    <a:pt x="9638" y="10800"/>
                  </a:lnTo>
                  <a:lnTo>
                    <a:pt x="7984" y="10800"/>
                  </a:lnTo>
                  <a:close/>
                </a:path>
                <a:path fill="darkenLess" w="29894" h="21600">
                  <a:moveTo>
                    <a:pt x="17523" y="6448"/>
                  </a:moveTo>
                  <a:lnTo>
                    <a:pt x="17523" y="4707"/>
                  </a:lnTo>
                  <a:lnTo>
                    <a:pt x="19299" y="4707"/>
                  </a:lnTo>
                  <a:lnTo>
                    <a:pt x="19299" y="8224"/>
                  </a:lnTo>
                  <a:close/>
                </a:path>
                <a:path fill="darkenLess" w="29894" h="21600">
                  <a:moveTo>
                    <a:pt x="14024" y="14299"/>
                  </a:moveTo>
                  <a:lnTo>
                    <a:pt x="15870" y="14299"/>
                  </a:lnTo>
                  <a:lnTo>
                    <a:pt x="15870" y="17989"/>
                  </a:lnTo>
                  <a:lnTo>
                    <a:pt x="20256" y="17989"/>
                  </a:lnTo>
                  <a:lnTo>
                    <a:pt x="20256" y="10800"/>
                  </a:lnTo>
                  <a:lnTo>
                    <a:pt x="9638" y="10800"/>
                  </a:lnTo>
                  <a:lnTo>
                    <a:pt x="9638" y="17989"/>
                  </a:lnTo>
                  <a:lnTo>
                    <a:pt x="14024" y="17989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64" name="Text Box 13"/>
          <p:cNvSpPr/>
          <p:nvPr/>
        </p:nvSpPr>
        <p:spPr>
          <a:xfrm>
            <a:off x="324000" y="1844640"/>
            <a:ext cx="8208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1.Изучение и анализ литературы о жизни и творчестве Н.А. Некрасова.</a:t>
            </a:r>
            <a:endParaRPr b="1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324000" y="2887560"/>
            <a:ext cx="799308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2.Соцопрос населения о жизни и творчестве поэта.</a:t>
            </a: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3.Проведение мероприятия «Некрасовские чтения»</a:t>
            </a:r>
            <a:endParaRPr b="1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4.Проведение конкурса рисунков по теме «Н.А. Некрасов и Костромской край»</a:t>
            </a:r>
            <a:endParaRPr b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6" name="Rectangle 16"/>
          <p:cNvSpPr/>
          <p:nvPr/>
        </p:nvSpPr>
        <p:spPr>
          <a:xfrm>
            <a:off x="-1568520" y="5516640"/>
            <a:ext cx="1254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5.Оформление результатов проекта в виде презентации.</a:t>
            </a:r>
            <a:endParaRPr b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3360"/>
                            </p:stCondLst>
                            <p:childTnLst>
                              <p:par>
                                <p:cTn id="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80"/>
                            </p:stCondLst>
                            <p:childTnLst>
                              <p:par>
                                <p:cTn id="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6840"/>
                            </p:stCondLst>
                            <p:childTnLst>
                              <p:par>
                                <p:cTn id="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9440"/>
                            </p:stCondLst>
                            <p:childTnLst>
                              <p:par>
                                <p:cTn id="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1360"/>
                            </p:stCondLst>
                            <p:childTnLst>
                              <p:par>
                                <p:cTn id="9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3456"/>
          <p:cNvPicPr/>
          <p:nvPr/>
        </p:nvPicPr>
        <p:blipFill>
          <a:blip r:embed="rId1"/>
          <a:stretch/>
        </p:blipFill>
        <p:spPr>
          <a:xfrm>
            <a:off x="5796000" y="404640"/>
            <a:ext cx="2909880" cy="4149720"/>
          </a:xfrm>
          <a:prstGeom prst="rect">
            <a:avLst/>
          </a:prstGeom>
          <a:ln w="0">
            <a:noFill/>
          </a:ln>
        </p:spPr>
      </p:pic>
      <p:sp>
        <p:nvSpPr>
          <p:cNvPr id="68" name="WordArt 6"/>
          <p:cNvSpPr txBox="1"/>
          <p:nvPr/>
        </p:nvSpPr>
        <p:spPr>
          <a:xfrm>
            <a:off x="3851280" y="4869000"/>
            <a:ext cx="4753080" cy="12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6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ffefd1"/>
                    </a:gs>
                    <a:gs pos="100000">
                      <a:srgbClr val="ffefd1"/>
                    </a:gs>
                  </a:gsLst>
                  <a:lin ang="18900000"/>
                </a:gradFill>
                <a:latin typeface="Monotype Corsiva"/>
              </a:rPr>
              <a:t>Н. А. Некрасов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ffefd1"/>
                  </a:gs>
                  <a:gs pos="100000">
                    <a:srgbClr val="ffefd1"/>
                  </a:gs>
                </a:gsLst>
                <a:lin ang="18900000"/>
              </a:gra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ffefd1"/>
                    </a:gs>
                    <a:gs pos="100000">
                      <a:srgbClr val="ffefd1"/>
                    </a:gs>
                  </a:gsLst>
                  <a:lin ang="18900000"/>
                </a:gradFill>
                <a:latin typeface="Monotype Corsiva"/>
              </a:rPr>
              <a:t>(1821-1878)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ffefd1"/>
                  </a:gs>
                  <a:gs pos="100000">
                    <a:srgbClr val="ffefd1"/>
                  </a:gs>
                </a:gsLst>
                <a:lin ang="18900000"/>
              </a:gradFill>
              <a:latin typeface="Monotype Corsiva"/>
              <a:ea typeface="Monotype Corsiva"/>
            </a:endParaRPr>
          </a:p>
        </p:txBody>
      </p:sp>
      <p:sp>
        <p:nvSpPr>
          <p:cNvPr id="69" name="WordArt 7"/>
          <p:cNvSpPr txBox="1"/>
          <p:nvPr/>
        </p:nvSpPr>
        <p:spPr>
          <a:xfrm>
            <a:off x="468360" y="260280"/>
            <a:ext cx="468000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1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efd1"/>
                    </a:gs>
                    <a:gs pos="100000">
                      <a:srgbClr val="ffefd1"/>
                    </a:gs>
                  </a:gsLst>
                  <a:lin ang="18900000"/>
                </a:gradFill>
                <a:latin typeface="Monotype Corsiva"/>
              </a:rPr>
              <a:t>"Я лиру посвятил</a:t>
            </a:r>
            <a:endParaRPr b="1" lang="en-US" sz="32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efd1"/>
                  </a:gs>
                  <a:gs pos="100000">
                    <a:srgbClr val="ffefd1"/>
                  </a:gs>
                </a:gsLst>
                <a:lin ang="18900000"/>
              </a:gra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efd1"/>
                    </a:gs>
                    <a:gs pos="100000">
                      <a:srgbClr val="ffefd1"/>
                    </a:gs>
                  </a:gsLst>
                  <a:lin ang="18900000"/>
                </a:gradFill>
                <a:latin typeface="Monotype Corsiva"/>
              </a:rPr>
              <a:t>народу своему"</a:t>
            </a:r>
            <a:endParaRPr b="1" lang="en-US" sz="32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efd1"/>
                  </a:gs>
                  <a:gs pos="100000">
                    <a:srgbClr val="ffefd1"/>
                  </a:gs>
                </a:gsLst>
                <a:lin ang="18900000"/>
              </a:gradFill>
              <a:latin typeface="Monotype Corsiva"/>
              <a:ea typeface="Monotype Corsiva"/>
            </a:endParaRPr>
          </a:p>
        </p:txBody>
      </p:sp>
      <p:grpSp>
        <p:nvGrpSpPr>
          <p:cNvPr id="70" name="Group 10"/>
          <p:cNvGrpSpPr/>
          <p:nvPr/>
        </p:nvGrpSpPr>
        <p:grpSpPr>
          <a:xfrm>
            <a:off x="7956720" y="6597720"/>
            <a:ext cx="1187280" cy="260280"/>
            <a:chOff x="7956720" y="6597720"/>
            <a:chExt cx="1187280" cy="260280"/>
          </a:xfrm>
        </p:grpSpPr>
        <p:sp>
          <p:nvSpPr>
            <p:cNvPr id="71" name="AutoShape 11">
              <a:hlinkClick r:id="" action="ppaction://hlinkshowjump?jump=nextslide"/>
            </p:cNvPr>
            <p:cNvSpPr/>
            <p:nvPr/>
          </p:nvSpPr>
          <p:spPr>
            <a:xfrm>
              <a:off x="8820000" y="6597720"/>
              <a:ext cx="324000" cy="260280"/>
            </a:xfrm>
            <a:custGeom>
              <a:avLst/>
              <a:gdLst>
                <a:gd name="textAreaLeft" fmla="*/ 16560 w 324000"/>
                <a:gd name="textAreaRight" fmla="*/ 307440 w 32400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6881" h="21600">
                  <a:moveTo>
                    <a:pt x="0" y="0"/>
                  </a:moveTo>
                  <a:lnTo>
                    <a:pt x="26881" y="0"/>
                  </a:lnTo>
                  <a:lnTo>
                    <a:pt x="26881" y="21600"/>
                  </a:lnTo>
                  <a:lnTo>
                    <a:pt x="0" y="21600"/>
                  </a:lnTo>
                  <a:close/>
                </a:path>
                <a:path fill="lightenLess" w="26881" h="21600">
                  <a:moveTo>
                    <a:pt x="0" y="0"/>
                  </a:moveTo>
                  <a:lnTo>
                    <a:pt x="26881" y="0"/>
                  </a:lnTo>
                  <a:lnTo>
                    <a:pt x="25481" y="1400"/>
                  </a:lnTo>
                  <a:lnTo>
                    <a:pt x="1400" y="1400"/>
                  </a:lnTo>
                  <a:close/>
                </a:path>
                <a:path fill="darken" w="26881" h="21600">
                  <a:moveTo>
                    <a:pt x="26881" y="0"/>
                  </a:moveTo>
                  <a:lnTo>
                    <a:pt x="26881" y="21600"/>
                  </a:lnTo>
                  <a:lnTo>
                    <a:pt x="25481" y="20200"/>
                  </a:lnTo>
                  <a:lnTo>
                    <a:pt x="25481" y="1400"/>
                  </a:lnTo>
                  <a:close/>
                </a:path>
                <a:path fill="darkenLess" w="26881" h="21600">
                  <a:moveTo>
                    <a:pt x="2688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481" y="20200"/>
                  </a:lnTo>
                  <a:close/>
                </a:path>
                <a:path fill="lighten" w="2688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6881" h="21600">
                  <a:moveTo>
                    <a:pt x="6434" y="3794"/>
                  </a:moveTo>
                  <a:lnTo>
                    <a:pt x="20447" y="10800"/>
                  </a:lnTo>
                  <a:lnTo>
                    <a:pt x="6434" y="17806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72" name="AutoShape 12">
              <a:hlinkClick r:id="" action="ppaction://hlinkshowjump?jump=previousslide"/>
            </p:cNvPr>
            <p:cNvSpPr/>
            <p:nvPr/>
          </p:nvSpPr>
          <p:spPr>
            <a:xfrm>
              <a:off x="8388360" y="6597720"/>
              <a:ext cx="360360" cy="260280"/>
            </a:xfrm>
            <a:custGeom>
              <a:avLst/>
              <a:gdLst>
                <a:gd name="textAreaLeft" fmla="*/ 16560 w 360360"/>
                <a:gd name="textAreaRight" fmla="*/ 343800 w 36036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9894" h="21600">
                  <a:moveTo>
                    <a:pt x="0" y="0"/>
                  </a:moveTo>
                  <a:lnTo>
                    <a:pt x="29894" y="0"/>
                  </a:lnTo>
                  <a:lnTo>
                    <a:pt x="29894" y="21600"/>
                  </a:lnTo>
                  <a:lnTo>
                    <a:pt x="0" y="21600"/>
                  </a:lnTo>
                  <a:close/>
                </a:path>
                <a:path fill="lightenLess" w="29894" h="21600">
                  <a:moveTo>
                    <a:pt x="0" y="0"/>
                  </a:moveTo>
                  <a:lnTo>
                    <a:pt x="29894" y="0"/>
                  </a:lnTo>
                  <a:lnTo>
                    <a:pt x="28494" y="1400"/>
                  </a:lnTo>
                  <a:lnTo>
                    <a:pt x="1400" y="1400"/>
                  </a:lnTo>
                  <a:close/>
                </a:path>
                <a:path fill="darken" w="29894" h="21600">
                  <a:moveTo>
                    <a:pt x="29894" y="0"/>
                  </a:moveTo>
                  <a:lnTo>
                    <a:pt x="29894" y="21600"/>
                  </a:lnTo>
                  <a:lnTo>
                    <a:pt x="28494" y="20200"/>
                  </a:lnTo>
                  <a:lnTo>
                    <a:pt x="28494" y="1400"/>
                  </a:lnTo>
                  <a:close/>
                </a:path>
                <a:path fill="darkenLess" w="29894" h="21600">
                  <a:moveTo>
                    <a:pt x="2989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494" y="20200"/>
                  </a:lnTo>
                  <a:close/>
                </a:path>
                <a:path fill="lighten" w="2989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894" h="21600">
                  <a:moveTo>
                    <a:pt x="7940" y="10800"/>
                  </a:moveTo>
                  <a:lnTo>
                    <a:pt x="21953" y="3794"/>
                  </a:lnTo>
                  <a:lnTo>
                    <a:pt x="21953" y="1780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73" name="AutoShape 13">
              <a:hlinkClick r:id="" action="ppaction://hlinkshowjump?jump=firstslide"/>
            </p:cNvPr>
            <p:cNvSpPr/>
            <p:nvPr/>
          </p:nvSpPr>
          <p:spPr>
            <a:xfrm>
              <a:off x="7956720" y="6597720"/>
              <a:ext cx="360360" cy="260280"/>
            </a:xfrm>
            <a:custGeom>
              <a:avLst/>
              <a:gdLst>
                <a:gd name="textAreaLeft" fmla="*/ 16560 w 360360"/>
                <a:gd name="textAreaRight" fmla="*/ 343800 w 36036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9894" h="21600">
                  <a:moveTo>
                    <a:pt x="0" y="0"/>
                  </a:moveTo>
                  <a:lnTo>
                    <a:pt x="29894" y="0"/>
                  </a:lnTo>
                  <a:lnTo>
                    <a:pt x="29894" y="21600"/>
                  </a:lnTo>
                  <a:lnTo>
                    <a:pt x="0" y="21600"/>
                  </a:lnTo>
                  <a:close/>
                </a:path>
                <a:path fill="lightenLess" w="29894" h="21600">
                  <a:moveTo>
                    <a:pt x="0" y="0"/>
                  </a:moveTo>
                  <a:lnTo>
                    <a:pt x="29894" y="0"/>
                  </a:lnTo>
                  <a:lnTo>
                    <a:pt x="28494" y="1400"/>
                  </a:lnTo>
                  <a:lnTo>
                    <a:pt x="1400" y="1400"/>
                  </a:lnTo>
                  <a:close/>
                </a:path>
                <a:path fill="darken" w="29894" h="21600">
                  <a:moveTo>
                    <a:pt x="29894" y="0"/>
                  </a:moveTo>
                  <a:lnTo>
                    <a:pt x="29894" y="21600"/>
                  </a:lnTo>
                  <a:lnTo>
                    <a:pt x="28494" y="20200"/>
                  </a:lnTo>
                  <a:lnTo>
                    <a:pt x="28494" y="1400"/>
                  </a:lnTo>
                  <a:close/>
                </a:path>
                <a:path fill="darkenLess" w="29894" h="21600">
                  <a:moveTo>
                    <a:pt x="2989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494" y="20200"/>
                  </a:lnTo>
                  <a:close/>
                </a:path>
                <a:path fill="lighten" w="2989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894" h="21600">
                  <a:moveTo>
                    <a:pt x="14947" y="3837"/>
                  </a:moveTo>
                  <a:lnTo>
                    <a:pt x="17523" y="6448"/>
                  </a:lnTo>
                  <a:lnTo>
                    <a:pt x="17523" y="4707"/>
                  </a:lnTo>
                  <a:lnTo>
                    <a:pt x="19299" y="4707"/>
                  </a:lnTo>
                  <a:lnTo>
                    <a:pt x="19299" y="8224"/>
                  </a:lnTo>
                  <a:lnTo>
                    <a:pt x="21910" y="10800"/>
                  </a:lnTo>
                  <a:lnTo>
                    <a:pt x="20256" y="10800"/>
                  </a:lnTo>
                  <a:lnTo>
                    <a:pt x="20256" y="17989"/>
                  </a:lnTo>
                  <a:lnTo>
                    <a:pt x="9638" y="17989"/>
                  </a:lnTo>
                  <a:lnTo>
                    <a:pt x="9638" y="10800"/>
                  </a:lnTo>
                  <a:lnTo>
                    <a:pt x="7984" y="10800"/>
                  </a:lnTo>
                  <a:close/>
                </a:path>
                <a:path fill="darkenLess" w="29894" h="21600">
                  <a:moveTo>
                    <a:pt x="17523" y="6448"/>
                  </a:moveTo>
                  <a:lnTo>
                    <a:pt x="17523" y="4707"/>
                  </a:lnTo>
                  <a:lnTo>
                    <a:pt x="19299" y="4707"/>
                  </a:lnTo>
                  <a:lnTo>
                    <a:pt x="19299" y="8224"/>
                  </a:lnTo>
                  <a:close/>
                </a:path>
                <a:path fill="darkenLess" w="29894" h="21600">
                  <a:moveTo>
                    <a:pt x="14024" y="14299"/>
                  </a:moveTo>
                  <a:lnTo>
                    <a:pt x="15870" y="14299"/>
                  </a:lnTo>
                  <a:lnTo>
                    <a:pt x="15870" y="17989"/>
                  </a:lnTo>
                  <a:lnTo>
                    <a:pt x="20256" y="17989"/>
                  </a:lnTo>
                  <a:lnTo>
                    <a:pt x="20256" y="10800"/>
                  </a:lnTo>
                  <a:lnTo>
                    <a:pt x="9638" y="10800"/>
                  </a:lnTo>
                  <a:lnTo>
                    <a:pt x="9638" y="17989"/>
                  </a:lnTo>
                  <a:lnTo>
                    <a:pt x="14024" y="17989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7"/>
          <p:cNvSpPr txBox="1"/>
          <p:nvPr/>
        </p:nvSpPr>
        <p:spPr>
          <a:xfrm>
            <a:off x="179280" y="260280"/>
            <a:ext cx="684072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ffefd1"/>
                    </a:gs>
                    <a:gs pos="100000">
                      <a:srgbClr val="ffefd1"/>
                    </a:gs>
                  </a:gsLst>
                  <a:lin ang="18900000"/>
                </a:gradFill>
                <a:latin typeface="Monotype Corsiva"/>
              </a:rPr>
              <a:t>Влияние Костромской земли 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ffefd1"/>
                  </a:gs>
                  <a:gs pos="100000">
                    <a:srgbClr val="ffefd1"/>
                  </a:gs>
                </a:gsLst>
                <a:lin ang="18900000"/>
              </a:gra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ffefd1"/>
                    </a:gs>
                    <a:gs pos="100000">
                      <a:srgbClr val="ffefd1"/>
                    </a:gs>
                  </a:gsLst>
                  <a:lin ang="18900000"/>
                </a:gradFill>
                <a:latin typeface="Monotype Corsiva"/>
              </a:rPr>
              <a:t>на творчество писателя.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ffefd1"/>
                  </a:gs>
                  <a:gs pos="100000">
                    <a:srgbClr val="ffefd1"/>
                  </a:gs>
                </a:gsLst>
                <a:lin ang="18900000"/>
              </a:gradFill>
              <a:latin typeface="Monotype Corsiva"/>
              <a:ea typeface="Monotype Corsiva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324000" y="2565360"/>
            <a:ext cx="8820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Monotype Corsiva"/>
              </a:rPr>
              <a:t>Некрасов любил охотиться в лесах и на лугах по берегам р. Костромы. Здесь у него было немало знакомых крестьян: с их слов он записывал местные народные предания, песни, пословицы и поговорки, которые использовал в своем творчестве.</a:t>
            </a:r>
            <a:endParaRPr b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6" name="Picture 10" descr="nekrasov"/>
          <p:cNvPicPr/>
          <p:nvPr/>
        </p:nvPicPr>
        <p:blipFill>
          <a:blip r:embed="rId1"/>
          <a:stretch/>
        </p:blipFill>
        <p:spPr>
          <a:xfrm>
            <a:off x="7077240" y="0"/>
            <a:ext cx="2066760" cy="2565360"/>
          </a:xfrm>
          <a:prstGeom prst="rect">
            <a:avLst/>
          </a:prstGeom>
          <a:ln w="0">
            <a:noFill/>
          </a:ln>
        </p:spPr>
      </p:pic>
      <p:grpSp>
        <p:nvGrpSpPr>
          <p:cNvPr id="77" name="Group 12"/>
          <p:cNvGrpSpPr/>
          <p:nvPr/>
        </p:nvGrpSpPr>
        <p:grpSpPr>
          <a:xfrm>
            <a:off x="7956720" y="6597720"/>
            <a:ext cx="1187280" cy="260280"/>
            <a:chOff x="7956720" y="6597720"/>
            <a:chExt cx="1187280" cy="260280"/>
          </a:xfrm>
        </p:grpSpPr>
        <p:sp>
          <p:nvSpPr>
            <p:cNvPr id="78" name="AutoShape 13">
              <a:hlinkClick r:id="" action="ppaction://hlinkshowjump?jump=nextslide"/>
            </p:cNvPr>
            <p:cNvSpPr/>
            <p:nvPr/>
          </p:nvSpPr>
          <p:spPr>
            <a:xfrm>
              <a:off x="8820000" y="6597720"/>
              <a:ext cx="324000" cy="260280"/>
            </a:xfrm>
            <a:custGeom>
              <a:avLst/>
              <a:gdLst>
                <a:gd name="textAreaLeft" fmla="*/ 16560 w 324000"/>
                <a:gd name="textAreaRight" fmla="*/ 307440 w 32400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6881" h="21600">
                  <a:moveTo>
                    <a:pt x="0" y="0"/>
                  </a:moveTo>
                  <a:lnTo>
                    <a:pt x="26881" y="0"/>
                  </a:lnTo>
                  <a:lnTo>
                    <a:pt x="26881" y="21600"/>
                  </a:lnTo>
                  <a:lnTo>
                    <a:pt x="0" y="21600"/>
                  </a:lnTo>
                  <a:close/>
                </a:path>
                <a:path fill="lightenLess" w="26881" h="21600">
                  <a:moveTo>
                    <a:pt x="0" y="0"/>
                  </a:moveTo>
                  <a:lnTo>
                    <a:pt x="26881" y="0"/>
                  </a:lnTo>
                  <a:lnTo>
                    <a:pt x="25481" y="1400"/>
                  </a:lnTo>
                  <a:lnTo>
                    <a:pt x="1400" y="1400"/>
                  </a:lnTo>
                  <a:close/>
                </a:path>
                <a:path fill="darken" w="26881" h="21600">
                  <a:moveTo>
                    <a:pt x="26881" y="0"/>
                  </a:moveTo>
                  <a:lnTo>
                    <a:pt x="26881" y="21600"/>
                  </a:lnTo>
                  <a:lnTo>
                    <a:pt x="25481" y="20200"/>
                  </a:lnTo>
                  <a:lnTo>
                    <a:pt x="25481" y="1400"/>
                  </a:lnTo>
                  <a:close/>
                </a:path>
                <a:path fill="darkenLess" w="26881" h="21600">
                  <a:moveTo>
                    <a:pt x="2688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481" y="20200"/>
                  </a:lnTo>
                  <a:close/>
                </a:path>
                <a:path fill="lighten" w="2688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6881" h="21600">
                  <a:moveTo>
                    <a:pt x="6434" y="3794"/>
                  </a:moveTo>
                  <a:lnTo>
                    <a:pt x="20447" y="10800"/>
                  </a:lnTo>
                  <a:lnTo>
                    <a:pt x="6434" y="17806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79" name="AutoShape 14">
              <a:hlinkClick r:id="" action="ppaction://hlinkshowjump?jump=previousslide"/>
            </p:cNvPr>
            <p:cNvSpPr/>
            <p:nvPr/>
          </p:nvSpPr>
          <p:spPr>
            <a:xfrm>
              <a:off x="8388360" y="6597720"/>
              <a:ext cx="360360" cy="260280"/>
            </a:xfrm>
            <a:custGeom>
              <a:avLst/>
              <a:gdLst>
                <a:gd name="textAreaLeft" fmla="*/ 16560 w 360360"/>
                <a:gd name="textAreaRight" fmla="*/ 343800 w 36036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9894" h="21600">
                  <a:moveTo>
                    <a:pt x="0" y="0"/>
                  </a:moveTo>
                  <a:lnTo>
                    <a:pt x="29894" y="0"/>
                  </a:lnTo>
                  <a:lnTo>
                    <a:pt x="29894" y="21600"/>
                  </a:lnTo>
                  <a:lnTo>
                    <a:pt x="0" y="21600"/>
                  </a:lnTo>
                  <a:close/>
                </a:path>
                <a:path fill="lightenLess" w="29894" h="21600">
                  <a:moveTo>
                    <a:pt x="0" y="0"/>
                  </a:moveTo>
                  <a:lnTo>
                    <a:pt x="29894" y="0"/>
                  </a:lnTo>
                  <a:lnTo>
                    <a:pt x="28494" y="1400"/>
                  </a:lnTo>
                  <a:lnTo>
                    <a:pt x="1400" y="1400"/>
                  </a:lnTo>
                  <a:close/>
                </a:path>
                <a:path fill="darken" w="29894" h="21600">
                  <a:moveTo>
                    <a:pt x="29894" y="0"/>
                  </a:moveTo>
                  <a:lnTo>
                    <a:pt x="29894" y="21600"/>
                  </a:lnTo>
                  <a:lnTo>
                    <a:pt x="28494" y="20200"/>
                  </a:lnTo>
                  <a:lnTo>
                    <a:pt x="28494" y="1400"/>
                  </a:lnTo>
                  <a:close/>
                </a:path>
                <a:path fill="darkenLess" w="29894" h="21600">
                  <a:moveTo>
                    <a:pt x="2989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494" y="20200"/>
                  </a:lnTo>
                  <a:close/>
                </a:path>
                <a:path fill="lighten" w="2989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894" h="21600">
                  <a:moveTo>
                    <a:pt x="7940" y="10800"/>
                  </a:moveTo>
                  <a:lnTo>
                    <a:pt x="21953" y="3794"/>
                  </a:lnTo>
                  <a:lnTo>
                    <a:pt x="21953" y="1780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80" name="AutoShape 15">
              <a:hlinkClick r:id="" action="ppaction://hlinkshowjump?jump=firstslide"/>
            </p:cNvPr>
            <p:cNvSpPr/>
            <p:nvPr/>
          </p:nvSpPr>
          <p:spPr>
            <a:xfrm>
              <a:off x="7956720" y="6597720"/>
              <a:ext cx="360360" cy="260280"/>
            </a:xfrm>
            <a:custGeom>
              <a:avLst/>
              <a:gdLst>
                <a:gd name="textAreaLeft" fmla="*/ 16560 w 360360"/>
                <a:gd name="textAreaRight" fmla="*/ 343800 w 36036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9894" h="21600">
                  <a:moveTo>
                    <a:pt x="0" y="0"/>
                  </a:moveTo>
                  <a:lnTo>
                    <a:pt x="29894" y="0"/>
                  </a:lnTo>
                  <a:lnTo>
                    <a:pt x="29894" y="21600"/>
                  </a:lnTo>
                  <a:lnTo>
                    <a:pt x="0" y="21600"/>
                  </a:lnTo>
                  <a:close/>
                </a:path>
                <a:path fill="lightenLess" w="29894" h="21600">
                  <a:moveTo>
                    <a:pt x="0" y="0"/>
                  </a:moveTo>
                  <a:lnTo>
                    <a:pt x="29894" y="0"/>
                  </a:lnTo>
                  <a:lnTo>
                    <a:pt x="28494" y="1400"/>
                  </a:lnTo>
                  <a:lnTo>
                    <a:pt x="1400" y="1400"/>
                  </a:lnTo>
                  <a:close/>
                </a:path>
                <a:path fill="darken" w="29894" h="21600">
                  <a:moveTo>
                    <a:pt x="29894" y="0"/>
                  </a:moveTo>
                  <a:lnTo>
                    <a:pt x="29894" y="21600"/>
                  </a:lnTo>
                  <a:lnTo>
                    <a:pt x="28494" y="20200"/>
                  </a:lnTo>
                  <a:lnTo>
                    <a:pt x="28494" y="1400"/>
                  </a:lnTo>
                  <a:close/>
                </a:path>
                <a:path fill="darkenLess" w="29894" h="21600">
                  <a:moveTo>
                    <a:pt x="2989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494" y="20200"/>
                  </a:lnTo>
                  <a:close/>
                </a:path>
                <a:path fill="lighten" w="2989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894" h="21600">
                  <a:moveTo>
                    <a:pt x="14947" y="3837"/>
                  </a:moveTo>
                  <a:lnTo>
                    <a:pt x="17523" y="6448"/>
                  </a:lnTo>
                  <a:lnTo>
                    <a:pt x="17523" y="4707"/>
                  </a:lnTo>
                  <a:lnTo>
                    <a:pt x="19299" y="4707"/>
                  </a:lnTo>
                  <a:lnTo>
                    <a:pt x="19299" y="8224"/>
                  </a:lnTo>
                  <a:lnTo>
                    <a:pt x="21910" y="10800"/>
                  </a:lnTo>
                  <a:lnTo>
                    <a:pt x="20256" y="10800"/>
                  </a:lnTo>
                  <a:lnTo>
                    <a:pt x="20256" y="17989"/>
                  </a:lnTo>
                  <a:lnTo>
                    <a:pt x="9638" y="17989"/>
                  </a:lnTo>
                  <a:lnTo>
                    <a:pt x="9638" y="10800"/>
                  </a:lnTo>
                  <a:lnTo>
                    <a:pt x="7984" y="10800"/>
                  </a:lnTo>
                  <a:close/>
                </a:path>
                <a:path fill="darkenLess" w="29894" h="21600">
                  <a:moveTo>
                    <a:pt x="17523" y="6448"/>
                  </a:moveTo>
                  <a:lnTo>
                    <a:pt x="17523" y="4707"/>
                  </a:lnTo>
                  <a:lnTo>
                    <a:pt x="19299" y="4707"/>
                  </a:lnTo>
                  <a:lnTo>
                    <a:pt x="19299" y="8224"/>
                  </a:lnTo>
                  <a:close/>
                </a:path>
                <a:path fill="darkenLess" w="29894" h="21600">
                  <a:moveTo>
                    <a:pt x="14024" y="14299"/>
                  </a:moveTo>
                  <a:lnTo>
                    <a:pt x="15870" y="14299"/>
                  </a:lnTo>
                  <a:lnTo>
                    <a:pt x="15870" y="17989"/>
                  </a:lnTo>
                  <a:lnTo>
                    <a:pt x="20256" y="17989"/>
                  </a:lnTo>
                  <a:lnTo>
                    <a:pt x="20256" y="10800"/>
                  </a:lnTo>
                  <a:lnTo>
                    <a:pt x="9638" y="10800"/>
                  </a:lnTo>
                  <a:lnTo>
                    <a:pt x="9638" y="17989"/>
                  </a:lnTo>
                  <a:lnTo>
                    <a:pt x="14024" y="17989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8,-1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16,-17,-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9880"/>
                            </p:stCondLst>
                            <p:childTnLst>
                              <p:par>
                                <p:cTn id="14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5"/>
          <p:cNvSpPr txBox="1"/>
          <p:nvPr/>
        </p:nvSpPr>
        <p:spPr>
          <a:xfrm>
            <a:off x="250920" y="0"/>
            <a:ext cx="7993080" cy="29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"Хороша наша губерния, славен город </a:t>
            </a:r>
            <a:endParaRPr b="1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Кострома"- писал Н. А. Некрасов в </a:t>
            </a:r>
            <a:endParaRPr b="1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поэме "Коробейники".</a:t>
            </a:r>
            <a:endParaRPr b="1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  <p:pic>
        <p:nvPicPr>
          <p:cNvPr id="82" name="Picture 10" descr="kost11"/>
          <p:cNvPicPr/>
          <p:nvPr/>
        </p:nvPicPr>
        <p:blipFill>
          <a:blip r:embed="rId1"/>
          <a:stretch/>
        </p:blipFill>
        <p:spPr>
          <a:xfrm>
            <a:off x="0" y="3213000"/>
            <a:ext cx="9144000" cy="3645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14"/>
          <p:cNvGrpSpPr/>
          <p:nvPr/>
        </p:nvGrpSpPr>
        <p:grpSpPr>
          <a:xfrm>
            <a:off x="7956720" y="6597720"/>
            <a:ext cx="1187280" cy="260280"/>
            <a:chOff x="7956720" y="6597720"/>
            <a:chExt cx="1187280" cy="260280"/>
          </a:xfrm>
        </p:grpSpPr>
        <p:sp>
          <p:nvSpPr>
            <p:cNvPr id="84" name="AutoShape 15">
              <a:hlinkClick r:id="" action="ppaction://hlinkshowjump?jump=nextslide"/>
            </p:cNvPr>
            <p:cNvSpPr/>
            <p:nvPr/>
          </p:nvSpPr>
          <p:spPr>
            <a:xfrm>
              <a:off x="8820000" y="6597720"/>
              <a:ext cx="324000" cy="260280"/>
            </a:xfrm>
            <a:custGeom>
              <a:avLst/>
              <a:gdLst>
                <a:gd name="textAreaLeft" fmla="*/ 16560 w 324000"/>
                <a:gd name="textAreaRight" fmla="*/ 307440 w 32400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6881" h="21600">
                  <a:moveTo>
                    <a:pt x="0" y="0"/>
                  </a:moveTo>
                  <a:lnTo>
                    <a:pt x="26881" y="0"/>
                  </a:lnTo>
                  <a:lnTo>
                    <a:pt x="26881" y="21600"/>
                  </a:lnTo>
                  <a:lnTo>
                    <a:pt x="0" y="21600"/>
                  </a:lnTo>
                  <a:close/>
                </a:path>
                <a:path fill="lightenLess" w="26881" h="21600">
                  <a:moveTo>
                    <a:pt x="0" y="0"/>
                  </a:moveTo>
                  <a:lnTo>
                    <a:pt x="26881" y="0"/>
                  </a:lnTo>
                  <a:lnTo>
                    <a:pt x="25481" y="1400"/>
                  </a:lnTo>
                  <a:lnTo>
                    <a:pt x="1400" y="1400"/>
                  </a:lnTo>
                  <a:close/>
                </a:path>
                <a:path fill="darken" w="26881" h="21600">
                  <a:moveTo>
                    <a:pt x="26881" y="0"/>
                  </a:moveTo>
                  <a:lnTo>
                    <a:pt x="26881" y="21600"/>
                  </a:lnTo>
                  <a:lnTo>
                    <a:pt x="25481" y="20200"/>
                  </a:lnTo>
                  <a:lnTo>
                    <a:pt x="25481" y="1400"/>
                  </a:lnTo>
                  <a:close/>
                </a:path>
                <a:path fill="darkenLess" w="26881" h="21600">
                  <a:moveTo>
                    <a:pt x="2688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481" y="20200"/>
                  </a:lnTo>
                  <a:close/>
                </a:path>
                <a:path fill="lighten" w="2688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6881" h="21600">
                  <a:moveTo>
                    <a:pt x="6434" y="3794"/>
                  </a:moveTo>
                  <a:lnTo>
                    <a:pt x="20447" y="10800"/>
                  </a:lnTo>
                  <a:lnTo>
                    <a:pt x="6434" y="17806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85" name="AutoShape 16">
              <a:hlinkClick r:id="" action="ppaction://hlinkshowjump?jump=previousslide"/>
            </p:cNvPr>
            <p:cNvSpPr/>
            <p:nvPr/>
          </p:nvSpPr>
          <p:spPr>
            <a:xfrm>
              <a:off x="8388360" y="6597720"/>
              <a:ext cx="360360" cy="260280"/>
            </a:xfrm>
            <a:custGeom>
              <a:avLst/>
              <a:gdLst>
                <a:gd name="textAreaLeft" fmla="*/ 16560 w 360360"/>
                <a:gd name="textAreaRight" fmla="*/ 343800 w 36036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9894" h="21600">
                  <a:moveTo>
                    <a:pt x="0" y="0"/>
                  </a:moveTo>
                  <a:lnTo>
                    <a:pt x="29894" y="0"/>
                  </a:lnTo>
                  <a:lnTo>
                    <a:pt x="29894" y="21600"/>
                  </a:lnTo>
                  <a:lnTo>
                    <a:pt x="0" y="21600"/>
                  </a:lnTo>
                  <a:close/>
                </a:path>
                <a:path fill="lightenLess" w="29894" h="21600">
                  <a:moveTo>
                    <a:pt x="0" y="0"/>
                  </a:moveTo>
                  <a:lnTo>
                    <a:pt x="29894" y="0"/>
                  </a:lnTo>
                  <a:lnTo>
                    <a:pt x="28494" y="1400"/>
                  </a:lnTo>
                  <a:lnTo>
                    <a:pt x="1400" y="1400"/>
                  </a:lnTo>
                  <a:close/>
                </a:path>
                <a:path fill="darken" w="29894" h="21600">
                  <a:moveTo>
                    <a:pt x="29894" y="0"/>
                  </a:moveTo>
                  <a:lnTo>
                    <a:pt x="29894" y="21600"/>
                  </a:lnTo>
                  <a:lnTo>
                    <a:pt x="28494" y="20200"/>
                  </a:lnTo>
                  <a:lnTo>
                    <a:pt x="28494" y="1400"/>
                  </a:lnTo>
                  <a:close/>
                </a:path>
                <a:path fill="darkenLess" w="29894" h="21600">
                  <a:moveTo>
                    <a:pt x="2989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494" y="20200"/>
                  </a:lnTo>
                  <a:close/>
                </a:path>
                <a:path fill="lighten" w="2989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894" h="21600">
                  <a:moveTo>
                    <a:pt x="7940" y="10800"/>
                  </a:moveTo>
                  <a:lnTo>
                    <a:pt x="21953" y="3794"/>
                  </a:lnTo>
                  <a:lnTo>
                    <a:pt x="21953" y="1780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86" name="AutoShape 17">
              <a:hlinkClick r:id="" action="ppaction://hlinkshowjump?jump=firstslide"/>
            </p:cNvPr>
            <p:cNvSpPr/>
            <p:nvPr/>
          </p:nvSpPr>
          <p:spPr>
            <a:xfrm>
              <a:off x="7956720" y="6597720"/>
              <a:ext cx="360360" cy="260280"/>
            </a:xfrm>
            <a:custGeom>
              <a:avLst/>
              <a:gdLst>
                <a:gd name="textAreaLeft" fmla="*/ 16560 w 360360"/>
                <a:gd name="textAreaRight" fmla="*/ 343800 w 36036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9894" h="21600">
                  <a:moveTo>
                    <a:pt x="0" y="0"/>
                  </a:moveTo>
                  <a:lnTo>
                    <a:pt x="29894" y="0"/>
                  </a:lnTo>
                  <a:lnTo>
                    <a:pt x="29894" y="21600"/>
                  </a:lnTo>
                  <a:lnTo>
                    <a:pt x="0" y="21600"/>
                  </a:lnTo>
                  <a:close/>
                </a:path>
                <a:path fill="lightenLess" w="29894" h="21600">
                  <a:moveTo>
                    <a:pt x="0" y="0"/>
                  </a:moveTo>
                  <a:lnTo>
                    <a:pt x="29894" y="0"/>
                  </a:lnTo>
                  <a:lnTo>
                    <a:pt x="28494" y="1400"/>
                  </a:lnTo>
                  <a:lnTo>
                    <a:pt x="1400" y="1400"/>
                  </a:lnTo>
                  <a:close/>
                </a:path>
                <a:path fill="darken" w="29894" h="21600">
                  <a:moveTo>
                    <a:pt x="29894" y="0"/>
                  </a:moveTo>
                  <a:lnTo>
                    <a:pt x="29894" y="21600"/>
                  </a:lnTo>
                  <a:lnTo>
                    <a:pt x="28494" y="20200"/>
                  </a:lnTo>
                  <a:lnTo>
                    <a:pt x="28494" y="1400"/>
                  </a:lnTo>
                  <a:close/>
                </a:path>
                <a:path fill="darkenLess" w="29894" h="21600">
                  <a:moveTo>
                    <a:pt x="2989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494" y="20200"/>
                  </a:lnTo>
                  <a:close/>
                </a:path>
                <a:path fill="lighten" w="2989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894" h="21600">
                  <a:moveTo>
                    <a:pt x="14947" y="3837"/>
                  </a:moveTo>
                  <a:lnTo>
                    <a:pt x="17523" y="6448"/>
                  </a:lnTo>
                  <a:lnTo>
                    <a:pt x="17523" y="4707"/>
                  </a:lnTo>
                  <a:lnTo>
                    <a:pt x="19299" y="4707"/>
                  </a:lnTo>
                  <a:lnTo>
                    <a:pt x="19299" y="8224"/>
                  </a:lnTo>
                  <a:lnTo>
                    <a:pt x="21910" y="10800"/>
                  </a:lnTo>
                  <a:lnTo>
                    <a:pt x="20256" y="10800"/>
                  </a:lnTo>
                  <a:lnTo>
                    <a:pt x="20256" y="17989"/>
                  </a:lnTo>
                  <a:lnTo>
                    <a:pt x="9638" y="17989"/>
                  </a:lnTo>
                  <a:lnTo>
                    <a:pt x="9638" y="10800"/>
                  </a:lnTo>
                  <a:lnTo>
                    <a:pt x="7984" y="10800"/>
                  </a:lnTo>
                  <a:close/>
                </a:path>
                <a:path fill="darkenLess" w="29894" h="21600">
                  <a:moveTo>
                    <a:pt x="17523" y="6448"/>
                  </a:moveTo>
                  <a:lnTo>
                    <a:pt x="17523" y="4707"/>
                  </a:lnTo>
                  <a:lnTo>
                    <a:pt x="19299" y="4707"/>
                  </a:lnTo>
                  <a:lnTo>
                    <a:pt x="19299" y="8224"/>
                  </a:lnTo>
                  <a:close/>
                </a:path>
                <a:path fill="darkenLess" w="29894" h="21600">
                  <a:moveTo>
                    <a:pt x="14024" y="14299"/>
                  </a:moveTo>
                  <a:lnTo>
                    <a:pt x="15870" y="14299"/>
                  </a:lnTo>
                  <a:lnTo>
                    <a:pt x="15870" y="17989"/>
                  </a:lnTo>
                  <a:lnTo>
                    <a:pt x="20256" y="17989"/>
                  </a:lnTo>
                  <a:lnTo>
                    <a:pt x="20256" y="10800"/>
                  </a:lnTo>
                  <a:lnTo>
                    <a:pt x="9638" y="10800"/>
                  </a:lnTo>
                  <a:lnTo>
                    <a:pt x="9638" y="17989"/>
                  </a:lnTo>
                  <a:lnTo>
                    <a:pt x="14024" y="17989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Organization Chart 47"/>
          <p:cNvGrpSpPr/>
          <p:nvPr/>
        </p:nvGrpSpPr>
        <p:grpSpPr>
          <a:xfrm>
            <a:off x="0" y="189000"/>
            <a:ext cx="8963280" cy="6408360"/>
            <a:chOff x="0" y="189000"/>
            <a:chExt cx="8963280" cy="6408360"/>
          </a:xfrm>
        </p:grpSpPr>
        <p:cxnSp>
          <p:nvCxnSpPr>
            <p:cNvPr id="88" name="_s1028"/>
            <p:cNvCxnSpPr>
              <a:stCxn id="89" idx="3"/>
              <a:endCxn id="90" idx="2"/>
            </p:cNvCxnSpPr>
            <p:nvPr/>
          </p:nvCxnSpPr>
          <p:spPr>
            <a:xfrm flipV="1">
              <a:off x="5377680" y="942120"/>
              <a:ext cx="896760" cy="5277960"/>
            </a:xfrm>
            <a:prstGeom prst="bentConnector2">
              <a:avLst/>
            </a:prstGeom>
            <a:ln w="28440">
              <a:solidFill>
                <a:srgbClr val="ffcc99"/>
              </a:solidFill>
              <a:miter/>
            </a:ln>
          </p:spPr>
        </p:cxnSp>
        <p:cxnSp>
          <p:nvCxnSpPr>
            <p:cNvPr id="91" name="_s1029"/>
            <p:cNvCxnSpPr>
              <a:stCxn id="92" idx="3"/>
              <a:endCxn id="90" idx="2"/>
            </p:cNvCxnSpPr>
            <p:nvPr/>
          </p:nvCxnSpPr>
          <p:spPr>
            <a:xfrm flipV="1">
              <a:off x="5377680" y="942120"/>
              <a:ext cx="896760" cy="4149720"/>
            </a:xfrm>
            <a:prstGeom prst="bentConnector2">
              <a:avLst/>
            </a:prstGeom>
            <a:ln w="28440">
              <a:solidFill>
                <a:srgbClr val="ffcc99"/>
              </a:solidFill>
              <a:miter/>
            </a:ln>
          </p:spPr>
        </p:cxnSp>
        <p:cxnSp>
          <p:nvCxnSpPr>
            <p:cNvPr id="93" name="_s1030"/>
            <p:cNvCxnSpPr>
              <a:stCxn id="94" idx="3"/>
              <a:endCxn id="90" idx="2"/>
            </p:cNvCxnSpPr>
            <p:nvPr/>
          </p:nvCxnSpPr>
          <p:spPr>
            <a:xfrm flipV="1">
              <a:off x="5377680" y="942120"/>
              <a:ext cx="896760" cy="3016440"/>
            </a:xfrm>
            <a:prstGeom prst="bentConnector2">
              <a:avLst/>
            </a:prstGeom>
            <a:ln w="28440">
              <a:solidFill>
                <a:srgbClr val="ffcc99"/>
              </a:solidFill>
              <a:miter/>
            </a:ln>
          </p:spPr>
        </p:cxnSp>
        <p:cxnSp>
          <p:nvCxnSpPr>
            <p:cNvPr id="95" name="_s1031"/>
            <p:cNvCxnSpPr>
              <a:stCxn id="96" idx="3"/>
              <a:endCxn id="90" idx="2"/>
            </p:cNvCxnSpPr>
            <p:nvPr/>
          </p:nvCxnSpPr>
          <p:spPr>
            <a:xfrm flipV="1">
              <a:off x="5377680" y="942120"/>
              <a:ext cx="896760" cy="1885320"/>
            </a:xfrm>
            <a:prstGeom prst="bentConnector2">
              <a:avLst/>
            </a:prstGeom>
            <a:ln w="28440">
              <a:solidFill>
                <a:srgbClr val="ffcc99"/>
              </a:solidFill>
              <a:miter/>
            </a:ln>
          </p:spPr>
        </p:cxnSp>
        <p:cxnSp>
          <p:nvCxnSpPr>
            <p:cNvPr id="97" name="_s1032"/>
            <p:cNvCxnSpPr>
              <a:stCxn id="98" idx="3"/>
              <a:endCxn id="90" idx="2"/>
            </p:cNvCxnSpPr>
            <p:nvPr/>
          </p:nvCxnSpPr>
          <p:spPr>
            <a:xfrm flipV="1">
              <a:off x="5377680" y="942480"/>
              <a:ext cx="896760" cy="754560"/>
            </a:xfrm>
            <a:prstGeom prst="bentConnector2">
              <a:avLst/>
            </a:prstGeom>
            <a:ln w="28440">
              <a:solidFill>
                <a:srgbClr val="ffcc99"/>
              </a:solidFill>
              <a:miter/>
            </a:ln>
          </p:spPr>
        </p:cxnSp>
        <p:sp>
          <p:nvSpPr>
            <p:cNvPr id="90" name="_s1033"/>
            <p:cNvSpPr/>
            <p:nvPr/>
          </p:nvSpPr>
          <p:spPr>
            <a:xfrm>
              <a:off x="3585240" y="189000"/>
              <a:ext cx="5378040" cy="753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efd1"/>
                </a:gs>
                <a:gs pos="50000">
                  <a:srgbClr val="d1c39f"/>
                </a:gs>
                <a:gs pos="100000">
                  <a:srgbClr val="ffefd1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b27e5"/>
                  </a:solidFill>
                  <a:latin typeface="Monotype Corsiva"/>
                </a:rPr>
                <a:t>Произведения поэта,</a:t>
              </a:r>
              <a:endParaRPr b="1" lang="en-US" sz="2800" spc="-1" strike="noStrike">
                <a:solidFill>
                  <a:srgbClr val="000000"/>
                </a:solidFill>
                <a:latin typeface="Monotype Corsiv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b27e5"/>
                  </a:solidFill>
                  <a:latin typeface="Monotype Corsiva"/>
                </a:rPr>
                <a:t> </a:t>
              </a:r>
              <a:r>
                <a:rPr b="1" i="1" lang="en-US" sz="2800" spc="-1" strike="noStrike">
                  <a:solidFill>
                    <a:srgbClr val="4b27e5"/>
                  </a:solidFill>
                  <a:latin typeface="Monotype Corsiva"/>
                </a:rPr>
                <a:t>созданные на Костромской земле</a:t>
              </a:r>
              <a:r>
                <a:rPr b="1" i="1" lang="en-US" sz="2300" spc="-1" strike="noStrike">
                  <a:solidFill>
                    <a:srgbClr val="4b27e5"/>
                  </a:solidFill>
                  <a:latin typeface="Monotype Corsiva"/>
                </a:rPr>
                <a:t>.</a:t>
              </a:r>
              <a:endParaRPr b="1" lang="en-US" sz="23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98" name="_s1034">
              <a:hlinkClick r:id="rId1" action="ppaction://hlinksldjump"/>
            </p:cNvPr>
            <p:cNvSpPr/>
            <p:nvPr/>
          </p:nvSpPr>
          <p:spPr>
            <a:xfrm>
              <a:off x="0" y="1319760"/>
              <a:ext cx="5378040" cy="753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efd1"/>
                </a:gs>
                <a:gs pos="50000">
                  <a:srgbClr val="d1c39f"/>
                </a:gs>
                <a:gs pos="100000">
                  <a:srgbClr val="ffefd1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u="sng">
                  <a:solidFill>
                    <a:srgbClr val="4b27e5"/>
                  </a:solidFill>
                  <a:uFillTx/>
                  <a:latin typeface="Monotype Corsiva"/>
                </a:rPr>
                <a:t>«Дедушка Мазай и зайцы»</a:t>
              </a:r>
              <a:r>
                <a:rPr b="1" lang="en-US" sz="3200" spc="-1" strike="noStrike">
                  <a:solidFill>
                    <a:srgbClr val="d660ac"/>
                  </a:solidFill>
                  <a:latin typeface="Monotype Corsiva"/>
                </a:rPr>
                <a:t> </a:t>
              </a: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96" name="_s1035">
              <a:hlinkClick r:id="rId2" action="ppaction://hlinksldjump"/>
            </p:cNvPr>
            <p:cNvSpPr/>
            <p:nvPr/>
          </p:nvSpPr>
          <p:spPr>
            <a:xfrm>
              <a:off x="0" y="2450520"/>
              <a:ext cx="5378040" cy="753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efd1"/>
                </a:gs>
                <a:gs pos="50000">
                  <a:srgbClr val="d1c39f"/>
                </a:gs>
                <a:gs pos="100000">
                  <a:srgbClr val="ffefd1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u="sng">
                  <a:solidFill>
                    <a:srgbClr val="4b27e5"/>
                  </a:solidFill>
                  <a:uFillTx/>
                  <a:latin typeface="Monotype Corsiva"/>
                </a:rPr>
                <a:t>«Генерал Топтыгин»</a:t>
              </a: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94" name="_s1036">
              <a:hlinkClick r:id="rId3" action="ppaction://hlinksldjump"/>
            </p:cNvPr>
            <p:cNvSpPr/>
            <p:nvPr/>
          </p:nvSpPr>
          <p:spPr>
            <a:xfrm>
              <a:off x="0" y="3581640"/>
              <a:ext cx="5378040" cy="753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efd1"/>
                </a:gs>
                <a:gs pos="50000">
                  <a:srgbClr val="d1c39f"/>
                </a:gs>
                <a:gs pos="100000">
                  <a:srgbClr val="ffefd1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u="sng">
                  <a:solidFill>
                    <a:srgbClr val="4b27e5"/>
                  </a:solidFill>
                  <a:uFillTx/>
                  <a:latin typeface="Monotype Corsiva"/>
                </a:rPr>
                <a:t>«Коробейники»</a:t>
              </a: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92" name="_s1037">
              <a:hlinkClick r:id="rId4" action="ppaction://hlinksldjump"/>
            </p:cNvPr>
            <p:cNvSpPr/>
            <p:nvPr/>
          </p:nvSpPr>
          <p:spPr>
            <a:xfrm>
              <a:off x="0" y="4712400"/>
              <a:ext cx="5378040" cy="753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efd1"/>
                </a:gs>
                <a:gs pos="50000">
                  <a:srgbClr val="d1c39f"/>
                </a:gs>
                <a:gs pos="100000">
                  <a:srgbClr val="ffefd1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u="sng">
                  <a:solidFill>
                    <a:srgbClr val="4b27e5"/>
                  </a:solidFill>
                  <a:uFillTx/>
                  <a:latin typeface="Monotype Corsiva"/>
                </a:rPr>
                <a:t>«Кому на Руси жить хорошо»</a:t>
              </a: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89" name="_s1038">
              <a:hlinkClick r:id="rId5" action="ppaction://hlinksldjump"/>
            </p:cNvPr>
            <p:cNvSpPr/>
            <p:nvPr/>
          </p:nvSpPr>
          <p:spPr>
            <a:xfrm>
              <a:off x="0" y="5843520"/>
              <a:ext cx="5378040" cy="753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efd1"/>
                </a:gs>
                <a:gs pos="50000">
                  <a:srgbClr val="d1c39f"/>
                </a:gs>
                <a:gs pos="100000">
                  <a:srgbClr val="ffefd1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u="sng">
                  <a:solidFill>
                    <a:srgbClr val="4b27e5"/>
                  </a:solidFill>
                  <a:uFillTx/>
                  <a:latin typeface="Monotype Corsiva"/>
                </a:rPr>
                <a:t>«Крестьянские дети»</a:t>
              </a: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grpSp>
        <p:nvGrpSpPr>
          <p:cNvPr id="99" name="Group 65"/>
          <p:cNvGrpSpPr/>
          <p:nvPr/>
        </p:nvGrpSpPr>
        <p:grpSpPr>
          <a:xfrm>
            <a:off x="7956720" y="6597720"/>
            <a:ext cx="1187280" cy="260280"/>
            <a:chOff x="7956720" y="6597720"/>
            <a:chExt cx="1187280" cy="260280"/>
          </a:xfrm>
        </p:grpSpPr>
        <p:sp>
          <p:nvSpPr>
            <p:cNvPr id="100" name="AutoShape 66">
              <a:hlinkClick r:id="" action="ppaction://hlinkshowjump?jump=nextslide"/>
            </p:cNvPr>
            <p:cNvSpPr/>
            <p:nvPr/>
          </p:nvSpPr>
          <p:spPr>
            <a:xfrm>
              <a:off x="8820000" y="6597720"/>
              <a:ext cx="324000" cy="260280"/>
            </a:xfrm>
            <a:custGeom>
              <a:avLst/>
              <a:gdLst>
                <a:gd name="textAreaLeft" fmla="*/ 16560 w 324000"/>
                <a:gd name="textAreaRight" fmla="*/ 307440 w 32400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6881" h="21600">
                  <a:moveTo>
                    <a:pt x="0" y="0"/>
                  </a:moveTo>
                  <a:lnTo>
                    <a:pt x="26881" y="0"/>
                  </a:lnTo>
                  <a:lnTo>
                    <a:pt x="26881" y="21600"/>
                  </a:lnTo>
                  <a:lnTo>
                    <a:pt x="0" y="21600"/>
                  </a:lnTo>
                  <a:close/>
                </a:path>
                <a:path fill="lightenLess" w="26881" h="21600">
                  <a:moveTo>
                    <a:pt x="0" y="0"/>
                  </a:moveTo>
                  <a:lnTo>
                    <a:pt x="26881" y="0"/>
                  </a:lnTo>
                  <a:lnTo>
                    <a:pt x="25481" y="1400"/>
                  </a:lnTo>
                  <a:lnTo>
                    <a:pt x="1400" y="1400"/>
                  </a:lnTo>
                  <a:close/>
                </a:path>
                <a:path fill="darken" w="26881" h="21600">
                  <a:moveTo>
                    <a:pt x="26881" y="0"/>
                  </a:moveTo>
                  <a:lnTo>
                    <a:pt x="26881" y="21600"/>
                  </a:lnTo>
                  <a:lnTo>
                    <a:pt x="25481" y="20200"/>
                  </a:lnTo>
                  <a:lnTo>
                    <a:pt x="25481" y="1400"/>
                  </a:lnTo>
                  <a:close/>
                </a:path>
                <a:path fill="darkenLess" w="26881" h="21600">
                  <a:moveTo>
                    <a:pt x="2688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481" y="20200"/>
                  </a:lnTo>
                  <a:close/>
                </a:path>
                <a:path fill="lighten" w="2688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6881" h="21600">
                  <a:moveTo>
                    <a:pt x="6434" y="3794"/>
                  </a:moveTo>
                  <a:lnTo>
                    <a:pt x="20447" y="10800"/>
                  </a:lnTo>
                  <a:lnTo>
                    <a:pt x="6434" y="17806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01" name="AutoShape 67">
              <a:hlinkClick r:id="" action="ppaction://hlinkshowjump?jump=previousslide"/>
            </p:cNvPr>
            <p:cNvSpPr/>
            <p:nvPr/>
          </p:nvSpPr>
          <p:spPr>
            <a:xfrm>
              <a:off x="8388360" y="6597720"/>
              <a:ext cx="360360" cy="260280"/>
            </a:xfrm>
            <a:custGeom>
              <a:avLst/>
              <a:gdLst>
                <a:gd name="textAreaLeft" fmla="*/ 16560 w 360360"/>
                <a:gd name="textAreaRight" fmla="*/ 343800 w 36036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9894" h="21600">
                  <a:moveTo>
                    <a:pt x="0" y="0"/>
                  </a:moveTo>
                  <a:lnTo>
                    <a:pt x="29894" y="0"/>
                  </a:lnTo>
                  <a:lnTo>
                    <a:pt x="29894" y="21600"/>
                  </a:lnTo>
                  <a:lnTo>
                    <a:pt x="0" y="21600"/>
                  </a:lnTo>
                  <a:close/>
                </a:path>
                <a:path fill="lightenLess" w="29894" h="21600">
                  <a:moveTo>
                    <a:pt x="0" y="0"/>
                  </a:moveTo>
                  <a:lnTo>
                    <a:pt x="29894" y="0"/>
                  </a:lnTo>
                  <a:lnTo>
                    <a:pt x="28494" y="1400"/>
                  </a:lnTo>
                  <a:lnTo>
                    <a:pt x="1400" y="1400"/>
                  </a:lnTo>
                  <a:close/>
                </a:path>
                <a:path fill="darken" w="29894" h="21600">
                  <a:moveTo>
                    <a:pt x="29894" y="0"/>
                  </a:moveTo>
                  <a:lnTo>
                    <a:pt x="29894" y="21600"/>
                  </a:lnTo>
                  <a:lnTo>
                    <a:pt x="28494" y="20200"/>
                  </a:lnTo>
                  <a:lnTo>
                    <a:pt x="28494" y="1400"/>
                  </a:lnTo>
                  <a:close/>
                </a:path>
                <a:path fill="darkenLess" w="29894" h="21600">
                  <a:moveTo>
                    <a:pt x="2989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494" y="20200"/>
                  </a:lnTo>
                  <a:close/>
                </a:path>
                <a:path fill="lighten" w="2989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894" h="21600">
                  <a:moveTo>
                    <a:pt x="7940" y="10800"/>
                  </a:moveTo>
                  <a:lnTo>
                    <a:pt x="21953" y="3794"/>
                  </a:lnTo>
                  <a:lnTo>
                    <a:pt x="21953" y="1780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02" name="AutoShape 68">
              <a:hlinkClick r:id="" action="ppaction://hlinkshowjump?jump=firstslide"/>
            </p:cNvPr>
            <p:cNvSpPr/>
            <p:nvPr/>
          </p:nvSpPr>
          <p:spPr>
            <a:xfrm>
              <a:off x="7956720" y="6597720"/>
              <a:ext cx="360360" cy="260280"/>
            </a:xfrm>
            <a:custGeom>
              <a:avLst/>
              <a:gdLst>
                <a:gd name="textAreaLeft" fmla="*/ 16560 w 360360"/>
                <a:gd name="textAreaRight" fmla="*/ 343800 w 36036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9894" h="21600">
                  <a:moveTo>
                    <a:pt x="0" y="0"/>
                  </a:moveTo>
                  <a:lnTo>
                    <a:pt x="29894" y="0"/>
                  </a:lnTo>
                  <a:lnTo>
                    <a:pt x="29894" y="21600"/>
                  </a:lnTo>
                  <a:lnTo>
                    <a:pt x="0" y="21600"/>
                  </a:lnTo>
                  <a:close/>
                </a:path>
                <a:path fill="lightenLess" w="29894" h="21600">
                  <a:moveTo>
                    <a:pt x="0" y="0"/>
                  </a:moveTo>
                  <a:lnTo>
                    <a:pt x="29894" y="0"/>
                  </a:lnTo>
                  <a:lnTo>
                    <a:pt x="28494" y="1400"/>
                  </a:lnTo>
                  <a:lnTo>
                    <a:pt x="1400" y="1400"/>
                  </a:lnTo>
                  <a:close/>
                </a:path>
                <a:path fill="darken" w="29894" h="21600">
                  <a:moveTo>
                    <a:pt x="29894" y="0"/>
                  </a:moveTo>
                  <a:lnTo>
                    <a:pt x="29894" y="21600"/>
                  </a:lnTo>
                  <a:lnTo>
                    <a:pt x="28494" y="20200"/>
                  </a:lnTo>
                  <a:lnTo>
                    <a:pt x="28494" y="1400"/>
                  </a:lnTo>
                  <a:close/>
                </a:path>
                <a:path fill="darkenLess" w="29894" h="21600">
                  <a:moveTo>
                    <a:pt x="2989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494" y="20200"/>
                  </a:lnTo>
                  <a:close/>
                </a:path>
                <a:path fill="lighten" w="2989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894" h="21600">
                  <a:moveTo>
                    <a:pt x="14947" y="3837"/>
                  </a:moveTo>
                  <a:lnTo>
                    <a:pt x="17523" y="6448"/>
                  </a:lnTo>
                  <a:lnTo>
                    <a:pt x="17523" y="4707"/>
                  </a:lnTo>
                  <a:lnTo>
                    <a:pt x="19299" y="4707"/>
                  </a:lnTo>
                  <a:lnTo>
                    <a:pt x="19299" y="8224"/>
                  </a:lnTo>
                  <a:lnTo>
                    <a:pt x="21910" y="10800"/>
                  </a:lnTo>
                  <a:lnTo>
                    <a:pt x="20256" y="10800"/>
                  </a:lnTo>
                  <a:lnTo>
                    <a:pt x="20256" y="17989"/>
                  </a:lnTo>
                  <a:lnTo>
                    <a:pt x="9638" y="17989"/>
                  </a:lnTo>
                  <a:lnTo>
                    <a:pt x="9638" y="10800"/>
                  </a:lnTo>
                  <a:lnTo>
                    <a:pt x="7984" y="10800"/>
                  </a:lnTo>
                  <a:close/>
                </a:path>
                <a:path fill="darkenLess" w="29894" h="21600">
                  <a:moveTo>
                    <a:pt x="17523" y="6448"/>
                  </a:moveTo>
                  <a:lnTo>
                    <a:pt x="17523" y="4707"/>
                  </a:lnTo>
                  <a:lnTo>
                    <a:pt x="19299" y="4707"/>
                  </a:lnTo>
                  <a:lnTo>
                    <a:pt x="19299" y="8224"/>
                  </a:lnTo>
                  <a:close/>
                </a:path>
                <a:path fill="darkenLess" w="29894" h="21600">
                  <a:moveTo>
                    <a:pt x="14024" y="14299"/>
                  </a:moveTo>
                  <a:lnTo>
                    <a:pt x="15870" y="14299"/>
                  </a:lnTo>
                  <a:lnTo>
                    <a:pt x="15870" y="17989"/>
                  </a:lnTo>
                  <a:lnTo>
                    <a:pt x="20256" y="17989"/>
                  </a:lnTo>
                  <a:lnTo>
                    <a:pt x="20256" y="10800"/>
                  </a:lnTo>
                  <a:lnTo>
                    <a:pt x="9638" y="10800"/>
                  </a:lnTo>
                  <a:lnTo>
                    <a:pt x="9638" y="17989"/>
                  </a:lnTo>
                  <a:lnTo>
                    <a:pt x="14024" y="17989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8" descr="35"/>
          <p:cNvPicPr/>
          <p:nvPr/>
        </p:nvPicPr>
        <p:blipFill>
          <a:blip r:embed="rId1"/>
          <a:stretch/>
        </p:blipFill>
        <p:spPr>
          <a:xfrm>
            <a:off x="5580000" y="4500720"/>
            <a:ext cx="3564000" cy="2357280"/>
          </a:xfrm>
          <a:prstGeom prst="rect">
            <a:avLst/>
          </a:prstGeom>
          <a:ln w="0">
            <a:noFill/>
          </a:ln>
        </p:spPr>
      </p:pic>
      <p:sp>
        <p:nvSpPr>
          <p:cNvPr id="104" name="WordArt 7"/>
          <p:cNvSpPr txBox="1"/>
          <p:nvPr/>
        </p:nvSpPr>
        <p:spPr>
          <a:xfrm>
            <a:off x="468360" y="333360"/>
            <a:ext cx="8136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ffefd1"/>
                    </a:gs>
                    <a:gs pos="100000">
                      <a:srgbClr val="ffefd1"/>
                    </a:gs>
                  </a:gsLst>
                  <a:lin ang="18900000"/>
                </a:gradFill>
                <a:latin typeface="Monotype Corsiva"/>
              </a:rPr>
              <a:t>"Дедушка Мазай и зайцы"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ffefd1"/>
                  </a:gs>
                  <a:gs pos="100000">
                    <a:srgbClr val="ffefd1"/>
                  </a:gs>
                </a:gsLst>
                <a:lin ang="18900000"/>
              </a:gradFill>
              <a:latin typeface="Monotype Corsiva"/>
              <a:ea typeface="Monotype Corsiva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179280" y="1557360"/>
            <a:ext cx="8713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Monotype Corsiva"/>
              </a:rPr>
              <a:t>На костромском материале написано стихотворение «Дедушка Мазай и зайцы». Дед Мазай – это не вымышленное лицо. Это костромской крестьянин, приятель Некрасова по охоте. Дедушка Мазай  жил в дер. Малые Вежи в Мисковской волости. Его потомки живут и сейчас в костромском районе под фамилией Мазайкиных.</a:t>
            </a:r>
            <a:endParaRPr b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106" name="Group 14"/>
          <p:cNvGrpSpPr/>
          <p:nvPr/>
        </p:nvGrpSpPr>
        <p:grpSpPr>
          <a:xfrm>
            <a:off x="7956720" y="6597720"/>
            <a:ext cx="1187280" cy="260280"/>
            <a:chOff x="7956720" y="6597720"/>
            <a:chExt cx="1187280" cy="260280"/>
          </a:xfrm>
        </p:grpSpPr>
        <p:sp>
          <p:nvSpPr>
            <p:cNvPr id="107" name="AutoShape 15">
              <a:hlinkClick r:id="" action="ppaction://hlinkshowjump?jump=nextslide"/>
            </p:cNvPr>
            <p:cNvSpPr/>
            <p:nvPr/>
          </p:nvSpPr>
          <p:spPr>
            <a:xfrm>
              <a:off x="8820000" y="6597720"/>
              <a:ext cx="324000" cy="260280"/>
            </a:xfrm>
            <a:custGeom>
              <a:avLst/>
              <a:gdLst>
                <a:gd name="textAreaLeft" fmla="*/ 16560 w 324000"/>
                <a:gd name="textAreaRight" fmla="*/ 307440 w 32400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6881" h="21600">
                  <a:moveTo>
                    <a:pt x="0" y="0"/>
                  </a:moveTo>
                  <a:lnTo>
                    <a:pt x="26881" y="0"/>
                  </a:lnTo>
                  <a:lnTo>
                    <a:pt x="26881" y="21600"/>
                  </a:lnTo>
                  <a:lnTo>
                    <a:pt x="0" y="21600"/>
                  </a:lnTo>
                  <a:close/>
                </a:path>
                <a:path fill="lightenLess" w="26881" h="21600">
                  <a:moveTo>
                    <a:pt x="0" y="0"/>
                  </a:moveTo>
                  <a:lnTo>
                    <a:pt x="26881" y="0"/>
                  </a:lnTo>
                  <a:lnTo>
                    <a:pt x="25481" y="1400"/>
                  </a:lnTo>
                  <a:lnTo>
                    <a:pt x="1400" y="1400"/>
                  </a:lnTo>
                  <a:close/>
                </a:path>
                <a:path fill="darken" w="26881" h="21600">
                  <a:moveTo>
                    <a:pt x="26881" y="0"/>
                  </a:moveTo>
                  <a:lnTo>
                    <a:pt x="26881" y="21600"/>
                  </a:lnTo>
                  <a:lnTo>
                    <a:pt x="25481" y="20200"/>
                  </a:lnTo>
                  <a:lnTo>
                    <a:pt x="25481" y="1400"/>
                  </a:lnTo>
                  <a:close/>
                </a:path>
                <a:path fill="darkenLess" w="26881" h="21600">
                  <a:moveTo>
                    <a:pt x="2688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481" y="20200"/>
                  </a:lnTo>
                  <a:close/>
                </a:path>
                <a:path fill="lighten" w="2688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6881" h="21600">
                  <a:moveTo>
                    <a:pt x="6434" y="3794"/>
                  </a:moveTo>
                  <a:lnTo>
                    <a:pt x="20447" y="10800"/>
                  </a:lnTo>
                  <a:lnTo>
                    <a:pt x="6434" y="17806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08" name="AutoShape 16">
              <a:hlinkClick r:id="" action="ppaction://hlinkshowjump?jump=previousslide"/>
            </p:cNvPr>
            <p:cNvSpPr/>
            <p:nvPr/>
          </p:nvSpPr>
          <p:spPr>
            <a:xfrm>
              <a:off x="8388360" y="6597720"/>
              <a:ext cx="360360" cy="260280"/>
            </a:xfrm>
            <a:custGeom>
              <a:avLst/>
              <a:gdLst>
                <a:gd name="textAreaLeft" fmla="*/ 16560 w 360360"/>
                <a:gd name="textAreaRight" fmla="*/ 343800 w 36036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9894" h="21600">
                  <a:moveTo>
                    <a:pt x="0" y="0"/>
                  </a:moveTo>
                  <a:lnTo>
                    <a:pt x="29894" y="0"/>
                  </a:lnTo>
                  <a:lnTo>
                    <a:pt x="29894" y="21600"/>
                  </a:lnTo>
                  <a:lnTo>
                    <a:pt x="0" y="21600"/>
                  </a:lnTo>
                  <a:close/>
                </a:path>
                <a:path fill="lightenLess" w="29894" h="21600">
                  <a:moveTo>
                    <a:pt x="0" y="0"/>
                  </a:moveTo>
                  <a:lnTo>
                    <a:pt x="29894" y="0"/>
                  </a:lnTo>
                  <a:lnTo>
                    <a:pt x="28494" y="1400"/>
                  </a:lnTo>
                  <a:lnTo>
                    <a:pt x="1400" y="1400"/>
                  </a:lnTo>
                  <a:close/>
                </a:path>
                <a:path fill="darken" w="29894" h="21600">
                  <a:moveTo>
                    <a:pt x="29894" y="0"/>
                  </a:moveTo>
                  <a:lnTo>
                    <a:pt x="29894" y="21600"/>
                  </a:lnTo>
                  <a:lnTo>
                    <a:pt x="28494" y="20200"/>
                  </a:lnTo>
                  <a:lnTo>
                    <a:pt x="28494" y="1400"/>
                  </a:lnTo>
                  <a:close/>
                </a:path>
                <a:path fill="darkenLess" w="29894" h="21600">
                  <a:moveTo>
                    <a:pt x="2989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494" y="20200"/>
                  </a:lnTo>
                  <a:close/>
                </a:path>
                <a:path fill="lighten" w="2989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894" h="21600">
                  <a:moveTo>
                    <a:pt x="7940" y="10800"/>
                  </a:moveTo>
                  <a:lnTo>
                    <a:pt x="21953" y="3794"/>
                  </a:lnTo>
                  <a:lnTo>
                    <a:pt x="21953" y="1780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09" name="AutoShape 17">
              <a:hlinkClick r:id="" action="ppaction://hlinkshowjump?jump=firstslide"/>
            </p:cNvPr>
            <p:cNvSpPr/>
            <p:nvPr/>
          </p:nvSpPr>
          <p:spPr>
            <a:xfrm>
              <a:off x="7956720" y="6597720"/>
              <a:ext cx="360360" cy="260280"/>
            </a:xfrm>
            <a:custGeom>
              <a:avLst/>
              <a:gdLst>
                <a:gd name="textAreaLeft" fmla="*/ 16560 w 360360"/>
                <a:gd name="textAreaRight" fmla="*/ 343800 w 36036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9894" h="21600">
                  <a:moveTo>
                    <a:pt x="0" y="0"/>
                  </a:moveTo>
                  <a:lnTo>
                    <a:pt x="29894" y="0"/>
                  </a:lnTo>
                  <a:lnTo>
                    <a:pt x="29894" y="21600"/>
                  </a:lnTo>
                  <a:lnTo>
                    <a:pt x="0" y="21600"/>
                  </a:lnTo>
                  <a:close/>
                </a:path>
                <a:path fill="lightenLess" w="29894" h="21600">
                  <a:moveTo>
                    <a:pt x="0" y="0"/>
                  </a:moveTo>
                  <a:lnTo>
                    <a:pt x="29894" y="0"/>
                  </a:lnTo>
                  <a:lnTo>
                    <a:pt x="28494" y="1400"/>
                  </a:lnTo>
                  <a:lnTo>
                    <a:pt x="1400" y="1400"/>
                  </a:lnTo>
                  <a:close/>
                </a:path>
                <a:path fill="darken" w="29894" h="21600">
                  <a:moveTo>
                    <a:pt x="29894" y="0"/>
                  </a:moveTo>
                  <a:lnTo>
                    <a:pt x="29894" y="21600"/>
                  </a:lnTo>
                  <a:lnTo>
                    <a:pt x="28494" y="20200"/>
                  </a:lnTo>
                  <a:lnTo>
                    <a:pt x="28494" y="1400"/>
                  </a:lnTo>
                  <a:close/>
                </a:path>
                <a:path fill="darkenLess" w="29894" h="21600">
                  <a:moveTo>
                    <a:pt x="2989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494" y="20200"/>
                  </a:lnTo>
                  <a:close/>
                </a:path>
                <a:path fill="lighten" w="2989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894" h="21600">
                  <a:moveTo>
                    <a:pt x="14947" y="3837"/>
                  </a:moveTo>
                  <a:lnTo>
                    <a:pt x="17523" y="6448"/>
                  </a:lnTo>
                  <a:lnTo>
                    <a:pt x="17523" y="4707"/>
                  </a:lnTo>
                  <a:lnTo>
                    <a:pt x="19299" y="4707"/>
                  </a:lnTo>
                  <a:lnTo>
                    <a:pt x="19299" y="8224"/>
                  </a:lnTo>
                  <a:lnTo>
                    <a:pt x="21910" y="10800"/>
                  </a:lnTo>
                  <a:lnTo>
                    <a:pt x="20256" y="10800"/>
                  </a:lnTo>
                  <a:lnTo>
                    <a:pt x="20256" y="17989"/>
                  </a:lnTo>
                  <a:lnTo>
                    <a:pt x="9638" y="17989"/>
                  </a:lnTo>
                  <a:lnTo>
                    <a:pt x="9638" y="10800"/>
                  </a:lnTo>
                  <a:lnTo>
                    <a:pt x="7984" y="10800"/>
                  </a:lnTo>
                  <a:close/>
                </a:path>
                <a:path fill="darkenLess" w="29894" h="21600">
                  <a:moveTo>
                    <a:pt x="17523" y="6448"/>
                  </a:moveTo>
                  <a:lnTo>
                    <a:pt x="17523" y="4707"/>
                  </a:lnTo>
                  <a:lnTo>
                    <a:pt x="19299" y="4707"/>
                  </a:lnTo>
                  <a:lnTo>
                    <a:pt x="19299" y="8224"/>
                  </a:lnTo>
                  <a:close/>
                </a:path>
                <a:path fill="darkenLess" w="29894" h="21600">
                  <a:moveTo>
                    <a:pt x="14024" y="14299"/>
                  </a:moveTo>
                  <a:lnTo>
                    <a:pt x="15870" y="14299"/>
                  </a:lnTo>
                  <a:lnTo>
                    <a:pt x="15870" y="17989"/>
                  </a:lnTo>
                  <a:lnTo>
                    <a:pt x="20256" y="17989"/>
                  </a:lnTo>
                  <a:lnTo>
                    <a:pt x="20256" y="10800"/>
                  </a:lnTo>
                  <a:lnTo>
                    <a:pt x="9638" y="10800"/>
                  </a:lnTo>
                  <a:lnTo>
                    <a:pt x="9638" y="17989"/>
                  </a:lnTo>
                  <a:lnTo>
                    <a:pt x="14024" y="17989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2200"/>
                            </p:stCondLst>
                            <p:childTnLst>
                              <p:par>
                                <p:cTn id="20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14:07:07Z</dcterms:created>
  <dc:creator>User</dc:creator>
  <dc:description/>
  <dc:language>en-US</dc:language>
  <cp:lastModifiedBy>Коля</cp:lastModifiedBy>
  <dcterms:modified xsi:type="dcterms:W3CDTF">2013-04-30T12:41:24Z</dcterms:modified>
  <cp:revision>5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mplateUrl">
    <vt:lpwstr/>
  </property>
  <property fmtid="{D5CDD505-2E9C-101B-9397-08002B2CF9AE}" pid="3" name="_SourceUrl">
    <vt:lpwstr/>
  </property>
  <property fmtid="{D5CDD505-2E9C-101B-9397-08002B2CF9AE}" pid="4" name="display_urn:schemas-microsoft-com:office:office#Author">
    <vt:lpwstr>Гридинская основная общеобразовательная школа</vt:lpwstr>
  </property>
  <property fmtid="{D5CDD505-2E9C-101B-9397-08002B2CF9AE}" pid="5" name="display_urn:schemas-microsoft-com:office:office#Editor">
    <vt:lpwstr>Гридинская основная общеобразовательная школа</vt:lpwstr>
  </property>
  <property fmtid="{D5CDD505-2E9C-101B-9397-08002B2CF9AE}" pid="6" name="xd_ProgID">
    <vt:lpwstr/>
  </property>
  <property fmtid="{D5CDD505-2E9C-101B-9397-08002B2CF9AE}" pid="7" name="xd_Signature">
    <vt:lpwstr/>
  </property>
</Properties>
</file>