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8E7-B2A8-4F36-917C-1E51E71F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49A-F455-48AD-9C62-E7EB82B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681-DC9D-4CD2-AC46-4D502BBA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88F-CB3E-4E47-9395-E037707D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D07-440F-4F9B-8514-97568FB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61E-2992-48FE-A764-6B767CF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062-F7D8-4F1F-B058-895DF68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013-EB54-4B29-8E7C-52356E7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C81-C958-4BE1-AD8F-2452BD9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ECC-CF67-4E60-92E5-F00B66C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BFD-4B5C-41D4-B030-A93DCAF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84E-FAD7-4805-86FD-276306E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7839-2306-40C1-A3D8-0DCD86FB8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468360" y="1413000"/>
            <a:ext cx="7488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 и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Костромской край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2" name="AutoShape 11">
            <a:hlinkClick r:id="" action="ppaction://hlinkshowjump?jump=nextslide"/>
          </p:cNvPr>
          <p:cNvSpPr/>
          <p:nvPr/>
        </p:nvSpPr>
        <p:spPr>
          <a:xfrm>
            <a:off x="8532720" y="6597720"/>
            <a:ext cx="611280" cy="260280"/>
          </a:xfrm>
          <a:custGeom>
            <a:avLst/>
            <a:gdLst>
              <a:gd name="textAreaLeft" fmla="*/ 16560 w 611280"/>
              <a:gd name="textAreaRight" fmla="*/ 594720 w 611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88" h="21600">
                <a:moveTo>
                  <a:pt x="0" y="0"/>
                </a:moveTo>
                <a:lnTo>
                  <a:pt x="50688" y="0"/>
                </a:lnTo>
                <a:lnTo>
                  <a:pt x="50688" y="21600"/>
                </a:lnTo>
                <a:lnTo>
                  <a:pt x="0" y="21600"/>
                </a:lnTo>
                <a:close/>
              </a:path>
              <a:path fill="lightenLess" w="50688" h="21600">
                <a:moveTo>
                  <a:pt x="0" y="0"/>
                </a:moveTo>
                <a:lnTo>
                  <a:pt x="50688" y="0"/>
                </a:lnTo>
                <a:lnTo>
                  <a:pt x="49288" y="1400"/>
                </a:lnTo>
                <a:lnTo>
                  <a:pt x="1400" y="1400"/>
                </a:lnTo>
                <a:close/>
              </a:path>
              <a:path fill="darken" w="50688" h="21600">
                <a:moveTo>
                  <a:pt x="50688" y="0"/>
                </a:moveTo>
                <a:lnTo>
                  <a:pt x="50688" y="21600"/>
                </a:lnTo>
                <a:lnTo>
                  <a:pt x="49288" y="20200"/>
                </a:lnTo>
                <a:lnTo>
                  <a:pt x="49288" y="1400"/>
                </a:lnTo>
                <a:close/>
              </a:path>
              <a:path fill="darkenLess" w="50688" h="21600">
                <a:moveTo>
                  <a:pt x="50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88" y="20200"/>
                </a:lnTo>
                <a:close/>
              </a:path>
              <a:path fill="lighten" w="50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88" h="21600">
                <a:moveTo>
                  <a:pt x="18338" y="3794"/>
                </a:moveTo>
                <a:lnTo>
                  <a:pt x="32351" y="10800"/>
                </a:lnTo>
                <a:lnTo>
                  <a:pt x="183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1116000" y="189000"/>
            <a:ext cx="66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ОУ Гридинская основная общеобразовательная школа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расносельского района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3203640" y="5805360"/>
            <a:ext cx="2232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006 - 2007 уч.год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258920" y="62064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Генерал Топтыгин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20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206064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едалеко от родовой усадьбы костромских дворян Корниловых Зиновьево, что за современным поселком Никольское, поэт узнал о проделке ручного медведя, про которого забыли пьяные цыгане. Медведь сел в сани на почтовой станции Дровинки и промчался на тройке до следующей сианции в Антипино. Так родилось стихотворение «Генерал Топтыгин»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14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5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6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116000" y="189000"/>
            <a:ext cx="604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Поэма "Коробейники"</a:t>
            </a:r>
            <a:endParaRPr b="1" i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1125360"/>
            <a:ext cx="799164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эма «Коробейники» - одно из самых известных костромских произведений поэта. История ее создания довольно необычна. Некрасов был заядлым охотником. Однажды он остановился в гостинице «Лондон»(сейчас здание суда) и увидел из окна мужчину с целой связкой дичи. Удачливым охотником оказался житель костромской деревни Шода Гаврила Яковлевич Захаров. С тех пор они стали близкими друзьями и часто вместе ходили на охоту. Гаврила Захаров рассказал ему историю о коробейника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0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1" name="AutoShape 10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2" name="AutoShape 11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7"/>
          <p:cNvSpPr txBox="1"/>
          <p:nvPr/>
        </p:nvSpPr>
        <p:spPr>
          <a:xfrm>
            <a:off x="611280" y="333360"/>
            <a:ext cx="79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Кому на Руси жить хорошо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9640" y="1700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Многие уголки Костромской земли запечатлел Некрасов в своей поэме: и саму Кострому, и уездный город Буй, и «Корежену» на реке Кореге в его окрестностях, и деревни Мисково, Босово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, в которой «Яким Нагой живет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26" name="AutoShape 1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7" name="AutoShape 15">
              <a:hlinkClick r:id="rId1" action="ppaction://hlinksldjump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8" name="AutoShape 1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7" descr="IMG1"/>
          <p:cNvPicPr/>
          <p:nvPr/>
        </p:nvPicPr>
        <p:blipFill>
          <a:blip r:embed="rId1"/>
          <a:stretch/>
        </p:blipFill>
        <p:spPr>
          <a:xfrm>
            <a:off x="5697360" y="2681280"/>
            <a:ext cx="34466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9"/>
          <p:cNvSpPr txBox="1"/>
          <p:nvPr/>
        </p:nvSpPr>
        <p:spPr>
          <a:xfrm>
            <a:off x="1187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"Крестьянские дети"</a:t>
            </a:r>
            <a:endParaRPr b="1" i="1" lang="en-US" sz="3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79280" y="1557360"/>
            <a:ext cx="705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тихи Некрасова удивительно музыкальны и понятны по содержанию всякому человеку. А уж кого поэт всегда любил                          и жалел, так это крестьянских               детей. Им он посвятил много стихотворений, в том числе и стихотворение «Крестьянские              дети».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33" name="AutoShape 24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4" name="AutoShape 25"/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5" name="AutoShape 26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6"/>
          <p:cNvGraphicFramePr/>
          <p:nvPr/>
        </p:nvGraphicFramePr>
        <p:xfrm>
          <a:off x="1258920" y="1197000"/>
          <a:ext cx="705636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70563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WordArt 7"/>
          <p:cNvSpPr txBox="1"/>
          <p:nvPr/>
        </p:nvSpPr>
        <p:spPr>
          <a:xfrm>
            <a:off x="755640" y="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Опрос населения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139" name="Object 17"/>
          <p:cNvGraphicFramePr/>
          <p:nvPr/>
        </p:nvGraphicFramePr>
        <p:xfrm>
          <a:off x="1187280" y="1111320"/>
          <a:ext cx="7201080" cy="57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111320"/>
                    <a:ext cx="720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187280" y="1065240"/>
          <a:ext cx="7201080" cy="579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1065240"/>
                    <a:ext cx="720108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2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4" name="AutoShape 2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5" name="AutoShape 2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6" name="AutoShape 2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48" name="AutoShape 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9" name="AutoShape 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0" name="AutoShape 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51" name="WordArt 8"/>
          <p:cNvSpPr txBox="1"/>
          <p:nvPr/>
        </p:nvSpPr>
        <p:spPr>
          <a:xfrm>
            <a:off x="1258920" y="836640"/>
            <a:ext cx="612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Результаты исследования:</a:t>
            </a:r>
            <a:endParaRPr b="1" i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1280" y="2349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стромская земля, костромской народ оказал огромное влияние на творчество Н.А. Некрасова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8"/>
          <p:cNvSpPr txBox="1"/>
          <p:nvPr/>
        </p:nvSpPr>
        <p:spPr>
          <a:xfrm>
            <a:off x="324000" y="1557360"/>
            <a:ext cx="856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ПРЕЗЕНТАЦИЮ ВЫПОЛНИ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Times New Roman"/>
              </a:rPr>
              <a:t>КРУЖКОВЦЫ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55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6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7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1619280" y="189000"/>
            <a:ext cx="633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Цель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468360" y="1989000"/>
            <a:ext cx="7704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сследовать влияние  Костромской 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емли на  творчество великого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русского поэта Н.А.Некрасова .</a:t>
            </a:r>
            <a:endParaRPr b="1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48" name="AutoShape 9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116000" y="189000"/>
            <a:ext cx="59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и проекта: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468360" y="1413000"/>
            <a:ext cx="8351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) Показать как Н.А.Некрасов полно отразил в своем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ворчестве быт, нравы, образ жизни костромичей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324000" y="3357720"/>
            <a:ext cx="8424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)Выяснить , какае факты из жизни наших предков стали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остоянием творчества поэта, кто из наших земляков был 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збран в качестве прототипов героев поэм и стихов поэта.</a:t>
            </a:r>
            <a:endParaRPr b="1" i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55" name="AutoShape 12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6" name="AutoShape 13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AutoShape 14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2484360" y="54936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проекта: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671480" y="1663560"/>
            <a:ext cx="693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61" name="AutoShape 10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AutoShape 11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AutoShape 12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4" name="Text Box 13"/>
          <p:cNvSpPr/>
          <p:nvPr/>
        </p:nvSpPr>
        <p:spPr>
          <a:xfrm>
            <a:off x="324000" y="1844640"/>
            <a:ext cx="820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1.Изучение и анализ литературы о жизни и творчестве Н.А. Некрасова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324000" y="2887560"/>
            <a:ext cx="7993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.Соцопрос населения о жизни и творчестве поэта.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.Проведение мероприятия «Некрасовские чтения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4.Проведение конкурса рисунков по теме «Н.А. Некрасов и Костромской край»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-1568520" y="5516640"/>
            <a:ext cx="12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5.Оформление результатов проекта в виде презентации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36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456"/>
          <p:cNvPicPr/>
          <p:nvPr/>
        </p:nvPicPr>
        <p:blipFill>
          <a:blip r:embed="rId1"/>
          <a:stretch/>
        </p:blipFill>
        <p:spPr>
          <a:xfrm>
            <a:off x="5796000" y="404640"/>
            <a:ext cx="2909880" cy="4149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3851280" y="4869000"/>
            <a:ext cx="4753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. А. Некрасо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(1821-1878)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468360" y="260280"/>
            <a:ext cx="46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Я лиру посвятил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роду своему"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1" name="AutoShape 11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2" name="AutoShape 12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3" name="AutoShape 13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7"/>
          <p:cNvSpPr txBox="1"/>
          <p:nvPr/>
        </p:nvSpPr>
        <p:spPr>
          <a:xfrm>
            <a:off x="179280" y="260280"/>
            <a:ext cx="68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Влияние Костромской земли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на творчество писателя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24000" y="256536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Некрасов любил охотиться в лесах и на лугах по берегам р. Костромы. Здесь у него было немало знакомых крестьян: с их слов он записывал местные народные предания, песни, пословицы и поговорки, которые использовал в своем творчестве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10" descr="nekrasov"/>
          <p:cNvPicPr/>
          <p:nvPr/>
        </p:nvPicPr>
        <p:blipFill>
          <a:blip r:embed="rId1"/>
          <a:stretch/>
        </p:blipFill>
        <p:spPr>
          <a:xfrm>
            <a:off x="7077240" y="0"/>
            <a:ext cx="2066760" cy="25653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2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78" name="AutoShape 13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9" name="AutoShape 14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AutoShape 15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8,-1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16,-17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250920" y="0"/>
            <a:ext cx="799308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"Хороша наша губерния, славен город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Кострома"- писал Н. А. Некрасов в 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оэме "Коробейники".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82" name="Picture 10" descr="kost11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84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5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6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47"/>
          <p:cNvGrpSpPr/>
          <p:nvPr/>
        </p:nvGrpSpPr>
        <p:grpSpPr>
          <a:xfrm>
            <a:off x="0" y="189000"/>
            <a:ext cx="8963280" cy="6408360"/>
            <a:chOff x="0" y="189000"/>
            <a:chExt cx="8963280" cy="6408360"/>
          </a:xfrm>
        </p:grpSpPr>
        <p:cxnSp>
          <p:nvCxnSpPr>
            <p:cNvPr id="88" name="_s1028"/>
            <p:cNvCxnSpPr>
              <a:stCxn id="89" idx="3"/>
              <a:endCxn id="90" idx="2"/>
            </p:cNvCxnSpPr>
            <p:nvPr/>
          </p:nvCxnSpPr>
          <p:spPr>
            <a:xfrm flipV="1">
              <a:off x="5377680" y="942120"/>
              <a:ext cx="896760" cy="52779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1" name="_s1029"/>
            <p:cNvCxnSpPr>
              <a:stCxn id="92" idx="3"/>
              <a:endCxn id="90" idx="2"/>
            </p:cNvCxnSpPr>
            <p:nvPr/>
          </p:nvCxnSpPr>
          <p:spPr>
            <a:xfrm flipV="1">
              <a:off x="5377680" y="942120"/>
              <a:ext cx="896760" cy="41497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3" name="_s1030"/>
            <p:cNvCxnSpPr>
              <a:stCxn id="94" idx="3"/>
              <a:endCxn id="90" idx="2"/>
            </p:cNvCxnSpPr>
            <p:nvPr/>
          </p:nvCxnSpPr>
          <p:spPr>
            <a:xfrm flipV="1">
              <a:off x="5377680" y="942120"/>
              <a:ext cx="896760" cy="301644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5" name="_s1031"/>
            <p:cNvCxnSpPr>
              <a:stCxn id="96" idx="3"/>
              <a:endCxn id="90" idx="2"/>
            </p:cNvCxnSpPr>
            <p:nvPr/>
          </p:nvCxnSpPr>
          <p:spPr>
            <a:xfrm flipV="1">
              <a:off x="5377680" y="942120"/>
              <a:ext cx="896760" cy="188532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cxnSp>
          <p:nvCxnSpPr>
            <p:cNvPr id="97" name="_s1032"/>
            <p:cNvCxnSpPr>
              <a:stCxn id="98" idx="3"/>
              <a:endCxn id="90" idx="2"/>
            </p:cNvCxnSpPr>
            <p:nvPr/>
          </p:nvCxnSpPr>
          <p:spPr>
            <a:xfrm flipV="1">
              <a:off x="5377680" y="942480"/>
              <a:ext cx="896760" cy="754560"/>
            </a:xfrm>
            <a:prstGeom prst="bentConnector2">
              <a:avLst/>
            </a:prstGeom>
            <a:ln w="28440">
              <a:solidFill>
                <a:srgbClr val="ffcc99"/>
              </a:solidFill>
              <a:miter/>
            </a:ln>
          </p:spPr>
        </p:cxnSp>
        <p:sp>
          <p:nvSpPr>
            <p:cNvPr id="90" name="_s1033"/>
            <p:cNvSpPr/>
            <p:nvPr/>
          </p:nvSpPr>
          <p:spPr>
            <a:xfrm>
              <a:off x="3585240" y="1890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Произведения поэта,</a:t>
              </a:r>
              <a:endParaRPr b="1" lang="en-US" sz="28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 </a:t>
              </a:r>
              <a:r>
                <a:rPr b="1" i="1" lang="en-US" sz="2800" spc="-1" strike="noStrike">
                  <a:solidFill>
                    <a:srgbClr val="4b27e5"/>
                  </a:solidFill>
                  <a:latin typeface="Monotype Corsiva"/>
                </a:rPr>
                <a:t>созданные на Костромской земле</a:t>
              </a:r>
              <a:r>
                <a:rPr b="1" i="1" lang="en-US" sz="2300" spc="-1" strike="noStrike">
                  <a:solidFill>
                    <a:srgbClr val="4b27e5"/>
                  </a:solidFill>
                  <a:latin typeface="Monotype Corsiva"/>
                </a:rPr>
                <a:t>.</a:t>
              </a:r>
              <a:endParaRPr b="1" lang="en-US" sz="23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_s1034">
              <a:hlinkClick r:id="rId1" action="ppaction://hlinksldjump"/>
            </p:cNvPr>
            <p:cNvSpPr/>
            <p:nvPr/>
          </p:nvSpPr>
          <p:spPr>
            <a:xfrm>
              <a:off x="0" y="131976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Дедушка Мазай и зайцы»</a:t>
              </a:r>
              <a:r>
                <a:rPr b="1" lang="en-US" sz="3200" spc="-1" strike="noStrike">
                  <a:solidFill>
                    <a:srgbClr val="d660ac"/>
                  </a:solidFill>
                  <a:latin typeface="Monotype Corsiva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6" name="_s1035">
              <a:hlinkClick r:id="rId2" action="ppaction://hlinksldjump"/>
            </p:cNvPr>
            <p:cNvSpPr/>
            <p:nvPr/>
          </p:nvSpPr>
          <p:spPr>
            <a:xfrm>
              <a:off x="0" y="2450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Генерал Топтыгин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4" name="_s1036">
              <a:hlinkClick r:id="rId3" action="ppaction://hlinksldjump"/>
            </p:cNvPr>
            <p:cNvSpPr/>
            <p:nvPr/>
          </p:nvSpPr>
          <p:spPr>
            <a:xfrm>
              <a:off x="0" y="358164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робейник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2" name="_s1037">
              <a:hlinkClick r:id="rId4" action="ppaction://hlinksldjump"/>
            </p:cNvPr>
            <p:cNvSpPr/>
            <p:nvPr/>
          </p:nvSpPr>
          <p:spPr>
            <a:xfrm>
              <a:off x="0" y="471240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ому на Руси жить хорошо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9" name="_s1038">
              <a:hlinkClick r:id="rId5" action="ppaction://hlinksldjump"/>
            </p:cNvPr>
            <p:cNvSpPr/>
            <p:nvPr/>
          </p:nvSpPr>
          <p:spPr>
            <a:xfrm>
              <a:off x="0" y="5843520"/>
              <a:ext cx="5378040" cy="753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50000">
                  <a:srgbClr val="d1c39f"/>
                </a:gs>
                <a:gs pos="100000">
                  <a:srgbClr val="ffefd1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4b27e5"/>
                  </a:solidFill>
                  <a:uFillTx/>
                  <a:latin typeface="Monotype Corsiva"/>
                </a:rPr>
                <a:t>«Крестьянские дети»</a:t>
              </a: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99" name="Group 65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0" name="AutoShape 66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AutoShape 67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AutoShape 68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8" descr="35"/>
          <p:cNvPicPr/>
          <p:nvPr/>
        </p:nvPicPr>
        <p:blipFill>
          <a:blip r:embed="rId1"/>
          <a:stretch/>
        </p:blipFill>
        <p:spPr>
          <a:xfrm>
            <a:off x="5580000" y="4500720"/>
            <a:ext cx="3564000" cy="23572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468360" y="333360"/>
            <a:ext cx="81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latin typeface="Monotype Corsiva"/>
              </a:rPr>
              <a:t>"Дедушка Мазай и зайцы"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latin typeface="Monotype Corsiva"/>
              <a:ea typeface="Monotype Corsiv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79280" y="1557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а костромском материале написано стихотворение «Дедушка Мазай и зайцы». Дед Мазай – это не вымышленное лицо. Это костромской крестьянин, приятель Некрасова по охоте. Дедушка Мазай  жил в дер. Малые Вежи в Мисковской волости. Его потомки живут и сейчас в костромском районе под фамилией Мазайкиных.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7956720" y="6597720"/>
            <a:ext cx="1187280" cy="260280"/>
            <a:chOff x="7956720" y="6597720"/>
            <a:chExt cx="1187280" cy="260280"/>
          </a:xfrm>
        </p:grpSpPr>
        <p:sp>
          <p:nvSpPr>
            <p:cNvPr id="107" name="AutoShape 15">
              <a:hlinkClick r:id="" action="ppaction://hlinkshowjump?jump=nextslide"/>
            </p:cNvPr>
            <p:cNvSpPr/>
            <p:nvPr/>
          </p:nvSpPr>
          <p:spPr>
            <a:xfrm>
              <a:off x="8820000" y="6597720"/>
              <a:ext cx="324000" cy="260280"/>
            </a:xfrm>
            <a:custGeom>
              <a:avLst/>
              <a:gdLst>
                <a:gd name="textAreaLeft" fmla="*/ 16560 w 324000"/>
                <a:gd name="textAreaRight" fmla="*/ 307440 w 32400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6881" h="21600">
                  <a:moveTo>
                    <a:pt x="0" y="0"/>
                  </a:moveTo>
                  <a:lnTo>
                    <a:pt x="26881" y="0"/>
                  </a:lnTo>
                  <a:lnTo>
                    <a:pt x="26881" y="21600"/>
                  </a:lnTo>
                  <a:lnTo>
                    <a:pt x="0" y="21600"/>
                  </a:lnTo>
                  <a:close/>
                </a:path>
                <a:path fill="lightenLess" w="26881" h="21600">
                  <a:moveTo>
                    <a:pt x="0" y="0"/>
                  </a:moveTo>
                  <a:lnTo>
                    <a:pt x="26881" y="0"/>
                  </a:lnTo>
                  <a:lnTo>
                    <a:pt x="25481" y="1400"/>
                  </a:lnTo>
                  <a:lnTo>
                    <a:pt x="1400" y="1400"/>
                  </a:lnTo>
                  <a:close/>
                </a:path>
                <a:path fill="darken" w="26881" h="21600">
                  <a:moveTo>
                    <a:pt x="26881" y="0"/>
                  </a:moveTo>
                  <a:lnTo>
                    <a:pt x="26881" y="21600"/>
                  </a:lnTo>
                  <a:lnTo>
                    <a:pt x="25481" y="20200"/>
                  </a:lnTo>
                  <a:lnTo>
                    <a:pt x="25481" y="1400"/>
                  </a:lnTo>
                  <a:close/>
                </a:path>
                <a:path fill="darkenLess" w="26881" h="21600">
                  <a:moveTo>
                    <a:pt x="2688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481" y="20200"/>
                  </a:lnTo>
                  <a:close/>
                </a:path>
                <a:path fill="lighten" w="2688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881" h="21600">
                  <a:moveTo>
                    <a:pt x="6434" y="3794"/>
                  </a:moveTo>
                  <a:lnTo>
                    <a:pt x="20447" y="10800"/>
                  </a:lnTo>
                  <a:lnTo>
                    <a:pt x="6434" y="1780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8" name="AutoShape 16">
              <a:hlinkClick r:id="" action="ppaction://hlinkshowjump?jump=previousslide"/>
            </p:cNvPr>
            <p:cNvSpPr/>
            <p:nvPr/>
          </p:nvSpPr>
          <p:spPr>
            <a:xfrm>
              <a:off x="838836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7940" y="10800"/>
                  </a:moveTo>
                  <a:lnTo>
                    <a:pt x="21953" y="3794"/>
                  </a:lnTo>
                  <a:lnTo>
                    <a:pt x="21953" y="1780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9" name="AutoShape 17">
              <a:hlinkClick r:id="" action="ppaction://hlinkshowjump?jump=firstslide"/>
            </p:cNvPr>
            <p:cNvSpPr/>
            <p:nvPr/>
          </p:nvSpPr>
          <p:spPr>
            <a:xfrm>
              <a:off x="7956720" y="6597720"/>
              <a:ext cx="360360" cy="260280"/>
            </a:xfrm>
            <a:custGeom>
              <a:avLst/>
              <a:gdLst>
                <a:gd name="textAreaLeft" fmla="*/ 16560 w 360360"/>
                <a:gd name="textAreaRight" fmla="*/ 343800 w 360360"/>
                <a:gd name="textAreaTop" fmla="*/ 16560 h 260280"/>
                <a:gd name="textAreaBottom" fmla="*/ 243720 h 260280"/>
              </a:gdLst>
              <a:ahLst/>
              <a:rect l="textAreaLeft" t="textAreaTop" r="textAreaRight" b="textAreaBottom"/>
              <a:pathLst>
                <a:path w="29894" h="21600">
                  <a:moveTo>
                    <a:pt x="0" y="0"/>
                  </a:moveTo>
                  <a:lnTo>
                    <a:pt x="29894" y="0"/>
                  </a:lnTo>
                  <a:lnTo>
                    <a:pt x="29894" y="21600"/>
                  </a:lnTo>
                  <a:lnTo>
                    <a:pt x="0" y="21600"/>
                  </a:lnTo>
                  <a:close/>
                </a:path>
                <a:path fill="lightenLess" w="29894" h="21600">
                  <a:moveTo>
                    <a:pt x="0" y="0"/>
                  </a:moveTo>
                  <a:lnTo>
                    <a:pt x="29894" y="0"/>
                  </a:lnTo>
                  <a:lnTo>
                    <a:pt x="28494" y="1400"/>
                  </a:lnTo>
                  <a:lnTo>
                    <a:pt x="1400" y="1400"/>
                  </a:lnTo>
                  <a:close/>
                </a:path>
                <a:path fill="darken" w="29894" h="21600">
                  <a:moveTo>
                    <a:pt x="29894" y="0"/>
                  </a:moveTo>
                  <a:lnTo>
                    <a:pt x="29894" y="21600"/>
                  </a:lnTo>
                  <a:lnTo>
                    <a:pt x="28494" y="20200"/>
                  </a:lnTo>
                  <a:lnTo>
                    <a:pt x="28494" y="1400"/>
                  </a:lnTo>
                  <a:close/>
                </a:path>
                <a:path fill="darkenLess" w="29894" h="21600">
                  <a:moveTo>
                    <a:pt x="2989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494" y="20200"/>
                  </a:lnTo>
                  <a:close/>
                </a:path>
                <a:path fill="lighten" w="2989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894" h="21600">
                  <a:moveTo>
                    <a:pt x="14947" y="3837"/>
                  </a:moveTo>
                  <a:lnTo>
                    <a:pt x="17523" y="6448"/>
                  </a:ln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lnTo>
                    <a:pt x="21910" y="10800"/>
                  </a:lnTo>
                  <a:lnTo>
                    <a:pt x="20256" y="10800"/>
                  </a:lnTo>
                  <a:lnTo>
                    <a:pt x="20256" y="17989"/>
                  </a:lnTo>
                  <a:lnTo>
                    <a:pt x="9638" y="17989"/>
                  </a:lnTo>
                  <a:lnTo>
                    <a:pt x="9638" y="10800"/>
                  </a:lnTo>
                  <a:lnTo>
                    <a:pt x="7984" y="10800"/>
                  </a:lnTo>
                  <a:close/>
                </a:path>
                <a:path fill="darkenLess" w="29894" h="21600">
                  <a:moveTo>
                    <a:pt x="17523" y="6448"/>
                  </a:moveTo>
                  <a:lnTo>
                    <a:pt x="17523" y="4707"/>
                  </a:lnTo>
                  <a:lnTo>
                    <a:pt x="19299" y="4707"/>
                  </a:lnTo>
                  <a:lnTo>
                    <a:pt x="19299" y="8224"/>
                  </a:lnTo>
                  <a:close/>
                </a:path>
                <a:path fill="darkenLess" w="29894" h="21600">
                  <a:moveTo>
                    <a:pt x="14024" y="14299"/>
                  </a:moveTo>
                  <a:lnTo>
                    <a:pt x="15870" y="14299"/>
                  </a:lnTo>
                  <a:lnTo>
                    <a:pt x="15870" y="17989"/>
                  </a:lnTo>
                  <a:lnTo>
                    <a:pt x="20256" y="17989"/>
                  </a:lnTo>
                  <a:lnTo>
                    <a:pt x="20256" y="10800"/>
                  </a:lnTo>
                  <a:lnTo>
                    <a:pt x="9638" y="10800"/>
                  </a:lnTo>
                  <a:lnTo>
                    <a:pt x="9638" y="17989"/>
                  </a:lnTo>
                  <a:lnTo>
                    <a:pt x="14024" y="1798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07:07Z</dcterms:created>
  <dc:creator>User</dc:creator>
  <dc:description/>
  <dc:language>en-US</dc:language>
  <cp:lastModifiedBy>Коля</cp:lastModifiedBy>
  <dcterms:modified xsi:type="dcterms:W3CDTF">2013-04-30T12:41:24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Гридинская основная общеобразовательная школа</vt:lpwstr>
  </property>
  <property fmtid="{D5CDD505-2E9C-101B-9397-08002B2CF9AE}" pid="5" name="display_urn:schemas-microsoft-com:office:office#Editor">
    <vt:lpwstr>Гридинская основная общеобразовательная школа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