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011B-FA9E-4A82-81E9-EA3BCCA4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462-BDE5-4684-AB20-5B2BC131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4DED-3FD4-452B-8656-0B83093C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C59-3C59-4DDB-8190-03F3D297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CAFE-4A8D-4D76-B49C-BFDE25E5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F2F1-3D3D-46EE-A144-A1ACD66E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007B-2451-4AB7-A7B8-551F92C9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C0B3-F53B-4194-B4E8-1D585506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1301-9621-4B3D-ACBD-792D3731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7AAA-4EF7-48F0-92B3-45E304F2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4D2D-3495-4330-9FBD-E0B14752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6BF-E693-4AE5-9D67-AF7E13BA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D814-F270-4635-8AE0-95C1D16E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2F64-70AC-4D7A-877A-8597D293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9EE8-BACA-44F6-96FF-E3B69D28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4A1A-0099-431B-8A7D-305F38B1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A108-C772-4619-8749-81CB3B16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EB3-00C0-40F2-8300-949267D1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EDB-2066-4ECD-8C00-6BAD0AC4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E56-8F1B-4CFC-89C6-E1EE5DE4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4B1-C8AB-4E13-A5FD-674D26B4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9583-5EC0-45AA-ADE9-9C71DBB2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89A-8361-4E68-A4D4-D130B23F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443B-93BD-4554-9776-5BD8F166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0676-D48F-4D32-ADD7-6C2EDE26B7C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EC84-B854-45B0-94CC-59C67758ECD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628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0000"/>
                </a:solidFill>
                <a:latin typeface="Garamond"/>
              </a:rPr>
              <a:t>Техника безопасности в кабинете информатики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620640"/>
            <a:ext cx="820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Изображение на экранах мониторов должно быть стабильным, ясным и предельно четким, не иметь мерцаний символов и фона, на экранах не должно быть бликов от отражений светильников, окон и окружающих 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Выполнять специальные упражнения, снимающие зрительное утом­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476280"/>
            <a:ext cx="835344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Требования безопасности при аварийных ситуац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В случае возникновения неисправностей в работе компьютера необходимо выключить его и сообщить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При плохом самочувствии, появлении головной боли, головокружения и пр. прекратить работу и сообщить об этом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1341360"/>
            <a:ext cx="842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При поражении электрическим током немедленно выключить компьютер и сообщить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При возникновении очага возгорания немедленно выключить компьютер и сообщить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476280"/>
            <a:ext cx="8424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Требования безопасности по окончании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С разрешения учителя выключить компьютер и привести в порядок рабочее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Тщательно проветрить каби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62064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ходя из требований безопасности ученики должны соблюдать следую­щие правила поведения в кабинете информатики. </a:t>
            </a:r>
            <a:r>
              <a:rPr b="1" lang="en-US" sz="3200" spc="-1" strike="noStrike">
                <a:solidFill>
                  <a:srgbClr val="fe0000"/>
                </a:solidFill>
                <a:latin typeface="Arial"/>
              </a:rPr>
              <a:t>Следу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068640"/>
            <a:ext cx="77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ять правила техники безопасности, порядок и дисципл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ходить в класс с разрешения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18900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классу перемещаться спокойно, без суеты или резких дви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работой за компьютером вымыть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вь и одежда должны быть чист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олагаться на расстоянии не ме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см от экрана мони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620640"/>
            <a:ext cx="820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ть за компьютером не более 30 минут подря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ого следовать инструкциям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 себя закрывать все открытые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лучае неисправности оборудования сообщить учител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476280"/>
            <a:ext cx="8424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                     </a:t>
            </a: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Запреща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ходиться в верхней одеж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отреблять ненормативную лекс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отреблять пищу за компьют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огать руками экран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76500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ать в компьютерные игры в учеб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лючать/выключать компьютер без разрешения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ставлять устройства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соединять и отсоединять различные устройства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69228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бирать устройства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ть рядом с компьютером посторонние предм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далять компьютерные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носить к устройствам компьютера металлические и намагниченные предм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9640" y="1052640"/>
            <a:ext cx="83534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Общие требования без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К работе в кабинете информатики допускаются учащиеся, прошедшие инструктаж по охране труда и не имеющие противопоказаний по состоянию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Учащиеся должны соблюдать правила поведения в кабинете инфор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54936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регайте монитор от попадания влаги, никогда самостоятельно не вскрывайте монитор и не просовывайте внутрь металлические предм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грубое нарушение правил поведения в кабинете информатики учащийся может быть лишен права использования вычислительной техник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476280"/>
            <a:ext cx="8136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Упражнение для гл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Закрыть глаза, сильно напрягая глазные мышцы. На счет 1 - 4 открыть глаза, расслабив глазные мышцы. Посмотреть вдаль на счет 1 - 6. Повторить 4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Посмотреть на переносицу и задержать взгляд на счет 1 - 4. Посмотреть вдаль на счет 1 - 6. Повторить 4 - 5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85760"/>
            <a:ext cx="806472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При работе в кабинете информатики возможно воздействие на человека следующих опасных и вредных факто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монитора: ультрафиолетовое, инфракрасное, электромагнитное   и рентгеновское излучения; статическое электричество, блики и мерцание экра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ажение электрическим током при работе без заземления, со   снятой задней крышкой системного 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148428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В кабинете информатики должна быть аптечка с необходимыми медикамен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Учащиеся должны соблюдать правила пожарной безопасности, знать места расположения огнетушителей и уметь пользоваться 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148428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О каждом несчастном случае немедленно сообщать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При неисправности оборудования немедленно прекратить работу и сообщить об этом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8360" y="333360"/>
            <a:ext cx="8351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Не работать на неисправном оборудо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Содержать в чистоте рабочее место и соблюдать правила личной  гиги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Учащиеся, допустившие невыполнение или нарушение инструкции по охране труда, привлекаются к ответ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9640" y="1268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115920"/>
            <a:ext cx="77263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Требования безопасности пер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началом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Тщательно проветрить кабинет. Температура воздуха должна быть 21...25°С, относительная влажность воздуха 40...60 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Убедиться в работоспособности всех компьютеров и отсутствии не­исправ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Проверить уровень яркости экранов мониторов. Норма - 35 кд/м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620640"/>
            <a:ext cx="8748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Требования безопасности во врем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Не включать компьютеры без разрешения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Занятия за компьютером проводить по одному челове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1413000"/>
            <a:ext cx="828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Расстояние от глаз до экрана монитора должно быть 0,6...0,7 м., уровень глаз должен приходиться на центр экрана или на 2/3 его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Тетрадь для записей должна быть хорошо освещена и находиться на расстоянии 55...65 см от гл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8:29:22Z</dcterms:created>
  <dc:creator>Customer</dc:creator>
  <dc:description/>
  <dc:language>en-US</dc:language>
  <cp:lastModifiedBy>INFORSER</cp:lastModifiedBy>
  <dcterms:modified xsi:type="dcterms:W3CDTF">2010-09-09T05:09:07Z</dcterms:modified>
  <cp:revision>3</cp:revision>
  <dc:subject/>
  <dc:title>Техника безопасности в кабинете информатики</dc:title>
</cp:coreProperties>
</file>