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09-1CDE-436E-A230-55586925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941-D0EF-4946-B376-99ECB406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9E3-93EE-4B9E-862B-A0189447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7C6-6AEA-4436-A456-F4B819D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D456-C80D-43D4-BDAC-ED89C76B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364A-0C58-4946-8590-C97557D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73E1-2FE5-442B-9ACD-97AA937C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8EAE-9921-4B85-9BBA-89FE0F0E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705-05C7-40EB-8CF5-840D06AA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997B-05E0-4F93-8822-35207934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05A7-D9BC-4DE6-8498-6BDCC26B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C81-BC4D-447D-843D-EBDAB3DE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0B7F-716A-4603-BA9C-832E6AD7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5880-DFEB-4640-9244-B760D44A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36FA-F8C1-4F8D-AEE6-BF41F321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CAB-4FB2-470E-88E5-3017DFF0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8C15-0D0E-4F6D-B288-F2AAF28F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EC9-44E7-49FE-8103-0CB0DCA1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B46-BC65-44BE-96E0-1EDC2908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6B6-565C-48E4-8FBE-9FFE0CF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038-0E82-48E3-A16D-FD2FAF2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347-0B26-4D34-962F-A0F2C25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66E-2305-4DC4-997D-EEDE9F08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419-04D6-4971-A727-4C02DE3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B26-07F8-47FD-B11B-EFBBA80436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5B42-C60D-4002-9125-A5AFF57E69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0000"/>
                </a:solidFill>
                <a:latin typeface="Garamond"/>
              </a:rPr>
              <a:t>Техника безопасности в кабинете информатики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620640"/>
            <a:ext cx="820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Изображение на экранах мониторов должно быть стабильным, ясным и предельно четким, не иметь мерцаний символов и фона, на экранах не должно быть бликов от отражений светильников, окон и окружающих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Выполнять специальные упражнения, снимающие зрительное утом­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76280"/>
            <a:ext cx="835344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ри аварийных ситуац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 случае возникновения неисправностей в работе компьютера необходимо выключить его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и плохом самочувствии, появлении головной боли, головокружения и пр. прекратить работу и сообщить об этом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1341360"/>
            <a:ext cx="842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поражении электрическим током немедленно выключить компьютер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При возникновении очага возгорания немедленно выключить компьютер и сообщи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476280"/>
            <a:ext cx="842472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о окончани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 разрешения учителя выключить компьютер и привести в порядок рабоче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Тщательно проветрить каби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62064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ходя из требований безопасности ученики должны соблюдать следую­щие правила поведения в кабинете информатики. </a:t>
            </a:r>
            <a:r>
              <a:rPr b="1" lang="en-US" sz="3200" spc="-1" strike="noStrike">
                <a:solidFill>
                  <a:srgbClr val="fe0000"/>
                </a:solidFill>
                <a:latin typeface="Arial"/>
              </a:rPr>
              <a:t>След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06864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олнять правила техники безопасности, порядок и дисципл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одить в класс с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18900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лассу перемещаться спокойно, без суеты или резких дв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работой за компьютером вымыть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вь и одежда должны быть чист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полагаться на расстоянии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см от экрана мони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20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ть за компьютером не более 30 минут под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го следовать инструкциям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себя закрывать все открыт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учае неисправности оборудования сообщить учите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476280"/>
            <a:ext cx="84247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Запреща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ходиться в верхней оде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ять ненормативную лекс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ять пищу за компьют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гать руками экран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765000"/>
            <a:ext cx="835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ть в компьютерные игры в учеб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ть/выключать компьютер без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авлять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оединять и отсоединять различные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69228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бирать устройства компью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ть рядом с компьютером посторонни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лять компьютер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носить к устройствам компьютера металлические и намагниченны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9640" y="1052640"/>
            <a:ext cx="83534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Общие требования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К работе в кабинете информатики допускаются учащиеся, прошедшие инструктаж по охране труда и не имеющие противопоказаний по состоянию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Учащиеся должны соблюдать правила поведения в кабинете инфор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549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регайте монитор от попадания влаги, никогда самостоятельно не вскрывайте монитор и не просовывайте внутрь металлически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грубое нарушение правил поведения в кабинете информатики учащийся может быть лишен права использования вычислительной техник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136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Упражнение для гл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Закрыть глаза, сильно напрягая глазные мышцы. На счет 1 - 4 открыть глаза, расслабив глазные мышцы. Посмотреть вдаль на счет 1 - 6. Повторить 4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смотреть на переносицу и задержать взгляд на счет 1 - 4. Посмотреть вдаль на счет 1 - 6. Повторить 4 - 5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85760"/>
            <a:ext cx="8064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и работе в кабинете информатики возможно воздействие на человека следующих опасных и вредных факто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монитора: ультрафиолетовое, инфракрасное, электромагнитное   и рентгеновское излучения; статическое электричество, блики и мерцание эк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электрическим током при работе без заземления, со   снятой задней крышкой системного 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14842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В кабинете информатики должна быть аптечка с необходимыми медикам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Учащиеся должны соблюдать правила пожарной безопасности, знать места расположения огнетушителей и уметь пользоваться 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48428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О каждом несчастном случае немедленно сообщать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При неисправности оборудования немедленно прекратить работу и сообщить об этом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33336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Не работать на неисправном оборудо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Содержать в чистоте рабочее место и соблюдать правила личной  гиги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Учащиеся, допустившие невыполнение или нарушение инструкции по охране труда, привлекаются к ответств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15920"/>
            <a:ext cx="772632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пер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началом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Тщательно проветрить кабинет. Температура воздуха должна быть 21...25°С, относительная влажность воздуха 40...6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Убедиться в работоспособности всех компьютеров и отсутствии не­исправ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Проверить уровень яркости экранов мониторов. Норма - 35 кд/м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20640"/>
            <a:ext cx="87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e0000"/>
                </a:solidFill>
                <a:latin typeface="Arial"/>
              </a:rPr>
              <a:t>Требования безопасности во врем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е включать компьютеры без разрешен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Занятия за компьютером проводить по одному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141300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асстояние от глаз до экрана монитора должно быть 0,6...0,7 м., уровень глаз должен приходиться на центр экрана или на 2/3 его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Тетрадь для записей должна быть хорошо освещена и находиться на расстоянии 55...65 см от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8:29:22Z</dcterms:created>
  <dc:creator>Customer</dc:creator>
  <dc:description/>
  <dc:language>en-US</dc:language>
  <cp:lastModifiedBy>INFORSER</cp:lastModifiedBy>
  <dcterms:modified xsi:type="dcterms:W3CDTF">2010-09-09T05:09:07Z</dcterms:modified>
  <cp:revision>3</cp:revision>
  <dc:subject/>
  <dc:title>Техника безопасности в кабинете информатики</dc:title>
</cp:coreProperties>
</file>