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58E-4708-4263-96A3-70D14206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833-6C35-4CED-BB06-85E0971B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D2F-BBDE-4D47-9D01-06BC6E5F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634-331D-44A3-B56A-97EB1841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E02E-8D43-411E-9DB3-A14E6516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9981-F912-4736-B78D-B14BD7D8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5322-0B1C-4190-8AF9-964DA877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0A00-F22A-4904-83DD-C010C9AD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BA0F-0835-4E86-85D9-3C011DEC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353D-F60F-41AD-A3B1-A1F43622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DD84-6881-4F3A-A3C4-14BE91BF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565-150E-4FA5-980E-410F93A1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C864-49D8-4485-9BAA-1F6D8CFA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CC1E-027A-46BD-8EC9-312B316F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7B0F-0C3A-400F-A821-B4572A5C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46C0-FB21-4E5E-A0C8-3C909A9A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15A0-586A-49E9-A0DE-F760E644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8FC-630B-408D-9A08-F7ACED5D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B33-E1A9-4AF3-ABC0-86C81049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30D-34C1-45A5-B5C4-311B9D84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565-57FD-41F2-A6AA-49CC3FD5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762-CA8F-4FC7-9739-4CB99CEE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617-248E-46C2-B5EE-98CB14DB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C2D-37B1-4374-BA56-BE68041C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2465-3054-45CE-9BAE-6577E65FCB8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9B76-D98E-490B-AD8D-359A4991EAB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628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0000"/>
                </a:solidFill>
                <a:latin typeface="Garamond"/>
              </a:rPr>
              <a:t>Техника безопасности в кабинете информатики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620640"/>
            <a:ext cx="820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Изображение на экранах мониторов должно быть стабильным, ясным и предельно четким, не иметь мерцаний символов и фона, на экранах не должно быть бликов от отражений светильников, окон и окружающих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Выполнять специальные упражнения, снимающие зрительное утом­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476280"/>
            <a:ext cx="835344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Требования безопасности при аварийных ситуац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В случае возникновения неисправностей в работе компьютера необходимо выключить его и сообщить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ри плохом самочувствии, появлении головной боли, головокружения и пр. прекратить работу и сообщить об этом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1341360"/>
            <a:ext cx="842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При поражении электрическим током немедленно выключить компьютер и сообщить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При возникновении очага возгорания немедленно выключить компьютер и сообщить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476280"/>
            <a:ext cx="8424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Требования безопасности по окончании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С разрешения учителя выключить компьютер и привести в порядок рабочее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Тщательно проветрить каби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62064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ходя из требований безопасности ученики должны соблюдать следую­щие правила поведения в кабинете информатики. </a:t>
            </a:r>
            <a:r>
              <a:rPr b="1" lang="en-US" sz="3200" spc="-1" strike="noStrike">
                <a:solidFill>
                  <a:srgbClr val="fe0000"/>
                </a:solidFill>
                <a:latin typeface="Arial"/>
              </a:rPr>
              <a:t>Следу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06864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ять правила техники безопасности, порядок и дисципл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ходить в класс с разрешения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18900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классу перемещаться спокойно, без суеты или резких дви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работой за компьютером вымыть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вь и одежда должны быть чист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олагаться на расстоянии не ме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см от экрана мони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620640"/>
            <a:ext cx="820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ть за компьютером не более 30 минут подря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го следовать инструкциям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 себя закрывать все открытые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лучае неисправности оборудования сообщить учител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476280"/>
            <a:ext cx="8424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                     </a:t>
            </a: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Запреща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ходиться в верхней одеж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отреблять ненормативную лекс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отреблять пищу за компьют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огать руками экран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76500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ать в компьютерные игры в учеб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лючать/выключать компьютер без разрешения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ставлять устройства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соединять и отсоединять различные устройства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69228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бирать устройства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ть рядом с компьютером посторонние предм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алять компьютерные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носить к устройствам компьютера металлические и намагниченные предм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9640" y="1052640"/>
            <a:ext cx="83534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Общие требования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К работе в кабинете информатики допускаются учащиеся, прошедшие инструктаж по охране труда и не имеющие противопоказаний по состоянию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Учащиеся должны соблюдать правила поведения в кабинете инфор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54936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регайте монитор от попадания влаги, никогда самостоятельно не вскрывайте монитор и не просовывайте внутрь металлические предм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грубое нарушение правил поведения в кабинете информатики учащийся может быть лишен права использования вычислительной техник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476280"/>
            <a:ext cx="8136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Упражнение для гл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Закрыть глаза, сильно напрягая глазные мышцы. На счет 1 - 4 открыть глаза, расслабив глазные мышцы. Посмотреть вдаль на счет 1 - 6. Повторить 4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осмотреть на переносицу и задержать взгляд на счет 1 - 4. Посмотреть вдаль на счет 1 - 6. Повторить 4 - 5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85760"/>
            <a:ext cx="806472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При работе в кабинете информатики возможно воздействие на человека следующих опасных и вредных факто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монитора: ультрафиолетовое, инфракрасное, электромагнитное   и рентгеновское излучения; статическое электричество, блики и мерцание экра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ажение электрическим током при работе без заземления, со   снятой задней крышкой системного 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148428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В кабинете информатики должна быть аптечка с необходимыми медикам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Учащиеся должны соблюдать правила пожарной безопасности, знать места расположения огнетушителей и уметь пользоваться 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148428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О каждом несчастном случае немедленно сообщать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При неисправности оборудования немедленно прекратить работу и сообщить об этом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8360" y="333360"/>
            <a:ext cx="8351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Не работать на неисправном оборудо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Содержать в чистоте рабочее место и соблюдать правила личной  гиги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Учащиеся, допустившие невыполнение или нарушение инструкции по охране труда, привлекаются к ответ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9640" y="1268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115920"/>
            <a:ext cx="77263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Требования безопасности пер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началом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Тщательно проветрить кабинет. Температура воздуха должна быть 21...25°С, относительная влажность воздуха 40...60 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Убедиться в работоспособности всех компьютеров и отсутствии не­исправ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Проверить уровень яркости экранов мониторов. Норма - 35 кд/м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620640"/>
            <a:ext cx="8748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Требования безопасности во врем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Не включать компьютеры без разрешения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Занятия за компьютером проводить по одному челове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1413000"/>
            <a:ext cx="82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Расстояние от глаз до экрана монитора должно быть 0,6...0,7 м., уровень глаз должен приходиться на центр экрана или на 2/3 его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Тетрадь для записей должна быть хорошо освещена и находиться на расстоянии 55...65 см от г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8:29:22Z</dcterms:created>
  <dc:creator>Customer</dc:creator>
  <dc:description/>
  <dc:language>en-US</dc:language>
  <cp:lastModifiedBy>INFORSER</cp:lastModifiedBy>
  <dcterms:modified xsi:type="dcterms:W3CDTF">2010-09-09T05:09:07Z</dcterms:modified>
  <cp:revision>3</cp:revision>
  <dc:subject/>
  <dc:title>Техника безопасности в кабинете информатики</dc:title>
</cp:coreProperties>
</file>