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BAAE2-E1A8-4DB5-A823-A4EC0316C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60FFA-C742-4AE6-ADE6-9FA395D9C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0AA17-2BB1-459B-B0CF-17606D5BC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9DC31-87D9-41BB-B2C1-3434F54B3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7A344-FC37-4228-BFEC-7A46D4DB2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38CB2-4659-4B83-A8EA-DB71BFE2B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1004D-A784-4C1B-B987-6610A9EA1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19094-BC63-4DFD-97D0-8F44FAF4C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6FDDA-FDA0-456F-B225-B5F3616A2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A021B-8AF4-4278-88AF-6EC94C228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0983E-D5E7-46B7-A716-38D23DF1C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D6DBA-3FFB-4826-89E5-24A667C41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79735-8E87-4D29-96CF-227BBA210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DEEDB-005C-4558-A978-2C4D55665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2A114-D1AA-499F-8846-9D5B15A30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B3399-5D56-410A-B2D0-3BCBB0830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DB727-0854-40B2-8DAB-0A4772572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256597-DE99-4B97-B3EC-BCB07C2018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5F2DE-BC35-479A-8713-E90BBAF0CB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A541A-5D90-4011-B449-F104E0C79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E1D632-7C65-4CDC-AF9C-52B8693DF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4D043-D199-4031-BA21-D8B1C2C692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3941B-9F1A-4B31-97EA-A682151C1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F6428-77E3-4C9D-8AAF-4F344670A8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7342C-FBD1-4B1B-BA61-770962303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594CF-F451-4810-AB5E-E06C23CAB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76EB2-97B8-45B6-866D-E9534E726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0854A-0C4E-4096-8371-0C299D1CD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6A60CC-16EC-4FFB-A8CB-A35DCC13BE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B7B9CD-EE8D-4180-A44C-99D111A1EA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DEDB85-FA0A-4081-93B7-B870FFCA5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E3B5F0-6E34-4F5A-8A35-845AA673C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65350-9E1B-4788-8867-EAFDE2591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D4A5D-9111-4FC6-92CE-841541238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25870B-B79B-4A49-9CBE-F93DCF4BC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929D2-0DB6-40BD-B068-7A2CA8A89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95DA8-19AA-4E1F-A671-866DAD9A9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72058-B003-40FB-8B5F-1985A77BD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041C7-97F4-40E3-A111-1F27A85A1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0102A-7F09-492D-83A7-0121ABBE2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E69A0A-555B-460F-8997-28EC5EF2D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884F3F-0F95-4C62-8666-22E90219BA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9D6538-3178-4992-9532-A082DB8C89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781FA-14FD-4009-AB6D-42EC6EEAA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C725C-E1C8-4ED9-8517-946C1FC2F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7D07A-7A00-4B53-A7B5-3855601C6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EC4D-EEF0-44F9-909F-EDC2664E0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C4A41-BA7F-41A2-8158-48EC7ED35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F9C4-14EA-4E64-80C9-3063C9F0DAE9}"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0320-3F77-4C1B-B5FF-A9CFF70C59B3}"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9CC4-EB21-4718-B733-2FFD1D0DFEBC}"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7301-CBD8-40B8-86E0-CACA9C88D2D2}"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12640" y="1620720"/>
            <a:ext cx="8375760" cy="29386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тстаивание </a:t>
            </a:r>
            <a:r>
              <a:rPr b="0" lang="ru-RU" sz="1600" spc="-1" strike="noStrike">
                <a:solidFill>
                  <a:srgbClr val="04617b"/>
                </a:solidFill>
                <a:latin typeface="Calibri"/>
              </a:rPr>
              <a:t>Порядок проведения:</a:t>
            </a:r>
            <a:endParaRPr b="0" lang="en-US" sz="1600" spc="-1" strike="noStrike">
              <a:solidFill>
                <a:srgbClr val="04617b"/>
              </a:solidFill>
              <a:latin typeface="Calibri"/>
            </a:endParaRPr>
          </a:p>
        </p:txBody>
      </p:sp>
      <p:sp>
        <p:nvSpPr>
          <p:cNvPr id="197" name=""/>
          <p:cNvSpPr txBox="1"/>
          <p:nvPr/>
        </p:nvSpPr>
        <p:spPr>
          <a:xfrm>
            <a:off x="457200" y="1935000"/>
            <a:ext cx="8229600" cy="480384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лил в одну некоторое количество водопроводной воды.</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крыв тканью во избежание попадания в воду посторонних примесей.</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 истечение некоторого времени, что зависит от объема воды, выпадение осадка на дне: в бокалах через 20 мин, в больших ёмкостях через 2-3 часа. Выпадения осадка различно по насыщенности цвета и по количеству.</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 </a:t>
            </a:r>
            <a:r>
              <a:rPr b="0" lang="ru-RU" sz="1100" spc="-1" strike="noStrike">
                <a:solidFill>
                  <a:srgbClr val="000000"/>
                </a:solidFill>
                <a:latin typeface="Constantia"/>
              </a:rPr>
              <a:t>После отстаивания аккуратно слил чистую воду в другие ёмкости, отставив 1/3 часть как непригодную к употреблению.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Процедура отстаивания долговременная, чтобы избавиться от осадка необходимо слить её вместе с 1/3 воды. Этим способом можно избавиться только от механических примесей. После отстаивания воду нужно кипятить.(Часть 2)    </a:t>
            </a:r>
            <a:endParaRPr b="0" lang="en-US" sz="1100" spc="-1" strike="noStrike">
              <a:solidFill>
                <a:srgbClr val="000000"/>
              </a:solidFill>
              <a:latin typeface="Constantia"/>
            </a:endParaRPr>
          </a:p>
        </p:txBody>
      </p:sp>
      <p:pic>
        <p:nvPicPr>
          <p:cNvPr id="198" name="Picture 2" descr="C:\Documents and Settings\Никита\Рабочий стол\2-Drink_glass.jpg"/>
          <p:cNvPicPr/>
          <p:nvPr/>
        </p:nvPicPr>
        <p:blipFill>
          <a:blip r:embed="rId1"/>
          <a:stretch/>
        </p:blipFill>
        <p:spPr>
          <a:xfrm>
            <a:off x="3071880" y="3000240"/>
            <a:ext cx="2714400" cy="294660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ипячение </a:t>
            </a:r>
            <a:r>
              <a:rPr b="0" lang="ru-RU" sz="1600" spc="-1" strike="noStrike">
                <a:solidFill>
                  <a:srgbClr val="04617b"/>
                </a:solidFill>
                <a:latin typeface="Calibri"/>
              </a:rPr>
              <a:t>Порядок проведения:</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00" name=""/>
          <p:cNvSpPr txBox="1"/>
          <p:nvPr/>
        </p:nvSpPr>
        <p:spPr>
          <a:xfrm>
            <a:off x="457200" y="1935000"/>
            <a:ext cx="8229600" cy="4780080"/>
          </a:xfrm>
          <a:prstGeom prst="rect">
            <a:avLst/>
          </a:prstGeom>
          <a:noFill/>
          <a:ln w="0">
            <a:noFill/>
          </a:ln>
        </p:spPr>
        <p:txBody>
          <a:bodyPr anchor="t">
            <a:normAutofit fontScale="93000"/>
          </a:bodyPr>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ливаю воду из крана на вид совершено прозрачную. </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Кипячу воду.</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ри нагревание вода меняет цвет на жёлтый (выпадение солей железа). С повышением температуры вода приобретает рыжий оттенок.</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сле кипячения воды продолжительностью не менее 5 минут провожу отстаивание. Процесс отстаивания проходит значительно быстрее. Переливаю воду исключая выпавший осадок.                                                                                          </a:t>
            </a: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53440" indent="-25344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Кипячение лишь частично решает проблему очистки воды. Происходит испарение вод. Концентрация солей увеличивается, они отлагаются на стенках виде накипи. Данный процесс требует дополнительных финансовых затрат (оплата затраченной электроэнергии или газа) требуется отслеживание времени кипения воды. (Часть 3)</a:t>
            </a:r>
            <a:endParaRPr b="0" lang="en-US" sz="1100" spc="-1" strike="noStrike">
              <a:solidFill>
                <a:srgbClr val="000000"/>
              </a:solidFill>
              <a:latin typeface="Constantia"/>
            </a:endParaRPr>
          </a:p>
        </p:txBody>
      </p:sp>
      <p:pic>
        <p:nvPicPr>
          <p:cNvPr id="201" name="Picture 2" descr="C:\Documents and Settings\Никита\Рабочий стол\43213313-6slkq.jpg"/>
          <p:cNvPicPr/>
          <p:nvPr/>
        </p:nvPicPr>
        <p:blipFill>
          <a:blip r:embed="rId1"/>
          <a:stretch/>
        </p:blipFill>
        <p:spPr>
          <a:xfrm>
            <a:off x="2071800" y="3143160"/>
            <a:ext cx="4786200" cy="29559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ильтрование </a:t>
            </a:r>
            <a:r>
              <a:rPr b="0" lang="ru-RU" sz="1600" spc="-1" strike="noStrike">
                <a:solidFill>
                  <a:srgbClr val="04617b"/>
                </a:solidFill>
                <a:latin typeface="Calibri"/>
              </a:rPr>
              <a:t>Порядок проведения: </a:t>
            </a:r>
            <a:endParaRPr b="0" lang="en-US" sz="1600" spc="-1" strike="noStrike">
              <a:solidFill>
                <a:srgbClr val="04617b"/>
              </a:solidFill>
              <a:latin typeface="Calibri"/>
            </a:endParaRPr>
          </a:p>
        </p:txBody>
      </p:sp>
      <p:sp>
        <p:nvSpPr>
          <p:cNvPr id="203" name=""/>
          <p:cNvSpPr txBox="1"/>
          <p:nvPr/>
        </p:nvSpPr>
        <p:spPr>
          <a:xfrm>
            <a:off x="457200" y="1934640"/>
            <a:ext cx="8229600" cy="492300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Беру воронко образный сетчатый фильтр</a:t>
            </a:r>
            <a:r>
              <a:rPr b="0" lang="en-US" sz="1100" spc="-1" strike="noStrike">
                <a:solidFill>
                  <a:srgbClr val="000000"/>
                </a:solidFill>
                <a:latin typeface="Constantia"/>
              </a:rPr>
              <a:t> </a:t>
            </a:r>
            <a:r>
              <a:rPr b="0" lang="ru-RU" sz="1100" spc="-1" strike="noStrike">
                <a:solidFill>
                  <a:srgbClr val="000000"/>
                </a:solidFill>
                <a:latin typeface="Constantia"/>
              </a:rPr>
              <a:t>и пропуская через него водопроводную воду.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блюдая осевшие на стенках фильтра мелкие механические частицы.</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Сквозь фильтр проходит чистая вода.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Достоинством этого метода является малая финансовая затратность. Вода достаточно на вид чистая, без примесей механических частиц. Процесс нетрудоёмкий, но требует времени. (Часть 4)  </a:t>
            </a:r>
            <a:endParaRPr b="0" lang="en-US" sz="1100" spc="-1" strike="noStrike">
              <a:solidFill>
                <a:srgbClr val="000000"/>
              </a:solidFill>
              <a:latin typeface="Constantia"/>
            </a:endParaRPr>
          </a:p>
          <a:p>
            <a:pPr marL="264600" indent="-2646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04" name="Picture 2" descr="C:\Documents and Settings\Никита\Рабочий стол\7441706_1258917112.jpg"/>
          <p:cNvPicPr/>
          <p:nvPr/>
        </p:nvPicPr>
        <p:blipFill>
          <a:blip r:embed="rId1"/>
          <a:stretch/>
        </p:blipFill>
        <p:spPr>
          <a:xfrm>
            <a:off x="2000160" y="2643120"/>
            <a:ext cx="4000680" cy="3638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дсорбция </a:t>
            </a:r>
            <a:r>
              <a:rPr b="0" lang="ru-RU" sz="1600" spc="-1" strike="noStrike">
                <a:solidFill>
                  <a:srgbClr val="04617b"/>
                </a:solidFill>
                <a:latin typeface="Calibri"/>
              </a:rPr>
              <a:t>Порядок проведения:</a:t>
            </a:r>
            <a:endParaRPr b="0" lang="en-US" sz="1600" spc="-1" strike="noStrike">
              <a:solidFill>
                <a:srgbClr val="04617b"/>
              </a:solidFill>
              <a:latin typeface="Calibri"/>
            </a:endParaRPr>
          </a:p>
        </p:txBody>
      </p:sp>
      <p:sp>
        <p:nvSpPr>
          <p:cNvPr id="206" name=""/>
          <p:cNvSpPr txBox="1"/>
          <p:nvPr/>
        </p:nvSpPr>
        <p:spPr>
          <a:xfrm>
            <a:off x="457200" y="1934640"/>
            <a:ext cx="8229600" cy="492300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Из имеющихся в обиходе предметов выбрал ёмкость</a:t>
            </a:r>
            <a:r>
              <a:rPr b="0" lang="en-US" sz="1100" spc="-1" strike="noStrike">
                <a:solidFill>
                  <a:srgbClr val="000000"/>
                </a:solidFill>
                <a:latin typeface="Constantia"/>
              </a:rPr>
              <a:t> </a:t>
            </a:r>
            <a:r>
              <a:rPr b="0" lang="ru-RU" sz="1100" spc="-1" strike="noStrike">
                <a:solidFill>
                  <a:srgbClr val="000000"/>
                </a:solidFill>
                <a:latin typeface="Constantia"/>
              </a:rPr>
              <a:t>для пищевых целей(пластиковую бутылку и отрезал дно).</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дготовил мелкий гравий песок, древесный уголь, два куска ткани для прослойки. Заполним ими бутылку.</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Налил воду, через 20 минут получил около 0,50 литра воды немного серого цвета. Процесс повторяю.</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ровожу отстаивание. Серое «пылевое» облако через 15 минут оседает на дно. Вода становится прозрачной. Сливаю.</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Способ эффективен при любых загрязнениях воды, в том числе если в воде есть растворённые газы. Уголь адсорбирует эти газы и задерживает мелкие частицы примесей. Данный способ применим даже в полевых условиях ( для очистки болотной воды) (Часть 5)</a:t>
            </a:r>
            <a:endParaRPr b="0" lang="en-US" sz="1100" spc="-1" strike="noStrike">
              <a:solidFill>
                <a:srgbClr val="000000"/>
              </a:solidFill>
              <a:latin typeface="Constantia"/>
            </a:endParaRPr>
          </a:p>
        </p:txBody>
      </p:sp>
      <p:pic>
        <p:nvPicPr>
          <p:cNvPr id="207" name="Picture 2" descr="C:\Documents and Settings\Никита\Рабочий стол\184321_image_large.jpg"/>
          <p:cNvPicPr/>
          <p:nvPr/>
        </p:nvPicPr>
        <p:blipFill>
          <a:blip r:embed="rId1"/>
          <a:stretch/>
        </p:blipFill>
        <p:spPr>
          <a:xfrm>
            <a:off x="2928960" y="2786040"/>
            <a:ext cx="3097080" cy="32860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Дистилляция </a:t>
            </a:r>
            <a:r>
              <a:rPr b="0" lang="ru-RU" sz="1800" spc="-1" strike="noStrike">
                <a:solidFill>
                  <a:srgbClr val="04617b"/>
                </a:solidFill>
                <a:latin typeface="Calibri"/>
              </a:rPr>
              <a:t>Порядок проведения:</a:t>
            </a:r>
            <a:endParaRPr b="0" lang="en-US" sz="1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  </a:t>
            </a:r>
            <a:r>
              <a:rPr b="0" lang="ru-RU" sz="1100" spc="-1" strike="noStrike">
                <a:solidFill>
                  <a:srgbClr val="000000"/>
                </a:solidFill>
                <a:latin typeface="Constantia"/>
              </a:rPr>
              <a:t>Находим    все    необходимые    предметы    для    проведения  эксперимента</a:t>
            </a:r>
            <a:r>
              <a:rPr b="0" lang="en-US" sz="1100" spc="-1" strike="noStrike">
                <a:solidFill>
                  <a:srgbClr val="000000"/>
                </a:solidFill>
                <a:latin typeface="Constantia"/>
              </a:rPr>
              <a:t> </a:t>
            </a:r>
            <a:r>
              <a:rPr b="0" lang="ru-RU" sz="1100" spc="-1" strike="noStrike">
                <a:solidFill>
                  <a:srgbClr val="000000"/>
                </a:solidFill>
                <a:latin typeface="Constantia"/>
              </a:rPr>
              <a:t>(стеклянную банку, емкость для сбора конденсата,  чайник, подставка для</a:t>
            </a:r>
            <a:r>
              <a:rPr b="0" lang="en-US" sz="1100" spc="-1" strike="noStrike">
                <a:solidFill>
                  <a:srgbClr val="000000"/>
                </a:solidFill>
                <a:latin typeface="Constantia"/>
              </a:rPr>
              <a:t> </a:t>
            </a:r>
            <a:r>
              <a:rPr b="0" lang="ru-RU" sz="1100" spc="-1" strike="noStrike">
                <a:solidFill>
                  <a:srgbClr val="000000"/>
                </a:solidFill>
                <a:latin typeface="Constantia"/>
              </a:rPr>
              <a:t>посуды). Готовлю прибор для дистилляции</a:t>
            </a:r>
            <a:r>
              <a:rPr b="0" lang="en-US" sz="1100" spc="-1" strike="noStrike">
                <a:solidFill>
                  <a:srgbClr val="000000"/>
                </a:solidFill>
                <a:latin typeface="Constantia"/>
              </a:rPr>
              <a:t>.</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Заполняю чайник водопроводной водой, под крышку помещаю фольгу для предотвращения прохождения пара через крышку.</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Кипячу. Носик чайника направлен в банку. Прозрачными каплями со стенок банки стекает конденсат.</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После 30 минут получаем 150 миллилитров дистиллированной воды. Вывод: Процесс занимает много времени, выход воды мал, большие затраты энергии. Но вода идеально чистая! (Приложение</a:t>
            </a:r>
            <a:r>
              <a:rPr b="0" lang="en-US" sz="1100" spc="-1" strike="noStrike">
                <a:solidFill>
                  <a:srgbClr val="000000"/>
                </a:solidFill>
                <a:latin typeface="Constantia"/>
              </a:rPr>
              <a:t>VI</a:t>
            </a:r>
            <a:r>
              <a:rPr b="0" lang="ru-RU" sz="1100" spc="-1" strike="noStrike">
                <a:solidFill>
                  <a:srgbClr val="000000"/>
                </a:solidFill>
                <a:latin typeface="Constantia"/>
              </a:rPr>
              <a:t>)</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Процесс занимает много времени, выход воды мал, большие затраты энергии. Но вода идеально чистая!(часть 6)</a:t>
            </a: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10" name="Picture 2" descr="C:\Documents and Settings\Никита\Рабочий стол\1.9.jpg.jpg"/>
          <p:cNvPicPr/>
          <p:nvPr/>
        </p:nvPicPr>
        <p:blipFill>
          <a:blip r:embed="rId1"/>
          <a:stretch/>
        </p:blipFill>
        <p:spPr>
          <a:xfrm>
            <a:off x="3429000" y="3286080"/>
            <a:ext cx="2428920" cy="252576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Вымораживание</a:t>
            </a:r>
            <a:r>
              <a:rPr b="0" lang="ru-RU" sz="5400" spc="-1" strike="noStrike">
                <a:solidFill>
                  <a:srgbClr val="04617b"/>
                </a:solidFill>
                <a:latin typeface="Calibri"/>
              </a:rPr>
              <a:t> </a:t>
            </a:r>
            <a:r>
              <a:rPr b="0" lang="ru-RU" sz="1800" spc="-1" strike="noStrike">
                <a:solidFill>
                  <a:srgbClr val="04617b"/>
                </a:solidFill>
                <a:latin typeface="Calibri"/>
              </a:rPr>
              <a:t>Порядок проведения:</a:t>
            </a:r>
            <a:endParaRPr b="0" lang="en-US" sz="18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 посуду, устойчивую к низким температурам наливаю водопроводную воду и ставлю в морозильную камеру.</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Через 1,5 часа достаю из посуды часть замерзшего льда и удаляю его.</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Оставшуюся  часть  воды снова помещаю  в  морозильную  камеру.  И достаю  через  2-3   часа.   Перевернув  лед  наблюдаю   пространство, в заполненное незамёрзшей водой, её без сожаления выливаем (в ней находятся вредные примеси).</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Оставшийся лёд растапливаю, это и есть чистая вода. </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onstantia"/>
              </a:rPr>
              <a:t>Вывод: Дополнительных расходов нет (холодильник всегда работает), вода очищена от вредных примесей, но механические частицы могут присутствовать в небольших количествах.(Часть7)</a:t>
            </a: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64600" indent="-26460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13" name="Picture 2" descr="C:\Documents and Settings\Никита\Рабочий стол\manadensdikt_clip_image002_0004.jpg"/>
          <p:cNvPicPr/>
          <p:nvPr/>
        </p:nvPicPr>
        <p:blipFill>
          <a:blip r:embed="rId1"/>
          <a:stretch/>
        </p:blipFill>
        <p:spPr>
          <a:xfrm>
            <a:off x="3000240" y="3143160"/>
            <a:ext cx="3619800" cy="27147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ooM</cp:lastModifiedBy>
  <dcterms:modified xsi:type="dcterms:W3CDTF">2013-12-06T01:47:58Z</dcterms:modified>
  <cp:revision>45</cp:revision>
  <dc:subject/>
  <dc:title>Очистка воды в домашних условиях как жизненная необходимость</dc:title>
</cp:coreProperties>
</file>