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2AE7-F98D-43BD-A4DB-99CED73A2D6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BCE6-F465-4857-9CBD-96A3565A276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0FDE8-83B1-475E-842E-38E70EE40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421C-B05B-4458-BE71-BCF2EE34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080AF-F851-495E-B461-51B59B387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CEE3E-DF0C-48F3-B0AF-3BE70E9B2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AFBD9-32CF-4D7B-8656-7E18ECC5F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FEADD-F1E9-4336-BF20-7436C1FFB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2101A-BA2A-40A2-A3C7-778F31309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56F2-68B9-4AF9-95B8-A3583D318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DE731-BD3B-4C52-B041-571D5FA4E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50595-F9BB-419D-9AEB-413DB16DC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A46B1-99A0-448B-9B19-C4943FEF4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C8A2-BA51-44B3-853B-6D481B85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AFC6-05D0-4876-AD3C-1E11B890D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CFF2E-5FBD-407B-AB14-D31B40876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6459E-DB63-4DD5-99EA-7D413726E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58A16-8A57-46DD-A0AE-AD19BF250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A7A75-2E64-46D8-901C-FAE8AC562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B404D-4A01-478C-A5C4-96C3E2E8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C4110-ABC8-4DE0-9F62-505FC0EB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C65E-3EA4-4BF2-994C-EA9401852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64E22-96EE-4854-9AC3-8019DE47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36EF-EBED-4347-AEB2-4C3B4A415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EF59-D782-413B-8969-38AABDD8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7ABD-4226-448B-AAC5-8BC56B882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6480" y="5760"/>
            <a:ext cx="9129600" cy="6843960"/>
            <a:chOff x="6480" y="5760"/>
            <a:chExt cx="9129600" cy="6843960"/>
          </a:xfrm>
        </p:grpSpPr>
        <p:sp>
          <p:nvSpPr>
            <p:cNvPr id="1" name="Rectangle 3"/>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AutoShape 5"/>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 name="Rectangle 6"/>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Rectangle 7"/>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AutoShape 8"/>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 name="Rectangle 9"/>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AutoShape 10"/>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9801-E8D3-4C88-98AB-C9B4E585B63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Freeform 2"/>
          <p:cNvSpPr/>
          <p:nvPr/>
        </p:nvSpPr>
        <p:spPr>
          <a:xfrm>
            <a:off x="466560" y="971640"/>
            <a:ext cx="7878960" cy="4662360"/>
          </a:xfrm>
          <a:custGeom>
            <a:avLst/>
            <a:gdLst>
              <a:gd name="textAreaLeft" fmla="*/ 0 w 7878960"/>
              <a:gd name="textAreaRight" fmla="*/ 7879320 w 7878960"/>
              <a:gd name="textAreaTop" fmla="*/ 0 h 4662360"/>
              <a:gd name="textAreaBottom" fmla="*/ 4662720 h 4662360"/>
            </a:gdLst>
            <a:ahLst/>
            <a:rect l="textAreaLeft" t="textAreaTop" r="textAreaRight" b="textAreaBottom"/>
            <a:pathLst>
              <a:path w="4963" h="2937">
                <a:moveTo>
                  <a:pt x="2452" y="267"/>
                </a:moveTo>
                <a:lnTo>
                  <a:pt x="1468" y="233"/>
                </a:lnTo>
                <a:lnTo>
                  <a:pt x="683" y="155"/>
                </a:lnTo>
                <a:lnTo>
                  <a:pt x="178" y="47"/>
                </a:lnTo>
                <a:lnTo>
                  <a:pt x="7" y="2602"/>
                </a:lnTo>
                <a:lnTo>
                  <a:pt x="0" y="2804"/>
                </a:lnTo>
                <a:lnTo>
                  <a:pt x="244" y="2863"/>
                </a:lnTo>
                <a:lnTo>
                  <a:pt x="2358" y="2936"/>
                </a:lnTo>
                <a:lnTo>
                  <a:pt x="4962" y="304"/>
                </a:lnTo>
                <a:lnTo>
                  <a:pt x="4923" y="0"/>
                </a:lnTo>
                <a:lnTo>
                  <a:pt x="4328" y="131"/>
                </a:lnTo>
                <a:lnTo>
                  <a:pt x="3388" y="249"/>
                </a:lnTo>
                <a:lnTo>
                  <a:pt x="2402" y="265"/>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 name="Freeform 3"/>
          <p:cNvSpPr/>
          <p:nvPr/>
        </p:nvSpPr>
        <p:spPr>
          <a:xfrm>
            <a:off x="663480" y="1190520"/>
            <a:ext cx="7820280" cy="4480200"/>
          </a:xfrm>
          <a:custGeom>
            <a:avLst/>
            <a:gdLst>
              <a:gd name="textAreaLeft" fmla="*/ 0 w 7820280"/>
              <a:gd name="textAreaRight" fmla="*/ 7820640 w 7820280"/>
              <a:gd name="textAreaTop" fmla="*/ 0 h 4480200"/>
              <a:gd name="textAreaBottom" fmla="*/ 4480560 h 4480200"/>
            </a:gdLst>
            <a:ahLst/>
            <a:rect l="textAreaLeft" t="textAreaTop" r="textAreaRight" b="textAreaBottom"/>
            <a:pathLst>
              <a:path w="4926" h="2822">
                <a:moveTo>
                  <a:pt x="4925" y="188"/>
                </a:moveTo>
                <a:lnTo>
                  <a:pt x="4056" y="208"/>
                </a:lnTo>
                <a:lnTo>
                  <a:pt x="3401" y="214"/>
                </a:lnTo>
                <a:lnTo>
                  <a:pt x="2557" y="203"/>
                </a:lnTo>
                <a:lnTo>
                  <a:pt x="1820" y="171"/>
                </a:lnTo>
                <a:lnTo>
                  <a:pt x="1379" y="142"/>
                </a:lnTo>
                <a:lnTo>
                  <a:pt x="791" y="102"/>
                </a:lnTo>
                <a:lnTo>
                  <a:pt x="27" y="0"/>
                </a:lnTo>
                <a:lnTo>
                  <a:pt x="0" y="2633"/>
                </a:lnTo>
                <a:lnTo>
                  <a:pt x="365" y="2686"/>
                </a:lnTo>
                <a:lnTo>
                  <a:pt x="1280" y="2760"/>
                </a:lnTo>
                <a:lnTo>
                  <a:pt x="3635" y="2821"/>
                </a:lnTo>
                <a:lnTo>
                  <a:pt x="4504" y="2801"/>
                </a:lnTo>
                <a:lnTo>
                  <a:pt x="4849" y="1885"/>
                </a:lnTo>
                <a:lnTo>
                  <a:pt x="4850" y="1884"/>
                </a:lnTo>
                <a:lnTo>
                  <a:pt x="4925" y="188"/>
                </a:lnTo>
              </a:path>
            </a:pathLst>
          </a:custGeom>
          <a:gradFill rotWithShape="0">
            <a:gsLst>
              <a:gs pos="0">
                <a:srgbClr val="dddddd"/>
              </a:gs>
              <a:gs pos="50000">
                <a:srgbClr val="ffffff"/>
              </a:gs>
              <a:gs pos="100000">
                <a:srgbClr val="ddddd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2" name="Group 4"/>
          <p:cNvGrpSpPr/>
          <p:nvPr/>
        </p:nvGrpSpPr>
        <p:grpSpPr>
          <a:xfrm>
            <a:off x="6480" y="5760"/>
            <a:ext cx="9129600" cy="6843960"/>
            <a:chOff x="6480" y="5760"/>
            <a:chExt cx="9129600" cy="6843960"/>
          </a:xfrm>
        </p:grpSpPr>
        <p:sp>
          <p:nvSpPr>
            <p:cNvPr id="53" name="Rectangle 5"/>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Rectangle 6"/>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AutoShape 7"/>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6" name="Rectangle 8"/>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Rectangle 9"/>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AutoShape 10"/>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9" name="Rectangle 11"/>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AutoShape 12"/>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 name="Freeform 13"/>
          <p:cNvSpPr/>
          <p:nvPr/>
        </p:nvSpPr>
        <p:spPr>
          <a:xfrm>
            <a:off x="7780320" y="4352760"/>
            <a:ext cx="534960" cy="1425600"/>
          </a:xfrm>
          <a:custGeom>
            <a:avLst/>
            <a:gdLst>
              <a:gd name="textAreaLeft" fmla="*/ 0 w 534960"/>
              <a:gd name="textAreaRight" fmla="*/ 535320 w 534960"/>
              <a:gd name="textAreaTop" fmla="*/ 0 h 1425600"/>
              <a:gd name="textAreaBottom" fmla="*/ 1425960 h 1425600"/>
            </a:gdLst>
            <a:ahLst/>
            <a:rect l="textAreaLeft" t="textAreaTop" r="textAreaRight" b="textAreaBottom"/>
            <a:pathLst>
              <a:path w="337" h="898">
                <a:moveTo>
                  <a:pt x="336" y="0"/>
                </a:moveTo>
                <a:lnTo>
                  <a:pt x="11" y="897"/>
                </a:lnTo>
                <a:lnTo>
                  <a:pt x="29" y="809"/>
                </a:lnTo>
                <a:lnTo>
                  <a:pt x="33" y="761"/>
                </a:lnTo>
                <a:lnTo>
                  <a:pt x="38" y="680"/>
                </a:lnTo>
                <a:lnTo>
                  <a:pt x="32" y="556"/>
                </a:lnTo>
                <a:lnTo>
                  <a:pt x="15" y="462"/>
                </a:lnTo>
                <a:lnTo>
                  <a:pt x="0" y="367"/>
                </a:lnTo>
                <a:lnTo>
                  <a:pt x="250" y="144"/>
                </a:lnTo>
                <a:lnTo>
                  <a:pt x="336" y="0"/>
                </a:lnTo>
              </a:path>
            </a:pathLst>
          </a:custGeom>
          <a:gradFill rotWithShape="0">
            <a:gsLst>
              <a:gs pos="0">
                <a:srgbClr val="dddddd"/>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26B1-64CF-452A-A9D1-6E7E796B989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Обучение сжатому изложению</a:t>
            </a:r>
            <a:endParaRPr b="1" lang="en-US" sz="4000" spc="-1" strike="noStrike">
              <a:solidFill>
                <a:srgbClr val="ffffff"/>
              </a:solidFill>
              <a:latin typeface="Arial"/>
            </a:endParaRPr>
          </a:p>
        </p:txBody>
      </p:sp>
      <p:sp>
        <p:nvSpPr>
          <p:cNvPr id="111" name="PlaceHolder 2"/>
          <p:cNvSpPr>
            <a:spLocks noGrp="1"/>
          </p:cNvSpPr>
          <p:nvPr>
            <p:ph type="subTitle"/>
          </p:nvPr>
        </p:nvSpPr>
        <p:spPr>
          <a:xfrm>
            <a:off x="684360" y="3581280"/>
            <a:ext cx="7704000" cy="2872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Подготовка к итоговой аттестации</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рок в 8 классе)</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читель Акопова Н.Г., ГОУ СОШ № 13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5" name=""/>
          <p:cNvGraphicFramePr/>
          <p:nvPr/>
        </p:nvGraphicFramePr>
        <p:xfrm>
          <a:off x="457200" y="1600200"/>
          <a:ext cx="8229600" cy="3614760"/>
        </p:xfrm>
        <a:graphic>
          <a:graphicData uri="http://schemas.openxmlformats.org/drawingml/2006/table">
            <a:tbl>
              <a:tblPr/>
              <a:tblGrid>
                <a:gridCol w="2743200"/>
                <a:gridCol w="2743200"/>
                <a:gridCol w="2743200"/>
              </a:tblGrid>
              <a:tr h="9000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Тип реч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Хран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Крат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r h="271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вествование</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следовательность событий и динамику действий, выражающуюся глаголами, односоставными предложениями, неполным предложениям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путно сообщающаемые факты, примеры, иллюстраци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Развернутые описания</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Авторские оценк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Элементы рассуждения</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r>
            </a:tbl>
          </a:graphicData>
        </a:graphic>
      </p:graphicFrame>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7" name=""/>
          <p:cNvGraphicFramePr/>
          <p:nvPr/>
        </p:nvGraphicFramePr>
        <p:xfrm>
          <a:off x="457200" y="1600200"/>
          <a:ext cx="8229600" cy="1706400"/>
        </p:xfrm>
        <a:graphic>
          <a:graphicData uri="http://schemas.openxmlformats.org/drawingml/2006/table">
            <a:tbl>
              <a:tblPr/>
              <a:tblGrid>
                <a:gridCol w="2743200"/>
                <a:gridCol w="2743200"/>
                <a:gridCol w="2743200"/>
              </a:tblGrid>
              <a:tr h="1706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ние</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тельную часть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обенности авторских образов</a:t>
                      </a: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иемы и средства выразительност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ополнительно попутно сообщаемую информацию</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Элементы повествования и рассуждения</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ямые авторские оценки, не связанные с описанием</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9" name=""/>
          <p:cNvGraphicFramePr/>
          <p:nvPr/>
        </p:nvGraphicFramePr>
        <p:xfrm>
          <a:off x="457200" y="1600200"/>
          <a:ext cx="8229600" cy="2438280"/>
        </p:xfrm>
        <a:graphic>
          <a:graphicData uri="http://schemas.openxmlformats.org/drawingml/2006/table">
            <a:tbl>
              <a:tblPr/>
              <a:tblGrid>
                <a:gridCol w="2743200"/>
                <a:gridCol w="2743200"/>
                <a:gridCol w="2743200"/>
              </a:tblGrid>
              <a:tr h="24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ссуждение</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Тезис</a:t>
                      </a:r>
                      <a:endParaRPr b="0" lang="en-US" sz="2000" spc="-1" strike="noStrike">
                        <a:solidFill>
                          <a:srgbClr val="ffffff"/>
                        </a:solidFill>
                        <a:latin typeface="Times New Roman"/>
                      </a:endParaRPr>
                    </a:p>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сновные аргументы</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звернутые иллюстрации, примеры</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ополнительные сведения</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писание</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Элементы повествования</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4000" y="620280"/>
            <a:ext cx="8229600" cy="54342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0" lang="ru-RU" sz="2400" spc="-1" strike="noStrike">
                <a:solidFill>
                  <a:srgbClr val="996600"/>
                </a:solidFill>
                <a:latin typeface="Arial"/>
              </a:rPr>
              <a:t>Лувр отапливался калориферами. Из врезанных в пол красивых медных решеток дует горячий ветер. Он чуть попахивает пылью. Если прийти в Лувр пораньше, тотчас после открытия, то вы увидите, как то тут, то там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апример, закутанный в рваный серый плед старик-нищий, похожий на Дон Кихота, застывший перед картинами Делакруа, не может не броситься в глаза. Они только стараются поскорее пройти мимо безмолвных и неподвижных ни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404640"/>
            <a:ext cx="82296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Такие тальмы носила ещё моя бабушка, несмотря на вежливые насмешки всех её дочерей – моих тётушек. Даже в те далёкие времена тальмы уже вышли из моды.</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ская старушк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ни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24000" y="260280"/>
            <a:ext cx="82296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калориферной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ла невдалеке за мольбертом и писала копию с картины Боттичелли. Художница решительно подошла к стене, где стояли стулья с бархатными сиденьями, перенесла один тяжелый стул к калориферу и строго сказала старушке:</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адитесь!</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 - пробормотала старушка, неуверенно села и вдруг низко нагнулась – так низко,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вернулась к своему мольберту. Служитель пристально следил за этой сценой, но не двинулся с мес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95280" y="475920"/>
            <a:ext cx="8229600" cy="597708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ла впереди меня. Она наклонилась к мальчику и сто-то ему сказала. Мальчик подбежал к художнице, поклонился ей в спину, шаркнул ногой и звонко сказал:</a:t>
            </a:r>
            <a:endParaRPr b="0" lang="en-US" sz="2400" spc="-1" strike="noStrike">
              <a:solidFill>
                <a:srgbClr val="ffffff"/>
              </a:solidFill>
              <a:latin typeface="Arial"/>
            </a:endParaRPr>
          </a:p>
          <a:p>
            <a:pPr marL="343080" indent="466560" algn="just">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и прижался к её руке. Глаза у него сияли так, будто он совершил геройский поступок. Очевидно, это было действительно так. Он совершил маленький великодушный поступок и, должно быть,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620640"/>
            <a:ext cx="8229600" cy="58327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Текст после компресси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 отапливался калориферами. Из врезанных в пол решеток дует горячий ветер. Если прийти в Лувр пораньше, то вы увидите, как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ельзя, не заметить этих безмолвных и неподвижных нищих.</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404640"/>
            <a:ext cx="88200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н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которы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вшая невдалеке за мольбертом, подошла к стене, где стояли стулья с бархатными сиденьями, перенесла один тяжелый стул к калориферу и строго велела старушке сесть</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260280"/>
            <a:ext cx="84960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поблагодарила, села и вдруг низко нагнулась – так,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лужитель пристально следил за этой сценой, но не двинулся с мест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едшая впереди меня, наклонилась к нему и что-то сказала. Мальчик подбежал к художнице, поклонился ей в спину и звонко поблагодарил.</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глаза у него сияли так, будто он совершил геройский поступок. Очевидно, он совершил маленький великодушный поступок и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475920"/>
            <a:ext cx="7632720" cy="129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амятка </a:t>
            </a:r>
            <a:br>
              <a:rPr sz="2400"/>
            </a:br>
            <a:r>
              <a:rPr b="1" lang="ru-RU" sz="2400" spc="-1" strike="noStrike">
                <a:solidFill>
                  <a:srgbClr val="663300"/>
                </a:solidFill>
                <a:latin typeface="Arial"/>
              </a:rPr>
              <a:t>«Как писать сжатое изложение»</a:t>
            </a:r>
            <a:br>
              <a:rPr sz="2400"/>
            </a:br>
            <a:r>
              <a:rPr b="0" lang="ru-RU" sz="2400" spc="-1" strike="noStrike">
                <a:solidFill>
                  <a:srgbClr val="663300"/>
                </a:solidFill>
                <a:latin typeface="Arial"/>
              </a:rPr>
              <a:t>После первого чтения текста выполните следующие шаги:</a:t>
            </a:r>
            <a:r>
              <a:rPr b="1" lang="ru-RU" sz="2000" spc="-1" strike="noStrike">
                <a:solidFill>
                  <a:srgbClr val="663300"/>
                </a:solidFill>
                <a:latin typeface="Arial"/>
              </a:rPr>
              <a:t> </a:t>
            </a:r>
            <a:endParaRPr b="1" lang="en-US" sz="2000" spc="-1" strike="noStrike">
              <a:solidFill>
                <a:srgbClr val="ffffff"/>
              </a:solidFill>
              <a:latin typeface="Arial"/>
            </a:endParaRPr>
          </a:p>
        </p:txBody>
      </p:sp>
      <p:sp>
        <p:nvSpPr>
          <p:cNvPr id="113" name="PlaceHolder 2"/>
          <p:cNvSpPr>
            <a:spLocks noGrp="1"/>
          </p:cNvSpPr>
          <p:nvPr>
            <p:ph/>
          </p:nvPr>
        </p:nvSpPr>
        <p:spPr>
          <a:xfrm>
            <a:off x="468360" y="206064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Определите тему текста (о чем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Сформулируйте основную мысль (чему учит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Определите стиль текста и тип речи, особенности построения текста (в повествовании – начало события, ход его, самый острый момент сюжета, конец; в описании – предмет речи и его значимые, существенные признаки; в рассуждении – общее положение, аргументы, доказательства, вывод).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Составьте подробный план текста, выделяя микротемы каждой части и озаглавливая их.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640" y="620640"/>
            <a:ext cx="4286160" cy="2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Задание к тексту</a:t>
            </a:r>
            <a:endParaRPr b="1" lang="en-US" sz="2400" spc="-1" strike="noStrike">
              <a:solidFill>
                <a:srgbClr val="ffffff"/>
              </a:solidFill>
              <a:latin typeface="Arial"/>
            </a:endParaRPr>
          </a:p>
        </p:txBody>
      </p:sp>
      <p:sp>
        <p:nvSpPr>
          <p:cNvPr id="148" name="PlaceHolder 2"/>
          <p:cNvSpPr>
            <a:spLocks noGrp="1"/>
          </p:cNvSpPr>
          <p:nvPr>
            <p:ph/>
          </p:nvPr>
        </p:nvSpPr>
        <p:spPr>
          <a:xfrm>
            <a:off x="457200" y="1412640"/>
            <a:ext cx="8229600" cy="5111640"/>
          </a:xfrm>
          <a:prstGeom prst="rect">
            <a:avLst/>
          </a:prstGeom>
          <a:noFill/>
          <a:ln w="0">
            <a:noFill/>
          </a:ln>
        </p:spPr>
        <p:txBody>
          <a:bodyPr lIns="92160" rIns="92160" tIns="46080" bIns="46080" anchor="t">
            <a:normAutofit/>
          </a:bodyPr>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Разделите текст на части. Озаглавьте их и установите, какой тип речи является определяющим в каждой  из этих часте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Выпишите ключевые слова, укажите, какая информация является главной, а какая – второстепенно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Кратко изложите содержание каждого абзаца, используя приемы сжатия текст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549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6600"/>
                </a:solidFill>
                <a:latin typeface="Arial"/>
              </a:rPr>
              <a:t>Интерпретация текста</a:t>
            </a:r>
            <a:endParaRPr b="1" lang="en-US" sz="3600" spc="-1" strike="noStrike">
              <a:solidFill>
                <a:srgbClr val="ffffff"/>
              </a:solidFill>
              <a:latin typeface="Arial"/>
            </a:endParaRPr>
          </a:p>
        </p:txBody>
      </p:sp>
      <p:sp>
        <p:nvSpPr>
          <p:cNvPr id="150" name="PlaceHolder 2"/>
          <p:cNvSpPr>
            <a:spLocks noGrp="1"/>
          </p:cNvSpPr>
          <p:nvPr>
            <p:ph/>
          </p:nvPr>
        </p:nvSpPr>
        <p:spPr>
          <a:xfrm>
            <a:off x="457200" y="1196640"/>
            <a:ext cx="8229600" cy="5256360"/>
          </a:xfrm>
          <a:prstGeom prst="rect">
            <a:avLst/>
          </a:prstGeom>
          <a:noFill/>
          <a:ln w="0">
            <a:noFill/>
          </a:ln>
        </p:spPr>
        <p:txBody>
          <a:bodyPr lIns="92160" rIns="92160" tIns="46080" bIns="46080" anchor="t">
            <a:normAutofit/>
          </a:bodyPr>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1. О чем говорится в тексте? (тема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3. В каких предложениях выражена главная мысль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4. В чем, по мнению К. Г. Паустовского, состоит геройство мальчик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5. Какое высказывание правильно отражает позицию автор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6. К какому выводу нас подводит автор?</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7. Укажите стиль и тип речи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8. Какие из средств выразительности помогают автору ярче выразить свою позицию?</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9. Выражение личностной позиции. (Ваше отношение к проблеме, поднятой в текст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Сочинение-миниатюра</a:t>
            </a:r>
            <a:endParaRPr b="1" lang="en-US" sz="4000" spc="-1" strike="noStrike">
              <a:solidFill>
                <a:srgbClr val="ffffff"/>
              </a:solidFill>
              <a:latin typeface="Arial"/>
            </a:endParaRPr>
          </a:p>
        </p:txBody>
      </p:sp>
      <p:sp>
        <p:nvSpPr>
          <p:cNvPr id="152" name="PlaceHolder 2"/>
          <p:cNvSpPr>
            <a:spLocks noGrp="1"/>
          </p:cNvSpPr>
          <p:nvPr>
            <p:ph/>
          </p:nvPr>
        </p:nvSpPr>
        <p:spPr>
          <a:xfrm>
            <a:off x="457200" y="1428840"/>
            <a:ext cx="8229600" cy="5000400"/>
          </a:xfrm>
          <a:prstGeom prst="rect">
            <a:avLst/>
          </a:prstGeom>
          <a:noFill/>
          <a:ln w="0">
            <a:noFill/>
          </a:ln>
        </p:spPr>
        <p:txBody>
          <a:bodyPr lIns="92160" rIns="92160" tIns="46080" bIns="4608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Он совершил маленький великодушный поступок и, должно быть, пережил то состояние, когда мы со вздохом говорим, что «гора свалилась с плеч…»</a:t>
            </a:r>
            <a:endParaRPr b="0" lang="en-US" sz="28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Великодушие и милосердие – что это такое?</a:t>
            </a: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 </a:t>
            </a:r>
            <a:r>
              <a:rPr b="1" lang="ru-RU" sz="2600" spc="-1" strike="noStrike">
                <a:solidFill>
                  <a:srgbClr val="996600"/>
                </a:solidFill>
                <a:latin typeface="Arial"/>
              </a:rPr>
              <a:t>Жалость унижает человека?</a:t>
            </a:r>
            <a:endParaRPr b="0" lang="en-US" sz="26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6600"/>
                </a:solidFill>
                <a:latin typeface="Arial"/>
              </a:rPr>
              <a:t>Напишите небольшое сочинение на одну из данных тем.  Аргументируйте свою точку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00"/>
                </a:solidFill>
                <a:latin typeface="Arial"/>
              </a:rPr>
              <a:t>Прослушайте или прочитайте  текст во второй раз.</a:t>
            </a:r>
            <a:r>
              <a:rPr b="1" lang="ru-RU" sz="2400" spc="-1" strike="noStrike">
                <a:solidFill>
                  <a:srgbClr val="996600"/>
                </a:solidFill>
                <a:latin typeface="Arial"/>
              </a:rPr>
              <a:t> </a:t>
            </a:r>
            <a:br>
              <a:rPr sz="2400"/>
            </a:br>
            <a:endParaRPr b="1" lang="en-US" sz="2400" spc="-1" strike="noStrike">
              <a:solidFill>
                <a:srgbClr val="ffffff"/>
              </a:solidFill>
              <a:latin typeface="Arial"/>
            </a:endParaRPr>
          </a:p>
        </p:txBody>
      </p:sp>
      <p:sp>
        <p:nvSpPr>
          <p:cNvPr id="115" name="PlaceHolder 2"/>
          <p:cNvSpPr>
            <a:spLocks noGrp="1"/>
          </p:cNvSpPr>
          <p:nvPr>
            <p:ph/>
          </p:nvPr>
        </p:nvSpPr>
        <p:spPr>
          <a:xfrm>
            <a:off x="685800" y="1557000"/>
            <a:ext cx="7772400" cy="4538520"/>
          </a:xfrm>
          <a:prstGeom prst="rect">
            <a:avLst/>
          </a:prstGeom>
          <a:noFill/>
          <a:ln w="0">
            <a:noFill/>
          </a:ln>
        </p:spPr>
        <p:txBody>
          <a:bodyPr lIns="92160" rIns="92160" tIns="46080" bIns="46080"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Работая с подробным планом текста, отметьте в нем существенное и подробности в каждой части.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Определите способ сокращения текста (исключение, обобщение).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Составьте сжатый план текста, учитывая смысловые связи между эпизодами (временные, пространственные и т.п.).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Напишите сжатое изложение каждой части, свяжите их между собой, чтобы получился текст.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Помните о главном условии: вы должны передать содержание как каждой микротемы, так и всего текста в целом.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Способы компрессии текста</a:t>
            </a:r>
            <a:endParaRPr b="1" lang="en-US" sz="2800" spc="-1" strike="noStrike">
              <a:solidFill>
                <a:srgbClr val="ffffff"/>
              </a:solidFill>
              <a:latin typeface="Arial"/>
            </a:endParaRPr>
          </a:p>
        </p:txBody>
      </p:sp>
      <p:sp>
        <p:nvSpPr>
          <p:cNvPr id="117" name="Rectangle 5"/>
          <p:cNvSpPr/>
          <p:nvPr/>
        </p:nvSpPr>
        <p:spPr>
          <a:xfrm>
            <a:off x="468360" y="141300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исключение подробностей, детале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общение конкретных, единичных явлени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четание исключения и обобщения.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исключении</a:t>
            </a:r>
            <a:r>
              <a:rPr b="0" lang="ru-RU" sz="2400" spc="-1" strike="noStrike">
                <a:solidFill>
                  <a:srgbClr val="ffffff"/>
                </a:solidFill>
                <a:latin typeface="Arial"/>
              </a:rPr>
              <a:t> </a:t>
            </a:r>
            <a:r>
              <a:rPr b="0" lang="ru-RU" sz="2400" spc="-1" strike="noStrike">
                <a:solidFill>
                  <a:srgbClr val="996600"/>
                </a:solidFill>
                <a:latin typeface="Arial"/>
              </a:rPr>
              <a:t>необходимо сначала выделить главное с точки зрения основной мысли текста и детали (подробности), затем убрать детали, объединить существенное и составить новый текст.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обобщении</a:t>
            </a:r>
            <a:r>
              <a:rPr b="0" lang="ru-RU" sz="2400" spc="-1" strike="noStrike">
                <a:solidFill>
                  <a:srgbClr val="ff6600"/>
                </a:solidFill>
                <a:latin typeface="Arial"/>
              </a:rPr>
              <a:t> </a:t>
            </a:r>
            <a:r>
              <a:rPr b="0" lang="ru-RU" sz="2400" spc="-1" strike="noStrike">
                <a:solidFill>
                  <a:srgbClr val="996600"/>
                </a:solidFill>
                <a:latin typeface="Arial"/>
              </a:rPr>
              <a:t>материала вычленяем единичные факты, затем подбираем языковые средства их обобщенной передачи и составляем новый текст. Какой способ сжатия использовать в каждом конкретном случае, будет зависеть от коммуникативной задачи, особенностей текста</a:t>
            </a:r>
            <a:r>
              <a:rPr b="0" lang="ru-RU" sz="1800" spc="-1" strike="noStrike">
                <a:solidFill>
                  <a:srgbClr val="9966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К приемам сжатия текста относятся</a:t>
            </a:r>
            <a:r>
              <a:rPr b="1" lang="ru-RU" sz="2800" spc="-1" strike="noStrike">
                <a:solidFill>
                  <a:srgbClr val="996600"/>
                </a:solidFill>
                <a:latin typeface="Arial"/>
              </a:rPr>
              <a:t>: </a:t>
            </a:r>
            <a:br>
              <a:rPr sz="2800"/>
            </a:br>
            <a:endParaRPr b="1" lang="en-US" sz="2800" spc="-1" strike="noStrike">
              <a:solidFill>
                <a:srgbClr val="ffffff"/>
              </a:solidFill>
              <a:latin typeface="Arial"/>
            </a:endParaRPr>
          </a:p>
        </p:txBody>
      </p:sp>
      <p:sp>
        <p:nvSpPr>
          <p:cNvPr id="119" name="PlaceHolder 2"/>
          <p:cNvSpPr>
            <a:spLocks noGrp="1"/>
          </p:cNvSpPr>
          <p:nvPr>
            <p:ph/>
          </p:nvPr>
        </p:nvSpPr>
        <p:spPr>
          <a:xfrm>
            <a:off x="45720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сокращение отдельных членов предложения, некоторых однородных членов предложения;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разование сложного предложения путем слияния двух смежных предложений, повествующих об одном и том же предмете речи;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кращение сложного предложения за счет менее существенной части; </a:t>
            </a:r>
            <a:endParaRPr b="0" lang="en-US" sz="2400" spc="-1" strike="noStrike">
              <a:solidFill>
                <a:srgbClr val="ffffff"/>
              </a:solidFill>
              <a:latin typeface="Arial"/>
            </a:endParaRPr>
          </a:p>
        </p:txBody>
      </p:sp>
      <p:sp>
        <p:nvSpPr>
          <p:cNvPr id="120" name="PlaceHolder 3"/>
          <p:cNvSpPr>
            <a:spLocks noGrp="1"/>
          </p:cNvSpPr>
          <p:nvPr>
            <p:ph/>
          </p:nvPr>
        </p:nvSpPr>
        <p:spPr>
          <a:xfrm>
            <a:off x="464832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 разбивка сложного предложения на сокращенные простые;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5) перевод прямой речи в косвенную;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6) пропуск предложений, содержащих второстепенные факты;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7) пропуск предложений с описаниями и рассуждениями.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33"/>
                </a:solidFill>
                <a:latin typeface="Arial"/>
              </a:rPr>
              <a:t>Содержательные</a:t>
            </a:r>
            <a:br>
              <a:rPr sz="4000"/>
            </a:br>
            <a:endParaRPr b="1" lang="en-US" sz="4000" spc="-1" strike="noStrike">
              <a:solidFill>
                <a:srgbClr val="ffffff"/>
              </a:solidFill>
              <a:latin typeface="Arial"/>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Разделение информации на главную и второстепенную</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Свертывание исходной информации за счет обобщения</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Языковые</a:t>
            </a:r>
            <a:br>
              <a:rPr sz="4000"/>
            </a:br>
            <a:endParaRPr b="1" lang="en-US" sz="4000" spc="-1" strike="noStrike">
              <a:solidFill>
                <a:srgbClr val="ffffff"/>
              </a:solidFill>
              <a:latin typeface="Arial"/>
            </a:endParaRPr>
          </a:p>
        </p:txBody>
      </p:sp>
      <p:sp>
        <p:nvSpPr>
          <p:cNvPr id="124" name="PlaceHolder 2"/>
          <p:cNvSpPr>
            <a:spLocks noGrp="1"/>
          </p:cNvSpPr>
          <p:nvPr>
            <p:ph/>
          </p:nvPr>
        </p:nvSpPr>
        <p:spPr>
          <a:xfrm>
            <a:off x="456840" y="1534680"/>
            <a:ext cx="404028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sp>
        <p:nvSpPr>
          <p:cNvPr id="125" name=""/>
          <p:cNvSpPr txBox="1"/>
          <p:nvPr/>
        </p:nvSpPr>
        <p:spPr>
          <a:xfrm>
            <a:off x="456840" y="2174760"/>
            <a:ext cx="4040280" cy="3951360"/>
          </a:xfrm>
          <a:prstGeom prst="rect">
            <a:avLst/>
          </a:prstGeom>
          <a:noFill/>
          <a:ln w="0">
            <a:noFill/>
          </a:ln>
        </p:spPr>
        <p:txBody>
          <a:bodyPr lIns="92160" rIns="92160" tIns="46080" bIns="4608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a6815"/>
                </a:solidFill>
                <a:latin typeface="Arial"/>
              </a:rPr>
              <a:t>Замены                                             </a:t>
            </a:r>
            <a:endParaRPr b="0" lang="en-US" sz="2400" spc="-1" strike="noStrike">
              <a:solidFill>
                <a:srgbClr val="ffffff"/>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44720" y="1534680"/>
            <a:ext cx="404172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pic>
        <p:nvPicPr>
          <p:cNvPr id="127" name="Содержимое 5" descr=""/>
          <p:cNvPicPr/>
          <p:nvPr/>
        </p:nvPicPr>
        <p:blipFill>
          <a:blip r:embed="rId1"/>
          <a:stretch/>
        </p:blipFill>
        <p:spPr>
          <a:xfrm>
            <a:off x="4621320" y="2152800"/>
            <a:ext cx="4114800" cy="397980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Исключения           </a:t>
            </a:r>
            <a:r>
              <a:rPr b="1" lang="ru-RU" sz="4000" spc="-1" strike="noStrike">
                <a:solidFill>
                  <a:srgbClr val="ffffff"/>
                </a:solidFill>
                <a:latin typeface="Arial"/>
              </a:rPr>
              <a:t>                               </a:t>
            </a:r>
            <a:br>
              <a:rPr sz="4000"/>
            </a:br>
            <a:endParaRPr b="1" lang="en-US" sz="4000" spc="-1" strike="noStrike">
              <a:solidFill>
                <a:srgbClr val="ffffff"/>
              </a:solidFill>
              <a:latin typeface="Arial"/>
            </a:endParaRPr>
          </a:p>
        </p:txBody>
      </p:sp>
      <p:sp>
        <p:nvSpPr>
          <p:cNvPr id="129"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Исключения                                          </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Содержимое 3" descr=""/>
          <p:cNvPicPr/>
          <p:nvPr/>
        </p:nvPicPr>
        <p:blipFill>
          <a:blip r:embed="rId1"/>
          <a:stretch/>
        </p:blipFill>
        <p:spPr>
          <a:xfrm>
            <a:off x="4608360" y="1951200"/>
            <a:ext cx="3859200" cy="4151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лияние</a:t>
            </a:r>
            <a:br>
              <a:rPr sz="4000"/>
            </a:br>
            <a:endParaRPr b="1" lang="en-US" sz="4000" spc="-1" strike="noStrike">
              <a:solidFill>
                <a:srgbClr val="ffffff"/>
              </a:solidFill>
              <a:latin typeface="Arial"/>
            </a:endParaRPr>
          </a:p>
        </p:txBody>
      </p:sp>
      <p:sp>
        <p:nvSpPr>
          <p:cNvPr id="132"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Слияние</a:t>
            </a:r>
            <a:endParaRPr b="0" lang="en-US" sz="2800" spc="-1" strike="noStrike">
              <a:solidFill>
                <a:srgbClr val="ffffff"/>
              </a:solidFill>
              <a:latin typeface="Arial"/>
            </a:endParaRPr>
          </a:p>
        </p:txBody>
      </p:sp>
      <p:sp>
        <p:nvSpPr>
          <p:cNvPr id="133"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нескольких предложений в одно</a:t>
            </a:r>
            <a:endParaRPr b="0" lang="en-US" sz="2800" spc="-1" strike="noStrike">
              <a:solidFill>
                <a:srgbClr val="ffffff"/>
              </a:solidFill>
              <a:latin typeface="Arial"/>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8:15:07Z</dcterms:created>
  <dc:creator>Нонна</dc:creator>
  <dc:description/>
  <dc:language>en-US</dc:language>
  <cp:lastModifiedBy>Элина</cp:lastModifiedBy>
  <dcterms:modified xsi:type="dcterms:W3CDTF">2011-09-29T22:06:17Z</dcterms:modified>
  <cp:revision>10</cp:revision>
  <dc:subject/>
  <dc:title>Способы и приемы компрессии текста</dc:title>
</cp:coreProperties>
</file>