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jpeg" ContentType="image/jpeg"/>
  <Override PartName="/ppt/media/image10.jpeg" ContentType="image/jpeg"/>
  <Override PartName="/ppt/media/image7.gif" ContentType="image/gif"/>
  <Override PartName="/ppt/media/image6.gif" ContentType="image/gif"/>
  <Override PartName="/ppt/media/image9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6.png" ContentType="image/png"/>
  <Override PartName="/ppt/media/image14.gif" ContentType="image/gif"/>
  <Override PartName="/ppt/media/image17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11.jpeg" ContentType="image/jpe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F71D-DBCC-4E57-ACDB-288FAB2E5A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CC38-C199-4C28-91E7-B767226C7B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CEEF-2133-4DBE-B0B3-11EDC82F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5014-86A6-4C64-9207-2F5069AF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9D24-B044-433C-AD65-FDC27EFB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7550-79A5-4DAE-9A77-EA8C904E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EB35-3F64-4BDC-8F22-2F2F9C17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50A-64B2-4BF9-9649-989B15B6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4FB5-7AEB-407E-8346-7C648EB8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A51B-CDF6-4A5F-A73D-4CDAACC7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2727-84B1-4C08-824B-40557D09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96A5-4A1F-440A-890E-2984F65D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0EA-CB15-4D6F-A1CF-6B98CA0B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4181-2729-409A-86C7-2B7F12CD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44FB-FC7F-4CBE-8573-A11A2F7111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хема 15" descr=""/>
          <p:cNvPicPr/>
          <p:nvPr/>
        </p:nvPicPr>
        <p:blipFill>
          <a:blip r:embed="rId1"/>
          <a:stretch/>
        </p:blipFill>
        <p:spPr>
          <a:xfrm>
            <a:off x="768240" y="281160"/>
            <a:ext cx="7778880" cy="544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Пользователь\Рабочий стол\2.jpg"/>
          <p:cNvPicPr/>
          <p:nvPr/>
        </p:nvPicPr>
        <p:blipFill>
          <a:blip r:embed="rId2"/>
          <a:stretch/>
        </p:blipFill>
        <p:spPr>
          <a:xfrm rot="1455000">
            <a:off x="6517800" y="4263840"/>
            <a:ext cx="1755720" cy="220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Documents and Settings\Пользователь\Мои документы\презент\Decor2\korova16.png"/>
          <p:cNvPicPr/>
          <p:nvPr/>
        </p:nvPicPr>
        <p:blipFill>
          <a:blip r:embed="rId3"/>
          <a:stretch/>
        </p:blipFill>
        <p:spPr>
          <a:xfrm>
            <a:off x="428760" y="4857840"/>
            <a:ext cx="1633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5"/>
          <p:cNvSpPr/>
          <p:nvPr/>
        </p:nvSpPr>
        <p:spPr>
          <a:xfrm>
            <a:off x="3214800" y="4000680"/>
            <a:ext cx="1643040" cy="1571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6"/>
          <p:cNvSpPr/>
          <p:nvPr/>
        </p:nvSpPr>
        <p:spPr>
          <a:xfrm>
            <a:off x="3214800" y="4000680"/>
            <a:ext cx="1643040" cy="1571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7"/>
          <p:cNvSpPr/>
          <p:nvPr/>
        </p:nvSpPr>
        <p:spPr>
          <a:xfrm>
            <a:off x="3214800" y="4000680"/>
            <a:ext cx="1643040" cy="1571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9"/>
          <p:cNvSpPr/>
          <p:nvPr/>
        </p:nvSpPr>
        <p:spPr>
          <a:xfrm>
            <a:off x="3214800" y="4000680"/>
            <a:ext cx="1643040" cy="1571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5143680" y="1785960"/>
            <a:ext cx="171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витамин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1571760" y="185724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каль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6929280" y="3000240"/>
            <a:ext cx="171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Витамин В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571680" y="485784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аскорбиновая 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C:\Documents and Settings\Пользователь\Мои документы\Картинки_сказки\Анимашки!\a131.gif"/>
          <p:cNvPicPr/>
          <p:nvPr/>
        </p:nvPicPr>
        <p:blipFill>
          <a:blip r:embed="rId1"/>
          <a:stretch/>
        </p:blipFill>
        <p:spPr>
          <a:xfrm>
            <a:off x="2000160" y="6000840"/>
            <a:ext cx="600120" cy="657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Documents and Settings\Пользователь\Мои документы\Картинки_сказки\Анимашки!\a119.gif"/>
          <p:cNvPicPr/>
          <p:nvPr/>
        </p:nvPicPr>
        <p:blipFill>
          <a:blip r:embed="rId2"/>
          <a:stretch/>
        </p:blipFill>
        <p:spPr>
          <a:xfrm>
            <a:off x="5500800" y="5929200"/>
            <a:ext cx="590400" cy="785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Documents and Settings\Пользователь\Мои документы\Картинки_сказки\Анимашки!\a131.gif"/>
          <p:cNvPicPr/>
          <p:nvPr/>
        </p:nvPicPr>
        <p:blipFill>
          <a:blip r:embed="rId3"/>
          <a:stretch/>
        </p:blipFill>
        <p:spPr>
          <a:xfrm>
            <a:off x="6072120" y="5857920"/>
            <a:ext cx="600120" cy="65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старое\Documents and Settings\С похмела\Мои документы\Мои рисунки\Гифы\37R5.gif"/>
          <p:cNvPicPr/>
          <p:nvPr/>
        </p:nvPicPr>
        <p:blipFill>
          <a:blip r:embed="rId4"/>
          <a:stretch/>
        </p:blipFill>
        <p:spPr>
          <a:xfrm>
            <a:off x="285840" y="357120"/>
            <a:ext cx="1847880" cy="16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Пользователь\Мои документы\Картинки_сказки\Анимашки!\a492.gif"/>
          <p:cNvPicPr/>
          <p:nvPr/>
        </p:nvPicPr>
        <p:blipFill>
          <a:blip r:embed="rId5"/>
          <a:stretch/>
        </p:blipFill>
        <p:spPr>
          <a:xfrm>
            <a:off x="2357280" y="3714840"/>
            <a:ext cx="3530880" cy="25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6"/>
          <a:stretch/>
        </p:blipFill>
        <p:spPr>
          <a:xfrm>
            <a:off x="6357960" y="4000680"/>
            <a:ext cx="1214280" cy="663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7"/>
          <a:stretch/>
        </p:blipFill>
        <p:spPr>
          <a:xfrm>
            <a:off x="7715160" y="4000680"/>
            <a:ext cx="121464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95 -0.01966 0.01355 -0.04163 0.01771 -0.06268 C 0.02032 -0.0761 0.02414 -0.10178 0.0283 -0.11288 C 0.03247 -0.12398 0.03108 -0.1189 0.03299 -0.12838 C 0.03264 -0.1566 0.03282 -0.18482 0.03177 -0.21304 C 0.0316 -0.21651 0.02934 -0.21929 0.0283 -0.22253 C 0.02657 -0.22831 0.02657 -0.23525 0.02361 -0.23988 C 0.02014 -0.24543 0.01719 -0.24959 0.01424 -0.25537 C 0.01233 -0.25931 0.01164 -0.2644 0.00938 -0.2681 C 0.00816 -0.27018 0.00608 -0.27087 0.00469 -0.27272 C -0.00052 -0.27966 0.00157 -0.27989 -0.00347 -0.28522 C -0.01944 -0.30233 -0.03784 -0.31598 -0.05764 -0.3213 C -0.07812 -0.33749 -0.11059 -0.33449 -0.13281 -0.33541 C -0.13628 -0.33657 -0.13784 -0.33703 -0.14114 -0.33842 C -0.14357 -0.33934 -0.14826 -0.34166 -0.14826 -0.34166 C -0.15208 -0.34513 -0.1559 -0.34767 -0.15885 -0.35253 C -0.16284 -0.35901 -0.16458 -0.36757 -0.16823 -0.37451 C -0.17083 -0.38491 -0.1717 -0.38168 -0.1717 -0.39486 E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41684E-006 C 0.0059 -0.00786 0.00712 -0.0222 0.00937 -0.03284 C 0.01146 -0.05505 0.01823 -0.07564 0.02239 -0.09715 C 0.02743 -0.12329 0.03264 -0.14989 0.03889 -0.17557 C 0.04062 -0.18297 0.04219 -0.18204 0.04479 -0.18968 C 0.04913 -0.2024 0.04983 -0.21373 0.05538 -0.22576 C 0.05608 -0.22946 0.05608 -0.2334 0.05764 -0.23664 C 0.05903 -0.23941 0.0618 -0.24034 0.06354 -0.24288 C 0.06649 -0.24728 0.06892 -0.25237 0.0717 -0.25699 C 0.07604 -0.26786 0.08385 -0.28012 0.09184 -0.28683 C 0.10382 -0.29701 0.09774 -0.28915 0.10712 -0.2977 C 0.1184 -0.30811 0.13125 -0.32014 0.14479 -0.32454 C 0.15121 -0.3331 0.15712 -0.3324 0.16354 -0.33865 C 0.17448 -0.34906 0.18298 -0.35646 0.19653 -0.359 C 0.20017 -0.36224 0.20417 -0.36432 0.20816 -0.36664 C 0.20937 -0.36733 0.2118 -0.36826 0.2118 -0.36826 E">
                                      <p:cBhvr>
                                        <p:cTn id="1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500"/>
                            </p:stCondLst>
                            <p:childTnLst>
                              <p:par>
                                <p:cTn id="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58779E-006 C 0.00521 -0.00231 0.00955 -0.00578 0.01424 -0.00949 C 0.01736 -0.01804 0.02101 -0.01712 0.02587 -0.0236 C 0.03316 -0.03331 0.0375 -0.03909 0.04705 -0.04557 C 0.05851 -0.06292 0.07275 -0.07402 0.08716 -0.08628 C 0.11094 -0.10641 0.13473 -0.1337 0.16129 -0.14735 C 0.17257 -0.16308 0.19931 -0.16887 0.21424 -0.17257 C 0.22223 -0.17904 0.22865 -0.17997 0.23768 -0.18344 C 0.24723 -0.18714 0.24011 -0.18668 0.2507 -0.1913 C 0.25226 -0.192 0.26511 -0.19431 0.26598 -0.19454 C 0.27865 -0.20102 0.2948 -0.20241 0.30834 -0.20379 C 0.33733 -0.20333 0.36632 -0.20333 0.39532 -0.20241 C 0.4 -0.20218 0.40452 -0.19917 0.40938 -0.19917 E">
                                      <p:cBhvr>
                                        <p:cTn id="2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5.66273E-006 C -0.00885 -0.01179 -0.01267 -0.01272 -0.02465 -0.01549 C -0.04861 -0.01503 -0.07257 -0.01595 -0.09635 -0.0141 C -0.10989 -0.01295 -0.12951 -0.00809 -0.1434 -0.00138 C -0.15347 0.00348 -0.16232 0.01157 -0.17291 0.01412 C -0.17882 0.02244 -0.1875 0.02268 -0.19531 0.02684 C -0.19896 0.02869 -0.20225 0.0317 -0.2059 0.03309 C -0.20659 0.03332 -0.22812 0.03933 -0.22812 0.03933 C -0.23281 0.04141 -0.23732 0.04488 -0.24236 0.04558 C -0.25399 0.04743 -0.2658 0.0472 -0.2776 0.04858 C -0.28177 0.05067 -0.27986 0.0502 -0.2835 0.0502 E">
                                      <p:cBhvr>
                                        <p:cTn id="3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2928960" y="285840"/>
            <a:ext cx="3143160" cy="100836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Book Antiqua"/>
              </a:rPr>
              <a:t>Это 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642960" y="1428840"/>
            <a:ext cx="7975440" cy="4952880"/>
          </a:xfrm>
          <a:prstGeom prst="rect">
            <a:avLst/>
          </a:prstGeom>
          <a:ln w="0">
            <a:noFill/>
          </a:ln>
        </p:spPr>
      </p:pic>
      <p:sp>
        <p:nvSpPr>
          <p:cNvPr id="71" name="Овал 8"/>
          <p:cNvSpPr/>
          <p:nvPr/>
        </p:nvSpPr>
        <p:spPr>
          <a:xfrm>
            <a:off x="8001000" y="5715000"/>
            <a:ext cx="357120" cy="357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13"/>
          <p:cNvSpPr/>
          <p:nvPr/>
        </p:nvSpPr>
        <p:spPr>
          <a:xfrm>
            <a:off x="8143920" y="5786280"/>
            <a:ext cx="366840" cy="438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14"/>
          <p:cNvSpPr/>
          <p:nvPr/>
        </p:nvSpPr>
        <p:spPr>
          <a:xfrm>
            <a:off x="8358120" y="6000840"/>
            <a:ext cx="304920" cy="376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15"/>
          <p:cNvSpPr/>
          <p:nvPr/>
        </p:nvSpPr>
        <p:spPr>
          <a:xfrm>
            <a:off x="8601120" y="6243480"/>
            <a:ext cx="214200" cy="285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16"/>
          <p:cNvSpPr/>
          <p:nvPr/>
        </p:nvSpPr>
        <p:spPr>
          <a:xfrm>
            <a:off x="8643960" y="6357960"/>
            <a:ext cx="357120" cy="357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17"/>
          <p:cNvSpPr/>
          <p:nvPr/>
        </p:nvSpPr>
        <p:spPr>
          <a:xfrm>
            <a:off x="8572680" y="6215040"/>
            <a:ext cx="214200" cy="285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8"/>
          <p:cNvSpPr/>
          <p:nvPr/>
        </p:nvSpPr>
        <p:spPr>
          <a:xfrm>
            <a:off x="8501040" y="6143760"/>
            <a:ext cx="357120" cy="428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Documents and Settings\Пользователь\Рабочий стол\2.jpg"/>
          <p:cNvPicPr/>
          <p:nvPr/>
        </p:nvPicPr>
        <p:blipFill>
          <a:blip r:embed="rId2"/>
          <a:stretch/>
        </p:blipFill>
        <p:spPr>
          <a:xfrm>
            <a:off x="7388280" y="4656240"/>
            <a:ext cx="1755720" cy="2201760"/>
          </a:xfrm>
          <a:prstGeom prst="rect">
            <a:avLst/>
          </a:prstGeom>
          <a:ln w="0">
            <a:noFill/>
          </a:ln>
        </p:spPr>
      </p:pic>
      <p:sp>
        <p:nvSpPr>
          <p:cNvPr id="79" name="TextBox 28"/>
          <p:cNvSpPr/>
          <p:nvPr/>
        </p:nvSpPr>
        <p:spPr>
          <a:xfrm>
            <a:off x="714240" y="5288040"/>
            <a:ext cx="692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Calibri"/>
              </a:rPr>
              <a:t>иммуните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олилиния 29"/>
          <p:cNvSpPr/>
          <p:nvPr/>
        </p:nvSpPr>
        <p:spPr>
          <a:xfrm>
            <a:off x="368280" y="1271520"/>
            <a:ext cx="8402760" cy="487224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7429680" y="0"/>
            <a:ext cx="171432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3.3449E-006 C 0.00208 -0.0148 3.05556E-006 -0.02891 -0.00122 -0.04325 C -0.00174 -0.05736 -0.00174 -0.07171 -0.0033 -0.08559 C -0.00747 -0.16423 -0.01111 -0.24381 -0.0257 -0.31853 C -0.02934 -0.33726 -0.03264 -0.35531 -0.03698 -0.37335 C -0.03941 -0.38399 -0.04098 -0.39625 -0.04445 -0.40643 C -0.04879 -0.41915 -0.05469 -0.43072 -0.0599 -0.44228 C -0.0632 -0.44968 -0.06598 -0.45824 -0.06962 -0.46518 C -0.08785 -0.49849 -0.1066 -0.5207 -0.12882 -0.54406 C -0.13403 -0.54938 -0.13785 -0.55586 -0.14341 -0.55933 C -0.15348 -0.56534 -0.16476 -0.56858 -0.17483 -0.57205 C -0.19063 -0.58478 -0.2217 -0.58339 -0.23768 -0.58478 C -0.24219 -0.58454 -0.24705 -0.58478 -0.25157 -0.58362 C -0.25677 -0.58223 -0.26216 -0.57506 -0.26702 -0.57205 C -0.27535 -0.56673 -0.28438 -0.56373 -0.29271 -0.55817 C -0.30087 -0.55285 -0.30938 -0.54453 -0.31788 -0.54175 C -0.32101 -0.53712 -0.32535 -0.52833 -0.329 -0.52509 C -0.3316 -0.51977 -0.33316 -0.51422 -0.33525 -0.50844 C -0.33872 -0.49872 -0.34288 -0.48947 -0.34584 -0.47929 C -0.34636 -0.47721 -0.3467 -0.4749 -0.34705 -0.47282 C -0.3474 -0.47143 -0.34757 -0.47027 -0.34775 -0.46888 C -0.34948 -0.46264 -0.35209 -0.4594 -0.35417 -0.45362 C -0.35677 -0.44598 -0.35851 -0.4402 -0.3625 -0.43442 C -0.36493 -0.4254 -0.36806 -0.41915 -0.37223 -0.4129 C -0.37379 -0.4055 -0.37848 -0.39162 -0.38195 -0.38746 C -0.38247 -0.38584 -0.38282 -0.38399 -0.38334 -0.38237 C -0.38386 -0.38121 -0.38507 -0.38098 -0.38542 -0.37983 C -0.38594 -0.37821 -0.38577 -0.37612 -0.38611 -0.37474 C -0.38733 -0.37173 -0.39028 -0.36687 -0.39028 -0.36687 C -0.39132 -0.36248 -0.39271 -0.36016 -0.39445 -0.35669 E">
                                      <p:cBhvr>
                                        <p:cTn id="44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14689 C 0.00208 -0.15938 -0.00174 -0.17141 -0.00382 -0.18344 C -0.00469 -0.19524 -0.00469 -0.20727 -0.00729 -0.21906 C -0.01441 -0.28499 -0.02049 -0.35184 -0.04531 -0.41476 C -0.05139 -0.43049 -0.05712 -0.44576 -0.06458 -0.46079 C -0.06858 -0.46982 -0.07118 -0.47999 -0.07726 -0.48855 C -0.08455 -0.49942 -0.09444 -0.50914 -0.10347 -0.51886 C -0.10903 -0.5251 -0.11354 -0.53227 -0.11962 -0.53806 C -0.15069 -0.56605 -0.18264 -0.58478 -0.22031 -0.60444 C -0.22899 -0.60884 -0.23559 -0.61416 -0.24496 -0.61717 C -0.26215 -0.62226 -0.28125 -0.62503 -0.29826 -0.62781 C -0.32517 -0.63845 -0.37778 -0.63729 -0.40486 -0.63845 C -0.41267 -0.63845 -0.42083 -0.63845 -0.42847 -0.63752 C -0.43715 -0.63637 -0.44635 -0.63035 -0.45469 -0.62781 C -0.46875 -0.62341 -0.48403 -0.62087 -0.49809 -0.61624 C -0.51198 -0.61162 -0.52656 -0.60468 -0.54097 -0.60236 C -0.54618 -0.59843 -0.55347 -0.59103 -0.55972 -0.58848 C -0.56424 -0.58386 -0.56701 -0.57923 -0.57031 -0.57437 C -0.57639 -0.56628 -0.58316 -0.55841 -0.58837 -0.54985 C -0.58924 -0.54823 -0.58976 -0.54615 -0.59045 -0.54453 C -0.59097 -0.54338 -0.59132 -0.54222 -0.59149 -0.54106 C -0.59462 -0.53597 -0.59896 -0.5332 -0.60243 -0.52834 C -0.60694 -0.52186 -0.60972 -0.51701 -0.61649 -0.51215 C -0.62083 -0.50451 -0.62604 -0.49942 -0.63316 -0.4941 C -0.63576 -0.48786 -0.64375 -0.47629 -0.64948 -0.47259 C -0.65052 -0.47144 -0.65104 -0.46982 -0.65208 -0.46843 C -0.65278 -0.4675 -0.65469 -0.46727 -0.65556 -0.46635 C -0.65642 -0.46496 -0.65608 -0.46311 -0.65677 -0.46195 C -0.65868 -0.45941 -0.66389 -0.45547 -0.66389 -0.45524 C -0.66545 -0.45177 -0.66788 -0.44969 -0.67049 -0.44692 E">
                                      <p:cBhvr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3.05344E-006 C 0.00208 -0.02175 -0.00052 -0.0421 -0.00174 -0.06315 C -0.00243 -0.08374 -0.00243 -0.10433 -0.00434 -0.12468 C -0.00885 -0.23896 -0.01285 -0.35439 -0.02934 -0.46288 C -0.03351 -0.48994 -0.03715 -0.51631 -0.04201 -0.54245 C -0.04479 -0.55818 -0.04653 -0.57576 -0.05035 -0.59057 C -0.05521 -0.60907 -0.06181 -0.62596 -0.06788 -0.64261 C -0.07135 -0.65325 -0.07465 -0.66598 -0.07882 -0.67592 C -0.09913 -0.72427 -0.12031 -0.75665 -0.14514 -0.79043 C -0.15104 -0.79806 -0.15521 -0.80778 -0.16146 -0.81286 C -0.17274 -0.82142 -0.18559 -0.82628 -0.19687 -0.83137 C -0.21476 -0.84941 -0.24948 -0.84779 -0.26736 -0.84941 C -0.27257 -0.84918 -0.27795 -0.84941 -0.28316 -0.84803 C -0.28889 -0.84594 -0.29496 -0.83553 -0.30035 -0.83137 C -0.30972 -0.82351 -0.31996 -0.81911 -0.32934 -0.81101 C -0.33854 -0.80315 -0.34809 -0.79135 -0.35764 -0.78719 C -0.36111 -0.78048 -0.36597 -0.76776 -0.37014 -0.7629 C -0.37309 -0.75527 -0.37483 -0.74717 -0.37708 -0.73884 C -0.38108 -0.72473 -0.38576 -0.71131 -0.38906 -0.69628 C -0.38958 -0.69327 -0.38993 -0.69003 -0.39028 -0.68703 C -0.3908 -0.68494 -0.39097 -0.68356 -0.39115 -0.68147 C -0.39306 -0.67222 -0.39601 -0.6676 -0.39844 -0.65904 C -0.40121 -0.64793 -0.4033 -0.63961 -0.40764 -0.63128 C -0.41059 -0.61809 -0.41406 -0.60907 -0.41875 -0.59982 C -0.42049 -0.58918 -0.42569 -0.56905 -0.42951 -0.56304 C -0.43038 -0.56072 -0.43056 -0.55818 -0.43108 -0.55564 C -0.43177 -0.55402 -0.43299 -0.55355 -0.43351 -0.55193 C -0.43403 -0.54962 -0.43368 -0.54638 -0.4342 -0.54453 C -0.43559 -0.54014 -0.43889 -0.53297 -0.43889 -0.53273 C -0.4401 -0.52672 -0.44167 -0.52348 -0.4434 -0.51839 E">
                                      <p:cBhvr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3.7474E-006 C 0.00208 -0.01989 -0.00052 -0.03886 -0.00209 -0.05783 C -0.00261 -0.07633 -0.00261 -0.09553 -0.00434 -0.11404 C -0.00938 -0.21859 -0.01372 -0.32431 -0.03108 -0.42378 C -0.03525 -0.4483 -0.03941 -0.47235 -0.04445 -0.49641 C -0.0474 -0.51052 -0.04913 -0.52695 -0.0533 -0.54036 C -0.05834 -0.55725 -0.06545 -0.57275 -0.07153 -0.58801 C -0.07552 -0.59773 -0.07882 -0.6093 -0.08299 -0.61855 C -0.10469 -0.66296 -0.12691 -0.69234 -0.1533 -0.72334 C -0.15955 -0.73051 -0.16389 -0.73907 -0.17049 -0.74369 C -0.18247 -0.75156 -0.19584 -0.75618 -0.20782 -0.76058 C -0.22657 -0.77723 -0.26337 -0.77562 -0.28229 -0.77723 C -0.28785 -0.777 -0.29358 -0.77723 -0.29879 -0.77585 C -0.30486 -0.77423 -0.31129 -0.76474 -0.31702 -0.76058 C -0.32709 -0.75341 -0.33768 -0.74948 -0.34757 -0.74207 C -0.35729 -0.73513 -0.36736 -0.72403 -0.37743 -0.72033 C -0.38108 -0.71432 -0.38629 -0.70252 -0.39063 -0.69812 C -0.39358 -0.69095 -0.39566 -0.68378 -0.39792 -0.67615 C -0.40209 -0.66319 -0.40712 -0.65093 -0.41059 -0.63729 C -0.41129 -0.63451 -0.41163 -0.63127 -0.41216 -0.62873 C -0.41233 -0.62688 -0.41268 -0.62526 -0.41285 -0.62341 C -0.41493 -0.61531 -0.41806 -0.61068 -0.42049 -0.60328 C -0.42361 -0.59287 -0.42552 -0.58547 -0.43038 -0.5776 C -0.43316 -0.56558 -0.43698 -0.55725 -0.44184 -0.54892 C -0.44375 -0.53921 -0.44931 -0.5207 -0.45348 -0.51515 C -0.454 -0.51307 -0.45434 -0.51052 -0.45504 -0.50867 C -0.45573 -0.50682 -0.45712 -0.50659 -0.45764 -0.5052 C -0.45816 -0.50289 -0.45782 -0.50034 -0.45834 -0.49826 C -0.4599 -0.49433 -0.46337 -0.48785 -0.46337 -0.48762 C -0.46441 -0.48184 -0.46615 -0.47906 -0.46806 -0.47444 E">
                                      <p:cBhvr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5.4823E-007 C 0.00209 -0.0148 -3.61110999999993E-006 -0.02891 -0.00104 -0.04326 C -0.00156 -0.05737 -0.00156 -0.07171 -0.00295 -0.08559 C -0.00694 -0.16424 -0.01024 -0.24381 -0.02378 -0.31853 C -0.02725 -0.33727 -0.0302 -0.35531 -0.03437 -0.37335 C -0.03663 -0.38399 -0.03802 -0.39625 -0.04132 -0.40643 C -0.04531 -0.41915 -0.05069 -0.43072 -0.05555 -0.44228 C -0.05868 -0.44969 -0.06128 -0.45825 -0.06458 -0.46519 C -0.08159 -0.4985 -0.09895 -0.5207 -0.11961 -0.54407 C -0.12448 -0.54939 -0.12812 -0.55586 -0.13316 -0.55933 C -0.14253 -0.56535 -0.15312 -0.56859 -0.1625 -0.57206 C -0.17708 -0.58478 -0.20607 -0.58339 -0.22083 -0.58478 C -0.225 -0.58455 -0.22951 -0.58478 -0.23385 -0.58362 C -0.23854 -0.58223 -0.24357 -0.57506 -0.24809 -0.57206 C -0.2559 -0.56674 -0.26423 -0.56373 -0.27204 -0.55818 C -0.27951 -0.55286 -0.2875 -0.54453 -0.29548 -0.54175 C -0.29826 -0.53713 -0.30243 -0.52834 -0.30573 -0.5251 C -0.30816 -0.51978 -0.30954 -0.51423 -0.31163 -0.50844 C -0.31475 -0.49873 -0.31857 -0.48947 -0.32135 -0.4793 C -0.32187 -0.47721 -0.32222 -0.4749 -0.32257 -0.47282 C -0.32291 -0.47143 -0.32309 -0.47027 -0.32309 -0.46889 C -0.32482 -0.46264 -0.32725 -0.4594 -0.32916 -0.45362 C -0.33159 -0.44599 -0.33316 -0.4402 -0.3368 -0.43442 C -0.33906 -0.4254 -0.34201 -0.41915 -0.346 -0.41291 C -0.34739 -0.4055 -0.35173 -0.39163 -0.35503 -0.38746 C -0.35538 -0.38584 -0.35573 -0.38399 -0.35625 -0.38237 C -0.35677 -0.38122 -0.35781 -0.38098 -0.35816 -0.37983 C -0.35868 -0.37821 -0.3585 -0.37613 -0.35885 -0.37474 C -0.35989 -0.37173 -0.36267 -0.36687 -0.36267 -0.36664 C -0.36371 -0.36248 -0.36493 -0.36017 -0.36649 -0.3567 E">
                                      <p:cBhvr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5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50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071960" y="0"/>
            <a:ext cx="53262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142920" y="142920"/>
            <a:ext cx="3857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олоко – очень  популярное средство от простуд. Верно ли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642960" y="24289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1571760" y="400068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214200" y="3000240"/>
            <a:ext cx="2143080" cy="703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аш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28760" y="4714920"/>
            <a:ext cx="3429000" cy="1312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ысокая темп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3357720" y="1357200"/>
            <a:ext cx="2143080" cy="468792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2000160" y="285840"/>
            <a:ext cx="578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Полезно или не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:\Documents and Settings\Пользователь\Мои документы\Картинки_сказки\Анимашки!\a438.gif"/>
          <p:cNvPicPr/>
          <p:nvPr/>
        </p:nvPicPr>
        <p:blipFill>
          <a:blip r:embed="rId2"/>
          <a:stretch/>
        </p:blipFill>
        <p:spPr>
          <a:xfrm>
            <a:off x="5143680" y="3664080"/>
            <a:ext cx="20714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2071800" y="714240"/>
            <a:ext cx="5286240" cy="764280"/>
          </a:xfrm>
          <a:prstGeom prst="rect">
            <a:avLst/>
          </a:prstGeom>
          <a:gradFill rotWithShape="0">
            <a:gsLst>
              <a:gs pos="0">
                <a:srgbClr val="403152"/>
              </a:gs>
              <a:gs pos="100000">
                <a:srgbClr val="7793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то интересно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Documents and Settings\Пользователь\Мои документы\Картинки_сказки\Анимашки!\картинки1\03.jpg"/>
          <p:cNvPicPr/>
          <p:nvPr/>
        </p:nvPicPr>
        <p:blipFill>
          <a:blip r:embed="rId1"/>
          <a:stretch/>
        </p:blipFill>
        <p:spPr>
          <a:xfrm>
            <a:off x="4071960" y="2714760"/>
            <a:ext cx="3333600" cy="2214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Documents and Settings\Ирина\Мои документы\Мои рисунки\Новые\e0f1d88b7aee.png"/>
          <p:cNvPicPr/>
          <p:nvPr/>
        </p:nvPicPr>
        <p:blipFill>
          <a:blip r:embed="rId2"/>
          <a:stretch/>
        </p:blipFill>
        <p:spPr>
          <a:xfrm>
            <a:off x="1643040" y="2786040"/>
            <a:ext cx="2425680" cy="1919160"/>
          </a:xfrm>
          <a:prstGeom prst="rect">
            <a:avLst/>
          </a:prstGeom>
          <a:ln w="0">
            <a:noFill/>
          </a:ln>
        </p:spPr>
      </p:pic>
      <p:pic>
        <p:nvPicPr>
          <p:cNvPr id="99" name="Овал 4" descr=""/>
          <p:cNvPicPr/>
          <p:nvPr/>
        </p:nvPicPr>
        <p:blipFill>
          <a:blip r:embed="rId3"/>
          <a:stretch/>
        </p:blipFill>
        <p:spPr>
          <a:xfrm>
            <a:off x="1279440" y="1779480"/>
            <a:ext cx="7010640" cy="444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Documents and Settings\Пользователь\Рабочий стол\Рисунок1.gif"/>
          <p:cNvPicPr/>
          <p:nvPr/>
        </p:nvPicPr>
        <p:blipFill>
          <a:blip r:embed="rId1"/>
          <a:stretch/>
        </p:blipFill>
        <p:spPr>
          <a:xfrm>
            <a:off x="357120" y="2143080"/>
            <a:ext cx="1000080" cy="698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Documents and Settings\Пользователь\Рабочий стол\Рисунок1.gif"/>
          <p:cNvPicPr/>
          <p:nvPr/>
        </p:nvPicPr>
        <p:blipFill>
          <a:blip r:embed="rId2"/>
          <a:stretch/>
        </p:blipFill>
        <p:spPr>
          <a:xfrm>
            <a:off x="357120" y="3786120"/>
            <a:ext cx="1000080" cy="698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Documents and Settings\Пользователь\Рабочий стол\Рисунок1.gif"/>
          <p:cNvPicPr/>
          <p:nvPr/>
        </p:nvPicPr>
        <p:blipFill>
          <a:blip r:embed="rId3"/>
          <a:stretch/>
        </p:blipFill>
        <p:spPr>
          <a:xfrm>
            <a:off x="214200" y="5429160"/>
            <a:ext cx="1000080" cy="698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Documents and Settings\Пользователь\Рабочий стол\Рисунок1.gif"/>
          <p:cNvPicPr/>
          <p:nvPr/>
        </p:nvPicPr>
        <p:blipFill>
          <a:blip r:embed="rId4"/>
          <a:stretch/>
        </p:blipFill>
        <p:spPr>
          <a:xfrm>
            <a:off x="214200" y="357120"/>
            <a:ext cx="1000080" cy="6984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7"/>
          <p:cNvSpPr/>
          <p:nvPr/>
        </p:nvSpPr>
        <p:spPr>
          <a:xfrm>
            <a:off x="1500120" y="5500800"/>
            <a:ext cx="70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если купили молоко у малознакомых людей, то его обязательно нужно прокипя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1428840" y="1857240"/>
            <a:ext cx="70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еред сном полезно выпить стакан тёплого молока – индийские лекари считают, что в тёмное время суток молоко особенно полез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9"/>
          <p:cNvSpPr/>
          <p:nvPr/>
        </p:nvSpPr>
        <p:spPr>
          <a:xfrm>
            <a:off x="1500120" y="357120"/>
            <a:ext cx="70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не запивайте молоком еду, употребляйте его через 2 часа после приёма пищ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1"/>
          <p:cNvSpPr/>
          <p:nvPr/>
        </p:nvSpPr>
        <p:spPr>
          <a:xfrm>
            <a:off x="1428840" y="371484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хорошо, если молоко и молочные продукты составляют 1/3 калорийности суточного рацио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C:\Documents and Settings\Пользователь\Рабочий стол\молочные продукты\i[22].jpg"/>
          <p:cNvPicPr/>
          <p:nvPr/>
        </p:nvPicPr>
        <p:blipFill>
          <a:blip r:embed="rId1"/>
          <a:stretch/>
        </p:blipFill>
        <p:spPr>
          <a:xfrm>
            <a:off x="785880" y="385776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8"/>
          <p:cNvSpPr/>
          <p:nvPr/>
        </p:nvSpPr>
        <p:spPr>
          <a:xfrm>
            <a:off x="4714920" y="4071960"/>
            <a:ext cx="36432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валь Да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ченица 1 «А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МОУ «СОШ № 27 с УИОП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г. Старый Оск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Выноска-облако 9"/>
          <p:cNvSpPr/>
          <p:nvPr/>
        </p:nvSpPr>
        <p:spPr>
          <a:xfrm rot="668400">
            <a:off x="864720" y="266760"/>
            <a:ext cx="7574040" cy="3786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500120" y="1357200"/>
            <a:ext cx="657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ейте молоко и вы будете здоров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9" descr="http://www.vegetarian.ru/images/other/milki01.jpg"/>
          <p:cNvPicPr/>
          <p:nvPr/>
        </p:nvPicPr>
        <p:blipFill>
          <a:blip r:embed="rId2"/>
          <a:stretch/>
        </p:blipFill>
        <p:spPr>
          <a:xfrm>
            <a:off x="7072200" y="5572080"/>
            <a:ext cx="7858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mph" presetID="34">
                                  <p:stCondLst>
                                    <p:cond delay="10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валь Дарья Сергеевна</dc:creator>
  <dc:description/>
  <dc:language>en-US</dc:language>
  <cp:lastModifiedBy>Admin</cp:lastModifiedBy>
  <dcterms:modified xsi:type="dcterms:W3CDTF">2010-01-26T11:00:59Z</dcterms:modified>
  <cp:revision>67</cp:revision>
  <dc:subject/>
  <dc:title>Мифы и правда о молоке</dc:title>
</cp:coreProperties>
</file>