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5197-AAB4-4A65-A694-6E4BEE84C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CF90-A3DD-4F5F-B051-DE9AB5B7E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данном этапе ежегодно проводит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содержания, которым должны овладеть педагоги и разрабатывается общешкольная система мероприятий для освоения содержания и мотиваци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 разные годы были организованы группы: педагоги-стажисты, молодые педагоги, вновь пришедшие в данную школу, аттестующиеся педагоги, работающие по инновационным направлениям, испытывающие затруднения сходного характера, работающие по сходным методическим темам и др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в последние годы педагоги в наибольшей степени занимаются развитием ИКТ-компетентности, а также использованием проектных и исследовательских методов в обучении, эти группы педагогов межпредметны и многочисленны. Как правило, один педагог участвует в работе нескольких групп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управленческой деятельности проводится по группам и отражено в годовом плане работы школы и программах управленческой деятельности по направл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10BA-6E3B-4369-8F75-35C4C50C9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составления программы представлен в виде «Технологической карты индивидуального профессионального развития педагога», которая в настоящее время ведется в электронном виде и станет основой электронного портфоли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входящей в технологическую карту информации вы можете видеть на данном слайде, заполнение происходит в процессе собеседования с педаго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развития профессиональн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тентности  педагога основано не только на результатах  исходной диагностики, но и собственных потребностях, возможностях педагога, далеко не все, что показывают результаты диагностики, может быть значимым для самого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азал наш опыт, уже просто составление карты способствует мотивации педагога к развитию профессиональной компетентности, у нас в учреждении работа с технологической картой оценивается в рейтинге достижений педагога и учитывается при распределении стимулирующей части фонда оплаты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ланируется на различных уровнях: самообразование, курсовая подготовка, работа в предметных методических объединениях, в работе проблемных групп, посещение семинаров, участие в конкурсах, подготовка публикаций и ряд других. Именно приведение в систему всего набора этих форм работы обеспечивает составление данной технологической карты, тогда работа по самообразованию педагога не имеет стихийного 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C16-2A06-4BC0-8688-4DA18E644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редлагаем педагогам достаточное количество мероприятий, из которых они выбирают необходимые для себя. Содержание педагогических советов, семинаров, заседаний МО отбирается с учетом их влияния на профессиональный рост педагога, учитывается актуальность тематики для целей развития шко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 заполняют в своей технологической карте план посещения мероприятий, представленный на слайде, чтобы самому педагогу можно было отследить, все ли задачи будут решены, в качестве стимула к посещению мероприятий введены рейтинговые баллы, и педагоги ежемесячно сдают отчет о том, что было сдела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6E5-0301-4CA8-9FA2-15E028B5C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анного этапа находят отражение в матрице достижений профессионального развития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791F-CCD1-45ED-BD72-BFDCAB5B2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данной страницы в технологической карте имеет большую ценность для педагога, так как позволяет ежегодно анализировать результаты своей деятельности, и помогает подготовиться к следующей аттестации, обеспечит мотивацию к дальнейшему профессиональному продвиж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мы понимаем, такая отчетная документация не должна занимать у педагога много времени, не превращаться в ежегодный аналитический отчет, потому вся процедура состоит в заполнении таблицы. По возможности, заполнить ее можно в процессе собеседования с руководителем по результатам работы за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за 5 лет забывается результативность тех мероприятий, которые педагог за межаттестационный период посетил, у нас такая работа проводится ежегодно и за 5 лет у педагога накапливается 5 таких страниц, данный документ является основой для составления аналитического отчета за межаттестационный период. Уже на этапе составления заявления на аттестацию педагоги по достоинству оценивают данный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D18-4F28-40F8-AC64-8F96E3F52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ые задачи этапа решаются в процессе собеседования с педагогом по итогам года при заполнении матрицы дост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алгоритм имеет замкнутый цикл, повторяющийся на новом уровне в каждом учебном году. За межаттестационный период проходит 5 циклов. Отражение их результатов в технологической карте дает возможность педагогу легко описать в аналитическом отчете результаты работы, пути достижения целей свое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C95-51DE-4E25-A543-37F97E3A5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ценки эффективности реализации этапов управленческой деятельности по организации процесса повышения профессиональной компетентности педагогов нами был выбран ряд критериев и показателей; подобраны и составлены методики диагностики, разработаны программы для компьютерного анализа результатов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C79-3FD5-43CF-92E6-02C8A949E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4EAC-FBB8-418A-A3EF-04DFE8971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7DD9-BDF1-4166-84D1-721618468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 нами система повышения профессиональной компетентности актуальна и перспективна для нашей школы, так как соответствует тенденциям её развития, учитывает индивидуальные особенности и закономерности профессионального становления педагога, способствует повышению уровня его профессионализма, мобильна и открыта дальнейшему развит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мы видим в переходе от системы, основанной на административном руководстве, к системе повышения профессиональной компетентности педагогов, основанной на самоанализе, самодиагностике и саморазвитии. Создав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мониторинга качества образования на основе компетентностного подхода, планируем соотности развитие профессиональной компетентности педагогов с формированием компетентностей учащихся; подобрать соответствующие диагностически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реализация программы информатизации образовательной среды привела к большим структурным изменениям образовательного процесса нашей школы, и мы планируем исследовать непосредственное влияние этого процесса не только на развитие компетентности педагогов, но и на качеств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F5FA-0EF4-4F2F-A309-3AF8B8C9D0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современными тенденциями развития образования МБОУ СОШ № 22 Орджоникидзевского района г. Екатеринбурга занимается проблемой развития педагогической компетентности с 2004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проект успешно реализуется как технология непрерывного профессионального роста педагогов на основе развития педагогической компетентности, так как содержит основные структурные элементы технологии и является описанием процесса достижения планируем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CE93-E3F1-4EA8-89DB-D4E2A65B6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деи проекта представлены на слай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5D0-BBD2-459E-830E-AD8B1C5FC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еимением времени сегодня нет возможности презентовать проект целиком, для раскрытия заявленной темы остановлюсь только на технологических этапах реализации проекта, чтоб представить методику его реализации на уровне управления в учреждении и на уровне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88D-5B20-4FFC-8EB4-3C01FDD643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едставлена на данной сх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7407-EB2D-4FF9-A5CF-4B56609EE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подготовительный: определение целей и задач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CFFF-62B3-4106-95D8-144541519E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этап: исходно-диагностический: был составлен банк методик исследования уровн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уда вошел комплект методик диагностики успешности учителя, предложенный В.М.Лизинским и Е.В.Макаровой, методики диагностики  ряда авторов: Т.В.Морозовой, А.К.Марковой, Н.Голубева, П.Битинаса, Л.М.Митиной, Е.А.Федоровой, Н.Н.Водопьяновой, С.Л.Фоменко, А.И.Кочетова, Ю.К.Бабанского, А.Д.Деминцева, П.А.Победоносцева, В.С.Грехнева. Были выбраны исследования, направленные на выполнение поставленных задач. Принципиальной позицией являлось: оценивание учителя на основании того, что сообщает учитель о себе сам, так как не было цели дать учителю внешнюю экспертную оценку, а необходимо было стимулировать учителя к осмыслению и решению собственных профессиональ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D14-B6B8-4618-934C-1DADE25BCB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годовым графиком диагностики педагогический коллектив не испытывал большой нагрузки при проведении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085-BC72-4772-86AE-E6C4D84627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 заносятся в индивидуальную карту педагога (разработана программа в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 Excel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 основе которой совместно с педагогом разрабатывается индивидуальная программа развития профессиональной компетентности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7F1C-BAAA-477C-BE71-5954F16EBD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090-A038-49F4-B1C8-35CCA0F3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6D2-3EEA-46EB-BDD9-2D5106CA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C77-B9BC-403C-872C-90F07C12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742-B4C0-4368-8DBE-E70B9B17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9C16-BB5D-4F5F-AFDA-854F78EF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089-CE84-42C4-933C-2E42CE64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90E-98F5-4CEA-B32C-5FB75C0B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B8D-D4CF-4CCC-9025-868FA37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E7DD-A544-48C8-A213-ACC0BD1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C24-806C-432C-911E-B5DCF26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F71-5C44-48C0-A767-472D924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0E6-15BB-43C6-8DAC-5A49EC0F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F99-465D-425A-B9FE-FB86D50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AA73-C59E-42F9-A701-FD88FEC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54A5-B0EB-4263-A47A-C247898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991F-7164-4BB6-9B1D-07C43D7F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C32-A364-4F99-A271-FFE312E8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9A62-62CC-4D22-9F35-FA619710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69C0-6BA5-43EC-A5EA-E361A53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ECDB-5483-4611-BEC4-08BE147C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ECB0-0698-4BB3-A68F-5FF02E12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E456-DD58-481B-8C81-853893A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479-25D4-4B09-ADF4-1C2490B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4712-A084-480A-898F-D8C80DF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E1B6-F71D-4769-8EF8-1946869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1F06-BF6D-4142-862A-25C0801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A957-9DDA-495B-80CA-F0A1648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2570-9EAC-45E2-8CCB-49390E3D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AD74-D233-4D73-A0B2-9A4C5652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37AB-51B5-4506-A09D-0171F999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5AB5-31CD-43D6-A2A7-80D6ECE2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BFAF-A19E-44D7-8473-5138AD5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4F14-1C3A-49F8-BFA0-876B49C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0DF-DF47-4BD5-A427-3D323D5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AEF6-4F9F-45ED-9C8C-56DE664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A64E-2C44-4198-8A39-B20D305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2C6D-6669-40F6-975A-D129988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7797-2016-49B6-898B-5D28055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13A3-4FBE-45FF-8B8D-37EB8A3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B1AE-ACDF-4881-98B9-34825C0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CEE9-1B6C-4CA1-BFF6-2371419B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3986-5450-4520-B63D-E1781BB1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0BC8-6EED-4FF1-8901-DC5F28B9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CCEA-E905-4166-8873-D59E9949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400-31DE-47B8-A567-00483304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BB4B3-44B3-45B4-8FB7-55708A7E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4205-F463-4673-89F3-2A51FAB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A24A3-418E-4273-B945-CDB11920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4D73-E851-46EB-84DA-CBA01FA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89DF-9F61-427F-A1E4-2D3D4DD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8088-125E-479E-8476-862CC7F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D985-3DD8-4545-AE9E-66A115F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C951-976A-4E6C-9762-48D790F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5659-61EB-4E43-8FE9-60E826FA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DB86-9583-40EB-BD78-322466E4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4E7-ACEB-4BD4-9748-E256163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976E-FDB2-4D81-9803-03158C98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CDFA-2234-4083-8B20-F0DCC6D8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6E0F-DF5E-4DBE-80B8-F5356A79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D801-C1EA-4553-82B1-85022F58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28AB-F9C6-4114-A3E7-E5607985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5D35C-3E76-47A4-988E-3E9A6E2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77FF-6D0A-4B93-8596-66C55D06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8B0D-67B8-4566-87CB-0276704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6A13-DD2D-4157-AC01-F153D52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0FB1-2EDD-477D-9259-B0CE968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D2E-47CF-4265-8B29-D80FDC8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20B2-5B29-4B2A-B9B9-69FCB43C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DD0F-4896-42A2-873A-9AA2157A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6D82-977A-44D5-8EFC-1A139FE8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06F8-F529-4904-AF6C-0D799B5D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60AA-EB5C-4024-8B62-6365D2A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7425-4061-4DB4-9E3D-14353A7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828E-311E-40BF-A626-5C7EC623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38AB-9D3C-468C-B22E-D852D90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E4BE4-13F4-4F2D-A2E7-F81271E0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B3083-8016-4347-BD2B-87ED9893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AE-71F0-4997-BF49-7852AD2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BCEF5-D479-40C7-AF68-F697E55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0B8B-C7D6-4BCF-B2DE-00C989E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841FA-4D8F-4A2C-AEA0-538745C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E6E3-1A93-4FAD-8DEA-D3EBCBFD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0A9F8-1F13-4C3D-A99D-CE9E39F8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82B-71C1-45D8-99B5-9A57B07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F397-DB1B-45AE-BD7F-1458F212BAC5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C86-87BB-47AD-AA5B-4A718C3C0B95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7430-C2D7-4301-998B-E881C83C1B4B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A69-CEFA-4141-8AA7-44816FB17D47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4DD-7891-471E-BBAF-41DA3B756D0E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7FD-6F1E-4262-A4A6-413D6F2C4DB1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1d8b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3de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742-1CD3-4938-9C2F-3B3A59566E9C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0;&#1091;&#1088;&#1089;&#1099;%20&#1087;&#1086;%20&#1072;&#1090;&#1090;&#1077;&#1089;&#1090;&#1072;&#1094;&#1080;&#1080;%20&#1079;&#1072;&#1095;&#1077;&#1090;/&#1044;&#1080;&#1072;&#1075;&#1085;&#1086;&#1089;&#1090;&#1080;&#1082;&#1072;%20&#1087;&#1088;&#1086;&#1092;&#1077;&#1089;&#1089;&#1080;&#1086;&#1085;&#1072;&#1083;&#1080;&#1079;&#1084;&#1072;%20&#1088;&#1077;&#1081;&#1090;&#1080;&#1085;&#1075;&#1080;.xlsx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«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Сопровождение деятельности педагога </a:t>
            </a:r>
            <a:br>
              <a:rPr sz="3600"/>
            </a:b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в межаттестационный период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»</a:t>
            </a:r>
            <a:endParaRPr b="0" lang="en-US" sz="36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5686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3 этап: проектны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5" name="Содержимое 2"/>
          <p:cNvGrpSpPr/>
          <p:nvPr/>
        </p:nvGrpSpPr>
        <p:grpSpPr>
          <a:xfrm>
            <a:off x="30240" y="725400"/>
            <a:ext cx="9229680" cy="5937480"/>
            <a:chOff x="30240" y="725400"/>
            <a:chExt cx="9229680" cy="5937480"/>
          </a:xfrm>
        </p:grpSpPr>
        <p:pic>
          <p:nvPicPr>
            <p:cNvPr id="34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240" y="725400"/>
              <a:ext cx="922968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57120" y="1000080"/>
              <a:ext cx="8572680" cy="52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Собеседование с педагогом, заполнение технологической карты индивидуального профессионального развития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пределение  наиболее актуального для педагога перечня задач по повышению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Анализ технологических карт профессионального развития педагогов, составление годового плана работы ОУ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ехнологическая карта индивидуального профессионального развития педагог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9" name="Загнутый угол 4"/>
          <p:cNvSpPr/>
          <p:nvPr/>
        </p:nvSpPr>
        <p:spPr>
          <a:xfrm>
            <a:off x="214200" y="1143000"/>
            <a:ext cx="8786880" cy="5500800"/>
          </a:xfrm>
          <a:prstGeom prst="foldedCorner">
            <a:avLst>
              <a:gd name="adj" fmla="val 16666"/>
            </a:avLst>
          </a:prstGeom>
          <a:solidFill>
            <a:srgbClr val="ffe7cd"/>
          </a:solidFill>
          <a:ln w="9360">
            <a:solidFill>
              <a:srgbClr val="604878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357120" y="1214280"/>
            <a:ext cx="8501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 Общие сведения о педагог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 Методическая тема, над которой работает педагог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 Результаты исследования профессионализма педагога на момент составления карты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 Модель научно-методического сопровождения, методическая групп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 Цель работы по повышения квалификации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6. Задачи по достижению ц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. Основные формы повышения квалификаци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. Выбор межпредметного объединения педагогов по тем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9. Профессиональные проблемы, над которыми педагог планирует работать в этом учебном году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0. Представление результата работы (форма, срок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1. Результаты в конце учебного года (по самооценке педагога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2. Календарный план работы на учебный год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3. Матрица достижений профессионального рост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23232"/>
                </a:solidFill>
                <a:latin typeface="Corbel"/>
              </a:rPr>
              <a:t>4 этап: 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организационно - деятельностны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2" name="Содержимое 2"/>
          <p:cNvGrpSpPr/>
          <p:nvPr/>
        </p:nvGrpSpPr>
        <p:grpSpPr>
          <a:xfrm>
            <a:off x="-42840" y="865080"/>
            <a:ext cx="9302760" cy="6085080"/>
            <a:chOff x="-42840" y="865080"/>
            <a:chExt cx="9302760" cy="6085080"/>
          </a:xfrm>
        </p:grpSpPr>
        <p:pic>
          <p:nvPicPr>
            <p:cNvPr id="35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30276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5840" y="1143000"/>
              <a:ext cx="86439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мероприятий, направленных на мотивацию педагогов, на гармонизацию отношений в педагогическом коллективе и преодоление сопротивления инновация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рганизация работы, направленной на ликвидацию выявленных пробле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системы мероприятий, направленных на рост профессионализма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5 этап: </a:t>
            </a:r>
            <a:r>
              <a:rPr b="0" lang="en-US" sz="3900" spc="-1" strike="noStrike">
                <a:solidFill>
                  <a:srgbClr val="000000"/>
                </a:solidFill>
                <a:latin typeface="Corbel"/>
              </a:rPr>
              <a:t>промежуточно-диагностически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6" name="Содержимое 2"/>
          <p:cNvGrpSpPr/>
          <p:nvPr/>
        </p:nvGrpSpPr>
        <p:grpSpPr>
          <a:xfrm>
            <a:off x="-42840" y="865080"/>
            <a:ext cx="9229680" cy="6085080"/>
            <a:chOff x="-42840" y="865080"/>
            <a:chExt cx="9229680" cy="6085080"/>
          </a:xfrm>
        </p:grpSpPr>
        <p:pic>
          <p:nvPicPr>
            <p:cNvPr id="3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22968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85840" y="1143000"/>
              <a:ext cx="857232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Проанализировать промежуточные результаты работы, оценивая эффективность каждого мероприятия, уточняя уровень реальных достижений педагога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Сопоставить полученный результат с желаемым и внести коррективы в дальнейшую деятельность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0009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Матрица достижений профессионального рос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143000" y="1643040"/>
          <a:ext cx="7643880" cy="4786200"/>
        </p:xfrm>
        <a:graphic>
          <a:graphicData uri="http://schemas.openxmlformats.org/drawingml/2006/table">
            <a:tbl>
              <a:tblPr/>
              <a:tblGrid>
                <a:gridCol w="654120"/>
                <a:gridCol w="1322280"/>
                <a:gridCol w="1909800"/>
                <a:gridCol w="2548080"/>
                <a:gridCol w="1209600"/>
              </a:tblGrid>
              <a:tr h="94608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робл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дел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езульт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(что получено, чему научился, что разработ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</a:tr>
              <a:tr h="12700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26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736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sp>
        <p:nvSpPr>
          <p:cNvPr id="361" name="Rectangle 1"/>
          <p:cNvSpPr/>
          <p:nvPr/>
        </p:nvSpPr>
        <p:spPr>
          <a:xfrm>
            <a:off x="2880" y="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3232"/>
                </a:solidFill>
                <a:latin typeface="Corbel"/>
              </a:rPr>
              <a:t>6 этап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итогово-аналитически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63" name="Содержимое 2"/>
          <p:cNvGrpSpPr/>
          <p:nvPr/>
        </p:nvGrpSpPr>
        <p:grpSpPr>
          <a:xfrm>
            <a:off x="-42840" y="798480"/>
            <a:ext cx="9229680" cy="6151680"/>
            <a:chOff x="-42840" y="798480"/>
            <a:chExt cx="9229680" cy="6151680"/>
          </a:xfrm>
        </p:grpSpPr>
        <p:pic>
          <p:nvPicPr>
            <p:cNvPr id="3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798480"/>
              <a:ext cx="9229680" cy="61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85840" y="1071720"/>
              <a:ext cx="8572320" cy="55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вести итоговую диагностику уровня профессионализма педагогов по тем критериям, которые были выбраны для педагога в соответствии с индивидуальной программой его развития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уровень профессионализма педагога, сравнивая полученные результаты с ожидаемыми, найти возможные несоответствия и спланировать работу на следующий период времени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эффективность мероприятий, проводимых для решения поставленных задач с точки зрения оценки выполнения поставленных задач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614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управленческой деятельности по организации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непрерывного процесса развития профессионализма педагогов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и повышения качества образования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Критерии оценки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42640" y="1447560"/>
            <a:ext cx="7791480" cy="519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Динамика изменений  условий организации системы методической работы О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Уровни сформированности доминирующих компетентностей педагог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. Уровень профессиональных достижений педагог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. Динамика изменения успеваемости и качества образо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. Уровень сформированности общеучебных умений выпускни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1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6320" y="1521000"/>
            <a:ext cx="9067680" cy="5313240"/>
          </a:xfrm>
          <a:prstGeom prst="rect">
            <a:avLst/>
          </a:prstGeom>
          <a:ln cap="sq" w="38160">
            <a:solidFill>
              <a:srgbClr val="b45f0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Перспективы развития проект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000080"/>
            <a:ext cx="8893080" cy="58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зработать этапы управленческой деятельности по переходу к системе, основанной на самоанализе, самодиагностике и саморазвитии педагогов.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бота в электронном портфолио педагог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оздать и реализовать в практике работы ОУ систему мониторинга качества образования на основе компетентностного подхода, позволяющую соотносить развитие профессиональной компетентности педагогов с формированием компетентностей учащихся; выбрать соответствующие диагностические материал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родолжить работу по информатизации образовательной среды ОУ, обеспечить эффективную работу школьной локальной сети, расширить использование формы дистанционного обучения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58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Проект: 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«Развитие профессиональной компетентности педагогов на основе индивидуальной траектории как условие повышения качества образования»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rbel"/>
              </a:rPr>
              <a:t>Основные идеи проек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31640" y="1844640"/>
            <a:ext cx="7458120" cy="450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овышение профессионализма педагога должно быть непрерывным процесс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ля каждого педагога должны выявляться индивидуальные профессиональные пробле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а основе выявленных проблем необходимо выбрать индивидуальную программу повышения профессионального уровня педаго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60104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Технологические этапы системы </a:t>
            </a:r>
            <a:br>
              <a:rPr sz="4400"/>
            </a:b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научно-методического сопровождения развития профессиональной компетентности</a:t>
            </a:r>
            <a:r>
              <a:rPr b="1" lang="en-US" sz="3600" spc="-1" strike="noStrike">
                <a:solidFill>
                  <a:srgbClr val="323232"/>
                </a:solidFill>
                <a:latin typeface="Corbel"/>
              </a:rPr>
              <a:t> </a:t>
            </a: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педагогов</a:t>
            </a:r>
            <a:endParaRPr b="0" lang="en-US" sz="44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orbel"/>
              </a:rPr>
              <a:t>Этапы организации методической работы  учителя по индивидуальной траектории 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28" name="Схема 4" descr=""/>
          <p:cNvPicPr/>
          <p:nvPr/>
        </p:nvPicPr>
        <p:blipFill>
          <a:blip r:embed="rId2"/>
          <a:stretch/>
        </p:blipFill>
        <p:spPr>
          <a:xfrm>
            <a:off x="2462040" y="1444680"/>
            <a:ext cx="44992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1 этап: подготовительный </a:t>
            </a:r>
            <a:br>
              <a:rPr sz="3900"/>
            </a:b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0" name="Содержимое 2"/>
          <p:cNvGrpSpPr/>
          <p:nvPr/>
        </p:nvGrpSpPr>
        <p:grpSpPr>
          <a:xfrm>
            <a:off x="171360" y="1511280"/>
            <a:ext cx="9069480" cy="5029200"/>
            <a:chOff x="171360" y="1511280"/>
            <a:chExt cx="9069480" cy="5029200"/>
          </a:xfrm>
        </p:grpSpPr>
        <p:pic>
          <p:nvPicPr>
            <p:cNvPr id="33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71360" y="1511280"/>
              <a:ext cx="90694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00040" y="1785960"/>
              <a:ext cx="8410680" cy="43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Определение цели повышения квалификации педагогов в соответствии с задачами развития школы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Определение задач деятельности, направленной на создание условий для профессионального роста педагогов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2 этап: исходно – диагностический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4" name="Содержимое 2"/>
          <p:cNvGrpSpPr/>
          <p:nvPr/>
        </p:nvGrpSpPr>
        <p:grpSpPr>
          <a:xfrm>
            <a:off x="-23760" y="1279440"/>
            <a:ext cx="9070920" cy="5597640"/>
            <a:chOff x="-23760" y="1279440"/>
            <a:chExt cx="9070920" cy="5597640"/>
          </a:xfrm>
        </p:grpSpPr>
        <p:pic>
          <p:nvPicPr>
            <p:cNvPr id="33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23760" y="1279440"/>
              <a:ext cx="9070920" cy="55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04920" y="1554120"/>
              <a:ext cx="8410320" cy="49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исходной диагностики уровня профессионализма педагогов по тем показателям, которые будут отслеживаться в дальнейшем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Исследование запросов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Ранжирование коллектива педагогов по группам с различными проблемами в развитии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23232"/>
                </a:solidFill>
                <a:latin typeface="Corbel"/>
              </a:rPr>
              <a:t>График проведения диагностики педагогического коллектива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38" name="Таблица 5" descr=""/>
          <p:cNvPicPr/>
          <p:nvPr/>
        </p:nvPicPr>
        <p:blipFill>
          <a:blip r:embed="rId2"/>
          <a:stretch/>
        </p:blipFill>
        <p:spPr>
          <a:xfrm>
            <a:off x="79200" y="1390680"/>
            <a:ext cx="891864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6b9f25"/>
                </a:solidFill>
                <a:uFillTx/>
                <a:latin typeface="Corbel"/>
                <a:hlinkClick r:id="rId2"/>
              </a:rPr>
              <a:t>Индивидуальная карта педагог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0" name="Загнутый угол 4"/>
          <p:cNvGrpSpPr/>
          <p:nvPr/>
        </p:nvGrpSpPr>
        <p:grpSpPr>
          <a:xfrm>
            <a:off x="285840" y="1090440"/>
            <a:ext cx="8791560" cy="5651640"/>
            <a:chOff x="285840" y="1090440"/>
            <a:chExt cx="8791560" cy="5651640"/>
          </a:xfrm>
        </p:grpSpPr>
        <p:pic>
          <p:nvPicPr>
            <p:cNvPr id="341" name="Загнутый угол 4" descr=""/>
            <p:cNvPicPr/>
            <p:nvPr/>
          </p:nvPicPr>
          <p:blipFill>
            <a:blip r:embed="rId3"/>
            <a:stretch/>
          </p:blipFill>
          <p:spPr>
            <a:xfrm>
              <a:off x="285840" y="1090440"/>
              <a:ext cx="879156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57120" y="1143000"/>
              <a:ext cx="864396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43" name="Rectangle 1" descr=""/>
          <p:cNvPicPr/>
          <p:nvPr/>
        </p:nvPicPr>
        <p:blipFill>
          <a:blip r:embed="rId4"/>
          <a:stretch/>
        </p:blipFill>
        <p:spPr>
          <a:xfrm>
            <a:off x="426960" y="1212840"/>
            <a:ext cx="9363240" cy="61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06:10:02Z</dcterms:created>
  <dc:creator>Алексей Шигайкин</dc:creator>
  <dc:description/>
  <dc:language>en-US</dc:language>
  <cp:lastModifiedBy>user</cp:lastModifiedBy>
  <dcterms:modified xsi:type="dcterms:W3CDTF">2011-04-06T08:40:32Z</dcterms:modified>
  <cp:revision>359</cp:revision>
  <dc:subject/>
  <dc:title>Слайд 1</dc:title>
</cp:coreProperties>
</file>