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ldNum" idx="2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EA10-0E8A-4F54-9E1C-D8CDDB257C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23232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F0B6-3A42-442B-BECB-BE649C48A6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 данном этапе ежегодно проводитс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бор содержания, которым должны овладеть педагоги и разрабатывается общешкольная система мероприятий для освоения содержания и мотивации педаг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В разные годы были организованы группы: педагоги-стажисты, молодые педагоги, вновь пришедшие в данную школу, аттестующиеся педагоги, работающие по инновационным направлениям, испытывающие затруднения сходного характера, работающие по сходным методическим темам и др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в последние годы педагоги в наибольшей степени занимаются развитием ИКТ-компетентности, а также использованием проектных и исследовательских методов в обучении, эти группы педагогов межпредметны и многочисленны. Как правило, один педагог участвует в работе нескольких групп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ирование управленческой деятельности проводится по группам и отражено в годовом плане работы школы и программах управленческой деятельности по направлен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91EA-0852-4B10-928B-C83C60A1CE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оритм составления программы представлен в виде «Технологической карты индивидуального профессионального развития педагога», которая в настоящее время ведется в электронном виде и станет основой электронного портфолио уч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компоненты входящей в технологическую карту информации вы можете видеть на данном слайде, заполнение происходит в процессе собеседования с педагог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программы развития профессионально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етентности  педагога основано не только на результатах  исходной диагностики, но и собственных потребностях, возможностях педагога, далеко не все, что показывают результаты диагностики, может быть значимым для самого педагог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оказал наш опыт, уже просто составление карты способствует мотивации педагога к развитию профессиональной компетентности, у нас в учреждении работа с технологической картой оценивается в рейтинге достижений педагога и учитывается при распределении стимулирующей части фонда оплаты тру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ланируется на различных уровнях: самообразование, курсовая подготовка, работа в предметных методических объединениях, в работе проблемных групп, посещение семинаров, участие в конкурсах, подготовка публикаций и ряд других. Именно приведение в систему всего набора этих форм работы обеспечивает составление данной технологической карты, тогда работа по самообразованию педагога не имеет стихийного  характе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24F4-6A92-48DC-BB71-8B4C0A642B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предлагаем педагогам достаточное количество мероприятий, из которых они выбирают необходимые для себя. Содержание педагогических советов, семинаров, заседаний МО отбирается с учетом их влияния на профессиональный рост педагога, учитывается актуальность тематики для целей развития школ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 заполняют в своей технологической карте план посещения мероприятий, представленный на слайде, чтобы самому педагогу можно было отследить, все ли задачи будут решены, в качестве стимула к посещению мероприятий введены рейтинговые баллы, и педагоги ежемесячно сдают отчет о том, что было сдела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66AE-F633-44B0-93CA-023C32ED51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ы данного этапа находят отражение в матрице достижений профессионального развития педаг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9888-E446-4700-B7F7-C50F2D0FCC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ение данной страницы в технологической карте имеет большую ценность для педагога, так как позволяет ежегодно анализировать результаты своей деятельности, и помогает подготовиться к следующей аттестации, обеспечит мотивацию к дальнейшему профессиональному продвиже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месте с тем мы понимаем, такая отчетная документация не должна занимать у педагога много времени, не превращаться в ежегодный аналитический отчет, потому вся процедура состоит в заполнении таблицы. По возможности, заполнить ее можно в процессе собеседования с руководителем по результатам работы за г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авило, за 5 лет забывается результативность тех мероприятий, которые педагог за межаттестационный период посетил, у нас такая работа проводится ежегодно и за 5 лет у педагога накапливается 5 таких страниц, данный документ является основой для составления аналитического отчета за межаттестационный период. Уже на этапе составления заявления на аттестацию педагоги по достоинству оценивают данный доку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6CB7-5676-4F69-A2BA-615FB115AD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ные задачи этапа решаются в процессе собеседования с педагогом по итогам года при заполнении матрицы дости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алгоритм имеет замкнутый цикл, повторяющийся на новом уровне в каждом учебном году. За межаттестационный период проходит 5 циклов. Отражение их результатов в технологической карте дает возможность педагогу легко описать в аналитическом отчете результаты работы, пути достижения целей свое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77D0-1746-40F2-997F-D2EF9049DE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ценки эффективности реализации этапов управленческой деятельности по организации процесса повышения профессиональной компетентности педагогов нами был выбран ряд критериев и показателей; подобраны и составлены методики диагностики, разработаны программы для компьютерного анализа результатов исследо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FE7F-4DE9-43A9-B3DA-34F1CD64F3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итерии оценки эффективности реализации этапов програм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Уровень мотивации трудовой деятельности педагогов и характеристика структуры мотивов трудов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инамика изменений условий организации системы методической работы ОУ.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Уровни сформированности доминирующих компетентностей педаг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Уровень соответствия профессиональной компетентности педагога требованиям профессионально-квалификационных характерист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Уровень профессиональных достижений педаг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Динамика изменения успеваемости и качества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Уровень сформированности общеучебных умений выпуск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казатели, по которым отслеживались данные критерии, представлены в компьютерной программе, разработанной в среде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S Excel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ное оформление результатов диагностических исследований позволяет видеть динамику развития профессиональной компетентности педагогов учреждения и индивидуальную диагностику каждого педагога в течение межаттестационного пери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F06B-92EC-4701-B0F4-ADC432B582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итерии оценки эффективности реализации этапов програм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Уровень мотивации трудовой деятельности педагогов и характеристика структуры мотивов трудов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инамика изменений условий организации системы методической работы ОУ.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Уровни сформированности доминирующих компетентностей педаг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Уровень соответствия профессиональной компетентности педагога требованиям профессионально-квалификационных характерист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Уровень профессиональных достижений педаг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Динамика изменения успеваемости и качества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Уровень сформированности общеучебных умений выпуск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казатели, по которым отслеживались данные критерии, представлены в компьютерной программе, разработанной в среде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S Excel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ное оформление результатов диагностических исследований позволяет видеть динамику развития профессиональной компетентности педагогов учреждения и индивидуальную диагностику каждого педагога в течение межаттестационного пери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0A4A-A03F-4EFA-B4F7-EE33A7065E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ная нами система повышения профессиональной компетентности актуальна и перспективна для нашей школы, так как соответствует тенденциям её развития, учитывает индивидуальные особенности и закономерности профессионального становления педагога, способствует повышению уровня его профессионализма, мобильна и открыта дальнейшему развит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ы развития мы видим в переходе от системы, основанной на административном руководстве, к системе повышения профессиональной компетентности педагогов, основанной на самоанализе, самодиагностике и саморазвитии. Создава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у мониторинга качества образования на основе компетентностного подхода, планируем соотности развитие профессиональной компетентности педагогов с формированием компетентностей учащихся; подобрать соответствующие диагностические материа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ме того, реализация программы информатизации образовательной среды привела к большим структурным изменениям образовательного процесса нашей школы, и мы планируем исследовать непосредственное влияние этого процесса не только на развитие компетентности педагогов, но и на качество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91BC-4BDE-4065-9EEA-5412E91AA7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современными тенденциями развития образования МБОУ СОШ № 22 Орджоникидзевского района г. Екатеринбурга занимается проблемой развития педагогической компетентности с 2004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егодняшний день проект успешно реализуется как технология непрерывного профессионального роста педагогов на основе развития педагогической компетентности, так как содержит основные структурные элементы технологии и является описанием процесса достижения планируемых результа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DBF0-E24A-436D-8A2E-08044EEE14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идеи проекта представлены на слай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259D-390C-42A0-BC5C-9B917F0D4F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неимением времени сегодня нет возможности презентовать проект целиком, для раскрытия заявленной темы остановлюсь только на технологических этапах реализации проекта, чтоб представить методику его реализации на уровне управления в учреждении и на уровне педаг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C17B-C70D-4D3F-A3D0-5CB8082DD3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овательность представлена на данной сх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CE5B-D010-477A-808E-CCFDF144E2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этап подготовительный: определение целей и задач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F37F-C0D7-471C-BC63-372FC89DB4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 этап: исходно-диагностический: был составлен банк методик исследования уровня профессиональной компетентности педагог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уда вошел комплект методик диагностики успешности учителя, предложенный В.М.Лизинским и Е.В.Макаровой, методики диагностики  ряда авторов: Т.В.Морозовой, А.К.Марковой, Н.Голубева, П.Битинаса, Л.М.Митиной, Е.А.Федоровой, Н.Н.Водопьяновой, С.Л.Фоменко, А.И.Кочетова, Ю.К.Бабанского, А.Д.Деминцева, П.А.Победоносцева, В.С.Грехнева. Были выбраны исследования, направленные на выполнение поставленных задач. Принципиальной позицией являлось: оценивание учителя на основании того, что сообщает учитель о себе сам, так как не было цели дать учителю внешнюю экспертную оценку, а необходимо было стимулировать учителя к осмыслению и решению собственных профессиональных пробл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735D-8010-41B2-A00B-4FCDC05DE7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годовым графиком диагностики педагогический коллектив не испытывал большой нагрузки при проведении исслед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401D-291D-497E-9457-6740FADA2B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ы диагностик заносятся в индивидуальную карту педагога (разработана программа в сред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S Excel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а основе которой совместно с педагогом разрабатывается индивидуальная программа развития профессиональной компетентности педагог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1D36-D587-4720-A2D7-08F80C30C9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56AF-C9B5-41A5-A6A3-965693CFB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D349-AE25-43AC-98EC-267567F2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B67D-4850-4B45-8F58-032791D0B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68B5-B4D7-440C-AF18-D6D71D741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97A6-FFF2-4EBA-8A3C-2B0F8C572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3B08-46A0-4DD0-9EBE-2AB85560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1892F-4323-4769-80A5-6F926A06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49F3-A424-4FA7-8310-4262BD92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61FE-933A-44E6-8607-27C925E7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0CDF-D064-45CB-8AAC-0F0B5967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6800-3FE3-44CE-83D0-2E2C80E9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42D4-EF0D-438A-8ADD-DEE99801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D0BC-E7E7-4B67-BD26-FF620EC8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5BBC-494C-491C-A4A2-A2E87572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6F2C-9CD2-4585-B21B-8089412A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5A82-B894-4730-A4CA-773EB3291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4F7C-C66E-46D0-A071-C268B700B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E8C67-8D6C-4810-923A-DA519ED33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E7731-259F-4771-AEA0-F160486B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48BB0-9E85-4F50-AE55-6B27ABD3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1AED1-7CA9-4001-B941-09B44848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9C3DD-C5AB-4B9A-887A-B28C27CA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E1F5-A7E0-4A87-991B-484EACDD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25153-3FE2-4158-883A-68F24788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A8D62-B6E7-4F49-8A4B-80C15301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7716C-C798-434B-B558-95043447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F2044-27C9-4D0C-8088-E9047B20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390AD-CA60-4965-989D-7FD3DB12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8C3D9-09FF-4543-94C1-B315A7A8B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BB666-6272-47A1-8811-310936ED1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FDE2A-7280-4894-A5AF-229798981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01235-5B44-4065-B70E-72A59792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D8811-12C9-49E6-850C-B84BC095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D78F-2977-4300-B59F-235A63D6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E3039-1F8D-4C29-BCAC-733A9C67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542FA-BFAD-4F6D-AAA1-EE9E2430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D314F-B038-4DD0-940F-B69BAC34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24CA7-43B7-46B6-A0E9-5A94C032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DF189-7D70-4ECD-97D8-F9E58226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FBBC3-C44B-4696-A081-09555314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E7693-2F1E-4528-907E-C6704178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E59D1-FE28-42F1-90DF-74823F8DF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3448C-AD0F-4733-8B86-895112BEA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63B87-19E9-4828-8CC6-6BA1BB2B7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5013-2246-4ABE-B938-B07DD85E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CC24F-7280-4E51-9B2D-3E1FFA72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B42F1-811D-4918-B084-34041ACB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17EF7-00B0-48EC-A72A-4D4FE56E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85F5F-BF06-4AAD-8EEA-D4FD86D8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7E6AF-499D-4F01-990F-6E5C1184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ADDD7-23E3-4E52-B786-AF927EBF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3470C-4D12-4380-9925-8E810908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4FEDF-9C3E-4004-9FC3-BB05F6D9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D6D69-D603-438D-8CF8-907FD373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DEBC1-FD07-4842-B3FA-8F0DCC6A2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CE53-C2CB-42C3-8912-B3C3BA5C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25EB8-F50C-4B4E-9DAE-914E9774A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01A9A-C001-47B7-8693-4223E2621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06E20-3944-4978-8705-2D48697A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0452B-3DEF-4B5E-869E-BDEB0634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9D2BE-CE00-4F26-927D-C324EE35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98B10-076A-4E4D-A39C-9A0316C7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07FA5-13B3-44A1-8B77-6F39A388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95F03-6E8B-4C36-BF6A-CD45542E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C01BE-2A23-4556-A602-3EB660A8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37EC2-E53C-4998-8D9B-5A4D3D3F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BA6B-991B-47FA-BFB2-04BF3D4B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18A91-B4BA-4F44-908A-7B67D296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44D46-2D82-4F52-AB8F-A7FB8AC24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D946A-744C-4413-B291-DA668F3AB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4DEB1-06E2-4D5E-8A07-64538F4F1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74C8D-28F5-45D6-8E4A-2D66B080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E0640-08B4-4A91-8FA7-BCEF4C2B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D9BA9-6D36-452D-B1E1-83D9F3FF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AC861-60A0-43A2-A85F-1591214C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4E73F-45B4-444C-BC0D-24956ED2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D03B4-7D62-4717-B53B-EB3699C9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FF5A-8E2C-4125-8416-30E3083F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D351F-5AFA-48FE-8AE6-DD73E212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D31D6-4562-4928-99C6-E742FB90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D67C5-4984-4E5C-A8F9-8A03BDB9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90A59-94CE-4A07-910B-C1425AA23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51D66-9957-4B2C-A3DA-C6697C26D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1D72-1B96-4284-8B47-C8BCFE77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cfaf6">
              <a:alpha val="33000"/>
            </a:srgbClr>
          </a:solidFill>
          <a:ln cap="rnd" w="3240">
            <a:solidFill>
              <a:srgbClr val="c9c1a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bf4e4"/>
            </a:solidFill>
            <a:miter/>
          </a:ln>
          <a:effectLst>
            <a:outerShdw dist="12600" dir="5400000" blurRad="0" rotWithShape="0">
              <a:srgbClr val="aaa496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23232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1b587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4e85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da69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da69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da69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D5F9-E12F-4921-AD45-0378E10F8A5F}" type="slidenum">
              <a:rPr b="0" lang="en-US" sz="1200" spc="-1" strike="noStrike">
                <a:solidFill>
                  <a:srgbClr val="ada69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6b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cfaf6">
              <a:alpha val="33000"/>
            </a:srgbClr>
          </a:solidFill>
          <a:ln cap="rnd" w="3240">
            <a:solidFill>
              <a:srgbClr val="c9c1a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bf4e4"/>
            </a:solidFill>
            <a:miter/>
          </a:ln>
          <a:effectLst>
            <a:outerShdw dist="12600" dir="5400000" blurRad="0" rotWithShape="0">
              <a:srgbClr val="aaa496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6b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d36f07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23232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1b587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4e85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da69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da69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da69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BC0B-9A3B-4153-88FF-6FB0EA2C4ED2}" type="slidenum">
              <a:rPr b="0" lang="en-US" sz="1200" spc="-1" strike="noStrike">
                <a:solidFill>
                  <a:srgbClr val="ada69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6b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d36f07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23232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1b587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4e85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da69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da69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da69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91D1-980D-47D6-AD54-56E7A3998D09}" type="slidenum">
              <a:rPr b="0" lang="en-US" sz="1200" spc="-1" strike="noStrike">
                <a:solidFill>
                  <a:srgbClr val="ada69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23232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1b587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4e85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da69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da69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da69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1AE6-DFA5-455B-94F4-68F524F18F1F}" type="slidenum">
              <a:rPr b="0" lang="en-US" sz="1200" spc="-1" strike="noStrike">
                <a:solidFill>
                  <a:srgbClr val="ada69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6b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23232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1b587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4e85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da69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da69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da69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47A1-286E-47E2-B102-CB0431855903}" type="slidenum">
              <a:rPr b="0" lang="en-US" sz="1200" spc="-1" strike="noStrike">
                <a:solidFill>
                  <a:srgbClr val="ada69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23232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1b587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4e85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da69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da69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da69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10C9-734A-498F-B320-589C7541F334}" type="slidenum">
              <a:rPr b="0" lang="en-US" sz="1200" spc="-1" strike="noStrike">
                <a:solidFill>
                  <a:srgbClr val="ada69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1d8b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3ded1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23232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1b587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4e85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da69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da69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da69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68A8-DE4A-4AEF-86E7-A4F4D6A2704D}" type="slidenum">
              <a:rPr b="0" lang="en-US" sz="1200" spc="-1" strike="noStrike">
                <a:solidFill>
                  <a:srgbClr val="ada69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0;&#1091;&#1088;&#1089;&#1099;%20&#1087;&#1086;%20&#1072;&#1090;&#1090;&#1077;&#1089;&#1090;&#1072;&#1094;&#1080;&#1080;%20&#1079;&#1072;&#1095;&#1077;&#1090;/&#1044;&#1080;&#1072;&#1075;&#1085;&#1086;&#1089;&#1090;&#1080;&#1082;&#1072;%20&#1087;&#1088;&#1086;&#1092;&#1077;&#1089;&#1089;&#1080;&#1086;&#1085;&#1072;&#1083;&#1080;&#1079;&#1084;&#1072;%20&#1088;&#1077;&#1081;&#1090;&#1080;&#1085;&#1075;&#1080;.xlsx" TargetMode="External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58560" y="227628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23232"/>
                </a:solidFill>
                <a:latin typeface="Corbel"/>
              </a:rPr>
              <a:t>«</a:t>
            </a:r>
            <a:r>
              <a:rPr b="1" lang="ru-RU" sz="3600" spc="-1" strike="noStrike">
                <a:solidFill>
                  <a:srgbClr val="323232"/>
                </a:solidFill>
                <a:latin typeface="Corbel"/>
              </a:rPr>
              <a:t>Сопровождение деятельности педагога </a:t>
            </a:r>
            <a:br>
              <a:rPr sz="3600"/>
            </a:br>
            <a:r>
              <a:rPr b="1" lang="ru-RU" sz="3600" spc="-1" strike="noStrike">
                <a:solidFill>
                  <a:srgbClr val="323232"/>
                </a:solidFill>
                <a:latin typeface="Corbel"/>
              </a:rPr>
              <a:t>в межаттестационный период</a:t>
            </a:r>
            <a:r>
              <a:rPr b="1" lang="ru-RU" sz="3600" spc="-1" strike="noStrike">
                <a:solidFill>
                  <a:srgbClr val="323232"/>
                </a:solidFill>
                <a:latin typeface="Corbel"/>
              </a:rPr>
              <a:t>»</a:t>
            </a:r>
            <a:endParaRPr b="0" lang="en-US" sz="3600" spc="-1" strike="noStrike">
              <a:solidFill>
                <a:srgbClr val="323232"/>
              </a:solidFill>
              <a:latin typeface="Corbe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57200" y="-360"/>
            <a:ext cx="56865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23232"/>
                </a:solidFill>
                <a:latin typeface="Corbel"/>
              </a:rPr>
              <a:t>3 этап: проектный</a:t>
            </a: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grpSp>
        <p:nvGrpSpPr>
          <p:cNvPr id="345" name="Содержимое 2"/>
          <p:cNvGrpSpPr/>
          <p:nvPr/>
        </p:nvGrpSpPr>
        <p:grpSpPr>
          <a:xfrm>
            <a:off x="30240" y="725400"/>
            <a:ext cx="9229680" cy="5937480"/>
            <a:chOff x="30240" y="725400"/>
            <a:chExt cx="9229680" cy="5937480"/>
          </a:xfrm>
        </p:grpSpPr>
        <p:pic>
          <p:nvPicPr>
            <p:cNvPr id="346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30240" y="725400"/>
              <a:ext cx="9229680" cy="593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357120" y="1000080"/>
              <a:ext cx="8572680" cy="528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8260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1f28"/>
                  </a:solidFill>
                  <a:latin typeface="Corbel"/>
                </a:rPr>
                <a:t>Содержание этапа:</a:t>
              </a: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10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1. </a:t>
              </a: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Собеседование с педагогом, заполнение технологической карты индивидуального профессионального развития</a:t>
              </a: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10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2. </a:t>
              </a: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Определение  наиболее актуального для педагога перечня задач по повышению профессиональной компетентности</a:t>
              </a: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10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3. </a:t>
              </a: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Анализ технологических карт профессионального развития педагогов, составление годового плана работы ОУ.</a:t>
              </a: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10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10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100000"/>
                </a:lnSpc>
                <a:spcBef>
                  <a:spcPts val="601"/>
                </a:spcBef>
                <a:buClr>
                  <a:srgbClr val="f07f09"/>
                </a:buClr>
                <a:buSzPct val="8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Технологическая карта индивидуального профессионального развития педагога</a:t>
            </a:r>
            <a:endParaRPr b="0" lang="en-US" sz="32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49" name="Загнутый угол 4"/>
          <p:cNvSpPr/>
          <p:nvPr/>
        </p:nvSpPr>
        <p:spPr>
          <a:xfrm>
            <a:off x="214200" y="1143000"/>
            <a:ext cx="8786880" cy="5500800"/>
          </a:xfrm>
          <a:prstGeom prst="foldedCorner">
            <a:avLst>
              <a:gd name="adj" fmla="val 16666"/>
            </a:avLst>
          </a:prstGeom>
          <a:solidFill>
            <a:srgbClr val="ffe7cd"/>
          </a:solidFill>
          <a:ln w="9360">
            <a:solidFill>
              <a:srgbClr val="604878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TextBox 5"/>
          <p:cNvSpPr/>
          <p:nvPr/>
        </p:nvSpPr>
        <p:spPr>
          <a:xfrm>
            <a:off x="357120" y="1214280"/>
            <a:ext cx="850104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1. Общие сведения о педагоге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2. Методическая тема, над которой работает педагог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3. Результаты исследования профессионализма педагога на момент составления карты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4. Модель научно-методического сопровождения, методическая группа педагога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5. Цель работы по повышения квалификации педагога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6. Задачи по достижению цели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7. Основные формы повышения квалификации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8. Выбор межпредметного объединения педагогов по теме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9. Профессиональные проблемы, над которыми педагог планирует работать в этом учебном году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10. Представление результата работы (форма, срок)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11. Результаты в конце учебного года (по самооценке педагога)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12. Календарный план работы на учебный год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13. Матрица достижений профессионального роста педагога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14384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323232"/>
                </a:solidFill>
                <a:latin typeface="Corbel"/>
              </a:rPr>
              <a:t>4 этап: </a:t>
            </a:r>
            <a:r>
              <a:rPr b="0" lang="ru-RU" sz="3900" spc="-1" strike="noStrike">
                <a:solidFill>
                  <a:srgbClr val="000000"/>
                </a:solidFill>
                <a:latin typeface="Corbel"/>
              </a:rPr>
              <a:t>организационно - деятельностный</a:t>
            </a:r>
            <a:endParaRPr b="0" lang="en-US" sz="3900" spc="-1" strike="noStrike">
              <a:solidFill>
                <a:srgbClr val="323232"/>
              </a:solidFill>
              <a:latin typeface="Corbel"/>
            </a:endParaRPr>
          </a:p>
        </p:txBody>
      </p:sp>
      <p:grpSp>
        <p:nvGrpSpPr>
          <p:cNvPr id="352" name="Содержимое 2"/>
          <p:cNvGrpSpPr/>
          <p:nvPr/>
        </p:nvGrpSpPr>
        <p:grpSpPr>
          <a:xfrm>
            <a:off x="-42840" y="865080"/>
            <a:ext cx="9302760" cy="6085080"/>
            <a:chOff x="-42840" y="865080"/>
            <a:chExt cx="9302760" cy="6085080"/>
          </a:xfrm>
        </p:grpSpPr>
        <p:pic>
          <p:nvPicPr>
            <p:cNvPr id="353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-42840" y="865080"/>
              <a:ext cx="9302760" cy="60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285840" y="1143000"/>
              <a:ext cx="8643960" cy="542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8260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1f28"/>
                  </a:solidFill>
                  <a:latin typeface="Corbel"/>
                </a:rPr>
                <a:t>Содержание этапа:</a:t>
              </a: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10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1. </a:t>
              </a: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Проведение мероприятий, направленных на мотивацию педагогов, на гармонизацию отношений в педагогическом коллективе и преодоление сопротивления инновациям.</a:t>
              </a: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10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2. </a:t>
              </a: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Организация работы, направленной на ликвидацию выявленных проблем.</a:t>
              </a: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10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3. </a:t>
              </a: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Проведение системы мероприятий, направленных на рост профессионализма педагогов.</a:t>
              </a: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10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10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100000"/>
                </a:lnSpc>
                <a:spcBef>
                  <a:spcPts val="601"/>
                </a:spcBef>
                <a:buClr>
                  <a:srgbClr val="f07f09"/>
                </a:buClr>
                <a:buSzPct val="8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23232"/>
                </a:solidFill>
                <a:latin typeface="Corbel"/>
              </a:rPr>
              <a:t>5 этап: </a:t>
            </a:r>
            <a:r>
              <a:rPr b="0" lang="en-US" sz="3900" spc="-1" strike="noStrike">
                <a:solidFill>
                  <a:srgbClr val="000000"/>
                </a:solidFill>
                <a:latin typeface="Corbel"/>
              </a:rPr>
              <a:t>промежуточно-диагностический</a:t>
            </a:r>
            <a:endParaRPr b="0" lang="en-US" sz="3900" spc="-1" strike="noStrike">
              <a:solidFill>
                <a:srgbClr val="323232"/>
              </a:solidFill>
              <a:latin typeface="Corbel"/>
            </a:endParaRPr>
          </a:p>
        </p:txBody>
      </p:sp>
      <p:grpSp>
        <p:nvGrpSpPr>
          <p:cNvPr id="356" name="Содержимое 2"/>
          <p:cNvGrpSpPr/>
          <p:nvPr/>
        </p:nvGrpSpPr>
        <p:grpSpPr>
          <a:xfrm>
            <a:off x="-42840" y="865080"/>
            <a:ext cx="9229680" cy="6085080"/>
            <a:chOff x="-42840" y="865080"/>
            <a:chExt cx="9229680" cy="6085080"/>
          </a:xfrm>
        </p:grpSpPr>
        <p:pic>
          <p:nvPicPr>
            <p:cNvPr id="357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-42840" y="865080"/>
              <a:ext cx="9229680" cy="60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285840" y="1143000"/>
              <a:ext cx="8572320" cy="542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8260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71f28"/>
                  </a:solidFill>
                  <a:latin typeface="Corbel"/>
                </a:rPr>
                <a:t>Задачами этого этапа являются:</a:t>
              </a:r>
              <a:endParaRPr b="0" lang="en-US" sz="36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10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1. </a:t>
              </a:r>
              <a:r>
                <a:rPr b="0" lang="en-US" sz="3600" spc="-1" strike="noStrike">
                  <a:solidFill>
                    <a:srgbClr val="000000"/>
                  </a:solidFill>
                  <a:latin typeface="Corbel"/>
                </a:rPr>
                <a:t>Проанализировать промежуточные результаты работы, оценивая эффективность каждого мероприятия, уточняя уровень реальных достижений педагога.</a:t>
              </a:r>
              <a:endParaRPr b="0" lang="en-US" sz="36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10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rbel"/>
                </a:rPr>
                <a:t>2. </a:t>
              </a:r>
              <a:r>
                <a:rPr b="0" lang="en-US" sz="3600" spc="-1" strike="noStrike">
                  <a:solidFill>
                    <a:srgbClr val="000000"/>
                  </a:solidFill>
                  <a:latin typeface="Corbel"/>
                </a:rPr>
                <a:t>Сопоставить полученный результат с желаемым и внести коррективы в дальнейшую деятельность.</a:t>
              </a:r>
              <a:endParaRPr b="0" lang="en-US" sz="36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10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100000"/>
                </a:lnSpc>
                <a:spcBef>
                  <a:spcPts val="601"/>
                </a:spcBef>
                <a:buClr>
                  <a:srgbClr val="f07f09"/>
                </a:buClr>
                <a:buSzPct val="8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28480" y="0"/>
            <a:ext cx="700092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23232"/>
                </a:solidFill>
                <a:latin typeface="Corbel"/>
              </a:rPr>
              <a:t>Матрица достижений профессионального роста</a:t>
            </a: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1143000" y="1643040"/>
          <a:ext cx="7643880" cy="4786200"/>
        </p:xfrm>
        <a:graphic>
          <a:graphicData uri="http://schemas.openxmlformats.org/drawingml/2006/table">
            <a:tbl>
              <a:tblPr/>
              <a:tblGrid>
                <a:gridCol w="654120"/>
                <a:gridCol w="1322280"/>
                <a:gridCol w="1909800"/>
                <a:gridCol w="2548080"/>
                <a:gridCol w="1209600"/>
              </a:tblGrid>
              <a:tr h="94608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Д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fe7cd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Пробле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41400" marR="4140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fe7cd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Чт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сдела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41400" marR="4140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fe7cd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Результа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(что получено, чему научился, что разработан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41400" marR="4140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fe7cd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41400" marR="4140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fe7cd"/>
                    </a:solidFill>
                  </a:tcPr>
                </a:tc>
              </a:tr>
              <a:tr h="127008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41400" marR="4140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41400" marR="4140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41400" marR="4140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41400" marR="4140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4efea"/>
                    </a:solidFill>
                  </a:tcPr>
                </a:tc>
              </a:tr>
              <a:tr h="128268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41400" marR="4140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41400" marR="4140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41400" marR="4140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41400" marR="4140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4efea"/>
                    </a:solidFill>
                  </a:tcPr>
                </a:tc>
              </a:tr>
              <a:tr h="128736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41400" marR="4140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41400" marR="4140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41400" marR="4140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41400" marR="4140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efea"/>
                    </a:solidFill>
                  </a:tcPr>
                </a:tc>
              </a:tr>
            </a:tbl>
          </a:graphicData>
        </a:graphic>
      </p:graphicFrame>
      <p:sp>
        <p:nvSpPr>
          <p:cNvPr id="361" name="Rectangle 1"/>
          <p:cNvSpPr/>
          <p:nvPr/>
        </p:nvSpPr>
        <p:spPr>
          <a:xfrm>
            <a:off x="2880" y="36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323232"/>
                </a:solidFill>
                <a:latin typeface="Corbel"/>
              </a:rPr>
              <a:t>6 этап: </a:t>
            </a:r>
            <a:r>
              <a:rPr b="0" lang="ru-RU" sz="4300" spc="-1" strike="noStrike">
                <a:solidFill>
                  <a:srgbClr val="000000"/>
                </a:solidFill>
                <a:latin typeface="Corbel"/>
              </a:rPr>
              <a:t>итогово-аналитический</a:t>
            </a: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grpSp>
        <p:nvGrpSpPr>
          <p:cNvPr id="363" name="Содержимое 2"/>
          <p:cNvGrpSpPr/>
          <p:nvPr/>
        </p:nvGrpSpPr>
        <p:grpSpPr>
          <a:xfrm>
            <a:off x="-42840" y="798480"/>
            <a:ext cx="9229680" cy="6151680"/>
            <a:chOff x="-42840" y="798480"/>
            <a:chExt cx="9229680" cy="6151680"/>
          </a:xfrm>
        </p:grpSpPr>
        <p:pic>
          <p:nvPicPr>
            <p:cNvPr id="364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-42840" y="798480"/>
              <a:ext cx="9229680" cy="615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285840" y="1071720"/>
              <a:ext cx="8572320" cy="550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8260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771f28"/>
                  </a:solidFill>
                  <a:latin typeface="Corbel"/>
                </a:rPr>
                <a:t>Задачами этого этапа являются:</a:t>
              </a:r>
              <a:endParaRPr b="0" lang="en-US" sz="27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9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orbel"/>
                </a:rPr>
                <a:t>1. </a:t>
              </a:r>
              <a:r>
                <a:rPr b="0" lang="en-US" sz="2700" spc="-1" strike="noStrike">
                  <a:solidFill>
                    <a:srgbClr val="000000"/>
                  </a:solidFill>
                  <a:latin typeface="Corbel"/>
                </a:rPr>
                <a:t>Провести итоговую диагностику уровня профессионализма педагогов по тем критериям, которые были выбраны для педагога в соответствии с индивидуальной программой его развития</a:t>
              </a:r>
              <a:r>
                <a:rPr b="0" lang="en-US" sz="2700" spc="-1" strike="noStrike">
                  <a:solidFill>
                    <a:srgbClr val="000000"/>
                  </a:solidFill>
                  <a:latin typeface="Corbel"/>
                </a:rPr>
                <a:t>.</a:t>
              </a:r>
              <a:endParaRPr b="0" lang="en-US" sz="27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9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orbel"/>
                </a:rPr>
                <a:t>2. </a:t>
              </a:r>
              <a:r>
                <a:rPr b="0" lang="en-US" sz="2700" spc="-1" strike="noStrike">
                  <a:solidFill>
                    <a:srgbClr val="000000"/>
                  </a:solidFill>
                  <a:latin typeface="Corbel"/>
                </a:rPr>
                <a:t>Проанализировать уровень профессионализма педагога, сравнивая полученные результаты с ожидаемыми, найти возможные несоответствия и спланировать работу на следующий период времени</a:t>
              </a:r>
              <a:r>
                <a:rPr b="0" lang="en-US" sz="2700" spc="-1" strike="noStrike">
                  <a:solidFill>
                    <a:srgbClr val="000000"/>
                  </a:solidFill>
                  <a:latin typeface="Corbel"/>
                </a:rPr>
                <a:t>.</a:t>
              </a:r>
              <a:endParaRPr b="0" lang="en-US" sz="27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9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orbel"/>
                </a:rPr>
                <a:t> </a:t>
              </a:r>
              <a:r>
                <a:rPr b="0" lang="en-US" sz="2700" spc="-1" strike="noStrike">
                  <a:solidFill>
                    <a:srgbClr val="000000"/>
                  </a:solidFill>
                  <a:latin typeface="Corbel"/>
                </a:rPr>
                <a:t>3. </a:t>
              </a:r>
              <a:r>
                <a:rPr b="0" lang="en-US" sz="2700" spc="-1" strike="noStrike">
                  <a:solidFill>
                    <a:srgbClr val="000000"/>
                  </a:solidFill>
                  <a:latin typeface="Corbel"/>
                </a:rPr>
                <a:t>Проанализировать эффективность мероприятий, проводимых для решения поставленных задач с точки зрения оценки выполнения поставленных задач.</a:t>
              </a:r>
              <a:endParaRPr b="0" lang="en-US" sz="27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9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9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90000"/>
                </a:lnSpc>
                <a:spcBef>
                  <a:spcPts val="601"/>
                </a:spcBef>
                <a:buClr>
                  <a:srgbClr val="f07f09"/>
                </a:buClr>
                <a:buSzPct val="8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7407360" cy="6143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07f0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Corbel"/>
              </a:rPr>
              <a:t>Оценка эффективности реализации этапов управленческой деятельности по организации </a:t>
            </a:r>
            <a:br>
              <a:rPr sz="3900"/>
            </a:br>
            <a:r>
              <a:rPr b="1" lang="en-US" sz="3900" spc="-1" strike="noStrike">
                <a:solidFill>
                  <a:srgbClr val="000000"/>
                </a:solidFill>
                <a:latin typeface="Corbel"/>
              </a:rPr>
              <a:t>непрерывного процесса развития профессионализма педагогов </a:t>
            </a:r>
            <a:br>
              <a:rPr sz="3900"/>
            </a:br>
            <a:r>
              <a:rPr b="1" lang="en-US" sz="3900" spc="-1" strike="noStrike">
                <a:solidFill>
                  <a:srgbClr val="000000"/>
                </a:solidFill>
                <a:latin typeface="Corbel"/>
              </a:rPr>
              <a:t>и повышения качества образования</a:t>
            </a:r>
            <a:endParaRPr b="0" lang="en-US" sz="3900" spc="-1" strike="noStrike">
              <a:solidFill>
                <a:srgbClr val="323232"/>
              </a:solidFill>
              <a:latin typeface="Corbe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71720" y="142560"/>
            <a:ext cx="792936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f293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Corbel"/>
              </a:rPr>
              <a:t>Критерии оценки эффективности реализации этапов программы</a:t>
            </a:r>
            <a:endParaRPr b="0" lang="en-US" sz="39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142640" y="1447560"/>
            <a:ext cx="7791480" cy="519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f2936"/>
            </a:solidFill>
            <a:miter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1. Уровень мотивации трудовой деятельности педагогов и характеристика структуры мотивов трудовой деятельност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2. Динамика изменений  условий организации системы методической работы ОУ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3. Уровни сформированности доминирующих компетентностей педагогов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4. Уровень соответствия профессиональной компетентности педагога требованиям профессионально-квалификационных характеристик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5. Уровень профессиональных достижений педагог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6. Динамика изменения успеваемости и качества образовани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7. Уровень сформированности общеучебных умений выпускников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Стрелка вправо 3"/>
          <p:cNvSpPr/>
          <p:nvPr/>
        </p:nvSpPr>
        <p:spPr>
          <a:xfrm>
            <a:off x="4356000" y="6021360"/>
            <a:ext cx="1224000" cy="50328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71720" y="142560"/>
            <a:ext cx="792936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f293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Corbel"/>
              </a:rPr>
              <a:t>Оценка эффективности реализации этапов программы</a:t>
            </a:r>
            <a:endParaRPr b="0" lang="en-US" sz="39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71" name="Стрелка вправо 3"/>
          <p:cNvSpPr/>
          <p:nvPr/>
        </p:nvSpPr>
        <p:spPr>
          <a:xfrm>
            <a:off x="4356000" y="6021360"/>
            <a:ext cx="1224000" cy="50328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76320" y="1521000"/>
            <a:ext cx="9067680" cy="5313240"/>
          </a:xfrm>
          <a:prstGeom prst="rect">
            <a:avLst/>
          </a:prstGeom>
          <a:ln cap="sq" w="38160">
            <a:solidFill>
              <a:srgbClr val="b45f07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8072280" cy="92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07f0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Перспективы развития проекта</a:t>
            </a:r>
            <a:endParaRPr b="0" lang="en-US" sz="32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250560" y="1000080"/>
            <a:ext cx="8893080" cy="585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9f2936"/>
            </a:solidFill>
            <a:miter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rbel"/>
              </a:rPr>
              <a:t>Разработать этапы управленческой деятельности по переходу к системе, основанной на самоанализе, самодиагностике и саморазвитии педагогов.</a:t>
            </a:r>
            <a:r>
              <a:rPr b="1" lang="en-US" sz="25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Corbel"/>
              </a:rPr>
              <a:t>Работа в электронном портфолио педагога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rbel"/>
              </a:rPr>
              <a:t>Создать и реализовать в практике работы ОУ систему мониторинга качества образования на основе компетентностного подхода, позволяющую соотносить развитие профессиональной компетентности педагогов с формированием компетентностей учащихся; выбрать соответствующие диагностические материалы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rbel"/>
              </a:rPr>
              <a:t>Продолжить работу по информатизации образовательной среды ОУ, обеспечить эффективную работу школьной локальной сети, расширить использование формы дистанционного обучения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58560" y="620640"/>
            <a:ext cx="75819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23232"/>
                </a:solidFill>
                <a:latin typeface="Corbel"/>
              </a:rPr>
              <a:t>Проект: </a:t>
            </a:r>
            <a:br>
              <a:rPr sz="3900"/>
            </a:br>
            <a:r>
              <a:rPr b="0" lang="en-US" sz="3900" spc="-1" strike="noStrike">
                <a:solidFill>
                  <a:srgbClr val="323232"/>
                </a:solidFill>
                <a:latin typeface="Corbel"/>
              </a:rPr>
              <a:t>«Развитие профессиональной компетентности педагогов на основе индивидуальной траектории как условие повышения качества образования»</a:t>
            </a:r>
            <a:endParaRPr b="0" lang="en-US" sz="3900" spc="-1" strike="noStrike">
              <a:solidFill>
                <a:srgbClr val="323232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49916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07f0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Corbel"/>
              </a:rPr>
              <a:t>Основные идеи проекта</a:t>
            </a: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331640" y="1844640"/>
            <a:ext cx="7458120" cy="4502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07f09"/>
            </a:solidFill>
            <a:miter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cc00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Повышение профессионализма педагога должно быть непрерывным процессом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cc00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Для каждого педагога должны выявляться индивидуальные профессиональные проблем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cc00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На основе выявленных проблем необходимо выбрать индивидуальную программу повышения профессионального уровня педагог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14280" y="1214280"/>
            <a:ext cx="7601040" cy="41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3232"/>
                </a:solidFill>
                <a:latin typeface="Corbel"/>
              </a:rPr>
              <a:t>Технологические этапы системы </a:t>
            </a:r>
            <a:br>
              <a:rPr sz="4400"/>
            </a:br>
            <a:r>
              <a:rPr b="1" lang="en-US" sz="4400" spc="-1" strike="noStrike">
                <a:solidFill>
                  <a:srgbClr val="323232"/>
                </a:solidFill>
                <a:latin typeface="Corbel"/>
              </a:rPr>
              <a:t>научно-методического сопровождения развития профессиональной компетентности</a:t>
            </a:r>
            <a:r>
              <a:rPr b="1" lang="en-US" sz="3600" spc="-1" strike="noStrike">
                <a:solidFill>
                  <a:srgbClr val="323232"/>
                </a:solidFill>
                <a:latin typeface="Corbel"/>
              </a:rPr>
              <a:t> </a:t>
            </a:r>
            <a:r>
              <a:rPr b="1" lang="en-US" sz="4400" spc="-1" strike="noStrike">
                <a:solidFill>
                  <a:srgbClr val="323232"/>
                </a:solidFill>
                <a:latin typeface="Corbel"/>
              </a:rPr>
              <a:t>педагогов</a:t>
            </a:r>
            <a:endParaRPr b="0" lang="en-US" sz="4400" spc="-1" strike="noStrike">
              <a:solidFill>
                <a:srgbClr val="323232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85920" y="0"/>
            <a:ext cx="7858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3232"/>
                </a:solidFill>
                <a:latin typeface="Corbel"/>
              </a:rPr>
              <a:t>Этапы организации методической работы  учителя по индивидуальной траектории </a:t>
            </a:r>
            <a:endParaRPr b="0" lang="en-US" sz="3200" spc="-1" strike="noStrike">
              <a:solidFill>
                <a:srgbClr val="323232"/>
              </a:solidFill>
              <a:latin typeface="Corbel"/>
            </a:endParaRPr>
          </a:p>
        </p:txBody>
      </p:sp>
      <p:pic>
        <p:nvPicPr>
          <p:cNvPr id="328" name="Схема 4" descr=""/>
          <p:cNvPicPr/>
          <p:nvPr/>
        </p:nvPicPr>
        <p:blipFill>
          <a:blip r:embed="rId2"/>
          <a:stretch/>
        </p:blipFill>
        <p:spPr>
          <a:xfrm>
            <a:off x="2462040" y="1444680"/>
            <a:ext cx="4499280" cy="51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929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23232"/>
                </a:solidFill>
                <a:latin typeface="Corbel"/>
              </a:rPr>
              <a:t>1 этап: подготовительный </a:t>
            </a:r>
            <a:br>
              <a:rPr sz="3900"/>
            </a:br>
            <a:endParaRPr b="0" lang="en-US" sz="3900" spc="-1" strike="noStrike">
              <a:solidFill>
                <a:srgbClr val="323232"/>
              </a:solidFill>
              <a:latin typeface="Corbel"/>
            </a:endParaRPr>
          </a:p>
        </p:txBody>
      </p:sp>
      <p:grpSp>
        <p:nvGrpSpPr>
          <p:cNvPr id="330" name="Содержимое 2"/>
          <p:cNvGrpSpPr/>
          <p:nvPr/>
        </p:nvGrpSpPr>
        <p:grpSpPr>
          <a:xfrm>
            <a:off x="171360" y="1511280"/>
            <a:ext cx="9069480" cy="5029200"/>
            <a:chOff x="171360" y="1511280"/>
            <a:chExt cx="9069480" cy="5029200"/>
          </a:xfrm>
        </p:grpSpPr>
        <p:pic>
          <p:nvPicPr>
            <p:cNvPr id="331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71360" y="1511280"/>
              <a:ext cx="906948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500040" y="1785960"/>
              <a:ext cx="8410680" cy="43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8260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1f28"/>
                  </a:solidFill>
                  <a:latin typeface="Corbel"/>
                </a:rPr>
                <a:t>Содержание этапа:</a:t>
              </a: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10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1. Определение цели повышения квалификации педагогов в соответствии с задачами развития школы.</a:t>
              </a: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10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2. Определение задач деятельности, направленной на создание условий для профессионального роста педагогов. </a:t>
              </a: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100000"/>
                </a:lnSpc>
                <a:spcBef>
                  <a:spcPts val="601"/>
                </a:spcBef>
                <a:buClr>
                  <a:srgbClr val="f07f09"/>
                </a:buClr>
                <a:buSzPct val="8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23232"/>
                </a:solidFill>
                <a:latin typeface="Corbel"/>
              </a:rPr>
              <a:t>2 этап: исходно – диагностический</a:t>
            </a:r>
            <a:br>
              <a:rPr sz="3900"/>
            </a:br>
            <a:r>
              <a:rPr b="0" lang="en-US" sz="3900" spc="-1" strike="noStrike">
                <a:solidFill>
                  <a:srgbClr val="323232"/>
                </a:solidFill>
                <a:latin typeface="Corbel"/>
              </a:rPr>
              <a:t> </a:t>
            </a:r>
            <a:endParaRPr b="0" lang="en-US" sz="3900" spc="-1" strike="noStrike">
              <a:solidFill>
                <a:srgbClr val="323232"/>
              </a:solidFill>
              <a:latin typeface="Corbel"/>
            </a:endParaRPr>
          </a:p>
        </p:txBody>
      </p:sp>
      <p:grpSp>
        <p:nvGrpSpPr>
          <p:cNvPr id="334" name="Содержимое 2"/>
          <p:cNvGrpSpPr/>
          <p:nvPr/>
        </p:nvGrpSpPr>
        <p:grpSpPr>
          <a:xfrm>
            <a:off x="-23760" y="1279440"/>
            <a:ext cx="9070920" cy="5597640"/>
            <a:chOff x="-23760" y="1279440"/>
            <a:chExt cx="9070920" cy="5597640"/>
          </a:xfrm>
        </p:grpSpPr>
        <p:pic>
          <p:nvPicPr>
            <p:cNvPr id="335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-23760" y="1279440"/>
              <a:ext cx="9070920" cy="559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304920" y="1554120"/>
              <a:ext cx="8410320" cy="494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8260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1f28"/>
                  </a:solidFill>
                  <a:latin typeface="Corbel"/>
                </a:rPr>
                <a:t>Содержание этапа:</a:t>
              </a: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9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1. </a:t>
              </a: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Проведение исходной диагностики уровня профессионализма педагогов по тем показателям, которые будут отслеживаться в дальнейшем</a:t>
              </a: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. Исследование запросов педагогов.</a:t>
              </a: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9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2. </a:t>
              </a: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Ранжирование коллектива педагогов по группам с различными проблемами в развитии профессиональной компетентности</a:t>
              </a: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. </a:t>
              </a: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9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90000"/>
                </a:lnSpc>
                <a:spcBef>
                  <a:spcPts val="601"/>
                </a:spcBef>
                <a:buClr>
                  <a:srgbClr val="f07f09"/>
                </a:buClr>
                <a:buSzPct val="8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80722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23232"/>
                </a:solidFill>
                <a:latin typeface="Corbel"/>
              </a:rPr>
              <a:t>График проведения диагностики педагогического коллектива</a:t>
            </a:r>
            <a:endParaRPr b="0" lang="en-US" sz="3900" spc="-1" strike="noStrike">
              <a:solidFill>
                <a:srgbClr val="323232"/>
              </a:solidFill>
              <a:latin typeface="Corbel"/>
            </a:endParaRPr>
          </a:p>
        </p:txBody>
      </p:sp>
      <p:pic>
        <p:nvPicPr>
          <p:cNvPr id="338" name="Таблица 5" descr=""/>
          <p:cNvPicPr/>
          <p:nvPr/>
        </p:nvPicPr>
        <p:blipFill>
          <a:blip r:embed="rId2"/>
          <a:stretch/>
        </p:blipFill>
        <p:spPr>
          <a:xfrm>
            <a:off x="79200" y="1390680"/>
            <a:ext cx="8918640" cy="501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 u="sng">
                <a:solidFill>
                  <a:srgbClr val="6b9f25"/>
                </a:solidFill>
                <a:uFillTx/>
                <a:latin typeface="Corbel"/>
                <a:hlinkClick r:id="rId2"/>
              </a:rPr>
              <a:t>Индивидуальная карта педагога</a:t>
            </a: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grpSp>
        <p:nvGrpSpPr>
          <p:cNvPr id="340" name="Загнутый угол 4"/>
          <p:cNvGrpSpPr/>
          <p:nvPr/>
        </p:nvGrpSpPr>
        <p:grpSpPr>
          <a:xfrm>
            <a:off x="285840" y="1090440"/>
            <a:ext cx="8791560" cy="5651640"/>
            <a:chOff x="285840" y="1090440"/>
            <a:chExt cx="8791560" cy="5651640"/>
          </a:xfrm>
        </p:grpSpPr>
        <p:pic>
          <p:nvPicPr>
            <p:cNvPr id="341" name="Загнутый угол 4" descr=""/>
            <p:cNvPicPr/>
            <p:nvPr/>
          </p:nvPicPr>
          <p:blipFill>
            <a:blip r:embed="rId3"/>
            <a:stretch/>
          </p:blipFill>
          <p:spPr>
            <a:xfrm>
              <a:off x="285840" y="1090440"/>
              <a:ext cx="8791560" cy="565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357120" y="1143000"/>
              <a:ext cx="8643960" cy="45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pic>
        <p:nvPicPr>
          <p:cNvPr id="343" name="Rectangle 1" descr=""/>
          <p:cNvPicPr/>
          <p:nvPr/>
        </p:nvPicPr>
        <p:blipFill>
          <a:blip r:embed="rId4"/>
          <a:stretch/>
        </p:blipFill>
        <p:spPr>
          <a:xfrm>
            <a:off x="426960" y="1212840"/>
            <a:ext cx="9363240" cy="6114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30T06:10:02Z</dcterms:created>
  <dc:creator>Алексей Шигайкин</dc:creator>
  <dc:description/>
  <dc:language>en-US</dc:language>
  <cp:lastModifiedBy>user</cp:lastModifiedBy>
  <dcterms:modified xsi:type="dcterms:W3CDTF">2011-04-06T08:40:32Z</dcterms:modified>
  <cp:revision>359</cp:revision>
  <dc:subject/>
  <dc:title>Слайд 1</dc:title>
</cp:coreProperties>
</file>