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B87-F44C-4644-B7D7-8C340C0067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3AD-35FF-45D0-A907-32E0AB875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данном этапе ежегодно проводит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содержания, которым должны овладеть педагоги и разрабатывается общешкольная система мероприятий для освоения содержания и мотиваци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 разные годы были организованы группы: педагоги-стажисты, молодые педагоги, вновь пришедшие в данную школу, аттестующиеся педагоги, работающие по инновационным направлениям, испытывающие затруднения сходного характера, работающие по сходным методическим темам и др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в последние годы педагоги в наибольшей степени занимаются развитием ИКТ-компетентности, а также использованием проектных и исследовательских методов в обучении, эти группы педагогов межпредметны и многочисленны. Как правило, один педагог участвует в работе нескольких групп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управленческой деятельности проводится по группам и отражено в годовом плане работы школы и программах управленческой деятельности по направл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BBE-4097-4408-8D0A-B55EF937F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составления программы представлен в виде «Технологической карты индивидуального профессионального развития педагога», которая в настоящее время ведется в электронном виде и станет основой электронного портфоли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входящей в технологическую карту информации вы можете видеть на данном слайде, заполнение происходит в процессе собеседования с педаго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развития профессиональн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тентности  педагога основано не только на результатах  исходной диагностики, но и собственных потребностях, возможностях педагога, далеко не все, что показывают результаты диагностики, может быть значимым для самого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азал наш опыт, уже просто составление карты способствует мотивации педагога к развитию профессиональной компетентности, у нас в учреждении работа с технологической картой оценивается в рейтинге достижений педагога и учитывается при распределении стимулирующей части фонда оплаты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ланируется на различных уровнях: самообразование, курсовая подготовка, работа в предметных методических объединениях, в работе проблемных групп, посещение семинаров, участие в конкурсах, подготовка публикаций и ряд других. Именно приведение в систему всего набора этих форм работы обеспечивает составление данной технологической карты, тогда работа по самообразованию педагога не имеет стихийного 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957-0735-4336-B309-8ED1EBE12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редлагаем педагогам достаточное количество мероприятий, из которых они выбирают необходимые для себя. Содержание педагогических советов, семинаров, заседаний МО отбирается с учетом их влияния на профессиональный рост педагога, учитывается актуальность тематики для целей развития шко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 заполняют в своей технологической карте план посещения мероприятий, представленный на слайде, чтобы самому педагогу можно было отследить, все ли задачи будут решены, в качестве стимула к посещению мероприятий введены рейтинговые баллы, и педагоги ежемесячно сдают отчет о том, что было сдела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6D4B-C702-47F9-8D7E-EF1C2C6A27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анного этапа находят отражение в матрице достижений профессионального развития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5975-2121-4B1E-9009-9A813306C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ение данной страницы в технологической карте имеет большую ценность для педагога, так как позволяет ежегодно анализировать результаты своей деятельности, и помогает подготовиться к следующей аттестации, обеспечит мотивацию к дальнейшему профессиональному продвиж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мы понимаем, такая отчетная документация не должна занимать у педагога много времени, не превращаться в ежегодный аналитический отчет, потому вся процедура состоит в заполнении таблицы. По возможности, заполнить ее можно в процессе собеседования с руководителем по результатам работы за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за 5 лет забывается результативность тех мероприятий, которые педагог за межаттестационный период посетил, у нас такая работа проводится ежегодно и за 5 лет у педагога накапливается 5 таких страниц, данный документ является основой для составления аналитического отчета за межаттестационный период. Уже на этапе составления заявления на аттестацию педагоги по достоинству оценивают данный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F50-908B-44CF-930C-57A3C4F4B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ые задачи этапа решаются в процессе собеседования с педагогом по итогам года при заполнении матрицы дост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алгоритм имеет замкнутый цикл, повторяющийся на новом уровне в каждом учебном году. За межаттестационный период проходит 5 циклов. Отражение их результатов в технологической карте дает возможность педагогу легко описать в аналитическом отчете результаты работы, пути достижения целей свое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B59E-EF8F-4A68-9E45-1AFE791D1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ценки эффективности реализации этапов управленческой деятельности по организации процесса повышения профессиональной компетентности педагогов нами был выбран ряд критериев и показателей; подобраны и составлены методики диагностики, разработаны программы для компьютерного анализа результатов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0AE-41F1-4BE7-B531-67FC8FE13A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1116-B533-4485-97BD-1100FFF35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оценки эффективности реализации этапов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намика изменений условий организации системы методической работы ОУ.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ни сформированности доминирующих компетентностей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Уровень профессиональных достижений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Динамика изменения успеваемости и качества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Уровень сформированности общеучебных умений выпуск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азатели, по которым отслеживались данные критерии, представлены в компьютерной программе, разработанной в среде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формление результатов диагностических исследований позволяет видеть динамику развития профессиональной компетентности педагогов учреждения и индивидуальную диагностику каждого педагога в течение межаттестационн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B51-8A94-4CE8-8367-94B6232CB9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 нами система повышения профессиональной компетентности актуальна и перспективна для нашей школы, так как соответствует тенденциям её развития, учитывает индивидуальные особенности и закономерности профессионального становления педагога, способствует повышению уровня его профессионализма, мобильна и открыта дальнейшему развит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мы видим в переходе от системы, основанной на административном руководстве, к системе повышения профессиональной компетентности педагогов, основанной на самоанализе, самодиагностике и саморазвитии. Создав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мониторинга качества образования на основе компетентностного подхода, планируем соотности развитие профессиональной компетентности педагогов с формированием компетентностей учащихся; подобрать соответствующие диагностически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реализация программы информатизации образовательной среды привела к большим структурным изменениям образовательного процесса нашей школы, и мы планируем исследовать непосредственное влияние этого процесса не только на развитие компетентности педагогов, но и на качеств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BA49-DA7A-426C-852F-6A90CC1780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современными тенденциями развития образования МБОУ СОШ № 22 Орджоникидзевского района г. Екатеринбурга занимается проблемой развития педагогической компетентности с 2004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проект успешно реализуется как технология непрерывного профессионального роста педагогов на основе развития педагогической компетентности, так как содержит основные структурные элементы технологии и является описанием процесса достижения планируем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252-9DBD-4715-82DD-F0E60EAEF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деи проекта представлены на слай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DF5-48A6-49B4-ABBA-2B3304453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еимением времени сегодня нет возможности презентовать проект целиком, для раскрытия заявленной темы остановлюсь только на технологических этапах реализации проекта, чтоб представить методику его реализации на уровне управления в учреждении и на уровне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ADBE-8A9B-49C2-9472-9296ADAD5D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едставлена на данной сх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0A5-4632-4395-9551-BDFAF9AD6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подготовительный: определение целей и задач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9B03-DEFC-4CBE-825E-DB999BB9B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этап: исходно-диагностический: был составлен банк методик исследования уровн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уда вошел комплект методик диагностики успешности учителя, предложенный В.М.Лизинским и Е.В.Макаровой, методики диагностики  ряда авторов: Т.В.Морозовой, А.К.Марковой, Н.Голубева, П.Битинаса, Л.М.Митиной, Е.А.Федоровой, Н.Н.Водопьяновой, С.Л.Фоменко, А.И.Кочетова, Ю.К.Бабанского, А.Д.Деминцева, П.А.Победоносцева, В.С.Грехнева. Были выбраны исследования, направленные на выполнение поставленных задач. Принципиальной позицией являлось: оценивание учителя на основании того, что сообщает учитель о себе сам, так как не было цели дать учителю внешнюю экспертную оценку, а необходимо было стимулировать учителя к осмыслению и решению собственных профессиональ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D843-A51C-4B4C-BCA3-11774C7FA1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годовым графиком диагностики педагогический коллектив не испытывал большой нагрузки при проведении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B88E-639C-4409-A135-F0BA82E59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 заносятся в индивидуальную карту педагога (разработана программа в сред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 Excel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 основе которой совместно с педагогом разрабатывается индивидуальная программа развития профессиональной компетентности педаг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55B3-86E2-4221-B6A8-DE326424B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E89-3F20-414E-BCD7-01348455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A2C-1609-4363-8322-C6018B9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CE5-1F81-4A8C-AA44-08D045BD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9E9-E35E-48C9-881E-43988C54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8E8-05D1-43A5-918D-71C35B7D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6AFC-52C6-4BF6-BE98-19C4DFFC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F79-C6AB-43B9-B7C2-B4F953A2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6A16-92FE-4D42-A1CE-C2E8891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9DDD-3F8A-4CEC-9202-4AFDA9FA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CFB-D02C-40CA-884D-B9F1497C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3614-F22C-4DE2-9599-251CA21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C8D-C42D-415E-9932-113C2CEF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14C-6C8A-46C5-8887-B0325AC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A31E-7FAF-4292-9D2D-A702405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714E-A02A-4A65-8F4C-6B1BB96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8D2-FAF0-46A7-A9E6-F02B53F1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B98C-3F05-44EF-9DA7-B52F1129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760B-7FBF-46C9-8939-37918E66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CAE7-B0A5-4201-9058-8C70980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550A-8BBF-475C-8022-15276744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7625-B711-4406-B89B-D0AC899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71A4-3D25-4107-A166-54EC51B0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932-E76B-4925-A547-B83D9D9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7F2F-65DB-4B40-A7A9-0AD209CF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C8AA-DD48-47C9-AE3B-DB782AD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75BE-DCD5-4D81-8D5D-6AA0DEC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8458-91BF-4E0F-98FF-833B58C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4120-4385-4C42-9139-AD77A81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A03A-1A72-4879-86C0-410BAD7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15CA-8D07-4E1A-A7A3-7E9BFD08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DC45-722B-4BEA-ACB6-18BD6C10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650A6-5DB0-4E5C-BB9E-35F9BE8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0040-574D-4C78-9EDD-10E4C8B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2EB-C50C-42E9-AAFE-E98BF35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923D-C0F1-4299-8075-F05F1F0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FB9A-F3E7-4832-944E-10D8321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9749-7E8F-4D70-9BBB-E1DCA6DD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9347-92F9-4F03-A012-D96B5BD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7C02-CF9D-4E56-991F-D7A5BED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41C1-B0EC-40AD-9181-F1877EC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7000-E0FF-42E5-B374-9EC392CC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F1A6-5C83-4A12-BEED-29D9E69B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2430-A872-4DD8-8CA2-410695DA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8DFB-2525-4B2A-89C1-E90395D9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1A6-D81D-4418-B8F1-19F0C02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81FE-EECE-482D-8DC3-97D10D9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114C6-6249-4A7A-BA7B-F1EBB3E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55FE-3904-4CC7-AFA8-D74CCB3C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94C3-CA77-4F42-90C4-0A590721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7607-11DB-4AFD-9E30-E36FEFD1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56F89-6415-4E09-B355-35BBA96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8203A-2843-4BF4-A9E9-AB0D556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EE5B-C7FC-4E98-9F50-ED952A8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6BDAC-2867-459C-B792-6558C16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5E4C-ECD6-4091-A84D-00FAB6F1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F97-88AB-4631-809E-12DE104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1B40-76A5-4FDD-AAF5-D6FC509F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54E0-D841-4BB7-981C-01AF180A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8200-600B-4F32-B505-2ACA77F7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CE2B-5529-4039-9CB4-CB2D0157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C912-C9CC-4A69-972F-D6C660F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9FE00-CF8E-415E-8A24-F2DB6253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4578-6C3D-4876-9A56-D6673B28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DF6E-7E87-4A61-9FF3-C3B122C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89242-5F2B-4D84-8AF1-BBD394C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BF87-3004-4A60-AACF-52C2C59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6DA-E149-4674-BFED-5051864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20D11-C849-4F81-A051-5B6AA4D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B0B9-3B48-440C-AAE2-1AC4593C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1962-5F43-492B-9DFA-8EF51B9C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0EF5-7E8E-4FA6-9D9E-BAEA7058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69F8-12FF-4B09-9FFE-3FA468E2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012B1-7B2A-4ED4-B596-357713E4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9E20-6607-4479-BBB6-206128EF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FD0B-BD3B-4254-A86F-58DF13F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2E8F-9314-4C23-AAC9-C17741E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53074-4D73-48CF-9CD8-54BCB08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7B2-8568-4E07-B33F-7053EEE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F8BA-CB7F-49D0-941C-77137AA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A3FBB-4C7C-40CA-9159-8742153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5E1B8-5920-4003-B686-416A8B3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85F7-3E6E-465A-864E-AC002EC6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1B2B-94F2-4343-8DEC-98BAFCD4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921-51E6-4A28-BE36-03BC483E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EBC-AA7C-4EBF-9C98-5A73C56BB29B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cfaf6">
              <a:alpha val="33000"/>
            </a:srgbClr>
          </a:solidFill>
          <a:ln cap="rnd" w="3240">
            <a:solidFill>
              <a:srgbClr val="c9c1a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4e4"/>
            </a:solidFill>
            <a:miter/>
          </a:ln>
          <a:effectLst>
            <a:outerShdw dist="12600" dir="5400000" blurRad="0" rotWithShape="0">
              <a:srgbClr val="aaa49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365C-F74D-412C-BB78-76AD8DA9EA3D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d36f0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156B-5DF2-461A-BDE3-9318EECE36FF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699-FC54-46FE-A646-257BFDBDFDE5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e6b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3ADA-4D13-4A45-A354-9769DE1EC1DD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23B5-288C-4234-A1D0-C3CE6731232C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1d8b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3de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1b587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4e85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da69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a69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E6D-D093-44A8-9242-C7CB54ADB090}" type="slidenum">
              <a:rPr b="0" lang="en-US" sz="1200" spc="-1" strike="noStrike">
                <a:solidFill>
                  <a:srgbClr val="ada69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0;&#1091;&#1088;&#1089;&#1099;%20&#1087;&#1086;%20&#1072;&#1090;&#1090;&#1077;&#1089;&#1090;&#1072;&#1094;&#1080;&#1080;%20&#1079;&#1072;&#1095;&#1077;&#1090;/&#1044;&#1080;&#1072;&#1075;&#1085;&#1086;&#1089;&#1090;&#1080;&#1082;&#1072;%20&#1087;&#1088;&#1086;&#1092;&#1077;&#1089;&#1089;&#1080;&#1086;&#1085;&#1072;&#1083;&#1080;&#1079;&#1084;&#1072;%20&#1088;&#1077;&#1081;&#1090;&#1080;&#1085;&#1075;&#1080;.xlsx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«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Сопровождение деятельности педагога </a:t>
            </a:r>
            <a:br>
              <a:rPr sz="3600"/>
            </a:b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в межаттестационный период</a:t>
            </a:r>
            <a:r>
              <a:rPr b="1" lang="ru-RU" sz="3600" spc="-1" strike="noStrike">
                <a:solidFill>
                  <a:srgbClr val="323232"/>
                </a:solidFill>
                <a:latin typeface="Corbel"/>
              </a:rPr>
              <a:t>»</a:t>
            </a:r>
            <a:endParaRPr b="0" lang="en-US" sz="36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5686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3 этап: проектны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5" name="Содержимое 2"/>
          <p:cNvGrpSpPr/>
          <p:nvPr/>
        </p:nvGrpSpPr>
        <p:grpSpPr>
          <a:xfrm>
            <a:off x="30240" y="725400"/>
            <a:ext cx="9229680" cy="5937480"/>
            <a:chOff x="30240" y="725400"/>
            <a:chExt cx="9229680" cy="5937480"/>
          </a:xfrm>
        </p:grpSpPr>
        <p:pic>
          <p:nvPicPr>
            <p:cNvPr id="34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240" y="725400"/>
              <a:ext cx="922968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57120" y="1000080"/>
              <a:ext cx="8572680" cy="52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Собеседование с педагогом, заполнение технологической карты индивидуального профессионального развития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пределение  наиболее актуального для педагога перечня задач по повышению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Анализ технологических карт профессионального развития педагогов, составление годового плана работы ОУ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Технологическая карта индивидуального профессионального развития педагог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49" name="Загнутый угол 4"/>
          <p:cNvSpPr/>
          <p:nvPr/>
        </p:nvSpPr>
        <p:spPr>
          <a:xfrm>
            <a:off x="214200" y="1143000"/>
            <a:ext cx="8786880" cy="5500800"/>
          </a:xfrm>
          <a:prstGeom prst="foldedCorner">
            <a:avLst>
              <a:gd name="adj" fmla="val 16666"/>
            </a:avLst>
          </a:prstGeom>
          <a:solidFill>
            <a:srgbClr val="ffe7cd"/>
          </a:solidFill>
          <a:ln w="9360">
            <a:solidFill>
              <a:srgbClr val="604878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357120" y="1214280"/>
            <a:ext cx="8501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. Общие сведения о педагог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. Методическая тема, над которой работает педагог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. Результаты исследования профессионализма педагога на момент составления карты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. Модель научно-методического сопровождения, методическая групп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5. Цель работы по повышения квалификации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6. Задачи по достижению ц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7. Основные формы повышения квалификаци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8. Выбор межпредметного объединения педагогов по теме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9. Профессиональные проблемы, над которыми педагог планирует работать в этом учебном году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0. Представление результата работы (форма, срок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1. Результаты в конце учебного года (по самооценке педагога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2. Календарный план работы на учебный год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3. Матрица достижений профессионального роста педагога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143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23232"/>
                </a:solidFill>
                <a:latin typeface="Corbel"/>
              </a:rPr>
              <a:t>4 этап: 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организационно - деятельностны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2" name="Содержимое 2"/>
          <p:cNvGrpSpPr/>
          <p:nvPr/>
        </p:nvGrpSpPr>
        <p:grpSpPr>
          <a:xfrm>
            <a:off x="-42840" y="865080"/>
            <a:ext cx="9302760" cy="6085080"/>
            <a:chOff x="-42840" y="865080"/>
            <a:chExt cx="9302760" cy="6085080"/>
          </a:xfrm>
        </p:grpSpPr>
        <p:pic>
          <p:nvPicPr>
            <p:cNvPr id="35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30276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5840" y="1143000"/>
              <a:ext cx="86439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мероприятий, направленных на мотивацию педагогов, на гармонизацию отношений в педагогическом коллективе и преодоление сопротивления инновация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Организация работы, направленной на ликвидацию выявленных проблем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системы мероприятий, направленных на рост профессионализма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5 этап: </a:t>
            </a:r>
            <a:r>
              <a:rPr b="0" lang="en-US" sz="3900" spc="-1" strike="noStrike">
                <a:solidFill>
                  <a:srgbClr val="000000"/>
                </a:solidFill>
                <a:latin typeface="Corbel"/>
              </a:rPr>
              <a:t>промежуточно-диагностический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56" name="Содержимое 2"/>
          <p:cNvGrpSpPr/>
          <p:nvPr/>
        </p:nvGrpSpPr>
        <p:grpSpPr>
          <a:xfrm>
            <a:off x="-42840" y="865080"/>
            <a:ext cx="9229680" cy="6085080"/>
            <a:chOff x="-42840" y="865080"/>
            <a:chExt cx="9229680" cy="6085080"/>
          </a:xfrm>
        </p:grpSpPr>
        <p:pic>
          <p:nvPicPr>
            <p:cNvPr id="35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865080"/>
              <a:ext cx="9229680" cy="60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85840" y="1143000"/>
              <a:ext cx="857232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Проанализировать промежуточные результаты работы, оценивая эффективность каждого мероприятия, уточняя уровень реальных достижений педагога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600" spc="-1" strike="noStrike">
                  <a:solidFill>
                    <a:srgbClr val="000000"/>
                  </a:solidFill>
                  <a:latin typeface="Corbel"/>
                </a:rPr>
                <a:t>Сопоставить полученный результат с желаемым и внести коррективы в дальнейшую деятельность.</a:t>
              </a:r>
              <a:endParaRPr b="0" lang="en-US" sz="3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00092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23232"/>
                </a:solidFill>
                <a:latin typeface="Corbel"/>
              </a:rPr>
              <a:t>Матрица достижений профессионального рос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143000" y="1643040"/>
          <a:ext cx="7643880" cy="4786200"/>
        </p:xfrm>
        <a:graphic>
          <a:graphicData uri="http://schemas.openxmlformats.org/drawingml/2006/table">
            <a:tbl>
              <a:tblPr/>
              <a:tblGrid>
                <a:gridCol w="654120"/>
                <a:gridCol w="1322280"/>
                <a:gridCol w="1909800"/>
                <a:gridCol w="2548080"/>
                <a:gridCol w="1209600"/>
              </a:tblGrid>
              <a:tr h="94608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робл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сдел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Результа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(что получено, чему научился, что разработа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fe7cd"/>
                    </a:solidFill>
                  </a:tcPr>
                </a:tc>
              </a:tr>
              <a:tr h="12700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268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c19859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28736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c19859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41400" marR="41400">
                    <a:lnL w="5760">
                      <a:solidFill>
                        <a:srgbClr val="c1985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198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  <p:sp>
        <p:nvSpPr>
          <p:cNvPr id="361" name="Rectangle 1"/>
          <p:cNvSpPr/>
          <p:nvPr/>
        </p:nvSpPr>
        <p:spPr>
          <a:xfrm>
            <a:off x="2880" y="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3232"/>
                </a:solidFill>
                <a:latin typeface="Corbel"/>
              </a:rPr>
              <a:t>6 этап: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итогово-аналитический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63" name="Содержимое 2"/>
          <p:cNvGrpSpPr/>
          <p:nvPr/>
        </p:nvGrpSpPr>
        <p:grpSpPr>
          <a:xfrm>
            <a:off x="-42840" y="798480"/>
            <a:ext cx="9229680" cy="6151680"/>
            <a:chOff x="-42840" y="798480"/>
            <a:chExt cx="9229680" cy="6151680"/>
          </a:xfrm>
        </p:grpSpPr>
        <p:pic>
          <p:nvPicPr>
            <p:cNvPr id="3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42840" y="798480"/>
              <a:ext cx="9229680" cy="61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85840" y="1071720"/>
              <a:ext cx="8572320" cy="55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771f28"/>
                  </a:solidFill>
                  <a:latin typeface="Corbel"/>
                </a:rPr>
                <a:t>Задачами этого этапа являются: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вести итоговую диагностику уровня профессионализма педагогов по тем критериям, которые были выбраны для педагога в соответствии с индивидуальной программой его развития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уровень профессионализма педагога, сравнивая полученные результаты с ожидаемыми, найти возможные несоответствия и спланировать работу на следующий период времени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3.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Проанализировать эффективность мероприятий, проводимых для решения поставленных задач с точки зрения оценки выполнения поставленных задач.</a:t>
              </a: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614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управленческой деятельности по организации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непрерывного процесса развития профессионализма педагогов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и повышения качества образования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Критерии оценки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42640" y="1447560"/>
            <a:ext cx="7791480" cy="519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. Уровень мотивации трудовой деятельности педагогов и характеристика структуры мотиво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. Динамика изменений  условий организации системы методической работы О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. Уровни сформированности доминирующих компетентностей педагог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. Уровень соответствия профессиональной компетентности педагога требованиям профессионально-квалификационных характеристи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. Уровень профессиональных достижений педагог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. Динамика изменения успеваемости и качества образов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. Уровень сформированности общеучебных умений выпускни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9293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Оценка эффективности реализации этапов программы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1" name="Стрелка вправо 3"/>
          <p:cNvSpPr/>
          <p:nvPr/>
        </p:nvSpPr>
        <p:spPr>
          <a:xfrm>
            <a:off x="4356000" y="6021360"/>
            <a:ext cx="1224000" cy="5032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6320" y="1521000"/>
            <a:ext cx="9067680" cy="5313240"/>
          </a:xfrm>
          <a:prstGeom prst="rect">
            <a:avLst/>
          </a:prstGeom>
          <a:ln cap="sq" w="38160">
            <a:solidFill>
              <a:srgbClr val="b45f07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Перспективы развития проекта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000080"/>
            <a:ext cx="8893080" cy="58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f2936"/>
            </a:solidFill>
            <a:miter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зработать этапы управленческой деятельности по переходу к системе, основанной на самоанализе, самодиагностике и саморазвитии педагогов.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Работа в электронном портфолио педагог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Создать и реализовать в практике работы ОУ систему мониторинга качества образования на основе компетентностного подхода, позволяющую соотносить развитие профессиональной компетентности педагогов с формированием компетентностей учащихся; выбрать соответствующие диагностические материалы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родолжить работу по информатизации образовательной среды ОУ, обеспечить эффективную работу школьной локальной сети, расширить использование формы дистанционного обучения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58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Проект: 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«Развитие профессиональной компетентности педагогов на основе индивидуальной траектории как условие повышения качества образования»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rbel"/>
              </a:rPr>
              <a:t>Основные идеи проект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331640" y="1844640"/>
            <a:ext cx="7458120" cy="450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Повышение профессионализма педагога должно быть непрерывным процесс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ля каждого педагога должны выявляться индивидуальные профессиональные пробле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cc00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На основе выявленных проблем необходимо выбрать индивидуальную программу повышения профессионального уровня педагог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1214280"/>
            <a:ext cx="760104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Технологические этапы системы </a:t>
            </a:r>
            <a:br>
              <a:rPr sz="4400"/>
            </a:b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научно-методического сопровождения развития профессиональной компетентности</a:t>
            </a:r>
            <a:r>
              <a:rPr b="1" lang="en-US" sz="3600" spc="-1" strike="noStrike">
                <a:solidFill>
                  <a:srgbClr val="323232"/>
                </a:solidFill>
                <a:latin typeface="Corbel"/>
              </a:rPr>
              <a:t> </a:t>
            </a:r>
            <a:r>
              <a:rPr b="1" lang="en-US" sz="4400" spc="-1" strike="noStrike">
                <a:solidFill>
                  <a:srgbClr val="323232"/>
                </a:solidFill>
                <a:latin typeface="Corbel"/>
              </a:rPr>
              <a:t>педагогов</a:t>
            </a:r>
            <a:endParaRPr b="0" lang="en-US" sz="4400" spc="-1" strike="noStrike">
              <a:solidFill>
                <a:srgbClr val="323232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orbel"/>
              </a:rPr>
              <a:t>Этапы организации методической работы  учителя по индивидуальной траектории </a:t>
            </a:r>
            <a:endParaRPr b="0" lang="en-US" sz="32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28" name="Схема 4" descr=""/>
          <p:cNvPicPr/>
          <p:nvPr/>
        </p:nvPicPr>
        <p:blipFill>
          <a:blip r:embed="rId2"/>
          <a:stretch/>
        </p:blipFill>
        <p:spPr>
          <a:xfrm>
            <a:off x="2462040" y="1444680"/>
            <a:ext cx="44992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1 этап: подготовительный </a:t>
            </a:r>
            <a:br>
              <a:rPr sz="3900"/>
            </a:b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0" name="Содержимое 2"/>
          <p:cNvGrpSpPr/>
          <p:nvPr/>
        </p:nvGrpSpPr>
        <p:grpSpPr>
          <a:xfrm>
            <a:off x="171360" y="1511280"/>
            <a:ext cx="9069480" cy="5029200"/>
            <a:chOff x="171360" y="1511280"/>
            <a:chExt cx="9069480" cy="5029200"/>
          </a:xfrm>
        </p:grpSpPr>
        <p:pic>
          <p:nvPicPr>
            <p:cNvPr id="33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71360" y="1511280"/>
              <a:ext cx="90694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00040" y="1785960"/>
              <a:ext cx="8410680" cy="43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Определение цели повышения квалификации педагогов в соответствии с задачами развития школы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Определение задач деятельности, направленной на создание условий для профессионального роста педагогов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10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2 этап: исходно – диагностический</a:t>
            </a:r>
            <a:br>
              <a:rPr sz="3900"/>
            </a:br>
            <a:r>
              <a:rPr b="0" lang="en-US" sz="3900" spc="-1" strike="noStrike">
                <a:solidFill>
                  <a:srgbClr val="323232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34" name="Содержимое 2"/>
          <p:cNvGrpSpPr/>
          <p:nvPr/>
        </p:nvGrpSpPr>
        <p:grpSpPr>
          <a:xfrm>
            <a:off x="-23760" y="1279440"/>
            <a:ext cx="9070920" cy="5597640"/>
            <a:chOff x="-23760" y="1279440"/>
            <a:chExt cx="9070920" cy="5597640"/>
          </a:xfrm>
        </p:grpSpPr>
        <p:pic>
          <p:nvPicPr>
            <p:cNvPr id="33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23760" y="1279440"/>
              <a:ext cx="9070920" cy="559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04920" y="1554120"/>
              <a:ext cx="8410320" cy="49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1f28"/>
                  </a:solidFill>
                  <a:latin typeface="Corbel"/>
                </a:rPr>
                <a:t>Содержание этапа: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1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Проведение исходной диагностики уровня профессионализма педагогов по тем показателям, которые будут отслеживаться в дальнейшем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Исследование запросов педагогов.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2. 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Ранжирование коллектива педагогов по группам с различными проблемами в развитии профессиональной компетентности</a:t>
              </a:r>
              <a:r>
                <a:rPr b="0" lang="en-US" sz="32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771f2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65040" indent="-282600">
                <a:lnSpc>
                  <a:spcPct val="90000"/>
                </a:lnSpc>
                <a:spcBef>
                  <a:spcPts val="601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23232"/>
                </a:solidFill>
                <a:latin typeface="Corbel"/>
              </a:rPr>
              <a:t>График проведения диагностики педагогического коллектива</a:t>
            </a:r>
            <a:endParaRPr b="0" lang="en-US" sz="3900" spc="-1" strike="noStrike">
              <a:solidFill>
                <a:srgbClr val="323232"/>
              </a:solidFill>
              <a:latin typeface="Corbel"/>
            </a:endParaRPr>
          </a:p>
        </p:txBody>
      </p:sp>
      <p:pic>
        <p:nvPicPr>
          <p:cNvPr id="338" name="Таблица 5" descr=""/>
          <p:cNvPicPr/>
          <p:nvPr/>
        </p:nvPicPr>
        <p:blipFill>
          <a:blip r:embed="rId2"/>
          <a:stretch/>
        </p:blipFill>
        <p:spPr>
          <a:xfrm>
            <a:off x="79200" y="1390680"/>
            <a:ext cx="891864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6b9f25"/>
                </a:solidFill>
                <a:uFillTx/>
                <a:latin typeface="Corbel"/>
                <a:hlinkClick r:id="rId2"/>
              </a:rPr>
              <a:t>Индивидуальная карта педагога</a:t>
            </a:r>
            <a:endParaRPr b="0" lang="en-US" sz="4300" spc="-1" strike="noStrike">
              <a:solidFill>
                <a:srgbClr val="323232"/>
              </a:solidFill>
              <a:latin typeface="Corbel"/>
            </a:endParaRPr>
          </a:p>
        </p:txBody>
      </p:sp>
      <p:grpSp>
        <p:nvGrpSpPr>
          <p:cNvPr id="340" name="Загнутый угол 4"/>
          <p:cNvGrpSpPr/>
          <p:nvPr/>
        </p:nvGrpSpPr>
        <p:grpSpPr>
          <a:xfrm>
            <a:off x="285840" y="1090440"/>
            <a:ext cx="8791560" cy="5651640"/>
            <a:chOff x="285840" y="1090440"/>
            <a:chExt cx="8791560" cy="5651640"/>
          </a:xfrm>
        </p:grpSpPr>
        <p:pic>
          <p:nvPicPr>
            <p:cNvPr id="341" name="Загнутый угол 4" descr=""/>
            <p:cNvPicPr/>
            <p:nvPr/>
          </p:nvPicPr>
          <p:blipFill>
            <a:blip r:embed="rId3"/>
            <a:stretch/>
          </p:blipFill>
          <p:spPr>
            <a:xfrm>
              <a:off x="285840" y="1090440"/>
              <a:ext cx="879156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357120" y="1143000"/>
              <a:ext cx="864396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343" name="Rectangle 1" descr=""/>
          <p:cNvPicPr/>
          <p:nvPr/>
        </p:nvPicPr>
        <p:blipFill>
          <a:blip r:embed="rId4"/>
          <a:stretch/>
        </p:blipFill>
        <p:spPr>
          <a:xfrm>
            <a:off x="426960" y="1212840"/>
            <a:ext cx="9363240" cy="611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06:10:02Z</dcterms:created>
  <dc:creator>Алексей Шигайкин</dc:creator>
  <dc:description/>
  <dc:language>en-US</dc:language>
  <cp:lastModifiedBy>user</cp:lastModifiedBy>
  <dcterms:modified xsi:type="dcterms:W3CDTF">2011-04-06T08:40:32Z</dcterms:modified>
  <cp:revision>359</cp:revision>
  <dc:subject/>
  <dc:title>Слайд 1</dc:title>
</cp:coreProperties>
</file>