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94CF-38B5-4939-B8E3-09043DA4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EDBD-8FC2-4762-AC98-91093A2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463F-6BD6-4C55-8D5F-724AA500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32AB-D80E-4360-A841-1B690C62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BD63-FE96-49AE-AE9F-980F1FB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E0E4-3B92-460E-AEF1-9B1AA04F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26A7-FDFD-4C18-839B-2913D4AC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256-7B8D-4AAC-92EA-70FC4C5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3BA0-12F7-4931-B77A-484B25B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AF3-66B2-43DC-8E51-0F7D8180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2A2-91D1-43D0-955E-019021FD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4B71-C095-49D7-8B5D-001C2C3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3A1-259B-44E9-9935-3AEBA5F2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0C2A-A165-4B68-BA66-D9BED417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3D37-FF4E-442C-9A23-5616F3F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DBF6-AFA4-4101-877E-ACFE5A33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E8FD-2564-444E-A180-C938F3F3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585A-2125-4699-B3A9-B07DDA0A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363F-9A06-4FED-AEBD-300AA01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B149-8BC8-42CB-87EB-6C2791C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79C7-739B-489B-A994-1B6C96BC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689F-E610-43A9-B4CD-BA33BBB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8155-7E41-4846-997E-7FB5E57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4800-C05B-4960-9C25-AC9465C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452-8833-4385-9233-ACB5CE031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1654-C4C1-4EFC-BA88-6C3674BE8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м может быть современный ур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ок как целостная дидактическ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а 2 из книги С.С.Татарченковой Урок как педагогический феном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533520"/>
          <a:ext cx="8762760" cy="5151240"/>
        </p:xfrm>
        <a:graphic>
          <a:graphicData uri="http://schemas.openxmlformats.org/drawingml/2006/table">
            <a:tbl>
              <a:tblPr/>
              <a:tblGrid>
                <a:gridCol w="4381560"/>
                <a:gridCol w="4381200"/>
              </a:tblGrid>
              <a:tr h="15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и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вная дидактическая цель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й у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общее представление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изучения новых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ит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закрепления знаний, формирования умений и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- знания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ть…умения, навы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533520"/>
          <a:ext cx="8458200" cy="5790960"/>
        </p:xfrm>
        <a:graphic>
          <a:graphicData uri="http://schemas.openxmlformats.org/drawingml/2006/table">
            <a:tbl>
              <a:tblPr/>
              <a:tblGrid>
                <a:gridCol w="4082040"/>
                <a:gridCol w="4376160"/>
              </a:tblGrid>
              <a:tr h="24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именения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умение применять знания в схожей ситуации, другой или самостоят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обобщения и систематизации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единичные знания, привести их в сист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оверки, оценки и коррекции знаний, умений и навыков (ЗУ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уровень усвоения ЗУНов и их комплексного приме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вная дидактическ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ая  (Обеспечить уровень усвоения ЗУН, добиться, обобщить, систематизир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ющая (Убедить, создать интерес, пополни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ная (Создать условия, способств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ор методов и прием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- это способ достижения цели, связующее звено между запроектированной целью и конечным результ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- это элемент метода, разовое действие, шаг в реализации или модификации мет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определяет содержание и методы, методы и содержание обуславливают достижение це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И.Я.Лер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применяемые в школьной практике методы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ля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истом виде каждый из них почти не исполь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некоторые из ни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кн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монстрация и иллюстрация че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аборатор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навате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учающ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лог \ Поли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ео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овые и 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зговой штур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организации познавательной деятельности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лектив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ценочная деятельность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утать оценку и отм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ем процесс (У тебя получилось, Ты это знаешь, Нормально, Хорошо, Так и надо делать, Умница, Молодец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ки ставятся за реально выявленн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Настоящий урок начинается не со звонка, а задолго до него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1240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рок должен быть пронизан творчеством и вместе с тем оставаться уро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.И.Гес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ефлексивное осмысление результатов уро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ем, чем мы были и чем являемся, завтра уже не будем.                      Овид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лексия является универсальным психологическим механизмом изменения и развития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эмоциональной, невербальной, основанной на наблюдениях учителя за внешними проявлениями деятельности учащихс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вербальной, получаемой постоянно в течение всего урока и , особенно, в конц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ный ответ (одного или групп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ценка ученика свое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52680" y="1752480"/>
            <a:ext cx="5181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актикум по проектированию урока как целостной дидактическ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нципы управления учебным процессом (5 функций Анри Файо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 и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524560" y="1252800"/>
            <a:ext cx="3377880" cy="4908600"/>
            <a:chOff x="5524560" y="1252800"/>
            <a:chExt cx="3377880" cy="4908600"/>
          </a:xfrm>
        </p:grpSpPr>
        <p:sp>
          <p:nvSpPr>
            <p:cNvPr id="113" name=""/>
            <p:cNvSpPr/>
            <p:nvPr/>
          </p:nvSpPr>
          <p:spPr>
            <a:xfrm rot="1000800">
              <a:off x="6868440" y="2012040"/>
              <a:ext cx="1491480" cy="87552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00800">
              <a:off x="5689440" y="1469520"/>
              <a:ext cx="1716480" cy="140400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00800">
              <a:off x="6936120" y="2933640"/>
              <a:ext cx="897840" cy="131760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00800">
              <a:off x="7356600" y="3161880"/>
              <a:ext cx="1370880" cy="101196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00800">
              <a:off x="7034400" y="4320720"/>
              <a:ext cx="1668240" cy="1635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00800">
              <a:off x="6039360" y="3937680"/>
              <a:ext cx="1122840" cy="166644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00800">
              <a:off x="8288640" y="1703160"/>
              <a:ext cx="554400" cy="34164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00800">
              <a:off x="8089560" y="1997280"/>
              <a:ext cx="172440" cy="92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ирование урока как технологической цеп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ирова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полагани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бор содержания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и прием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организаци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к домашне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, самооценк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практике работы применяются разные варианты поурочного планирования или конспектов уро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33920" y="3432240"/>
            <a:ext cx="33526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ющая часть содержи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ую дидактическую 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ие, развивающие и воспитательные задач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рудование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Содержательная часть может быть представлена в разных формах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362320"/>
          <a:ext cx="822924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тапов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е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2286000"/>
          <a:ext cx="9143640" cy="2286000"/>
        </p:xfrm>
        <a:graphic>
          <a:graphicData uri="http://schemas.openxmlformats.org/drawingml/2006/table">
            <a:tbl>
              <a:tblPr/>
              <a:tblGrid>
                <a:gridCol w="1828080"/>
                <a:gridCol w="1830240"/>
                <a:gridCol w="1827000"/>
                <a:gridCol w="1830240"/>
                <a:gridCol w="1828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задача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чебного материа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, приемы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и оценка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ъявление цели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ание с уче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10T09:09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