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F54D-E3C4-4D1D-BD92-5ECE9E69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7C6E-392D-4600-8712-7C3A1CC3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9DA6-0F69-40FD-9424-868C9D72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C662-DA2F-4164-BD4E-480F2F76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269B-E478-40F9-A4FF-B9245191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D11D-0820-4C8D-808B-95BBC4B5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AE15-98C7-4E20-8591-2D5DDD2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F1C4-5FDC-4E24-A249-D5E47CC8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E501-4B49-4541-8065-B654213A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0FA1-2A56-44B8-ABB3-179FD9E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DC4A-5623-40F9-AD9C-845B0B4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EB43-95A7-4C9E-8A07-27F7AA3C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5B12-6398-43B8-8AF7-3B4910D7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23A7-BDDD-4250-A83C-8BA17EC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D672-B92C-4097-B1FA-5978DFD1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9E2B-ED96-4D09-B86E-4F93ED1C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5772-B9E6-45F3-B060-F6E28EB8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E0C4-139B-41E0-9ED4-C9791BA7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DAD1-3623-45FF-89B2-15BD1C84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4CCB-B236-4922-81D9-085A25B6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1613-1103-4059-BCA9-E58E2FD3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F3B2-92BD-414C-BAFB-1CE54373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DE3A-2454-4D93-AEB4-9017C53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29F7-336E-4725-83E0-FB162AAC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A2BF-EC99-407A-92FE-8E4A26861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A5EE-8E27-490A-B93D-7034C2DE6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аким может быть современный уро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рок как целостная дидактическ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ава 2 из книги С.С.Татарченковой Урок как педагогический феном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80880" y="533520"/>
          <a:ext cx="8762760" cy="5151240"/>
        </p:xfrm>
        <a:graphic>
          <a:graphicData uri="http://schemas.openxmlformats.org/drawingml/2006/table">
            <a:tbl>
              <a:tblPr/>
              <a:tblGrid>
                <a:gridCol w="4381560"/>
                <a:gridCol w="4381200"/>
              </a:tblGrid>
              <a:tr h="15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и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лавная дидактическая цель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ый у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общее представление 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изучения новых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ить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закрепления знаний, формирования умений и навы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ить- знания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ть…умения, навы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533520"/>
          <a:ext cx="8458200" cy="5790960"/>
        </p:xfrm>
        <a:graphic>
          <a:graphicData uri="http://schemas.openxmlformats.org/drawingml/2006/table">
            <a:tbl>
              <a:tblPr/>
              <a:tblGrid>
                <a:gridCol w="4082040"/>
                <a:gridCol w="4376160"/>
              </a:tblGrid>
              <a:tr h="24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применения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ать умение применять знания в схожей ситуации, другой или самостоят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обобщения и систематизации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ить единичные знания, привести их в систе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проверки, оценки и коррекции знаний, умений и навыков (ЗУ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уровень усвоения ЗУНов и их комплексного приме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авная дидактическая 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ающая  (Обеспечить уровень усвоения ЗУН, добиться, обобщить, систематизировать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ющая (Убедить, создать интерес, пополнить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тельная (Создать условия, способствовать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ор методов и приемов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- это способ достижения цели, связующее звено между запроектированной целью и конечным результ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ем- это элемент метода, разовое действие, шаг в реализации или модификации мет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 определяет содержание и методы, методы и содержание обуславливают достижение цел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И.Я.Лер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иболее применяемые в школьной практике методы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гля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истом виде каждый из них почти не использ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некоторые из ни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бота с кни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монстрация и иллюстрация чег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аборатор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знавате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учающи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ы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диску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лог \ Поли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ео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овые и ролев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зговой штур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организации познавательной деятельности учащихс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онта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лектив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ценочная деятельность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путать оценку и отме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ваем процесс (У тебя получилось, Ты это знаешь, Нормально, Хорошо, Так и надо делать, Умница, Молодец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тки ставятся за реально выявленн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Настоящий урок начинается не со звонка, а задолго до него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124080" y="4648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рок должен быть пронизан творчеством и вместе с тем оставаться уро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.И.Гес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Рефлексивное осмысление результатов уро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Тем, чем мы были и чем являемся, завтра уже не будем.                      Овид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флексия является универсальным психологическим механизмом изменения и развития лич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ная связь может быть эмоциональной, невербальной, основанной на наблюдениях учителя за внешними проявлениями деятельности учащихс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ная связь может быть вербальной, получаемой постоянно в течение всего урока и , особенно, в конц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ный ответ (одного или групп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ценка ученика свое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52680" y="1752480"/>
            <a:ext cx="5181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рактикум по проектированию урока как целостной дидактическ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нципы управления учебным процессом (5 функций Анри Файо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зация и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524560" y="1252800"/>
            <a:ext cx="3377880" cy="4908600"/>
            <a:chOff x="5524560" y="1252800"/>
            <a:chExt cx="3377880" cy="4908600"/>
          </a:xfrm>
        </p:grpSpPr>
        <p:sp>
          <p:nvSpPr>
            <p:cNvPr id="113" name=""/>
            <p:cNvSpPr/>
            <p:nvPr/>
          </p:nvSpPr>
          <p:spPr>
            <a:xfrm rot="1000800">
              <a:off x="6868440" y="2012040"/>
              <a:ext cx="1491480" cy="87552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00800">
              <a:off x="5689440" y="1469520"/>
              <a:ext cx="1716480" cy="140400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00800">
              <a:off x="6936120" y="2933640"/>
              <a:ext cx="897840" cy="131760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00800">
              <a:off x="7356600" y="3161880"/>
              <a:ext cx="1370880" cy="101196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00800">
              <a:off x="7034400" y="4320720"/>
              <a:ext cx="1668240" cy="1635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00800">
              <a:off x="6039360" y="3937680"/>
              <a:ext cx="1122840" cy="166644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00800">
              <a:off x="8288640" y="1703160"/>
              <a:ext cx="554400" cy="34164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00800">
              <a:off x="8089560" y="1997280"/>
              <a:ext cx="172440" cy="92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ирование урока как технологической цеп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ирование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полагание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бор содержания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ы и прием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ы организации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ка к домашне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, самооценка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практике работы применяются разные варианты поурочного планирования или конспектов уро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33920" y="3432240"/>
            <a:ext cx="3352680" cy="28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ющая часть содержи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у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ую дидактическую цель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ающие, развивающие и воспитательные задач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рудование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Содержательная часть может быть представлена в разных формах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2362320"/>
          <a:ext cx="8229240" cy="38862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этапов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е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2286000"/>
          <a:ext cx="9143640" cy="2286000"/>
        </p:xfrm>
        <a:graphic>
          <a:graphicData uri="http://schemas.openxmlformats.org/drawingml/2006/table">
            <a:tbl>
              <a:tblPr/>
              <a:tblGrid>
                <a:gridCol w="1828080"/>
                <a:gridCol w="1830240"/>
                <a:gridCol w="1827000"/>
                <a:gridCol w="1830240"/>
                <a:gridCol w="182808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задача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учебного материа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, приемы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рганизации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и оценка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еполаг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ъявление цели уче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ование с уче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1-10T09:09:0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