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6023-433A-4B2B-9139-E36C312F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8861-0B34-4867-A1EC-96AF4FAF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D024-B4D4-4881-BE75-8CD5B5FF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2762-E525-4E46-AA95-BFDB0927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B14E-BC90-4E60-BB91-900128FF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0049-A64B-4D0B-A655-C66C3418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D4DF-3310-4123-B85F-862BF53F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C538-5513-4D25-852C-0F81BD08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6AEF-9330-4887-BB53-892DE960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5003-F15A-4B35-95A4-FC7DFE83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7D4D-3BE4-4CC0-B38D-84DB43C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E159-FF74-496A-9E37-A0C73D16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50B6-DC79-409D-B246-D5C288B8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B76C-97F1-45FF-BF49-C445E438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CFC4-01BC-4B00-9CB0-7108BCB1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D4C3-B76C-4906-92B0-D82ABD75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D5EE-0B99-430D-A83A-EA9A5017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BA59-D999-45A5-A877-EC88DD2D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3144-4C61-4301-8593-3FED4DE1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AF96-511E-436F-9EFA-6FA683BF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BDB8-F335-4C02-AF03-FB0298A1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3A33-DAE8-4360-8448-0E6FA45F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DE32-58A3-4A55-B48A-C43AD336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35BB-D19A-4714-A917-0D9530CF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33AB-40E9-4047-BF34-696E8995C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E32E-6EAC-4D9A-8FD1-46C091C762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аким может быть современный уро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рок как целостная дидактическ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лава 2 из книги С.С.Татарченковой Урок как педагогический феном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80880" y="533520"/>
          <a:ext cx="8762760" cy="5151240"/>
        </p:xfrm>
        <a:graphic>
          <a:graphicData uri="http://schemas.openxmlformats.org/drawingml/2006/table">
            <a:tbl>
              <a:tblPr/>
              <a:tblGrid>
                <a:gridCol w="4381560"/>
                <a:gridCol w="4381200"/>
              </a:tblGrid>
              <a:tr h="15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и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лавная дидактическая цель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ный у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общее представление 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изучения новых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ить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закрепления знаний, формирования умений и навы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ить- знания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ировать…умения, навы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533520"/>
          <a:ext cx="8458200" cy="5790960"/>
        </p:xfrm>
        <a:graphic>
          <a:graphicData uri="http://schemas.openxmlformats.org/drawingml/2006/table">
            <a:tbl>
              <a:tblPr/>
              <a:tblGrid>
                <a:gridCol w="4082040"/>
                <a:gridCol w="4376160"/>
              </a:tblGrid>
              <a:tr h="24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применения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ать умение применять знания в схожей ситуации, другой или самостоят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обобщения и систематизации зн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ить единичные знания, привести их в систем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проверки, оценки и коррекции знаний, умений и навыков (ЗУ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уровень усвоения ЗУНов и их комплексного примен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авная дидактическая 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ающая  (Обеспечить уровень усвоения ЗУН, добиться, обобщить, систематизировать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ющая (Убедить, создать интерес, пополнить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тельная (Создать условия, способствовать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ор методов и приемов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- это способ достижения цели, связующее звено между запроектированной целью и конечным результ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ем- это элемент метода, разовое действие, шаг в реализации или модификации мет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 определяет содержание и методы, методы и содержание обуславливают достижение цел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И.Я.Лерн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иболее применяемые в школьной практике методы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гля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истом виде каждый из них почти не использ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некоторые из ни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бота с кни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монстрация и иллюстрация чег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аборатор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знавате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учающи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амо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ы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ая диску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лог \ Поли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ео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овые и ролев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рыт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ны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зговой штур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ы организации познавательной деятельности учащихся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ронта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лектив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ценочная деятельность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путать оценку и отмет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ваем процесс (У тебя получилось, Ты это знаешь, Нормально, Хорошо, Так и надо делать, Умница, Молодец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метки ставятся за реально выявленны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Настоящий урок начинается не со звонка, а задолго до него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124080" y="4648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рок должен быть пронизан творчеством и вместе с тем оставаться уро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.И.Гес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Рефлексивное осмысление результатов урок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Тем, чем мы были и чем являемся, завтра уже не будем.                      Овид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флексия является универсальным психологическим механизмом изменения и развития лич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ная связь может быть эмоциональной, невербальной, основанной на наблюдениях учителя за внешними проявлениями деятельности учащихс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тная связь может быть вербальной, получаемой постоянно в течение всего урока и , особенно, в конц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ный ответ (одного или групп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оценка ученика свое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52680" y="1752480"/>
            <a:ext cx="5181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рактикум по проектированию урока как целостной дидактическ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нципы управления учебным процессом (5 функций Анри Файо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зация и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524560" y="1252800"/>
            <a:ext cx="3377880" cy="4908600"/>
            <a:chOff x="5524560" y="1252800"/>
            <a:chExt cx="3377880" cy="4908600"/>
          </a:xfrm>
        </p:grpSpPr>
        <p:sp>
          <p:nvSpPr>
            <p:cNvPr id="113" name=""/>
            <p:cNvSpPr/>
            <p:nvPr/>
          </p:nvSpPr>
          <p:spPr>
            <a:xfrm rot="1000800">
              <a:off x="6868440" y="2012040"/>
              <a:ext cx="1491480" cy="87552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00800">
              <a:off x="5689440" y="1469520"/>
              <a:ext cx="1716480" cy="140400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00800">
              <a:off x="6936120" y="2933640"/>
              <a:ext cx="897840" cy="131760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00800">
              <a:off x="7356600" y="3161880"/>
              <a:ext cx="1370880" cy="101196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00800">
              <a:off x="7034400" y="4320720"/>
              <a:ext cx="1668240" cy="163548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00800">
              <a:off x="6039360" y="3937680"/>
              <a:ext cx="1122840" cy="166644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00800">
              <a:off x="8288640" y="1703160"/>
              <a:ext cx="554400" cy="34164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00800">
              <a:off x="8089560" y="1997280"/>
              <a:ext cx="172440" cy="928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800000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ектирование урока как технологической цеп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ектирование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еполагание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бор содержания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ы и прием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ы организации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ка к домашне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, самооценка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практике работы применяются разные варианты поурочного планирования или конспектов уро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33920" y="3432240"/>
            <a:ext cx="3352680" cy="28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ющая часть содержи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у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ую дидактическую цель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ающие, развивающие и воспитательные задач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рудование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Содержательная часть может быть представлена в разных формах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2362320"/>
          <a:ext cx="8229240" cy="388620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этапов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уче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2286000"/>
          <a:ext cx="9143640" cy="2286000"/>
        </p:xfrm>
        <a:graphic>
          <a:graphicData uri="http://schemas.openxmlformats.org/drawingml/2006/table">
            <a:tbl>
              <a:tblPr/>
              <a:tblGrid>
                <a:gridCol w="1828080"/>
                <a:gridCol w="1830240"/>
                <a:gridCol w="1827000"/>
                <a:gridCol w="1830240"/>
                <a:gridCol w="182808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ая задача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учебного материа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, приемы об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рганизации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и оценка результ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еполаг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ъявление цели уче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ование с уче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1-10T09:09:0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