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BB6E-F69C-437F-812C-5FEE84496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E6AA-532A-450B-8D18-3BA859C0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3574-713E-4332-B5A1-C2680152F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55AB-760F-47E0-B1F4-A6F926199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FF42-265D-4635-B424-5DB45C0F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0D3E-FB96-423A-9803-BED68F1E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41AA-BBF5-490C-8454-9F905181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9F28-2D31-40F8-8390-6F622785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3D62-15EF-436E-9D81-3A1A05FA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B6F1-43B0-40AA-83A6-652893CE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335F-3335-4990-A249-53263CD6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A882-119B-4A5E-9438-C63E010A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CC8D-56E1-4567-9EE4-C54DD9A4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1062-EA45-4332-A149-553A892A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D1E4-9562-4A66-A1CA-186FCA74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9D7E-019A-464A-9529-59CDCBA1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6368-D7E7-469A-8D49-42CE381D3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F856-DF11-4CE0-B8F9-A3C1DCE0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EFB9-6933-4745-A07F-60AC7E6B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2260-34BF-4734-BFC7-3F623429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E97F-0BA1-45F4-81D1-604E5E00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D61C-D369-456F-BB97-136AE46F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1029-5F4B-4AF5-ADA9-DF3102B7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BEAD-707F-4AFC-B54C-0ECB8B2E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95D5-0DA7-4B15-BFFC-6A1EC776CF4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8307-CB09-4BD1-9B1C-C9A88F8489C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38"/>
          <p:cNvPicPr/>
          <p:nvPr/>
        </p:nvPicPr>
        <p:blipFill>
          <a:blip r:embed="rId1"/>
          <a:stretch/>
        </p:blipFill>
        <p:spPr>
          <a:xfrm>
            <a:off x="250920" y="3716280"/>
            <a:ext cx="3924360" cy="25732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490160" cy="309564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00004d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Tahoma"/>
              </a:rPr>
              <a:t>Здоровьесберегающие технологии как средство сохранения и укрепления здоровья младших школьников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4716360" y="4437000"/>
            <a:ext cx="431964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пускная квалификационная работа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удентки группы 3 «В»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каровой Екатерины Владимировны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учный руководитель: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мелева Наталья Владимировна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Oval 10"/>
          <p:cNvSpPr/>
          <p:nvPr/>
        </p:nvSpPr>
        <p:spPr>
          <a:xfrm>
            <a:off x="2914560" y="2133720"/>
            <a:ext cx="3313080" cy="25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Здоровьесберегающие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технологи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Oval 11"/>
          <p:cNvSpPr/>
          <p:nvPr/>
        </p:nvSpPr>
        <p:spPr>
          <a:xfrm>
            <a:off x="544680" y="404640"/>
            <a:ext cx="4027320" cy="24400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Технологии обеспечения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Безопасност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жизнедеятельност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Oval 12"/>
          <p:cNvSpPr/>
          <p:nvPr/>
        </p:nvSpPr>
        <p:spPr>
          <a:xfrm>
            <a:off x="4572000" y="404640"/>
            <a:ext cx="4032360" cy="24480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Здоровьесберегающие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образовательные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технологи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Oval 13"/>
          <p:cNvSpPr/>
          <p:nvPr/>
        </p:nvSpPr>
        <p:spPr>
          <a:xfrm>
            <a:off x="5651640" y="3141720"/>
            <a:ext cx="3313080" cy="19447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Экологические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здоровье-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сберегающие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технологи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Oval 14"/>
          <p:cNvSpPr/>
          <p:nvPr/>
        </p:nvSpPr>
        <p:spPr>
          <a:xfrm>
            <a:off x="179280" y="3068640"/>
            <a:ext cx="3097440" cy="19447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Медико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-гигиенические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технологи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Oval 15"/>
          <p:cNvSpPr/>
          <p:nvPr/>
        </p:nvSpPr>
        <p:spPr>
          <a:xfrm>
            <a:off x="3089160" y="4292640"/>
            <a:ext cx="2963880" cy="17287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Физкультурно-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оздоровительные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технологи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6443640" y="5877000"/>
            <a:ext cx="2303640" cy="45972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Зайцев Г.К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Oval 16"/>
          <p:cNvSpPr/>
          <p:nvPr/>
        </p:nvSpPr>
        <p:spPr>
          <a:xfrm>
            <a:off x="0" y="0"/>
            <a:ext cx="9144000" cy="6858000"/>
          </a:xfrm>
          <a:prstGeom prst="ellipse">
            <a:avLst/>
          </a:prstGeom>
          <a:solidFill>
            <a:srgbClr val="000066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2374920" y="189000"/>
            <a:ext cx="43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Здоровьесберегающая деятельность школы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Oval 20"/>
          <p:cNvSpPr/>
          <p:nvPr/>
        </p:nvSpPr>
        <p:spPr>
          <a:xfrm>
            <a:off x="179280" y="2889360"/>
            <a:ext cx="3024360" cy="1079280"/>
          </a:xfrm>
          <a:prstGeom prst="ellipse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рофилактические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рививк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Oval 23"/>
          <p:cNvSpPr/>
          <p:nvPr/>
        </p:nvSpPr>
        <p:spPr>
          <a:xfrm>
            <a:off x="3311640" y="3429000"/>
            <a:ext cx="2519280" cy="1008000"/>
          </a:xfrm>
          <a:prstGeom prst="ellipse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Дни и Недели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Здоровья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Oval 24"/>
          <p:cNvSpPr/>
          <p:nvPr/>
        </p:nvSpPr>
        <p:spPr>
          <a:xfrm>
            <a:off x="611280" y="1413000"/>
            <a:ext cx="2881080" cy="936360"/>
          </a:xfrm>
          <a:prstGeom prst="ellipse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Диспансеризация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Oval 25"/>
          <p:cNvSpPr/>
          <p:nvPr/>
        </p:nvSpPr>
        <p:spPr>
          <a:xfrm>
            <a:off x="5219640" y="4076640"/>
            <a:ext cx="3457800" cy="1298520"/>
          </a:xfrm>
          <a:prstGeom prst="ellipse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Участие в районных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спортсоревнованиях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Oval 28"/>
          <p:cNvSpPr/>
          <p:nvPr/>
        </p:nvSpPr>
        <p:spPr>
          <a:xfrm>
            <a:off x="395280" y="4149720"/>
            <a:ext cx="3602160" cy="1222560"/>
          </a:xfrm>
          <a:prstGeom prst="ellipse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Спортивные школьные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раздник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Oval 29"/>
          <p:cNvSpPr/>
          <p:nvPr/>
        </p:nvSpPr>
        <p:spPr>
          <a:xfrm>
            <a:off x="5867280" y="2708280"/>
            <a:ext cx="3168720" cy="1295280"/>
          </a:xfrm>
          <a:prstGeom prst="ellipse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Беседы о здоровье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с учащимися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Oval 30"/>
          <p:cNvSpPr/>
          <p:nvPr/>
        </p:nvSpPr>
        <p:spPr>
          <a:xfrm>
            <a:off x="5724360" y="1413000"/>
            <a:ext cx="2737080" cy="865080"/>
          </a:xfrm>
          <a:prstGeom prst="ellipse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Витаминизация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Oval 31"/>
          <p:cNvSpPr/>
          <p:nvPr/>
        </p:nvSpPr>
        <p:spPr>
          <a:xfrm>
            <a:off x="3059280" y="1989000"/>
            <a:ext cx="3168360" cy="1295640"/>
          </a:xfrm>
          <a:prstGeom prst="ellipse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Беседы о здоровье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с родителям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Oval 35"/>
          <p:cNvSpPr/>
          <p:nvPr/>
        </p:nvSpPr>
        <p:spPr>
          <a:xfrm>
            <a:off x="2050920" y="5229360"/>
            <a:ext cx="4969080" cy="1439640"/>
          </a:xfrm>
          <a:prstGeom prst="ellipse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Оформление классных и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школьных «Уголков здоровья»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6" descr="osport1"/>
          <p:cNvPicPr/>
          <p:nvPr/>
        </p:nvPicPr>
        <p:blipFill>
          <a:blip r:embed="rId1"/>
          <a:stretch/>
        </p:blipFill>
        <p:spPr>
          <a:xfrm>
            <a:off x="324000" y="1700280"/>
            <a:ext cx="7619760" cy="49816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Созданные в школе условия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0" y="907920"/>
            <a:ext cx="4968720" cy="1922760"/>
          </a:xfrm>
          <a:prstGeom prst="rect">
            <a:avLst/>
          </a:prstGeom>
          <a:solidFill>
            <a:srgbClr val="00008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Tahoma"/>
              </a:rPr>
              <a:t>Гигиенические условия, соответствующие требованиям  СанПиНов и реализуемые всеми участниками педагогического процесса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012000" y="981000"/>
            <a:ext cx="2736720" cy="1557000"/>
          </a:xfrm>
          <a:prstGeom prst="rect">
            <a:avLst/>
          </a:prstGeom>
          <a:solidFill>
            <a:srgbClr val="000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Tahoma"/>
              </a:rPr>
              <a:t>Качественное и полноценное медицинское обслуживание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84360" y="4365720"/>
            <a:ext cx="2736720" cy="1922760"/>
          </a:xfrm>
          <a:prstGeom prst="rect">
            <a:avLst/>
          </a:prstGeom>
          <a:solidFill>
            <a:srgbClr val="00008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Tahoma"/>
              </a:rPr>
              <a:t>Внедрение здоровьесберегающих педагогических технологий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156360" y="4076640"/>
            <a:ext cx="2665440" cy="2654280"/>
          </a:xfrm>
          <a:prstGeom prst="rect">
            <a:avLst/>
          </a:prstGeom>
          <a:solidFill>
            <a:srgbClr val="00008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Tahoma"/>
              </a:rPr>
              <a:t>Проведение мероприятий, направленных на сохранение и укрепление здоровья школьников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Oval 9"/>
          <p:cNvSpPr/>
          <p:nvPr/>
        </p:nvSpPr>
        <p:spPr>
          <a:xfrm>
            <a:off x="2916360" y="3068640"/>
            <a:ext cx="3311280" cy="1152360"/>
          </a:xfrm>
          <a:prstGeom prst="ellipse">
            <a:avLst/>
          </a:prstGeom>
          <a:gradFill rotWithShape="0">
            <a:gsLst>
              <a:gs pos="0">
                <a:srgbClr val="000099"/>
              </a:gs>
              <a:gs pos="100000">
                <a:srgbClr val="000066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Условия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6"/>
          <p:cNvSpPr/>
          <p:nvPr/>
        </p:nvSpPr>
        <p:spPr>
          <a:xfrm>
            <a:off x="1474920" y="333360"/>
            <a:ext cx="6192720" cy="520560"/>
          </a:xfrm>
          <a:prstGeom prst="rect">
            <a:avLst/>
          </a:prstGeom>
          <a:noFill/>
          <a:ln w="1908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Результаты обследования детей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84" name="Object 8"/>
          <p:cNvGraphicFramePr/>
          <p:nvPr/>
        </p:nvGraphicFramePr>
        <p:xfrm>
          <a:off x="792000" y="1700280"/>
          <a:ext cx="7560000" cy="459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1700280"/>
                    <a:ext cx="7560000" cy="45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324000" y="836640"/>
          <a:ext cx="8640720" cy="5657760"/>
        </p:xfrm>
        <a:graphic>
          <a:graphicData uri="http://schemas.openxmlformats.org/drawingml/2006/table">
            <a:tbl>
              <a:tblPr/>
              <a:tblGrid>
                <a:gridCol w="1562040"/>
                <a:gridCol w="1427040"/>
                <a:gridCol w="1496880"/>
                <a:gridCol w="1462320"/>
                <a:gridCol w="1272960"/>
                <a:gridCol w="1419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недельник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торник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тверг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ятниц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я недел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.01-1.0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2,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2,3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П № 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2,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П № 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2,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2,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5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я недел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02-8.0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5,6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5,6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П № 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5,6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П № 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5,6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5,6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-я недел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.02-15.0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8,9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8,9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П № 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8,9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П № 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8,9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8,9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4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-я недел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.02-22.0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,11,1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,11,12 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П № 4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,11,12 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П № 4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,11,1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,11,1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Text Box 287"/>
          <p:cNvSpPr/>
          <p:nvPr/>
        </p:nvSpPr>
        <p:spPr>
          <a:xfrm>
            <a:off x="2374920" y="189000"/>
            <a:ext cx="4392720" cy="947160"/>
          </a:xfrm>
          <a:prstGeom prst="rect">
            <a:avLst/>
          </a:prstGeom>
          <a:noFill/>
          <a:ln w="1908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Динамические перемены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064720" cy="711000"/>
          </a:xfrm>
          <a:prstGeom prst="rect">
            <a:avLst/>
          </a:prstGeom>
          <a:noFill/>
          <a:ln w="19080">
            <a:solidFill>
              <a:srgbClr val="66ff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Tahoma"/>
              </a:rPr>
              <a:t>Организация динамических перемен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9" name="Picture 2" descr="IMG_0225"/>
          <p:cNvPicPr/>
          <p:nvPr/>
        </p:nvPicPr>
        <p:blipFill>
          <a:blip r:embed="rId1"/>
          <a:stretch/>
        </p:blipFill>
        <p:spPr>
          <a:xfrm>
            <a:off x="561960" y="1773360"/>
            <a:ext cx="3289320" cy="2466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IMG_0226"/>
          <p:cNvPicPr/>
          <p:nvPr/>
        </p:nvPicPr>
        <p:blipFill>
          <a:blip r:embed="rId2"/>
          <a:stretch/>
        </p:blipFill>
        <p:spPr>
          <a:xfrm>
            <a:off x="5292720" y="1773360"/>
            <a:ext cx="3233880" cy="2447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IMG_0227"/>
          <p:cNvPicPr/>
          <p:nvPr/>
        </p:nvPicPr>
        <p:blipFill>
          <a:blip r:embed="rId3"/>
          <a:stretch/>
        </p:blipFill>
        <p:spPr>
          <a:xfrm>
            <a:off x="3083040" y="4508640"/>
            <a:ext cx="29764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79280" y="907920"/>
          <a:ext cx="8713800" cy="5791320"/>
        </p:xfrm>
        <a:graphic>
          <a:graphicData uri="http://schemas.openxmlformats.org/drawingml/2006/table">
            <a:tbl>
              <a:tblPr/>
              <a:tblGrid>
                <a:gridCol w="1728720"/>
                <a:gridCol w="1440000"/>
                <a:gridCol w="1511280"/>
                <a:gridCol w="1657440"/>
                <a:gridCol w="2376360"/>
              </a:tblGrid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тение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ружающий мир; изо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115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я недел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.01-1.0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М № 1,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М № 3,4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М № 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М № 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115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я недел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02-8.0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М № 5,6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М № 7,8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М № 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М № 4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115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-я недел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.02-15.0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М № 9,1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М № 11,1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М № 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М № 6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115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-я недел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.02-22.0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М № 13,14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М № 15,16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М № 7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М № 8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193" name="Text Box 214"/>
          <p:cNvSpPr/>
          <p:nvPr/>
        </p:nvSpPr>
        <p:spPr>
          <a:xfrm>
            <a:off x="2879640" y="189000"/>
            <a:ext cx="3384720" cy="520560"/>
          </a:xfrm>
          <a:prstGeom prst="rect">
            <a:avLst/>
          </a:prstGeom>
          <a:noFill/>
          <a:ln w="1908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Физкультминутк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179280" y="907920"/>
          <a:ext cx="8929800" cy="5791320"/>
        </p:xfrm>
        <a:graphic>
          <a:graphicData uri="http://schemas.openxmlformats.org/drawingml/2006/table">
            <a:tbl>
              <a:tblPr/>
              <a:tblGrid>
                <a:gridCol w="2229120"/>
                <a:gridCol w="1509480"/>
                <a:gridCol w="1508040"/>
                <a:gridCol w="1509840"/>
                <a:gridCol w="2173320"/>
              </a:tblGrid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тение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ружающий мир; изо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115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я недел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.01-1.0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  №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  №4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  №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  №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115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я недел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02-8.0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  №6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  №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  №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  №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115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-я недел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.02-15.0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  №8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  №7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  №1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  №1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115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-я недел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.02-22.0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  №9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  №1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  №1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  №1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195" name="Text Box 247"/>
          <p:cNvSpPr/>
          <p:nvPr/>
        </p:nvSpPr>
        <p:spPr>
          <a:xfrm>
            <a:off x="2698920" y="260280"/>
            <a:ext cx="3744720" cy="947160"/>
          </a:xfrm>
          <a:prstGeom prst="rect">
            <a:avLst/>
          </a:prstGeom>
          <a:noFill/>
          <a:ln w="1908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Динамические паузы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IMG_0217"/>
          <p:cNvPicPr/>
          <p:nvPr/>
        </p:nvPicPr>
        <p:blipFill>
          <a:blip r:embed="rId1"/>
          <a:stretch/>
        </p:blipFill>
        <p:spPr>
          <a:xfrm>
            <a:off x="250920" y="2276640"/>
            <a:ext cx="4151160" cy="3112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IMG_0218"/>
          <p:cNvPicPr/>
          <p:nvPr/>
        </p:nvPicPr>
        <p:blipFill>
          <a:blip r:embed="rId2"/>
          <a:stretch/>
        </p:blipFill>
        <p:spPr>
          <a:xfrm>
            <a:off x="4772160" y="2276640"/>
            <a:ext cx="4120920" cy="30906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9"/>
          <p:cNvSpPr/>
          <p:nvPr/>
        </p:nvSpPr>
        <p:spPr>
          <a:xfrm>
            <a:off x="971640" y="549360"/>
            <a:ext cx="7200720" cy="1739880"/>
          </a:xfrm>
          <a:prstGeom prst="rect">
            <a:avLst/>
          </a:prstGeom>
          <a:noFill/>
          <a:ln w="1908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Tahoma"/>
              </a:rPr>
              <a:t>Организация физкультминуток и динамических пауз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108000" y="907920"/>
          <a:ext cx="8856720" cy="5791320"/>
        </p:xfrm>
        <a:graphic>
          <a:graphicData uri="http://schemas.openxmlformats.org/drawingml/2006/table">
            <a:tbl>
              <a:tblPr/>
              <a:tblGrid>
                <a:gridCol w="1727280"/>
                <a:gridCol w="1728720"/>
                <a:gridCol w="1393920"/>
                <a:gridCol w="1054080"/>
                <a:gridCol w="1439640"/>
                <a:gridCol w="1513080"/>
              </a:tblGrid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неде-льник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торник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тверг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ятниц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115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я недел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.01-1.0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115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я недел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02-8.0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115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-я недел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.02-15.0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115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-я недел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.02-22.0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200" name="Text Box 257"/>
          <p:cNvSpPr/>
          <p:nvPr/>
        </p:nvSpPr>
        <p:spPr>
          <a:xfrm>
            <a:off x="2482920" y="260280"/>
            <a:ext cx="4176720" cy="520560"/>
          </a:xfrm>
          <a:prstGeom prst="rect">
            <a:avLst/>
          </a:prstGeom>
          <a:noFill/>
          <a:ln w="1908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Утренняя гимнастик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2"/>
          <p:cNvSpPr/>
          <p:nvPr/>
        </p:nvSpPr>
        <p:spPr>
          <a:xfrm>
            <a:off x="-108000" y="4005360"/>
            <a:ext cx="900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ffcc"/>
                </a:solidFill>
                <a:latin typeface="Tahoma"/>
              </a:rPr>
              <a:t>!</a:t>
            </a:r>
            <a:endParaRPr b="0" lang="en-US" sz="20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900000" y="5659560"/>
            <a:ext cx="8064720" cy="8254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Существующая система школьного образования имеет здоровьезатратный характер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07000" y="189000"/>
            <a:ext cx="87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Традиционная организация образовательного процесса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2050920" y="907920"/>
            <a:ext cx="5042160" cy="792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создает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418920" y="1773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у школьников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1793160" y="2421000"/>
            <a:ext cx="557568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остоянные стрессовые перегрузк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620640" y="3017880"/>
            <a:ext cx="7900920" cy="825480"/>
          </a:xfrm>
          <a:prstGeom prst="rect">
            <a:avLst/>
          </a:prstGeom>
          <a:noFill/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риводят к поломке механизмов саморегуляции физиологических функций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869760" y="4005360"/>
            <a:ext cx="7326720" cy="45972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способствуют развитию хронических болезней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AutoShape 11"/>
          <p:cNvSpPr/>
          <p:nvPr/>
        </p:nvSpPr>
        <p:spPr>
          <a:xfrm>
            <a:off x="3130560" y="4797360"/>
            <a:ext cx="288144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IMG_0220"/>
          <p:cNvPicPr/>
          <p:nvPr/>
        </p:nvPicPr>
        <p:blipFill>
          <a:blip r:embed="rId1"/>
          <a:stretch/>
        </p:blipFill>
        <p:spPr>
          <a:xfrm>
            <a:off x="250920" y="2205000"/>
            <a:ext cx="4151160" cy="316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IMG_0224"/>
          <p:cNvPicPr/>
          <p:nvPr/>
        </p:nvPicPr>
        <p:blipFill>
          <a:blip r:embed="rId2"/>
          <a:stretch/>
        </p:blipFill>
        <p:spPr>
          <a:xfrm>
            <a:off x="4716360" y="2205000"/>
            <a:ext cx="4176720" cy="31687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9"/>
          <p:cNvSpPr/>
          <p:nvPr/>
        </p:nvSpPr>
        <p:spPr>
          <a:xfrm>
            <a:off x="1619280" y="476280"/>
            <a:ext cx="5905440" cy="1191240"/>
          </a:xfrm>
          <a:prstGeom prst="rect">
            <a:avLst/>
          </a:prstGeom>
          <a:noFill/>
          <a:ln w="1908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Tahoma"/>
              </a:rPr>
              <a:t>Организация утренней гимнастики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IMG_0229"/>
          <p:cNvPicPr/>
          <p:nvPr/>
        </p:nvPicPr>
        <p:blipFill>
          <a:blip r:embed="rId1"/>
          <a:stretch/>
        </p:blipFill>
        <p:spPr>
          <a:xfrm>
            <a:off x="324000" y="1484280"/>
            <a:ext cx="3781440" cy="5040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IMG_0237"/>
          <p:cNvPicPr/>
          <p:nvPr/>
        </p:nvPicPr>
        <p:blipFill>
          <a:blip r:embed="rId2"/>
          <a:stretch/>
        </p:blipFill>
        <p:spPr>
          <a:xfrm>
            <a:off x="4572000" y="1447920"/>
            <a:ext cx="3313080" cy="2484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IMG_0238"/>
          <p:cNvPicPr/>
          <p:nvPr/>
        </p:nvPicPr>
        <p:blipFill>
          <a:blip r:embed="rId3"/>
          <a:stretch/>
        </p:blipFill>
        <p:spPr>
          <a:xfrm>
            <a:off x="4572000" y="4076640"/>
            <a:ext cx="3313080" cy="24843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0"/>
          <p:cNvSpPr/>
          <p:nvPr/>
        </p:nvSpPr>
        <p:spPr>
          <a:xfrm>
            <a:off x="2448000" y="549360"/>
            <a:ext cx="4248000" cy="642600"/>
          </a:xfrm>
          <a:prstGeom prst="rect">
            <a:avLst/>
          </a:prstGeom>
          <a:noFill/>
          <a:ln w="1908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Tahoma"/>
              </a:rPr>
              <a:t>Уголок здоровья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5"/>
          <p:cNvSpPr/>
          <p:nvPr/>
        </p:nvSpPr>
        <p:spPr>
          <a:xfrm>
            <a:off x="0" y="0"/>
            <a:ext cx="1440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ffcc"/>
                </a:solidFill>
                <a:latin typeface="Tahoma"/>
              </a:rPr>
              <a:t>?</a:t>
            </a:r>
            <a:endParaRPr b="0" lang="en-US" sz="20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547640" y="402840"/>
            <a:ext cx="7339320" cy="11912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очему, зная о необходимости использования здоровьесберегающих технологий, учителя их не применяют в практической деятельности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3924360" y="2058120"/>
            <a:ext cx="4968720" cy="1557000"/>
          </a:xfrm>
          <a:prstGeom prst="rect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Знаниями возрастных физиологических и психологических  особенностей школьников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1116000" y="2997360"/>
            <a:ext cx="2089080" cy="1557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Учителя не в полной мере владеют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4284720" y="3789360"/>
            <a:ext cx="4321080" cy="1191240"/>
          </a:xfrm>
          <a:prstGeom prst="rect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риёмами организации здоровьесберегающего пространства в классе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AutoShape 12"/>
          <p:cNvSpPr/>
          <p:nvPr/>
        </p:nvSpPr>
        <p:spPr>
          <a:xfrm>
            <a:off x="0" y="5157720"/>
            <a:ext cx="468000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Отсюда следует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1042920" y="6237360"/>
            <a:ext cx="7705800" cy="825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НЕОБХОДИМОСТЬ ПОВЫШЕНИЯ КВАЛИФИКАЦИ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250920" y="5443200"/>
            <a:ext cx="4825800" cy="1191240"/>
          </a:xfrm>
          <a:prstGeom prst="rect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эффективно проводить профилактику асоциального поведения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2561400" y="333360"/>
            <a:ext cx="40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Наблюдения показывают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24000" y="1052640"/>
            <a:ext cx="8424720" cy="82548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использование здоровьесберегающих технологий в учебном процессе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5651640" y="2060640"/>
            <a:ext cx="3492360" cy="720720"/>
          </a:xfrm>
          <a:prstGeom prst="downArrow">
            <a:avLst>
              <a:gd name="adj1" fmla="val 51546"/>
              <a:gd name="adj2" fmla="val 4339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озволяет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79280" y="3068640"/>
            <a:ext cx="5688000" cy="1191240"/>
          </a:xfrm>
          <a:prstGeom prst="rect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более успешно адаптироваться в образовательном и социальном пространстве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-25920" y="4437000"/>
            <a:ext cx="6167160" cy="459720"/>
          </a:xfrm>
          <a:prstGeom prst="rect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раскрыть свои творческие способност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6590160" y="3789360"/>
            <a:ext cx="1710720" cy="459720"/>
          </a:xfrm>
          <a:prstGeom prst="rect">
            <a:avLst/>
          </a:prstGeom>
          <a:solidFill>
            <a:srgbClr val="808000"/>
          </a:solidFill>
          <a:ln w="0">
            <a:noFill/>
          </a:ln>
          <a:effectLst>
            <a:outerShdw dist="17819" dir="2700000" blurRad="0" rotWithShape="0">
              <a:srgbClr val="4d4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учащимся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AutoShape 12"/>
          <p:cNvSpPr/>
          <p:nvPr/>
        </p:nvSpPr>
        <p:spPr>
          <a:xfrm>
            <a:off x="5940360" y="3068640"/>
            <a:ext cx="503280" cy="1944720"/>
          </a:xfrm>
          <a:custGeom>
            <a:avLst/>
            <a:gdLst>
              <a:gd name="textAreaLeft" fmla="*/ 0 w 503280"/>
              <a:gd name="textAreaRight" fmla="*/ 181800 w 50328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7263720" y="5661000"/>
            <a:ext cx="146844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учителю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AutoShape 14"/>
          <p:cNvSpPr/>
          <p:nvPr/>
        </p:nvSpPr>
        <p:spPr>
          <a:xfrm>
            <a:off x="5364000" y="5589720"/>
            <a:ext cx="1656000" cy="576000"/>
          </a:xfrm>
          <a:prstGeom prst="leftArrow">
            <a:avLst>
              <a:gd name="adj1" fmla="val 50000"/>
              <a:gd name="adj2" fmla="val 71875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47640" y="189000"/>
            <a:ext cx="6050160" cy="642600"/>
          </a:xfrm>
          <a:prstGeom prst="rect">
            <a:avLst/>
          </a:prstGeom>
          <a:noFill/>
          <a:ln w="1908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ahoma"/>
              </a:rPr>
              <a:t>Цель исследования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14200" y="1052640"/>
            <a:ext cx="8713800" cy="137376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0000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оказать возможности использования здоровьесберегающих технологий в начальной школе с целью сохранения здоровья детей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727280" y="2637000"/>
            <a:ext cx="5688000" cy="642600"/>
          </a:xfrm>
          <a:prstGeom prst="rect">
            <a:avLst/>
          </a:prstGeom>
          <a:noFill/>
          <a:ln w="1908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ahoma"/>
              </a:rPr>
              <a:t>Объект исследования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12920" y="3573360"/>
            <a:ext cx="8316720" cy="94716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0000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Здоровье младших школьников и факторы, способствующие его формированию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187280" y="4653000"/>
            <a:ext cx="6732720" cy="642600"/>
          </a:xfrm>
          <a:prstGeom prst="rect">
            <a:avLst/>
          </a:prstGeom>
          <a:noFill/>
          <a:ln w="1908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ahoma"/>
              </a:rPr>
              <a:t>Предмет исследования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50840" y="5516640"/>
            <a:ext cx="8820000" cy="137376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0000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Использование здоровьесберегающих технологий с целью сохранения и укрепления здоровья детей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079640" y="692280"/>
            <a:ext cx="6983280" cy="642600"/>
          </a:xfrm>
          <a:prstGeom prst="rect">
            <a:avLst/>
          </a:prstGeom>
          <a:noFill/>
          <a:ln w="1908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ahoma"/>
              </a:rPr>
              <a:t>Проблема исследования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719280" y="2276640"/>
            <a:ext cx="7705440" cy="448092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ротиворечие между необходимостью сохранения здоровья школьников и использованием в практике школы здоровьесберегающих технологий и отсутствием четкой работы по формированию здоровьесберегающего пространства в школ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3130560" y="115920"/>
            <a:ext cx="2881440" cy="642600"/>
          </a:xfrm>
          <a:prstGeom prst="rect">
            <a:avLst/>
          </a:prstGeom>
          <a:noFill/>
          <a:ln w="1908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ahoma"/>
              </a:rPr>
              <a:t>Задачи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50920" y="1052640"/>
            <a:ext cx="8642160" cy="192276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0000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Изучить и проанализировать литературу по проблемам формирования здоровья детей в процессе учебной детальности и использования здоровьесберегающих технологий в школьном обучени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50920" y="2924280"/>
            <a:ext cx="8640720" cy="228852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0000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Разработать и апробировать систему использования здоровьесберегающих технологий в учебном процессе, по итогам опытной работы составить рекомендации по использованию здоровьесберегающих технологий в практике школы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287280" y="5157720"/>
            <a:ext cx="8569440" cy="82548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0000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ровести обследование состояния здоровья учащихся 2-го класса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258920" y="549360"/>
            <a:ext cx="6624720" cy="642600"/>
          </a:xfrm>
          <a:prstGeom prst="rect">
            <a:avLst/>
          </a:prstGeom>
          <a:noFill/>
          <a:ln w="1908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ahoma"/>
              </a:rPr>
              <a:t>Методы исследования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71640" y="1628640"/>
            <a:ext cx="4680000" cy="106884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0000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оретические методы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704880" y="2707560"/>
            <a:ext cx="7605720" cy="58140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0000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Методы математической статистики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430920" y="3788640"/>
            <a:ext cx="5470920" cy="58140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0000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Эмпирические методы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Picture 7" descr="dom"/>
          <p:cNvPicPr/>
          <p:nvPr/>
        </p:nvPicPr>
        <p:blipFill>
          <a:blip r:embed="rId1"/>
          <a:stretch/>
        </p:blipFill>
        <p:spPr>
          <a:xfrm>
            <a:off x="5724360" y="4365720"/>
            <a:ext cx="321804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24000" y="1417680"/>
            <a:ext cx="8496000" cy="265428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0000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Качественная характеристика любой образовательной технологии, ее «сертификат безопасности для здоровья», это совокупность тех принципов, приемов, методов педагогической работы, которые дополняют традиционные технологии обучения, воспитания, развития задачами здоровьесбережения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577800" y="189000"/>
            <a:ext cx="7986600" cy="9471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Здоровьесберегающие образовательные технологи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0" name="Picture 7" descr="foto4"/>
          <p:cNvPicPr/>
          <p:nvPr/>
        </p:nvPicPr>
        <p:blipFill>
          <a:blip r:embed="rId1"/>
          <a:stretch/>
        </p:blipFill>
        <p:spPr>
          <a:xfrm>
            <a:off x="539640" y="4508640"/>
            <a:ext cx="3459240" cy="1973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iCAGH21B1"/>
          <p:cNvPicPr/>
          <p:nvPr/>
        </p:nvPicPr>
        <p:blipFill>
          <a:blip r:embed="rId2"/>
          <a:stretch/>
        </p:blipFill>
        <p:spPr>
          <a:xfrm>
            <a:off x="5651640" y="5084640"/>
            <a:ext cx="2160360" cy="1352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9"/>
          <p:cNvSpPr/>
          <p:nvPr/>
        </p:nvSpPr>
        <p:spPr>
          <a:xfrm>
            <a:off x="6588000" y="4292640"/>
            <a:ext cx="2303640" cy="45972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0000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Ковалько В.И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1224000" y="258840"/>
            <a:ext cx="6696000" cy="8254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Для создания здоровьесберегающего пространства необходимо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24000" y="1420200"/>
            <a:ext cx="8496000" cy="15570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изменение мировоззрения учителя, его отношения к себе, своему жизненному опыту в сторону осознания собственных чувств, переживаний с позиции проблем здоровьесбережения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24000" y="3221640"/>
            <a:ext cx="5688000" cy="4597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изменение отношения к учащимся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324000" y="4012200"/>
            <a:ext cx="7920000" cy="192276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изменение отношения учителя к задачам учебного процесса педагогики оздоровления, которое предполагает не только достижение дидактических целей, но и развитие учащихся с максимально сохраненным здоровьем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4427640" y="6165720"/>
            <a:ext cx="4321080" cy="8254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Безруких М.М., Сонькин В.Д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9T21:41:24Z</dcterms:created>
  <dc:creator>Катя</dc:creator>
  <dc:description/>
  <dc:language>en-US</dc:language>
  <cp:lastModifiedBy>ZooM</cp:lastModifiedBy>
  <dcterms:modified xsi:type="dcterms:W3CDTF">2013-12-03T20:32:05Z</dcterms:modified>
  <cp:revision>24</cp:revision>
  <dc:subject/>
  <dc:title>Здоровьесберегающие технологии в школе</dc:title>
</cp:coreProperties>
</file>