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86D-08DD-451C-B400-064FA778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C9F-EE54-4012-AD7A-32B3552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668-C060-493F-B15B-B2A6DE6E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C07-9A1C-4439-9C74-E50F4E9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6A64-D032-403D-A808-9BAAB4CE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EC94-91BB-4E0F-8B66-CD9F921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7A53-66B4-48E6-89FB-E4457FAC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AD92-AE61-4043-AEC6-B97A14FC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69A1-B12E-4533-A83B-26A81475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34DF-19C5-4920-A7C0-107398A2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CB0F-94C8-44D3-9BB2-A7C18CB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C90-85C6-490D-AE1E-2664491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51E0-844E-4B6F-A5BE-EFB7DC08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621E-9DE3-4301-A6DE-09E45C5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E6A-7648-4251-A63E-7772FF15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BA1F-EA87-4006-AC93-2E57F073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5AA-5825-4071-B92A-B3EE5435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3AD-2AD4-4A10-9F58-004D3B8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0A8-DE9A-404B-9E4F-4D2F12CE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4E1-20ED-4249-91E5-CCAD3C6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8BC-44D5-4A7D-9845-6F5F52B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DBF-C5CE-4BBD-9882-55185EF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A21-C5B4-449B-9F66-8BC5A57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540-EF61-409E-9452-4678CDA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D9C-D6EF-40C0-845E-4DBC0EE71D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44FA-DB11-48A1-BC6B-E267312D497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38"/>
          <p:cNvPicPr/>
          <p:nvPr/>
        </p:nvPicPr>
        <p:blipFill>
          <a:blip r:embed="rId1"/>
          <a:stretch/>
        </p:blipFill>
        <p:spPr>
          <a:xfrm>
            <a:off x="250920" y="3716280"/>
            <a:ext cx="3924360" cy="2573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309564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Здоровьесберегающие технологии как средство сохранения и укрепления здоровья младших школьни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716360" y="4437000"/>
            <a:ext cx="4319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ускная квалификационная работ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удентки группы 3 «В»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аровой Екатерины Владимировны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учный руководитель: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мелева Наталья Владимировн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10"/>
          <p:cNvSpPr/>
          <p:nvPr/>
        </p:nvSpPr>
        <p:spPr>
          <a:xfrm>
            <a:off x="2914560" y="2133720"/>
            <a:ext cx="3313080" cy="25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сберегающ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544680" y="404640"/>
            <a:ext cx="4027320" cy="2440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 обеспечения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зопас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жизнедеятель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572000" y="404640"/>
            <a:ext cx="4032360" cy="244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сберегающ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разовательны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651640" y="3141720"/>
            <a:ext cx="3313080" cy="194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кологическ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-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берегающ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79280" y="3068640"/>
            <a:ext cx="3097440" cy="194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еди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гигиеническ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3089160" y="4292640"/>
            <a:ext cx="2963880" cy="1728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изкультурно-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здоровительны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6443640" y="5877000"/>
            <a:ext cx="23036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айцев Г.К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6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374920" y="189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Здоровьесберегающая деятельность школ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179280" y="2889360"/>
            <a:ext cx="3024360" cy="10792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филактическ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ив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3311640" y="3429000"/>
            <a:ext cx="2519280" cy="100800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ни и Недели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Oval 24"/>
          <p:cNvSpPr/>
          <p:nvPr/>
        </p:nvSpPr>
        <p:spPr>
          <a:xfrm>
            <a:off x="611280" y="1413000"/>
            <a:ext cx="2881080" cy="9363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испансеризац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Oval 25"/>
          <p:cNvSpPr/>
          <p:nvPr/>
        </p:nvSpPr>
        <p:spPr>
          <a:xfrm>
            <a:off x="5219640" y="4076640"/>
            <a:ext cx="3457800" cy="12985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стие в районных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ртсоревнования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Oval 28"/>
          <p:cNvSpPr/>
          <p:nvPr/>
        </p:nvSpPr>
        <p:spPr>
          <a:xfrm>
            <a:off x="395280" y="4149720"/>
            <a:ext cx="3602160" cy="12225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ртивные школьны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азд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Oval 29"/>
          <p:cNvSpPr/>
          <p:nvPr/>
        </p:nvSpPr>
        <p:spPr>
          <a:xfrm>
            <a:off x="5867280" y="2708280"/>
            <a:ext cx="3168720" cy="12952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седы о здоровь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 учащими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5724360" y="1413000"/>
            <a:ext cx="2737080" cy="8650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итаминизац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3059280" y="1989000"/>
            <a:ext cx="3168360" cy="129564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седы о здоровь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 родителям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Oval 35"/>
          <p:cNvSpPr/>
          <p:nvPr/>
        </p:nvSpPr>
        <p:spPr>
          <a:xfrm>
            <a:off x="2050920" y="5229360"/>
            <a:ext cx="4969080" cy="143964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формление классных и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школьных «Уголков здоровья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6" descr="osport1"/>
          <p:cNvPicPr/>
          <p:nvPr/>
        </p:nvPicPr>
        <p:blipFill>
          <a:blip r:embed="rId1"/>
          <a:stretch/>
        </p:blipFill>
        <p:spPr>
          <a:xfrm>
            <a:off x="324000" y="1700280"/>
            <a:ext cx="7619760" cy="4981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озданные в школе услов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0" y="907920"/>
            <a:ext cx="4968720" cy="1922760"/>
          </a:xfrm>
          <a:prstGeom prst="rect">
            <a:avLst/>
          </a:prstGeom>
          <a:solidFill>
            <a:srgbClr val="00008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игиенические условия, соответствующие требованиям  СанПиНов и реализуемые всеми участниками педагогического проце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2000" y="981000"/>
            <a:ext cx="2736720" cy="155700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Качественное и полноценное медицинское обслужи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4360" y="4365720"/>
            <a:ext cx="2736720" cy="1922760"/>
          </a:xfrm>
          <a:prstGeom prst="rect">
            <a:avLst/>
          </a:prstGeom>
          <a:solidFill>
            <a:srgbClr val="000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Внедрение здоровьесберегающих педагогических технолог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56360" y="4076640"/>
            <a:ext cx="2665440" cy="2654280"/>
          </a:xfrm>
          <a:prstGeom prst="rect">
            <a:avLst/>
          </a:prstGeom>
          <a:solidFill>
            <a:srgbClr val="000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оведение мероприятий, направленных на сохранение и укрепление здоровья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2916360" y="3068640"/>
            <a:ext cx="3311280" cy="115236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006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Услов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74920" y="333360"/>
            <a:ext cx="6192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езультаты обследовани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792000" y="1700280"/>
          <a:ext cx="7560000" cy="45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700280"/>
                    <a:ext cx="75600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24000" y="836640"/>
          <a:ext cx="8640720" cy="5657760"/>
        </p:xfrm>
        <a:graphic>
          <a:graphicData uri="http://schemas.openxmlformats.org/drawingml/2006/table">
            <a:tbl>
              <a:tblPr/>
              <a:tblGrid>
                <a:gridCol w="1562040"/>
                <a:gridCol w="1427040"/>
                <a:gridCol w="1496880"/>
                <a:gridCol w="1462320"/>
                <a:gridCol w="1272960"/>
                <a:gridCol w="14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287"/>
          <p:cNvSpPr/>
          <p:nvPr/>
        </p:nvSpPr>
        <p:spPr>
          <a:xfrm>
            <a:off x="2374920" y="189000"/>
            <a:ext cx="4392720" cy="9471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намические перемен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7110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динамических перем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Picture 2" descr="IMG_0225"/>
          <p:cNvPicPr/>
          <p:nvPr/>
        </p:nvPicPr>
        <p:blipFill>
          <a:blip r:embed="rId1"/>
          <a:stretch/>
        </p:blipFill>
        <p:spPr>
          <a:xfrm>
            <a:off x="561960" y="1773360"/>
            <a:ext cx="3289320" cy="24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IMG_0226"/>
          <p:cNvPicPr/>
          <p:nvPr/>
        </p:nvPicPr>
        <p:blipFill>
          <a:blip r:embed="rId2"/>
          <a:stretch/>
        </p:blipFill>
        <p:spPr>
          <a:xfrm>
            <a:off x="5292720" y="1773360"/>
            <a:ext cx="3233880" cy="24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G_0227"/>
          <p:cNvPicPr/>
          <p:nvPr/>
        </p:nvPicPr>
        <p:blipFill>
          <a:blip r:embed="rId3"/>
          <a:stretch/>
        </p:blipFill>
        <p:spPr>
          <a:xfrm>
            <a:off x="3083040" y="450864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9280" y="907920"/>
          <a:ext cx="8713800" cy="5791320"/>
        </p:xfrm>
        <a:graphic>
          <a:graphicData uri="http://schemas.openxmlformats.org/drawingml/2006/table">
            <a:tbl>
              <a:tblPr/>
              <a:tblGrid>
                <a:gridCol w="1728720"/>
                <a:gridCol w="1440000"/>
                <a:gridCol w="1511280"/>
                <a:gridCol w="1657440"/>
                <a:gridCol w="237636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; изо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,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3,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7,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9,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3,1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5,1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214"/>
          <p:cNvSpPr/>
          <p:nvPr/>
        </p:nvSpPr>
        <p:spPr>
          <a:xfrm>
            <a:off x="2879640" y="189000"/>
            <a:ext cx="3384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Физкультминут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9280" y="907920"/>
          <a:ext cx="8929800" cy="5791320"/>
        </p:xfrm>
        <a:graphic>
          <a:graphicData uri="http://schemas.openxmlformats.org/drawingml/2006/table">
            <a:tbl>
              <a:tblPr/>
              <a:tblGrid>
                <a:gridCol w="2229120"/>
                <a:gridCol w="1509480"/>
                <a:gridCol w="1508040"/>
                <a:gridCol w="1509840"/>
                <a:gridCol w="217332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; изо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247"/>
          <p:cNvSpPr/>
          <p:nvPr/>
        </p:nvSpPr>
        <p:spPr>
          <a:xfrm>
            <a:off x="2698920" y="260280"/>
            <a:ext cx="3744720" cy="9471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намические пауз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MG_0217"/>
          <p:cNvPicPr/>
          <p:nvPr/>
        </p:nvPicPr>
        <p:blipFill>
          <a:blip r:embed="rId1"/>
          <a:stretch/>
        </p:blipFill>
        <p:spPr>
          <a:xfrm>
            <a:off x="250920" y="2276640"/>
            <a:ext cx="4151160" cy="311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IMG_0218"/>
          <p:cNvPicPr/>
          <p:nvPr/>
        </p:nvPicPr>
        <p:blipFill>
          <a:blip r:embed="rId2"/>
          <a:stretch/>
        </p:blipFill>
        <p:spPr>
          <a:xfrm>
            <a:off x="4772160" y="2276640"/>
            <a:ext cx="4120920" cy="3090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971640" y="549360"/>
            <a:ext cx="7200720" cy="173988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физкультминуток и динамических пауз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08000" y="907920"/>
          <a:ext cx="8856720" cy="5791320"/>
        </p:xfrm>
        <a:graphic>
          <a:graphicData uri="http://schemas.openxmlformats.org/drawingml/2006/table">
            <a:tbl>
              <a:tblPr/>
              <a:tblGrid>
                <a:gridCol w="1727280"/>
                <a:gridCol w="1728720"/>
                <a:gridCol w="1393920"/>
                <a:gridCol w="1054080"/>
                <a:gridCol w="1439640"/>
                <a:gridCol w="151308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-ль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257"/>
          <p:cNvSpPr/>
          <p:nvPr/>
        </p:nvSpPr>
        <p:spPr>
          <a:xfrm>
            <a:off x="2482920" y="260280"/>
            <a:ext cx="4176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Утренняя гимнас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2"/>
          <p:cNvSpPr/>
          <p:nvPr/>
        </p:nvSpPr>
        <p:spPr>
          <a:xfrm>
            <a:off x="-108000" y="4005360"/>
            <a:ext cx="9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2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00000" y="5659560"/>
            <a:ext cx="806472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уществующая система школьного образования имеет здоровьезатратный характер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07000" y="189000"/>
            <a:ext cx="87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радиционная организация образовательного проце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050920" y="907920"/>
            <a:ext cx="50421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озда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418920" y="177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793160" y="2421000"/>
            <a:ext cx="55756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стоянные стрессовые перегруз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0640" y="3017880"/>
            <a:ext cx="7900920" cy="8254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одят к поломке механизмов саморегуляции физиологических функц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869760" y="4005360"/>
            <a:ext cx="7326720" cy="459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собствуют развитию хронических болезн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130560" y="4797360"/>
            <a:ext cx="288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0220"/>
          <p:cNvPicPr/>
          <p:nvPr/>
        </p:nvPicPr>
        <p:blipFill>
          <a:blip r:embed="rId1"/>
          <a:stretch/>
        </p:blipFill>
        <p:spPr>
          <a:xfrm>
            <a:off x="250920" y="2205000"/>
            <a:ext cx="4151160" cy="316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IMG_0224"/>
          <p:cNvPicPr/>
          <p:nvPr/>
        </p:nvPicPr>
        <p:blipFill>
          <a:blip r:embed="rId2"/>
          <a:stretch/>
        </p:blipFill>
        <p:spPr>
          <a:xfrm>
            <a:off x="4716360" y="220500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619280" y="476280"/>
            <a:ext cx="5905440" cy="119124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утренней гимнас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IMG_0229"/>
          <p:cNvPicPr/>
          <p:nvPr/>
        </p:nvPicPr>
        <p:blipFill>
          <a:blip r:embed="rId1"/>
          <a:stretch/>
        </p:blipFill>
        <p:spPr>
          <a:xfrm>
            <a:off x="324000" y="1484280"/>
            <a:ext cx="3781440" cy="504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MG_0237"/>
          <p:cNvPicPr/>
          <p:nvPr/>
        </p:nvPicPr>
        <p:blipFill>
          <a:blip r:embed="rId2"/>
          <a:stretch/>
        </p:blipFill>
        <p:spPr>
          <a:xfrm>
            <a:off x="4572000" y="14479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G_0238"/>
          <p:cNvPicPr/>
          <p:nvPr/>
        </p:nvPicPr>
        <p:blipFill>
          <a:blip r:embed="rId3"/>
          <a:stretch/>
        </p:blipFill>
        <p:spPr>
          <a:xfrm>
            <a:off x="4572000" y="407664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2448000" y="549360"/>
            <a:ext cx="424800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Уголок здоровь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0" y="0"/>
            <a:ext cx="144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547640" y="402840"/>
            <a:ext cx="733932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чему, зная о необходимости использования здоровьесберегающих технологий, учителя их не применяют в практической деятельности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924360" y="2058120"/>
            <a:ext cx="4968720" cy="15570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наниями возрастных физиологических и психологических  особенностей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116000" y="2997360"/>
            <a:ext cx="208908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ителя не в полной мере владею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284720" y="3789360"/>
            <a:ext cx="4321080" cy="119124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ёмами организации здоровьесберегающего пространства в кла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0" y="5157720"/>
            <a:ext cx="4680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тсюда следу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042920" y="6237360"/>
            <a:ext cx="7705800" cy="82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ЕОБХОДИМОСТЬ ПОВЫШЕНИЯ КВАЛИФИКАЦ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5443200"/>
            <a:ext cx="4825800" cy="119124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ффективно проводить профилактику асоциального повед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61400" y="33336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блюдения показываю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спользование здоровьесберегающих технологий в учебном проце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651640" y="2060640"/>
            <a:ext cx="3492360" cy="720720"/>
          </a:xfrm>
          <a:prstGeom prst="downArrow">
            <a:avLst>
              <a:gd name="adj1" fmla="val 51546"/>
              <a:gd name="adj2" fmla="val 4339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зволя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9280" y="3068640"/>
            <a:ext cx="5688000" cy="119124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олее успешно адаптироваться в образовательном и социальном пространст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-25920" y="4437000"/>
            <a:ext cx="6167160" cy="459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скрыть свои творческие способ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590160" y="3789360"/>
            <a:ext cx="1710720" cy="45972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щим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5940360" y="3068640"/>
            <a:ext cx="503280" cy="1944720"/>
          </a:xfrm>
          <a:custGeom>
            <a:avLst/>
            <a:gdLst>
              <a:gd name="textAreaLeft" fmla="*/ 0 w 503280"/>
              <a:gd name="textAreaRight" fmla="*/ 181800 w 503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7263720" y="5661000"/>
            <a:ext cx="14684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ител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5364000" y="5589720"/>
            <a:ext cx="1656000" cy="576000"/>
          </a:xfrm>
          <a:prstGeom prst="leftArrow">
            <a:avLst>
              <a:gd name="adj1" fmla="val 50000"/>
              <a:gd name="adj2" fmla="val 718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89000"/>
            <a:ext cx="605016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Цель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14200" y="1052640"/>
            <a:ext cx="871380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казать возможности использования здоровьесберегающих технологий в начальной школе с целью сохранения здоровь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27280" y="2637000"/>
            <a:ext cx="568800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Объект исследован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2920" y="3573360"/>
            <a:ext cx="8316720" cy="9471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доровье младших школьников и факторы, способствующие его формировани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187280" y="4653000"/>
            <a:ext cx="673272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Предмет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0840" y="5516640"/>
            <a:ext cx="882000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пользование здоровьесберегающих технологий с целью сохранения и укрепления здоровь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79640" y="692280"/>
            <a:ext cx="698328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Проблема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19280" y="2276640"/>
            <a:ext cx="7705440" cy="4480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тиворечие между необходимостью сохранения здоровья школьников и использованием в практике школы здоровьесберегающих технологий и отсутствием четкой работы по формированию здоровьесберегающего пространства в школ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130560" y="115920"/>
            <a:ext cx="288144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Задач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0920" y="1052640"/>
            <a:ext cx="8642160" cy="1922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учить и проанализировать литературу по проблемам формирования здоровья детей в процессе учебной детальности и использования здоровьесберегающих технологий в школьном обучен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2924280"/>
            <a:ext cx="8640720" cy="22885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зработать и апробировать систему использования здоровьесберегающих технологий в учебном процессе, по итогам опытной работы составить рекомендации по использованию здоровьесберегающих технологий в практике школ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87280" y="5157720"/>
            <a:ext cx="85694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вести обследование состояния здоровья учащихся 2-го кла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58920" y="549360"/>
            <a:ext cx="662472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Методы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1628640"/>
            <a:ext cx="468000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етические методы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04880" y="2707560"/>
            <a:ext cx="7605720" cy="58140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ы математической статистик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30920" y="3788640"/>
            <a:ext cx="5470920" cy="58140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мпирические мет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7" descr="dom"/>
          <p:cNvPicPr/>
          <p:nvPr/>
        </p:nvPicPr>
        <p:blipFill>
          <a:blip r:embed="rId1"/>
          <a:stretch/>
        </p:blipFill>
        <p:spPr>
          <a:xfrm>
            <a:off x="5724360" y="4365720"/>
            <a:ext cx="3218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24000" y="1417680"/>
            <a:ext cx="8496000" cy="26542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ачественная характеристика любой образовательной технологии, ее «сертификат безопасности для здоровья», это совокупность тех принципов, приемов, методов педагогической работы, которые дополняют традиционные технологии обучения, воспитания, развития задачами здоровьесбереж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7800" y="189000"/>
            <a:ext cx="7986600" cy="947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Здоровьесберегающие образовательные технолог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7" descr="foto4"/>
          <p:cNvPicPr/>
          <p:nvPr/>
        </p:nvPicPr>
        <p:blipFill>
          <a:blip r:embed="rId1"/>
          <a:stretch/>
        </p:blipFill>
        <p:spPr>
          <a:xfrm>
            <a:off x="539640" y="4508640"/>
            <a:ext cx="3459240" cy="197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iCAGH21B1"/>
          <p:cNvPicPr/>
          <p:nvPr/>
        </p:nvPicPr>
        <p:blipFill>
          <a:blip r:embed="rId2"/>
          <a:stretch/>
        </p:blipFill>
        <p:spPr>
          <a:xfrm>
            <a:off x="5651640" y="5084640"/>
            <a:ext cx="216036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588000" y="4292640"/>
            <a:ext cx="23036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валько В.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224000" y="258840"/>
            <a:ext cx="66960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ля создания здоровьесберегающего пространства необходим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4000" y="1420200"/>
            <a:ext cx="8496000" cy="1557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мировоззрения учителя, его отношения к себе, своему жизненному опыту в сторону осознания собственных чувств, переживаний с позиции проблем здоровьесбережен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24000" y="3221640"/>
            <a:ext cx="5688000" cy="459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отношения к учащим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4000" y="4012200"/>
            <a:ext cx="7920000" cy="192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отношения учителя к задачам учебного процесса педагогики оздоровления, которое предполагает не только достижение дидактических целей, но и развитие учащихся с максимально сохраненным здоровьем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427640" y="6165720"/>
            <a:ext cx="4321080" cy="8254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зруких М.М., Сонькин В.Д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1:41:24Z</dcterms:created>
  <dc:creator>Катя</dc:creator>
  <dc:description/>
  <dc:language>en-US</dc:language>
  <cp:lastModifiedBy>ZooM</cp:lastModifiedBy>
  <dcterms:modified xsi:type="dcterms:W3CDTF">2013-12-03T20:32:05Z</dcterms:modified>
  <cp:revision>24</cp:revision>
  <dc:subject/>
  <dc:title>Здоровьесберегающие технологии в школе</dc:title>
</cp:coreProperties>
</file>