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strom.wav" ContentType="audio/x-wav"/>
  <Override PartName="/ppt/media/image5.jpeg" ContentType="image/jpeg"/>
  <Override PartName="/ppt/media/image8.jpeg" ContentType="image/jpeg"/>
  <Override PartName="/ppt/media/apert2.wav" ContentType="audio/x-wav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3F43-E0C4-4AFB-AD09-99832C56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A83-1F92-4DF1-929A-8A9E482C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1D2F-AE01-47F8-9BF2-04E24AA0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B2B-24A2-4427-AF10-382ED7C8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798-2F37-4F56-BA7C-75B1E873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525-F6BF-4819-93A3-4EFE842C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503D-8FC7-4BFD-9F4D-EE93D820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D567-ABD6-4FB0-A889-73D7D753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9BB-5A0A-4EFF-B57F-D84DAB2E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09F6-CA98-48A1-B369-BA9B024A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931A-2A17-43F0-A5BA-6C21B097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D494-DDE9-409E-B4BB-BA4A69EF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3039-A0DA-4086-BCDA-C0DC6971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781E-8E0C-42EA-9E95-38CC4F81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199A-988E-4621-8F93-68F061CD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BABF-AD25-4D6D-A708-70D5BC1D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2F55-F71F-4BE3-9D32-1F0BAA06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98C2-6713-4EE2-BDB0-F69EF6C5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F01E-1A66-4E61-A09D-E6CA3B2E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485-8178-47F4-8995-209B48CC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DEA9-2227-45DD-9037-0B05391F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A5C-D607-4876-82C0-4022F055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2F6-79F2-479C-82B8-1A954BF3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3DF-941A-4E7A-9E2E-0CA080EC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C2DBB-217A-4473-A159-89CBE704EF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25AF0-C7EE-4C09-B5A5-08D8BAC245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strom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ert2.wav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38036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340000" y="360360"/>
            <a:ext cx="774072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94639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Олимпийские игры в Греци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Конный бег.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154160" y="2138400"/>
            <a:ext cx="3443400" cy="47624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40360" y="2518920"/>
            <a:ext cx="4140000" cy="3646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66"/>
                </a:solidFill>
                <a:latin typeface="Arial"/>
              </a:rPr>
              <a:t>Конный бег - это самый опасный вид спорта в олимпийских играх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48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В конце игр объявляли победителя ( олимпионика )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260360" y="2138400"/>
            <a:ext cx="8099640" cy="4522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strom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 fill="hold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41240" y="539640"/>
            <a:ext cx="8772480" cy="6361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Олимпиоников награждали венками из оливковых деревьев , ставили памятники , и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до конца его жизни кормили его бесплатно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Олимпиониками могли бить только мужчины 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отому что женщин не пускали на этот празд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ик а ещё не пускали на соревнования тех ,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то воевал во время олимпийских игр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260360" y="3780000"/>
            <a:ext cx="2880000" cy="25844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4319640" y="3780000"/>
            <a:ext cx="2932200" cy="26143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7380360" y="3780000"/>
            <a:ext cx="2519280" cy="270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40000" y="1619280"/>
            <a:ext cx="900000" cy="197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0000" y="1619280"/>
            <a:ext cx="19796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419640" y="717120"/>
            <a:ext cx="1440" cy="903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60360" y="720720"/>
            <a:ext cx="2160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260360" y="717120"/>
            <a:ext cx="1800" cy="903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60360" y="161928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440000" y="360360"/>
            <a:ext cx="1800000" cy="12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159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c2300"/>
                </a:solidFill>
                <a:latin typeface="Times New Roman"/>
              </a:rPr>
              <a:t>Олимпия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dc2300"/>
              </a:solidFill>
              <a:latin typeface="Times New Roman"/>
              <a:ea typeface="Times New Roman"/>
            </a:endParaRPr>
          </a:p>
        </p:txBody>
      </p:sp>
    </p:spTree>
  </p:cSld>
  <p:transition spd="med">
    <p:pull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 fill="hold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60360" y="0"/>
            <a:ext cx="9539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Первые олимпийские игры</a:t>
            </a:r>
            <a:br>
              <a:rPr sz="4000"/>
            </a:b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появились в Греции в 776 г. до н. э.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9198000" cy="5483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Они были проведены в Олимпие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Есть две версии откуда появи-лись олимпийские игры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Она из них связанна с Гераклом , а точнее с его шестым подви-      гом ,когда ему не захотели  за-     считать этот подвиг.</a:t>
            </a:r>
            <a:endParaRPr b="0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 fill="hold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432400" y="2223720"/>
            <a:ext cx="41371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9360000" cy="7199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00000" y="720720"/>
            <a:ext cx="84283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Вторая верси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60360" y="1800360"/>
            <a:ext cx="4859280" cy="46796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Вторая версия связанна с Зевсом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огда он убил сво-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его отца Крона 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С тех пор стали проводить Олимпийские игры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0360" y="539640"/>
            <a:ext cx="953928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Види олимпийских игр в Греции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39640" y="2160720"/>
            <a:ext cx="4402080" cy="48592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867200" y="2160360"/>
            <a:ext cx="44928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рь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ание д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ание коп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ный б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  <p:sndAc>
      <p:stSnd>
        <p:snd r:embed="rId2" name="apert2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 fill="hold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140000" y="357120"/>
            <a:ext cx="14396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Бег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539640" y="1979640"/>
            <a:ext cx="4859280" cy="45003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Times New Roman"/>
              </a:rPr>
              <a:t>Бег — это самый первый вид спорта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Times New Roman"/>
              </a:rPr>
              <a:t>в олимпийских играх древней Греции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Times New Roman"/>
              </a:rPr>
              <a:t>Первое расстояние бега была стадия </a:t>
            </a:r>
            <a:r>
              <a:rPr b="0" lang="ru-RU" sz="3200" spc="-1" strike="noStrike">
                <a:solidFill>
                  <a:srgbClr val="c5000b"/>
                </a:solidFill>
                <a:latin typeface="Times New Roman"/>
              </a:rPr>
              <a:t>197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5000b"/>
                </a:solidFill>
                <a:latin typeface="Times New Roman"/>
              </a:rPr>
              <a:t>км 72 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потом стало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2 раза больше , по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м 7 раз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 fill="hold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 fill="hold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Борьба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39640" y="2340000"/>
            <a:ext cx="4859280" cy="4319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432400" y="2223720"/>
            <a:ext cx="41371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В борбе нельзя было совершать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удары руками и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ногами , запрещались удушения нельзя было кусаться ,но можно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делать захваты и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броски.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 fill="hold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41240" y="16200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Рукопашный бой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60360" y="2160720"/>
            <a:ext cx="5040360" cy="46796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432400" y="2224080"/>
            <a:ext cx="413712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А в рукопашном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бою всё наобород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захваты и броски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e6"/>
                </a:solidFill>
                <a:latin typeface="Arial"/>
              </a:rPr>
              <a:t>запрещались ,а удары ногами и руками разрешались 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 fill="hold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6 -0.169 0.15589 C -0.169 0.2465 -0.114 0.32111 -0.044 0.32111 C -0.029 0.32111 -0.014 0.31711 0 0.31045 C -0.047 0.28647 -0.08 0.22651 -0.08 0.15589 C -0.08 0.08394 -0.047 0.02398 0 0 Z">
                                      <p:cBhvr>
                                        <p:cTn id="133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26:33Z</dcterms:created>
  <dc:creator>Овсепян Юрий</dc:creator>
  <dc:description/>
  <dc:language>en-US</dc:language>
  <cp:lastModifiedBy>Овсепян Юрий</cp:lastModifiedBy>
  <dcterms:modified xsi:type="dcterms:W3CDTF">2012-02-03T15:35:04Z</dcterms:modified>
  <cp:revision>5</cp:revision>
  <dc:subject/>
  <dc:title/>
</cp:coreProperties>
</file>