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strom.wav" ContentType="audio/x-wav"/>
  <Override PartName="/ppt/media/image5.jpeg" ContentType="image/jpeg"/>
  <Override PartName="/ppt/media/image8.jpeg" ContentType="image/jpeg"/>
  <Override PartName="/ppt/media/apert2.wav" ContentType="audio/x-wav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705-95DF-4605-A18D-14C157D6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3339-036E-4C87-B218-4AE2ECC3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227C-FDE3-47D0-BB1B-CA6F4F69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36B3-00E9-4DB9-95F4-391140B5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09B3-37B2-4BD5-B2FA-C2CB1404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5F40-5704-46B3-B18D-BCB3A850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38B8-1546-42FD-A293-A033A7FC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8EC7-D482-4C58-9FCE-A13837A8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06B2-0711-41A0-B690-DA281374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784F-89B2-46BB-93C7-47389A75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A51B-FFAC-4BC7-98DF-440A95AC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294C-0D5C-43BF-A487-154F73BA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B614-C147-4132-A6B8-C4403710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B182-1AB6-4CDD-81C9-DAD5AE7D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527E-589F-4301-A245-19992E8A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F865-79D8-4A0B-A213-0B177943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59BB-56F4-485B-830B-CE7C3CCB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D015-9FBD-4840-95B3-BA521983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F704-ED90-46D1-9265-61410683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F684-CB00-4CFE-AEB1-A8B44274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9E0B-9165-4658-880B-BD809765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08C-74BC-43EE-A7C7-3BDB7828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22FF-3879-4B0D-ACD0-742E3138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8A3-0523-4DB1-A98E-25680D70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DE53A-19FC-4C58-B9E7-3908B09A26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43BE3-289D-493F-829E-7045D90715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strom.wav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ert2.wav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38036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340000" y="360360"/>
            <a:ext cx="774072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94639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Олимпийские игры в Греци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33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Конный бег.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154160" y="2138400"/>
            <a:ext cx="3443400" cy="476244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40360" y="2518920"/>
            <a:ext cx="4140000" cy="36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66"/>
                </a:solidFill>
                <a:latin typeface="Arial"/>
              </a:rPr>
              <a:t>Конный бег - это самый опасный вид спорта в олимпийских играх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46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В конце игр объявляли победителя ( олимпионика )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260360" y="2138400"/>
            <a:ext cx="8099640" cy="4522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strom.wav"/>
      </p:stSnd>
    </p:sndAc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 fill="hold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41240" y="539640"/>
            <a:ext cx="8772480" cy="6361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Олимпиоников награждали венками из оливковых деревьев , ставили памятники , и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до конца его жизни кормили его бесплатно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Олимпиониками могли бить только мужчины 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отому что женщин не пускали на этот празд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ик а ещё не пускали на соревнования тех ,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то воевал во время олимпийских игр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260360" y="3780000"/>
            <a:ext cx="2880000" cy="25844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4319640" y="3780000"/>
            <a:ext cx="2932200" cy="26143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7380360" y="3780000"/>
            <a:ext cx="2519280" cy="270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40000" y="1619280"/>
            <a:ext cx="900000" cy="197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40000" y="1619280"/>
            <a:ext cx="19796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419640" y="717120"/>
            <a:ext cx="1440" cy="903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60360" y="720720"/>
            <a:ext cx="21607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260360" y="717120"/>
            <a:ext cx="1800" cy="903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60360" y="161928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440000" y="360360"/>
            <a:ext cx="1800000" cy="12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159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c2300"/>
                </a:solidFill>
                <a:latin typeface="Times New Roman"/>
              </a:rPr>
              <a:t>Олимпия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dc2300"/>
              </a:solidFill>
              <a:latin typeface="Times New Roman"/>
              <a:ea typeface="Times New Roman"/>
            </a:endParaRPr>
          </a:p>
        </p:txBody>
      </p:sp>
    </p:spTree>
  </p:cSld>
  <p:transition spd="med">
    <p:pull dir="l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 fill="hold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2" dur="1000" fill="hold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9539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Первые олимпийские игры</a:t>
            </a:r>
            <a:br>
              <a:rPr sz="4000"/>
            </a:b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появились в Греции в 776 г. до н. э.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9198000" cy="5483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Они были проведены в Олимпие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Есть две версии откуда появи-лись олимпийские игры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Она из них связанна с Гераклом , а точнее с его шестым подви-      гом ,когда ему не захотели  за-     считать этот подвиг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 fill="hold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432400" y="2223720"/>
            <a:ext cx="413712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9360000" cy="7199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00000" y="720720"/>
            <a:ext cx="84283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Вторая версия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60360" y="1800360"/>
            <a:ext cx="4859280" cy="467964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13540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Вторая версия связанна с Зевсом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Когда он убил сво-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его отца Крона 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С тех пор стали проводить Олимпийские игры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0360" y="539640"/>
            <a:ext cx="953928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Види олимпийских игр в Греции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39640" y="2160720"/>
            <a:ext cx="4402080" cy="48592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867200" y="2160360"/>
            <a:ext cx="44928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рь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ание ди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ание коп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ный бе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  <p:sndAc>
      <p:stSnd>
        <p:snd r:embed="rId2" name="apert2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3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 fill="hold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140000" y="357120"/>
            <a:ext cx="14396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Бег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539640" y="1979640"/>
            <a:ext cx="4859280" cy="450036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235120" y="196380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Times New Roman"/>
              </a:rPr>
              <a:t>Бег — это самый первый вид спорта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Times New Roman"/>
              </a:rPr>
              <a:t>в олимпийских играх древней Греции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Times New Roman"/>
              </a:rPr>
              <a:t>Первое расстояние бега была стадия </a:t>
            </a:r>
            <a:r>
              <a:rPr b="0" lang="ru-RU" sz="3200" spc="-1" strike="noStrike">
                <a:solidFill>
                  <a:srgbClr val="c5000b"/>
                </a:solidFill>
                <a:latin typeface="Times New Roman"/>
              </a:rPr>
              <a:t>197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5000b"/>
                </a:solidFill>
                <a:latin typeface="Times New Roman"/>
              </a:rPr>
              <a:t>км 72 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потом стало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2 раза больше , по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ом 7 раз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 fill="hold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 fill="hold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Борьба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539640" y="2340000"/>
            <a:ext cx="4859280" cy="43196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432400" y="2223720"/>
            <a:ext cx="413712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Arial"/>
              </a:rPr>
              <a:t>В борбе нельзя было совершать 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Arial"/>
              </a:rPr>
              <a:t>удары руками и 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Arial"/>
              </a:rPr>
              <a:t>ногами , запрещались удушения нельзя было кусаться ,но можно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Arial"/>
              </a:rPr>
              <a:t>делать захваты и 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Arial"/>
              </a:rPr>
              <a:t>броски. 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 fill="hold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 fill="hold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 fill="hold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41240" y="16200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Рукопашный бой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60360" y="2160720"/>
            <a:ext cx="5040360" cy="46796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432400" y="2224080"/>
            <a:ext cx="413712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Arial"/>
              </a:rPr>
              <a:t>А в рукопашном 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Arial"/>
              </a:rPr>
              <a:t>бою всё наобород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Arial"/>
              </a:rPr>
              <a:t>захваты и броски 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Arial"/>
              </a:rPr>
              <a:t>запрещались ,а удары ногами и руками разрешались 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 fill="hold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6 -0.169 0.15589 C -0.169 0.2465 -0.114 0.32111 -0.044 0.32111 C -0.029 0.32111 -0.014 0.31711 0 0.31045 C -0.047 0.28647 -0.08 0.22651 -0.08 0.15589 C -0.08 0.08394 -0.047 0.02398 0 0 Z">
                                      <p:cBhvr>
                                        <p:cTn id="130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 fill="hold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7:26:33Z</dcterms:created>
  <dc:creator>Овсепян Юрий</dc:creator>
  <dc:description/>
  <dc:language>en-US</dc:language>
  <cp:lastModifiedBy>Овсепян Юрий</cp:lastModifiedBy>
  <dcterms:modified xsi:type="dcterms:W3CDTF">2012-02-03T15:35:04Z</dcterms:modified>
  <cp:revision>5</cp:revision>
  <dc:subject/>
  <dc:title/>
</cp:coreProperties>
</file>