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strom.wav" ContentType="audio/x-wav"/>
  <Override PartName="/ppt/media/image5.jpeg" ContentType="image/jpeg"/>
  <Override PartName="/ppt/media/image8.jpeg" ContentType="image/jpeg"/>
  <Override PartName="/ppt/media/apert2.wav" ContentType="audio/x-wav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861-1B60-4769-99AB-68F054FF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3EB-16DB-4E8F-BAFA-4AC3A74C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432-177A-4252-8AE5-2F044979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BAF-A245-4307-AD9B-5405977E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CD5-89DE-4ABA-AAEF-ABDABAEF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156-B921-43A1-B3C7-655A3643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64A-9D14-448F-B619-99634C24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F315-A884-4349-B085-167E7FE4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17D-4023-43FA-9039-6F50BD92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D4D2-7BF3-4BC2-BDA2-EC28D39E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EAB3-7079-4C65-8980-7EBC8D62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5F92-2DD0-462D-B2BD-F2F3DE26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E889-52C5-476F-88D3-6B0B9C35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9963-24AA-4796-9AD2-91A26335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F004-D9AD-49EC-8829-C06071A9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5764-DEE1-4951-8486-FE3DC64E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FD5A-D916-4EF8-8CE8-29799E38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E6B1-F415-4C47-8979-9C714298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DA51-BF1A-4A9D-86D6-2D1B951A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EB7-637C-49DD-8C2A-6A837E36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9E39-655D-41D0-85B1-FA8036B7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6F2-BD79-4BE7-9DEC-3FC1372C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3BD5-CC50-4988-B0E2-3FE4224E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47A-2168-4CD7-9B2A-06B3D81A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75828-FF27-49F2-A0C4-429AB999C6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A2119-F9D2-4214-957A-2D4AD56E98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strom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ert2.wav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3803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340000" y="360360"/>
            <a:ext cx="774072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94639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Олимпийские игры в Греци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Конный бег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154160" y="2138400"/>
            <a:ext cx="3443400" cy="47624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0360" y="2518920"/>
            <a:ext cx="4140000" cy="36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66"/>
                </a:solidFill>
                <a:latin typeface="Arial"/>
              </a:rPr>
              <a:t>Конный бег - это самый опасный вид спорта в олимпийских играх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52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 конце игр объявляли победителя ( олимпионика )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260360" y="2138400"/>
            <a:ext cx="8099640" cy="4522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strom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41240" y="539640"/>
            <a:ext cx="8772480" cy="6361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лимпиоников награждали венками из оливковых деревьев , ставили памятники , и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до конца его жизни кормили его бесплатно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лимпиониками могли бить только мужчины 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отому что женщин не пускали на этот празд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ик а ещё не пускали на соревнования тех 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то воевал во время олимпийских игр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260360" y="3780000"/>
            <a:ext cx="2880000" cy="25844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4319640" y="3780000"/>
            <a:ext cx="2932200" cy="26143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7380360" y="3780000"/>
            <a:ext cx="2519280" cy="270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0000" y="1619280"/>
            <a:ext cx="900000" cy="19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0000" y="1619280"/>
            <a:ext cx="1979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419640" y="717120"/>
            <a:ext cx="1440" cy="903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60360" y="720720"/>
            <a:ext cx="2160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260360" y="717120"/>
            <a:ext cx="1800" cy="903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60360" y="161928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40000" y="360360"/>
            <a:ext cx="1800000" cy="12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59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c2300"/>
                </a:solidFill>
                <a:latin typeface="Times New Roman"/>
              </a:rPr>
              <a:t>Олимпия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dc2300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9539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Первые олимпийские игры</a:t>
            </a:r>
            <a:br>
              <a:rPr sz="4000"/>
            </a:b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появились в Греции в 776 г. до н. э.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919800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Они были проведены в Олимпие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Есть две версии откуда появи-лись олимпийские игры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Она из них связанна с Гераклом , а точнее с его шестым подви-      гом ,когда ему не захотели  за-     считать этот подвиг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 fill="hold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432400" y="2223720"/>
            <a:ext cx="41371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00000" y="720720"/>
            <a:ext cx="84283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торая верс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60360" y="1800360"/>
            <a:ext cx="4859280" cy="46796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торая версия связанна с Зевсом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огда он убил сво-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его отца Крона 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С тех пор стали проводить Олимпийские игры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0360" y="539640"/>
            <a:ext cx="953928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Види олимпийских игр в Греции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39640" y="2160720"/>
            <a:ext cx="4402080" cy="48592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867200" y="2160360"/>
            <a:ext cx="44928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рь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ание д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ание коп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ный б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  <p:sndAc>
      <p:stSnd>
        <p:snd r:embed="rId2" name="apert2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40000" y="357120"/>
            <a:ext cx="14396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Бег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4859280" cy="45003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Times New Roman"/>
              </a:rPr>
              <a:t>Бег — это самый первый вид спорта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Times New Roman"/>
              </a:rPr>
              <a:t>в олимпийских играх древней Греции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Times New Roman"/>
              </a:rPr>
              <a:t>Первое расстояние бега была стадия </a:t>
            </a:r>
            <a:r>
              <a:rPr b="0" lang="ru-RU" sz="3200" spc="-1" strike="noStrike">
                <a:solidFill>
                  <a:srgbClr val="c5000b"/>
                </a:solidFill>
                <a:latin typeface="Times New Roman"/>
              </a:rPr>
              <a:t>197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5000b"/>
                </a:solidFill>
                <a:latin typeface="Times New Roman"/>
              </a:rPr>
              <a:t>км 72 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потом стало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2 раза больше , по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м 7 раз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 fill="hold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Борьба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39640" y="2340000"/>
            <a:ext cx="4859280" cy="4319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432400" y="2223720"/>
            <a:ext cx="41371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В борбе нельзя было совершать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удары руками и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ногами , запрещались удушения нельзя было кусаться ,но можно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делать захваты и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броски.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41240" y="16200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Рукопашный бой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60360" y="2160720"/>
            <a:ext cx="5040360" cy="46796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432400" y="2224080"/>
            <a:ext cx="41371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А в рукопашном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бою всё наобород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захваты и броски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запрещались ,а удары ногами и руками разрешались 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32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26:33Z</dcterms:created>
  <dc:creator>Овсепян Юрий</dc:creator>
  <dc:description/>
  <dc:language>en-US</dc:language>
  <cp:lastModifiedBy>Овсепян Юрий</cp:lastModifiedBy>
  <dcterms:modified xsi:type="dcterms:W3CDTF">2012-02-03T15:35:04Z</dcterms:modified>
  <cp:revision>5</cp:revision>
  <dc:subject/>
  <dc:title/>
</cp:coreProperties>
</file>