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8AAC-6390-438D-8970-380B92F1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AAD0-43B3-4FC6-BA20-55C41A07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7B64-436F-4B90-BA6C-CDA0DEE4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7423-B54C-4A63-8E43-26A501ED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B177-5566-46BB-AF7E-71B394F3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B178-38D4-4BB5-B374-0FE157EA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2CF6-62F1-42AB-890D-D4716FAD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2DCD-8460-43BD-87F7-63E493CD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E2D2-63E2-4E33-8B54-E4C4CDCB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1A34-4A75-4CDA-BC2C-7385984B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2ABB-1A18-4599-AA8F-2EBC32D0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6915-30FC-40FE-A410-7AF7219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D30-BCF6-4A5F-8B6E-120B4A5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3273-A1B2-40EF-AD6C-A5D42C0B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2FC2-DFAA-4A77-8ABF-12FF27E1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B829-2402-48C9-9C30-E9DE907D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1F64-59FC-491C-B79A-7B90A0E2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A7693-C987-45FC-9910-16CACB81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36FA-19D8-4CD8-8C2E-411FC8D5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26B8-0091-48AA-BF35-5CFE49B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FC6E-4881-4010-9E53-EE4205ED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B3E7-1861-4BE9-9AA2-54F79319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0B537-0FDC-4E90-AFBB-99B37C58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6BDC-5D4C-4AA7-B309-CAD3766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FD21-B7B6-4F54-B7EF-0317D5A7B9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E803-EB59-4091-8529-EE9B3D1A58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ll-game.ru/foto/samye-malenkie/foto-1.html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99"/>
                </a:solidFill>
                <a:latin typeface="Garamond"/>
              </a:rPr>
              <a:t>От игры пок-та-пок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Garamond"/>
              </a:rPr>
              <a:t>к баскетболу</a:t>
            </a:r>
            <a:endParaRPr b="1" lang="en-US" sz="54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2689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2666880" cy="4438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19640" y="333360"/>
            <a:ext cx="5473440" cy="75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В баскетболе есть карлики и гиганты, есть самые результативные игроки и самые дорог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й маленький, но далеко не самый худший игрок НБА – Тайрон Боггс с ростом 160 см. Именно он стал первопроходцем и доказал, что рост не помеха для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Гигант Шакил О’Нил  имеет рост 216 с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м результативным игроком является Майкл Джордан с результатом 31,5 за иг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м профессиональным «штрафником» был Тэд Мартин: за 10 минут ему удалось попасть в кольцо 175 раз из 18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Самым дорогим игроком в баскетбол за 2007 год стал Коби Брайант, получивший за год около 33 миллионов долл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В список самых «дорогих» баскетболистов попал и россиянин Андрей Корниленко. Он подписал шестигодовой контракт на сумму 86 миллионов долла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260280"/>
            <a:ext cx="856908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avie"/>
              </a:rPr>
              <a:t>33 секрета успешного броска </a:t>
            </a:r>
            <a:br>
              <a:rPr sz="24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1. Разогрев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2. Растяжка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3. Свободные броски с любого места на площадке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4. 15 близких бросков по кольцу правой рукой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5. 15 близких бросков по кольцу левой рукой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6. 15 бросков близко к кольцу, при котором мяч находится на ладони вытянутой правой руки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7. 15 бросков близко к кольцу, при котором мяч находится на ладони вытянутой левой руки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8. 15 близких бросков по кольцу с реверсом правой рукой. 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Ravie"/>
              </a:rPr>
              <a:t>9. 15 близких бросков по кольцу с реверсом левой рукой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9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0"/>
            <a:ext cx="8207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0. 15 штрафных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1. Перерыв - 5 минут (водички сходите попейте)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2. Броски на расстоянии 150 см от кольца (старайтесь, чтобы мяч не задевал кольцо.) - 30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3. Броски на расстоянии 150 см и на 450 см. (старайтесь, чтобы мяч не задевал кольца) - 35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4. Броски с проходом с любого места на площадке - 35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5. Броски с проходом от каждого основания на 3-х очковой линии. 35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6. Бросок с проходом с правого крыла на левое - 30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7. Броски с проходом с трапеции - 30 броско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8. Бросок с проходом, подбор мяча и дриблинг - 30 бросков. 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Ravie"/>
              </a:rPr>
              <a:t>19. Штрафные броски - 15 брос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0. Перерыв - 5 минут  21. Броски в прыжке с дриблингом - 3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2. Броски в прыжке с различным дриблингом - 2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3. Быстрый дриблинг, затем бросок в прыжке -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4. Смена темпа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5. С обманным показом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6. С отклонением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7. Через кроссовер - 1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8. 15 штрафных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29. Перерыв - 5 минут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0. Любые броски  - 20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0. 3-х очковые броски - 35 брос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1. Игра с соперником - до 10 очков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2. Бросайте 100 бросков в прыжке, записывайте ваш результат и пытайтесь побить его каждый день. </a:t>
            </a:r>
            <a:br>
              <a:rPr sz="2400"/>
            </a:br>
            <a:r>
              <a:rPr b="1" i="1" lang="ru-RU" sz="2400" spc="-1" strike="noStrike">
                <a:solidFill>
                  <a:srgbClr val="ffff99"/>
                </a:solidFill>
                <a:latin typeface="Ravie"/>
              </a:rPr>
              <a:t>33. Бросайте 100 штрафных брос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4240440" cy="5127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076720" y="549360"/>
            <a:ext cx="40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60280"/>
            <a:ext cx="403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aramond"/>
              </a:rPr>
              <a:t>Броски различаются по типу их исполнения: одной или двумя руками; по способу исполнения: с места, в прыжке, в движении, после прохода, после обманного движения, крюком, полукрюком, броском сверху; по расстоянию от кольца: ближние (0-3 м), средние (3-5 м) и дальние (из-за линии радиусом 6,25 м), или трехочковые броск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77208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356000" y="620640"/>
            <a:ext cx="4248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Лучшие игроки в истории профессионального баскетбола: Карим Абдул-Джаббар, Лэрри Берд, Мэджик Джонсон, Уилт(он) Чемберлен. Современные звезды — неувядаемый Майкл Джордан (покинул площадку в 1998), Шакил О'Нил, Хаким Оладжьювон, Клайд Дрекслер, Грант Хилл, Патрик Юинг, Карл Мэлоун, Дэвид Робинсон, Чарлз Баркли, Джон Стоктон. Одними из первых отечественных баскетболистов дебютировали в НБА в начале 1990-х Александр Волков («Атланта Хоукс») и звезды литовского баскетбола Шарунас Марчюленис («Голден Стейт») и Арвидас Сабонис («Портленд Блейзерс»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373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Garamond"/>
              </a:rPr>
              <a:t>Майкл Джорд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Самые маленьк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89000"/>
            <a:ext cx="2036880" cy="3380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809880" cy="4762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8360" y="40464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Garamond"/>
              </a:rPr>
              <a:t>Занимайтес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589720"/>
            <a:ext cx="43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Garamond"/>
              </a:rPr>
              <a:t>баскетболом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286160" cy="293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12000" y="2924280"/>
            <a:ext cx="2652480" cy="2652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314172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« Кольцо» для игры пок-та-пок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38172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Garamond"/>
              </a:rPr>
              <a:t>Древний стадион Май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5805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Garamond"/>
              </a:rPr>
              <a:t>Наскальный рисунок игры в пок-та-п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793960" cy="386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780000" y="765000"/>
            <a:ext cx="3493800" cy="261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4581360"/>
            <a:ext cx="1803240" cy="1684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51280" y="3933720"/>
            <a:ext cx="460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Автором современного баскетбола, который появился в конце 19 века, считается преподаватель физического воспитания Спрингфилдской международной тренировочной школы в шт. Массачусетс Джеймс Нейсмит (1861-193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55760" cy="29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Мужской баскетбол в России"/>
          <p:cNvPicPr/>
          <p:nvPr/>
        </p:nvPicPr>
        <p:blipFill>
          <a:blip r:embed="rId2"/>
          <a:stretch/>
        </p:blipFill>
        <p:spPr>
          <a:xfrm>
            <a:off x="3276720" y="4076640"/>
            <a:ext cx="3587760" cy="2529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35280" y="404640"/>
            <a:ext cx="518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Нейсмит написал правила новой игры и 21 декабря 1891 года провел первый баскетбольный матч в зале школы в Спрингфилде. В группе было 18 студентов. В игре участвовали две команды по 9 человек. Первые правила игры состояли из 13 пунктов, большинство из которых действуют и в настоящее время. В 1893 корзины заменили железными кольцами с сеткой, в 1895 установили щиты, в 1897 состав команды ограничили 5 игро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3124080" cy="3468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2692440" cy="377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92720" y="472428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99"/>
                </a:solidFill>
                <a:latin typeface="Garamond"/>
              </a:rPr>
              <a:t>Барни Седран, одна из первых звёзд баскетбола (рост 156 с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3657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Сотое очко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3451320" cy="497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6360" y="1557360"/>
            <a:ext cx="3959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Первый чемпионат Европы среди мужчин прошел в 1935 в Женеве. Победили баскетболисты Латвии. В 1937 и 1939 чемпионами становились баскетболисты Литвы. Больше всех почетным званием владели спортсмены СССР— 14 раз (1947, 1951-53,1957-71, 1979-81 и 1985). Сборная Югославии — семикратный чемпион Европы (1973-77, 1989-91 и 1995-9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32360" y="1484280"/>
            <a:ext cx="3816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Дебют женского баскетбола на Олимпийских играх состоялся в 1976 в Монреале. В турнире участвовали шесть команд. Первыми олимпийскими чемпионами стали баскетболистки сборной СССР, которые еще дважды становилась чемпионками, четырежды завоевывали золотые медали американские баскетболистки (1984, 1988, 1996, 2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491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5056200" cy="466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51640" y="981000"/>
            <a:ext cx="2952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Первый баскетбольный мяч был сшит из нескольких кусков кожи (внутри мяча размещалась камера) и имел трогательную шнуровку, на манеру той, которая используется сейчас в мячах для американского футбола (на фото баскетбольный мяч образца 1920 год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386160" cy="5496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6478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932360" y="6021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А вам слабо?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6453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Решающий м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645336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Garamond"/>
              </a:rPr>
              <a:t>Решающий мяч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16:45Z</dcterms:created>
  <dc:creator>Uzer</dc:creator>
  <dc:description/>
  <dc:language>en-US</dc:language>
  <cp:lastModifiedBy>Uzer</cp:lastModifiedBy>
  <dcterms:modified xsi:type="dcterms:W3CDTF">2009-01-23T14:08:27Z</dcterms:modified>
  <cp:revision>5</cp:revision>
  <dc:subject/>
  <dc:title>Баскетбол </dc:title>
</cp:coreProperties>
</file>