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5AAA-A1CB-48C7-80DF-605707A9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13D0-FA9F-450E-AC89-29A35D73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3362-26DB-46DD-92B6-66A99BF3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A857-1C93-4EB5-BBCF-C3DF44FD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EF61-D2D9-42C5-892F-5D543E62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81DB-3A0F-4ED7-A409-3D2303D6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71D0-1DD4-40B3-A147-D5C28A58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1800-9589-4240-BC32-FCF53F65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1351-FDA2-4F8E-BE35-AA0B23C6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B86D-5F4A-49D2-B64C-223EE305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676B-5F7A-445E-A6F2-1B1CC877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21CC-69E4-43F7-9BB9-267A58B6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AB56-869A-42FB-85E5-8B0F6FB9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CE86-D536-4718-9BA9-CC61EB9F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41FD-022D-4ECE-B4CC-14B21141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81B1-B6D4-41F2-BE76-B167E599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E39D-74C4-4EBA-841E-28FA4E2F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35E2-EC20-4648-9721-9A006590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8129-BFE4-4E33-9F6E-D041C1D7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5267-5312-4C95-9A32-E5797671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D7A3-9E68-4AF1-BC6C-9A9F9A53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2364-E1EE-4BE7-B331-9AA2FE9C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DA2D-BC59-45C9-BD79-35D48975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6EA0-C0B3-43CF-AB24-41851016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F21-4471-455E-BD80-D07BEC67AD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1D6B-F04A-4BC2-943F-2915F0C5A0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all-game.ru/foto/samye-malenkie/foto-1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99"/>
                </a:solidFill>
                <a:latin typeface="Garamond"/>
              </a:rPr>
              <a:t>От игры пок-та-пок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Garamond"/>
              </a:rPr>
              <a:t>к баскетболу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2689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2666880" cy="4438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19640" y="333360"/>
            <a:ext cx="5473440" cy="75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В баскетболе есть карлики и гиганты, есть самые результативные игроки и самые дорог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й маленький, но далеко не самый худший игрок НБА – Тайрон Боггс с ростом 160 см. Именно он стал первопроходцем и доказал, что рост не помеха для 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Гигант Шакил О’Нил  имеет рост 216 с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м результативным игроком является Майкл Джордан с результатом 31,5 за иг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м профессиональным «штрафником» был Тэд Мартин: за 10 минут ему удалось попасть в кольцо 175 раз из 18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м дорогим игроком в баскетбол за 2007 год стал Коби Брайант, получивший за год около 33 миллионов долл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В список самых «дорогих» баскетболистов попал и россиянин Андрей Корниленко. Он подписал шестигодовой контракт на сумму 86 миллионов долла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260280"/>
            <a:ext cx="856908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vie"/>
              </a:rPr>
              <a:t>33 секрета успешного броска </a:t>
            </a:r>
            <a:br>
              <a:rPr sz="24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1. Разогрев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2. Растяжка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3. Свободные броски с любого места на площадке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4. 15 близких бросков по кольцу правой рукой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5. 15 близких бросков по кольцу левой рукой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6. 15 бросков близко к кольцу, при котором мяч находится на ладони вытянутой правой руки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7. 15 бросков близко к кольцу, при котором мяч находится на ладони вытянутой левой руки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8. 15 близких бросков по кольцу с реверсом правой рукой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9. 15 близких бросков по кольцу с реверсом левой рукой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0"/>
            <a:ext cx="8207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0. 15 штрафных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1. Перерыв - 5 минут (водички сходите попейте)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2. Броски на расстоянии 150 см от кольца (старайтесь, чтобы мяч не задевал кольцо.) - 30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3. Броски на расстоянии 150 см и на 450 см. (старайтесь, чтобы мяч не задевал кольца) - 35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4. Броски с проходом с любого места на площадке - 35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5. Броски с проходом от каждого основания на 3-х очковой линии. 35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6. Бросок с проходом с правого крыла на левое - 30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7. Броски с проходом с трапеции - 30 броско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8. Бросок с проходом, подбор мяча и дриблинг - 30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9. Штрафные броски - 15 брос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0. Перерыв - 5 минут  21. Броски в прыжке с дриблингом - 3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2. Броски в прыжке с различным дриблингом - 2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3. Быстрый дриблинг, затем бросок в прыжке -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4. Смена темпа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5. С обманным показом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6. С отклонением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7. Через кроссовер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8. 15 штрафных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9. Перерыв - 5 минут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0. Любые броски  - 2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0. 3-х очковые броски - 35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1. Игра с соперником - до 10 оч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2. Бросайте 100 бросков в прыжке, записывайте ваш результат и пытайтесь побить его каждый день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3. Бросайте 100 штрафных брос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4240440" cy="5127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076720" y="549360"/>
            <a:ext cx="40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60280"/>
            <a:ext cx="4033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aramond"/>
              </a:rPr>
              <a:t>Броски различаются по типу их исполнения: одной или двумя руками; по способу исполнения: с места, в прыжке, в движении, после прохода, после обманного движения, крюком, полукрюком, броском сверху; по расстоянию от кольца: ближние (0-3 м), средние (3-5 м) и дальние (из-за линии радиусом 6,25 м), или трехочковые броск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77208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356000" y="620640"/>
            <a:ext cx="4248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Лучшие игроки в истории профессионального баскетбола: Карим Абдул-Джаббар, Лэрри Берд, Мэджик Джонсон, Уилт(он) Чемберлен. Современные звезды — неувядаемый Майкл Джордан (покинул площадку в 1998), Шакил О'Нил, Хаким Оладжьювон, Клайд Дрекслер, Грант Хилл, Патрик Юинг, Карл Мэлоун, Дэвид Робинсон, Чарлз Баркли, Джон Стоктон. Одними из первых отечественных баскетболистов дебютировали в НБА в начале 1990-х Александр Волков («Атланта Хоукс») и звезды литовского баскетбола Шарунас Марчюленис («Голден Стейт») и Арвидас Сабонис («Портленд Блейзерс»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5373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Garamond"/>
              </a:rPr>
              <a:t>Майкл Джорд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Самые маленьк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89000"/>
            <a:ext cx="2036880" cy="338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809880" cy="4762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8360" y="40464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Garamond"/>
              </a:rPr>
              <a:t>Занимайтес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589720"/>
            <a:ext cx="43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Garamond"/>
              </a:rPr>
              <a:t>баскетболом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286160" cy="293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012000" y="2924280"/>
            <a:ext cx="2652480" cy="2652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314172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« Кольцо» для игры пок-та-пок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38172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Garamond"/>
              </a:rPr>
              <a:t>Древний стадион Май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5805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Наскальный рисунок игры в пок-та-п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793960" cy="3861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780000" y="765000"/>
            <a:ext cx="3493800" cy="261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4581360"/>
            <a:ext cx="1803240" cy="1684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51280" y="3933720"/>
            <a:ext cx="46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Автором современного баскетбола, который появился в конце 19 века, считается преподаватель физического воспитания Спрингфилдской международной тренировочной школы в шт. Массачусетс Джеймс Нейсмит (1861-193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55760" cy="29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Мужской баскетбол в России"/>
          <p:cNvPicPr/>
          <p:nvPr/>
        </p:nvPicPr>
        <p:blipFill>
          <a:blip r:embed="rId2"/>
          <a:stretch/>
        </p:blipFill>
        <p:spPr>
          <a:xfrm>
            <a:off x="3276720" y="4076640"/>
            <a:ext cx="3587760" cy="2529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35280" y="404640"/>
            <a:ext cx="518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Нейсмит написал правила новой игры и 21 декабря 1891 года провел первый баскетбольный матч в зале школы в Спрингфилде. В группе было 18 студентов. В игре участвовали две команды по 9 человек. Первые правила игры состояли из 13 пунктов, большинство из которых действуют и в настоящее время. В 1893 корзины заменили железными кольцами с сеткой, в 1895 установили щиты, в 1897 состав команды ограничили 5 игро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3124080" cy="3468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2692440" cy="3771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92720" y="472428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Барни Седран, одна из первых звёзд баскетбола (рост 156 см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3657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Сотое очко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3451320" cy="497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6360" y="1557360"/>
            <a:ext cx="3959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Первый чемпионат Европы среди мужчин прошел в 1935 в Женеве. Победили баскетболисты Латвии. В 1937 и 1939 чемпионами становились баскетболисты Литвы. Больше всех почетным званием владели спортсмены СССР— 14 раз (1947, 1951-53,1957-71, 1979-81 и 1985). Сборная Югославии — семикратный чемпион Европы (1973-77, 1989-91 и 1995-9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32360" y="1484280"/>
            <a:ext cx="3816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Дебют женского баскетбола на Олимпийских играх состоялся в 1976 в Монреале. В турнире участвовали шесть команд. Первыми олимпийскими чемпионами стали баскетболистки сборной СССР, которые еще дважды становилась чемпионками, четырежды завоевывали золотые медали американские баскетболистки (1984, 1988, 1996, 20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4910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056200" cy="466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51640" y="981000"/>
            <a:ext cx="2952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Первый баскетбольный мяч был сшит из нескольких кусков кожи (внутри мяча размещалась камера) и имел трогательную шнуровку, на манеру той, которая используется сейчас в мячах для американского футбола (на фото баскетбольный мяч образца 1920 года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386160" cy="5496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64788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932360" y="6021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А вам слабо?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6453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Решающий мя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645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Решающий мяч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16:45Z</dcterms:created>
  <dc:creator>Uzer</dc:creator>
  <dc:description/>
  <dc:language>en-US</dc:language>
  <cp:lastModifiedBy>Uzer</cp:lastModifiedBy>
  <dcterms:modified xsi:type="dcterms:W3CDTF">2009-01-23T14:08:27Z</dcterms:modified>
  <cp:revision>5</cp:revision>
  <dc:subject/>
  <dc:title>Баскетбол </dc:title>
</cp:coreProperties>
</file>