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47624-4006-40A2-8B23-CCEC3DAE0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AD186-1BE3-4446-9422-DB6BFBDC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96F74-68D9-449E-A431-1EE44FCB6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CC8E1-A586-46DA-BE5B-BB837B1BB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CBB8-DF43-450C-A979-566C3069F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6E41-1401-4669-82D9-A8AF36B8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A4F1-40B7-4F4C-BDC4-D7A4E7F3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0993-3B26-4BE3-9353-94984036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E924-20B5-4940-AEA8-7731B92B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68AE-D880-4C2F-8DBE-D80C7841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9E85-AC4B-48CC-9D10-2383F7DD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D77F1-0147-4D79-8742-06B12033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81FE-81A5-427A-8997-8BB8A852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268F-7FD5-4F53-8F22-F8F5B17F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0EC7-8518-4F6C-B428-7858D150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8DEC-7453-4A78-A67B-C3DC66762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F249-94F1-4460-B2CC-84D6CD21F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ECBE6-41F3-4297-BB96-6D6238FE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C089C-AD53-4D14-97E0-40EA11BE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2B930-648A-40C5-ADAB-AD3B0A1C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89587-D93C-4C70-ABBC-72D5231E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FFDF0-2E76-4A9E-B77F-A68B25AE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CA25F-B3D5-4575-A337-DA011FDD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166CF-4ED1-46F8-A08C-369D0FC3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8B42-7967-4E8C-B8BD-69AFB13EC2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37c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9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5656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37c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9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5656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9C25-6BFC-41EA-88E0-6E2DE932B8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ball-game.ru/foto/samye-malenkie/foto-1.html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99"/>
                </a:solidFill>
                <a:latin typeface="Garamond"/>
              </a:rPr>
              <a:t>От игры пок-та-пок </a:t>
            </a:r>
            <a:br>
              <a:rPr sz="5400"/>
            </a:br>
            <a:r>
              <a:rPr b="1" i="1" lang="ru-RU" sz="5400" spc="-1" strike="noStrike">
                <a:solidFill>
                  <a:srgbClr val="ffff99"/>
                </a:solidFill>
                <a:latin typeface="Garamond"/>
              </a:rPr>
              <a:t>к баскетболу</a:t>
            </a:r>
            <a:endParaRPr b="1" lang="en-US" sz="54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908000" y="2492280"/>
            <a:ext cx="526896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2666880" cy="4438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419640" y="333360"/>
            <a:ext cx="5473440" cy="75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Garamond"/>
              </a:rPr>
              <a:t>В баскетболе есть карлики и гиганты, есть самые результативные игроки и самые дорог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Garamond"/>
              </a:rPr>
              <a:t>Самый маленький, но далеко не самый худший игрок НБА – Тайрон Боггс с ростом 160 см. Именно он стал первопроходцем и доказал, что рост не помеха для иг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Garamond"/>
              </a:rPr>
              <a:t>Гигант Шакил О’Нил  имеет рост 216 с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Garamond"/>
              </a:rPr>
              <a:t>Самым результативным игроком является Майкл Джордан с результатом 31,5 за игр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Garamond"/>
              </a:rPr>
              <a:t>Самым профессиональным «штрафником» был Тэд Мартин: за 10 минут ему удалось попасть в кольцо 175 раз из 18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Garamond"/>
              </a:rPr>
              <a:t>Самым дорогим игроком в баскетбол за 2007 год стал Коби Брайант, получивший за год около 33 миллионов доллар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Garamond"/>
              </a:rPr>
              <a:t> </a:t>
            </a:r>
            <a:r>
              <a:rPr b="1" i="1" lang="ru-RU" sz="1800" spc="-1" strike="noStrike">
                <a:solidFill>
                  <a:srgbClr val="ffff99"/>
                </a:solidFill>
                <a:latin typeface="Garamond"/>
              </a:rPr>
              <a:t>В список самых «дорогих» баскетболистов попал и россиянин Андрей Корниленко. Он подписал шестигодовой контракт на сумму 86 миллионов доллар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24000" y="260280"/>
            <a:ext cx="8569080" cy="77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avie"/>
              </a:rPr>
              <a:t>33 секрета успешного броска </a:t>
            </a:r>
            <a:br>
              <a:rPr sz="2400"/>
            </a:br>
            <a:r>
              <a:rPr b="1" i="1" lang="en-US" sz="2800" spc="-1" strike="noStrike">
                <a:solidFill>
                  <a:srgbClr val="ffff99"/>
                </a:solidFill>
                <a:latin typeface="Ravie"/>
              </a:rPr>
              <a:t>1. Разогрев. </a:t>
            </a:r>
            <a:br>
              <a:rPr sz="2800"/>
            </a:br>
            <a:r>
              <a:rPr b="1" i="1" lang="en-US" sz="2800" spc="-1" strike="noStrike">
                <a:solidFill>
                  <a:srgbClr val="ffff99"/>
                </a:solidFill>
                <a:latin typeface="Ravie"/>
              </a:rPr>
              <a:t>2. Растяжка. </a:t>
            </a:r>
            <a:br>
              <a:rPr sz="2800"/>
            </a:br>
            <a:r>
              <a:rPr b="1" i="1" lang="en-US" sz="2800" spc="-1" strike="noStrike">
                <a:solidFill>
                  <a:srgbClr val="ffff99"/>
                </a:solidFill>
                <a:latin typeface="Ravie"/>
              </a:rPr>
              <a:t>3. Свободные броски с любого места на площадке. </a:t>
            </a:r>
            <a:br>
              <a:rPr sz="2800"/>
            </a:br>
            <a:r>
              <a:rPr b="1" i="1" lang="en-US" sz="2800" spc="-1" strike="noStrike">
                <a:solidFill>
                  <a:srgbClr val="ffff99"/>
                </a:solidFill>
                <a:latin typeface="Ravie"/>
              </a:rPr>
              <a:t>4. 15 близких бросков по кольцу правой рукой. </a:t>
            </a:r>
            <a:br>
              <a:rPr sz="2800"/>
            </a:br>
            <a:r>
              <a:rPr b="1" i="1" lang="en-US" sz="2800" spc="-1" strike="noStrike">
                <a:solidFill>
                  <a:srgbClr val="ffff99"/>
                </a:solidFill>
                <a:latin typeface="Ravie"/>
              </a:rPr>
              <a:t>5. 15 близких бросков по кольцу левой рукой. </a:t>
            </a:r>
            <a:br>
              <a:rPr sz="2800"/>
            </a:br>
            <a:r>
              <a:rPr b="1" i="1" lang="en-US" sz="2800" spc="-1" strike="noStrike">
                <a:solidFill>
                  <a:srgbClr val="ffff99"/>
                </a:solidFill>
                <a:latin typeface="Ravie"/>
              </a:rPr>
              <a:t>6. 15 бросков близко к кольцу, при котором мяч находится на ладони вытянутой правой руки. </a:t>
            </a:r>
            <a:br>
              <a:rPr sz="2800"/>
            </a:br>
            <a:r>
              <a:rPr b="1" i="1" lang="en-US" sz="2800" spc="-1" strike="noStrike">
                <a:solidFill>
                  <a:srgbClr val="ffff99"/>
                </a:solidFill>
                <a:latin typeface="Ravie"/>
              </a:rPr>
              <a:t>7. 15 бросков близко к кольцу, при котором мяч находится на ладони вытянутой левой руки. </a:t>
            </a:r>
            <a:br>
              <a:rPr sz="2800"/>
            </a:br>
            <a:r>
              <a:rPr b="1" i="1" lang="en-US" sz="2800" spc="-1" strike="noStrike">
                <a:solidFill>
                  <a:srgbClr val="ffff99"/>
                </a:solidFill>
                <a:latin typeface="Ravie"/>
              </a:rPr>
              <a:t>8. 15 близких бросков по кольцу с реверсом правой рукой. </a:t>
            </a:r>
            <a:br>
              <a:rPr sz="2800"/>
            </a:br>
            <a:r>
              <a:rPr b="1" i="1" lang="en-US" sz="2800" spc="-1" strike="noStrike">
                <a:solidFill>
                  <a:srgbClr val="ffff99"/>
                </a:solidFill>
                <a:latin typeface="Ravie"/>
              </a:rPr>
              <a:t>9. 15 близких бросков по кольцу с реверсом левой рукой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39640" y="47628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0"/>
            <a:ext cx="8207280" cy="75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Ravie"/>
              </a:rPr>
              <a:t>10. 15 штрафных бросков. </a:t>
            </a: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Ravie"/>
              </a:rPr>
              <a:t>11. Перерыв - 5 минут (водички сходите попейте). </a:t>
            </a: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Ravie"/>
              </a:rPr>
              <a:t>12. Броски на расстоянии 150 см от кольца (старайтесь, чтобы мяч не задевал кольцо.) - 30 бросков. </a:t>
            </a: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Ravie"/>
              </a:rPr>
              <a:t>13. Броски на расстоянии 150 см и на 450 см. (старайтесь, чтобы мяч не задевал кольца) - 35 бросков. </a:t>
            </a: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Ravie"/>
              </a:rPr>
              <a:t>14. Броски с проходом с любого места на площадке - 35 бросков. </a:t>
            </a: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Ravie"/>
              </a:rPr>
              <a:t>15. Броски с проходом от каждого основания на 3-х очковой линии. 35 бросков. </a:t>
            </a: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Ravie"/>
              </a:rPr>
              <a:t>16. Бросок с проходом с правого крыла на левое - 30 бросков. </a:t>
            </a: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Ravie"/>
              </a:rPr>
              <a:t>17. Броски с проходом с трапеции - 30 броско</a:t>
            </a: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Ravie"/>
              </a:rPr>
              <a:t>18. Бросок с проходом, подбор мяча и дриблинг - 30 бросков. </a:t>
            </a: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Ravie"/>
              </a:rPr>
              <a:t>19. Штрафные броски - 15 броск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Ravie"/>
              </a:rPr>
              <a:t>20. Перерыв - 5 минут  21. Броски в прыжке с дриблингом - 30 бросков. </a:t>
            </a:r>
            <a:br>
              <a:rPr sz="2400"/>
            </a:br>
            <a:r>
              <a:rPr b="1" i="1" lang="ru-RU" sz="2400" spc="-1" strike="noStrike">
                <a:solidFill>
                  <a:srgbClr val="ffff99"/>
                </a:solidFill>
                <a:latin typeface="Ravie"/>
              </a:rPr>
              <a:t>22. Броски в прыжке с различным дриблингом - 20 бросков. </a:t>
            </a:r>
            <a:br>
              <a:rPr sz="2400"/>
            </a:br>
            <a:r>
              <a:rPr b="1" i="1" lang="ru-RU" sz="2400" spc="-1" strike="noStrike">
                <a:solidFill>
                  <a:srgbClr val="ffff99"/>
                </a:solidFill>
                <a:latin typeface="Ravie"/>
              </a:rPr>
              <a:t>23. Быстрый дриблинг, затем бросок в прыжке -10 бросков. </a:t>
            </a:r>
            <a:br>
              <a:rPr sz="2400"/>
            </a:br>
            <a:r>
              <a:rPr b="1" i="1" lang="ru-RU" sz="2400" spc="-1" strike="noStrike">
                <a:solidFill>
                  <a:srgbClr val="ffff99"/>
                </a:solidFill>
                <a:latin typeface="Ravie"/>
              </a:rPr>
              <a:t>24. Смена темпа - 10 бросков. </a:t>
            </a:r>
            <a:br>
              <a:rPr sz="2400"/>
            </a:br>
            <a:r>
              <a:rPr b="1" i="1" lang="ru-RU" sz="2400" spc="-1" strike="noStrike">
                <a:solidFill>
                  <a:srgbClr val="ffff99"/>
                </a:solidFill>
                <a:latin typeface="Ravie"/>
              </a:rPr>
              <a:t>25. С обманным показом - 10 бросков. </a:t>
            </a:r>
            <a:br>
              <a:rPr sz="2400"/>
            </a:br>
            <a:r>
              <a:rPr b="1" i="1" lang="ru-RU" sz="2400" spc="-1" strike="noStrike">
                <a:solidFill>
                  <a:srgbClr val="ffff99"/>
                </a:solidFill>
                <a:latin typeface="Ravie"/>
              </a:rPr>
              <a:t>26. С отклонением - 10 бросков. </a:t>
            </a:r>
            <a:br>
              <a:rPr sz="2400"/>
            </a:br>
            <a:r>
              <a:rPr b="1" i="1" lang="ru-RU" sz="2400" spc="-1" strike="noStrike">
                <a:solidFill>
                  <a:srgbClr val="ffff99"/>
                </a:solidFill>
                <a:latin typeface="Ravie"/>
              </a:rPr>
              <a:t>27. Через кроссовер - 10 бросков. </a:t>
            </a:r>
            <a:br>
              <a:rPr sz="2400"/>
            </a:br>
            <a:r>
              <a:rPr b="1" i="1" lang="ru-RU" sz="2400" spc="-1" strike="noStrike">
                <a:solidFill>
                  <a:srgbClr val="ffff99"/>
                </a:solidFill>
                <a:latin typeface="Ravie"/>
              </a:rPr>
              <a:t>28. 15 штрафных бросков. </a:t>
            </a:r>
            <a:br>
              <a:rPr sz="2400"/>
            </a:br>
            <a:r>
              <a:rPr b="1" i="1" lang="ru-RU" sz="2400" spc="-1" strike="noStrike">
                <a:solidFill>
                  <a:srgbClr val="ffff99"/>
                </a:solidFill>
                <a:latin typeface="Ravie"/>
              </a:rPr>
              <a:t>29. Перерыв - 5 минут. </a:t>
            </a:r>
            <a:br>
              <a:rPr sz="2400"/>
            </a:br>
            <a:r>
              <a:rPr b="1" i="1" lang="ru-RU" sz="2400" spc="-1" strike="noStrike">
                <a:solidFill>
                  <a:srgbClr val="ffff99"/>
                </a:solidFill>
                <a:latin typeface="Ravie"/>
              </a:rPr>
              <a:t>30. Любые броски  - 20 бросков. </a:t>
            </a:r>
            <a:br>
              <a:rPr sz="2400"/>
            </a:br>
            <a:r>
              <a:rPr b="1" i="1" lang="ru-RU" sz="2400" spc="-1" strike="noStrike">
                <a:solidFill>
                  <a:srgbClr val="ffff99"/>
                </a:solidFill>
                <a:latin typeface="Ravie"/>
              </a:rPr>
              <a:t>30. 3-х очковые броски - 35 бросков. </a:t>
            </a:r>
            <a:br>
              <a:rPr sz="2400"/>
            </a:br>
            <a:r>
              <a:rPr b="1" i="1" lang="ru-RU" sz="2400" spc="-1" strike="noStrike">
                <a:solidFill>
                  <a:srgbClr val="ffff99"/>
                </a:solidFill>
                <a:latin typeface="Ravie"/>
              </a:rPr>
              <a:t>31. Игра с соперником - до 10 очков. </a:t>
            </a:r>
            <a:br>
              <a:rPr sz="2400"/>
            </a:br>
            <a:r>
              <a:rPr b="1" i="1" lang="ru-RU" sz="2400" spc="-1" strike="noStrike">
                <a:solidFill>
                  <a:srgbClr val="ffff99"/>
                </a:solidFill>
                <a:latin typeface="Ravie"/>
              </a:rPr>
              <a:t>32. Бросайте 100 бросков в прыжке, записывайте ваш результат и пытайтесь побить его каждый день. </a:t>
            </a:r>
            <a:br>
              <a:rPr sz="2400"/>
            </a:br>
            <a:r>
              <a:rPr b="1" i="1" lang="ru-RU" sz="2400" spc="-1" strike="noStrike">
                <a:solidFill>
                  <a:srgbClr val="ffff99"/>
                </a:solidFill>
                <a:latin typeface="Ravie"/>
              </a:rPr>
              <a:t>33. Бросайте 100 штрафных брос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9640" y="115920"/>
            <a:ext cx="4240440" cy="51274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076720" y="549360"/>
            <a:ext cx="406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60280"/>
            <a:ext cx="40338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Garamond"/>
              </a:rPr>
              <a:t>Броски различаются по типу их исполнения: одной или двумя руками; по способу исполнения: с места, в прыжке, в движении, после прохода, после обманного движения, крюком, полукрюком, броском сверху; по расстоянию от кольца: ближние (0-3 м), средние (3-5 м) и дальние (из-за линии радиусом 6,25 м), или трехочковые броски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3772080" cy="45259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356000" y="620640"/>
            <a:ext cx="4248360" cy="77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99"/>
                </a:solidFill>
                <a:latin typeface="Garamond"/>
              </a:rPr>
              <a:t>Лучшие игроки в истории профессионального баскетбола: Карим Абдул-Джаббар, Лэрри Берд, Мэджик Джонсон, Уилт(он) Чемберлен. Современные звезды — неувядаемый Майкл Джордан (покинул площадку в 1998), Шакил О'Нил, Хаким Оладжьювон, Клайд Дрекслер, Грант Хилл, Патрик Юинг, Карл Мэлоун, Дэвид Робинсон, Чарлз Баркли, Джон Стоктон. Одними из первых отечественных баскетболистов дебютировали в НБА в начале 1990-х Александр Волков («Атланта Хоукс») и звезды литовского баскетбола Шарунас Марчюленис («Голден Стейт») и Арвидас Сабонис («Портленд Блейзерс»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537372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Garamond"/>
              </a:rPr>
              <a:t>Майкл Джорд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Самые маленьки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989000"/>
            <a:ext cx="2036880" cy="33800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932360" y="260280"/>
            <a:ext cx="3809880" cy="4762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68360" y="40464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99"/>
                </a:solidFill>
                <a:latin typeface="Garamond"/>
              </a:rPr>
              <a:t>Занимайтес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5589720"/>
            <a:ext cx="4390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99"/>
                </a:solidFill>
                <a:latin typeface="Garamond"/>
              </a:rPr>
              <a:t>баскетболом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47640" y="404640"/>
            <a:ext cx="4038840" cy="2692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50920" y="3500280"/>
            <a:ext cx="4286160" cy="293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012000" y="2924280"/>
            <a:ext cx="2652480" cy="2652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476360" y="314172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99"/>
                </a:solidFill>
                <a:latin typeface="Garamond"/>
              </a:rPr>
              <a:t>« Кольцо» для игры пок-та-пок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638172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Garamond"/>
              </a:rPr>
              <a:t>Древний стадион Май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12000" y="580536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Garamond"/>
              </a:rPr>
              <a:t>Наскальный рисунок игры в пок-та-п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2793960" cy="3861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780000" y="765000"/>
            <a:ext cx="3493800" cy="2611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68360" y="4581360"/>
            <a:ext cx="1803240" cy="1684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851280" y="3933720"/>
            <a:ext cx="4608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99"/>
                </a:solidFill>
                <a:latin typeface="Garamond"/>
              </a:rPr>
              <a:t>Автором современного баскетбола, который появился в конце 19 века, считается преподаватель физического воспитания Спрингфилдской международной тренировочной школы в шт. Массачусетс Джеймс Нейсмит (1861-1932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2255760" cy="2948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Мужской баскетбол в России"/>
          <p:cNvPicPr/>
          <p:nvPr/>
        </p:nvPicPr>
        <p:blipFill>
          <a:blip r:embed="rId2"/>
          <a:stretch/>
        </p:blipFill>
        <p:spPr>
          <a:xfrm>
            <a:off x="3276720" y="4076640"/>
            <a:ext cx="3587760" cy="2529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635280" y="404640"/>
            <a:ext cx="5184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99"/>
                </a:solidFill>
                <a:latin typeface="Garamond"/>
              </a:rPr>
              <a:t>Нейсмит написал правила новой игры и 21 декабря 1891 года провел первый баскетбольный матч в зале школы в Спрингфилде. В группе было 18 студентов. В игре участвовали две команды по 9 человек. Первые правила игры состояли из 13 пунктов, большинство из которых действуют и в настоящее время. В 1893 корзины заменили железными кольцами с сеткой, в 1895 установили щиты, в 1897 состав команды ограничили 5 игрок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58920" y="620640"/>
            <a:ext cx="3124080" cy="3468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435640" y="476280"/>
            <a:ext cx="2692440" cy="3771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292720" y="4724280"/>
            <a:ext cx="360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99"/>
                </a:solidFill>
                <a:latin typeface="Garamond"/>
              </a:rPr>
              <a:t>Барни Седран, одна из первых звёзд баскетбола (рост 156 см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436572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Garamond"/>
              </a:rPr>
              <a:t>Сотое очко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3451320" cy="4979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716360" y="1557360"/>
            <a:ext cx="3959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Garamond"/>
              </a:rPr>
              <a:t>Первый чемпионат Европы среди мужчин прошел в 1935 в Женеве. Победили баскетболисты Латвии. В 1937 и 1939 чемпионами становились баскетболисты Литвы. Больше всех почетным званием владели спортсмены СССР— 14 раз (1947, 1951-53,1957-71, 1979-81 и 1985). Сборная Югославии — семикратный чемпион Европы (1973-77, 1989-91 и 1995-97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932360" y="1484280"/>
            <a:ext cx="3816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Garamond"/>
              </a:rPr>
              <a:t>Дебют женского баскетбола на Олимпийских играх состоялся в 1976 в Монреале. В турнире участвовали шесть команд. Первыми олимпийскими чемпионами стали баскетболистки сборной СССР, которые еще дважды становилась чемпионками, четырежды завоевывали золотые медали американские баскетболистки (1984, 1988, 1996, 2000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44910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5056200" cy="4662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651640" y="981000"/>
            <a:ext cx="2952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Garamond"/>
              </a:rPr>
              <a:t>Первый баскетбольный мяч был сшит из нескольких кусков кожи (внутри мяча размещалась камера) и имел трогательную шнуровку, на манеру той, которая используется сейчас в мячах для американского футбола (на фото баскетбольный мяч образца 1920 года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3386160" cy="5496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647880" cy="4572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932360" y="6021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Garamond"/>
              </a:rPr>
              <a:t>А вам слабо?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71640" y="64533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Garamond"/>
              </a:rPr>
              <a:t>Решающий мя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19280" y="6453360"/>
            <a:ext cx="20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Garamond"/>
              </a:rPr>
              <a:t>Решающий мяч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5:16:45Z</dcterms:created>
  <dc:creator>Uzer</dc:creator>
  <dc:description/>
  <dc:language>en-US</dc:language>
  <cp:lastModifiedBy>Uzer</cp:lastModifiedBy>
  <dcterms:modified xsi:type="dcterms:W3CDTF">2009-01-23T14:08:27Z</dcterms:modified>
  <cp:revision>5</cp:revision>
  <dc:subject/>
  <dc:title>Баскетбол </dc:title>
</cp:coreProperties>
</file>