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wmf" ContentType="image/x-wmf"/>
  <Override PartName="/ppt/media/image3.png" ContentType="image/png"/>
  <Override PartName="/ppt/media/image16.png" ContentType="image/png"/>
  <Override PartName="/ppt/media/image7.gif" ContentType="image/gif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BDF-243A-40AB-93F4-707F87BB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A159-F42D-4C01-8BB2-CE5C63AE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FBB-E192-4519-8EC3-8BF22BA0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9410-E3A8-4F52-8789-598FB042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735B-6DBB-4420-B156-162BAA73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5AFF-F85B-4EF9-B739-F579143B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10FC-B3B8-433C-9877-0023D659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9B5F-3A92-4C92-9DDA-9F7452FE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9C1F-DB4A-4AC1-9985-45D405DD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AF5D-4763-43AA-89D9-A456FCF4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42EE-DD9A-460D-9750-08E6B775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D99-D29E-456C-B7BA-508656B4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341C-404D-4CE9-B0CC-8F811545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3B38-3C44-45A5-9AA1-45DEE24B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4236-2D7D-4E85-9F3A-0EBE7B2F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A275-DA1D-473C-85BD-7C4B7DD3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F7E7-5CFA-4852-A12B-0DDE1373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828-F5FD-4E01-9094-51EAEE86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F75-F937-4602-B7D1-C2F515D0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34C-B82E-47EE-9864-41851F7E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DC7-58A8-4587-A350-80A9C501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AE9-F55B-4ADB-BF5D-E911B8CE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04D-6EE5-4FD9-80A2-AE2CF870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280-6D3F-4ADD-A0ED-4103E9EC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244920"/>
            <a:ext cx="201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3640" y="6244920"/>
            <a:ext cx="425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31000" y="624492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2C2A-1BC1-47EF-8422-EC07294892A2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-36360" y="2409840"/>
            <a:ext cx="1008000" cy="4447440"/>
            <a:chOff x="-36360" y="2409840"/>
            <a:chExt cx="1008000" cy="4447440"/>
          </a:xfrm>
        </p:grpSpPr>
        <p:grpSp>
          <p:nvGrpSpPr>
            <p:cNvPr id="6" name="Group 8"/>
            <p:cNvGrpSpPr/>
            <p:nvPr/>
          </p:nvGrpSpPr>
          <p:grpSpPr>
            <a:xfrm>
              <a:off x="-36360" y="3481200"/>
              <a:ext cx="1008000" cy="3376080"/>
              <a:chOff x="-36360" y="3481200"/>
              <a:chExt cx="1008000" cy="3376080"/>
            </a:xfrm>
          </p:grpSpPr>
          <p:pic>
            <p:nvPicPr>
              <p:cNvPr id="7" name="Picture 9" descr="267"/>
              <p:cNvPicPr/>
              <p:nvPr/>
            </p:nvPicPr>
            <p:blipFill>
              <a:blip r:embed="rId2"/>
              <a:stretch/>
            </p:blipFill>
            <p:spPr>
              <a:xfrm>
                <a:off x="-36360" y="5740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Picture 10" descr="230"/>
              <p:cNvPicPr/>
              <p:nvPr/>
            </p:nvPicPr>
            <p:blipFill>
              <a:blip r:embed="rId3"/>
              <a:stretch/>
            </p:blipFill>
            <p:spPr>
              <a:xfrm>
                <a:off x="-36360" y="425340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Picture 11" descr="232"/>
              <p:cNvPicPr/>
              <p:nvPr/>
            </p:nvPicPr>
            <p:blipFill>
              <a:blip r:embed="rId4"/>
              <a:stretch/>
            </p:blipFill>
            <p:spPr>
              <a:xfrm>
                <a:off x="-36360" y="490788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12" descr="233"/>
              <p:cNvPicPr/>
              <p:nvPr/>
            </p:nvPicPr>
            <p:blipFill>
              <a:blip r:embed="rId5"/>
              <a:stretch/>
            </p:blipFill>
            <p:spPr>
              <a:xfrm>
                <a:off x="-36360" y="3481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" name="Picture 13" descr="266"/>
            <p:cNvPicPr/>
            <p:nvPr/>
          </p:nvPicPr>
          <p:blipFill>
            <a:blip r:embed="rId6"/>
            <a:stretch/>
          </p:blipFill>
          <p:spPr>
            <a:xfrm>
              <a:off x="-36360" y="240984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" name="Group 14"/>
          <p:cNvGrpSpPr/>
          <p:nvPr/>
        </p:nvGrpSpPr>
        <p:grpSpPr>
          <a:xfrm>
            <a:off x="0" y="0"/>
            <a:ext cx="1008000" cy="4447440"/>
            <a:chOff x="0" y="0"/>
            <a:chExt cx="1008000" cy="4447440"/>
          </a:xfrm>
        </p:grpSpPr>
        <p:grpSp>
          <p:nvGrpSpPr>
            <p:cNvPr id="13" name="Group 15"/>
            <p:cNvGrpSpPr/>
            <p:nvPr/>
          </p:nvGrpSpPr>
          <p:grpSpPr>
            <a:xfrm>
              <a:off x="0" y="1071360"/>
              <a:ext cx="1008000" cy="3376080"/>
              <a:chOff x="0" y="1071360"/>
              <a:chExt cx="1008000" cy="3376080"/>
            </a:xfrm>
          </p:grpSpPr>
          <p:pic>
            <p:nvPicPr>
              <p:cNvPr id="14" name="Picture 16" descr="267"/>
              <p:cNvPicPr/>
              <p:nvPr/>
            </p:nvPicPr>
            <p:blipFill>
              <a:blip r:embed="rId7"/>
              <a:stretch/>
            </p:blipFill>
            <p:spPr>
              <a:xfrm>
                <a:off x="0" y="333036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Picture 17" descr="230"/>
              <p:cNvPicPr/>
              <p:nvPr/>
            </p:nvPicPr>
            <p:blipFill>
              <a:blip r:embed="rId8"/>
              <a:stretch/>
            </p:blipFill>
            <p:spPr>
              <a:xfrm>
                <a:off x="0" y="184356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Picture 18" descr="232"/>
              <p:cNvPicPr/>
              <p:nvPr/>
            </p:nvPicPr>
            <p:blipFill>
              <a:blip r:embed="rId9"/>
              <a:stretch/>
            </p:blipFill>
            <p:spPr>
              <a:xfrm>
                <a:off x="0" y="249804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19" descr="233"/>
              <p:cNvPicPr/>
              <p:nvPr/>
            </p:nvPicPr>
            <p:blipFill>
              <a:blip r:embed="rId10"/>
              <a:stretch/>
            </p:blipFill>
            <p:spPr>
              <a:xfrm>
                <a:off x="0" y="107136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" name="Picture 20" descr="266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232"/>
          <p:cNvPicPr/>
          <p:nvPr/>
        </p:nvPicPr>
        <p:blipFill>
          <a:blip r:embed="rId2"/>
          <a:stretch/>
        </p:blipFill>
        <p:spPr>
          <a:xfrm rot="16634400">
            <a:off x="6833880" y="210240"/>
            <a:ext cx="2071800" cy="2071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D38F-0A41-48D7-8DEA-A5CE864D2477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33cc"/>
                </a:solidFill>
                <a:uFillTx/>
                <a:latin typeface="Times New Roman"/>
              </a:rPr>
              <a:t>Английские идиомы, </a:t>
            </a:r>
            <a:br>
              <a:rPr sz="4000"/>
            </a:br>
            <a:r>
              <a:rPr b="0" i="1" lang="ru-RU" sz="4000" spc="-1" strike="noStrike" u="sng">
                <a:solidFill>
                  <a:srgbClr val="0033cc"/>
                </a:solidFill>
                <a:uFillTx/>
                <a:latin typeface="Times New Roman"/>
              </a:rPr>
              <a:t>связанные с едой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Rectangle 4"/>
          <p:cNvSpPr/>
          <p:nvPr/>
        </p:nvSpPr>
        <p:spPr>
          <a:xfrm flipV="1" rot="10800000">
            <a:off x="3058920" y="1555200"/>
            <a:ext cx="27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Apple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755640" y="1989720"/>
            <a:ext cx="83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of (someone’s) eye –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чья-либо рад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pie order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идеальный 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s easy as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pi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очень лег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bad/rotten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– плохой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compar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s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and oranges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– сравнивать несравн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polish th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- льст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upset th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cart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разрушить пл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вапролд"/>
          <p:cNvPicPr/>
          <p:nvPr/>
        </p:nvPicPr>
        <p:blipFill>
          <a:blip r:embed="rId1"/>
          <a:stretch/>
        </p:blipFill>
        <p:spPr>
          <a:xfrm>
            <a:off x="3635280" y="5157720"/>
            <a:ext cx="1681200" cy="1062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7"/>
          <p:cNvSpPr/>
          <p:nvPr/>
        </p:nvSpPr>
        <p:spPr>
          <a:xfrm>
            <a:off x="3857760" y="6429240"/>
            <a:ext cx="221436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33cc"/>
                </a:solidFill>
                <a:uFillTx/>
                <a:latin typeface="Times New Roman"/>
              </a:rPr>
              <a:t>Что такое идиома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993080" cy="4824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Times New Roman"/>
              </a:rPr>
              <a:t>Это устойчивое выражение,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Times New Roman"/>
              </a:rPr>
              <a:t>имеющее  самостоятельное значение, обычно не совпадающее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Times New Roman"/>
              </a:rPr>
              <a:t>с дословным переводом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4" descr="вопрос"/>
          <p:cNvPicPr/>
          <p:nvPr/>
        </p:nvPicPr>
        <p:blipFill>
          <a:blip r:embed="rId1"/>
          <a:stretch/>
        </p:blipFill>
        <p:spPr>
          <a:xfrm>
            <a:off x="3843360" y="1413000"/>
            <a:ext cx="115740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354840" y="619920"/>
            <a:ext cx="26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Bean Idioms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05nil032i"/>
          <p:cNvPicPr/>
          <p:nvPr/>
        </p:nvPicPr>
        <p:blipFill>
          <a:blip r:embed="rId1"/>
          <a:stretch/>
        </p:blipFill>
        <p:spPr>
          <a:xfrm>
            <a:off x="3780000" y="4941720"/>
            <a:ext cx="1590480" cy="1186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5"/>
          <p:cNvSpPr/>
          <p:nvPr/>
        </p:nvSpPr>
        <p:spPr>
          <a:xfrm>
            <a:off x="826920" y="180360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full o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eans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живой, энерг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t know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eans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about (someone or something)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е знать нич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t worth a hill o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eans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– ничего не стоя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pill th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eans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выдать секрет, проболт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s like as two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eas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похожи, как две капли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236760" y="7642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Bread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апрол"/>
          <p:cNvPicPr/>
          <p:nvPr/>
        </p:nvPicPr>
        <p:blipFill>
          <a:blip r:embed="rId1"/>
          <a:stretch/>
        </p:blipFill>
        <p:spPr>
          <a:xfrm>
            <a:off x="3708360" y="4437000"/>
            <a:ext cx="1604880" cy="12034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900000" y="1965240"/>
            <a:ext cx="75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s warm as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oast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теплый и ую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read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nd butter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(зарабатывать) на х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read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nd water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скудная 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hal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 loaf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is better than non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лучше половина, чем нич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3293280" y="619920"/>
            <a:ext cx="26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Cake Idioms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971640" y="1692720"/>
            <a:ext cx="756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have one's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cak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and eat it too –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совмещать несовмест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icing on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 cak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то что делает ситуацию еще 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piece o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cak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легко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slice o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 cak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доля,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tak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 cak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превзойти всех, получить п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п"/>
          <p:cNvPicPr/>
          <p:nvPr/>
        </p:nvPicPr>
        <p:blipFill>
          <a:blip r:embed="rId1"/>
          <a:stretch/>
        </p:blipFill>
        <p:spPr>
          <a:xfrm>
            <a:off x="3708360" y="5157720"/>
            <a:ext cx="148428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3152160" y="61992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Egg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900000" y="131616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ad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egg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лохой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good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egg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хороший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have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egg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on one’s face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быть смуще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ut all one's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eggs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in one basket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рисковать вс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walk on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eggs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быть очень осторож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you can't make an omelette without breaking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the eggs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невозможно что-то сделать без послед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NA01130_"/>
          <p:cNvPicPr/>
          <p:nvPr/>
        </p:nvPicPr>
        <p:blipFill>
          <a:blip r:embed="rId1"/>
          <a:stretch/>
        </p:blipFill>
        <p:spPr>
          <a:xfrm>
            <a:off x="3708360" y="4508640"/>
            <a:ext cx="1714680" cy="1282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3178440" y="619920"/>
            <a:ext cx="23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Pie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900000" y="1655640"/>
            <a:ext cx="82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s easy as appl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ie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– очень лег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at humbl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i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проглотить оби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have one's finger in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i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быть втянутым во что-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i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in the sky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несбыточная меч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lice o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 pi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доля,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лпр"/>
          <p:cNvPicPr/>
          <p:nvPr/>
        </p:nvPicPr>
        <p:blipFill>
          <a:blip r:embed="rId1"/>
          <a:stretch/>
        </p:blipFill>
        <p:spPr>
          <a:xfrm>
            <a:off x="3635280" y="427032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3139920" y="619920"/>
            <a:ext cx="29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Potato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900000" y="18241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couch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otato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малоподвижный челов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drop like a hot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otato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отказаться, отступ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hot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otato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злободневный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meat and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otatoes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простая еда, простые вк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mall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otatoes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пустяки, мелкие люди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а"/>
          <p:cNvPicPr/>
          <p:nvPr/>
        </p:nvPicPr>
        <p:blipFill>
          <a:blip r:embed="rId1"/>
          <a:stretch/>
        </p:blipFill>
        <p:spPr>
          <a:xfrm>
            <a:off x="3635280" y="4437000"/>
            <a:ext cx="1657440" cy="1236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1258920" y="5454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00"/>
                </a:solidFill>
                <a:latin typeface="Comic Sans MS"/>
              </a:rPr>
              <a:t>And Some Interesting   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971640" y="2097000"/>
            <a:ext cx="45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s cool as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a cucumber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очень спокойный, невозмутим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рорр"/>
          <p:cNvPicPr/>
          <p:nvPr/>
        </p:nvPicPr>
        <p:blipFill>
          <a:blip r:embed="rId1"/>
          <a:stretch/>
        </p:blipFill>
        <p:spPr>
          <a:xfrm>
            <a:off x="6732720" y="1773360"/>
            <a:ext cx="914400" cy="1123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971640" y="3408480"/>
            <a:ext cx="46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op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banana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хозяин по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нгш"/>
          <p:cNvPicPr/>
          <p:nvPr/>
        </p:nvPicPr>
        <p:blipFill>
          <a:blip r:embed="rId2"/>
          <a:stretch/>
        </p:blipFill>
        <p:spPr>
          <a:xfrm>
            <a:off x="6732720" y="3213000"/>
            <a:ext cx="949320" cy="1225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900000" y="501192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go/turn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beet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-re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окраснеть от сты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s_022i"/>
          <p:cNvPicPr/>
          <p:nvPr/>
        </p:nvPicPr>
        <p:blipFill>
          <a:blip r:embed="rId3"/>
          <a:stretch/>
        </p:blipFill>
        <p:spPr>
          <a:xfrm>
            <a:off x="6716880" y="4797360"/>
            <a:ext cx="9698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09:14Z</dcterms:created>
  <dc:creator>Сергей и Светлана</dc:creator>
  <dc:description/>
  <dc:language>en-US</dc:language>
  <cp:lastModifiedBy>Admin</cp:lastModifiedBy>
  <dcterms:modified xsi:type="dcterms:W3CDTF">2012-07-24T07:47:33Z</dcterms:modified>
  <cp:revision>13</cp:revision>
  <dc:subject/>
  <dc:title>Английские идиомы, связанные с темой еды</dc:title>
</cp:coreProperties>
</file>