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wmf" ContentType="image/x-wmf"/>
  <Override PartName="/ppt/media/image3.png" ContentType="image/png"/>
  <Override PartName="/ppt/media/image16.png" ContentType="image/png"/>
  <Override PartName="/ppt/media/image7.gif" ContentType="image/gif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AB2-B6A1-4DD5-B99D-A0CBBBA4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92A-5DC8-4825-B369-8FF72627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D12-2005-4F66-8FC7-5F3C4AC9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0DF-EABE-4385-8CFB-241E4F39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7514-70FB-42E8-91AC-17282634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A0DD-0404-4C48-8091-C29A60D4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B7E1-FB11-4A74-8C4E-168CE231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BA31-08A8-4B47-999A-CCE39153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42CA-F011-41F2-80CD-7AD03DFE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CBD7-C1D3-4939-98B9-B05704FD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31D0-31A9-4E64-8DB5-BD8A2E3A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E84-F494-40BE-92F5-6A0E32FC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E8BA-49B4-4109-BAB6-3DB830B2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6E06-DD3B-4782-9B1E-E5844D3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D5FA-367E-46DD-BE4C-D586EB5D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906D-9871-40ED-AAFE-CF719FC3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53DC-03D2-4704-ACAF-7B307EF3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247-7F04-4463-A220-1B81A802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FBA-4859-4560-8DF1-F0CFB015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781-8B01-4AE1-8519-F042BDE9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442-807D-4307-8D6F-0994ACF8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A70-D7C6-4962-BDAE-E25D47C4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223-415D-472A-A4E7-7CACCE55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19E-8671-4129-A96E-8B988CE8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244920"/>
            <a:ext cx="201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3640" y="6244920"/>
            <a:ext cx="425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31000" y="624492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7ADF-B9B3-4134-B2F9-E57D04D6B659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-36360" y="2409840"/>
            <a:ext cx="1008000" cy="4447440"/>
            <a:chOff x="-36360" y="2409840"/>
            <a:chExt cx="1008000" cy="4447440"/>
          </a:xfrm>
        </p:grpSpPr>
        <p:grpSp>
          <p:nvGrpSpPr>
            <p:cNvPr id="6" name="Group 8"/>
            <p:cNvGrpSpPr/>
            <p:nvPr/>
          </p:nvGrpSpPr>
          <p:grpSpPr>
            <a:xfrm>
              <a:off x="-36360" y="3481200"/>
              <a:ext cx="1008000" cy="3376080"/>
              <a:chOff x="-36360" y="3481200"/>
              <a:chExt cx="1008000" cy="3376080"/>
            </a:xfrm>
          </p:grpSpPr>
          <p:pic>
            <p:nvPicPr>
              <p:cNvPr id="7" name="Picture 9" descr="267"/>
              <p:cNvPicPr/>
              <p:nvPr/>
            </p:nvPicPr>
            <p:blipFill>
              <a:blip r:embed="rId2"/>
              <a:stretch/>
            </p:blipFill>
            <p:spPr>
              <a:xfrm>
                <a:off x="-36360" y="5740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Picture 10" descr="230"/>
              <p:cNvPicPr/>
              <p:nvPr/>
            </p:nvPicPr>
            <p:blipFill>
              <a:blip r:embed="rId3"/>
              <a:stretch/>
            </p:blipFill>
            <p:spPr>
              <a:xfrm>
                <a:off x="-36360" y="425340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Picture 11" descr="232"/>
              <p:cNvPicPr/>
              <p:nvPr/>
            </p:nvPicPr>
            <p:blipFill>
              <a:blip r:embed="rId4"/>
              <a:stretch/>
            </p:blipFill>
            <p:spPr>
              <a:xfrm>
                <a:off x="-36360" y="490788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12" descr="233"/>
              <p:cNvPicPr/>
              <p:nvPr/>
            </p:nvPicPr>
            <p:blipFill>
              <a:blip r:embed="rId5"/>
              <a:stretch/>
            </p:blipFill>
            <p:spPr>
              <a:xfrm>
                <a:off x="-36360" y="3481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" name="Picture 13" descr="266"/>
            <p:cNvPicPr/>
            <p:nvPr/>
          </p:nvPicPr>
          <p:blipFill>
            <a:blip r:embed="rId6"/>
            <a:stretch/>
          </p:blipFill>
          <p:spPr>
            <a:xfrm>
              <a:off x="-36360" y="240984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" name="Group 14"/>
          <p:cNvGrpSpPr/>
          <p:nvPr/>
        </p:nvGrpSpPr>
        <p:grpSpPr>
          <a:xfrm>
            <a:off x="0" y="0"/>
            <a:ext cx="1008000" cy="4447440"/>
            <a:chOff x="0" y="0"/>
            <a:chExt cx="1008000" cy="4447440"/>
          </a:xfrm>
        </p:grpSpPr>
        <p:grpSp>
          <p:nvGrpSpPr>
            <p:cNvPr id="13" name="Group 15"/>
            <p:cNvGrpSpPr/>
            <p:nvPr/>
          </p:nvGrpSpPr>
          <p:grpSpPr>
            <a:xfrm>
              <a:off x="0" y="1071360"/>
              <a:ext cx="1008000" cy="3376080"/>
              <a:chOff x="0" y="1071360"/>
              <a:chExt cx="1008000" cy="3376080"/>
            </a:xfrm>
          </p:grpSpPr>
          <p:pic>
            <p:nvPicPr>
              <p:cNvPr id="14" name="Picture 16" descr="267"/>
              <p:cNvPicPr/>
              <p:nvPr/>
            </p:nvPicPr>
            <p:blipFill>
              <a:blip r:embed="rId7"/>
              <a:stretch/>
            </p:blipFill>
            <p:spPr>
              <a:xfrm>
                <a:off x="0" y="3330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7" descr="230"/>
              <p:cNvPicPr/>
              <p:nvPr/>
            </p:nvPicPr>
            <p:blipFill>
              <a:blip r:embed="rId8"/>
              <a:stretch/>
            </p:blipFill>
            <p:spPr>
              <a:xfrm>
                <a:off x="0" y="184356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8" descr="232"/>
              <p:cNvPicPr/>
              <p:nvPr/>
            </p:nvPicPr>
            <p:blipFill>
              <a:blip r:embed="rId9"/>
              <a:stretch/>
            </p:blipFill>
            <p:spPr>
              <a:xfrm>
                <a:off x="0" y="249804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9" descr="233"/>
              <p:cNvPicPr/>
              <p:nvPr/>
            </p:nvPicPr>
            <p:blipFill>
              <a:blip r:embed="rId10"/>
              <a:stretch/>
            </p:blipFill>
            <p:spPr>
              <a:xfrm>
                <a:off x="0" y="1071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" name="Picture 20" descr="266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232"/>
          <p:cNvPicPr/>
          <p:nvPr/>
        </p:nvPicPr>
        <p:blipFill>
          <a:blip r:embed="rId2"/>
          <a:stretch/>
        </p:blipFill>
        <p:spPr>
          <a:xfrm rot="16634400">
            <a:off x="6833880" y="21024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5E8E-F3DE-4C60-BAF2-A1B54BFACF5C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33cc"/>
                </a:solidFill>
                <a:uFillTx/>
                <a:latin typeface="Times New Roman"/>
              </a:rPr>
              <a:t>Английские идиомы, </a:t>
            </a:r>
            <a:br>
              <a:rPr sz="4000"/>
            </a:br>
            <a:r>
              <a:rPr b="0" i="1" lang="ru-RU" sz="4000" spc="-1" strike="noStrike" u="sng">
                <a:solidFill>
                  <a:srgbClr val="0033cc"/>
                </a:solidFill>
                <a:uFillTx/>
                <a:latin typeface="Times New Roman"/>
              </a:rPr>
              <a:t>связанные с едой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Rectangle 4"/>
          <p:cNvSpPr/>
          <p:nvPr/>
        </p:nvSpPr>
        <p:spPr>
          <a:xfrm flipV="1" rot="10800000">
            <a:off x="3058920" y="1555200"/>
            <a:ext cx="27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Apple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55640" y="1989720"/>
            <a:ext cx="83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of (someone’s) eye –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чья-либо ра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pie order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идеальный 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 easy as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pi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очень лег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bad/rotten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– плохо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ompar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s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and oranges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– сравнивать несравн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olish th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- льст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upset th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ppl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art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разрушить пл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вапролд"/>
          <p:cNvPicPr/>
          <p:nvPr/>
        </p:nvPicPr>
        <p:blipFill>
          <a:blip r:embed="rId1"/>
          <a:stretch/>
        </p:blipFill>
        <p:spPr>
          <a:xfrm>
            <a:off x="3635280" y="5157720"/>
            <a:ext cx="1681200" cy="1062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385776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33cc"/>
                </a:solidFill>
                <a:uFillTx/>
                <a:latin typeface="Times New Roman"/>
              </a:rPr>
              <a:t>Что такое идиома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993080" cy="4824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Times New Roman"/>
              </a:rPr>
              <a:t>Это устойчивое выражение,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Times New Roman"/>
              </a:rPr>
              <a:t>имеющее  самостоятельное значение, обычно не совпадающее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Times New Roman"/>
              </a:rPr>
              <a:t>с дословным переводом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4" descr="вопрос"/>
          <p:cNvPicPr/>
          <p:nvPr/>
        </p:nvPicPr>
        <p:blipFill>
          <a:blip r:embed="rId1"/>
          <a:stretch/>
        </p:blipFill>
        <p:spPr>
          <a:xfrm>
            <a:off x="3843360" y="1413000"/>
            <a:ext cx="115740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354840" y="619920"/>
            <a:ext cx="26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Bean Idioms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05nil032i"/>
          <p:cNvPicPr/>
          <p:nvPr/>
        </p:nvPicPr>
        <p:blipFill>
          <a:blip r:embed="rId1"/>
          <a:stretch/>
        </p:blipFill>
        <p:spPr>
          <a:xfrm>
            <a:off x="3780000" y="4941720"/>
            <a:ext cx="1590480" cy="1186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5"/>
          <p:cNvSpPr/>
          <p:nvPr/>
        </p:nvSpPr>
        <p:spPr>
          <a:xfrm>
            <a:off x="826920" y="180360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full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ean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живой, энерг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t know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eans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about (someone or something)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е знать нич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t worth a hill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eans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– ничего не стоя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pill th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ean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выдать секрет, проболт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 like as two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ea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охожи, как две капли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236760" y="7642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Bread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апрол"/>
          <p:cNvPicPr/>
          <p:nvPr/>
        </p:nvPicPr>
        <p:blipFill>
          <a:blip r:embed="rId1"/>
          <a:stretch/>
        </p:blipFill>
        <p:spPr>
          <a:xfrm>
            <a:off x="3708360" y="4437000"/>
            <a:ext cx="1604880" cy="1203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900000" y="1965240"/>
            <a:ext cx="75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 warm as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oast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теплый и ую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read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nd butter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(зарабатывать) на 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bread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nd water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скудная 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al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a loaf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is better than non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лучше половина, чем нич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3293280" y="619920"/>
            <a:ext cx="26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Cake Idioms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971640" y="1692720"/>
            <a:ext cx="756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ave one's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cak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and eat it too –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совмещать несовмест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icing on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cak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то что делает ситуацию еще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iece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cak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легк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slice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cak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доля,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tak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cak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ревзойти всех, получить п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п"/>
          <p:cNvPicPr/>
          <p:nvPr/>
        </p:nvPicPr>
        <p:blipFill>
          <a:blip r:embed="rId1"/>
          <a:stretch/>
        </p:blipFill>
        <p:spPr>
          <a:xfrm>
            <a:off x="3708360" y="5157720"/>
            <a:ext cx="148428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152160" y="6199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Egg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900000" y="131616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ad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лохой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good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хороший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have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on one’s face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быть смущ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ut all one's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s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in one basket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рисковать вс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walk on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eggs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быть очень осторож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you can't make an omelette without breaking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the eggs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невозможно что-то сделать без послед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NA01130_"/>
          <p:cNvPicPr/>
          <p:nvPr/>
        </p:nvPicPr>
        <p:blipFill>
          <a:blip r:embed="rId1"/>
          <a:stretch/>
        </p:blipFill>
        <p:spPr>
          <a:xfrm>
            <a:off x="3708360" y="4508640"/>
            <a:ext cx="1714680" cy="1282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3178440" y="619920"/>
            <a:ext cx="23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Pie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900000" y="1655640"/>
            <a:ext cx="82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 easy as appl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ie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– очень лег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at humble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i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роглотить оби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ave one's finger in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i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быть втянутым во что-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ie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in the sky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несбыточная ме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lice of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pie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доля,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лпр"/>
          <p:cNvPicPr/>
          <p:nvPr/>
        </p:nvPicPr>
        <p:blipFill>
          <a:blip r:embed="rId1"/>
          <a:stretch/>
        </p:blipFill>
        <p:spPr>
          <a:xfrm>
            <a:off x="3635280" y="427032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3139920" y="619920"/>
            <a:ext cx="29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Potato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900000" y="182412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ouch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малоподвижный челов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drop like a hot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отказаться, отступ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hot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злободневны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meat and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e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ростая еда, простые вк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mall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otatoes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– пустяки, мелкие люди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а"/>
          <p:cNvPicPr/>
          <p:nvPr/>
        </p:nvPicPr>
        <p:blipFill>
          <a:blip r:embed="rId1"/>
          <a:stretch/>
        </p:blipFill>
        <p:spPr>
          <a:xfrm>
            <a:off x="3635280" y="4437000"/>
            <a:ext cx="1657440" cy="123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1258920" y="5454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00"/>
                </a:solidFill>
                <a:latin typeface="Comic Sans MS"/>
              </a:rPr>
              <a:t>And Some Interesting    Idi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971640" y="2097000"/>
            <a:ext cx="45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s cool as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a cucumber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очень спокойный, невозмутим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рорр"/>
          <p:cNvPicPr/>
          <p:nvPr/>
        </p:nvPicPr>
        <p:blipFill>
          <a:blip r:embed="rId1"/>
          <a:stretch/>
        </p:blipFill>
        <p:spPr>
          <a:xfrm>
            <a:off x="6732720" y="1773360"/>
            <a:ext cx="914400" cy="1123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971640" y="3408480"/>
            <a:ext cx="46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op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banana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– хозяин по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нгш"/>
          <p:cNvPicPr/>
          <p:nvPr/>
        </p:nvPicPr>
        <p:blipFill>
          <a:blip r:embed="rId2"/>
          <a:stretch/>
        </p:blipFill>
        <p:spPr>
          <a:xfrm>
            <a:off x="6732720" y="3213000"/>
            <a:ext cx="949320" cy="1225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900000" y="50119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go/turn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beet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-re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окраснеть от сты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s_022i"/>
          <p:cNvPicPr/>
          <p:nvPr/>
        </p:nvPicPr>
        <p:blipFill>
          <a:blip r:embed="rId3"/>
          <a:stretch/>
        </p:blipFill>
        <p:spPr>
          <a:xfrm>
            <a:off x="6716880" y="4797360"/>
            <a:ext cx="9698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09:14Z</dcterms:created>
  <dc:creator>Сергей и Светлана</dc:creator>
  <dc:description/>
  <dc:language>en-US</dc:language>
  <cp:lastModifiedBy>Admin</cp:lastModifiedBy>
  <dcterms:modified xsi:type="dcterms:W3CDTF">2012-07-24T07:47:33Z</dcterms:modified>
  <cp:revision>13</cp:revision>
  <dc:subject/>
  <dc:title>Английские идиомы, связанные с темой еды</dc:title>
</cp:coreProperties>
</file>