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wmf" ContentType="image/x-wmf"/>
  <Override PartName="/ppt/media/image3.png" ContentType="image/png"/>
  <Override PartName="/ppt/media/image16.png" ContentType="image/png"/>
  <Override PartName="/ppt/media/image7.gif" ContentType="image/gif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165B-E830-411B-882C-93713D89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DC8-5A5E-4EA4-A214-5081868C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AA19-E2FC-4F10-BBD7-A8B68DFA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B94E-1AD2-4014-921B-62DA20A0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7548-B035-4730-9F21-DC8B3CF8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29B6-F9B9-4A84-AD6A-0263FF3D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A290-130B-471C-8AA5-6029DC01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9A6D-91CA-4098-9C9F-1F682102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845A-F2CF-4B90-A023-76681EED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C768-76F1-40AA-8193-D0BFF9C8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0589-9E35-4BAB-BC9B-8A25FBB5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6221-9C65-40A5-B756-CAE5DB02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0D54-6977-471C-99AB-467217A2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0724-7F66-4341-B713-FA0E6BAC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1A48-F6C5-4C1F-BD22-ECFDF8CC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2E32-CED8-4CF9-A81D-975FF33A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CEEB-C93A-4E44-BCB5-FDA8F41F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80B-61AD-4A57-822F-14BCD387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192-13AC-4FF8-A729-6F8A6B8F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3172-3C06-4249-8DC1-1D0E89E7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8313-4C45-4716-BBD3-922E07D3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784C-E1E8-4E8C-A77F-C7E288F3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895-BD0E-42B8-A941-B6B4CA67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A4E5-7CAA-40FA-8EAC-3B1F485E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244920"/>
            <a:ext cx="201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3640" y="6244920"/>
            <a:ext cx="425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31000" y="624492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581C-ED61-49CD-B15A-90ABBD702CFC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-36360" y="2409840"/>
            <a:ext cx="1008000" cy="4447440"/>
            <a:chOff x="-36360" y="2409840"/>
            <a:chExt cx="1008000" cy="4447440"/>
          </a:xfrm>
        </p:grpSpPr>
        <p:grpSp>
          <p:nvGrpSpPr>
            <p:cNvPr id="6" name="Group 8"/>
            <p:cNvGrpSpPr/>
            <p:nvPr/>
          </p:nvGrpSpPr>
          <p:grpSpPr>
            <a:xfrm>
              <a:off x="-36360" y="3481200"/>
              <a:ext cx="1008000" cy="3376080"/>
              <a:chOff x="-36360" y="3481200"/>
              <a:chExt cx="1008000" cy="3376080"/>
            </a:xfrm>
          </p:grpSpPr>
          <p:pic>
            <p:nvPicPr>
              <p:cNvPr id="7" name="Picture 9" descr="267"/>
              <p:cNvPicPr/>
              <p:nvPr/>
            </p:nvPicPr>
            <p:blipFill>
              <a:blip r:embed="rId2"/>
              <a:stretch/>
            </p:blipFill>
            <p:spPr>
              <a:xfrm>
                <a:off x="-36360" y="574020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Picture 10" descr="230"/>
              <p:cNvPicPr/>
              <p:nvPr/>
            </p:nvPicPr>
            <p:blipFill>
              <a:blip r:embed="rId3"/>
              <a:stretch/>
            </p:blipFill>
            <p:spPr>
              <a:xfrm>
                <a:off x="-36360" y="4253400"/>
                <a:ext cx="1008000" cy="11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Picture 11" descr="232"/>
              <p:cNvPicPr/>
              <p:nvPr/>
            </p:nvPicPr>
            <p:blipFill>
              <a:blip r:embed="rId4"/>
              <a:stretch/>
            </p:blipFill>
            <p:spPr>
              <a:xfrm>
                <a:off x="-36360" y="490788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12" descr="233"/>
              <p:cNvPicPr/>
              <p:nvPr/>
            </p:nvPicPr>
            <p:blipFill>
              <a:blip r:embed="rId5"/>
              <a:stretch/>
            </p:blipFill>
            <p:spPr>
              <a:xfrm>
                <a:off x="-36360" y="348120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" name="Picture 13" descr="266"/>
            <p:cNvPicPr/>
            <p:nvPr/>
          </p:nvPicPr>
          <p:blipFill>
            <a:blip r:embed="rId6"/>
            <a:stretch/>
          </p:blipFill>
          <p:spPr>
            <a:xfrm>
              <a:off x="-36360" y="2409840"/>
              <a:ext cx="1008000" cy="111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" name="Group 14"/>
          <p:cNvGrpSpPr/>
          <p:nvPr/>
        </p:nvGrpSpPr>
        <p:grpSpPr>
          <a:xfrm>
            <a:off x="0" y="0"/>
            <a:ext cx="1008000" cy="4447440"/>
            <a:chOff x="0" y="0"/>
            <a:chExt cx="1008000" cy="4447440"/>
          </a:xfrm>
        </p:grpSpPr>
        <p:grpSp>
          <p:nvGrpSpPr>
            <p:cNvPr id="13" name="Group 15"/>
            <p:cNvGrpSpPr/>
            <p:nvPr/>
          </p:nvGrpSpPr>
          <p:grpSpPr>
            <a:xfrm>
              <a:off x="0" y="1071360"/>
              <a:ext cx="1008000" cy="3376080"/>
              <a:chOff x="0" y="1071360"/>
              <a:chExt cx="1008000" cy="3376080"/>
            </a:xfrm>
          </p:grpSpPr>
          <p:pic>
            <p:nvPicPr>
              <p:cNvPr id="14" name="Picture 16" descr="267"/>
              <p:cNvPicPr/>
              <p:nvPr/>
            </p:nvPicPr>
            <p:blipFill>
              <a:blip r:embed="rId7"/>
              <a:stretch/>
            </p:blipFill>
            <p:spPr>
              <a:xfrm>
                <a:off x="0" y="333036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Picture 17" descr="230"/>
              <p:cNvPicPr/>
              <p:nvPr/>
            </p:nvPicPr>
            <p:blipFill>
              <a:blip r:embed="rId8"/>
              <a:stretch/>
            </p:blipFill>
            <p:spPr>
              <a:xfrm>
                <a:off x="0" y="1843560"/>
                <a:ext cx="1008000" cy="11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Picture 18" descr="232"/>
              <p:cNvPicPr/>
              <p:nvPr/>
            </p:nvPicPr>
            <p:blipFill>
              <a:blip r:embed="rId9"/>
              <a:stretch/>
            </p:blipFill>
            <p:spPr>
              <a:xfrm>
                <a:off x="0" y="249804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Picture 19" descr="233"/>
              <p:cNvPicPr/>
              <p:nvPr/>
            </p:nvPicPr>
            <p:blipFill>
              <a:blip r:embed="rId10"/>
              <a:stretch/>
            </p:blipFill>
            <p:spPr>
              <a:xfrm>
                <a:off x="0" y="107136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" name="Picture 20" descr="266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1008000" cy="1117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232"/>
          <p:cNvPicPr/>
          <p:nvPr/>
        </p:nvPicPr>
        <p:blipFill>
          <a:blip r:embed="rId2"/>
          <a:stretch/>
        </p:blipFill>
        <p:spPr>
          <a:xfrm rot="16634400">
            <a:off x="6833880" y="210240"/>
            <a:ext cx="2071800" cy="2071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CA0E-D417-4171-836F-35BC24D0FA6F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33cc"/>
                </a:solidFill>
                <a:uFillTx/>
                <a:latin typeface="Times New Roman"/>
              </a:rPr>
              <a:t>Английские идиомы, </a:t>
            </a:r>
            <a:br>
              <a:rPr sz="4000"/>
            </a:br>
            <a:r>
              <a:rPr b="0" i="1" lang="ru-RU" sz="4000" spc="-1" strike="noStrike" u="sng">
                <a:solidFill>
                  <a:srgbClr val="0033cc"/>
                </a:solidFill>
                <a:uFillTx/>
                <a:latin typeface="Times New Roman"/>
              </a:rPr>
              <a:t>связанные с едой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Rectangle 4"/>
          <p:cNvSpPr/>
          <p:nvPr/>
        </p:nvSpPr>
        <p:spPr>
          <a:xfrm flipV="1" rot="10800000">
            <a:off x="3058920" y="1555200"/>
            <a:ext cx="27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Apple Idi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755640" y="1989720"/>
            <a:ext cx="838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ppl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of (someone’s) eye –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чья-либо рад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ppl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pie order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идеальный 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s easy as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ppl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pi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очень лег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bad/rotten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ppl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– плохой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compare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pples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and oranges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– сравнивать несравн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polish the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ppl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- льст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upset the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ppl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cart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разрушить пл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вапролд"/>
          <p:cNvPicPr/>
          <p:nvPr/>
        </p:nvPicPr>
        <p:blipFill>
          <a:blip r:embed="rId1"/>
          <a:stretch/>
        </p:blipFill>
        <p:spPr>
          <a:xfrm>
            <a:off x="3635280" y="5157720"/>
            <a:ext cx="1681200" cy="1062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7"/>
          <p:cNvSpPr/>
          <p:nvPr/>
        </p:nvSpPr>
        <p:spPr>
          <a:xfrm>
            <a:off x="3857760" y="6429240"/>
            <a:ext cx="221436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33cc"/>
                </a:solidFill>
                <a:uFillTx/>
                <a:latin typeface="Times New Roman"/>
              </a:rPr>
              <a:t>Что такое идиома?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993080" cy="4824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Times New Roman"/>
              </a:rPr>
              <a:t>Это устойчивое выражение,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Times New Roman"/>
              </a:rPr>
              <a:t>имеющее  самостоятельное значение, обычно не совпадающее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Times New Roman"/>
              </a:rPr>
              <a:t>с дословным переводом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4" descr="вопрос"/>
          <p:cNvPicPr/>
          <p:nvPr/>
        </p:nvPicPr>
        <p:blipFill>
          <a:blip r:embed="rId1"/>
          <a:stretch/>
        </p:blipFill>
        <p:spPr>
          <a:xfrm>
            <a:off x="3843360" y="1413000"/>
            <a:ext cx="1157400" cy="151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354840" y="619920"/>
            <a:ext cx="263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Bean Idioms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05nil032i"/>
          <p:cNvPicPr/>
          <p:nvPr/>
        </p:nvPicPr>
        <p:blipFill>
          <a:blip r:embed="rId1"/>
          <a:stretch/>
        </p:blipFill>
        <p:spPr>
          <a:xfrm>
            <a:off x="3780000" y="4941720"/>
            <a:ext cx="1590480" cy="11862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5"/>
          <p:cNvSpPr/>
          <p:nvPr/>
        </p:nvSpPr>
        <p:spPr>
          <a:xfrm>
            <a:off x="826920" y="180360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full of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beans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живой, энерги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t know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beans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about (someone or something)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не знать нич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t worth a hill of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beans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– ничего не стоя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pill the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beans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выдать секрет, проболт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s like as two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eas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похожи, как две капли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236760" y="76428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Bread Idi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апрол"/>
          <p:cNvPicPr/>
          <p:nvPr/>
        </p:nvPicPr>
        <p:blipFill>
          <a:blip r:embed="rId1"/>
          <a:stretch/>
        </p:blipFill>
        <p:spPr>
          <a:xfrm>
            <a:off x="3708360" y="4437000"/>
            <a:ext cx="1604880" cy="12034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900000" y="1965240"/>
            <a:ext cx="755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s warm as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toast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теплый и ую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bread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nd butter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(зарабатывать) на хле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bread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nd water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скудная 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half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 loaf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is better than non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лучше половина, чем нич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3293280" y="619920"/>
            <a:ext cx="26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Cake Idioms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971640" y="1692720"/>
            <a:ext cx="756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have one's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cak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and eat it too –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совмещать несовмест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icing on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the cak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то что делает ситуацию еще луч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piece of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cak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легко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slice of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the cak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доля,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take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the cak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превзойти всех, получить пр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п"/>
          <p:cNvPicPr/>
          <p:nvPr/>
        </p:nvPicPr>
        <p:blipFill>
          <a:blip r:embed="rId1"/>
          <a:stretch/>
        </p:blipFill>
        <p:spPr>
          <a:xfrm>
            <a:off x="3708360" y="5157720"/>
            <a:ext cx="1484280" cy="125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3152160" y="61992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Egg Idi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900000" y="131616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bad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egg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лохой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good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egg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хороший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have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egg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on one’s face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быть смуще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put all one's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eggs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in one basket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рисковать вс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walk on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eggs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быть очень осторож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you can't make an omelette without breaking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the eggs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невозможно что-то сделать без послед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NA01130_"/>
          <p:cNvPicPr/>
          <p:nvPr/>
        </p:nvPicPr>
        <p:blipFill>
          <a:blip r:embed="rId1"/>
          <a:stretch/>
        </p:blipFill>
        <p:spPr>
          <a:xfrm>
            <a:off x="3708360" y="4508640"/>
            <a:ext cx="1714680" cy="1282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3178440" y="619920"/>
            <a:ext cx="236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Pie Idi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900000" y="1655640"/>
            <a:ext cx="82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s easy as apple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ie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– очень лег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eat humble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i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проглотить оби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have one's finger in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th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i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быть втянутым во что-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i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in the sky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несбыточная меч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lice of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the pi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доля,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лпр"/>
          <p:cNvPicPr/>
          <p:nvPr/>
        </p:nvPicPr>
        <p:blipFill>
          <a:blip r:embed="rId1"/>
          <a:stretch/>
        </p:blipFill>
        <p:spPr>
          <a:xfrm>
            <a:off x="3635280" y="4270320"/>
            <a:ext cx="165744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3139920" y="619920"/>
            <a:ext cx="29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Potato Idi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900000" y="182412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couch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otato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малоподвижный челов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drop like a hot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otato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отказаться, отступ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hot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otato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злободневный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meat and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otatoes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простая еда, простые вк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mall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otatoes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пустяки, мелкие люди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а"/>
          <p:cNvPicPr/>
          <p:nvPr/>
        </p:nvPicPr>
        <p:blipFill>
          <a:blip r:embed="rId1"/>
          <a:stretch/>
        </p:blipFill>
        <p:spPr>
          <a:xfrm>
            <a:off x="3635280" y="4437000"/>
            <a:ext cx="1657440" cy="1236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1258920" y="5454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3300"/>
                </a:solidFill>
                <a:latin typeface="Comic Sans MS"/>
              </a:rPr>
              <a:t>And Some Interesting    Idi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971640" y="2097000"/>
            <a:ext cx="45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s cool as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a cucumber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очень спокойный, невозмутим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рорр"/>
          <p:cNvPicPr/>
          <p:nvPr/>
        </p:nvPicPr>
        <p:blipFill>
          <a:blip r:embed="rId1"/>
          <a:stretch/>
        </p:blipFill>
        <p:spPr>
          <a:xfrm>
            <a:off x="6732720" y="1773360"/>
            <a:ext cx="914400" cy="11239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971640" y="3408480"/>
            <a:ext cx="46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top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banana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хозяин по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нгш"/>
          <p:cNvPicPr/>
          <p:nvPr/>
        </p:nvPicPr>
        <p:blipFill>
          <a:blip r:embed="rId2"/>
          <a:stretch/>
        </p:blipFill>
        <p:spPr>
          <a:xfrm>
            <a:off x="6732720" y="3213000"/>
            <a:ext cx="949320" cy="12258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900000" y="501192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go/turn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beet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-re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окраснеть от сты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s_022i"/>
          <p:cNvPicPr/>
          <p:nvPr/>
        </p:nvPicPr>
        <p:blipFill>
          <a:blip r:embed="rId3"/>
          <a:stretch/>
        </p:blipFill>
        <p:spPr>
          <a:xfrm>
            <a:off x="6716880" y="4797360"/>
            <a:ext cx="96984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09:14Z</dcterms:created>
  <dc:creator>Сергей и Светлана</dc:creator>
  <dc:description/>
  <dc:language>en-US</dc:language>
  <cp:lastModifiedBy>Admin</cp:lastModifiedBy>
  <dcterms:modified xsi:type="dcterms:W3CDTF">2012-07-24T07:47:33Z</dcterms:modified>
  <cp:revision>13</cp:revision>
  <dc:subject/>
  <dc:title>Английские идиомы, связанные с темой еды</dc:title>
</cp:coreProperties>
</file>