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912-283B-4B64-97BE-EE4AB0F9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AC7-428D-4795-A7A0-E3CD84C2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413-B192-49E7-92A6-17CBD590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9FD-45A1-4EE0-AE46-C3CF6AD2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8F1-91BE-43A9-808C-C878F8D8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463-1C35-4E6A-8E2D-B5DEEC17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083-1D2A-4AFE-AA7C-44D3AF7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A40-E148-4B16-B5C3-F2890A8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65C-1C45-49AF-A6B4-F7EA0FB3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49C-1241-43AF-9673-E5045E6E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66F-0841-486F-829B-66F114D0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E9A-CCB7-49E2-813F-77026D7E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46B9-D68F-416A-863E-EC661B22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86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comic"/>
              </a:rPr>
              <a:t>А</a:t>
            </a:r>
            <a:r>
              <a:rPr b="1" lang="en-US" sz="7200" spc="-1" strike="noStrike">
                <a:solidFill>
                  <a:srgbClr val="000000"/>
                </a:solidFill>
                <a:latin typeface="comic"/>
              </a:rPr>
              <a:t>ЛКОГОЛИЗ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4895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оциальные проявления алкогол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менение круга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ество отвергает наркоманов и боится 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интересно и ненужно общ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я "ты мне - я тебе", манипуляции, обм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оля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я социальных навы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кружающий мир воспринимается враждеб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я друзей, довер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рушение отношений в сем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я работы, уче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ступ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fornian FB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роявления алкоголизма на психологическом уровн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ннельное видение - все мысли прямо или косвенно сконцентрированы на употребл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бирательная память - помнится хорошее, плохое забы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ачущее эмоциональное состояние - от бесчувствия к крайне интенсивным чувств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вязчивое желание употреб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алы, ухудшение памя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ушевные страдания при отсутствии нарко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ицание проблем, связанных с употреблением, самой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ушена причинно следственная связ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пособность адекватно воспринимать реа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жь - даже там, где проще сказать прав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уховные последствия алкоголиз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оразруш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ысли или попытки суиц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еря интереса к жиз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гоцентр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нев на Б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еря нравственных ценностей, деградация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оуничиж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Niagara Solid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Niagara Solid"/>
              </a:rPr>
              <a:t>ногочисленными исследованиями установлено: 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000099"/>
                </a:solidFill>
                <a:latin typeface="Niagara Solid"/>
              </a:rPr>
              <a:t>в организме нет ни одного органа или ткани, ни одной системы, на которую бы не действовал разрушающим образом алкого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еди разнообразных токсических веществ, оказывающих отрицательное воздействие на будущее потомство, алкоголь является одним из опаснейших. </a:t>
            </a:r>
            <a:br>
              <a:rPr sz="24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ти пьяниц и алкоголиков часто рождаются с уродствами: расщеплением верхней губы («заячья губа»), незаращением верхнего неба («волчья пасть»), пороками сердца, недоразвитием конечностей и изменениями в других органах. Ребенок, родившийся без внешних дефектов, может  отставать в физическом развитии, часто болеть. С момента рождения он беспокоен, поздно начинает ходить, говорить. У таки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ей особенно страдает психик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правило, они очень капризны, непослушны. Имеют слабую память, быстро утомляются, отличаются неуравновешенностью и драчливостью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собо тяжелых случаях могут родиться  дети - иди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24000" y="4797360"/>
            <a:ext cx="5112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г. Пенз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ул. Лермонтова, 2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тел. 52-56-90, 52-56-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0403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07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489800" cy="508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5660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 Gothic"/>
              </a:rPr>
              <a:t>Не теряй себя как личность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Poor Richard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лкоголизм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– хроническое, прогрессирующее заболевание, затрагивающее и разрушающе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все сферы человеческой жизни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тело, психику, душу и социальную жизнь челове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empus Sans ITC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еизлечим алкоголизм в том плане, что человек, потерявший однажды контроль над употреблением алкоголя, никогда уже этот контроль не обретет. Насколько бы не был долог срок воздержания от алкоголя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empus Sans ITC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оответственно лечение алкоголизма заключается в том, чтобы человек научился жить вообще не употребляя через изменения  био-психо-социо-духовных аспектов лич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оциальные предпосылки развития алкогол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потребление химических веществ (алкоголь, табак) - традиционно и легально. Употребление - социальная норма, не нормально не употребл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лная семья, нездоровая атмосфера в семье (даже в пол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ые переез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висимость в сем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упность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клама - не только прямая реклама алкогольных напитков, но и косвенная, например реклама обезболивающих - таблетка от б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сутствие четких жизненных ориентиров, разорванные поко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т позитивного взрослого - здоровой модели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сихологические предпосылки к развитию алкогол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изкая или, наоборот, завышенная самооц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ожности в общ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сихологические комплек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умение справляться со своими чув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сокий уровень внутреннего напряжения, длительный стрес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лонность к рискованным ситуац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fornian FB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редпосылки к алкоголизму н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духовном уровн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кларируется одно - в реальности другое. "Двойной стандарт", как следствие нравственная дезориентация. Позиция взрослых по отношению к ребенку "вот вырастешь, поступишь на работу... и так далее" - вот тогда начнется жизнь. Нет жизни в настоящ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щущение бессмысленности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ие контакта с Высшей Сил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ажение образа Высшей Си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т своего места в мире, потерян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уховная пуст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у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8:27:52Z</dcterms:created>
  <dc:creator>Home</dc:creator>
  <dc:description/>
  <dc:language>en-US</dc:language>
  <cp:lastModifiedBy>Home</cp:lastModifiedBy>
  <dcterms:modified xsi:type="dcterms:W3CDTF">2005-11-11T13:36:00Z</dcterms:modified>
  <cp:revision>14</cp:revision>
  <dc:subject/>
  <dc:title>АЛКОГОЛИЗМ</dc:title>
</cp:coreProperties>
</file>