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C5FE-8409-45D5-959C-9B30779A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8022-655A-4924-A533-84A13B96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864C-D833-487E-AEA6-4B9B730A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45F1-6985-493B-BC01-EFC8494E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BB63-A79A-4CCE-9FD1-DE03469D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410C-B693-4197-B049-7CF99841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1D49-9959-4B30-BFEE-F64564CC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E018-A612-456B-9B27-B6081EF3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A4FE-D154-421B-B273-23969AD6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ECDF-EE6C-43C7-9BA5-93187C05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A2E0-B4F8-4B7C-B34A-DFE77ACB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C6A3-A6F6-4C3E-A26B-FEB27FA5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D0D0-B1FB-40AD-A939-D44B02FDE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86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600" spc="-1" strike="noStrike">
                <a:solidFill>
                  <a:srgbClr val="000000"/>
                </a:solidFill>
                <a:latin typeface="comic"/>
              </a:rPr>
              <a:t>А</a:t>
            </a:r>
            <a:r>
              <a:rPr b="1" lang="en-US" sz="7200" spc="-1" strike="noStrike">
                <a:solidFill>
                  <a:srgbClr val="000000"/>
                </a:solidFill>
                <a:latin typeface="comic"/>
              </a:rPr>
              <a:t>ЛКОГОЛИЗ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195640" y="549360"/>
            <a:ext cx="489564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fornian FB"/>
              </a:rPr>
              <a:t>С</a:t>
            </a: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оциальные проявления алкоголизм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менение круга общ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щество отвергает наркоманов и боится 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интересно и ненужно обще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ношения "ты мне - я тебе", манипуляции, обм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оляц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теря социальных навы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кружающий мир воспринимается враждеб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теря друзей, довер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рушение отношений в семь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теря работы, учеб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ступ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fornian FB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роявления алкоголизма на психологическом уровн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оннельное видение - все мысли прямо или косвенно сконцентрированы на употребл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бирательная память - помнится хорошее, плохое забыв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качущее эмоциональное состояние - от бесчувствия к крайне интенсивным чувств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вязчивое желание употреб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валы, ухудшение памя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ушевные страдания при отсутствии наркот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рицание проблем, связанных с употреблением, самой боле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рушена причинно следственная связ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способность адекватно воспринимать реаль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ожь - даже там, где проще сказать прав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fornian FB"/>
              </a:rPr>
              <a:t>Д</a:t>
            </a:r>
            <a:r>
              <a:rPr b="1" lang="en-US" sz="3600" spc="-1" strike="noStrike">
                <a:solidFill>
                  <a:srgbClr val="000000"/>
                </a:solidFill>
                <a:latin typeface="Californian FB"/>
              </a:rPr>
              <a:t>уховные последствия алкоголизм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аморазруш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ысли или попытки суици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теря интереса к жиз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гоцентриз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нев на Бо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теря нравственных ценностей, деградация лич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амоуничижени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Niagara Solid"/>
              </a:rPr>
              <a:t>М</a:t>
            </a:r>
            <a:r>
              <a:rPr b="0" lang="en-US" sz="2800" spc="-1" strike="noStrike">
                <a:solidFill>
                  <a:srgbClr val="000000"/>
                </a:solidFill>
                <a:latin typeface="Niagara Solid"/>
              </a:rPr>
              <a:t>ногочисленными исследованиями установлено: </a:t>
            </a:r>
            <a:br>
              <a:rPr sz="2800"/>
            </a:br>
            <a:br>
              <a:rPr sz="2800"/>
            </a:br>
            <a:r>
              <a:rPr b="1" lang="en-US" sz="4400" spc="-1" strike="noStrike">
                <a:solidFill>
                  <a:srgbClr val="000099"/>
                </a:solidFill>
                <a:latin typeface="Niagara Solid"/>
              </a:rPr>
              <a:t>в организме нет ни одного органа или ткани, ни одной системы, на которую бы не действовал разрушающим образом алкого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реди разнообразных токсических веществ, оказывающих отрицательное воздействие на будущее потомство, алкоголь является одним из опаснейших. </a:t>
            </a:r>
            <a:br>
              <a:rPr sz="24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ти пьяниц и алкоголиков часто рождаются с уродствами: расщеплением верхней губы («заячья губа»), незаращением верхнего неба («волчья пасть»), пороками сердца, недоразвитием конечностей и изменениями в других органах. Ребенок, родившийся без внешних дефектов, может  отставать в физическом развитии, часто болеть. С момента рождения он беспокоен, поздно начинает ходить, говорить. У таких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тей особенно страдает психика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 правило, они очень капризны, непослушны. Имеют слабую память, быстро утомляются, отличаются неуравновешенностью и драчливостью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особо тяжелых случаях могут родиться  дети - иди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24000" y="4797360"/>
            <a:ext cx="5112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г. Пенза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ул. Лермонтова, 28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тел. 52-56-90, 52-56-7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124000" y="404640"/>
            <a:ext cx="504036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07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489800" cy="5087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5660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entury Gothic"/>
              </a:rPr>
              <a:t>Не теряй себя как личность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Poor Richard"/>
              </a:rPr>
              <a:t>А</a:t>
            </a:r>
            <a:r>
              <a:rPr b="1" lang="en-US" sz="4000" spc="-1" strike="noStrike">
                <a:solidFill>
                  <a:srgbClr val="000000"/>
                </a:solidFill>
                <a:latin typeface="Poor Richard"/>
              </a:rPr>
              <a:t>лкоголизм</a:t>
            </a: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 – хроническое, прогрессирующее заболевание, затрагивающее и разрушающее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все сферы человеческой жизни –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тело, психику, душу и социальную жизнь человека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empus Sans ITC"/>
              </a:rPr>
              <a:t>Н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еизлечим алкоголизм в том плане, что человек, потерявший однажды контроль над употреблением алкоголя, никогда уже этот контроль не обретет. Насколько бы не был долог срок воздержания от алкоголя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empus Sans ITC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оответственно лечение алкоголизма заключается в том, чтобы человек научился жить вообще не употребляя через изменения  био-психо-социо-духовных аспектов личност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583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642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fornian FB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Californian FB"/>
              </a:rPr>
              <a:t>оциальные предпосылки развития алкоголизм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потребление химических веществ (алкоголь, табак) - традиционно и легально. Употребление - социальная норма, не нормально не употребля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полная семья, нездоровая атмосфера в семье (даже в полно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астые переез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висимость в сем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ступность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клама - не только прямая реклама алкогольных напитков, но и косвенная, например реклама обезболивающих - таблетка от бо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сутствие четких жизненных ориентиров, разорванные поко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т позитивного взрослого - здоровой модели пове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fornian FB"/>
              </a:rPr>
              <a:t>П</a:t>
            </a:r>
            <a:r>
              <a:rPr b="1" lang="en-US" sz="3600" spc="-1" strike="noStrike">
                <a:solidFill>
                  <a:srgbClr val="000000"/>
                </a:solidFill>
                <a:latin typeface="Californian FB"/>
              </a:rPr>
              <a:t>сихологические предпосылки к развитию алкоголизм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изкая или, наоборот, завышенная самооце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ложности в общ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сихологические комплекс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умение справляться со своими чувств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ысокий уровень внутреннего напряжения, длительный стрес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клонность к рискованным ситуаци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fornian FB"/>
              </a:rPr>
              <a:t>П</a:t>
            </a: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редпосылки к алкоголизму на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fornian FB"/>
              </a:rPr>
              <a:t>духовном уровн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кларируется одно - в реальности другое. "Двойной стандарт", как следствие нравственная дезориентация. Позиция взрослых по отношению к ребенку "вот вырастешь, поступишь на работу... и так далее" - вот тогда начнется жизнь. Нет жизни в настоящ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щущение бессмысленности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сутствие контакта с Высшей Сил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кажение образа Высшей Си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т своего места в мире, потерян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уховная пусто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ку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79640" y="0"/>
            <a:ext cx="532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1T08:27:52Z</dcterms:created>
  <dc:creator>Home</dc:creator>
  <dc:description/>
  <dc:language>en-US</dc:language>
  <cp:lastModifiedBy>Home</cp:lastModifiedBy>
  <dcterms:modified xsi:type="dcterms:W3CDTF">2005-11-11T13:36:00Z</dcterms:modified>
  <cp:revision>14</cp:revision>
  <dc:subject/>
  <dc:title>АЛКОГОЛИЗМ</dc:title>
</cp:coreProperties>
</file>