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5C0-805C-4998-B04A-5AF05903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FEAD-EFEA-43EA-9424-6B88BFA4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EBC-53EC-4A62-AD3C-39A19BC1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5C9-0732-494B-A6C2-68E0A74D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B8E7-D1DC-4BB2-9FDE-C3FC56F5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A50-87C5-45C9-BCB5-40FB5562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57CC-434A-45F7-91F4-861576C0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E11-6DF0-408E-AC46-8D3546B9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4925-9DC5-4EAB-8D45-643D14F4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BE62-314E-452B-A4D7-14310D0B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81E7-168B-4A8E-B55A-6797B70C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8DF-409E-46BA-9105-7F91BA4C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DB01-F3CB-424F-9D20-1FEAD2878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86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>
                <a:solidFill>
                  <a:srgbClr val="000000"/>
                </a:solidFill>
                <a:latin typeface="comic"/>
              </a:rPr>
              <a:t>А</a:t>
            </a:r>
            <a:r>
              <a:rPr b="1" lang="en-US" sz="7200" spc="-1" strike="noStrike">
                <a:solidFill>
                  <a:srgbClr val="000000"/>
                </a:solidFill>
                <a:latin typeface="comic"/>
              </a:rPr>
              <a:t>ЛКОГОЛИЗ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95640" y="549360"/>
            <a:ext cx="489564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оциальные проявления алкоголиз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менение круга об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щество отвергает наркоманов и боится 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интересно и ненужно обще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ношения "ты мне - я тебе", манипуляции, обм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оля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теря социальных навы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кружающий мир воспринимается враждеб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теря друзей, довер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рушение отношений в семь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теря работы, уче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ступ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fornian FB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роявления алкоголизма на психологическом уровн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ннельное видение - все мысли прямо или косвенно сконцентрированы на употребл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бирательная память - помнится хорошее, плохое забыв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качущее эмоциональное состояние - от бесчувствия к крайне интенсивным чувств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вязчивое желание употреб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валы, ухудшение памя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ушевные страдания при отсутствии наркот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рицание проблем, связанных с употреблением, самой боле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рушена причинно следственная связ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способность адекватно воспринимать реа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ожь - даже там, где проще сказать прав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Д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уховные последствия алкоголизм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моразруш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ысли или попытки суици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теря интереса к жиз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гоцентр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нев на Бо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теря нравственных ценностей, деградация лич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моуничижени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Niagara Solid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Niagara Solid"/>
              </a:rPr>
              <a:t>ногочисленными исследованиями установлено: </a:t>
            </a:r>
            <a:br>
              <a:rPr sz="2800"/>
            </a:br>
            <a:br>
              <a:rPr sz="2800"/>
            </a:br>
            <a:r>
              <a:rPr b="1" lang="en-US" sz="4400" spc="-1" strike="noStrike">
                <a:solidFill>
                  <a:srgbClr val="000099"/>
                </a:solidFill>
                <a:latin typeface="Niagara Solid"/>
              </a:rPr>
              <a:t>в организме нет ни одного органа или ткани, ни одной системы, на которую бы не действовал разрушающим образом алкого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реди разнообразных токсических веществ, оказывающих отрицательное воздействие на будущее потомство, алкоголь является одним из опаснейших. </a:t>
            </a:r>
            <a:br>
              <a:rPr sz="24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ти пьяниц и алкоголиков часто рождаются с уродствами: расщеплением верхней губы («заячья губа»), незаращением верхнего неба («волчья пасть»), пороками сердца, недоразвитием конечностей и изменениями в других органах. Ребенок, родившийся без внешних дефектов, может  отставать в физическом развитии, часто болеть. С момента рождения он беспокоен, поздно начинает ходить, говорить. У таки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тей особенно страдает психика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 правило, они очень капризны, непослушны. Имеют слабую память, быстро утомляются, отличаются неуравновешенностью и драчливостью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особо тяжелых случаях могут родиться  дети - иди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24000" y="4797360"/>
            <a:ext cx="5112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г. Пенз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ул. Лермонтова, 2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тел. 52-56-90, 52-56-7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124000" y="404640"/>
            <a:ext cx="504036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07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489800" cy="5087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5660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 Gothic"/>
              </a:rPr>
              <a:t>Не теряй себя как личность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Poor Richard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Poor Richard"/>
              </a:rPr>
              <a:t>лкоголизм</a:t>
            </a: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 – хроническое, прогрессирующее заболевание, затрагивающее и разрушающее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все сферы человеческой жизни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тело, психику, душу и социальную жизнь человека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empus Sans ITC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еизлечим алкоголизм в том плане, что человек, потерявший однажды контроль над употреблением алкоголя, никогда уже этот контроль не обретет. Насколько бы не был долог срок воздержания от алкоголя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empus Sans ITC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оответственно лечение алкоголизма заключается в том, чтобы человек научился жить вообще не употребляя через изменения  био-психо-социо-духовных аспектов личност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58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642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оциальные предпосылки развития алкоголиз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потребление химических веществ (алкоголь, табак) - традиционно и легально. Употребление - социальная норма, не нормально не употребля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полная семья, нездоровая атмосфера в семье (даже в полно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астые переез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висимость в сем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ступность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клама - не только прямая реклама алкогольных напитков, но и косвенная, например реклама обезболивающих - таблетка от бо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сутствие четких жизненных ориентиров, разорванные поко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т позитивного взрослого - здоровой модели по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П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сихологические предпосылки к развитию алкоголиз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изкая или, наоборот, завышенная самооц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ложности в общ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сихологические комплекс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умение справляться со своими чувств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сокий уровень внутреннего напряжения, длительный стрес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лонность к рискованным ситуаци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fornian FB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редпосылки к алкоголизму на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духовном уровн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кларируется одно - в реальности другое. "Двойной стандарт", как следствие нравственная дезориентация. Позиция взрослых по отношению к ребенку "вот вырастешь, поступишь на работу... и так далее" - вот тогда начнется жизнь. Нет жизни в настоящ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щущение бессмысленности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сутствие контакта с Высшей Сил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кажение образа Высшей Си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т своего места в мире, потерян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уховная пуст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ку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79640" y="0"/>
            <a:ext cx="532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08:27:52Z</dcterms:created>
  <dc:creator>Home</dc:creator>
  <dc:description/>
  <dc:language>en-US</dc:language>
  <cp:lastModifiedBy>Home</cp:lastModifiedBy>
  <dcterms:modified xsi:type="dcterms:W3CDTF">2005-11-11T13:36:00Z</dcterms:modified>
  <cp:revision>14</cp:revision>
  <dc:subject/>
  <dc:title>АЛКОГОЛИЗМ</dc:title>
</cp:coreProperties>
</file>