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6210-FC8C-4126-AB62-3F43A890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A6F-3639-4AFE-8389-D205AFBA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02B0-FDA0-4CDD-A97F-F6633D17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E435-4A31-47E0-8EB5-04FF6B02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973-1A4A-4304-A2D9-5CBC8DEC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6D1-226E-4910-AA3B-EAE0CDE6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86E4-1810-4069-AFDD-0E597D5D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7169-75B3-4BB1-8066-4E806D9A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82CB-1321-4DB9-B7BD-34DB17C5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560C-6121-475C-8F83-0B3A9CA2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8E9B-5716-4021-9B5C-F5D52860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447-D33D-4C36-953F-A8A14812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D61B-C9EC-4595-8E2A-0849AF0AC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"/>
              </a:rPr>
              <a:t>«</a:t>
            </a:r>
            <a:r>
              <a:rPr b="0" lang="en-US" sz="4800" spc="-1" strike="noStrike">
                <a:solidFill>
                  <a:srgbClr val="333300"/>
                </a:solidFill>
                <a:latin typeface="Arial"/>
              </a:rPr>
              <a:t>Звучит  романса звук прелестный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384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БЛ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«Все – музыка и свет: нет счастья, нет измен…  мелодией одной звучит тоска и радость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ГОГО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«Если музыка  нас оставит, что тогда будет с нашим миром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БЛОК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«Нет, музыка нас  не покинет… все кончается, только музыка не умирает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87760" y="3245760"/>
            <a:ext cx="37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286092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Жанр «РОМАНСА» напрямую возник благодаря литера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ак как  в средневековых западноевропейских литературах и в подражательной поэзии позднейших поэтов романсом называли лирическое любовное стихотворение песенного народного скла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4149720"/>
            <a:ext cx="3816360" cy="2049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3744720" cy="2187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0" y="4581360"/>
            <a:ext cx="42480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А в испанской литературе романсом называли старинное стихотворение с историческим или эпическим сюж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oper Black"/>
              </a:rPr>
              <a:t>Эти факты не маловажны, потому что РОМАНС – испанское слово, в переводе значащее «на испанском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зже, романсом стали называть небольшое вокальное произведение для 1-го или 2-х голосов на слова какого-нибудь стихотворения с  инструментальным аккомпанемен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2952720" cy="2587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564000" y="3573360"/>
            <a:ext cx="3240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Романс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68000" y="1341360"/>
            <a:ext cx="3743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о времена правления Петра 1  были введены новые правила, касаемые культурного досуга дворянского сословия. Обязательным стало домашнее музыкальное образование, что привело к созданию так называемых «музыкальных салон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236000" y="1197000"/>
            <a:ext cx="1728720" cy="2373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12000" y="3645000"/>
            <a:ext cx="2952720" cy="2552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79280" y="1773360"/>
            <a:ext cx="2448000" cy="47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4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44956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Со становлением русской музыкальной профессиональной школой в лице М.Глинки, П.Чайковского и других композиторов, романс превратился  в  изюминку вокальной музыки, в шедевр слияния двух искус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3280" y="476280"/>
            <a:ext cx="4105440" cy="3529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508720" y="3068640"/>
            <a:ext cx="2735280" cy="345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7236000" y="620640"/>
            <a:ext cx="13903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М.И.Глинка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300720" y="6165720"/>
            <a:ext cx="18763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66ff33"/>
                </a:solidFill>
                <a:latin typeface="Arial"/>
              </a:rPr>
              <a:t>П.И.Чайковский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solidFill>
                <a:srgbClr val="66ff3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«Я помню чудное мгновенье…»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М.И.Глинка, А.С.Пушк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028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то стихотворение Пушкин посвятил Екатерине Ермолаевне Керн. Этот романс – вершина русской вокальной лирики 19 века. Художественное совершенство в полном слиянии музыкального языка с поэтическим. 3 раздела – 3 поворота сюжета (встреча, разлука, надежда на новую встречу); и каждый из разделов точно соттветствует настроению стих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619280" y="3789360"/>
            <a:ext cx="2808360" cy="3068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500720" y="3789360"/>
            <a:ext cx="3024000" cy="3068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824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Романс принято относить к камерной вокальной музыке,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мер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узыка предназначена для небольшого количества слушателей и исполнителей (от лат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r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омна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манс, как откровение героя, о котором не «кричат на весь мир», а делятся в доверительной беседе с близкими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Задание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Попробуйте дать свою формулировку жанра «роман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1:58:10Z</dcterms:created>
  <dc:creator>teacher</dc:creator>
  <dc:description/>
  <dc:language>en-US</dc:language>
  <cp:lastModifiedBy>user</cp:lastModifiedBy>
  <dcterms:modified xsi:type="dcterms:W3CDTF">2006-10-31T12:37:44Z</dcterms:modified>
  <cp:revision>22</cp:revision>
  <dc:subject/>
  <dc:title>Слайд 1</dc:title>
</cp:coreProperties>
</file>