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090-2B59-4646-A70F-CD53E27E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15E-546E-4B93-B527-F060D1B1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C4D-214A-45E8-9387-3C03A540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F70-B5A1-4BA6-AED2-456EA451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9E8-8226-4356-A3AF-F436DBB2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A87-4695-4E1C-8985-C7A2C02A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D2E-80D8-4F63-AEEC-6F25CD8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5B2-9AFA-408B-BE5F-5B51966D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8BD-6F9F-466A-862B-FEC3AD81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FB6-377C-41AB-A331-3B62EA33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129-5999-49A1-AFB5-8E638785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DDC-8E23-4C4B-978E-D68296ED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AE62-8CB3-4663-86DC-79453D654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"/>
              </a:rPr>
              <a:t>«</a:t>
            </a:r>
            <a:r>
              <a:rPr b="0" lang="en-US" sz="4800" spc="-1" strike="noStrike">
                <a:solidFill>
                  <a:srgbClr val="333300"/>
                </a:solidFill>
                <a:latin typeface="Arial"/>
              </a:rPr>
              <a:t>Звучит  романса звук прелестный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БЛ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«Все – музыка и свет: нет счастья, нет измен…  мелодией одной звучит тоска и радост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ГОГО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«Если музыка  нас оставит, что тогда будет с нашим миро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БЛОК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«Нет, музыка нас  не покинет… все кончается, только музыка не умирает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7760" y="3245760"/>
            <a:ext cx="37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28609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Жанр «РОМАНСА» напрямую возник благодаря литера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ак как  в средневековых западноевропейских литературах и в подражательной поэзии позднейших поэтов романсом называли лирическое любовное стихотворение песенного народного скл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4149720"/>
            <a:ext cx="3816360" cy="2049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744720" cy="2187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4581360"/>
            <a:ext cx="42480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А в испанской литературе романсом называли старинное стихотворение с историческим или эпическим сюж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oper Black"/>
              </a:rPr>
              <a:t>Эти факты не маловажны, потому что РОМАНС – испанское слово, в переводе значащее «на испанском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зже, романсом стали называть небольшое вокальное произведение для 1-го или 2-х голосов на слова какого-нибудь стихотворения с  инструментальным аккомпане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952720" cy="25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564000" y="3573360"/>
            <a:ext cx="3240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Романс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000" y="1341360"/>
            <a:ext cx="3743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о времена правления Петра 1  были введены новые правила, касаемые культурного досуга дворянского сословия. Обязательным стало домашнее музыкальное образование, что привело к созданию так называемых «музыкальных салон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6000" y="1197000"/>
            <a:ext cx="1728720" cy="2373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2952720" cy="255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244800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4956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о становлением русской музыкальной профессиональной школой в лице М.Глинки, П.Чайковского и других композиторов, романс превратился  в  изюминку вокальной музыки, в шедевр слияния двух искус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105440" cy="3529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508720" y="3068640"/>
            <a:ext cx="2735280" cy="345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236000" y="620640"/>
            <a:ext cx="1390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М.И.Глинка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00720" y="6165720"/>
            <a:ext cx="1876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П.И.Чайковский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«Я помню чудное мгновенье…»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М.И.Глинка, А.С.Пушк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28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Это стихотворение Пушкин посвятил Екатерине Ермолаевне Керн. Этот романс – вершина русской вокальной лирики 19 века. Художественное совершенство в полном слиянии музыкального языка с поэтическим. 3 раздела – 3 поворота сюжета (встреча, разлука, надежда на новую встречу); и каждый из разделов точно соттветствует настроению сти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2808360" cy="3068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00720" y="3789360"/>
            <a:ext cx="3024000" cy="306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оманс принято относить к камерной вокальной музыке,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мер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узыка предназначена для небольшого количества слушателей и исполнителей (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мна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с, как откровение героя, о котором не «кричат на весь мир», а делятся в доверительной беседе с близк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Задание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"/>
              </a:rPr>
              <a:t>Попробуйте дать свою формулировку жанра «роман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1:58:10Z</dcterms:created>
  <dc:creator>teacher</dc:creator>
  <dc:description/>
  <dc:language>en-US</dc:language>
  <cp:lastModifiedBy>user</cp:lastModifiedBy>
  <dcterms:modified xsi:type="dcterms:W3CDTF">2006-10-31T12:37:44Z</dcterms:modified>
  <cp:revision>22</cp:revision>
  <dc:subject/>
  <dc:title>Слайд 1</dc:title>
</cp:coreProperties>
</file>