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677-8402-43D9-8E42-9E6D0231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6DA-A844-4363-BCBB-48226F7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BFE-0EFF-48AA-ABCE-F3EF3666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9AD-86F6-4BC5-93B2-4B74101B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DB2B-5AD1-42A6-A985-F5D0329B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5BEA-CF94-4413-8265-37404B6D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1D0B-8217-4F56-8CC5-BF4025E5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9A39-58CF-420B-A182-0A7F34FC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A844-BAD9-4EC7-B0D2-8E79BF0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F7F5-72AC-46DA-B78C-8CD92F93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91B6-E456-4222-9F1C-949885E4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A75-4DAD-4922-9134-F4842AD7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55B8-56B3-4CE3-9475-BE623420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CF1E-E561-4106-BE2B-D8818DA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0886-6145-47E4-885C-43B560A9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CD28-7CE8-4D86-955D-57D041DB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FE9D-C3D1-4362-A497-59DA6EF2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FF6-E38F-4910-96C9-96494DA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BE7-734F-4D22-82A7-38A934F2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604-4121-49B4-983E-CE6E337A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9A1-D658-4081-9400-16E2702A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269-79F2-4487-A38E-B486FA4F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356-9CD8-4B47-859A-2C500021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AC8-78E5-48C3-B8BD-7CB6FD02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3126-36FF-4227-9036-4FE2BAECFD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473E-990B-44BD-A64A-3304E10D4E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421000"/>
            <a:ext cx="849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a50021"/>
                </a:solidFill>
                <a:latin typeface="Times New Roman"/>
              </a:rPr>
              <a:t>День знаний</a:t>
            </a:r>
            <a:br>
              <a:rPr sz="8800"/>
            </a:br>
            <a:r>
              <a:rPr b="1" lang="ru-RU" sz="8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a50021"/>
                </a:solidFill>
                <a:latin typeface="Times New Roman"/>
              </a:rPr>
              <a:t>1 сентября 2010 г.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Музыкальное оформление линейки</a:t>
            </a:r>
            <a:br>
              <a:rPr sz="40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1000"/>
            </a:br>
            <a:br>
              <a:rPr sz="1000"/>
            </a:b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За пультом управления: Волкова Евгения Игоревна</a:t>
            </a:r>
            <a:endParaRPr b="1" lang="en-US" sz="2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2180" t="4345" r="0" b="0"/>
          <a:stretch/>
        </p:blipFill>
        <p:spPr>
          <a:xfrm>
            <a:off x="1258920" y="1197000"/>
            <a:ext cx="6480000" cy="475308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дравствуй, новый учебный год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1400"/>
            </a:br>
            <a:br>
              <a:rPr sz="800"/>
            </a:b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Финальная песня. Исполняют участники линейки (учащиеся 6-9 классов).</a:t>
            </a:r>
            <a:endParaRPr b="1" lang="en-US" sz="2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761" t="9510" r="1741" b="4769"/>
          <a:stretch/>
        </p:blipFill>
        <p:spPr>
          <a:xfrm>
            <a:off x="971640" y="1125360"/>
            <a:ext cx="7272360" cy="484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8360" y="6165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ПОЗДРАВЛЯЕМ!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0-09-27T16:18:53Z</dcterms:modified>
  <cp:revision>3</cp:revision>
  <dc:subject/>
  <dc:title>PowerPoint Presentation</dc:title>
</cp:coreProperties>
</file>