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DED-AE5D-48E3-91AB-C30F17FC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3E8-04D4-49AE-A603-CCF2E1DF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DDA-5A12-4F3B-A627-5B0719C1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289-2390-401F-8839-F2642E95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ACFA-9630-4289-9E9A-9F793845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B65F-F101-4446-A161-83957B65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9255-494F-4A95-A9D2-3E67209B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B27-3A43-4B6B-838C-21A4D07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F1B0-EF8F-4049-A634-444E5B3C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1810-00D3-4767-ACAA-53900478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35A6-D210-41B2-9B7D-1ED62392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BB7-5C6D-456A-9E50-F232E47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54A3-D5D4-493E-8FD0-CC34FC40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AC23-75C5-4B67-8B21-5EAFBD6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BC0E-AAAB-44CE-88A7-67A90E9B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7CA3-0785-4E90-9B09-27C29F92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35E6-BC1B-48BE-8259-B1EA1B65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AC2-476E-4A31-A4D1-511A4F01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34D-C0EB-404D-9060-859007C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A9B-4824-4E68-BBB3-2A17EE8F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0DB-0032-41AA-A85C-3475B23F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861-4228-4C2A-B4F7-C3E408F1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A00-FE4F-43CB-98C2-669776B4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6F4-ED07-41E8-A346-AAD2F8B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DE69-6014-42B4-BFC1-0595EDDD2FD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D6E-D90F-4CE8-BE25-DC966B5620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421000"/>
            <a:ext cx="849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a50021"/>
                </a:solidFill>
                <a:latin typeface="Times New Roman"/>
              </a:rPr>
              <a:t>День знаний</a:t>
            </a:r>
            <a:br>
              <a:rPr sz="8800"/>
            </a:br>
            <a:r>
              <a:rPr b="1" lang="ru-RU" sz="8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a50021"/>
                </a:solidFill>
                <a:latin typeface="Times New Roman"/>
              </a:rPr>
              <a:t>1 сентября 2010 г.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Музыкальное оформление линейки</a:t>
            </a:r>
            <a:br>
              <a:rPr sz="40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1000"/>
            </a:br>
            <a:br>
              <a:rPr sz="1000"/>
            </a:b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За пультом управления: Волкова Евгения Игоревна</a:t>
            </a: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2180" t="4345" r="0" b="0"/>
          <a:stretch/>
        </p:blipFill>
        <p:spPr>
          <a:xfrm>
            <a:off x="1258920" y="1197000"/>
            <a:ext cx="648000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дравствуй, новый учебный год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400"/>
            </a:br>
            <a:br>
              <a:rPr sz="800"/>
            </a:b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Финальная песня. Исполняют участники линейки (учащиеся 6-9 классов).</a:t>
            </a:r>
            <a:endParaRPr b="1" lang="en-US" sz="2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61" t="9510" r="1741" b="4769"/>
          <a:stretch/>
        </p:blipFill>
        <p:spPr>
          <a:xfrm>
            <a:off x="971640" y="1125360"/>
            <a:ext cx="7272360" cy="484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8360" y="6165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ОЗДРАВЛЯЕМ!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0-09-27T16:18:53Z</dcterms:modified>
  <cp:revision>3</cp:revision>
  <dc:subject/>
  <dc:title>PowerPoint Presentation</dc:title>
</cp:coreProperties>
</file>