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B3A-ACC1-4954-8F07-7B180C92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5A4-887C-4288-B0DC-BBE9B1F1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445-4192-4A47-8D4E-3E9FA242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E86-61F1-4A89-93B8-D5AC451D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B8EA-EEEB-434F-88DB-96D34C4E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47DC-748B-44F2-8D2D-A1090677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6067-F660-4B3E-B193-F97712DB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2D16-2E9B-4541-9AD3-0CBF901C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AA7F-77D8-49E0-B7D6-0454A50F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ED31-C2DD-4F53-A539-37A3C32C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74DF-3B26-4AB4-81D1-0C0848F6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23A-40AB-499E-8D9C-7C3AF352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2A53-D51D-4994-8677-1DA11485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545D-AF74-4ED7-8D2D-14805ABE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3B7C-4BFB-47A4-9A92-CA022DE5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F3B4-F271-4462-8E1F-C6921E9A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6139-7927-4C42-8622-748EC72D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424-7642-4D45-B812-8EFD32DD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EF5-EBFC-4281-B4EF-DA85586F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295-376A-4D7A-AE28-B8D33187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A99-D1E5-41E1-AC33-DE2D095E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019-7608-4214-9718-C60C8F21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525-734A-44CC-9366-C3752335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8A2A-C7A9-47D1-A26F-9395CEAF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A796-B0CC-4A6E-92C1-613059589C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0A8F-D88A-4B6D-AD41-099C662379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421000"/>
            <a:ext cx="849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a50021"/>
                </a:solidFill>
                <a:latin typeface="Times New Roman"/>
              </a:rPr>
              <a:t>День знаний</a:t>
            </a:r>
            <a:br>
              <a:rPr sz="8800"/>
            </a:br>
            <a:r>
              <a:rPr b="1" lang="ru-RU" sz="8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a50021"/>
                </a:solidFill>
                <a:latin typeface="Times New Roman"/>
              </a:rPr>
              <a:t>1 сентября 2010 г.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2852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Музыкальное оформление линейки</a:t>
            </a:r>
            <a:br>
              <a:rPr sz="40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1000"/>
            </a:br>
            <a:br>
              <a:rPr sz="1000"/>
            </a:b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За пультом управления: Волкова Евгения Игоревна</a:t>
            </a:r>
            <a:endParaRPr b="1" lang="en-US" sz="2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2180" t="4345" r="0" b="0"/>
          <a:stretch/>
        </p:blipFill>
        <p:spPr>
          <a:xfrm>
            <a:off x="1258920" y="1197000"/>
            <a:ext cx="6480000" cy="475308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дравствуй, новый учебный год!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1400"/>
            </a:br>
            <a:br>
              <a:rPr sz="800"/>
            </a:b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Финальная песня. Исполняют участники линейки (учащиеся 6-9 классов).</a:t>
            </a:r>
            <a:endParaRPr b="1" lang="en-US" sz="2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761" t="9510" r="1741" b="4769"/>
          <a:stretch/>
        </p:blipFill>
        <p:spPr>
          <a:xfrm>
            <a:off x="971640" y="1125360"/>
            <a:ext cx="7272360" cy="484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8360" y="6165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ПОЗДРАВЛЯЕМ!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0-09-27T16:18:53Z</dcterms:modified>
  <cp:revision>3</cp:revision>
  <dc:subject/>
  <dc:title>PowerPoint Presentation</dc:title>
</cp:coreProperties>
</file>