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1.jpeg" ContentType="image/jpeg"/>
  <Override PartName="/ppt/media/image22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5DC5-0BEE-4580-86B2-288502A4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C319-3D27-4348-98D5-4F0BB216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6216-58D3-445E-89AD-9482B71F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38A0-114D-420F-B094-494A9676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2CD4-05DB-4550-937B-657D46F6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5A42-EF33-4826-B103-E56C2476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4DFD-0F6A-4697-B29C-993E207C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F7CC-08FB-4419-803E-2B963176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32A1-67D5-405F-BF35-4CA96A44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273E-1C33-4553-B9D0-564FCD22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54DB-7BD0-4BB1-B2FC-AF465CC8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FA1C-85E1-47C4-A8E3-40E232FD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48E9-DA85-4219-9F6F-80579C4FA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00200" y="57909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МОУ Хову-Аксынская ОС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Учитель биологии: Дирчин С.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3880" y="1143000"/>
            <a:ext cx="60199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емлетрясения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 вулкан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682560"/>
            <a:ext cx="8229600" cy="617544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ая со стрелкой 7" descr=""/>
          <p:cNvPicPr/>
          <p:nvPr/>
        </p:nvPicPr>
        <p:blipFill>
          <a:blip r:embed="rId2"/>
          <a:stretch/>
        </p:blipFill>
        <p:spPr>
          <a:xfrm rot="20817600">
            <a:off x="3428640" y="2285640"/>
            <a:ext cx="4421160" cy="884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469640" y="1523880"/>
            <a:ext cx="150516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ча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57880" y="0"/>
            <a:ext cx="54932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чаг землетряс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2895480" y="15228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 о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бласть на поверхности земли, расположенная над очагом землетрясени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228600"/>
            <a:ext cx="27432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пицен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767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Гриша\Мои документы\Мои рисунки\землетресение\seism.gif"/>
          <p:cNvPicPr/>
          <p:nvPr/>
        </p:nvPicPr>
        <p:blipFill>
          <a:blip r:embed="rId1"/>
          <a:stretch/>
        </p:blipFill>
        <p:spPr>
          <a:xfrm>
            <a:off x="1143000" y="2000160"/>
            <a:ext cx="7143840" cy="36435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2" descr=""/>
          <p:cNvPicPr/>
          <p:nvPr/>
        </p:nvPicPr>
        <p:blipFill>
          <a:blip r:embed="rId2"/>
          <a:stretch/>
        </p:blipFill>
        <p:spPr>
          <a:xfrm>
            <a:off x="1292400" y="390600"/>
            <a:ext cx="705312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кала землетрясений по шкале Рих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38080" y="685800"/>
          <a:ext cx="3657600" cy="5867280"/>
        </p:xfrm>
        <a:graphic>
          <a:graphicData uri="http://schemas.openxmlformats.org/drawingml/2006/table">
            <a:tbl>
              <a:tblPr/>
              <a:tblGrid>
                <a:gridCol w="897120"/>
                <a:gridCol w="2760480"/>
              </a:tblGrid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не чувству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большие движения люстр, звон посуд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дают небольшие предме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чаются трещины на стенах дом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ушение построе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ушаются многие построй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2865600" cy="987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410080" y="1905120"/>
            <a:ext cx="2889360" cy="981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00600" y="2895480"/>
            <a:ext cx="2871720" cy="944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562720" y="3809880"/>
            <a:ext cx="2859120" cy="1000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876920" y="4724280"/>
            <a:ext cx="2871720" cy="1011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5486400" y="5715000"/>
            <a:ext cx="287172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Гриша\Мои документы\Мои рисунки\мектепте  жәнеуйде ӨМІР ҚАУІПСІЗДІГІ мен ДЕНСАУЛЫҚТЫ САҚТАУ\Изображение 041.jpg"/>
          <p:cNvPicPr/>
          <p:nvPr/>
        </p:nvPicPr>
        <p:blipFill>
          <a:blip r:embed="rId1"/>
          <a:stretch/>
        </p:blipFill>
        <p:spPr>
          <a:xfrm>
            <a:off x="3286080" y="2500200"/>
            <a:ext cx="1901880" cy="212112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" descr=""/>
          <p:cNvPicPr/>
          <p:nvPr/>
        </p:nvPicPr>
        <p:blipFill>
          <a:blip r:embed="rId2"/>
          <a:stretch/>
        </p:blipFill>
        <p:spPr>
          <a:xfrm>
            <a:off x="23760" y="-176040"/>
            <a:ext cx="9175680" cy="1949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Documents and Settings\Гриша\Мои документы\Мои рисунки\мектепте  жәнеуйде ӨМІР ҚАУІПСІЗДІГІ мен ДЕНСАУЛЫҚТЫ САҚТАУ\Изображение 085.jpg"/>
          <p:cNvPicPr/>
          <p:nvPr/>
        </p:nvPicPr>
        <p:blipFill>
          <a:blip r:embed="rId3"/>
          <a:stretch/>
        </p:blipFill>
        <p:spPr>
          <a:xfrm>
            <a:off x="5643720" y="1928880"/>
            <a:ext cx="160956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Documents and Settings\Гриша\Мои документы\Мои рисунки\мектепте  жәнеуйде ӨМІР ҚАУІПСІЗДІГІ мен ДЕНСАУЛЫҚТЫ САҚТАУ\Изображение 086.jpg"/>
          <p:cNvPicPr/>
          <p:nvPr/>
        </p:nvPicPr>
        <p:blipFill>
          <a:blip r:embed="rId4"/>
          <a:stretch/>
        </p:blipFill>
        <p:spPr>
          <a:xfrm>
            <a:off x="5715000" y="4929120"/>
            <a:ext cx="160956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Documents and Settings\Гриша\Мои документы\Мои рисунки\мектепте  жәнеуйде ӨМІР ҚАУІПСІЗДІГІ мен ДЕНСАУЛЫҚТЫ САҚТАУ\Изображение 087.jpg"/>
          <p:cNvPicPr/>
          <p:nvPr/>
        </p:nvPicPr>
        <p:blipFill>
          <a:blip r:embed="rId5"/>
          <a:srcRect l="27908" t="12958" r="16287" b="20094"/>
          <a:stretch/>
        </p:blipFill>
        <p:spPr>
          <a:xfrm>
            <a:off x="2357280" y="5143680"/>
            <a:ext cx="1714680" cy="1428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Гриша\Мои документы\Мои рисунки\мектепте  жәнеуйде ӨМІР ҚАУІПСІЗДІГІ мен ДЕНСАУЛЫҚТЫ САҚТАУ\Изображение 088.jpg"/>
          <p:cNvPicPr/>
          <p:nvPr/>
        </p:nvPicPr>
        <p:blipFill>
          <a:blip r:embed="rId6"/>
          <a:stretch/>
        </p:blipFill>
        <p:spPr>
          <a:xfrm>
            <a:off x="785880" y="3714840"/>
            <a:ext cx="1170000" cy="1463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Documents and Settings\Гриша\Мои документы\Мои рисунки\мектепте  жәнеуйде ӨМІР ҚАУІПСІЗДІГІ мен ДЕНСАУЛЫҚТЫ САҚТАУ\Изображение 091.jpg"/>
          <p:cNvPicPr/>
          <p:nvPr/>
        </p:nvPicPr>
        <p:blipFill>
          <a:blip r:embed="rId7"/>
          <a:stretch/>
        </p:blipFill>
        <p:spPr>
          <a:xfrm>
            <a:off x="5786280" y="3071880"/>
            <a:ext cx="1536840" cy="1536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C:\Documents and Settings\Гриша\Мои документы\Мои рисунки\мектепте  жәнеуйде ӨМІР ҚАУІПСІЗДІГІ мен ДЕНСАУЛЫҚТЫ САҚТАУ\Изображение 090.jpg"/>
          <p:cNvPicPr/>
          <p:nvPr/>
        </p:nvPicPr>
        <p:blipFill>
          <a:blip r:embed="rId8"/>
          <a:stretch/>
        </p:blipFill>
        <p:spPr>
          <a:xfrm>
            <a:off x="1143000" y="1643040"/>
            <a:ext cx="2193840" cy="1682640"/>
          </a:xfrm>
          <a:prstGeom prst="rect">
            <a:avLst/>
          </a:prstGeom>
          <a:ln w="0">
            <a:noFill/>
          </a:ln>
        </p:spPr>
      </p:pic>
      <p:cxnSp>
        <p:nvCxnSpPr>
          <p:cNvPr id="68" name="Прямая со стрелкой 10"/>
          <p:cNvCxnSpPr/>
          <p:nvPr/>
        </p:nvCxnSpPr>
        <p:spPr>
          <a:xfrm flipV="1">
            <a:off x="4875840" y="2818800"/>
            <a:ext cx="1143720" cy="1215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9" name="TextBox 11"/>
          <p:cNvSpPr/>
          <p:nvPr/>
        </p:nvSpPr>
        <p:spPr>
          <a:xfrm>
            <a:off x="7151400" y="2286000"/>
            <a:ext cx="18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7-конечная звезда 12"/>
          <p:cNvSpPr/>
          <p:nvPr/>
        </p:nvSpPr>
        <p:spPr>
          <a:xfrm>
            <a:off x="5286240" y="1643040"/>
            <a:ext cx="2500560" cy="1557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Прямая со стрелкой 14"/>
          <p:cNvCxnSpPr/>
          <p:nvPr/>
        </p:nvCxnSpPr>
        <p:spPr>
          <a:xfrm>
            <a:off x="4857480" y="4000680"/>
            <a:ext cx="1143720" cy="72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2" name="TextBox 18"/>
          <p:cNvSpPr/>
          <p:nvPr/>
        </p:nvSpPr>
        <p:spPr>
          <a:xfrm>
            <a:off x="7220160" y="3571920"/>
            <a:ext cx="163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оду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 3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Прямая со стрелкой 19"/>
          <p:cNvCxnSpPr/>
          <p:nvPr/>
        </p:nvCxnSpPr>
        <p:spPr>
          <a:xfrm>
            <a:off x="4856760" y="4000320"/>
            <a:ext cx="1143720" cy="1286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" name="TextBox 23"/>
          <p:cNvSpPr/>
          <p:nvPr/>
        </p:nvSpPr>
        <p:spPr>
          <a:xfrm>
            <a:off x="7365600" y="5500800"/>
            <a:ext cx="13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птеч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24"/>
          <p:cNvCxnSpPr/>
          <p:nvPr/>
        </p:nvCxnSpPr>
        <p:spPr>
          <a:xfrm flipH="1">
            <a:off x="3928680" y="4000680"/>
            <a:ext cx="929520" cy="1429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6" name="TextBox 27"/>
          <p:cNvSpPr/>
          <p:nvPr/>
        </p:nvSpPr>
        <p:spPr>
          <a:xfrm>
            <a:off x="4008960" y="5857920"/>
            <a:ext cx="12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пи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Прямая со стрелкой 28"/>
          <p:cNvCxnSpPr/>
          <p:nvPr/>
        </p:nvCxnSpPr>
        <p:spPr>
          <a:xfrm flipH="1">
            <a:off x="1928520" y="4000680"/>
            <a:ext cx="2929680" cy="429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8" name="TextBox 32"/>
          <p:cNvSpPr/>
          <p:nvPr/>
        </p:nvSpPr>
        <p:spPr>
          <a:xfrm>
            <a:off x="11160" y="4857840"/>
            <a:ext cx="245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Электр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он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Прямая со стрелкой 33"/>
          <p:cNvCxnSpPr/>
          <p:nvPr/>
        </p:nvCxnSpPr>
        <p:spPr>
          <a:xfrm flipH="1" flipV="1">
            <a:off x="3142440" y="3214080"/>
            <a:ext cx="1786680" cy="786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0" name="TextBox 36"/>
          <p:cNvSpPr/>
          <p:nvPr/>
        </p:nvSpPr>
        <p:spPr>
          <a:xfrm>
            <a:off x="5040" y="3071880"/>
            <a:ext cx="29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дежду по сезо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666880" y="228600"/>
            <a:ext cx="38862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улк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800" y="175248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ниче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92760" y="175248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Щи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7760" y="1143000"/>
            <a:ext cx="1447560" cy="685800"/>
          </a:xfrm>
          <a:prstGeom prst="line">
            <a:avLst/>
          </a:prstGeom>
          <a:ln w="57240">
            <a:solidFill>
              <a:srgbClr val="8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1143000"/>
            <a:ext cx="1676520" cy="609480"/>
          </a:xfrm>
          <a:prstGeom prst="line">
            <a:avLst/>
          </a:prstGeom>
          <a:ln w="57240">
            <a:solidFill>
              <a:srgbClr val="8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4267440" cy="3492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0" y="2590920"/>
            <a:ext cx="4419720" cy="25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Конический вулк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5029200" cy="4114800"/>
          </a:xfrm>
          <a:prstGeom prst="rect">
            <a:avLst/>
          </a:prstGeom>
          <a:ln w="0">
            <a:noFill/>
          </a:ln>
        </p:spPr>
      </p:pic>
      <p:cxnSp>
        <p:nvCxnSpPr>
          <p:cNvPr id="90" name="Прямая со стрелкой 10"/>
          <p:cNvCxnSpPr/>
          <p:nvPr/>
        </p:nvCxnSpPr>
        <p:spPr>
          <a:xfrm flipV="1">
            <a:off x="2895120" y="2209320"/>
            <a:ext cx="3048840" cy="10677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91" name="Прямая со стрелкой 10"/>
          <p:cNvCxnSpPr/>
          <p:nvPr/>
        </p:nvCxnSpPr>
        <p:spPr>
          <a:xfrm flipV="1">
            <a:off x="2895120" y="3276360"/>
            <a:ext cx="3125160" cy="76248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92" name="Прямая со стрелкой 10"/>
          <p:cNvCxnSpPr/>
          <p:nvPr/>
        </p:nvCxnSpPr>
        <p:spPr>
          <a:xfrm>
            <a:off x="2971440" y="5409720"/>
            <a:ext cx="1981800" cy="7628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93" name="Прямая со стрелкой 10"/>
          <p:cNvCxnSpPr/>
          <p:nvPr/>
        </p:nvCxnSpPr>
        <p:spPr>
          <a:xfrm>
            <a:off x="3657600" y="4114440"/>
            <a:ext cx="2286720" cy="7628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94" name=""/>
          <p:cNvSpPr/>
          <p:nvPr/>
        </p:nvSpPr>
        <p:spPr>
          <a:xfrm>
            <a:off x="6098760" y="1709640"/>
            <a:ext cx="17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а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51400" y="2895480"/>
            <a:ext cx="16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жер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51400" y="4267080"/>
            <a:ext cx="13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10560" y="5867280"/>
            <a:ext cx="286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чаг маг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Шкала землетрясений по шкале Рих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4120" y="4162320"/>
            <a:ext cx="3170160" cy="1092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" y="4241880"/>
            <a:ext cx="3200400" cy="1085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85800" y="914400"/>
            <a:ext cx="3252960" cy="1069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09480" y="2438280"/>
            <a:ext cx="3240360" cy="1133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257800" y="2438280"/>
            <a:ext cx="3200400" cy="1127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5181480" y="838080"/>
            <a:ext cx="3429000" cy="1163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657600" y="603576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ловек не чувствует. 1-2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6035760"/>
            <a:ext cx="419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большие движения люстр, звон посуды. 3-4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6035760"/>
            <a:ext cx="31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дают небольшие предметы. 5-6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6035760"/>
            <a:ext cx="38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мечаются трещины на стенах домов. 7-8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6035760"/>
            <a:ext cx="278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ушение построек. 9-10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603576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ушаются многие постройки. 11-12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6720" y="281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6720" y="1295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2400" y="114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6720" y="4648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5504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8720" y="27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31175E-006 L -0.2901 -0.71716 E">
                                      <p:cBhvr>
                                        <p:cTn id="172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31175E-006 L -0.24965 -0.49515 E">
                                      <p:cBhvr>
                                        <p:cTn id="181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31175E-006 L 0.24809 -0.70606 E">
                                      <p:cBhvr>
                                        <p:cTn id="190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31175E-006 L -0.26267 -0.22873 E">
                                      <p:cBhvr>
                                        <p:cTn id="199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31175E-006 L 0.2559 -0.49515 E">
                                      <p:cBhvr>
                                        <p:cTn id="20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1175E-006 L 0.2375 -0.23983 E">
                                      <p:cBhvr>
                                        <p:cTn id="217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11-22T15:22:51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