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29B-9C13-4C0A-8AD7-504B5591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418-6733-4B6E-8A1F-8E57533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84-7B77-48C5-8BFD-EA71900D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66A-1421-4EB3-8069-813C1F8D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452-B14D-4048-A0E1-D29F484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5A7-74CB-4254-B364-0DFB111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AD2-27AA-438D-B422-6F59A4F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9C7-6605-4042-B344-34CECDF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4FD-938D-4399-8148-AA9B09F6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1B8-195A-4C69-9A8A-8FDDEC2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80B-7EB3-47D3-AD7E-3DB1084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56B-094D-47E0-B321-7F985BC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010B-94F3-4252-B577-2E41FA25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МОУ Хову-Аксынская О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читель биологии: Дирчин С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143000"/>
            <a:ext cx="60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емлетрясения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вулкан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682560"/>
            <a:ext cx="8229600" cy="617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ая со стрелкой 7" descr=""/>
          <p:cNvPicPr/>
          <p:nvPr/>
        </p:nvPicPr>
        <p:blipFill>
          <a:blip r:embed="rId2"/>
          <a:stretch/>
        </p:blipFill>
        <p:spPr>
          <a:xfrm rot="20817600">
            <a:off x="3428640" y="2285640"/>
            <a:ext cx="4421160" cy="884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9640" y="1523880"/>
            <a:ext cx="15051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7880" y="0"/>
            <a:ext cx="54932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чаг землетряс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2895480" y="152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 о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бласть на поверхности земли, расположенная над очагом землетряс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743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цен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Гриша\Мои документы\Мои рисунки\землетресение\seism.gif"/>
          <p:cNvPicPr/>
          <p:nvPr/>
        </p:nvPicPr>
        <p:blipFill>
          <a:blip r:embed="rId1"/>
          <a:stretch/>
        </p:blipFill>
        <p:spPr>
          <a:xfrm>
            <a:off x="1143000" y="2000160"/>
            <a:ext cx="7143840" cy="3643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390600"/>
            <a:ext cx="70531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685800"/>
          <a:ext cx="3657600" cy="5867280"/>
        </p:xfrm>
        <a:graphic>
          <a:graphicData uri="http://schemas.openxmlformats.org/drawingml/2006/table">
            <a:tbl>
              <a:tblPr/>
              <a:tblGrid>
                <a:gridCol w="897120"/>
                <a:gridCol w="276048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не чувству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ие движения люстр, звон посу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ют небольшие предм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чаются трещины на стенах дом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построе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аются многие построй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28656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8936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2895480"/>
            <a:ext cx="287172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809880"/>
            <a:ext cx="285912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4724280"/>
            <a:ext cx="28717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486400" y="5715000"/>
            <a:ext cx="287172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Гриша\Мои документы\Мои рисунки\мектепте  жәнеуйде ӨМІР ҚАУІПСІЗДІГІ мен ДЕНСАУЛЫҚТЫ САҚТАУ\Изображение 041.jpg"/>
          <p:cNvPicPr/>
          <p:nvPr/>
        </p:nvPicPr>
        <p:blipFill>
          <a:blip r:embed="rId1"/>
          <a:stretch/>
        </p:blipFill>
        <p:spPr>
          <a:xfrm>
            <a:off x="3286080" y="2500200"/>
            <a:ext cx="1901880" cy="2121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23760" y="-176040"/>
            <a:ext cx="91756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Гриша\Мои документы\Мои рисунки\мектепте  жәнеуйде ӨМІР ҚАУІПСІЗДІГІ мен ДЕНСАУЛЫҚТЫ САҚТАУ\Изображение 085.jpg"/>
          <p:cNvPicPr/>
          <p:nvPr/>
        </p:nvPicPr>
        <p:blipFill>
          <a:blip r:embed="rId3"/>
          <a:stretch/>
        </p:blipFill>
        <p:spPr>
          <a:xfrm>
            <a:off x="5643720" y="192888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Гриша\Мои документы\Мои рисунки\мектепте  жәнеуйде ӨМІР ҚАУІПСІЗДІГІ мен ДЕНСАУЛЫҚТЫ САҚТАУ\Изображение 086.jpg"/>
          <p:cNvPicPr/>
          <p:nvPr/>
        </p:nvPicPr>
        <p:blipFill>
          <a:blip r:embed="rId4"/>
          <a:stretch/>
        </p:blipFill>
        <p:spPr>
          <a:xfrm>
            <a:off x="5715000" y="4929120"/>
            <a:ext cx="1609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Гриша\Мои документы\Мои рисунки\мектепте  жәнеуйде ӨМІР ҚАУІПСІЗДІГІ мен ДЕНСАУЛЫҚТЫ САҚТАУ\Изображение 087.jpg"/>
          <p:cNvPicPr/>
          <p:nvPr/>
        </p:nvPicPr>
        <p:blipFill>
          <a:blip r:embed="rId5"/>
          <a:srcRect l="27908" t="12958" r="16287" b="20094"/>
          <a:stretch/>
        </p:blipFill>
        <p:spPr>
          <a:xfrm>
            <a:off x="2357280" y="514368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Гриша\Мои документы\Мои рисунки\мектепте  жәнеуйде ӨМІР ҚАУІПСІЗДІГІ мен ДЕНСАУЛЫҚТЫ САҚТАУ\Изображение 088.jpg"/>
          <p:cNvPicPr/>
          <p:nvPr/>
        </p:nvPicPr>
        <p:blipFill>
          <a:blip r:embed="rId6"/>
          <a:stretch/>
        </p:blipFill>
        <p:spPr>
          <a:xfrm>
            <a:off x="785880" y="3714840"/>
            <a:ext cx="117000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Documents and Settings\Гриша\Мои документы\Мои рисунки\мектепте  жәнеуйде ӨМІР ҚАУІПСІЗДІГІ мен ДЕНСАУЛЫҚТЫ САҚТАУ\Изображение 091.jpg"/>
          <p:cNvPicPr/>
          <p:nvPr/>
        </p:nvPicPr>
        <p:blipFill>
          <a:blip r:embed="rId7"/>
          <a:stretch/>
        </p:blipFill>
        <p:spPr>
          <a:xfrm>
            <a:off x="5786280" y="3071880"/>
            <a:ext cx="1536840" cy="153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Гриша\Мои документы\Мои рисунки\мектепте  жәнеуйде ӨМІР ҚАУІПСІЗДІГІ мен ДЕНСАУЛЫҚТЫ САҚТАУ\Изображение 090.jpg"/>
          <p:cNvPicPr/>
          <p:nvPr/>
        </p:nvPicPr>
        <p:blipFill>
          <a:blip r:embed="rId8"/>
          <a:stretch/>
        </p:blipFill>
        <p:spPr>
          <a:xfrm>
            <a:off x="1143000" y="1643040"/>
            <a:ext cx="2193840" cy="1682640"/>
          </a:xfrm>
          <a:prstGeom prst="rect">
            <a:avLst/>
          </a:prstGeom>
          <a:ln w="0">
            <a:noFill/>
          </a:ln>
        </p:spPr>
      </p:pic>
      <p:cxnSp>
        <p:nvCxnSpPr>
          <p:cNvPr id="68" name="Прямая со стрелкой 10"/>
          <p:cNvCxnSpPr/>
          <p:nvPr/>
        </p:nvCxnSpPr>
        <p:spPr>
          <a:xfrm flipV="1">
            <a:off x="4875840" y="2818800"/>
            <a:ext cx="114372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1"/>
          <p:cNvSpPr/>
          <p:nvPr/>
        </p:nvSpPr>
        <p:spPr>
          <a:xfrm>
            <a:off x="7151400" y="2286000"/>
            <a:ext cx="18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-конечная звезда 12"/>
          <p:cNvSpPr/>
          <p:nvPr/>
        </p:nvSpPr>
        <p:spPr>
          <a:xfrm>
            <a:off x="5286240" y="1643040"/>
            <a:ext cx="2500560" cy="155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14"/>
          <p:cNvCxnSpPr/>
          <p:nvPr/>
        </p:nvCxnSpPr>
        <p:spPr>
          <a:xfrm>
            <a:off x="4857480" y="4000680"/>
            <a:ext cx="114372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TextBox 18"/>
          <p:cNvSpPr/>
          <p:nvPr/>
        </p:nvSpPr>
        <p:spPr>
          <a:xfrm>
            <a:off x="7220160" y="3571920"/>
            <a:ext cx="163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9"/>
          <p:cNvCxnSpPr/>
          <p:nvPr/>
        </p:nvCxnSpPr>
        <p:spPr>
          <a:xfrm>
            <a:off x="4856760" y="4000320"/>
            <a:ext cx="1143720" cy="1286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23"/>
          <p:cNvSpPr/>
          <p:nvPr/>
        </p:nvSpPr>
        <p:spPr>
          <a:xfrm>
            <a:off x="7365600" y="550080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пте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>
            <a:off x="3928680" y="4000680"/>
            <a:ext cx="92952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27"/>
          <p:cNvSpPr/>
          <p:nvPr/>
        </p:nvSpPr>
        <p:spPr>
          <a:xfrm>
            <a:off x="4008960" y="58579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28"/>
          <p:cNvCxnSpPr/>
          <p:nvPr/>
        </p:nvCxnSpPr>
        <p:spPr>
          <a:xfrm flipH="1">
            <a:off x="1928520" y="4000680"/>
            <a:ext cx="292968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32"/>
          <p:cNvSpPr/>
          <p:nvPr/>
        </p:nvSpPr>
        <p:spPr>
          <a:xfrm>
            <a:off x="11160" y="485784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Электр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н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3"/>
          <p:cNvCxnSpPr/>
          <p:nvPr/>
        </p:nvCxnSpPr>
        <p:spPr>
          <a:xfrm flipH="1" flipV="1">
            <a:off x="3142440" y="3214080"/>
            <a:ext cx="178668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0" name="TextBox 36"/>
          <p:cNvSpPr/>
          <p:nvPr/>
        </p:nvSpPr>
        <p:spPr>
          <a:xfrm>
            <a:off x="5040" y="307188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ежду по сез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66880" y="228600"/>
            <a:ext cx="3886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800" y="175248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2760" y="17524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Щи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7760" y="1143000"/>
            <a:ext cx="144756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14300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26744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4419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онический вул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29200" cy="41148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0"/>
          <p:cNvCxnSpPr/>
          <p:nvPr/>
        </p:nvCxnSpPr>
        <p:spPr>
          <a:xfrm flipV="1">
            <a:off x="2895120" y="2209320"/>
            <a:ext cx="3048840" cy="1067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1" name="Прямая со стрелкой 10"/>
          <p:cNvCxnSpPr/>
          <p:nvPr/>
        </p:nvCxnSpPr>
        <p:spPr>
          <a:xfrm flipV="1">
            <a:off x="2895120" y="3276360"/>
            <a:ext cx="3125160" cy="7624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2" name="Прямая со стрелкой 10"/>
          <p:cNvCxnSpPr/>
          <p:nvPr/>
        </p:nvCxnSpPr>
        <p:spPr>
          <a:xfrm>
            <a:off x="2971440" y="5409720"/>
            <a:ext cx="198180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>
            <a:off x="3657600" y="4114440"/>
            <a:ext cx="2286720" cy="762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94" name=""/>
          <p:cNvSpPr/>
          <p:nvPr/>
        </p:nvSpPr>
        <p:spPr>
          <a:xfrm>
            <a:off x="6098760" y="170964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1400" y="289548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р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1400" y="42670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0560" y="586728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чаг маг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Шкала землетрясений по шкале Рих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4120" y="4162320"/>
            <a:ext cx="3170160" cy="109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241880"/>
            <a:ext cx="320040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325296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9480" y="2438280"/>
            <a:ext cx="324036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3200400" cy="112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181480" y="838080"/>
            <a:ext cx="3429000" cy="116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6035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не чувствует. 1-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6035760"/>
            <a:ext cx="41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большие движения люстр, звон посуды. 3-4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35760"/>
            <a:ext cx="31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ают небольшие предметы. 5-6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35760"/>
            <a:ext cx="38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чаются трещины на стенах домов. 7-8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35760"/>
            <a:ext cx="27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ение построек. 9-10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03576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ушаются многие постройки. 11-12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7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6720" y="129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240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67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50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87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1175E-006 L -0.2901 -0.71716 E">
                                      <p:cBhvr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1175E-006 L -0.24965 -0.49515 E">
                                      <p:cBhvr>
                                        <p:cTn id="18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1175E-006 L 0.24809 -0.70606 E">
                                      <p:cBhvr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1175E-006 L -0.26267 -0.22873 E">
                                      <p:cBhvr>
                                        <p:cTn id="19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1175E-006 L 0.2559 -0.49515 E">
                                      <p:cBhvr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0.2375 -0.23983 E">
                                      <p:cBhvr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22T15:22:5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