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53F-6599-445E-987B-3ADDE67E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459-DF5E-4529-8ED6-0536B097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4FD-BD0D-4450-9009-B462A162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A17-51C8-419B-9748-47AA504B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8AD4-34F8-4DF6-9A64-7C444EB8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A085-F964-4B9B-BFF4-40ED47BD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9937-0E89-4ACA-80F0-915910ED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E42B-0F26-482B-8C83-4C9C5AC4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E16B-96ED-4CDF-8DC7-15EFC5C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B5FC-9512-4DEE-A376-A2111315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AFE7-D828-4682-8A2C-F2C8C25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864D-CE89-4C8D-8BD3-B2C4E742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4389-1ACB-4BE8-922E-BEE7E97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5DAA-88CB-4799-80FF-234911C6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B077-010A-449C-AB2F-4CC4477C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FF8E-C6B2-45F8-AEDB-3C9BD2BA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4CBD-1B8E-4899-8C58-53E086D6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7B5-B258-436F-A345-135350E7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648-B71A-4812-921F-95E6E57D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973-4163-4057-8051-9E89DE34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4C0-E08C-46B5-AB4A-67CECD4E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B01-6A5F-4735-876E-C0F61EA2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BEA-3074-400E-ADCD-BE421C8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8FC-954A-4211-A3F7-22ED571E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2a9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2e7cc3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4617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59a9f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213-87FF-49BD-8A3B-01198F015095}" type="slidenum">
              <a:rPr b="0" lang="en-US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2a9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2e7cc3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4617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59a9f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D0B3-3E25-4A1C-B637-BFE3021E10F7}" type="slidenum">
              <a:rPr b="0" lang="en-US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4617b"/>
                </a:solidFill>
                <a:latin typeface="Arial"/>
              </a:rPr>
              <a:t>ПЛАВАНИЕ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e2d700"/>
                </a:solidFill>
                <a:latin typeface="Arial"/>
              </a:rPr>
              <a:t>Описание действий. Развитие речи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e2d700"/>
                </a:solidFill>
                <a:latin typeface="Arial"/>
              </a:rPr>
              <a:t>7 класс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4375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3600360" cy="244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28472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116000" y="3429000"/>
            <a:ext cx="487692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5715000" cy="3848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456264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064360" cy="54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4617b"/>
                </a:solidFill>
                <a:latin typeface="Calibri"/>
              </a:rPr>
              <a:t>ПОДБЕРИТЕ СИНОНИМЫ К СЛОВ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35000"/>
            <a:ext cx="39243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Броситься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Быстрый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Внимательн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905640" y="16686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ину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213372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ну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270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устрем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342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ороп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3933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треми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4508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ор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551664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осредоточен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Образуйте деепричастия от глаголов в следующих словосочетаниях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9784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толкнуться от бортик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теть вниз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йти в воду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льзить по поверхност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ыхать под водой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игатьсят волнообразно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иливать движение ног (рук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ернуть голову на вдохе в сторон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ать руками и ногам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жать на вод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ести  руками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лыть на поверхно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5273640" y="17208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ттолкнувши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5294160" y="21337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ет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221080" y="2492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ойд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5149440" y="29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кольз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511240" y="3357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дых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510160" y="37162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вигая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652360" y="4149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силив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5654880" y="4653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рну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5653080" y="53737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е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6445440" y="58053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реб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6374520" y="62373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плы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5582160" y="4941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4617b"/>
                </a:solidFill>
                <a:latin typeface="Calibri"/>
              </a:rPr>
              <a:t>Спишите. Расставьте недостающие знаки препинания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стрел стартера служит сигналом к началу стартовых действий. В начале полета руки пловца завершив мах вытягиваются вперед голова занимает положение между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7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команде "На старт!" спортсмены подтягивают себя к поручням неподвижно замирая в исходном положении а по выстрелу стартера – отталкиваются и плыв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Кто изобрел плаванье «дельфином»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днажды на ярмарке в азартную игру Филипп Тайе выиграл небольшую красную рыбку. По дороге домой, в машине, мальчик внимательно наблюдал за тем, как плавал в сосуде его маленький приз. Он обнаружил, что когда вода в сосуде колебалась из-за неровной дороги, рыбка, делая неуловимые движения хвостом, оставалась неподвижной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а, наблюдая за своим трофеем, он придумал свой, особый способ плавания - по-дельфинь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начала он попытался скопировать движения рыбки, но безуспешно. Тогда он лег на воду и начал работать вертикально двумя ногами вместе, как будто бы они были одним целым. Получилось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лагодаря новому стилю плавания он смог в воде опережать все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9536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Ответьте на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 двигалась рыб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ие движения придумал мальчи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 он назвал свой стиль плавань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ие преимущества этот способ даывал ему перед другими пловц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454680" y="5630760"/>
            <a:ext cx="85503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ыбка, делая неуловимые движения хвостом, оставалась неподвиж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9421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н попытался скопировать движения рыбки, но безуспешно. Тогда он лег на воду и начал работать вертикально двумя ногами вместе, как будто бы они были одним цел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29040" y="6308640"/>
            <a:ext cx="79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я новому стилю плавания он смог в воде опережать все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542160" y="566100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придумал свой способ плавания - по-дельфинь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4617b"/>
                </a:solidFill>
                <a:latin typeface="Arial"/>
              </a:rPr>
              <a:t>Словарные с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КВАЛАН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ЙВ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АССЕЙ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ИСТАН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2360" y="184428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ТТЕРФЛЯ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ТЕРПОЛО (ВОДНОЕ ПОЛ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РАССКАЖИТЕ, КАК ВЫ НАУЧИЛИСЬ ПЛАВАТЬ ИЛИ КАК ВЫ ПЛАВАЕТЕ (ОПИШИТЕ СВОИ ДЕЙСТВИЯ).</a:t>
            </a:r>
            <a:br>
              <a:rPr sz="2400"/>
            </a:b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 ИСПОЛЬЗУЙТЕ ГЛАГОЛЫ И ДЕЕПРИЧАСТИЯ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985080" cy="46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01120" y="1268280"/>
            <a:ext cx="86425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Arial"/>
              </a:rPr>
              <a:t>Плавание</a:t>
            </a:r>
            <a:r>
              <a:rPr b="0" lang="en-US" sz="4800" spc="-1" strike="noStrike">
                <a:solidFill>
                  <a:srgbClr val="04617b"/>
                </a:solidFill>
                <a:latin typeface="Arial"/>
              </a:rPr>
              <a:t> —способ передвижения  в воде; развлечение, отдых, а также вид спорта.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95272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4617b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Arial"/>
              </a:rPr>
              <a:t>Плавание было известно с доисторических времен.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Большое внимание уделялось плаванию в Древнем Египте, Индии, Япони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Плавание чрезвычайно почиталось у древних греков, оно было обязательной частью некоторых соревнований. Греки говорили: «Он не умеет ни читать, ни плавать». Это была характеристика полной никчемности человека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Популярно было плавание у древних римлян. Оно входило в программу подготовки легионеров. Отменным пловцом был Юлий Цезарь и другие римские полководцы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В средневековой Европе плавание входило в обряд посвящения в рыцари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Стили пла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Кр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Баттерфля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Бр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Плавание на сп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Зимнее плавание</a:t>
            </a:r>
            <a:r>
              <a:rPr b="1" lang="ru-RU" sz="2400" spc="-1" strike="noStrike">
                <a:solidFill>
                  <a:srgbClr val="e2d7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Синхронное пла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Прыжки в в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Водное по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Да́йвинг - подводное плавание со специальным снаряже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3195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84872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921800" cy="55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5640" y="890640"/>
            <a:ext cx="7561440" cy="56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8497800" cy="566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9:50:31Z</dcterms:created>
  <dc:creator>Никушина Мария</dc:creator>
  <dc:description/>
  <dc:language>en-US</dc:language>
  <cp:lastModifiedBy>1</cp:lastModifiedBy>
  <dcterms:modified xsi:type="dcterms:W3CDTF">2009-11-30T11:05:27Z</dcterms:modified>
  <cp:revision>47</cp:revision>
  <dc:subject/>
  <dc:title>Клод Ашиль Дебюсси</dc:title>
</cp:coreProperties>
</file>