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DF0D-45FC-417E-B8CD-825392C3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87CE-5D4F-4ABB-B62A-D74334E1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E45E-3E9E-412D-B1D0-7AD5A25A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8606-A619-4EAF-B047-3731A409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A2AF-C0E3-4369-99A6-E18A3C7B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F159-C8B8-466F-BBFB-BD346760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9F82-AC19-4562-BDDD-B0D92343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CA86-18F7-460E-997D-63F0B87E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7A6D-2333-47D5-87D4-AC65C803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EC46-0E03-4EF6-B32F-31636082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0D9A-0F93-45F3-90C5-E365F1AE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93C9-EEC4-4B39-8F73-3446E9FF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D713-60D5-4AC5-BD6C-A3D6221A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2C5A-E919-4D0E-8409-100EED41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1ECA-5720-4133-8A10-9F69817D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5F0D-C95A-42F4-AE5A-6D817B72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BC93-6F36-48EE-BCB2-A2691167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6C4A-78AA-46F9-A401-8AF33FDB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22D6-10A5-48B5-9602-8189053F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CAB5-28B8-43AC-907C-784597A2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9274-9FE1-4DC3-A33B-536A2B4C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A188-282C-456A-B56A-98B50043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F738-5302-4BC2-91F4-AF2676B6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31D3-E0CA-477A-AC4F-024AB7E9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98b9f">
                  <a:alpha val="45098"/>
                </a:srgbClr>
              </a:gs>
              <a:gs pos="100000">
                <a:srgbClr val="2a9bff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2e7cc3">
                  <a:alpha val="45098"/>
                </a:srgbClr>
              </a:gs>
              <a:gs pos="100000">
                <a:srgbClr val="00b2cd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4617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21b2c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59a9f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3A17-F5CC-414E-8F46-8E2E8F2918C9}" type="slidenum">
              <a:rPr b="0" lang="en-US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98b9f">
                  <a:alpha val="45098"/>
                </a:srgbClr>
              </a:gs>
              <a:gs pos="100000">
                <a:srgbClr val="2a9bff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2e7cc3">
                  <a:alpha val="45098"/>
                </a:srgbClr>
              </a:gs>
              <a:gs pos="100000">
                <a:srgbClr val="00b2cd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4617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21b2c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59a9f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4642-37FA-4C7E-B33E-69D548ABDA19}" type="slidenum">
              <a:rPr b="0" lang="en-US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4617b"/>
                </a:solidFill>
                <a:latin typeface="Arial"/>
              </a:rPr>
              <a:t>ПЛАВАНИЕ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e2d700"/>
                </a:solidFill>
                <a:latin typeface="Arial"/>
              </a:rPr>
              <a:t>Описание действий. Развитие речи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e2d700"/>
                </a:solidFill>
                <a:latin typeface="Arial"/>
              </a:rPr>
              <a:t>7 класс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71640" y="836640"/>
            <a:ext cx="437508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3600360" cy="2449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427640" y="1125360"/>
            <a:ext cx="4284720" cy="3168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116000" y="3429000"/>
            <a:ext cx="4876920" cy="32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03640" y="2781360"/>
            <a:ext cx="5715000" cy="3848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456264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8064360" cy="54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4617b"/>
                </a:solidFill>
                <a:latin typeface="Calibri"/>
              </a:rPr>
              <a:t>ПОДБЕРИТЕ СИНОНИМЫ К СЛОВАМ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935000"/>
            <a:ext cx="392436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Броситься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      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***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      Быстрый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         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***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      Внимательно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   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3905640" y="1668600"/>
            <a:ext cx="17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кинуть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2133720"/>
            <a:ext cx="21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метнуть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6300720" y="2708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устремить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932360" y="3429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тороплив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5940360" y="39337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тремите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6372360" y="450864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вор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551664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осредоточенн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Calibri"/>
              </a:rPr>
              <a:t>Образуйте деепричастия от глаголов в следующих словосочетаниях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9784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толкнуться от бортика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ететь вниз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йти в воду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кользить по поверхности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дыхать под водой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вигатьсят волнообразно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силивать движение ног (рук)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вернуть голову на вдохе в сторону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ботать руками и ногами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ежать на воде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рести  руками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плыть на поверхность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5273640" y="172080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ттолкнувши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5294160" y="213372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лет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5221080" y="2492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войд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5149440" y="29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кольз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5511240" y="335772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выдых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5510160" y="37162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двигая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5652360" y="4149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усилив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5654880" y="46530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верну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5653080" y="537372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леж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6445440" y="580536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греб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6374520" y="623736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выплы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5582160" y="49417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бот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4617b"/>
                </a:solidFill>
                <a:latin typeface="Calibri"/>
              </a:rPr>
              <a:t>Спишите. Расставьте недостающие знаки препинания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799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ыстрел стартера служит сигналом к началу стартовых действий. В начале полета руки пловца завершив мах вытягиваются вперед голова занимает положение между ру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spcBef>
                <a:spcPts val="799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 команде "На старт!" спортсмены подтягивают себя к поручням неподвижно замирая в исходном положении а по выстрелу стартера – отталкиваются и плыв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Calibri"/>
              </a:rPr>
              <a:t>Кто изобрел плаванье «дельфином»?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днажды на ярмарке в азартную игру Филипп Тайе выиграл небольшую красную рыбку. По дороге домой, в машине, мальчик внимательно наблюдал за тем, как плавал в сосуде его маленький приз. Он обнаружил, что когда вода в сосуде колебалась из-за неровной дороги, рыбка, делая неуловимые движения хвостом, оставалась неподвижной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ма, наблюдая за своим трофеем, он придумал свой, особый способ плавания - по-дельфинь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начала он попытался скопировать движения рыбки, но безуспешно. Тогда он лег на воду и начал работать вертикально двумя ногами вместе, как будто бы они были одним целым. Получилось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Благодаря новому стилю плавания он смог в воде опережать всех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95360" cy="48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Ответьте на вопрос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Как двигалась рыб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Какие движения придумал мальчик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Как он назвал свой стиль плавань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Какие преимущества этот способ даывал ему перед другими пловца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454680" y="5630760"/>
            <a:ext cx="855036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ыбка, делая неуловимые движения хвостом, оставалась неподвижн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594216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н попытался скопировать движения рыбки, но безуспешно. Тогда он лег на воду и начал работать вертикально двумя ногами вместе, как будто бы они были одним цел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329040" y="6308640"/>
            <a:ext cx="79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Благодаря новому стилю плавания он смог в воде опережать все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542160" y="5661000"/>
            <a:ext cx="62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н придумал свой способ плавания - по-дельфинь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4617b"/>
                </a:solidFill>
                <a:latin typeface="Arial"/>
              </a:rPr>
              <a:t>Словарные сло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403884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КВАЛАН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ЙВИН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БАССЕЙ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ДИСТАНЦ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32360" y="184428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АТТЕРФЛЯ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Р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О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ТЕРПОЛО (ВОДНОЕ ПОЛ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428760"/>
            <a:ext cx="9144000" cy="64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4617b"/>
                </a:solidFill>
                <a:latin typeface="Calibri"/>
              </a:rPr>
              <a:t>РАССКАЖИТЕ, КАК ВЫ НАУЧИЛИСЬ ПЛАВАТЬ ИЛИ КАК ВЫ ПЛАВАЕТЕ (ОПИШИТЕ СВОИ ДЕЙСТВИЯ).</a:t>
            </a:r>
            <a:br>
              <a:rPr sz="2400"/>
            </a:br>
            <a:r>
              <a:rPr b="1" i="1" lang="en-US" sz="2400" spc="-1" strike="noStrike">
                <a:solidFill>
                  <a:srgbClr val="04617b"/>
                </a:solidFill>
                <a:latin typeface="Calibri"/>
              </a:rPr>
              <a:t> ИСПОЛЬЗУЙТЕ ГЛАГОЛЫ И ДЕЕПРИЧАСТИЯ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6985080" cy="46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01120" y="1268280"/>
            <a:ext cx="864252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Arial"/>
              </a:rPr>
              <a:t>Плавание</a:t>
            </a:r>
            <a:r>
              <a:rPr b="0" lang="en-US" sz="4800" spc="-1" strike="noStrike">
                <a:solidFill>
                  <a:srgbClr val="04617b"/>
                </a:solidFill>
                <a:latin typeface="Arial"/>
              </a:rPr>
              <a:t> —способ передвижения  в воде; развлечение, отдых, а также вид спорта.</a:t>
            </a: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940360" y="4365720"/>
            <a:ext cx="2952720" cy="22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4617b"/>
                </a:solidFill>
                <a:latin typeface="Arial"/>
              </a:rPr>
              <a:t>ИЗ ИСТОРИ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4617b"/>
                </a:solidFill>
                <a:latin typeface="Arial"/>
              </a:rPr>
              <a:t>Плавание было известно с доисторических времен.</a:t>
            </a:r>
            <a:r>
              <a:rPr b="1" lang="en-US" sz="23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575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4617b"/>
                </a:solidFill>
                <a:latin typeface="Calibri"/>
              </a:rPr>
              <a:t>Большое внимание уделялось плаванию в Древнем Египте, Индии, Япони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575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2300" spc="-1" strike="noStrike">
                <a:solidFill>
                  <a:srgbClr val="04617b"/>
                </a:solidFill>
                <a:latin typeface="Calibri"/>
              </a:rPr>
              <a:t>Плавание чрезвычайно почиталось у древних греков, оно было обязательной частью некоторых соревнований. Греки говорили: «Он не умеет ни читать, ни плавать». Это была характеристика полной никчемности человека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575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4617b"/>
                </a:solidFill>
                <a:latin typeface="Calibri"/>
              </a:rPr>
              <a:t>Популярно было плавание у древних римлян. Оно входило в программу подготовки легионеров. Отменным пловцом был Юлий Цезарь и другие римские полководцы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550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4617b"/>
                </a:solidFill>
                <a:latin typeface="Calibri"/>
              </a:rPr>
              <a:t>В средневековой Европе плавание входило в обряд посвящения в рыцари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"/>
              </a:rPr>
              <a:t>Стили плава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700"/>
                </a:solidFill>
                <a:latin typeface="Arial"/>
              </a:rPr>
              <a:t>Кро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700"/>
                </a:solidFill>
                <a:latin typeface="Arial"/>
              </a:rPr>
              <a:t>Баттерфля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700"/>
                </a:solidFill>
                <a:latin typeface="Arial"/>
              </a:rPr>
              <a:t>Бр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700"/>
                </a:solidFill>
                <a:latin typeface="Arial"/>
              </a:rPr>
              <a:t>Плавание на сп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700"/>
                </a:solidFill>
                <a:latin typeface="Arial"/>
              </a:rPr>
              <a:t>Зимнее плавание</a:t>
            </a:r>
            <a:r>
              <a:rPr b="1" lang="ru-RU" sz="2400" spc="-1" strike="noStrike">
                <a:solidFill>
                  <a:srgbClr val="e2d7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700"/>
                </a:solidFill>
                <a:latin typeface="Arial"/>
              </a:rPr>
              <a:t>Синхронное пла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700"/>
                </a:solidFill>
                <a:latin typeface="Arial"/>
              </a:rPr>
              <a:t>Прыжки в во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700"/>
                </a:solidFill>
                <a:latin typeface="Arial"/>
              </a:rPr>
              <a:t>Водное по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700"/>
                </a:solidFill>
                <a:latin typeface="Arial"/>
              </a:rPr>
              <a:t>Да́йвинг - подводное плавание со специальным снаряжени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33195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55640" y="836640"/>
            <a:ext cx="7848720" cy="588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55640" y="907920"/>
            <a:ext cx="7921800" cy="55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55640" y="890640"/>
            <a:ext cx="7561440" cy="56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8497800" cy="5668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9:50:31Z</dcterms:created>
  <dc:creator>Никушина Мария</dc:creator>
  <dc:description/>
  <dc:language>en-US</dc:language>
  <cp:lastModifiedBy>1</cp:lastModifiedBy>
  <dcterms:modified xsi:type="dcterms:W3CDTF">2009-11-30T11:05:27Z</dcterms:modified>
  <cp:revision>47</cp:revision>
  <dc:subject/>
  <dc:title>Клод Ашиль Дебюсси</dc:title>
</cp:coreProperties>
</file>