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151-CC72-4248-8CB2-7B83412D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B4FB-1669-48A4-98AA-30241049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5D1C-7409-4ECB-900B-A09885B3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9E4-D001-4A29-AD35-D627C216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D1CB-D4B4-4DA0-A428-BA885AB7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8103-BA3D-42B5-A652-ED7673D8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B1A1-8EE6-4C7C-902C-604D68EF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07F3-C452-49C1-B62A-1BDA2ACD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1823-60CF-4FBB-80A2-C34D7DE2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6E48-8924-4D0C-9AFB-7070B043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FBBE-EC9A-4B27-9315-D18C315C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944-E01C-45A2-AEB1-03B21BC1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F070-3BB1-4F49-A700-C9D0520D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C13A-592A-4F6D-8804-0F881CE5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4B53-9D62-43E8-ACBA-605B203D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99A2-582A-4EAC-B41B-A9FEE06E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1B43-049F-450F-B50B-75291235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248-1E9C-42B7-B3D8-A8FCDC80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939-DB4C-4343-9E53-31479A68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3E1-A3E4-4E63-A723-C8D3F0BD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729-FC8F-4DBA-82BE-928B98F5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B6D-9AF6-4ADA-B09B-6E53BDF8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0E2-61E0-40E9-BD46-EA628086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7B9-3332-49EE-B9C9-60713EEA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98b9f">
                  <a:alpha val="45098"/>
                </a:srgbClr>
              </a:gs>
              <a:gs pos="100000">
                <a:srgbClr val="2a9bf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2e7cc3">
                  <a:alpha val="45098"/>
                </a:srgbClr>
              </a:gs>
              <a:gs pos="100000">
                <a:srgbClr val="00b2c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4617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21b2c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59a9f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BF2F-BA8B-46C0-8A2B-BB65FF7455D0}" type="slidenum">
              <a:rPr b="0" lang="en-US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98b9f">
                  <a:alpha val="45098"/>
                </a:srgbClr>
              </a:gs>
              <a:gs pos="100000">
                <a:srgbClr val="2a9bf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2e7cc3">
                  <a:alpha val="45098"/>
                </a:srgbClr>
              </a:gs>
              <a:gs pos="100000">
                <a:srgbClr val="00b2cd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4617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21b2c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59a9f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E4B1-2D88-4CA6-8316-A57626EBBE17}" type="slidenum">
              <a:rPr b="0" lang="en-US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4617b"/>
                </a:solidFill>
                <a:latin typeface="Arial"/>
              </a:rPr>
              <a:t>ПЛАВАНИЕ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e2d700"/>
                </a:solidFill>
                <a:latin typeface="Arial"/>
              </a:rPr>
              <a:t>Описание действий. Развитие речи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e2d700"/>
                </a:solidFill>
                <a:latin typeface="Arial"/>
              </a:rPr>
              <a:t>7 класс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437508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3600360" cy="2449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427640" y="1125360"/>
            <a:ext cx="4284720" cy="3168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116000" y="3429000"/>
            <a:ext cx="4876920" cy="32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03640" y="2781360"/>
            <a:ext cx="5715000" cy="3848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456264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8064360" cy="54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4617b"/>
                </a:solidFill>
                <a:latin typeface="Calibri"/>
              </a:rPr>
              <a:t>ПОДБЕРИТЕ СИНОНИМЫ К СЛОВАМ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935000"/>
            <a:ext cx="39243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Броситься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     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***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     Быстрый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***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     Внимательно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   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3905640" y="166860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инуть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2133720"/>
            <a:ext cx="21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метну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2708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устреми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342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торопли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5940360" y="39337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треми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6372360" y="45086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ор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551664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осредоточен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Образуйте деепричастия от глаголов в следующих словосочетаниях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9784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толкнуться от бортик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ететь вниз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йти в воду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кользить по поверхност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дыхать под водой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вигатьсят волнообразно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иливать движение ног (рук)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вернуть голову на вдохе в сторону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ботать руками и ногам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ежать на воде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ести  руками,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плыть на поверхност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5273640" y="172080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ттолкнувши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5294160" y="21337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ет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5221080" y="2492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ойд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5149440" y="29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кольз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5511240" y="33577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ыдых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5510160" y="37162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вигая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5652360" y="4149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силив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5654880" y="46530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верну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5653080" y="53737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еж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6445440" y="58053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греб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6374520" y="623736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ыплы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5582160" y="4941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4617b"/>
                </a:solidFill>
                <a:latin typeface="Calibri"/>
              </a:rPr>
              <a:t>Спишите. Расставьте недостающие знаки препинания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7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стрел стартера служит сигналом к началу стартовых действий. В начале полета руки пловца завершив мах вытягиваются вперед голова занимает положение между ру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spcBef>
                <a:spcPts val="7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 команде "На старт!" спортсмены подтягивают себя к поручням неподвижно замирая в исходном положении а по выстрелу стартера – отталкиваются и плыв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Кто изобрел плаванье «дельфином»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днажды на ярмарке в азартную игру Филипп Тайе выиграл небольшую красную рыбку. По дороге домой, в машине, мальчик внимательно наблюдал за тем, как плавал в сосуде его маленький приз. Он обнаружил, что когда вода в сосуде колебалась из-за неровной дороги, рыбка, делая неуловимые движения хвостом, оставалась неподвижной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а, наблюдая за своим трофеем, он придумал свой, особый способ плавания - по-дельфинь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начала он попытался скопировать движения рыбки, но безуспешно. Тогда он лег на воду и начал работать вертикально двумя ногами вместе, как будто бы они были одним целым. Получилось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лагодаря новому стилю плавания он смог в воде опережать всех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95360" cy="48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Ответьте на вопрос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ак двигалась рыб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акие движения придумал мальчик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ак он назвал свой стиль плавань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акие преимущества этот способ даывал ему перед другими пловц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454680" y="5630760"/>
            <a:ext cx="85503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ыбка, делая неуловимые движения хвостом, оставалась неподвиж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59421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н попытался скопировать движения рыбки, но безуспешно. Тогда он лег на воду и начал работать вертикально двумя ногами вместе, как будто бы они были одним цел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329040" y="6308640"/>
            <a:ext cx="79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Благодаря новому стилю плавания он смог в воде опережать все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542160" y="5661000"/>
            <a:ext cx="62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 придумал свой способ плавания - по-дельфинь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4617b"/>
                </a:solidFill>
                <a:latin typeface="Arial"/>
              </a:rPr>
              <a:t>Словарные сло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403884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КВАЛАН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ЙВИН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АССЕЙ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ИСТАН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32360" y="184428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АТТЕРФЛЯ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Р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ТЕРПОЛО (ВОДНОЕ ПОЛ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428760"/>
            <a:ext cx="9144000" cy="64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4617b"/>
                </a:solidFill>
                <a:latin typeface="Calibri"/>
              </a:rPr>
              <a:t>РАССКАЖИТЕ, КАК ВЫ НАУЧИЛИСЬ ПЛАВАТЬ ИЛИ КАК ВЫ ПЛАВАЕТЕ (ОПИШИТЕ СВОИ ДЕЙСТВИЯ).</a:t>
            </a:r>
            <a:br>
              <a:rPr sz="2400"/>
            </a:br>
            <a:r>
              <a:rPr b="1" i="1" lang="en-US" sz="2400" spc="-1" strike="noStrike">
                <a:solidFill>
                  <a:srgbClr val="04617b"/>
                </a:solidFill>
                <a:latin typeface="Calibri"/>
              </a:rPr>
              <a:t> ИСПОЛЬЗУЙТЕ ГЛАГОЛЫ И ДЕЕПРИЧАСТИЯ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6985080" cy="46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01120" y="1268280"/>
            <a:ext cx="864252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Arial"/>
              </a:rPr>
              <a:t>Плавание</a:t>
            </a:r>
            <a:r>
              <a:rPr b="0" lang="en-US" sz="4800" spc="-1" strike="noStrike">
                <a:solidFill>
                  <a:srgbClr val="04617b"/>
                </a:solidFill>
                <a:latin typeface="Arial"/>
              </a:rPr>
              <a:t> —способ передвижения  в воде; развлечение, отдых, а также вид спорта.</a:t>
            </a:r>
            <a:r>
              <a:rPr b="0" lang="en-US" sz="48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295272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4617b"/>
                </a:solidFill>
                <a:latin typeface="Arial"/>
              </a:rPr>
              <a:t>ИЗ ИСТОРИ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4617b"/>
                </a:solidFill>
                <a:latin typeface="Arial"/>
              </a:rPr>
              <a:t>Плавание было известно с доисторических времен.</a:t>
            </a: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575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Большое внимание уделялось плаванию в Древнем Египте, Индии, Япони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575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Плавание чрезвычайно почиталось у древних греков, оно было обязательной частью некоторых соревнований. Греки говорили: «Он не умеет ни читать, ни плавать». Это была характеристика полной никчемности человека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575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Популярно было плавание у древних римлян. Оно входило в программу подготовки легионеров. Отменным пловцом был Юлий Цезарь и другие римские полководцы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59200" indent="-259200">
              <a:spcBef>
                <a:spcPts val="550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В средневековой Европе плавание входило в обряд посвящения в рыцари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</a:rPr>
              <a:t>Стили плав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Кро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Баттерфля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Бра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Плавание на сп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Зимнее плавание</a:t>
            </a:r>
            <a:r>
              <a:rPr b="1" lang="ru-RU" sz="2400" spc="-1" strike="noStrike">
                <a:solidFill>
                  <a:srgbClr val="e2d7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Синхронное пла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Прыжки в в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Водное по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9a9f2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700"/>
                </a:solidFill>
                <a:latin typeface="Arial"/>
              </a:rPr>
              <a:t>Да́йвинг - подводное плавание со специальным снаряже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3195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7848720" cy="58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7921800" cy="55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5640" y="890640"/>
            <a:ext cx="7561440" cy="56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8497800" cy="566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09:50:31Z</dcterms:created>
  <dc:creator>Никушина Мария</dc:creator>
  <dc:description/>
  <dc:language>en-US</dc:language>
  <cp:lastModifiedBy>1</cp:lastModifiedBy>
  <dcterms:modified xsi:type="dcterms:W3CDTF">2009-11-30T11:05:27Z</dcterms:modified>
  <cp:revision>47</cp:revision>
  <dc:subject/>
  <dc:title>Клод Ашиль Дебюсси</dc:title>
</cp:coreProperties>
</file>