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019-4DD6-4BB6-8B7C-452CFFA8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30F-5166-4566-AA58-EC5F8BF4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045-2C01-4D45-800E-A9ADFA09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D5E-441A-4518-BF11-B3EDF786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9ADE-68C4-4661-9493-14016F50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C1F7-B9E0-4A5A-9FE2-5841AB0C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4105-4C18-4422-AB5E-92C8ED09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0689-B56C-48E2-BE36-92770556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CC42-7F31-4996-81A9-E674D3C4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5F47-640F-430B-9AE6-90F7D67B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5D70-B05C-4D54-B3E6-16330FA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095-53A8-49C3-BFE7-084B30F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5184-C997-4A5A-AAF7-F793CC4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0867-39ED-4079-9CE1-9489AD20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7DA8-00F9-4E51-864B-CCD303E9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F5BE-B590-488E-A3FE-1F8F3661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0052-6E2C-45EA-96EF-90937217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634-F7BC-4FC2-A2B6-9CF16557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4D3-7A53-4D7C-BC30-EB51E762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941-AEF9-4FD1-88F7-D76D25E9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A3C-DB2E-4CF0-BAF4-2D9567D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56E-D0A6-45C4-BA14-11ED6F77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93A-FA5B-4CB2-87FE-B988BDCB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D7D-C9E0-44B7-A539-3884A74E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8B95-02F0-4C62-A272-773029B6FC2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F6CF-A495-4EA8-B608-3C314123A9B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0.wmf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Нации и межнациональные отнош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509640" y="2590920"/>
            <a:ext cx="2827800" cy="1877040"/>
            <a:chOff x="3509640" y="2590920"/>
            <a:chExt cx="2827800" cy="1877040"/>
          </a:xfrm>
        </p:grpSpPr>
        <p:sp>
          <p:nvSpPr>
            <p:cNvPr id="247" name=""/>
            <p:cNvSpPr txBox="1"/>
            <p:nvPr/>
          </p:nvSpPr>
          <p:spPr>
            <a:xfrm>
              <a:off x="3622680" y="2590920"/>
              <a:ext cx="2600280" cy="80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cc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США</a:t>
              </a:r>
              <a:endPara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9640" y="3276720"/>
              <a:ext cx="282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1304"/>
                  </a:solidFill>
                  <a:latin typeface="Times New Roman"/>
                </a:rPr>
                <a:t>Один из вариант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1304"/>
                  </a:solidFill>
                  <a:latin typeface="Times New Roman"/>
                </a:rPr>
                <a:t>межнациональн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1304"/>
                  </a:solidFill>
                  <a:latin typeface="Times New Roman"/>
                </a:rPr>
                <a:t>интеграци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1378080" y="1224000"/>
            <a:ext cx="273672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сутствие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дминистративных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ниц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638680" y="1219320"/>
            <a:ext cx="273708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 вмешательство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сударства в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астную жизнь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371600" y="4724280"/>
            <a:ext cx="273672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сударственные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арантии прав наци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62720" y="4724280"/>
            <a:ext cx="273672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циональная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надлежность-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стное дело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00400" y="3143160"/>
            <a:ext cx="2957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</a:rPr>
              <a:t>дифференци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3880" y="1371600"/>
            <a:ext cx="221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кана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495680" y="99072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еликобрит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308628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Бельг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477120" y="308628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исп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47920" y="50292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осс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105520" y="4800600"/>
            <a:ext cx="327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Югослав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жнациональные конфликты и пути их преодолен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913120" y="1143000"/>
            <a:ext cx="392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История</a:t>
            </a:r>
            <a:endParaRPr b="1" lang="en-US" sz="2400" spc="1" strike="noStrike">
              <a:ln w="1260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666880" y="1981080"/>
            <a:ext cx="4419720" cy="1828800"/>
            <a:chOff x="2666880" y="1981080"/>
            <a:chExt cx="4419720" cy="1828800"/>
          </a:xfrm>
        </p:grpSpPr>
        <p:sp>
          <p:nvSpPr>
            <p:cNvPr id="264" name=""/>
            <p:cNvSpPr txBox="1"/>
            <p:nvPr/>
          </p:nvSpPr>
          <p:spPr>
            <a:xfrm>
              <a:off x="2666880" y="2743200"/>
              <a:ext cx="44197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50000">
                        <a:srgbClr val="000000"/>
                      </a:gs>
                      <a:gs pos="100000">
                        <a:srgbClr val="ffbf00"/>
                      </a:gs>
                    </a:gsLst>
                    <a:lin ang="10800000"/>
                  </a:gradFill>
                  <a:latin typeface="Arial"/>
                </a:rPr>
                <a:t>межнациональные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50000">
                        <a:srgbClr val="000000"/>
                      </a:gs>
                      <a:gs pos="100000">
                        <a:srgbClr val="ffbf00"/>
                      </a:gs>
                    </a:gsLst>
                    <a:lin ang="10800000"/>
                  </a:gradFill>
                  <a:latin typeface="Arial"/>
                </a:rPr>
                <a:t>конфликт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48320" y="1981080"/>
              <a:ext cx="409320" cy="685800"/>
            </a:xfrm>
            <a:prstGeom prst="downArrow">
              <a:avLst>
                <a:gd name="adj1" fmla="val 50000"/>
                <a:gd name="adj2" fmla="val 41887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ff3399"/>
                </a:gs>
                <a:gs pos="100000">
                  <a:srgbClr val="3366ff"/>
                </a:gs>
              </a:gsLst>
              <a:lin ang="10800000"/>
            </a:gradFill>
            <a:ln w="1908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295280" y="3457440"/>
            <a:ext cx="2416320" cy="1876680"/>
            <a:chOff x="1295280" y="3457440"/>
            <a:chExt cx="2416320" cy="1876680"/>
          </a:xfrm>
        </p:grpSpPr>
        <p:sp>
          <p:nvSpPr>
            <p:cNvPr id="267" name=""/>
            <p:cNvSpPr txBox="1"/>
            <p:nvPr/>
          </p:nvSpPr>
          <p:spPr>
            <a:xfrm>
              <a:off x="1295280" y="4267080"/>
              <a:ext cx="241632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кризис в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экономик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2514600" y="345744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181480" y="3457440"/>
            <a:ext cx="3276720" cy="1876680"/>
            <a:chOff x="5181480" y="3457440"/>
            <a:chExt cx="3276720" cy="1876680"/>
          </a:xfrm>
        </p:grpSpPr>
        <p:sp>
          <p:nvSpPr>
            <p:cNvPr id="270" name=""/>
            <p:cNvSpPr txBox="1"/>
            <p:nvPr/>
          </p:nvSpPr>
          <p:spPr>
            <a:xfrm>
              <a:off x="5181480" y="4267080"/>
              <a:ext cx="327672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33"/>
                  </a:solidFill>
                  <a:latin typeface="Arial"/>
                </a:rPr>
                <a:t>национа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33"/>
                  </a:solidFill>
                  <a:latin typeface="Arial"/>
                </a:rPr>
                <a:t>насил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  <a:ea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0800000">
              <a:off x="6248520" y="345744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3000" y="5562720"/>
            <a:ext cx="7696080" cy="990360"/>
            <a:chOff x="1143000" y="5562720"/>
            <a:chExt cx="7696080" cy="990360"/>
          </a:xfrm>
        </p:grpSpPr>
        <p:sp>
          <p:nvSpPr>
            <p:cNvPr id="273" name=""/>
            <p:cNvSpPr/>
            <p:nvPr/>
          </p:nvSpPr>
          <p:spPr>
            <a:xfrm>
              <a:off x="1143000" y="5562720"/>
              <a:ext cx="7696080" cy="457200"/>
            </a:xfrm>
            <a:prstGeom prst="downArrowCallout">
              <a:avLst>
                <a:gd name="adj1" fmla="val 21511"/>
                <a:gd name="adj2" fmla="val 54552"/>
                <a:gd name="adj3" fmla="val 46875"/>
                <a:gd name="adj4" fmla="val 17361"/>
              </a:avLst>
            </a:pr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3360600" y="6019920"/>
              <a:ext cx="32688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ПОИСК ВРАГА</a:t>
              </a:r>
              <a:endParaRPr b="1" lang="en-US" sz="2400" spc="1" strike="noStrike">
                <a:ln w="2844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жнациональные конфликты и пути их преодолен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360600" y="1219320"/>
            <a:ext cx="326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ОИСК ВРАГА</a:t>
            </a:r>
            <a:endParaRPr b="1" lang="en-US" sz="2400" spc="1" strike="noStrike">
              <a:ln w="2844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9320" y="1523880"/>
            <a:ext cx="2133360" cy="1447920"/>
            <a:chOff x="1219320" y="1523880"/>
            <a:chExt cx="2133360" cy="1447920"/>
          </a:xfrm>
        </p:grpSpPr>
        <p:sp>
          <p:nvSpPr>
            <p:cNvPr id="278" name=""/>
            <p:cNvSpPr txBox="1"/>
            <p:nvPr/>
          </p:nvSpPr>
          <p:spPr>
            <a:xfrm>
              <a:off x="1219320" y="2209680"/>
              <a:ext cx="21333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фашизм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0800000">
              <a:off x="2438280" y="152388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2213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629400" y="1523880"/>
            <a:ext cx="1905120" cy="1447920"/>
            <a:chOff x="6629400" y="1523880"/>
            <a:chExt cx="1905120" cy="1447920"/>
          </a:xfrm>
        </p:grpSpPr>
        <p:sp>
          <p:nvSpPr>
            <p:cNvPr id="281" name=""/>
            <p:cNvSpPr txBox="1"/>
            <p:nvPr/>
          </p:nvSpPr>
          <p:spPr>
            <a:xfrm>
              <a:off x="6629400" y="2362320"/>
              <a:ext cx="19051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геноцид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rot="10800000">
              <a:off x="6705720" y="152388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2213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19320" y="3124080"/>
            <a:ext cx="7543800" cy="685800"/>
            <a:chOff x="1219320" y="3124080"/>
            <a:chExt cx="7543800" cy="685800"/>
          </a:xfrm>
        </p:grpSpPr>
        <p:sp>
          <p:nvSpPr>
            <p:cNvPr id="284" name=""/>
            <p:cNvSpPr/>
            <p:nvPr/>
          </p:nvSpPr>
          <p:spPr>
            <a:xfrm>
              <a:off x="1219320" y="3124080"/>
              <a:ext cx="7543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124080" y="3298680"/>
              <a:ext cx="3649680" cy="51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пути разрешения</a:t>
              </a:r>
              <a:endPara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615920" y="4191120"/>
            <a:ext cx="41140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Отказ от насил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витие демократ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витие правовых нач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 жизни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изнание приоритета лич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сти над государств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066680" y="3733920"/>
            <a:ext cx="3733560" cy="2514600"/>
            <a:chOff x="1066680" y="3733920"/>
            <a:chExt cx="3733560" cy="2514600"/>
          </a:xfrm>
        </p:grpSpPr>
        <p:sp>
          <p:nvSpPr>
            <p:cNvPr id="288" name=""/>
            <p:cNvSpPr txBox="1"/>
            <p:nvPr/>
          </p:nvSpPr>
          <p:spPr>
            <a:xfrm>
              <a:off x="1066680" y="4495680"/>
              <a:ext cx="3353040" cy="175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99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гуманистический</a:t>
              </a:r>
              <a:endParaRPr b="1" lang="en-US" sz="24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99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подход к национальным</a:t>
              </a:r>
              <a:endParaRPr b="1" lang="en-US" sz="24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99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проблемам</a:t>
              </a:r>
              <a:endParaRPr b="1" lang="en-US" sz="24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742840" y="3733920"/>
              <a:ext cx="2057400" cy="6858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47920" y="1219320"/>
            <a:ext cx="701028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27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c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оциальная структура</a:t>
            </a:r>
            <a:endParaRPr b="1" lang="en-US" sz="24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cc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2362320"/>
            <a:ext cx="1879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6c75"/>
                    </a:gs>
                    <a:gs pos="50000">
                      <a:srgbClr val="ccecff"/>
                    </a:gs>
                    <a:gs pos="100000">
                      <a:srgbClr val="5e6c75"/>
                    </a:gs>
                  </a:gsLst>
                  <a:lin ang="5400000"/>
                </a:gradFill>
                <a:latin typeface="Arial"/>
              </a:rPr>
              <a:t>племе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6c75"/>
                  </a:gs>
                  <a:gs pos="50000">
                    <a:srgbClr val="ccecff"/>
                  </a:gs>
                  <a:gs pos="100000">
                    <a:srgbClr val="5e6c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86200" y="2362320"/>
            <a:ext cx="2682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184453"/>
                    </a:gs>
                    <a:gs pos="50000">
                      <a:srgbClr val="3694b6"/>
                    </a:gs>
                    <a:gs pos="100000">
                      <a:srgbClr val="184453"/>
                    </a:gs>
                  </a:gsLst>
                  <a:lin ang="5400000"/>
                </a:gradFill>
                <a:latin typeface="Arial"/>
              </a:rPr>
              <a:t>народност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184453"/>
                  </a:gs>
                  <a:gs pos="50000">
                    <a:srgbClr val="3694b6"/>
                  </a:gs>
                  <a:gs pos="100000">
                    <a:srgbClr val="18445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315200" y="23623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36"/>
                    </a:gs>
                    <a:gs pos="50000">
                      <a:srgbClr val="000099"/>
                    </a:gs>
                    <a:gs pos="100000">
                      <a:srgbClr val="000036"/>
                    </a:gs>
                  </a:gsLst>
                  <a:lin ang="5400000"/>
                </a:gradFill>
                <a:latin typeface="Arial"/>
              </a:rPr>
              <a:t>наци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36"/>
                  </a:gs>
                  <a:gs pos="50000">
                    <a:srgbClr val="000099"/>
                  </a:gs>
                  <a:gs pos="100000">
                    <a:srgbClr val="00003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47920" y="3505320"/>
            <a:ext cx="6933960" cy="1447560"/>
            <a:chOff x="1447920" y="3505320"/>
            <a:chExt cx="6933960" cy="1447560"/>
          </a:xfrm>
        </p:grpSpPr>
        <p:sp>
          <p:nvSpPr>
            <p:cNvPr id="122" name=""/>
            <p:cNvSpPr txBox="1"/>
            <p:nvPr/>
          </p:nvSpPr>
          <p:spPr>
            <a:xfrm>
              <a:off x="1447920" y="3505320"/>
              <a:ext cx="259056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~200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осударств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19920" y="3505320"/>
              <a:ext cx="2361960" cy="14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175e17"/>
                      </a:gs>
                      <a:gs pos="50000">
                        <a:srgbClr val="33cc33"/>
                      </a:gs>
                      <a:gs pos="100000">
                        <a:srgbClr val="175e17"/>
                      </a:gs>
                    </a:gsLst>
                    <a:lin ang="5400000"/>
                  </a:gradFill>
                  <a:latin typeface="Arial"/>
                </a:rPr>
                <a:t>~2000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50000">
                      <a:srgbClr val="33cc33"/>
                    </a:gs>
                    <a:gs pos="100000">
                      <a:srgbClr val="175e17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175e17"/>
                      </a:gs>
                      <a:gs pos="50000">
                        <a:srgbClr val="33cc33"/>
                      </a:gs>
                      <a:gs pos="100000">
                        <a:srgbClr val="175e17"/>
                      </a:gs>
                    </a:gsLst>
                    <a:lin ang="5400000"/>
                  </a:gradFill>
                  <a:latin typeface="Arial"/>
                </a:rPr>
                <a:t>народов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50000">
                      <a:srgbClr val="33cc33"/>
                    </a:gs>
                    <a:gs pos="100000">
                      <a:srgbClr val="175e17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19720" y="3657600"/>
              <a:ext cx="1214280" cy="485640"/>
            </a:xfrm>
            <a:prstGeom prst="leftRightArrow">
              <a:avLst>
                <a:gd name="adj1" fmla="val 50000"/>
                <a:gd name="adj2" fmla="val 49776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6600"/>
                </a:gs>
                <a:gs pos="100000">
                  <a:srgbClr val="ffcc00"/>
                </a:gs>
              </a:gsLst>
              <a:lin ang="13500000"/>
            </a:gra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09680" y="4038480"/>
            <a:ext cx="3719520" cy="2334240"/>
            <a:chOff x="1309680" y="4038480"/>
            <a:chExt cx="3719520" cy="2334240"/>
          </a:xfrm>
        </p:grpSpPr>
        <p:sp>
          <p:nvSpPr>
            <p:cNvPr id="126" name=""/>
            <p:cNvSpPr/>
            <p:nvPr/>
          </p:nvSpPr>
          <p:spPr>
            <a:xfrm>
              <a:off x="1309680" y="5181480"/>
              <a:ext cx="2800440" cy="119124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обая роль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ежнациональ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191120" y="4038480"/>
              <a:ext cx="838080" cy="10670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029200" y="4038480"/>
            <a:ext cx="3631680" cy="2334240"/>
            <a:chOff x="5029200" y="4038480"/>
            <a:chExt cx="3631680" cy="2334240"/>
          </a:xfrm>
        </p:grpSpPr>
        <p:sp>
          <p:nvSpPr>
            <p:cNvPr id="129" name=""/>
            <p:cNvSpPr/>
            <p:nvPr/>
          </p:nvSpPr>
          <p:spPr>
            <a:xfrm>
              <a:off x="5839200" y="5181480"/>
              <a:ext cx="2821680" cy="119124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многообраз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мировой культу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9200" y="4038480"/>
              <a:ext cx="762120" cy="10670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4191120"/>
            <a:ext cx="8229600" cy="1828800"/>
          </a:xfrm>
          <a:prstGeom prst="wedgeEllipseCallout">
            <a:avLst>
              <a:gd name="adj1" fmla="val 19907"/>
              <a:gd name="adj2" fmla="val 63194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19480" y="1143000"/>
            <a:ext cx="1879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6c75"/>
                    </a:gs>
                    <a:gs pos="50000">
                      <a:srgbClr val="ccecff"/>
                    </a:gs>
                    <a:gs pos="100000">
                      <a:srgbClr val="5e6c75"/>
                    </a:gs>
                  </a:gsLst>
                  <a:lin ang="5400000"/>
                </a:gradFill>
                <a:latin typeface="Arial"/>
              </a:rPr>
              <a:t>племе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6c75"/>
                  </a:gs>
                  <a:gs pos="50000">
                    <a:srgbClr val="ccecff"/>
                  </a:gs>
                  <a:gs pos="100000">
                    <a:srgbClr val="5e6c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14680" y="1143000"/>
            <a:ext cx="268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184453"/>
                    </a:gs>
                    <a:gs pos="50000">
                      <a:srgbClr val="3694b6"/>
                    </a:gs>
                    <a:gs pos="100000">
                      <a:srgbClr val="184453"/>
                    </a:gs>
                  </a:gsLst>
                  <a:lin ang="5400000"/>
                </a:gradFill>
                <a:latin typeface="Arial"/>
              </a:rPr>
              <a:t>народност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184453"/>
                  </a:gs>
                  <a:gs pos="50000">
                    <a:srgbClr val="3694b6"/>
                  </a:gs>
                  <a:gs pos="100000">
                    <a:srgbClr val="18445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15200" y="11430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36"/>
                    </a:gs>
                    <a:gs pos="50000">
                      <a:srgbClr val="000099"/>
                    </a:gs>
                    <a:gs pos="100000">
                      <a:srgbClr val="000036"/>
                    </a:gs>
                  </a:gsLst>
                  <a:lin ang="5400000"/>
                </a:gradFill>
                <a:latin typeface="Arial"/>
              </a:rPr>
              <a:t>наци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36"/>
                  </a:gs>
                  <a:gs pos="50000">
                    <a:srgbClr val="000099"/>
                  </a:gs>
                  <a:gs pos="100000">
                    <a:srgbClr val="00003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179360"/>
            <a:ext cx="8841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"/>
              </a:rPr>
              <a:t>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"/>
              <a:ea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143000" y="1752480"/>
            <a:ext cx="3048120" cy="914400"/>
            <a:chOff x="1143000" y="1752480"/>
            <a:chExt cx="3048120" cy="914400"/>
          </a:xfrm>
        </p:grpSpPr>
        <p:sp>
          <p:nvSpPr>
            <p:cNvPr id="138" name=""/>
            <p:cNvSpPr/>
            <p:nvPr/>
          </p:nvSpPr>
          <p:spPr>
            <a:xfrm>
              <a:off x="1143000" y="1752480"/>
              <a:ext cx="3048120" cy="304920"/>
            </a:xfrm>
            <a:prstGeom prst="downArrowCallout">
              <a:avLst>
                <a:gd name="adj1" fmla="val 53134"/>
                <a:gd name="adj2" fmla="val 69235"/>
                <a:gd name="adj3" fmla="val 41144"/>
                <a:gd name="adj4" fmla="val 29690"/>
              </a:avLst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219320" y="2133720"/>
              <a:ext cx="29718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первобытность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05400" y="1600200"/>
            <a:ext cx="2504880" cy="1143000"/>
            <a:chOff x="4505400" y="1600200"/>
            <a:chExt cx="2504880" cy="1143000"/>
          </a:xfrm>
        </p:grpSpPr>
        <p:sp>
          <p:nvSpPr>
            <p:cNvPr id="141" name=""/>
            <p:cNvSpPr txBox="1"/>
            <p:nvPr/>
          </p:nvSpPr>
          <p:spPr>
            <a:xfrm>
              <a:off x="4505400" y="2085840"/>
              <a:ext cx="250488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классы,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государство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160020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086600" y="1600200"/>
            <a:ext cx="1803240" cy="990720"/>
            <a:chOff x="7086600" y="1600200"/>
            <a:chExt cx="1803240" cy="990720"/>
          </a:xfrm>
        </p:grpSpPr>
        <p:sp>
          <p:nvSpPr>
            <p:cNvPr id="144" name=""/>
            <p:cNvSpPr txBox="1"/>
            <p:nvPr/>
          </p:nvSpPr>
          <p:spPr>
            <a:xfrm>
              <a:off x="7086600" y="2262240"/>
              <a:ext cx="1803240" cy="32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капитализм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1600200"/>
              <a:ext cx="0" cy="5335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51200" y="2895480"/>
            <a:ext cx="6152760" cy="1191240"/>
            <a:chOff x="1951200" y="2895480"/>
            <a:chExt cx="6152760" cy="1191240"/>
          </a:xfrm>
        </p:grpSpPr>
        <p:sp>
          <p:nvSpPr>
            <p:cNvPr id="147" name=""/>
            <p:cNvSpPr txBox="1"/>
            <p:nvPr/>
          </p:nvSpPr>
          <p:spPr>
            <a:xfrm>
              <a:off x="1951200" y="3216240"/>
              <a:ext cx="15825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этнос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08600" y="2895480"/>
              <a:ext cx="3195360" cy="119124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юде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обладающи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щностью культу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 txBox="1"/>
          <p:nvPr/>
        </p:nvSpPr>
        <p:spPr>
          <a:xfrm>
            <a:off x="6781680" y="6248520"/>
            <a:ext cx="151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743200" y="5272200"/>
            <a:ext cx="1471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91e1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лемя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91e1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257800" y="4586400"/>
            <a:ext cx="1471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лемя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4586400"/>
            <a:ext cx="28576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ародность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8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5121360"/>
            <a:ext cx="285732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1bd6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ародность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1bd6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14800" y="1066680"/>
            <a:ext cx="1517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55080" y="1600200"/>
            <a:ext cx="3845160" cy="1948680"/>
            <a:chOff x="955080" y="1600200"/>
            <a:chExt cx="3845160" cy="1948680"/>
          </a:xfrm>
        </p:grpSpPr>
        <p:grpSp>
          <p:nvGrpSpPr>
            <p:cNvPr id="157" name=""/>
            <p:cNvGrpSpPr/>
            <p:nvPr/>
          </p:nvGrpSpPr>
          <p:grpSpPr>
            <a:xfrm>
              <a:off x="955080" y="2438280"/>
              <a:ext cx="3004560" cy="1110600"/>
              <a:chOff x="955080" y="2438280"/>
              <a:chExt cx="3004560" cy="11106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1435320" y="2438280"/>
                <a:ext cx="2043000" cy="907200"/>
                <a:chOff x="1435320" y="2438280"/>
                <a:chExt cx="2043000" cy="907200"/>
              </a:xfrm>
            </p:grpSpPr>
            <p:sp>
              <p:nvSpPr>
                <p:cNvPr id="159" name=""/>
                <p:cNvSpPr txBox="1"/>
                <p:nvPr/>
              </p:nvSpPr>
              <p:spPr>
                <a:xfrm>
                  <a:off x="1435320" y="2438280"/>
                  <a:ext cx="2043000" cy="558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atin typeface="Arial"/>
                    </a:rPr>
                    <a:t>абвгд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2"/>
                      <a:srcRect/>
                      <a:tile tx="0" ty="0" sx="100000" sy="100000" algn="ctr"/>
                    </a:blipFill>
                    <a:latin typeface="Arial"/>
                    <a:ea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016000" y="2885760"/>
                  <a:ext cx="88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язы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955080" y="3089160"/>
                <a:ext cx="30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(но!Канада-2 языка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H="1">
              <a:off x="3200040" y="1600200"/>
              <a:ext cx="1600200" cy="76212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94080" y="1600200"/>
            <a:ext cx="2847600" cy="4980240"/>
            <a:chOff x="3394080" y="1600200"/>
            <a:chExt cx="2847600" cy="4980240"/>
          </a:xfrm>
        </p:grpSpPr>
        <p:grpSp>
          <p:nvGrpSpPr>
            <p:cNvPr id="164" name=""/>
            <p:cNvGrpSpPr/>
            <p:nvPr/>
          </p:nvGrpSpPr>
          <p:grpSpPr>
            <a:xfrm>
              <a:off x="3394080" y="2057400"/>
              <a:ext cx="2847600" cy="4523040"/>
              <a:chOff x="3394080" y="2057400"/>
              <a:chExt cx="2847600" cy="45230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3665520" y="2057400"/>
                <a:ext cx="2199960" cy="2562480"/>
                <a:chOff x="3665520" y="2057400"/>
                <a:chExt cx="2199960" cy="2562480"/>
              </a:xfrm>
            </p:grpSpPr>
            <p:pic>
              <p:nvPicPr>
                <p:cNvPr id="1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14800" y="2057400"/>
                  <a:ext cx="1471680" cy="152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3665520" y="3428640"/>
                  <a:ext cx="21999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Общность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историческог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пути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3394080" y="4657680"/>
                <a:ext cx="2847600" cy="1922760"/>
              </a:xfrm>
              <a:prstGeom prst="rect">
                <a:avLst/>
              </a:prstGeom>
              <a:solidFill>
                <a:srgbClr val="ffffcc"/>
              </a:solidFill>
              <a:ln w="7632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общая территори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хозяй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вяз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связи с соседям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религия и т.д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800600" y="1600200"/>
              <a:ext cx="0" cy="83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00600" y="1600200"/>
            <a:ext cx="3958560" cy="2441520"/>
            <a:chOff x="4800600" y="1600200"/>
            <a:chExt cx="3958560" cy="2441520"/>
          </a:xfrm>
        </p:grpSpPr>
        <p:grpSp>
          <p:nvGrpSpPr>
            <p:cNvPr id="171" name=""/>
            <p:cNvGrpSpPr/>
            <p:nvPr/>
          </p:nvGrpSpPr>
          <p:grpSpPr>
            <a:xfrm>
              <a:off x="6456960" y="1955880"/>
              <a:ext cx="2302200" cy="2085840"/>
              <a:chOff x="6456960" y="1955880"/>
              <a:chExt cx="2302200" cy="2085840"/>
            </a:xfrm>
          </p:grpSpPr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1955880"/>
                <a:ext cx="895320" cy="11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6456960" y="3216240"/>
                <a:ext cx="2302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циональная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ультур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800600" y="1600200"/>
              <a:ext cx="1676520" cy="68580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81040" y="1523880"/>
            <a:ext cx="36403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счезнувшие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род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14960" y="1447920"/>
            <a:ext cx="3243240" cy="842760"/>
            <a:chOff x="5214960" y="1447920"/>
            <a:chExt cx="3243240" cy="842760"/>
          </a:xfrm>
        </p:grpSpPr>
        <p:sp>
          <p:nvSpPr>
            <p:cNvPr id="178" name=""/>
            <p:cNvSpPr txBox="1"/>
            <p:nvPr/>
          </p:nvSpPr>
          <p:spPr>
            <a:xfrm>
              <a:off x="6662880" y="1447920"/>
              <a:ext cx="1795320" cy="84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хетты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печенег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14960" y="1905120"/>
              <a:ext cx="1295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295280" y="2590920"/>
            <a:ext cx="7391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600200" y="2819520"/>
            <a:ext cx="665172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50000">
                      <a:srgbClr val="5e6c75"/>
                    </a:gs>
                    <a:gs pos="100000">
                      <a:srgbClr val="cce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еравномерность развития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5000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3962520"/>
            <a:ext cx="269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6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англий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780000" y="3962520"/>
            <a:ext cx="269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7-18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ус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370560" y="3962520"/>
            <a:ext cx="269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19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емец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730840"/>
            <a:ext cx="85345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ринадлежность человека к н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20 веке определяется доброволь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ональное самосозн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88120" y="2717640"/>
            <a:ext cx="1529640" cy="1704960"/>
            <a:chOff x="4488120" y="2717640"/>
            <a:chExt cx="1529640" cy="170496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943520" y="2717640"/>
              <a:ext cx="95868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488120" y="3597120"/>
              <a:ext cx="152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ич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озна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590920" y="472428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ю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рода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48520" y="1523880"/>
            <a:ext cx="1904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66680" y="3276720"/>
            <a:ext cx="3124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сьменность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324480" y="327672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талитет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1219320"/>
            <a:ext cx="3657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ад в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овую культуру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38680" y="4724280"/>
            <a:ext cx="1981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дость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нацию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ональное самосозн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71600" y="137160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24267"/>
                    </a:gs>
                    <a:gs pos="50000">
                      <a:srgbClr val="9191e1"/>
                    </a:gs>
                    <a:gs pos="100000">
                      <a:srgbClr val="424267"/>
                    </a:gs>
                  </a:gsLst>
                  <a:lin ang="5400000"/>
                </a:gradFill>
                <a:latin typeface="Arial"/>
              </a:rPr>
              <a:t>национально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24267"/>
                  </a:gs>
                  <a:gs pos="50000">
                    <a:srgbClr val="9191e1"/>
                  </a:gs>
                  <a:gs pos="100000">
                    <a:srgbClr val="424267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24267"/>
                    </a:gs>
                    <a:gs pos="50000">
                      <a:srgbClr val="9191e1"/>
                    </a:gs>
                    <a:gs pos="100000">
                      <a:srgbClr val="424267"/>
                    </a:gs>
                  </a:gsLst>
                  <a:lin ang="5400000"/>
                </a:gradFill>
                <a:latin typeface="Arial"/>
              </a:rPr>
              <a:t>созна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24267"/>
                  </a:gs>
                  <a:gs pos="50000">
                    <a:srgbClr val="9191e1"/>
                  </a:gs>
                  <a:gs pos="100000">
                    <a:srgbClr val="424267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267080" y="1143000"/>
            <a:ext cx="4114800" cy="1236600"/>
            <a:chOff x="4267080" y="1143000"/>
            <a:chExt cx="4114800" cy="1236600"/>
          </a:xfrm>
        </p:grpSpPr>
        <p:sp>
          <p:nvSpPr>
            <p:cNvPr id="199" name=""/>
            <p:cNvSpPr txBox="1"/>
            <p:nvPr/>
          </p:nvSpPr>
          <p:spPr>
            <a:xfrm>
              <a:off x="5653080" y="1143000"/>
              <a:ext cx="2728800" cy="123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сознание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ационального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нтереса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1752480"/>
              <a:ext cx="1295640" cy="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76480" y="2362320"/>
            <a:ext cx="5757480" cy="2806560"/>
            <a:chOff x="1176480" y="2362320"/>
            <a:chExt cx="5757480" cy="2806560"/>
          </a:xfrm>
        </p:grpSpPr>
        <p:grpSp>
          <p:nvGrpSpPr>
            <p:cNvPr id="202" name=""/>
            <p:cNvGrpSpPr/>
            <p:nvPr/>
          </p:nvGrpSpPr>
          <p:grpSpPr>
            <a:xfrm>
              <a:off x="1176480" y="3200400"/>
              <a:ext cx="3009240" cy="1968480"/>
              <a:chOff x="1176480" y="3200400"/>
              <a:chExt cx="3009240" cy="1968480"/>
            </a:xfrm>
          </p:grpSpPr>
          <p:pic>
            <p:nvPicPr>
              <p:cNvPr id="2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162160" y="3200400"/>
                <a:ext cx="1035000" cy="131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1176480" y="4343400"/>
                <a:ext cx="3009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охранение свое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истории и культуры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flipH="1">
              <a:off x="2895120" y="2362320"/>
              <a:ext cx="4038840" cy="91440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280480" y="2362320"/>
            <a:ext cx="3475440" cy="2923920"/>
            <a:chOff x="5280480" y="2362320"/>
            <a:chExt cx="3475440" cy="2923920"/>
          </a:xfrm>
        </p:grpSpPr>
        <p:pic>
          <p:nvPicPr>
            <p:cNvPr id="207" name="" descr=""/>
            <p:cNvPicPr/>
            <p:nvPr/>
          </p:nvPicPr>
          <p:blipFill>
            <a:blip r:embed="rId8"/>
            <a:stretch/>
          </p:blipFill>
          <p:spPr>
            <a:xfrm>
              <a:off x="7010280" y="3495600"/>
              <a:ext cx="144792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9"/>
            <a:stretch/>
          </p:blipFill>
          <p:spPr>
            <a:xfrm>
              <a:off x="5638680" y="2917800"/>
              <a:ext cx="123984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280480" y="4460760"/>
              <a:ext cx="347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сная связь с другим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циями и культурами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4320" y="2362320"/>
              <a:ext cx="0" cy="121896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263960" y="5562720"/>
            <a:ext cx="7357320" cy="8254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идет процесс отгораживания от других наций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вляется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НАЦИОН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057400" y="1143000"/>
            <a:ext cx="5826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/>
                  </a:outerShdw>
                </a:effectLst>
                <a:latin typeface="Arial"/>
              </a:rPr>
              <a:t>развитие наций</a:t>
            </a:r>
            <a:endParaRPr b="1" lang="en-US" sz="2400" spc="1" strike="noStrike">
              <a:ln w="1260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3640" y="5730840"/>
            <a:ext cx="72889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ействуют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чередуясь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 протяжении всей истор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особствуют прогрессу цивил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23160" y="1600200"/>
            <a:ext cx="3506040" cy="3949560"/>
            <a:chOff x="1523160" y="1600200"/>
            <a:chExt cx="3506040" cy="3949560"/>
          </a:xfrm>
        </p:grpSpPr>
        <p:grpSp>
          <p:nvGrpSpPr>
            <p:cNvPr id="216" name=""/>
            <p:cNvGrpSpPr/>
            <p:nvPr/>
          </p:nvGrpSpPr>
          <p:grpSpPr>
            <a:xfrm>
              <a:off x="1523160" y="2590920"/>
              <a:ext cx="3227040" cy="2958840"/>
              <a:chOff x="1523160" y="2590920"/>
              <a:chExt cx="3227040" cy="29588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860480" y="2590920"/>
                <a:ext cx="2575080" cy="2133000"/>
                <a:chOff x="1860480" y="2590920"/>
                <a:chExt cx="2575080" cy="2133000"/>
              </a:xfrm>
            </p:grpSpPr>
            <p:pic>
              <p:nvPicPr>
                <p:cNvPr id="2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46320" y="2590920"/>
                  <a:ext cx="2057400" cy="1465200"/>
                </a:xfrm>
                <a:prstGeom prst="rect">
                  <a:avLst/>
                </a:prstGeom>
                <a:ln w="76320">
                  <a:solidFill>
                    <a:srgbClr val="990033"/>
                  </a:solidFill>
                  <a:miter/>
                </a:ln>
              </p:spPr>
            </p:pic>
            <p:sp>
              <p:nvSpPr>
                <p:cNvPr id="219" name=""/>
                <p:cNvSpPr txBox="1"/>
                <p:nvPr/>
              </p:nvSpPr>
              <p:spPr>
                <a:xfrm>
                  <a:off x="1860480" y="4190760"/>
                  <a:ext cx="2575080" cy="533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6600"/>
                      </a:solidFill>
                      <a:latin typeface="Arial"/>
                    </a:rPr>
                    <a:t>интеграция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1523160" y="4724280"/>
                <a:ext cx="3227040" cy="825480"/>
              </a:xfrm>
              <a:prstGeom prst="rect">
                <a:avLst/>
              </a:prstGeom>
              <a:gradFill rotWithShape="0">
                <a:gsLst>
                  <a:gs pos="0">
                    <a:srgbClr val="002f00"/>
                  </a:gs>
                  <a:gs pos="50000">
                    <a:srgbClr val="006600"/>
                  </a:gs>
                  <a:gs pos="100000">
                    <a:srgbClr val="002f00"/>
                  </a:gs>
                </a:gsLst>
                <a:lin ang="5400000"/>
              </a:grad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Ломка национальны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перегородо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flipH="1">
              <a:off x="3124080" y="1600200"/>
              <a:ext cx="1905120" cy="8380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029200" y="1600200"/>
            <a:ext cx="3236400" cy="3965400"/>
            <a:chOff x="5029200" y="1600200"/>
            <a:chExt cx="3236400" cy="3965400"/>
          </a:xfrm>
        </p:grpSpPr>
        <p:grpSp>
          <p:nvGrpSpPr>
            <p:cNvPr id="223" name=""/>
            <p:cNvGrpSpPr/>
            <p:nvPr/>
          </p:nvGrpSpPr>
          <p:grpSpPr>
            <a:xfrm>
              <a:off x="5443920" y="2590920"/>
              <a:ext cx="2821680" cy="2974680"/>
              <a:chOff x="5443920" y="2590920"/>
              <a:chExt cx="2821680" cy="2974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594400" y="2590920"/>
                <a:ext cx="2576520" cy="2094840"/>
                <a:chOff x="5594400" y="2590920"/>
                <a:chExt cx="2576520" cy="2094840"/>
              </a:xfrm>
            </p:grpSpPr>
            <p:pic>
              <p:nvPicPr>
                <p:cNvPr id="2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80240" y="2590920"/>
                  <a:ext cx="2000160" cy="1488960"/>
                </a:xfrm>
                <a:prstGeom prst="rect">
                  <a:avLst/>
                </a:prstGeom>
                <a:ln w="76320">
                  <a:solidFill>
                    <a:srgbClr val="990033"/>
                  </a:solidFill>
                  <a:miter/>
                </a:ln>
              </p:spPr>
            </p:pic>
            <p:sp>
              <p:nvSpPr>
                <p:cNvPr id="226" name=""/>
                <p:cNvSpPr txBox="1"/>
                <p:nvPr/>
              </p:nvSpPr>
              <p:spPr>
                <a:xfrm>
                  <a:off x="5594400" y="4114800"/>
                  <a:ext cx="2576520" cy="57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12600">
                        <a:solidFill>
                          <a:srgbClr val="990033"/>
                        </a:solidFill>
                        <a:miter/>
                      </a:ln>
                      <a:gradFill rotWithShape="0">
                        <a:gsLst>
                          <a:gs pos="0">
                            <a:srgbClr val="9400ed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atin typeface="Arial"/>
                    </a:rPr>
                    <a:t>дифференциация</a:t>
                  </a:r>
                  <a:endParaRPr b="1" lang="en-US" sz="2400" spc="1" strike="noStrike">
                    <a:ln w="12600">
                      <a:solidFill>
                        <a:srgbClr val="990033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5443920" y="4740120"/>
                <a:ext cx="2821680" cy="825480"/>
              </a:xfrm>
              <a:prstGeom prst="rect">
                <a:avLst/>
              </a:prstGeom>
              <a:gradFill rotWithShape="0">
                <a:gsLst>
                  <a:gs pos="0">
                    <a:srgbClr val="460046"/>
                  </a:gs>
                  <a:gs pos="50000">
                    <a:srgbClr val="990099"/>
                  </a:gs>
                  <a:gs pos="100000">
                    <a:srgbClr val="460046"/>
                  </a:gs>
                </a:gsLst>
                <a:lin ang="5400000"/>
              </a:grad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Национальная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самостоятель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029200" y="1600200"/>
              <a:ext cx="1828800" cy="83808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1520" y="1066680"/>
            <a:ext cx="17571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49160" y="2133720"/>
            <a:ext cx="1892160" cy="2349360"/>
            <a:chOff x="749160" y="2133720"/>
            <a:chExt cx="1892160" cy="234936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749160" y="2133720"/>
              <a:ext cx="1892160" cy="14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88400" y="3657600"/>
              <a:ext cx="1838880" cy="82548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Объединя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НТ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936160" y="2133720"/>
            <a:ext cx="2361600" cy="2365200"/>
            <a:chOff x="2936160" y="2133720"/>
            <a:chExt cx="2361600" cy="236520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3627360" y="2133720"/>
              <a:ext cx="97956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936160" y="3673440"/>
              <a:ext cx="2361600" cy="82548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Экономическ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интег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644440" y="2209680"/>
            <a:ext cx="3341520" cy="2289240"/>
            <a:chOff x="5644440" y="2209680"/>
            <a:chExt cx="3341520" cy="2289240"/>
          </a:xfrm>
        </p:grpSpPr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6540480" y="2209680"/>
              <a:ext cx="1550880" cy="1105200"/>
            </a:xfrm>
            <a:prstGeom prst="rect">
              <a:avLst/>
            </a:prstGeom>
            <a:ln w="38160">
              <a:solidFill>
                <a:srgbClr val="990099"/>
              </a:solidFill>
              <a:miter/>
            </a:ln>
          </p:spPr>
        </p:pic>
        <p:sp>
          <p:nvSpPr>
            <p:cNvPr id="239" name=""/>
            <p:cNvSpPr/>
            <p:nvPr/>
          </p:nvSpPr>
          <p:spPr>
            <a:xfrm>
              <a:off x="5644440" y="3673440"/>
              <a:ext cx="3341520" cy="82548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Интернацион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жизн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838080" y="4800600"/>
            <a:ext cx="8077320" cy="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552680" y="5114880"/>
            <a:ext cx="2485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уд Европейских 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обществ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129200" y="5105520"/>
            <a:ext cx="3981240" cy="1191240"/>
            <a:chOff x="4129200" y="5105520"/>
            <a:chExt cx="3981240" cy="1191240"/>
          </a:xfrm>
        </p:grpSpPr>
        <p:sp>
          <p:nvSpPr>
            <p:cNvPr id="243" name=""/>
            <p:cNvSpPr/>
            <p:nvPr/>
          </p:nvSpPr>
          <p:spPr>
            <a:xfrm>
              <a:off x="5233680" y="5105520"/>
              <a:ext cx="2876760" cy="1191240"/>
            </a:xfrm>
            <a:prstGeom prst="rect">
              <a:avLst/>
            </a:prstGeom>
            <a:gradFill rotWithShape="0">
              <a:gsLst>
                <a:gs pos="0">
                  <a:srgbClr val="460046"/>
                </a:gs>
                <a:gs pos="50000">
                  <a:srgbClr val="990099"/>
                </a:gs>
                <a:gs pos="100000">
                  <a:srgbClr val="460046"/>
                </a:gs>
              </a:gsLst>
              <a:lin ang="5400000"/>
            </a:gra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ешение слож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межнациональны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пробл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29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22T15:41:27Z</dcterms:modified>
  <cp:revision>102</cp:revision>
  <dc:subject/>
  <dc:title>ОСОБЕННОСТИ ДРЕВНИХ ЦИВИЛИЗАЦИЙ.</dc:title>
</cp:coreProperties>
</file>