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DB5-64A2-474A-AACC-2CCBD505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05E-DDFE-45DC-BDB3-7937BEC5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8A0-0D17-4412-9F9A-BF9C74E5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F4E-6EDD-4E62-974A-A997DDA6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1295-DECC-4522-810F-77938569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0C5A-FA3A-403B-8F7F-E9E41ECE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01A2-5B0E-4F00-9611-4F3FBB0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64D-A9ED-4552-A621-3ADB519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63D-E708-4CBE-A02F-422D5D2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9562-BD75-485C-ADFA-5CA6BAD2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66F-E4FE-4A59-9FC3-B232EAE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832-356A-4211-B322-E2D939A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6E00-E56B-4D64-ACF5-3DC11DF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BB1C-2334-4196-9BA9-31273DE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5149-9B53-4687-87CC-725AF29B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DB13-2DE0-47CE-9737-58E8387A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0324-0C01-4F74-A0E4-4EBD789E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347-F2FA-4DEB-947F-0547F615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073-9678-451E-A056-B8316624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E64-22EF-49C1-A64D-ABFCE77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FBD-9F6E-4B65-99DC-93E15C2E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15E-8F44-4E00-8E4A-32FCA4A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57D-6469-4727-8B01-99D1A3E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C99-5434-417F-9320-0FA4B8C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51D-43F6-4DBB-9211-65084CE159B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4CCC-3D0E-4DEB-9AA0-53FF9E807D6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Нации и межнациональные отнош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509640" y="2590920"/>
            <a:ext cx="2827800" cy="1877040"/>
            <a:chOff x="3509640" y="2590920"/>
            <a:chExt cx="2827800" cy="1877040"/>
          </a:xfrm>
        </p:grpSpPr>
        <p:sp>
          <p:nvSpPr>
            <p:cNvPr id="247" name=""/>
            <p:cNvSpPr txBox="1"/>
            <p:nvPr/>
          </p:nvSpPr>
          <p:spPr>
            <a:xfrm>
              <a:off x="3622680" y="2590920"/>
              <a:ext cx="260028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cc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США</a:t>
              </a:r>
              <a:endPara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9640" y="3276720"/>
              <a:ext cx="282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Один из вариан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межнациональн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интеграци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378080" y="122400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сутстви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дминистративных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ниц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638680" y="1219320"/>
            <a:ext cx="273708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 вмешательств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сударства в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астную жизнь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71600" y="472428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сударственные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арантии прав нац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62720" y="472428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ональная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надлежность-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стное дел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00400" y="3143160"/>
            <a:ext cx="2957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дифференци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371600"/>
            <a:ext cx="22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кан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95680" y="99072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еликобрит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0862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Бельг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477120" y="30862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исп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47920" y="50292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05520" y="4800600"/>
            <a:ext cx="32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Югослав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жнациональные конфликты и пути их преодолен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913120" y="1143000"/>
            <a:ext cx="392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История</a:t>
            </a:r>
            <a:endParaRPr b="1" lang="en-US" sz="2400" spc="1" strike="noStrike">
              <a:ln w="1260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66880" y="1981080"/>
            <a:ext cx="4419720" cy="1828800"/>
            <a:chOff x="2666880" y="1981080"/>
            <a:chExt cx="4419720" cy="1828800"/>
          </a:xfrm>
        </p:grpSpPr>
        <p:sp>
          <p:nvSpPr>
            <p:cNvPr id="264" name=""/>
            <p:cNvSpPr txBox="1"/>
            <p:nvPr/>
          </p:nvSpPr>
          <p:spPr>
            <a:xfrm>
              <a:off x="2666880" y="2743200"/>
              <a:ext cx="4419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50000">
                        <a:srgbClr val="000000"/>
                      </a:gs>
                      <a:gs pos="100000">
                        <a:srgbClr val="ffbf00"/>
                      </a:gs>
                    </a:gsLst>
                    <a:lin ang="10800000"/>
                  </a:gradFill>
                  <a:latin typeface="Arial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50000">
                        <a:srgbClr val="000000"/>
                      </a:gs>
                      <a:gs pos="100000">
                        <a:srgbClr val="ffbf00"/>
                      </a:gs>
                    </a:gsLst>
                    <a:lin ang="10800000"/>
                  </a:gradFill>
                  <a:latin typeface="Arial"/>
                </a:rPr>
                <a:t>конфлик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8320" y="1981080"/>
              <a:ext cx="409320" cy="685800"/>
            </a:xfrm>
            <a:prstGeom prst="downArrow">
              <a:avLst>
                <a:gd name="adj1" fmla="val 50000"/>
                <a:gd name="adj2" fmla="val 41887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f3399"/>
                </a:gs>
                <a:gs pos="100000">
                  <a:srgbClr val="3366ff"/>
                </a:gs>
              </a:gsLst>
              <a:lin ang="10800000"/>
            </a:gradFill>
            <a:ln w="1908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95280" y="3457440"/>
            <a:ext cx="2416320" cy="1876680"/>
            <a:chOff x="1295280" y="3457440"/>
            <a:chExt cx="2416320" cy="1876680"/>
          </a:xfrm>
        </p:grpSpPr>
        <p:sp>
          <p:nvSpPr>
            <p:cNvPr id="267" name=""/>
            <p:cNvSpPr txBox="1"/>
            <p:nvPr/>
          </p:nvSpPr>
          <p:spPr>
            <a:xfrm>
              <a:off x="1295280" y="4267080"/>
              <a:ext cx="24163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кризис в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экономик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2514600" y="345744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81480" y="3457440"/>
            <a:ext cx="3276720" cy="1876680"/>
            <a:chOff x="5181480" y="3457440"/>
            <a:chExt cx="3276720" cy="1876680"/>
          </a:xfrm>
        </p:grpSpPr>
        <p:sp>
          <p:nvSpPr>
            <p:cNvPr id="270" name=""/>
            <p:cNvSpPr txBox="1"/>
            <p:nvPr/>
          </p:nvSpPr>
          <p:spPr>
            <a:xfrm>
              <a:off x="5181480" y="42670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33"/>
                  </a:solidFill>
                  <a:latin typeface="Arial"/>
                </a:rPr>
                <a:t>национа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33"/>
                  </a:solidFill>
                  <a:latin typeface="Arial"/>
                </a:rPr>
                <a:t>насил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  <a:ea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0800000">
              <a:off x="6248520" y="345744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5562720"/>
            <a:ext cx="7696080" cy="990360"/>
            <a:chOff x="1143000" y="5562720"/>
            <a:chExt cx="7696080" cy="990360"/>
          </a:xfrm>
        </p:grpSpPr>
        <p:sp>
          <p:nvSpPr>
            <p:cNvPr id="273" name=""/>
            <p:cNvSpPr/>
            <p:nvPr/>
          </p:nvSpPr>
          <p:spPr>
            <a:xfrm>
              <a:off x="1143000" y="5562720"/>
              <a:ext cx="7696080" cy="457200"/>
            </a:xfrm>
            <a:prstGeom prst="downArrowCallout">
              <a:avLst>
                <a:gd name="adj1" fmla="val 21511"/>
                <a:gd name="adj2" fmla="val 54552"/>
                <a:gd name="adj3" fmla="val 46875"/>
                <a:gd name="adj4" fmla="val 17361"/>
              </a:avLst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360600" y="6019920"/>
              <a:ext cx="3268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ПОИСК ВРАГА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жнациональные конфликты и пути их преодолен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360600" y="1219320"/>
            <a:ext cx="326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ОИСК ВРАГА</a:t>
            </a:r>
            <a:endParaRPr b="1" lang="en-US" sz="2400" spc="1" strike="noStrike">
              <a:ln w="2844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9320" y="1523880"/>
            <a:ext cx="2133360" cy="1447920"/>
            <a:chOff x="1219320" y="1523880"/>
            <a:chExt cx="2133360" cy="1447920"/>
          </a:xfrm>
        </p:grpSpPr>
        <p:sp>
          <p:nvSpPr>
            <p:cNvPr id="278" name=""/>
            <p:cNvSpPr txBox="1"/>
            <p:nvPr/>
          </p:nvSpPr>
          <p:spPr>
            <a:xfrm>
              <a:off x="1219320" y="2209680"/>
              <a:ext cx="21333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фашизм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800000">
              <a:off x="2438280" y="1523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29400" y="1523880"/>
            <a:ext cx="1905120" cy="1447920"/>
            <a:chOff x="6629400" y="1523880"/>
            <a:chExt cx="1905120" cy="1447920"/>
          </a:xfrm>
        </p:grpSpPr>
        <p:sp>
          <p:nvSpPr>
            <p:cNvPr id="281" name=""/>
            <p:cNvSpPr txBox="1"/>
            <p:nvPr/>
          </p:nvSpPr>
          <p:spPr>
            <a:xfrm>
              <a:off x="6629400" y="2362320"/>
              <a:ext cx="19051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геноцид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rot="10800000">
              <a:off x="6705720" y="1523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19320" y="3124080"/>
            <a:ext cx="7543800" cy="685800"/>
            <a:chOff x="1219320" y="3124080"/>
            <a:chExt cx="7543800" cy="685800"/>
          </a:xfrm>
        </p:grpSpPr>
        <p:sp>
          <p:nvSpPr>
            <p:cNvPr id="284" name=""/>
            <p:cNvSpPr/>
            <p:nvPr/>
          </p:nvSpPr>
          <p:spPr>
            <a:xfrm>
              <a:off x="1219320" y="3124080"/>
              <a:ext cx="7543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124080" y="3298680"/>
              <a:ext cx="3649680" cy="51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пути разрешения</a:t>
              </a:r>
              <a:endPara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615920" y="4191120"/>
            <a:ext cx="41140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Отказ от насил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витие демократ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витие правовых нач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жизни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изнание приоритета лич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сти над государ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66680" y="3733920"/>
            <a:ext cx="3733560" cy="2514600"/>
            <a:chOff x="1066680" y="3733920"/>
            <a:chExt cx="3733560" cy="2514600"/>
          </a:xfrm>
        </p:grpSpPr>
        <p:sp>
          <p:nvSpPr>
            <p:cNvPr id="288" name=""/>
            <p:cNvSpPr txBox="1"/>
            <p:nvPr/>
          </p:nvSpPr>
          <p:spPr>
            <a:xfrm>
              <a:off x="1066680" y="4495680"/>
              <a:ext cx="3353040" cy="175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гуманистический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одход к национальным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роблемам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742840" y="3733920"/>
              <a:ext cx="2057400" cy="6858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47920" y="1219320"/>
            <a:ext cx="701028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7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оциальная структура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2362320"/>
            <a:ext cx="1879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племе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6200" y="2362320"/>
            <a:ext cx="2682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184453"/>
                    </a:gs>
                    <a:gs pos="50000">
                      <a:srgbClr val="3694b6"/>
                    </a:gs>
                    <a:gs pos="100000">
                      <a:srgbClr val="184453"/>
                    </a:gs>
                  </a:gsLst>
                  <a:lin ang="5400000"/>
                </a:gradFill>
                <a:latin typeface="Arial"/>
              </a:rPr>
              <a:t>народност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184453"/>
                  </a:gs>
                  <a:gs pos="50000">
                    <a:srgbClr val="3694b6"/>
                  </a:gs>
                  <a:gs pos="100000">
                    <a:srgbClr val="18445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315200" y="23623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36"/>
                    </a:gs>
                    <a:gs pos="50000">
                      <a:srgbClr val="000099"/>
                    </a:gs>
                    <a:gs pos="100000">
                      <a:srgbClr val="000036"/>
                    </a:gs>
                  </a:gsLst>
                  <a:lin ang="5400000"/>
                </a:gradFill>
                <a:latin typeface="Arial"/>
              </a:rPr>
              <a:t>наци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36"/>
                  </a:gs>
                  <a:gs pos="50000">
                    <a:srgbClr val="000099"/>
                  </a:gs>
                  <a:gs pos="100000">
                    <a:srgbClr val="00003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3505320"/>
            <a:ext cx="6933960" cy="1447560"/>
            <a:chOff x="1447920" y="3505320"/>
            <a:chExt cx="6933960" cy="1447560"/>
          </a:xfrm>
        </p:grpSpPr>
        <p:sp>
          <p:nvSpPr>
            <p:cNvPr id="122" name=""/>
            <p:cNvSpPr txBox="1"/>
            <p:nvPr/>
          </p:nvSpPr>
          <p:spPr>
            <a:xfrm>
              <a:off x="1447920" y="3505320"/>
              <a:ext cx="259056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~200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сударств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19920" y="3505320"/>
              <a:ext cx="2361960" cy="14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175e17"/>
                      </a:gs>
                      <a:gs pos="50000">
                        <a:srgbClr val="33cc33"/>
                      </a:gs>
                      <a:gs pos="100000">
                        <a:srgbClr val="175e17"/>
                      </a:gs>
                    </a:gsLst>
                    <a:lin ang="5400000"/>
                  </a:gradFill>
                  <a:latin typeface="Arial"/>
                </a:rPr>
                <a:t>~2000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175e17"/>
                      </a:gs>
                      <a:gs pos="50000">
                        <a:srgbClr val="33cc33"/>
                      </a:gs>
                      <a:gs pos="100000">
                        <a:srgbClr val="175e17"/>
                      </a:gs>
                    </a:gsLst>
                    <a:lin ang="5400000"/>
                  </a:gradFill>
                  <a:latin typeface="Arial"/>
                </a:rPr>
                <a:t>народов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72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6600"/>
                </a:gs>
                <a:gs pos="100000">
                  <a:srgbClr val="ffcc00"/>
                </a:gs>
              </a:gsLst>
              <a:lin ang="13500000"/>
            </a:gra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09680" y="4038480"/>
            <a:ext cx="3719520" cy="2334240"/>
            <a:chOff x="1309680" y="4038480"/>
            <a:chExt cx="3719520" cy="2334240"/>
          </a:xfrm>
        </p:grpSpPr>
        <p:sp>
          <p:nvSpPr>
            <p:cNvPr id="126" name=""/>
            <p:cNvSpPr/>
            <p:nvPr/>
          </p:nvSpPr>
          <p:spPr>
            <a:xfrm>
              <a:off x="1309680" y="5181480"/>
              <a:ext cx="2800440" cy="119124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обая роль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жнациональ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191120" y="4038480"/>
              <a:ext cx="838080" cy="10670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029200" y="4038480"/>
            <a:ext cx="3631680" cy="2334240"/>
            <a:chOff x="5029200" y="4038480"/>
            <a:chExt cx="3631680" cy="2334240"/>
          </a:xfrm>
        </p:grpSpPr>
        <p:sp>
          <p:nvSpPr>
            <p:cNvPr id="129" name=""/>
            <p:cNvSpPr/>
            <p:nvPr/>
          </p:nvSpPr>
          <p:spPr>
            <a:xfrm>
              <a:off x="5839200" y="5181480"/>
              <a:ext cx="2821680" cy="119124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ногообраз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ировой куль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4038480"/>
              <a:ext cx="762120" cy="10670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4191120"/>
            <a:ext cx="8229600" cy="1828800"/>
          </a:xfrm>
          <a:prstGeom prst="wedgeEllipseCallout">
            <a:avLst>
              <a:gd name="adj1" fmla="val 19907"/>
              <a:gd name="adj2" fmla="val 63194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19480" y="1143000"/>
            <a:ext cx="1879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племе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14680" y="1143000"/>
            <a:ext cx="268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184453"/>
                    </a:gs>
                    <a:gs pos="50000">
                      <a:srgbClr val="3694b6"/>
                    </a:gs>
                    <a:gs pos="100000">
                      <a:srgbClr val="184453"/>
                    </a:gs>
                  </a:gsLst>
                  <a:lin ang="5400000"/>
                </a:gradFill>
                <a:latin typeface="Arial"/>
              </a:rPr>
              <a:t>народност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184453"/>
                  </a:gs>
                  <a:gs pos="50000">
                    <a:srgbClr val="3694b6"/>
                  </a:gs>
                  <a:gs pos="100000">
                    <a:srgbClr val="18445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15200" y="11430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36"/>
                    </a:gs>
                    <a:gs pos="50000">
                      <a:srgbClr val="000099"/>
                    </a:gs>
                    <a:gs pos="100000">
                      <a:srgbClr val="000036"/>
                    </a:gs>
                  </a:gsLst>
                  <a:lin ang="5400000"/>
                </a:gradFill>
                <a:latin typeface="Arial"/>
              </a:rPr>
              <a:t>наци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36"/>
                  </a:gs>
                  <a:gs pos="50000">
                    <a:srgbClr val="000099"/>
                  </a:gs>
                  <a:gs pos="100000">
                    <a:srgbClr val="00003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179360"/>
            <a:ext cx="8841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"/>
              </a:rPr>
              <a:t>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"/>
              <a:ea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43000" y="1752480"/>
            <a:ext cx="3048120" cy="914400"/>
            <a:chOff x="1143000" y="1752480"/>
            <a:chExt cx="3048120" cy="914400"/>
          </a:xfrm>
        </p:grpSpPr>
        <p:sp>
          <p:nvSpPr>
            <p:cNvPr id="138" name=""/>
            <p:cNvSpPr/>
            <p:nvPr/>
          </p:nvSpPr>
          <p:spPr>
            <a:xfrm>
              <a:off x="1143000" y="1752480"/>
              <a:ext cx="3048120" cy="304920"/>
            </a:xfrm>
            <a:prstGeom prst="downArrowCallout">
              <a:avLst>
                <a:gd name="adj1" fmla="val 53134"/>
                <a:gd name="adj2" fmla="val 69235"/>
                <a:gd name="adj3" fmla="val 41144"/>
                <a:gd name="adj4" fmla="val 29690"/>
              </a:avLst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219320" y="2133720"/>
              <a:ext cx="2971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ервобытность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5400" y="1600200"/>
            <a:ext cx="2504880" cy="1143000"/>
            <a:chOff x="4505400" y="1600200"/>
            <a:chExt cx="2504880" cy="1143000"/>
          </a:xfrm>
        </p:grpSpPr>
        <p:sp>
          <p:nvSpPr>
            <p:cNvPr id="141" name=""/>
            <p:cNvSpPr txBox="1"/>
            <p:nvPr/>
          </p:nvSpPr>
          <p:spPr>
            <a:xfrm>
              <a:off x="4505400" y="2085840"/>
              <a:ext cx="250488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классы,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государство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160020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086600" y="1600200"/>
            <a:ext cx="1803240" cy="990720"/>
            <a:chOff x="7086600" y="1600200"/>
            <a:chExt cx="1803240" cy="990720"/>
          </a:xfrm>
        </p:grpSpPr>
        <p:sp>
          <p:nvSpPr>
            <p:cNvPr id="144" name=""/>
            <p:cNvSpPr txBox="1"/>
            <p:nvPr/>
          </p:nvSpPr>
          <p:spPr>
            <a:xfrm>
              <a:off x="7086600" y="2262240"/>
              <a:ext cx="1803240" cy="32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капитализм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1600200"/>
              <a:ext cx="0" cy="5335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51200" y="2895480"/>
            <a:ext cx="6152760" cy="1191240"/>
            <a:chOff x="1951200" y="2895480"/>
            <a:chExt cx="6152760" cy="1191240"/>
          </a:xfrm>
        </p:grpSpPr>
        <p:sp>
          <p:nvSpPr>
            <p:cNvPr id="147" name=""/>
            <p:cNvSpPr txBox="1"/>
            <p:nvPr/>
          </p:nvSpPr>
          <p:spPr>
            <a:xfrm>
              <a:off x="1951200" y="3216240"/>
              <a:ext cx="15825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этнос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8600" y="2895480"/>
              <a:ext cx="3195360" cy="119124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де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обладающи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ностью куль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 txBox="1"/>
          <p:nvPr/>
        </p:nvSpPr>
        <p:spPr>
          <a:xfrm>
            <a:off x="6781680" y="6248520"/>
            <a:ext cx="151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43200" y="5272200"/>
            <a:ext cx="1471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91e1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ем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91e1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57800" y="4586400"/>
            <a:ext cx="1471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ем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4586400"/>
            <a:ext cx="28576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родност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5121360"/>
            <a:ext cx="28573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1bd6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родност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1bd6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14800" y="1066680"/>
            <a:ext cx="1517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55080" y="1600200"/>
            <a:ext cx="3845160" cy="1948680"/>
            <a:chOff x="955080" y="1600200"/>
            <a:chExt cx="3845160" cy="1948680"/>
          </a:xfrm>
        </p:grpSpPr>
        <p:grpSp>
          <p:nvGrpSpPr>
            <p:cNvPr id="157" name=""/>
            <p:cNvGrpSpPr/>
            <p:nvPr/>
          </p:nvGrpSpPr>
          <p:grpSpPr>
            <a:xfrm>
              <a:off x="955080" y="2438280"/>
              <a:ext cx="3004560" cy="1110600"/>
              <a:chOff x="955080" y="2438280"/>
              <a:chExt cx="3004560" cy="1110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435320" y="2438280"/>
                <a:ext cx="2043000" cy="907200"/>
                <a:chOff x="1435320" y="2438280"/>
                <a:chExt cx="2043000" cy="907200"/>
              </a:xfrm>
            </p:grpSpPr>
            <p:sp>
              <p:nvSpPr>
                <p:cNvPr id="159" name=""/>
                <p:cNvSpPr txBox="1"/>
                <p:nvPr/>
              </p:nvSpPr>
              <p:spPr>
                <a:xfrm>
                  <a:off x="1435320" y="2438280"/>
                  <a:ext cx="2043000" cy="558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atin typeface="Arial"/>
                    </a:rPr>
                    <a:t>абвгд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latin typeface="Arial"/>
                    <a:ea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16000" y="2885760"/>
                  <a:ext cx="88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язы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955080" y="3089160"/>
                <a:ext cx="30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(но!Канада-2 языка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H="1">
              <a:off x="3200040" y="1600200"/>
              <a:ext cx="1600200" cy="762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94080" y="1600200"/>
            <a:ext cx="2847600" cy="4980240"/>
            <a:chOff x="3394080" y="1600200"/>
            <a:chExt cx="2847600" cy="4980240"/>
          </a:xfrm>
        </p:grpSpPr>
        <p:grpSp>
          <p:nvGrpSpPr>
            <p:cNvPr id="164" name=""/>
            <p:cNvGrpSpPr/>
            <p:nvPr/>
          </p:nvGrpSpPr>
          <p:grpSpPr>
            <a:xfrm>
              <a:off x="3394080" y="2057400"/>
              <a:ext cx="2847600" cy="4523040"/>
              <a:chOff x="3394080" y="2057400"/>
              <a:chExt cx="2847600" cy="45230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665520" y="2057400"/>
                <a:ext cx="2199960" cy="2562480"/>
                <a:chOff x="3665520" y="2057400"/>
                <a:chExt cx="2199960" cy="256248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14800" y="2057400"/>
                  <a:ext cx="1471680" cy="152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3665520" y="3428640"/>
                  <a:ext cx="2199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Общность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историческог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пут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394080" y="4657680"/>
                <a:ext cx="2847600" cy="1922760"/>
              </a:xfrm>
              <a:prstGeom prst="rect">
                <a:avLst/>
              </a:prstGeom>
              <a:solidFill>
                <a:srgbClr val="ffffcc"/>
              </a:solidFill>
              <a:ln w="7632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общая территор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хозяй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вяз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связи с соседям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религия и т.д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800600" y="1600200"/>
              <a:ext cx="0" cy="83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00600" y="1600200"/>
            <a:ext cx="3958560" cy="2441520"/>
            <a:chOff x="4800600" y="1600200"/>
            <a:chExt cx="3958560" cy="2441520"/>
          </a:xfrm>
        </p:grpSpPr>
        <p:grpSp>
          <p:nvGrpSpPr>
            <p:cNvPr id="171" name=""/>
            <p:cNvGrpSpPr/>
            <p:nvPr/>
          </p:nvGrpSpPr>
          <p:grpSpPr>
            <a:xfrm>
              <a:off x="6456960" y="1955880"/>
              <a:ext cx="2302200" cy="2085840"/>
              <a:chOff x="6456960" y="1955880"/>
              <a:chExt cx="2302200" cy="2085840"/>
            </a:xfrm>
          </p:grpSpPr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1955880"/>
                <a:ext cx="895320" cy="11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6456960" y="3216240"/>
                <a:ext cx="2302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циональна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ультур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800600" y="1600200"/>
              <a:ext cx="1676520" cy="68580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81040" y="1523880"/>
            <a:ext cx="36403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счезнувшие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род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14960" y="1447920"/>
            <a:ext cx="3243240" cy="842760"/>
            <a:chOff x="5214960" y="1447920"/>
            <a:chExt cx="3243240" cy="842760"/>
          </a:xfrm>
        </p:grpSpPr>
        <p:sp>
          <p:nvSpPr>
            <p:cNvPr id="178" name=""/>
            <p:cNvSpPr txBox="1"/>
            <p:nvPr/>
          </p:nvSpPr>
          <p:spPr>
            <a:xfrm>
              <a:off x="6662880" y="1447920"/>
              <a:ext cx="1795320" cy="84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хетты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печенег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4960" y="190512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95280" y="259092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00200" y="2819520"/>
            <a:ext cx="66517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5e6c75"/>
                    </a:gs>
                    <a:gs pos="100000">
                      <a:srgbClr val="cce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еравномерность развити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5000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6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англий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78000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7-18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ус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7056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19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емец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30840"/>
            <a:ext cx="85345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инадлежность человека к н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20 веке определяется доброво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ое самосозн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88120" y="2717640"/>
            <a:ext cx="1529640" cy="1704960"/>
            <a:chOff x="4488120" y="2717640"/>
            <a:chExt cx="1529640" cy="170496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943520" y="2717640"/>
              <a:ext cx="95868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88120" y="359712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озна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590920" y="472428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ю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520" y="1523880"/>
            <a:ext cx="1904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680" y="3276720"/>
            <a:ext cx="3124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ьменность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324480" y="327672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талитет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12193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в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ую культур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38680" y="4724280"/>
            <a:ext cx="1981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дость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нацию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ое самосозн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71600" y="13716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4267"/>
                    </a:gs>
                    <a:gs pos="50000">
                      <a:srgbClr val="9191e1"/>
                    </a:gs>
                    <a:gs pos="100000">
                      <a:srgbClr val="424267"/>
                    </a:gs>
                  </a:gsLst>
                  <a:lin ang="5400000"/>
                </a:gradFill>
                <a:latin typeface="Arial"/>
              </a:rPr>
              <a:t>национально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4267"/>
                  </a:gs>
                  <a:gs pos="50000">
                    <a:srgbClr val="9191e1"/>
                  </a:gs>
                  <a:gs pos="100000">
                    <a:srgbClr val="424267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4267"/>
                    </a:gs>
                    <a:gs pos="50000">
                      <a:srgbClr val="9191e1"/>
                    </a:gs>
                    <a:gs pos="100000">
                      <a:srgbClr val="424267"/>
                    </a:gs>
                  </a:gsLst>
                  <a:lin ang="5400000"/>
                </a:gradFill>
                <a:latin typeface="Arial"/>
              </a:rPr>
              <a:t>созн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4267"/>
                  </a:gs>
                  <a:gs pos="50000">
                    <a:srgbClr val="9191e1"/>
                  </a:gs>
                  <a:gs pos="100000">
                    <a:srgbClr val="424267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267080" y="1143000"/>
            <a:ext cx="4114800" cy="1236600"/>
            <a:chOff x="4267080" y="1143000"/>
            <a:chExt cx="4114800" cy="1236600"/>
          </a:xfrm>
        </p:grpSpPr>
        <p:sp>
          <p:nvSpPr>
            <p:cNvPr id="199" name=""/>
            <p:cNvSpPr txBox="1"/>
            <p:nvPr/>
          </p:nvSpPr>
          <p:spPr>
            <a:xfrm>
              <a:off x="5653080" y="1143000"/>
              <a:ext cx="2728800" cy="12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сознание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ационального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нтереса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1752480"/>
              <a:ext cx="1295640" cy="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76480" y="2362320"/>
            <a:ext cx="5757480" cy="2806560"/>
            <a:chOff x="1176480" y="2362320"/>
            <a:chExt cx="5757480" cy="2806560"/>
          </a:xfrm>
        </p:grpSpPr>
        <p:grpSp>
          <p:nvGrpSpPr>
            <p:cNvPr id="202" name=""/>
            <p:cNvGrpSpPr/>
            <p:nvPr/>
          </p:nvGrpSpPr>
          <p:grpSpPr>
            <a:xfrm>
              <a:off x="1176480" y="3200400"/>
              <a:ext cx="3009240" cy="1968480"/>
              <a:chOff x="1176480" y="3200400"/>
              <a:chExt cx="3009240" cy="1968480"/>
            </a:xfrm>
          </p:grpSpPr>
          <p:pic>
            <p:nvPicPr>
              <p:cNvPr id="2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62160" y="3200400"/>
                <a:ext cx="1035000" cy="13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176480" y="4343400"/>
                <a:ext cx="3009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хранение свое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стории и культур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2895120" y="2362320"/>
              <a:ext cx="4038840" cy="91440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280480" y="2362320"/>
            <a:ext cx="3475440" cy="2923920"/>
            <a:chOff x="5280480" y="2362320"/>
            <a:chExt cx="3475440" cy="2923920"/>
          </a:xfrm>
        </p:grpSpPr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495600"/>
              <a:ext cx="144792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"/>
            <a:stretch/>
          </p:blipFill>
          <p:spPr>
            <a:xfrm>
              <a:off x="5638680" y="2917800"/>
              <a:ext cx="123984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280480" y="4460760"/>
              <a:ext cx="347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сная связь с други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циями и культурам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2362320"/>
              <a:ext cx="0" cy="121896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63960" y="5562720"/>
            <a:ext cx="7357320" cy="825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идет процесс отгораживания от других наци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вляется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НАЦИОН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57400" y="1143000"/>
            <a:ext cx="582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Arial"/>
              </a:rPr>
              <a:t>развитие наций</a:t>
            </a:r>
            <a:endParaRPr b="1" lang="en-US" sz="2400" spc="1" strike="noStrike">
              <a:ln w="1260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3640" y="5730840"/>
            <a:ext cx="72889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ействуют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ередуясь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протяжении всей истор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особствуют прогрессу цивил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3160" y="1600200"/>
            <a:ext cx="3506040" cy="3949560"/>
            <a:chOff x="1523160" y="1600200"/>
            <a:chExt cx="3506040" cy="3949560"/>
          </a:xfrm>
        </p:grpSpPr>
        <p:grpSp>
          <p:nvGrpSpPr>
            <p:cNvPr id="216" name=""/>
            <p:cNvGrpSpPr/>
            <p:nvPr/>
          </p:nvGrpSpPr>
          <p:grpSpPr>
            <a:xfrm>
              <a:off x="1523160" y="2590920"/>
              <a:ext cx="3227040" cy="2958840"/>
              <a:chOff x="1523160" y="2590920"/>
              <a:chExt cx="3227040" cy="2958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860480" y="2590920"/>
                <a:ext cx="2575080" cy="2133000"/>
                <a:chOff x="1860480" y="2590920"/>
                <a:chExt cx="2575080" cy="213300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46320" y="2590920"/>
                  <a:ext cx="2057400" cy="1465200"/>
                </a:xfrm>
                <a:prstGeom prst="rect">
                  <a:avLst/>
                </a:prstGeom>
                <a:ln w="76320">
                  <a:solidFill>
                    <a:srgbClr val="990033"/>
                  </a:solidFill>
                  <a:miter/>
                </a:ln>
              </p:spPr>
            </p:pic>
            <p:sp>
              <p:nvSpPr>
                <p:cNvPr id="219" name=""/>
                <p:cNvSpPr txBox="1"/>
                <p:nvPr/>
              </p:nvSpPr>
              <p:spPr>
                <a:xfrm>
                  <a:off x="1860480" y="4190760"/>
                  <a:ext cx="2575080" cy="533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6600"/>
                      </a:solidFill>
                      <a:latin typeface="Arial"/>
                    </a:rPr>
                    <a:t>интеграция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1523160" y="4724280"/>
                <a:ext cx="3227040" cy="825480"/>
              </a:xfrm>
              <a:prstGeom prst="rect">
                <a:avLst/>
              </a:prstGeom>
              <a:gradFill rotWithShape="0">
                <a:gsLst>
                  <a:gs pos="0">
                    <a:srgbClr val="002f00"/>
                  </a:gs>
                  <a:gs pos="50000">
                    <a:srgbClr val="006600"/>
                  </a:gs>
                  <a:gs pos="100000">
                    <a:srgbClr val="002f00"/>
                  </a:gs>
                </a:gsLst>
                <a:lin ang="5400000"/>
              </a:gra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Ломка национальны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перегородо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H="1">
              <a:off x="3124080" y="1600200"/>
              <a:ext cx="1905120" cy="8380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029200" y="1600200"/>
            <a:ext cx="3236400" cy="3965400"/>
            <a:chOff x="5029200" y="1600200"/>
            <a:chExt cx="3236400" cy="3965400"/>
          </a:xfrm>
        </p:grpSpPr>
        <p:grpSp>
          <p:nvGrpSpPr>
            <p:cNvPr id="223" name=""/>
            <p:cNvGrpSpPr/>
            <p:nvPr/>
          </p:nvGrpSpPr>
          <p:grpSpPr>
            <a:xfrm>
              <a:off x="5443920" y="2590920"/>
              <a:ext cx="2821680" cy="2974680"/>
              <a:chOff x="5443920" y="2590920"/>
              <a:chExt cx="2821680" cy="2974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594400" y="2590920"/>
                <a:ext cx="2576520" cy="2094840"/>
                <a:chOff x="5594400" y="2590920"/>
                <a:chExt cx="2576520" cy="2094840"/>
              </a:xfrm>
            </p:grpSpPr>
            <p:pic>
              <p:nvPicPr>
                <p:cNvPr id="2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80240" y="2590920"/>
                  <a:ext cx="2000160" cy="1488960"/>
                </a:xfrm>
                <a:prstGeom prst="rect">
                  <a:avLst/>
                </a:prstGeom>
                <a:ln w="76320">
                  <a:solidFill>
                    <a:srgbClr val="990033"/>
                  </a:solidFill>
                  <a:miter/>
                </a:ln>
              </p:spPr>
            </p:pic>
            <p:sp>
              <p:nvSpPr>
                <p:cNvPr id="226" name=""/>
                <p:cNvSpPr txBox="1"/>
                <p:nvPr/>
              </p:nvSpPr>
              <p:spPr>
                <a:xfrm>
                  <a:off x="5594400" y="4114800"/>
                  <a:ext cx="2576520" cy="57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12600">
                        <a:solidFill>
                          <a:srgbClr val="990033"/>
                        </a:solidFill>
                        <a:miter/>
                      </a:ln>
                      <a:gradFill rotWithShape="0">
                        <a:gsLst>
                          <a:gs pos="0">
                            <a:srgbClr val="9400ed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atin typeface="Arial"/>
                    </a:rPr>
                    <a:t>дифференциация</a:t>
                  </a:r>
                  <a:endParaRPr b="1" lang="en-US" sz="2400" spc="1" strike="noStrike">
                    <a:ln w="12600">
                      <a:solidFill>
                        <a:srgbClr val="990033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5443920" y="4740120"/>
                <a:ext cx="2821680" cy="825480"/>
              </a:xfrm>
              <a:prstGeom prst="rect">
                <a:avLst/>
              </a:prstGeom>
              <a:gradFill rotWithShape="0">
                <a:gsLst>
                  <a:gs pos="0">
                    <a:srgbClr val="460046"/>
                  </a:gs>
                  <a:gs pos="50000">
                    <a:srgbClr val="990099"/>
                  </a:gs>
                  <a:gs pos="100000">
                    <a:srgbClr val="460046"/>
                  </a:gs>
                </a:gsLst>
                <a:lin ang="5400000"/>
              </a:gra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Национальна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самосто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029200" y="1600200"/>
              <a:ext cx="1828800" cy="83808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1520" y="1066680"/>
            <a:ext cx="17571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49160" y="2133720"/>
            <a:ext cx="1892160" cy="2349360"/>
            <a:chOff x="749160" y="2133720"/>
            <a:chExt cx="1892160" cy="234936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49160" y="2133720"/>
              <a:ext cx="189216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88400" y="3657600"/>
              <a:ext cx="183888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Объединя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НТ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936160" y="2133720"/>
            <a:ext cx="2361600" cy="2365200"/>
            <a:chOff x="2936160" y="2133720"/>
            <a:chExt cx="2361600" cy="236520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627360" y="2133720"/>
              <a:ext cx="9795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936160" y="3673440"/>
              <a:ext cx="236160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Экономическ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нтег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644440" y="2209680"/>
            <a:ext cx="3341520" cy="2289240"/>
            <a:chOff x="5644440" y="2209680"/>
            <a:chExt cx="3341520" cy="228924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6540480" y="2209680"/>
              <a:ext cx="1550880" cy="1105200"/>
            </a:xfrm>
            <a:prstGeom prst="rect">
              <a:avLst/>
            </a:prstGeom>
            <a:ln w="38160">
              <a:solidFill>
                <a:srgbClr val="990099"/>
              </a:solidFill>
              <a:miter/>
            </a:ln>
          </p:spPr>
        </p:pic>
        <p:sp>
          <p:nvSpPr>
            <p:cNvPr id="239" name=""/>
            <p:cNvSpPr/>
            <p:nvPr/>
          </p:nvSpPr>
          <p:spPr>
            <a:xfrm>
              <a:off x="5644440" y="3673440"/>
              <a:ext cx="334152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нтернацион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жиз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38080" y="4800600"/>
            <a:ext cx="8077320" cy="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552680" y="5114880"/>
            <a:ext cx="2485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уд Европейских 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обществ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129200" y="5105520"/>
            <a:ext cx="3981240" cy="1191240"/>
            <a:chOff x="4129200" y="5105520"/>
            <a:chExt cx="3981240" cy="1191240"/>
          </a:xfrm>
        </p:grpSpPr>
        <p:sp>
          <p:nvSpPr>
            <p:cNvPr id="243" name=""/>
            <p:cNvSpPr/>
            <p:nvPr/>
          </p:nvSpPr>
          <p:spPr>
            <a:xfrm>
              <a:off x="5233680" y="5105520"/>
              <a:ext cx="2876760" cy="1191240"/>
            </a:xfrm>
            <a:prstGeom prst="rect">
              <a:avLst/>
            </a:prstGeom>
            <a:gradFill rotWithShape="0">
              <a:gsLst>
                <a:gs pos="0">
                  <a:srgbClr val="460046"/>
                </a:gs>
                <a:gs pos="50000">
                  <a:srgbClr val="990099"/>
                </a:gs>
                <a:gs pos="100000">
                  <a:srgbClr val="460046"/>
                </a:gs>
              </a:gsLst>
              <a:lin ang="5400000"/>
            </a:gra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ешение слож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ежнациональ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пробл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9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2T15:41:27Z</dcterms:modified>
  <cp:revision>102</cp:revision>
  <dc:subject/>
  <dc:title>ОСОБЕННОСТИ ДРЕВНИХ ЦИВИЛИЗАЦИЙ.</dc:title>
</cp:coreProperties>
</file>